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0D97-1380-4EB3-807A-E650969F3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01FE-6B2C-47AD-A376-5F4FD5587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AF65-05F2-41BF-8423-727A9CC8B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9A7C-C644-46CA-9BB5-8B38AFB34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0E33-4CA2-4437-A737-994BD6E6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EF01-ED2E-4663-B273-C30E0CD4D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7453-A24C-446D-A67F-62D5192AA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DB8F-49C1-4395-92C8-728B50199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31BA-CADD-4641-95B2-F39077B73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7C33-3876-4CDE-81E5-0300EE6A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61E2-E011-4B1F-93C2-61D85396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5192-111B-4155-90F5-7F299BBD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E68EE-3FDC-4302-9BD1-933BE87FFF1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1431F-3BB8-4966-A705-555CF31110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lislin.gws.uky.edu/Sitemap/boeingSmall.html#sitemap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Document Visualization</a:t>
            </a:r>
            <a:br>
              <a:rPr sz="4400"/>
            </a:br>
            <a:br>
              <a:rPr sz="32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Visualizing the Non-Visual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patial Analysis and Interaction with Information from Text Documents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66680" y="274284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J. A. Wise, J.J. Thomas, K. Pennock, D. Lantrip, M. Pottier, A. Schur, and V. Cro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edings of Infoviz’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4724280"/>
            <a:ext cx="50292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iewed b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da Golm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CMSC 838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ll 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2D Scatterplot: Galax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ies computes word similarities and patterns in documents and then displays the documents on a computer screen to look like a universe of "docustars”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ly related documents will cluster together in a tight grou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related documents will be separated by large spac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ument Visual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D5F4-8E10-42B9-9406-6451C60D3B7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4F1015-BBC6-460A-9E4D-B4CEB02A1D6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Galax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spire1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229600" cy="5537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ument Visualiz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BC74-ECE5-49B5-A5CB-155A1DECDFD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0D9EA8-C93C-45FA-8AC9-3C00E4D7922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3D Landscapes: Themesca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60948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mes within the document spaces appear on the computer screen as a relief map of natural terra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untains in Themescapes indicate where themes are dominan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leys indicate weak them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pes reflect how the thematic information is distributed and relate  across documen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mes close in content will be close visually based on the many relationships within the text  spac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ument Visual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D292-7F0E-43D2-9BA0-BF81355C520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FAEB6C-0BAD-4D7A-A35B-A240E725E5A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Themesca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040" y="468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spire2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822960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ument Visualiz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1375-179D-4D82-9EBF-D3BB0785DCC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7F13A8-C43E-4960-BAFD-33BC5B1B3B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Visualization Transfor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5040" y="468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7631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tion of text: written form of natural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 conversion to spatial form: algorithms &amp; processe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ingful visualizations: mathematical procedures and analytical meas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 management:store and manage text and its derivative fo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09480" y="3505320"/>
            <a:ext cx="815364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ument Visual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0AE9-9EF1-41D1-BFF8-DBB31CBAE0C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CEB842-0F0B-4850-BFE3-8E8C3586A0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Processing Text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040" y="468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ication and extraction of text featur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cy-based measures of wor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er order statistics taken on words: occurrence, frequency, context of individual words are used to characterize defined word cla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antic approaches using natural language understand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ficient  and flexible representation of documents in terms of text featu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of information retrieval and visualiz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ument Visual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3317-2D88-4BC6-A02D-FD33A8CB80F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52ECE0-29B4-427A-9DAC-CCD1F1710F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Visual Output of Text Proces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040" y="468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ctor representation of document in high dimensional feature sp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isons, filters, transformations can be appl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ion onto 2-3D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mensionality re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ustering in high dimension feature space and centroids of clusters are fed into layout algorithms (principal component analysis or multidimensional scal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ument Visual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8ECA-BD40-4073-BFC8-E985EEC4E93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C827F4-AFC0-4292-8B0A-5BC149D028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Interface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040" y="468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display 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ckdrop: central display resour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shop: grid with resizable windows to hold multiple view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ronicle: space where views are placed and linked to form a visual s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ls provided to allow more in-depth analysis: point and click, grouping, annotation, query, subset,  temporal slicin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ument Visual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A5DE-3416-405D-8877-AF943E0E91D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7F0EED-5DD8-44D5-9729-B1DE3BC346E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Screensh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65040" y="468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theme_speech800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38224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ument Visualiz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184A-CE03-424E-B18C-DA1E59260D8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E9D302-41BB-4950-814F-3275C68543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Favorit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ottleneck in the human processing and understanding of information in large amounts of text can be overcome if the text is spatialized in a manner that takes advantage of common powers of perception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much has already been written about everything that you can’t find out anything about it”.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James Thurber (196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ument Visual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9BC5-3AE3-4CDF-8B41-5AC77D7F8F8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D8FA71-6F45-4E61-8C69-E82CC26E7A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4724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 visualiza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? Why? H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for 1D, 2D visualiz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 space analysis (Salton 199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ed text + interaction (Eick, 199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 maps of document collections (Lin, 199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3D Visualization: SPI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(Wise et. al. 199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D + Time: Interactive Landsca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Rennison, 199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ument Visual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FF94-02AD-40A0-AA12-775A14427BC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1B9A82-FFDC-4712-8B4D-7F37ACCF3B9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Con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fective use of physical metaphors such as night sky and landscape to provide overview visualization on the collection of docu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s answer simple questions about the databa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ion on processing text for visualizat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tform includes integrated tools and techniques for text manipulation and analy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ument Visual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345C-96FD-45AC-9296-8901B28B0BD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26E4EF-43D1-43F9-9673-561728CDF81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Crit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240" y="68580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measure the effectiveness of the visualization in discovering relationships and answering detailed questions about the docu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depend on the ease of inte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verify claim: “discovering in 35 minutes what would have taken two weeks otherwise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could be cluttering and occlusion resulting from layout algorithms (complex for large collections of documen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ustering may reduce feature sensitivity from individual document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ument Visual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84A4-C7DD-42C3-8D53-C6737E97916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A42103-FAF5-4D95-AEAD-9A402782969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Other Com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ree with the need to create visual tools to aid cognitive skills, however skeptical about statem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the limitations of Information Age will not be set by the speed with which human mind can read”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per contains too many sound biting sentences and buzz words which could be distract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uid environment for reflective cognition and higher-order though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ument Visual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34DA-D235-4249-B9D1-9015B3B57A1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07CD1C-6A1C-4A1E-8FB4-32BC08EB895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     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Galaxy of News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Interactive Landsca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se content to extract key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d an associative relation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ify elements into hierarch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 peer elements spatially and tempor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uct visual information space based on classified el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response to visual inte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ument Visual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3E1C-9203-48AF-A1AF-132B5B88B02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FCDB25-A4D0-456F-9BA3-0EC31AE4531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     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Galaxy of News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motion to visualize relationships among docu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s have no fixed position in spa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ociative relation network built dynamic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xed positioning of categ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ce constructed is based on conceptual abstract metaphors (galaxies) and could have any dimens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ument Visual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C05C-A046-4B49-AFEE-400A8338AA3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99A2DF-8F8D-4B83-9952-DEDD0BFD3D4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Document Visua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 visualization is an important IV application due to emerging technology tren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ld Wide 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gital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cation Adv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pping a text documen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stand the content of a docu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pping a collection of docu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over relationships among documen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ument Visual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CCC5-88F1-4A0E-8795-19C6D704C79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A94650-77D2-4B56-B8C1-B17C5410625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Vector Space Analysis (Salton et. al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of free-form text queries in 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 passages are mapped into a vector of terms in high dimensional spa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weighted assigned to term k in documen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documen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que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a similarity computation is comput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2532240" y="2457360"/>
                <a:ext cx="33922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2209680" y="3200400"/>
                <a:ext cx="41616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895480" y="3657600"/>
                <a:ext cx="406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962520" y="4267080"/>
                <a:ext cx="406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6019920" y="4240080"/>
                <a:ext cx="40644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2514600" y="5029200"/>
                <a:ext cx="389268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ument Visual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4C8D-A01F-4FE7-8CE3-12AD67741A4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9A1A9D-A1B7-479D-A168-B11A0629831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Reduced Text + Interaction: SeeSoft (Eick, 199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d re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lay of lines as rows,  files as columns            (max 900 rows per colum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ors are used to display statistic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stics include: age, programmer, feature, type of line, number of times the line was execu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 manipulation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interesting patte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ability to read actual code using magn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ument Visual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20F6-56D5-4EE4-B9C4-4CDA95B2968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603B53-9271-460A-ACD9-A2C6836F71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520" y="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SeeSoft (Eick, 199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seesoft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8229600" cy="571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ument Visualiz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6274-FD5C-4467-807A-06C1740AB40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68EE1A-5F0B-4283-8148-633E6864460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5410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2D Maps (Lin, 199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amework for information retriev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pping of high dimensional document space into 2D m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 relationships are explored using visual cues such as: dots, links, clusters, and are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ral network self-organizing learning algorithm based on Kohonen’s feature ma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rves distance relationships between input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cates different numbers of nodes to inputs based on their occurrence frequenc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Site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ument Visual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EC37-0455-4BC9-B7BD-5AC1987F07D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51BB3B-C5D7-4321-A373-C9531BC24A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Visual Text Analysis: SPIR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PIR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ial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adigm for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formation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rieval and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ploration) is a software that allows us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explore complex relationships between text documen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apidly discover known and hidden information relationships by reading only the pertinent documents rather than wading through large volumes of tex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ument Visual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B379-313F-4F47-A656-F1525028B7B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B88BD6-B29F-4596-99AF-C63FB9D908C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153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IRE was originally developed for the U.S. intelligence commun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potential applications inclu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vironmental assess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analy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porations researching competitive product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lth care providers searching patient record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attorneys reading through previous ca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ument Visual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EF69-3901-4681-A6C0-D7295575C90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EE6FBE-848C-4741-A0E5-A3ADC5ABA3F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18T17:31:16Z</dcterms:created>
  <dc:creator>Nada Golmie</dc:creator>
  <dc:description/>
  <dc:language>en-US</dc:language>
  <cp:lastModifiedBy>Nada Golmie</cp:lastModifiedBy>
  <cp:lastPrinted>1999-10-31T23:00:45Z</cp:lastPrinted>
  <dcterms:modified xsi:type="dcterms:W3CDTF">1999-10-31T23:27:13Z</dcterms:modified>
  <cp:revision>33</cp:revision>
  <dc:subject/>
  <dc:title>Protocol Verification via Projections</dc:title>
</cp:coreProperties>
</file>