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4CA6-05E1-4BF9-8809-33F7E3BF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257-E244-4F6A-A31A-63EA0F6F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CE7E-D838-4C72-BC16-203C8DDB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15E-7609-42DA-A7DF-DF695D02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82F-0A11-4C00-904B-36AF3992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589F-834A-41CE-A5E1-F8D20CDD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7394-2EF5-4373-A16C-EF3F9C82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B7BE-7FE5-4E1D-867A-D2FBFF7E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765-C6F1-4DCE-942E-E55CF5E7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D856-767E-4472-8353-E58D77A5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C5A-B497-41B4-A791-7E4EE2A4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A5F-B9FC-4B76-996C-2DEDC2A3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AFDB-5786-412A-AA6F-ECA2A24EC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dimensional Det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fred Inselbe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jiv Gandhi and Girish Ku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dimensional Det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Favorite Sent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splay of multivariate datasets in parallel coordinates transforms the search for relations among the variables into a 2D pattern recognition proble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overy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variate data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 relevant relations among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on data of 473 batches of a VLSI c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s of 16 parameters - X1,..,X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se the yield X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high quality X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f: Defects hindered yield and quality. Is it tr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ull Data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 is normal about its med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2 is bipola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insel1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01956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d.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tches high in yield, X1 and quality, X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tches with low X3 values not included in selected sub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insel2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54864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d.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tches with zero defect in 9 out of 10 defect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have poor yields and low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insel3" descr=""/>
          <p:cNvPicPr/>
          <p:nvPr/>
        </p:nvPicPr>
        <p:blipFill>
          <a:blip r:embed="rId1"/>
          <a:stretch/>
        </p:blipFill>
        <p:spPr>
          <a:xfrm>
            <a:off x="1752480" y="3124080"/>
            <a:ext cx="54864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d.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tches with zero defect in 8 out of 10 defect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is more sensitive to variations in X6 than other de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insel4" descr=""/>
          <p:cNvPicPr/>
          <p:nvPr/>
        </p:nvPicPr>
        <p:blipFill>
          <a:blip r:embed="rId1"/>
          <a:stretch/>
        </p:blipFill>
        <p:spPr>
          <a:xfrm>
            <a:off x="1828800" y="3124080"/>
            <a:ext cx="54864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d.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e batch with the highest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3 and X6 are non-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cts of types X3 and X6 are essential for high yield and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insel5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4770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representational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very process well expl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parallel coordinates is very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n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explain how axes permutation affects the discovery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considerable ingen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of relations not well expl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not properly c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ing relations among variab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ing thes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Crystal [Anslem Spoerri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izes all possible relationships among N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Get documents related to visual query languages for retrieving information concerning human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crystal1" descr=""/>
          <p:cNvPicPr/>
          <p:nvPr/>
        </p:nvPicPr>
        <p:blipFill>
          <a:blip r:embed="rId1"/>
          <a:stretch/>
        </p:blipFill>
        <p:spPr>
          <a:xfrm>
            <a:off x="990720" y="3962520"/>
            <a:ext cx="74674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ystal2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34290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mated Multidimensional Det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s discovery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not very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tesian vs. Parallel Coordin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tesian Coordinat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xes are mutually perpend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 Coordin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xes are parallel to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lly spa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 of a 2-D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5334120"/>
            <a:ext cx="3352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52578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533412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tes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artesline" descr="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1143000" y="23623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3" name="paraline" descr=""/>
          <p:cNvPicPr/>
          <p:nvPr/>
        </p:nvPicPr>
        <p:blipFill>
          <a:blip r:embed="rId2">
            <a:lum contrast="100000"/>
          </a:blip>
          <a:stretch/>
        </p:blipFill>
        <p:spPr>
          <a:xfrm>
            <a:off x="5410080" y="2514600"/>
            <a:ext cx="26863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arallel Coordin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 represent lines and planes in &gt; 3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5715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 of (-5, 3, 4, -2, 0,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arapoint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33526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arallel Coordinates ? (contd.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ly extend to higher dim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2819520"/>
            <a:ext cx="10666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arasquare" descr="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5181480" y="2590920"/>
            <a:ext cx="2210040" cy="1363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5105520"/>
            <a:ext cx="10666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828800" y="46483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5638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62120" y="46483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4648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aracube" descr=""/>
          <p:cNvPicPr/>
          <p:nvPr/>
        </p:nvPicPr>
        <p:blipFill>
          <a:blip r:embed="rId2"/>
          <a:stretch/>
        </p:blipFill>
        <p:spPr>
          <a:xfrm>
            <a:off x="4952880" y="4495680"/>
            <a:ext cx="2686320" cy="1657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14600" y="5410080"/>
            <a:ext cx="1066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arallel Coordinates ? (contd.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4dcube" descr="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1219320" y="2666880"/>
            <a:ext cx="2314440" cy="2219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791320" y="3124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4267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3124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3124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3124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790960" y="33526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76760" y="33526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7162560" y="33526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33526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33526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33526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5562720"/>
            <a:ext cx="2209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5562720"/>
            <a:ext cx="221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6172200"/>
            <a:ext cx="510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 of a 4-D Hyper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arallel Coordinates ? (contd.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9dcube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2971800" cy="3747960"/>
          </a:xfrm>
          <a:prstGeom prst="rect">
            <a:avLst/>
          </a:prstGeom>
          <a:ln w="0">
            <a:noFill/>
          </a:ln>
        </p:spPr>
      </p:pic>
      <p:pic>
        <p:nvPicPr>
          <p:cNvPr id="89" name="para8cube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3276720" cy="2210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62012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01000" y="29718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620120" y="3048120"/>
            <a:ext cx="3808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048120"/>
            <a:ext cx="3808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49528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6172200"/>
            <a:ext cx="510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 of a 9-D Hyper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arallel Coordinates ? (contd.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aracircle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2686320" cy="1667160"/>
          </a:xfrm>
          <a:prstGeom prst="rect">
            <a:avLst/>
          </a:prstGeom>
          <a:ln w="0">
            <a:noFill/>
          </a:ln>
        </p:spPr>
      </p:pic>
      <p:pic>
        <p:nvPicPr>
          <p:cNvPr id="99" name="hypersphere2" descr=""/>
          <p:cNvPicPr/>
          <p:nvPr/>
        </p:nvPicPr>
        <p:blipFill>
          <a:blip r:embed="rId2"/>
          <a:stretch/>
        </p:blipFill>
        <p:spPr>
          <a:xfrm>
            <a:off x="2057400" y="3657600"/>
            <a:ext cx="4800600" cy="2200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75680" y="6019920"/>
            <a:ext cx="50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 of a Circle and a sp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6T03:31:20Z</dcterms:created>
  <dc:creator>girish</dc:creator>
  <dc:description/>
  <dc:language>en-US</dc:language>
  <cp:lastModifiedBy>girish</cp:lastModifiedBy>
  <cp:lastPrinted>1999-09-16T07:41:25Z</cp:lastPrinted>
  <dcterms:modified xsi:type="dcterms:W3CDTF">1999-09-16T15:47:18Z</dcterms:modified>
  <cp:revision>9</cp:revision>
  <dc:subject/>
  <dc:title>A Multidimensional Detective</dc:title>
</cp:coreProperties>
</file>