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1386-99FF-4F0C-B092-C082A0F1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D36-23C0-47DB-A9A8-2613E5A8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A94-D894-43C0-A7F4-147F8B08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308B-D7A2-49B1-B31A-70F8EDE2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984-E28B-4F8D-9005-A3113535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4A9-3230-4EAA-B026-E74FFFCC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F8D-7C94-41DC-8EDF-7CCA7E43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515-F14E-419F-BBE2-5FB644FB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9D65-296E-4B6C-AE17-DB9153A8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927-720D-4A26-980A-91B0E44D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91B-56A0-45DD-A72B-32B3B2FD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37A8-0232-4DA6-B0F9-698AC087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D7CF-6822-4B4F-8896-8260D4498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nxight.com/Demos/SLS_Demos/Site_Lens_Studio_Demos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-Maps: Visualizing Hierarchic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h Qian &amp; Bill Shap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21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ng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es 100% of display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s relationships between nodes through size and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effectively display large data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n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comparison may be diffic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ttered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 to discern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s only leaf conten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Hierarchical Visualization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verse (University of Pittsbur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s (file directories) are shown as pie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s (files) are shown as colored dots within pie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represent a large number of items (~3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es a fraction of the display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2117880" cy="21740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show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502 files in 164 directo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pie segments represent # of links to each directory/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olor represen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ge of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2438280" y="1676520"/>
          <a:ext cx="5183280" cy="49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76520"/>
                    <a:ext cx="518328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Hierarchical Visualization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erbolic Trees (Xerox/Inxigh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ally warps display to zoom in on areas of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for interactive brow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provide a good overview of the entire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60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hierarchic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Space 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eh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he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vorite Sent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people come to understand the content and organization of these structures (hierarchical information) easily if they are small, but have great difficulty if the structures are la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tional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e.g., Windows Explor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464832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tional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Diagrams (WebView, University of Pittsbu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-based tools (e.g., ls in UNI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133720" y="2133720"/>
          <a:ext cx="5182920" cy="39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133720"/>
                    <a:ext cx="518292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: Tree-M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with traditional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dea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 to represent large number of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-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e 100% of display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able to thousands of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-M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343400" y="2514600"/>
            <a:ext cx="3809880" cy="2590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343400" y="2514600"/>
            <a:ext cx="3809880" cy="2590920"/>
            <a:chOff x="4343400" y="2514600"/>
            <a:chExt cx="3809880" cy="2590920"/>
          </a:xfrm>
        </p:grpSpPr>
        <p:sp>
          <p:nvSpPr>
            <p:cNvPr id="60" name=""/>
            <p:cNvSpPr/>
            <p:nvPr/>
          </p:nvSpPr>
          <p:spPr>
            <a:xfrm>
              <a:off x="4343400" y="2514600"/>
              <a:ext cx="3809880" cy="25909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867280" y="2514600"/>
              <a:ext cx="0" cy="259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315200" y="2514600"/>
              <a:ext cx="0" cy="259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343400" y="2514600"/>
            <a:ext cx="3809880" cy="2590560"/>
            <a:chOff x="4343400" y="2514600"/>
            <a:chExt cx="3809880" cy="2590560"/>
          </a:xfrm>
        </p:grpSpPr>
        <p:grpSp>
          <p:nvGrpSpPr>
            <p:cNvPr id="64" name=""/>
            <p:cNvGrpSpPr/>
            <p:nvPr/>
          </p:nvGrpSpPr>
          <p:grpSpPr>
            <a:xfrm>
              <a:off x="4343400" y="2514600"/>
              <a:ext cx="3809880" cy="2590560"/>
              <a:chOff x="4343400" y="2514600"/>
              <a:chExt cx="3809880" cy="2590560"/>
            </a:xfrm>
          </p:grpSpPr>
          <p:sp>
            <p:nvSpPr>
              <p:cNvPr id="65" name=""/>
              <p:cNvSpPr/>
              <p:nvPr/>
            </p:nvSpPr>
            <p:spPr>
              <a:xfrm>
                <a:off x="4343400" y="2514600"/>
                <a:ext cx="3809880" cy="2590560"/>
              </a:xfrm>
              <a:prstGeom prst="rect">
                <a:avLst/>
              </a:prstGeom>
              <a:solidFill>
                <a:srgbClr val="ffffff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867280" y="2514600"/>
                <a:ext cx="0" cy="2590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315200" y="2514600"/>
                <a:ext cx="0" cy="2590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4343400" y="358128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343400" y="2514600"/>
            <a:ext cx="3809880" cy="2590560"/>
            <a:chOff x="4343400" y="2514600"/>
            <a:chExt cx="3809880" cy="2590560"/>
          </a:xfrm>
        </p:grpSpPr>
        <p:grpSp>
          <p:nvGrpSpPr>
            <p:cNvPr id="70" name=""/>
            <p:cNvGrpSpPr/>
            <p:nvPr/>
          </p:nvGrpSpPr>
          <p:grpSpPr>
            <a:xfrm>
              <a:off x="4343400" y="2514600"/>
              <a:ext cx="3809880" cy="2590560"/>
              <a:chOff x="4343400" y="2514600"/>
              <a:chExt cx="3809880" cy="259056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4343400" y="2514600"/>
                <a:ext cx="3809880" cy="2590560"/>
                <a:chOff x="4343400" y="2514600"/>
                <a:chExt cx="3809880" cy="259056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4343400" y="2514600"/>
                  <a:ext cx="3809880" cy="259056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867280" y="2514600"/>
                  <a:ext cx="0" cy="25905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315200" y="2514600"/>
                  <a:ext cx="0" cy="25905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>
                <a:off x="4343400" y="358128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4343400" y="2514600"/>
              <a:ext cx="1523880" cy="106668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343400" y="2514600"/>
            <a:ext cx="3809880" cy="2590920"/>
            <a:chOff x="4343400" y="2514600"/>
            <a:chExt cx="3809880" cy="2590920"/>
          </a:xfrm>
        </p:grpSpPr>
        <p:grpSp>
          <p:nvGrpSpPr>
            <p:cNvPr id="78" name=""/>
            <p:cNvGrpSpPr/>
            <p:nvPr/>
          </p:nvGrpSpPr>
          <p:grpSpPr>
            <a:xfrm>
              <a:off x="4343400" y="2514600"/>
              <a:ext cx="3809880" cy="2590560"/>
              <a:chOff x="4343400" y="2514600"/>
              <a:chExt cx="3809880" cy="2590560"/>
            </a:xfrm>
          </p:grpSpPr>
          <p:grpSp>
            <p:nvGrpSpPr>
              <p:cNvPr id="79" name=""/>
              <p:cNvGrpSpPr/>
              <p:nvPr/>
            </p:nvGrpSpPr>
            <p:grpSpPr>
              <a:xfrm>
                <a:off x="4343400" y="2514600"/>
                <a:ext cx="3809880" cy="2590560"/>
                <a:chOff x="4343400" y="2514600"/>
                <a:chExt cx="3809880" cy="2590560"/>
              </a:xfrm>
            </p:grpSpPr>
            <p:grpSp>
              <p:nvGrpSpPr>
                <p:cNvPr id="80" name=""/>
                <p:cNvGrpSpPr/>
                <p:nvPr/>
              </p:nvGrpSpPr>
              <p:grpSpPr>
                <a:xfrm>
                  <a:off x="4343400" y="2514600"/>
                  <a:ext cx="3809880" cy="2590560"/>
                  <a:chOff x="4343400" y="2514600"/>
                  <a:chExt cx="3809880" cy="25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4343400" y="2514600"/>
                    <a:ext cx="3809880" cy="2590560"/>
                  </a:xfrm>
                  <a:prstGeom prst="rect">
                    <a:avLst/>
                  </a:prstGeom>
                  <a:solidFill>
                    <a:srgbClr val="ffffff"/>
                  </a:solidFill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5867280" y="2514600"/>
                    <a:ext cx="0" cy="259056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315200" y="2514600"/>
                    <a:ext cx="0" cy="259056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" name=""/>
                <p:cNvSpPr/>
                <p:nvPr/>
              </p:nvSpPr>
              <p:spPr>
                <a:xfrm>
                  <a:off x="4343400" y="3581280"/>
                  <a:ext cx="1523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4343400" y="2514600"/>
                <a:ext cx="1523880" cy="1066680"/>
              </a:xfrm>
              <a:prstGeom prst="rect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4343400" y="3581640"/>
              <a:ext cx="1523880" cy="15238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343400" y="2514600"/>
            <a:ext cx="3809880" cy="2590560"/>
            <a:chOff x="4343400" y="2514600"/>
            <a:chExt cx="3809880" cy="2590560"/>
          </a:xfrm>
        </p:grpSpPr>
        <p:grpSp>
          <p:nvGrpSpPr>
            <p:cNvPr id="88" name=""/>
            <p:cNvGrpSpPr/>
            <p:nvPr/>
          </p:nvGrpSpPr>
          <p:grpSpPr>
            <a:xfrm>
              <a:off x="4343400" y="2514600"/>
              <a:ext cx="3809880" cy="2590560"/>
              <a:chOff x="4343400" y="2514600"/>
              <a:chExt cx="3809880" cy="259056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4343400" y="2514600"/>
                <a:ext cx="3809880" cy="2590560"/>
                <a:chOff x="4343400" y="2514600"/>
                <a:chExt cx="3809880" cy="2590560"/>
              </a:xfrm>
            </p:grpSpPr>
            <p:grpSp>
              <p:nvGrpSpPr>
                <p:cNvPr id="90" name=""/>
                <p:cNvGrpSpPr/>
                <p:nvPr/>
              </p:nvGrpSpPr>
              <p:grpSpPr>
                <a:xfrm>
                  <a:off x="4343400" y="2514600"/>
                  <a:ext cx="3809880" cy="2590560"/>
                  <a:chOff x="4343400" y="2514600"/>
                  <a:chExt cx="3809880" cy="2590560"/>
                </a:xfrm>
              </p:grpSpPr>
              <p:grpSp>
                <p:nvGrpSpPr>
                  <p:cNvPr id="91" name=""/>
                  <p:cNvGrpSpPr/>
                  <p:nvPr/>
                </p:nvGrpSpPr>
                <p:grpSpPr>
                  <a:xfrm>
                    <a:off x="4343400" y="2514600"/>
                    <a:ext cx="3809880" cy="2590560"/>
                    <a:chOff x="4343400" y="2514600"/>
                    <a:chExt cx="3809880" cy="2590560"/>
                  </a:xfrm>
                </p:grpSpPr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4343400" y="2514600"/>
                      <a:ext cx="3809880" cy="2590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5867280" y="2514600"/>
                      <a:ext cx="0" cy="259056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7315200" y="2514600"/>
                      <a:ext cx="0" cy="259056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5" name=""/>
                  <p:cNvSpPr/>
                  <p:nvPr/>
                </p:nvSpPr>
                <p:spPr>
                  <a:xfrm>
                    <a:off x="4343400" y="3581280"/>
                    <a:ext cx="1523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" name=""/>
                <p:cNvSpPr/>
                <p:nvPr/>
              </p:nvSpPr>
              <p:spPr>
                <a:xfrm>
                  <a:off x="4343400" y="2514600"/>
                  <a:ext cx="1523880" cy="106632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>
                <a:off x="4343400" y="3581280"/>
                <a:ext cx="1523880" cy="152352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867280" y="4572000"/>
              <a:ext cx="144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343400" y="2514600"/>
            <a:ext cx="3809880" cy="2590560"/>
            <a:chOff x="4343400" y="2514600"/>
            <a:chExt cx="3809880" cy="2590560"/>
          </a:xfrm>
        </p:grpSpPr>
        <p:grpSp>
          <p:nvGrpSpPr>
            <p:cNvPr id="100" name=""/>
            <p:cNvGrpSpPr/>
            <p:nvPr/>
          </p:nvGrpSpPr>
          <p:grpSpPr>
            <a:xfrm>
              <a:off x="4343400" y="2514600"/>
              <a:ext cx="3809880" cy="2590560"/>
              <a:chOff x="4343400" y="2514600"/>
              <a:chExt cx="3809880" cy="25905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4343400" y="2514600"/>
                <a:ext cx="3809880" cy="2590560"/>
                <a:chOff x="4343400" y="2514600"/>
                <a:chExt cx="3809880" cy="25905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4343400" y="2514600"/>
                  <a:ext cx="3809880" cy="2590560"/>
                  <a:chOff x="4343400" y="2514600"/>
                  <a:chExt cx="3809880" cy="259056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4343400" y="2514600"/>
                    <a:ext cx="3809880" cy="2590560"/>
                    <a:chOff x="4343400" y="2514600"/>
                    <a:chExt cx="3809880" cy="2590560"/>
                  </a:xfrm>
                </p:grpSpPr>
                <p:grpSp>
                  <p:nvGrpSpPr>
                    <p:cNvPr id="104" name=""/>
                    <p:cNvGrpSpPr/>
                    <p:nvPr/>
                  </p:nvGrpSpPr>
                  <p:grpSpPr>
                    <a:xfrm>
                      <a:off x="4343400" y="2514600"/>
                      <a:ext cx="3809880" cy="2590560"/>
                      <a:chOff x="4343400" y="2514600"/>
                      <a:chExt cx="3809880" cy="2590560"/>
                    </a:xfrm>
                  </p:grpSpPr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4343400" y="2514600"/>
                        <a:ext cx="3809880" cy="25905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763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5867280" y="2514600"/>
                        <a:ext cx="0" cy="2590560"/>
                      </a:xfrm>
                      <a:prstGeom prst="line">
                        <a:avLst/>
                      </a:prstGeom>
                      <a:ln w="763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" name=""/>
                      <p:cNvSpPr/>
                      <p:nvPr/>
                    </p:nvSpPr>
                    <p:spPr>
                      <a:xfrm>
                        <a:off x="7315200" y="2514600"/>
                        <a:ext cx="0" cy="2590560"/>
                      </a:xfrm>
                      <a:prstGeom prst="line">
                        <a:avLst/>
                      </a:prstGeom>
                      <a:ln w="763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4343400" y="3581280"/>
                      <a:ext cx="15238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9" name=""/>
                  <p:cNvSpPr/>
                  <p:nvPr/>
                </p:nvSpPr>
                <p:spPr>
                  <a:xfrm>
                    <a:off x="4343400" y="2514600"/>
                    <a:ext cx="1523880" cy="1066320"/>
                  </a:xfrm>
                  <a:prstGeom prst="rect">
                    <a:avLst/>
                  </a:prstGeom>
                  <a:solidFill>
                    <a:srgbClr val="ff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4343400" y="3581280"/>
                  <a:ext cx="1523880" cy="15235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5867280" y="4572000"/>
                <a:ext cx="144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5867280" y="2514600"/>
              <a:ext cx="1447920" cy="205740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43400" y="2514600"/>
            <a:ext cx="3809880" cy="2590920"/>
            <a:chOff x="4343400" y="2514600"/>
            <a:chExt cx="3809880" cy="2590920"/>
          </a:xfrm>
        </p:grpSpPr>
        <p:grpSp>
          <p:nvGrpSpPr>
            <p:cNvPr id="114" name=""/>
            <p:cNvGrpSpPr/>
            <p:nvPr/>
          </p:nvGrpSpPr>
          <p:grpSpPr>
            <a:xfrm>
              <a:off x="4343400" y="2514600"/>
              <a:ext cx="3809880" cy="2590560"/>
              <a:chOff x="4343400" y="2514600"/>
              <a:chExt cx="3809880" cy="259056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4343400" y="2514600"/>
                <a:ext cx="3809880" cy="2590560"/>
                <a:chOff x="4343400" y="2514600"/>
                <a:chExt cx="3809880" cy="259056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4343400" y="2514600"/>
                  <a:ext cx="3809880" cy="2590560"/>
                  <a:chOff x="4343400" y="2514600"/>
                  <a:chExt cx="3809880" cy="2590560"/>
                </a:xfrm>
              </p:grpSpPr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4343400" y="2514600"/>
                    <a:ext cx="3809880" cy="2590560"/>
                    <a:chOff x="4343400" y="2514600"/>
                    <a:chExt cx="3809880" cy="2590560"/>
                  </a:xfrm>
                </p:grpSpPr>
                <p:grpSp>
                  <p:nvGrpSpPr>
                    <p:cNvPr id="118" name=""/>
                    <p:cNvGrpSpPr/>
                    <p:nvPr/>
                  </p:nvGrpSpPr>
                  <p:grpSpPr>
                    <a:xfrm>
                      <a:off x="4343400" y="2514600"/>
                      <a:ext cx="3809880" cy="2590560"/>
                      <a:chOff x="4343400" y="2514600"/>
                      <a:chExt cx="3809880" cy="2590560"/>
                    </a:xfrm>
                  </p:grpSpPr>
                  <p:grpSp>
                    <p:nvGrpSpPr>
                      <p:cNvPr id="119" name=""/>
                      <p:cNvGrpSpPr/>
                      <p:nvPr/>
                    </p:nvGrpSpPr>
                    <p:grpSpPr>
                      <a:xfrm>
                        <a:off x="4343400" y="2514600"/>
                        <a:ext cx="3809880" cy="2590560"/>
                        <a:chOff x="4343400" y="2514600"/>
                        <a:chExt cx="3809880" cy="2590560"/>
                      </a:xfrm>
                    </p:grpSpPr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>
                          <a:off x="4343400" y="2514600"/>
                          <a:ext cx="3809880" cy="25905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763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>
                          <a:off x="5867280" y="2514600"/>
                          <a:ext cx="0" cy="2590560"/>
                        </a:xfrm>
                        <a:prstGeom prst="line">
                          <a:avLst/>
                        </a:prstGeom>
                        <a:ln w="763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>
                          <a:off x="7315200" y="2514600"/>
                          <a:ext cx="0" cy="2590560"/>
                        </a:xfrm>
                        <a:prstGeom prst="line">
                          <a:avLst/>
                        </a:prstGeom>
                        <a:ln w="763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4343400" y="3581280"/>
                        <a:ext cx="15238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4343400" y="2514600"/>
                      <a:ext cx="1523880" cy="106632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5" name=""/>
                  <p:cNvSpPr/>
                  <p:nvPr/>
                </p:nvSpPr>
                <p:spPr>
                  <a:xfrm>
                    <a:off x="4343400" y="3581280"/>
                    <a:ext cx="1523880" cy="1523520"/>
                  </a:xfrm>
                  <a:prstGeom prst="rect">
                    <a:avLst/>
                  </a:prstGeom>
                  <a:solidFill>
                    <a:srgbClr val="ff99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" name=""/>
                <p:cNvSpPr/>
                <p:nvPr/>
              </p:nvSpPr>
              <p:spPr>
                <a:xfrm>
                  <a:off x="5867280" y="4572000"/>
                  <a:ext cx="144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5871960" y="2514600"/>
                <a:ext cx="1447560" cy="2057400"/>
              </a:xfrm>
              <a:prstGeom prst="rect">
                <a:avLst/>
              </a:prstGeom>
              <a:solidFill>
                <a:srgbClr val="0000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5871960" y="4572000"/>
              <a:ext cx="1447560" cy="533520"/>
            </a:xfrm>
            <a:prstGeom prst="rect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343400" y="2514600"/>
            <a:ext cx="3814920" cy="2590920"/>
            <a:chOff x="4343400" y="2514600"/>
            <a:chExt cx="3814920" cy="2590920"/>
          </a:xfrm>
        </p:grpSpPr>
        <p:grpSp>
          <p:nvGrpSpPr>
            <p:cNvPr id="130" name=""/>
            <p:cNvGrpSpPr/>
            <p:nvPr/>
          </p:nvGrpSpPr>
          <p:grpSpPr>
            <a:xfrm>
              <a:off x="4343400" y="2514600"/>
              <a:ext cx="3809880" cy="2590920"/>
              <a:chOff x="4343400" y="2514600"/>
              <a:chExt cx="3809880" cy="259092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4343400" y="2514600"/>
                <a:ext cx="3809880" cy="2590560"/>
                <a:chOff x="4343400" y="2514600"/>
                <a:chExt cx="3809880" cy="2590560"/>
              </a:xfrm>
            </p:grpSpPr>
            <p:grpSp>
              <p:nvGrpSpPr>
                <p:cNvPr id="132" name=""/>
                <p:cNvGrpSpPr/>
                <p:nvPr/>
              </p:nvGrpSpPr>
              <p:grpSpPr>
                <a:xfrm>
                  <a:off x="4343400" y="2514600"/>
                  <a:ext cx="3809880" cy="2590560"/>
                  <a:chOff x="4343400" y="2514600"/>
                  <a:chExt cx="3809880" cy="25905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4343400" y="2514600"/>
                    <a:ext cx="3809880" cy="2590560"/>
                    <a:chOff x="4343400" y="2514600"/>
                    <a:chExt cx="3809880" cy="2590560"/>
                  </a:xfrm>
                </p:grpSpPr>
                <p:grpSp>
                  <p:nvGrpSpPr>
                    <p:cNvPr id="134" name=""/>
                    <p:cNvGrpSpPr/>
                    <p:nvPr/>
                  </p:nvGrpSpPr>
                  <p:grpSpPr>
                    <a:xfrm>
                      <a:off x="4343400" y="2514600"/>
                      <a:ext cx="3809880" cy="2590560"/>
                      <a:chOff x="4343400" y="2514600"/>
                      <a:chExt cx="3809880" cy="2590560"/>
                    </a:xfrm>
                  </p:grpSpPr>
                  <p:grpSp>
                    <p:nvGrpSpPr>
                      <p:cNvPr id="135" name=""/>
                      <p:cNvGrpSpPr/>
                      <p:nvPr/>
                    </p:nvGrpSpPr>
                    <p:grpSpPr>
                      <a:xfrm>
                        <a:off x="4343400" y="2514600"/>
                        <a:ext cx="3809880" cy="2590560"/>
                        <a:chOff x="4343400" y="2514600"/>
                        <a:chExt cx="3809880" cy="2590560"/>
                      </a:xfrm>
                    </p:grpSpPr>
                    <p:grpSp>
                      <p:nvGrpSpPr>
                        <p:cNvPr id="136" name=""/>
                        <p:cNvGrpSpPr/>
                        <p:nvPr/>
                      </p:nvGrpSpPr>
                      <p:grpSpPr>
                        <a:xfrm>
                          <a:off x="4343400" y="2514600"/>
                          <a:ext cx="3809880" cy="2590560"/>
                          <a:chOff x="4343400" y="2514600"/>
                          <a:chExt cx="3809880" cy="2590560"/>
                        </a:xfrm>
                      </p:grpSpPr>
                      <p:sp>
                        <p:nvSpPr>
                          <p:cNvPr id="137" name=""/>
                          <p:cNvSpPr/>
                          <p:nvPr/>
                        </p:nvSpPr>
                        <p:spPr>
                          <a:xfrm>
                            <a:off x="4343400" y="2514600"/>
                            <a:ext cx="3809880" cy="259056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7632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8" name=""/>
                          <p:cNvSpPr/>
                          <p:nvPr/>
                        </p:nvSpPr>
                        <p:spPr>
                          <a:xfrm>
                            <a:off x="5867280" y="2514600"/>
                            <a:ext cx="0" cy="2590560"/>
                          </a:xfrm>
                          <a:prstGeom prst="line">
                            <a:avLst/>
                          </a:prstGeom>
                          <a:ln w="7632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9" name=""/>
                          <p:cNvSpPr/>
                          <p:nvPr/>
                        </p:nvSpPr>
                        <p:spPr>
                          <a:xfrm>
                            <a:off x="7315200" y="2514600"/>
                            <a:ext cx="0" cy="2590560"/>
                          </a:xfrm>
                          <a:prstGeom prst="line">
                            <a:avLst/>
                          </a:prstGeom>
                          <a:ln w="7632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40" name=""/>
                        <p:cNvSpPr/>
                        <p:nvPr/>
                      </p:nvSpPr>
                      <p:spPr>
                        <a:xfrm>
                          <a:off x="4343400" y="3581280"/>
                          <a:ext cx="152388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4343400" y="2514600"/>
                        <a:ext cx="1523880" cy="106632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4343400" y="3581280"/>
                      <a:ext cx="1523880" cy="152352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3" name=""/>
                  <p:cNvSpPr/>
                  <p:nvPr/>
                </p:nvSpPr>
                <p:spPr>
                  <a:xfrm>
                    <a:off x="5867640" y="4572000"/>
                    <a:ext cx="1447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"/>
                <p:cNvSpPr/>
                <p:nvPr/>
              </p:nvSpPr>
              <p:spPr>
                <a:xfrm>
                  <a:off x="5872320" y="2514600"/>
                  <a:ext cx="1447920" cy="2057400"/>
                </a:xfrm>
                <a:prstGeom prst="rect">
                  <a:avLst/>
                </a:prstGeom>
                <a:solidFill>
                  <a:srgbClr val="0000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>
                <a:off x="5872320" y="4572000"/>
                <a:ext cx="1447920" cy="533520"/>
              </a:xfrm>
              <a:prstGeom prst="rect">
                <a:avLst/>
              </a:prstGeom>
              <a:solidFill>
                <a:srgbClr val="99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7320240" y="39625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343400" y="2514600"/>
            <a:ext cx="3819600" cy="2590560"/>
            <a:chOff x="4343400" y="2514600"/>
            <a:chExt cx="3819600" cy="2590560"/>
          </a:xfrm>
        </p:grpSpPr>
        <p:grpSp>
          <p:nvGrpSpPr>
            <p:cNvPr id="148" name=""/>
            <p:cNvGrpSpPr/>
            <p:nvPr/>
          </p:nvGrpSpPr>
          <p:grpSpPr>
            <a:xfrm>
              <a:off x="4343400" y="2514600"/>
              <a:ext cx="3814920" cy="2590560"/>
              <a:chOff x="4343400" y="2514600"/>
              <a:chExt cx="3814920" cy="259056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4343400" y="2514600"/>
                <a:ext cx="3809880" cy="2590560"/>
                <a:chOff x="4343400" y="2514600"/>
                <a:chExt cx="3809880" cy="259056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4343400" y="2514600"/>
                  <a:ext cx="3809880" cy="2590560"/>
                  <a:chOff x="4343400" y="2514600"/>
                  <a:chExt cx="3809880" cy="2590560"/>
                </a:xfrm>
              </p:grpSpPr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4343400" y="2514600"/>
                    <a:ext cx="3809880" cy="2590560"/>
                    <a:chOff x="4343400" y="2514600"/>
                    <a:chExt cx="3809880" cy="259056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4343400" y="2514600"/>
                      <a:ext cx="3809880" cy="2590560"/>
                      <a:chOff x="4343400" y="2514600"/>
                      <a:chExt cx="3809880" cy="2590560"/>
                    </a:xfrm>
                  </p:grpSpPr>
                  <p:grpSp>
                    <p:nvGrpSpPr>
                      <p:cNvPr id="153" name=""/>
                      <p:cNvGrpSpPr/>
                      <p:nvPr/>
                    </p:nvGrpSpPr>
                    <p:grpSpPr>
                      <a:xfrm>
                        <a:off x="4343400" y="2514600"/>
                        <a:ext cx="3809880" cy="2590560"/>
                        <a:chOff x="4343400" y="2514600"/>
                        <a:chExt cx="3809880" cy="2590560"/>
                      </a:xfrm>
                    </p:grpSpPr>
                    <p:grpSp>
                      <p:nvGrpSpPr>
                        <p:cNvPr id="154" name=""/>
                        <p:cNvGrpSpPr/>
                        <p:nvPr/>
                      </p:nvGrpSpPr>
                      <p:grpSpPr>
                        <a:xfrm>
                          <a:off x="4343400" y="2514600"/>
                          <a:ext cx="3809880" cy="2590560"/>
                          <a:chOff x="4343400" y="2514600"/>
                          <a:chExt cx="3809880" cy="2590560"/>
                        </a:xfrm>
                      </p:grpSpPr>
                      <p:grpSp>
                        <p:nvGrpSpPr>
                          <p:cNvPr id="155" name=""/>
                          <p:cNvGrpSpPr/>
                          <p:nvPr/>
                        </p:nvGrpSpPr>
                        <p:grpSpPr>
                          <a:xfrm>
                            <a:off x="4343400" y="2514600"/>
                            <a:ext cx="3809880" cy="2590560"/>
                            <a:chOff x="4343400" y="2514600"/>
                            <a:chExt cx="3809880" cy="2590560"/>
                          </a:xfrm>
                        </p:grpSpPr>
                        <p:sp>
                          <p:nvSpPr>
                            <p:cNvPr id="156" name=""/>
                            <p:cNvSpPr/>
                            <p:nvPr/>
                          </p:nvSpPr>
                          <p:spPr>
                            <a:xfrm>
                              <a:off x="4343400" y="2514600"/>
                              <a:ext cx="3809880" cy="259056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7632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7" name=""/>
                            <p:cNvSpPr/>
                            <p:nvPr/>
                          </p:nvSpPr>
                          <p:spPr>
                            <a:xfrm>
                              <a:off x="5867280" y="2514600"/>
                              <a:ext cx="0" cy="2590560"/>
                            </a:xfrm>
                            <a:prstGeom prst="line">
                              <a:avLst/>
                            </a:prstGeom>
                            <a:ln w="7632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8" name=""/>
                            <p:cNvSpPr/>
                            <p:nvPr/>
                          </p:nvSpPr>
                          <p:spPr>
                            <a:xfrm>
                              <a:off x="7315200" y="2514600"/>
                              <a:ext cx="0" cy="2590560"/>
                            </a:xfrm>
                            <a:prstGeom prst="line">
                              <a:avLst/>
                            </a:prstGeom>
                            <a:ln w="7632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59" name=""/>
                          <p:cNvSpPr/>
                          <p:nvPr/>
                        </p:nvSpPr>
                        <p:spPr>
                          <a:xfrm>
                            <a:off x="4343400" y="3581280"/>
                            <a:ext cx="152388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4343400" y="2514600"/>
                          <a:ext cx="1523880" cy="1066320"/>
                        </a:xfrm>
                        <a:prstGeom prst="rect">
                          <a:avLst/>
                        </a:prstGeom>
                        <a:solidFill>
                          <a:srgbClr val="ff0000"/>
                        </a:solidFill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61" name=""/>
                      <p:cNvSpPr/>
                      <p:nvPr/>
                    </p:nvSpPr>
                    <p:spPr>
                      <a:xfrm>
                        <a:off x="4343400" y="3581280"/>
                        <a:ext cx="1523880" cy="1523520"/>
                      </a:xfrm>
                      <a:prstGeom prst="rect">
                        <a:avLst/>
                      </a:prstGeom>
                      <a:solidFill>
                        <a:srgbClr val="ff9900"/>
                      </a:solidFill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5867640" y="4572000"/>
                      <a:ext cx="1447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" name=""/>
                  <p:cNvSpPr/>
                  <p:nvPr/>
                </p:nvSpPr>
                <p:spPr>
                  <a:xfrm>
                    <a:off x="5872320" y="2514600"/>
                    <a:ext cx="1447920" cy="2057040"/>
                  </a:xfrm>
                  <a:prstGeom prst="rect">
                    <a:avLst/>
                  </a:prstGeom>
                  <a:solidFill>
                    <a:srgbClr val="0000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5872320" y="4571640"/>
                  <a:ext cx="1447920" cy="533160"/>
                </a:xfrm>
                <a:prstGeom prst="rect">
                  <a:avLst/>
                </a:prstGeom>
                <a:solidFill>
                  <a:srgbClr val="99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7320240" y="39621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7324920" y="2514600"/>
              <a:ext cx="838080" cy="1447560"/>
            </a:xfrm>
            <a:prstGeom prst="rect">
              <a:avLst/>
            </a:prstGeom>
            <a:solidFill>
              <a:srgbClr val="33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343400" y="2514600"/>
            <a:ext cx="3824280" cy="2590920"/>
            <a:chOff x="4343400" y="2514600"/>
            <a:chExt cx="3824280" cy="2590920"/>
          </a:xfrm>
        </p:grpSpPr>
        <p:grpSp>
          <p:nvGrpSpPr>
            <p:cNvPr id="168" name=""/>
            <p:cNvGrpSpPr/>
            <p:nvPr/>
          </p:nvGrpSpPr>
          <p:grpSpPr>
            <a:xfrm>
              <a:off x="4343400" y="2514600"/>
              <a:ext cx="3819600" cy="2590560"/>
              <a:chOff x="4343400" y="2514600"/>
              <a:chExt cx="3819600" cy="259056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343400" y="2514600"/>
                <a:ext cx="3814920" cy="2590560"/>
                <a:chOff x="4343400" y="2514600"/>
                <a:chExt cx="3814920" cy="259056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343400" y="2514600"/>
                  <a:ext cx="3809880" cy="2590560"/>
                  <a:chOff x="4343400" y="2514600"/>
                  <a:chExt cx="3809880" cy="259056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4343400" y="2514600"/>
                    <a:ext cx="3809880" cy="2590560"/>
                    <a:chOff x="4343400" y="2514600"/>
                    <a:chExt cx="3809880" cy="259056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4343400" y="2514600"/>
                      <a:ext cx="3809880" cy="2590560"/>
                      <a:chOff x="4343400" y="2514600"/>
                      <a:chExt cx="3809880" cy="25905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4343400" y="2514600"/>
                        <a:ext cx="3809880" cy="2590560"/>
                        <a:chOff x="4343400" y="2514600"/>
                        <a:chExt cx="3809880" cy="25905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4343400" y="2514600"/>
                          <a:ext cx="3809880" cy="2590560"/>
                          <a:chOff x="4343400" y="2514600"/>
                          <a:chExt cx="3809880" cy="25905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4343400" y="2514600"/>
                            <a:ext cx="3809880" cy="2590560"/>
                            <a:chOff x="4343400" y="2514600"/>
                            <a:chExt cx="3809880" cy="259056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4343400" y="2514600"/>
                              <a:ext cx="3809880" cy="2590560"/>
                              <a:chOff x="4343400" y="2514600"/>
                              <a:chExt cx="3809880" cy="259056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4343400" y="2514600"/>
                                <a:ext cx="3809880" cy="259056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ff"/>
                              </a:solidFill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867280" y="2514600"/>
                                <a:ext cx="0" cy="259056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7315200" y="2514600"/>
                                <a:ext cx="0" cy="259056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0" name=""/>
                            <p:cNvSpPr/>
                            <p:nvPr/>
                          </p:nvSpPr>
                          <p:spPr>
                            <a:xfrm>
                              <a:off x="4343400" y="3581280"/>
                              <a:ext cx="152388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1" name=""/>
                          <p:cNvSpPr/>
                          <p:nvPr/>
                        </p:nvSpPr>
                        <p:spPr>
                          <a:xfrm>
                            <a:off x="4343400" y="2514600"/>
                            <a:ext cx="1523880" cy="1066320"/>
                          </a:xfrm>
                          <a:prstGeom prst="rect">
                            <a:avLst/>
                          </a:prstGeom>
                          <a:solidFill>
                            <a:srgbClr val="ff0000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>
                          <a:off x="4343400" y="3581280"/>
                          <a:ext cx="1523880" cy="1523520"/>
                        </a:xfrm>
                        <a:prstGeom prst="rect">
                          <a:avLst/>
                        </a:prstGeom>
                        <a:solidFill>
                          <a:srgbClr val="ff9900"/>
                        </a:solidFill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3" name=""/>
                      <p:cNvSpPr/>
                      <p:nvPr/>
                    </p:nvSpPr>
                    <p:spPr>
                      <a:xfrm>
                        <a:off x="5867640" y="4572000"/>
                        <a:ext cx="14475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5872320" y="2514600"/>
                      <a:ext cx="1447920" cy="205704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5" name=""/>
                  <p:cNvSpPr/>
                  <p:nvPr/>
                </p:nvSpPr>
                <p:spPr>
                  <a:xfrm>
                    <a:off x="5872320" y="4571640"/>
                    <a:ext cx="1447920" cy="533160"/>
                  </a:xfrm>
                  <a:prstGeom prst="rect">
                    <a:avLst/>
                  </a:prstGeom>
                  <a:solidFill>
                    <a:srgbClr val="99cc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" name=""/>
                <p:cNvSpPr/>
                <p:nvPr/>
              </p:nvSpPr>
              <p:spPr>
                <a:xfrm>
                  <a:off x="7320240" y="3962160"/>
                  <a:ext cx="838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7324920" y="2514600"/>
                <a:ext cx="838080" cy="1447560"/>
              </a:xfrm>
              <a:prstGeom prst="rect">
                <a:avLst/>
              </a:prstGeom>
              <a:solidFill>
                <a:srgbClr val="3399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7329600" y="3962520"/>
              <a:ext cx="838080" cy="11430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990720" y="2743200"/>
            <a:ext cx="2590200" cy="2286000"/>
            <a:chOff x="990720" y="2743200"/>
            <a:chExt cx="2590200" cy="2286000"/>
          </a:xfrm>
        </p:grpSpPr>
        <p:sp>
          <p:nvSpPr>
            <p:cNvPr id="191" name=""/>
            <p:cNvSpPr/>
            <p:nvPr/>
          </p:nvSpPr>
          <p:spPr>
            <a:xfrm>
              <a:off x="2133360" y="2743200"/>
              <a:ext cx="304560" cy="304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8960" y="373356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0720" y="47242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33360" y="373356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7760" y="373356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47560" y="4724280"/>
              <a:ext cx="30456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04760" y="4724280"/>
              <a:ext cx="304560" cy="304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76360" y="4724280"/>
              <a:ext cx="30456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61960" y="4724280"/>
              <a:ext cx="304560" cy="304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19160" y="4724280"/>
              <a:ext cx="304560" cy="3049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1447560" y="2971800"/>
              <a:ext cx="68544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286000" y="30474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2438280" y="2971800"/>
              <a:ext cx="68544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143000" y="4038480"/>
              <a:ext cx="151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4756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057400" y="4038480"/>
              <a:ext cx="151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196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2971800" y="4038480"/>
              <a:ext cx="151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7636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990720" y="2743200"/>
            <a:ext cx="2590560" cy="2286000"/>
            <a:chOff x="990720" y="2743200"/>
            <a:chExt cx="2590560" cy="2286000"/>
          </a:xfrm>
        </p:grpSpPr>
        <p:sp>
          <p:nvSpPr>
            <p:cNvPr id="211" name=""/>
            <p:cNvSpPr/>
            <p:nvPr/>
          </p:nvSpPr>
          <p:spPr>
            <a:xfrm>
              <a:off x="2133720" y="27432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93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90720" y="47242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337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81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47920" y="4724280"/>
              <a:ext cx="30456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05120" y="4724280"/>
              <a:ext cx="304560" cy="304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76720" y="4724280"/>
              <a:ext cx="30456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724280"/>
              <a:ext cx="304560" cy="304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19520" y="4724280"/>
              <a:ext cx="304560" cy="3049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1447920" y="297144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286000" y="30477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2437920" y="297144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426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79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0570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623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9714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767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990720" y="2743200"/>
            <a:ext cx="2590560" cy="2286000"/>
            <a:chOff x="990720" y="2743200"/>
            <a:chExt cx="2590560" cy="2286000"/>
          </a:xfrm>
        </p:grpSpPr>
        <p:sp>
          <p:nvSpPr>
            <p:cNvPr id="231" name=""/>
            <p:cNvSpPr/>
            <p:nvPr/>
          </p:nvSpPr>
          <p:spPr>
            <a:xfrm>
              <a:off x="2133720" y="27432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193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90720" y="47242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337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481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47920" y="4724280"/>
              <a:ext cx="30456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05120" y="4724280"/>
              <a:ext cx="304560" cy="304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76720" y="4724280"/>
              <a:ext cx="30456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62320" y="4724280"/>
              <a:ext cx="304560" cy="304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19520" y="4724280"/>
              <a:ext cx="304560" cy="3049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1447920" y="297144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286000" y="30477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2437920" y="297144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1426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479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0570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623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9714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767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990720" y="2743200"/>
            <a:ext cx="2590560" cy="2286000"/>
            <a:chOff x="990720" y="2743200"/>
            <a:chExt cx="2590560" cy="2286000"/>
          </a:xfrm>
        </p:grpSpPr>
        <p:sp>
          <p:nvSpPr>
            <p:cNvPr id="251" name=""/>
            <p:cNvSpPr/>
            <p:nvPr/>
          </p:nvSpPr>
          <p:spPr>
            <a:xfrm>
              <a:off x="2133720" y="27432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193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90720" y="47242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337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481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47920" y="4724280"/>
              <a:ext cx="304560" cy="304920"/>
            </a:xfrm>
            <a:prstGeom prst="ellipse">
              <a:avLst/>
            </a:prstGeom>
            <a:solidFill>
              <a:srgbClr val="ff99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05120" y="4724280"/>
              <a:ext cx="304560" cy="304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76720" y="4724280"/>
              <a:ext cx="30456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62320" y="4724280"/>
              <a:ext cx="304560" cy="304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19520" y="4724280"/>
              <a:ext cx="304560" cy="3049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447920" y="297144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2286000" y="30477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2437920" y="297144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1426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479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0570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623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9714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767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990720" y="2743200"/>
            <a:ext cx="2590560" cy="2286000"/>
            <a:chOff x="990720" y="2743200"/>
            <a:chExt cx="2590560" cy="2286000"/>
          </a:xfrm>
        </p:grpSpPr>
        <p:sp>
          <p:nvSpPr>
            <p:cNvPr id="271" name=""/>
            <p:cNvSpPr/>
            <p:nvPr/>
          </p:nvSpPr>
          <p:spPr>
            <a:xfrm>
              <a:off x="2133720" y="27432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193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90720" y="47242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337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481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47920" y="4724280"/>
              <a:ext cx="30456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05120" y="4724280"/>
              <a:ext cx="304560" cy="304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76720" y="4724280"/>
              <a:ext cx="30456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62320" y="4724280"/>
              <a:ext cx="304560" cy="304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19520" y="4724280"/>
              <a:ext cx="304560" cy="3049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1447920" y="297144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2286000" y="30477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2437920" y="297144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1426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479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0570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623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9714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767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990720" y="2743200"/>
            <a:ext cx="2590560" cy="2286000"/>
            <a:chOff x="990720" y="2743200"/>
            <a:chExt cx="2590560" cy="2286000"/>
          </a:xfrm>
        </p:grpSpPr>
        <p:sp>
          <p:nvSpPr>
            <p:cNvPr id="291" name=""/>
            <p:cNvSpPr/>
            <p:nvPr/>
          </p:nvSpPr>
          <p:spPr>
            <a:xfrm>
              <a:off x="2133720" y="27432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193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90720" y="47242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337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481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47920" y="4724280"/>
              <a:ext cx="30456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05120" y="4724280"/>
              <a:ext cx="304560" cy="304920"/>
            </a:xfrm>
            <a:prstGeom prst="ellipse">
              <a:avLst/>
            </a:prstGeom>
            <a:solidFill>
              <a:srgbClr val="3366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76720" y="4724280"/>
              <a:ext cx="30456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2320" y="4724280"/>
              <a:ext cx="304560" cy="304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19520" y="4724280"/>
              <a:ext cx="304560" cy="3049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1447920" y="297144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286000" y="30477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2437920" y="297144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1426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479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0570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3623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9714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767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990720" y="2743200"/>
            <a:ext cx="2590560" cy="2286000"/>
            <a:chOff x="990720" y="2743200"/>
            <a:chExt cx="2590560" cy="2286000"/>
          </a:xfrm>
        </p:grpSpPr>
        <p:sp>
          <p:nvSpPr>
            <p:cNvPr id="311" name=""/>
            <p:cNvSpPr/>
            <p:nvPr/>
          </p:nvSpPr>
          <p:spPr>
            <a:xfrm>
              <a:off x="2133720" y="27432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193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90720" y="47242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7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81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47920" y="4724280"/>
              <a:ext cx="30456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05120" y="4724280"/>
              <a:ext cx="304560" cy="304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76720" y="4724280"/>
              <a:ext cx="30456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62320" y="4724280"/>
              <a:ext cx="304560" cy="304920"/>
            </a:xfrm>
            <a:prstGeom prst="ellipse">
              <a:avLst/>
            </a:prstGeom>
            <a:solidFill>
              <a:srgbClr val="99cc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19520" y="4724280"/>
              <a:ext cx="304560" cy="3049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447920" y="297144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286000" y="30477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2437920" y="297144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1426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479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0570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623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9714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2767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990720" y="2743200"/>
            <a:ext cx="2590560" cy="2286000"/>
            <a:chOff x="990720" y="2743200"/>
            <a:chExt cx="2590560" cy="2286000"/>
          </a:xfrm>
        </p:grpSpPr>
        <p:sp>
          <p:nvSpPr>
            <p:cNvPr id="331" name=""/>
            <p:cNvSpPr/>
            <p:nvPr/>
          </p:nvSpPr>
          <p:spPr>
            <a:xfrm>
              <a:off x="2133720" y="27432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93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90720" y="47242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337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481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7920" y="4724280"/>
              <a:ext cx="30456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05120" y="4724280"/>
              <a:ext cx="304560" cy="304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76720" y="4724280"/>
              <a:ext cx="30456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62320" y="4724280"/>
              <a:ext cx="304560" cy="304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19520" y="4724280"/>
              <a:ext cx="304560" cy="3049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447920" y="297144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286000" y="30477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2437920" y="297144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1426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479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0570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623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9714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767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990720" y="2743200"/>
            <a:ext cx="2590560" cy="2286000"/>
            <a:chOff x="990720" y="2743200"/>
            <a:chExt cx="2590560" cy="2286000"/>
          </a:xfrm>
        </p:grpSpPr>
        <p:sp>
          <p:nvSpPr>
            <p:cNvPr id="351" name=""/>
            <p:cNvSpPr/>
            <p:nvPr/>
          </p:nvSpPr>
          <p:spPr>
            <a:xfrm>
              <a:off x="2133720" y="27432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193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90720" y="47242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337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481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47920" y="4724280"/>
              <a:ext cx="30456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05120" y="4724280"/>
              <a:ext cx="304560" cy="304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76720" y="4724280"/>
              <a:ext cx="30456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62320" y="4724280"/>
              <a:ext cx="304560" cy="304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19520" y="4724280"/>
              <a:ext cx="304560" cy="304920"/>
            </a:xfrm>
            <a:prstGeom prst="ellipse">
              <a:avLst/>
            </a:prstGeom>
            <a:solidFill>
              <a:srgbClr val="339966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447920" y="297144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286000" y="30477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2437920" y="297144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1426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479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0570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623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9714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767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990720" y="2743200"/>
            <a:ext cx="2590560" cy="2286000"/>
            <a:chOff x="990720" y="2743200"/>
            <a:chExt cx="2590560" cy="2286000"/>
          </a:xfrm>
        </p:grpSpPr>
        <p:sp>
          <p:nvSpPr>
            <p:cNvPr id="371" name=""/>
            <p:cNvSpPr/>
            <p:nvPr/>
          </p:nvSpPr>
          <p:spPr>
            <a:xfrm>
              <a:off x="2133720" y="27432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193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90720" y="47242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337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4812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47920" y="4724280"/>
              <a:ext cx="30456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304560" cy="304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76720" y="4724280"/>
              <a:ext cx="304560" cy="304920"/>
            </a:xfrm>
            <a:prstGeom prst="ellipse">
              <a:avLst/>
            </a:prstGeom>
            <a:solidFill>
              <a:srgbClr val="ff99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62320" y="4724280"/>
              <a:ext cx="304560" cy="304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19520" y="4724280"/>
              <a:ext cx="304560" cy="3049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447920" y="297144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2286000" y="30477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2437920" y="297144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426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479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0570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623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97144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40384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990720" y="2743200"/>
            <a:ext cx="2590560" cy="2286000"/>
            <a:chOff x="990720" y="2743200"/>
            <a:chExt cx="2590560" cy="2286000"/>
          </a:xfrm>
        </p:grpSpPr>
        <p:sp>
          <p:nvSpPr>
            <p:cNvPr id="391" name=""/>
            <p:cNvSpPr/>
            <p:nvPr/>
          </p:nvSpPr>
          <p:spPr>
            <a:xfrm>
              <a:off x="2133720" y="27432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19320" y="373392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90720" y="472464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33720" y="373392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48120" y="373392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47920" y="4724640"/>
              <a:ext cx="30456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05120" y="4724640"/>
              <a:ext cx="304560" cy="3045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276720" y="4724640"/>
              <a:ext cx="30456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62320" y="4724640"/>
              <a:ext cx="304560" cy="304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19520" y="4724640"/>
              <a:ext cx="304560" cy="3045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1447920" y="297144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2286000" y="30477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2437920" y="297144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142640" y="403884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47920" y="403884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2057040" y="403884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62320" y="403884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2971440" y="403884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76720" y="403884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ennisVie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2590920" y="1609560"/>
          <a:ext cx="3894120" cy="52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609560"/>
                    <a:ext cx="389412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9:26:04Z</dcterms:created>
  <dc:creator>billshap</dc:creator>
  <dc:description/>
  <dc:language>en-US</dc:language>
  <cp:lastModifiedBy>billshap</cp:lastModifiedBy>
  <dcterms:modified xsi:type="dcterms:W3CDTF">1999-09-20T19:29:11Z</dcterms:modified>
  <cp:revision>9</cp:revision>
  <dc:subject/>
  <dc:title>Tree-Maps: Space Filling Visualizations</dc:title>
</cp:coreProperties>
</file>