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958A-03AF-4C95-BAD6-C0F5D3BF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2EA9-E343-44C3-848C-E76CC894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12EF-1FF2-4600-BAF5-E7D10025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1108-0734-4C17-80A0-1D15E0CB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DA6B-3F09-4CAC-A613-05FFC641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9A94-8EED-41D0-8D13-5052865B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A41-03A9-46E5-9334-27CCC174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A7C-1C02-44F8-BE39-45249628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038C-F804-4146-93EF-03588589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DCB2-1DCE-499F-9BC0-A92DB7ED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C951-FECF-4194-A829-E343B6CC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0F9B-22C5-428D-8593-AEE33EEC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57EA-FB78-447F-9F8A-24C600460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eLines:Visualizing Personal Hi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isant, Milash, Rose, Widoff, Shneider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525780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541008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irish Kumar and Rajiv Gand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rowsing Hierarchical Data With Multi-Level Dynamic Queries And Pru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umar, Plaisant, Shneider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Ide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se large hierarchies and view it at different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Queries used to filter nodes at each level of th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uning of sub-trees of uninteresting nodes to get more compact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Q Tree Brow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 structure is visualized in two tightly-coupled views - Overview and Detai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selectable dynamic query pa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 structure changes only when the current lowest level of the tree is chan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uning is done to eliminate non-matching sub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 - The University F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res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629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s locate interesting parts of large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ly coupled overview and detailed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use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 fine tuned for tree of depth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ual selection and pruning not supp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n’t support all boolean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utilize available space effici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in layout not an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n’t support searching upwards in th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 and Crit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is an effective variable to display personal his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+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overall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vigate data det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may become cluttered with large amounts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for better space utiliz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+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-- Dept. of Juvenile Jus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ed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 and Cri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vorite Sent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uitive approach to visualizing histories is to use graphical time scal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+ Det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ultiple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for ori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ed view for further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- virtual space on the deskt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e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s histories on graphical time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screen displays multiple facets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ies or aspects are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s correspond to changes of size or color along the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ete events are marked by ic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of buttons gives access to gener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 - Department of Juvenile Justice (DJJ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lifelines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609480" y="190512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elationships between periods or events on the lines can be highligh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 thickness indicates the severity of of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 indicates the depth of penetration in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Life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s are less likely to miss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ilitates the spotting of anomalies and tr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lines access to 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ilorable to various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large amount of information at overview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icient space ut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ion with data entry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9:37:23Z</dcterms:created>
  <dc:creator>Girish Kumar</dc:creator>
  <dc:description/>
  <dc:language>en-US</dc:language>
  <cp:lastModifiedBy>Girish Kumar</cp:lastModifiedBy>
  <dcterms:modified xsi:type="dcterms:W3CDTF">1999-10-19T11:38:01Z</dcterms:modified>
  <cp:revision>4</cp:revision>
  <dc:subject/>
  <dc:title>LifeLines:Visualizing Personal Histories</dc:title>
</cp:coreProperties>
</file>