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695-28D4-495C-A806-D7567411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25B-ECCC-40AE-954F-38F00E0B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E05-1950-4EEC-A810-9399FCE8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FEC-6913-45AD-B1A9-F1581073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8EA-9138-412E-9004-5DFD7C2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40D-E70B-40E5-9758-C1DCA4C8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79C-65C4-4B23-9902-B713DF1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4E3-13CD-4A25-B132-25DF25A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42A-27B0-4B4E-85D0-7D813FC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41B-9D29-4C49-BC58-040140C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5EB-84F7-44B4-855D-F34932A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DD0-E4B7-4EE8-A10F-28C9787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6979-4A9F-46B8-A87D-416A84D2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ing the Design of Graphical Presentations of Rela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Jock Mackinlay (Stanf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remy Ma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ill Shap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veness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 r can be encoded by the position of each mark along the horizontal axis in the horzPos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(position(m,h), r, HorzPo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sign an effective presentation automatical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mpirically verified knowledge, not mathematical ri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nking of perceptual tasks is used to decide which graphical language to employ (Fig 14-1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 of Importance Orde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more important information more accurately (use information higher in the ranking to encode more important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sign new presentation desig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just have a laundry list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better to take a bunch of simple “primitive” ones and combin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 of Compos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 two designs by merging parts that encode the sam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s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ozone measurements in two different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axis: ozone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axis: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gure, from Yonkers, second from Stamford: overlay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an do this if the axes encode the sam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s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33520" y="2666880"/>
                <a:ext cx="46623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d>
                          <m:dPr>
                            <m:begChr m:val="{"/>
                            <m:endChr m:val="}"/>
                          </m:dPr>
                        </m:d>
                        <m:r>
                          <m:t xml:space="preserve">∧</m:t>
                        </m:r>
                        <m:r>
                          <m:t xml:space="preserve">h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d>
                          <m:dPr>
                            <m:begChr m:val="{"/>
                            <m:endChr m:val="}"/>
                          </m:dPr>
                        </m:d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ncode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ncode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∧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code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Encode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62120" y="4572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for single axi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s mark sets if the sets encode the same information in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: positions of located objects along the existing axes must b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inal: retinal properties must b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logic programming to determine possible designs given the formal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ivide and conquer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(div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the attributes by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m up into groups that match expressiveness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, Mileage, Repair, Weight&gt; can be partitioned into &lt;Price&gt;, &lt;Mileage, Repair, Weight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ileage, Repair, Weight&gt; must be repartitioned recursively until something that can be encoded is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artition, filter out incompatible desig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annot use maps to encode &lt;Price, Mileage, Repair, Weigh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s the individual designs into a unified presentation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design of 2D graphical presentations for relational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this h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press design criteria so that the machine can understand the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veness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press information in an understandable way given the capabilities of the output mediu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ffectiveness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zes Bertin’s graphical present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at machine generated presentations are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s a formal model for analyzing graphical representation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/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the first to develop a framework for automating graphical presentation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criteria for evaluating presentation tools (effectiveness, expressive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lear that APT is particularly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PT generated presentations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do limited types of 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pplication data, a presentation tool (APT) creates an image that effectively displays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Present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ffective encoding of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ar data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tails about the se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omit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 number of ways of encoding any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: Express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presentations are “sentences of graphical languages”, essentially logic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fact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re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d only if it contains a sentence that describes exactly that set of facts: no more, no l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phical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objects and their lo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: Square, Circle, Triangle, Plus, Minus, Star, Smiley Fa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Xmin, Xpos, Xmax, Ymin, Ypos, Ym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666880" y="5486400"/>
                <a:ext cx="3252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⊂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t xml:space="preserve">O</m:t>
                        </m:r>
                        <m:r>
                          <m:t xml:space="preserve">∧</m:t>
                        </m:r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You can describe a 1-D horizontal graph using a “horizontal position”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ical sentence can belong to this language if it describes either the horizontal axis or a “+” mark on that ax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4648320"/>
                <a:ext cx="78483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rzP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⇔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∪</m:t>
                    </m:r>
                    <m:r>
                      <m:t xml:space="preserve">m</m:t>
                    </m:r>
                    <m:r>
                      <m:t xml:space="preserve">∧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∈</m:t>
                    </m:r>
                    <m:r>
                      <m:t xml:space="preserve">m</m:t>
                    </m:r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lusobj</m:t>
                            </m:r>
                            <m:r>
                              <m:t xml:space="preserve">∧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pos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∧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venes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: given a language for presenting information (like HorzPos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elationship between the facts you are encoding and the objects on the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veness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iven a relation r with tuples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where a is an element of the set of marks and b is an element of the set of positions) for the HorzPos language, there are th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c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nge of locations are encoded by the horizontal ax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(h, 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, HorzP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ocated object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t of marks m encodes a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orzP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20:22:35Z</dcterms:created>
  <dc:creator>jmanson</dc:creator>
  <dc:description/>
  <dc:language>en-US</dc:language>
  <cp:lastModifiedBy>Teaching Technologies, aITs</cp:lastModifiedBy>
  <dcterms:modified xsi:type="dcterms:W3CDTF">1999-09-14T16:30:06Z</dcterms:modified>
  <cp:revision>9</cp:revision>
  <dc:subject/>
  <dc:title>Automating the Design of Graphical Presentations of Relational Information</dc:title>
</cp:coreProperties>
</file>