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607-03BB-4401-BF7F-19BE1947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CF87-001B-4AC5-BC06-2440DBB1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8A9-709F-4945-A112-0EE6894F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732-8719-4A65-9901-E51A0984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A7C-0B1D-42BA-AEAF-D27B48D8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D6A-022E-4ECF-A709-72B25AE3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824-066F-46C3-B688-BE84E6D5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123-C8A0-4890-A582-DEC5B177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4AA-79CC-4336-8477-F3D9CE2E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B13-7941-4A67-939A-D000CA6D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685-FDFF-4D9C-B5A4-A99E9971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A20-1263-4DC0-9016-72E28043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0581-E525-4EEA-A293-B063C6F72E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able Lens: Merging Graphical and Symbolic Representations in an Interactive Focus + Context Visualization for Tabula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Rao and S. K.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by Tao Z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om Factor may be too 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minal variables with large domain are hard to present graphical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is not trivial in Table Le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vorite Sent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take flight to where there is a free view over the whole single great problem, even if this view is still not a clear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+ Context (Fishey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ew of the whole data available, while pursuing detail analysis of a part of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in overview + detail: visual search and working memory consequences degrad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’s interest in detail fall away from the object of attention in a systematic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+ Context (Continu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 information and relevant context overview are combined within a single (dynamic)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I: a metric that is the sum of a priori measure of importance and distance from the point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of reduction of information for the peripheral, contextua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+ Context (Continu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/context space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the zoom factor is a step function or continuous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the fisheye effect is obtained by geometrical distortion, elision, or semantic 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 L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ed by the particular nature of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ort table without bending any rows or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ortion in each of the two dimensions is independent from th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4120" y="2590920"/>
          <a:ext cx="538164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590920"/>
                    <a:ext cx="53816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240680" y="2209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8920" y="2209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3960" y="3124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39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4114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ortion Function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imension has a block pulse D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from uniformly distributed cell to physical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focal areas and Multiple focal levels are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809880" y="2057400"/>
          <a:ext cx="6097680" cy="40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057400"/>
                    <a:ext cx="609768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active Manipulation of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48120" y="1905120"/>
          <a:ext cx="30495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05120"/>
                    <a:ext cx="30495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943600" y="1905120"/>
          <a:ext cx="3049560" cy="20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905120"/>
                    <a:ext cx="30495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419720" y="4191120"/>
          <a:ext cx="3049560" cy="203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191120"/>
                    <a:ext cx="30495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Mapping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on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tligh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&amp;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 and Adva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effective interaction with much larger tables than conventional one (68,400 V.S. 66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s make it easy to view patterns for cel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able for large dimensional data and reveal correlation and patterns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6T01:36:02Z</dcterms:created>
  <dc:creator>Tao Zhan</dc:creator>
  <dc:description/>
  <dc:language>en-US</dc:language>
  <cp:lastModifiedBy>Baby</cp:lastModifiedBy>
  <dcterms:modified xsi:type="dcterms:W3CDTF">1999-10-26T04:59:53Z</dcterms:modified>
  <cp:revision>23</cp:revision>
  <dc:subject/>
  <dc:title>The Table Lens: Merging Graphical and Symbolic Representations in an Interactive Focus + Context Visualization for Tabular Information</dc:title>
</cp:coreProperties>
</file>