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ECD60-D4A4-4AB1-B26A-AF21FCF14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6365-9709-4DCC-B288-5D7EB10A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E0A20-C060-4F03-AB96-71E2B3647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90497-67AD-443E-97CE-4568A4C98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321A7-6CA4-4D57-A091-4D9616435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130AA-3C3F-41EE-A795-2C38D8DF6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9204-7579-4496-8E1E-6A556BAEB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5E4D-32EB-4E95-8240-156EFC8E3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3D66F-6685-49D9-A0F3-3B3150E7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84AA-EF8B-4CD7-A4E5-9FD540D7C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CD8E-FD89-4F3B-8494-B6155310F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0F10-A5BC-41E0-B76C-DDD15E3F2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BF08-2249-4134-90CE-C5DD0A046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Information Workspac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Times New Roman"/>
              </a:rPr>
              <a:t>Hilary Browne and Jeff Carv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Times New Roman"/>
              </a:rPr>
              <a:t>November 16, 1999</a:t>
            </a:r>
            <a:endParaRPr b="0" lang="en-US" sz="32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381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The WebBook and the WebForager: An Information Workspace for the World-Wide Web</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4648320"/>
            <a:ext cx="6400800" cy="914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Card, Robertson, York</a:t>
            </a:r>
            <a:endParaRPr b="0" lang="en-US" sz="3200" spc="-1" strike="noStrike">
              <a:solidFill>
                <a:srgbClr val="000000"/>
              </a:solidFill>
              <a:latin typeface="Times New Roman"/>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Problem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One unit of interaction  - page</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Difficult to group pages for sensemaking tasks</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Uniform, slow cost structure for page access</a:t>
            </a:r>
            <a:endParaRPr b="0" lang="en-US" sz="3200" spc="-1" strike="noStrike">
              <a:solidFill>
                <a:srgbClr val="000000"/>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Solutio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WebBook </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Group logically connected pages</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Multiple viewing techniques</a:t>
            </a:r>
            <a:endParaRPr b="0" lang="en-US" sz="28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WebForager</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Virtual 3D workspace with 3-tiered cost structure</a:t>
            </a:r>
            <a:endParaRPr b="0" lang="en-US" sz="2800" spc="-1" strike="noStrike">
              <a:solidFill>
                <a:srgbClr val="000000"/>
              </a:solidFill>
              <a:latin typeface="Times New Roman"/>
            </a:endParaRPr>
          </a:p>
          <a:p>
            <a:pPr lvl="2" marL="1143000" indent="-228600">
              <a:lnSpc>
                <a:spcPct val="100000"/>
              </a:lnSpc>
              <a:spcBef>
                <a:spcPts val="601"/>
              </a:spcBef>
              <a:buClr>
                <a:srgbClr val="cc99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Comic Sans MS"/>
              </a:rPr>
              <a:t>focus, immediate memory, tertiary storage</a:t>
            </a:r>
            <a:endParaRPr b="0" lang="en-US" sz="24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Cost structure is tunable to user’s need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Strengths and Weakness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Strengths</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Useful application of 2 common metaphors</a:t>
            </a:r>
            <a:endParaRPr b="0" lang="en-US" sz="28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Weaknesses</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Cost function relies on static pages</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Occlusion</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Side by side comparisions</a:t>
            </a:r>
            <a:endParaRPr b="0" lang="en-US" sz="28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Favorite Sentenc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a:t>
            </a:r>
            <a:r>
              <a:rPr b="0" lang="en-US" sz="3200" spc="-1" strike="noStrike">
                <a:solidFill>
                  <a:srgbClr val="cc99ff"/>
                </a:solidFill>
                <a:latin typeface="Comic Sans MS"/>
              </a:rPr>
              <a:t>Just as animals forage for food and try to optimize their food rate of gain, users often seek strategies to optimize their information gain per unit time…”</a:t>
            </a:r>
            <a:endParaRPr b="0" lang="en-US" sz="32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Information Workspac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Intermediary place for info from infosphere</a:t>
            </a:r>
            <a:endParaRPr b="0" lang="en-US" sz="3200" spc="-1" strike="noStrike">
              <a:solidFill>
                <a:srgbClr val="000000"/>
              </a:solidFill>
              <a:latin typeface="Times New Roman"/>
            </a:endParaRPr>
          </a:p>
          <a:p>
            <a:pPr marL="335880" indent="-3358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Goal to arrange information to decrease cost for completing tasks</a:t>
            </a:r>
            <a:endParaRPr b="0" lang="en-US" sz="3200" spc="-1" strike="noStrike">
              <a:solidFill>
                <a:srgbClr val="000000"/>
              </a:solidFill>
              <a:latin typeface="Times New Roman"/>
            </a:endParaRPr>
          </a:p>
          <a:p>
            <a:pPr marL="335880" indent="-3358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Degree of interest based on locality of reference</a:t>
            </a:r>
            <a:endParaRPr b="0" lang="en-US" sz="3200" spc="-1" strike="noStrike">
              <a:solidFill>
                <a:srgbClr val="000000"/>
              </a:solidFill>
              <a:latin typeface="Times New Roman"/>
            </a:endParaRPr>
          </a:p>
          <a:p>
            <a:pPr lvl="1" marL="727920" indent="-28008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More frequently used information is faster to locate</a:t>
            </a:r>
            <a:endParaRPr b="0" lang="en-US" sz="28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Information Visualization Using 3D Interactive Animat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Robertson, Card, and Mackinlay</a:t>
            </a:r>
            <a:endParaRPr b="0" lang="en-US" sz="32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Goals of Info Visualizer</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Use graphics to lower cost of:</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finding information</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accessing information</a:t>
            </a:r>
            <a:endParaRPr b="0" lang="en-US" sz="28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Augment traditional IR goals of precision and recall</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reduce time-cost of finding info</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increase amount of info user can handle</a:t>
            </a:r>
            <a:endParaRPr b="0" lang="en-US" sz="28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Solutio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Make workspace larger - rooms</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Delegate work to agents - search</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Use natural human interaction rates - cognitive coprocessor</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Visualizations to use perceptual skills - cone tree, perspective wall</a:t>
            </a:r>
            <a:endParaRPr b="0" lang="en-US" sz="32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Cone Tre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3D technique for viewing hierarchical data</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Animated context preserving browsing</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rotation</a:t>
            </a:r>
            <a:endParaRPr b="0" lang="en-US" sz="28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Reduces occlusion with transparency</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Handle wide aspect ratios</a:t>
            </a:r>
            <a:endParaRPr b="0" lang="en-US" sz="32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Perspective Wal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3D technique for viewing linear data</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Focus+Context fisheye visualization</a:t>
            </a:r>
            <a:endParaRPr b="0" lang="en-US" sz="32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Animated context preserving browsing</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smooth scrolling</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stretching</a:t>
            </a:r>
            <a:endParaRPr b="0" lang="en-US" sz="28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Strengths and Weaknesses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Strengths</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Only need mouse and keyboard</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Multiple visualization techniques</a:t>
            </a:r>
            <a:endParaRPr b="0" lang="en-US" sz="2800" spc="-1" strike="noStrike">
              <a:solidFill>
                <a:srgbClr val="000000"/>
              </a:solidFill>
              <a:latin typeface="Times New Roman"/>
            </a:endParaRPr>
          </a:p>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Weaknesses</a:t>
            </a:r>
            <a:endParaRPr b="0" lang="en-US" sz="32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Complicated to construct</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Cone Trees - occlusion, wasted space</a:t>
            </a:r>
            <a:endParaRPr b="0" lang="en-US" sz="2800" spc="-1" strike="noStrike">
              <a:solidFill>
                <a:srgbClr val="000000"/>
              </a:solidFill>
              <a:latin typeface="Times New Roman"/>
            </a:endParaRPr>
          </a:p>
          <a:p>
            <a:pPr lvl="1" marL="743040" indent="-285840">
              <a:lnSpc>
                <a:spcPct val="100000"/>
              </a:lnSpc>
              <a:spcBef>
                <a:spcPts val="700"/>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Comic Sans MS"/>
              </a:rPr>
              <a:t>Perspective wall - fisheye distortion</a:t>
            </a:r>
            <a:endParaRPr b="0" lang="en-US" sz="28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Comic Sans MS"/>
              </a:rPr>
              <a:t>Favorite Sentenc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Comic Sans MS"/>
              </a:rPr>
              <a:t>“…</a:t>
            </a:r>
            <a:r>
              <a:rPr b="0" lang="en-US" sz="3200" spc="-1" strike="noStrike">
                <a:solidFill>
                  <a:srgbClr val="cc99ff"/>
                </a:solidFill>
                <a:latin typeface="Comic Sans MS"/>
              </a:rPr>
              <a:t>we believe that the structure of information, the emerging technologies of 3D and interactive animation, and the human perceptual system can be effectively exploited to improve management of and access to large information spaces.”</a:t>
            </a:r>
            <a:endParaRPr b="0" lang="en-US" sz="32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5T20:25:41Z</dcterms:created>
  <dc:creator>Jeff Carver</dc:creator>
  <dc:description/>
  <dc:language>en-US</dc:language>
  <cp:lastModifiedBy>Jeff Carver</cp:lastModifiedBy>
  <cp:lastPrinted>1999-11-15T21:32:47Z</cp:lastPrinted>
  <dcterms:modified xsi:type="dcterms:W3CDTF">1999-11-15T21:41:02Z</dcterms:modified>
  <cp:revision>16</cp:revision>
  <dc:subject/>
  <dc:title>Title Slide</dc:title>
</cp:coreProperties>
</file>