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5D81-3556-4DE2-9311-1E6D9E329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6B64-2665-479A-9A0A-51904925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E82E-7C23-4CE1-B65B-D6084403F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0D09-1E0B-45F0-9D97-B7693006B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8F50-B858-43A2-8F30-14738B31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5393-C974-4BC5-90D1-04006008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3D7C-D9E9-472D-AEC4-58FBF951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2B39-07F2-4CE8-84F2-A6A99F94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0CC5-DE3D-4CE3-A9A6-E34BCF78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681C-0B99-4B66-BAA8-9446589B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B5C3-8AAF-4418-8596-ADFBB217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9BB0-6E85-47F5-B67B-8D255435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C7B6-D2F5-4882-94A2-EE5F7DB48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ynamic Queries for Visual Information Seeking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n Shneider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n T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unmo K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sc8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. 28,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a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DQ-cancer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mfi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filmfind" descr=""/>
          <p:cNvPicPr/>
          <p:nvPr/>
        </p:nvPicPr>
        <p:blipFill>
          <a:blip r:embed="rId1"/>
          <a:stretch/>
        </p:blipFill>
        <p:spPr>
          <a:xfrm>
            <a:off x="1197000" y="1981080"/>
            <a:ext cx="67500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Change Master Dire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gcmd" descr=""/>
          <p:cNvPicPr/>
          <p:nvPr/>
        </p:nvPicPr>
        <p:blipFill>
          <a:blip r:embed="rId1"/>
          <a:stretch/>
        </p:blipFill>
        <p:spPr>
          <a:xfrm>
            <a:off x="1992240" y="1981080"/>
            <a:ext cx="5475240" cy="43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r Study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DQ-graph" descr=""/>
          <p:cNvPicPr/>
          <p:nvPr/>
        </p:nvPicPr>
        <p:blipFill>
          <a:blip r:embed="rId1"/>
          <a:stretch/>
        </p:blipFill>
        <p:spPr>
          <a:xfrm>
            <a:off x="1609560" y="1981080"/>
            <a:ext cx="59248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 presentation of query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 presentation of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pid, incremental and reversible 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on by pointing (user interface improvement: what about voice comman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mediate and continuous feedback (related: tight-coupling of DQ filt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advantages and Research Dir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MS and display related performance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Data accessing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Display/screen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interface (domain depend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advantages and Resea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ions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issues (widgets, representations,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el user interface for complex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ter/flow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DQ-filter-flow-map" descr=""/>
          <p:cNvPicPr/>
          <p:nvPr/>
        </p:nvPicPr>
        <p:blipFill>
          <a:blip r:embed="rId1"/>
          <a:stretch/>
        </p:blipFill>
        <p:spPr>
          <a:xfrm>
            <a:off x="2773440" y="1981080"/>
            <a:ext cx="35971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hanced Dynamic Queries Via Movable Fil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n Fishk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ureen C. 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trictions of Dynamic Queries (Motiv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 of attributes is limited by the number of sele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ffect of combining slider filters is strictly conjun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ffects of the selectors are glo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 of selectors is fixed in adv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Qu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DQ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tages of 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dvantages of 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 DQ via Movable Filters (Magic Le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eo Clip of Magic L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lean Queries by 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Query 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 and Cri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hanced Dynamic Queries Via Movable Fil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the two techniqu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rfield display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movable fi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ing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rfileld displa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augmenting it with the flexibility and the functionality of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ovable fi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olean Queries By 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s L=(F, 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F : fi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ing the output calculation for the filter on some dat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M : boolean op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ing how that output is combined with the output from lower fil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1=(F1, OR), L2=(F2, A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L1 over L2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F1 OR F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L2 over L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F2 AND F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=(NULL, NOT) : inverting l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und l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(F1 AND F2) OR (F3 AND F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Database : US Census Dat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ens Manager Server : X Window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color1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dqf1a" descr=""/>
          <p:cNvPicPr/>
          <p:nvPr/>
        </p:nvPicPr>
        <p:blipFill>
          <a:blip r:embed="rId1"/>
          <a:stretch/>
        </p:blipFill>
        <p:spPr>
          <a:xfrm>
            <a:off x="1282680" y="1981080"/>
            <a:ext cx="6577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dqf1b" descr=""/>
          <p:cNvPicPr/>
          <p:nvPr/>
        </p:nvPicPr>
        <p:blipFill>
          <a:blip r:embed="rId1"/>
          <a:stretch/>
        </p:blipFill>
        <p:spPr>
          <a:xfrm>
            <a:off x="1562040" y="1981080"/>
            <a:ext cx="6018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e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dqf2" descr=""/>
          <p:cNvPicPr/>
          <p:nvPr/>
        </p:nvPicPr>
        <p:blipFill>
          <a:blip r:embed="rId1"/>
          <a:stretch/>
        </p:blipFill>
        <p:spPr>
          <a:xfrm>
            <a:off x="2525760" y="1981080"/>
            <a:ext cx="4092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taneous Multiple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dqf3" descr=""/>
          <p:cNvPicPr/>
          <p:nvPr/>
        </p:nvPicPr>
        <p:blipFill>
          <a:blip r:embed="rId1"/>
          <a:stretch/>
        </p:blipFill>
        <p:spPr>
          <a:xfrm>
            <a:off x="1787400" y="1981080"/>
            <a:ext cx="5567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olean Fil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dqf4a" descr=""/>
          <p:cNvPicPr/>
          <p:nvPr/>
        </p:nvPicPr>
        <p:blipFill>
          <a:blip r:embed="rId1"/>
          <a:stretch/>
        </p:blipFill>
        <p:spPr>
          <a:xfrm>
            <a:off x="1314360" y="1981080"/>
            <a:ext cx="6515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sions : Real-valued Fil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dqf4b" descr=""/>
          <p:cNvPicPr/>
          <p:nvPr/>
        </p:nvPicPr>
        <p:blipFill>
          <a:blip r:embed="rId1"/>
          <a:stretch/>
        </p:blipFill>
        <p:spPr>
          <a:xfrm>
            <a:off x="1420920" y="1981080"/>
            <a:ext cx="6300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vorite Sent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ualization offers a method for seeing the unsee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sions : Real-valued Fil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dqf5" descr=""/>
          <p:cNvPicPr/>
          <p:nvPr/>
        </p:nvPicPr>
        <p:blipFill>
          <a:blip r:embed="rId1"/>
          <a:stretch/>
        </p:blipFill>
        <p:spPr>
          <a:xfrm>
            <a:off x="1984320" y="1981080"/>
            <a:ext cx="5175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ssing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dqf6a" descr=""/>
          <p:cNvPicPr/>
          <p:nvPr/>
        </p:nvPicPr>
        <p:blipFill>
          <a:blip r:embed="rId1"/>
          <a:stretch/>
        </p:blipFill>
        <p:spPr>
          <a:xfrm>
            <a:off x="2297160" y="1981080"/>
            <a:ext cx="4548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ssing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dqf6b" descr=""/>
          <p:cNvPicPr/>
          <p:nvPr/>
        </p:nvPicPr>
        <p:blipFill>
          <a:blip r:embed="rId1"/>
          <a:stretch/>
        </p:blipFill>
        <p:spPr>
          <a:xfrm>
            <a:off x="2311560" y="1981080"/>
            <a:ext cx="4519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sive yet easy to underst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ful queries(boolean and real-val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ual and semantic transformation of the data (callout, magnification, missing data, sorting, and so fort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e range of interface operations (click-through too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tatistics on the usability tes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rapid search &amp; rapid graphical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specific program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vorite Sent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 tension in the database query systems between providing expressive power and ease of us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active us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ual query parameters adjus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visual display of query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They Are G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novic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on't have to learn 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void syntax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atural, aid compreh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power us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Helpful in finding patt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Explore and dis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 Fi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homefinder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 Finder (Tex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DQ-dc-txt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X - 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DQ-unix-dir" descr=""/>
          <p:cNvPicPr/>
          <p:nvPr/>
        </p:nvPicPr>
        <p:blipFill>
          <a:blip r:embed="rId1"/>
          <a:stretch/>
        </p:blipFill>
        <p:spPr>
          <a:xfrm>
            <a:off x="2597040" y="1981080"/>
            <a:ext cx="39481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mical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chemele" descr=""/>
          <p:cNvPicPr/>
          <p:nvPr/>
        </p:nvPicPr>
        <p:blipFill>
          <a:blip r:embed="rId1"/>
          <a:stretch/>
        </p:blipFill>
        <p:spPr>
          <a:xfrm>
            <a:off x="685800" y="2190600"/>
            <a:ext cx="7772400" cy="3694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7T17:50:29Z</dcterms:created>
  <dc:creator>kang</dc:creator>
  <dc:description/>
  <dc:language>en-US</dc:language>
  <cp:lastModifiedBy>Teaching Technologies, aITs</cp:lastModifiedBy>
  <dcterms:modified xsi:type="dcterms:W3CDTF">1999-09-28T17:51:29Z</dcterms:modified>
  <cp:revision>4</cp:revision>
  <dc:subject/>
  <dc:title>Dynamic Queries for Visual Information Seeking   Ben Shneiderman</dc:title>
</cp:coreProperties>
</file>