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324480"/>
            <a:ext cx="7772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d093e"/>
                </a:solidFill>
                <a:latin typeface="Times New Roman"/>
              </a:rPr>
              <a:t>Bonnie A. Nardi   </a:t>
            </a:r>
            <a:fld id="{F996910F-2383-4EB7-A836-37537D3C0376}" type="slidenum">
              <a:rPr b="0" lang="en-US" sz="800" spc="-1" strike="noStrike">
                <a:solidFill>
                  <a:srgbClr val="0d093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d093e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16106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d093e"/>
                </a:solidFill>
                <a:latin typeface="Times New Roman"/>
              </a:rPr>
              <a:t>Biodiversity Workshop, June 2, 2005</a:t>
            </a:r>
            <a:r>
              <a:rPr b="0" lang="en-US" sz="1000" spc="-1" strike="noStrike">
                <a:solidFill>
                  <a:srgbClr val="16106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16106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16106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16106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161063"/>
                </a:solidFill>
                <a:latin typeface="Comic Sans MS"/>
              </a:rPr>
              <a:t>                                              </a:t>
            </a:r>
            <a:endParaRPr b="0" lang="en-US" sz="1000" spc="-1" strike="noStrike">
              <a:solidFill>
                <a:srgbClr val="16106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16106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52280"/>
            <a:ext cx="8076960" cy="304920"/>
          </a:xfrm>
          <a:prstGeom prst="rect">
            <a:avLst/>
          </a:prstGeom>
          <a:solidFill>
            <a:srgbClr val="dec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161063"/>
              </a:solidFill>
              <a:latin typeface="Times New Roman"/>
            </a:endParaRPr>
          </a:p>
        </p:txBody>
      </p:sp>
      <p:pic>
        <p:nvPicPr>
          <p:cNvPr id="4" name="snowdrop2" descr=""/>
          <p:cNvPicPr/>
          <p:nvPr/>
        </p:nvPicPr>
        <p:blipFill>
          <a:blip r:embed="rId2"/>
          <a:stretch/>
        </p:blipFill>
        <p:spPr>
          <a:xfrm>
            <a:off x="7772400" y="15228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62120" y="1752480"/>
            <a:ext cx="784836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106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d093e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2" marL="1257480" indent="-343080">
              <a:spcBef>
                <a:spcPts val="451"/>
              </a:spcBef>
              <a:buClr>
                <a:srgbClr val="0d093e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3" marL="1714680" indent="-343080">
              <a:spcBef>
                <a:spcPts val="451"/>
              </a:spcBef>
              <a:buClr>
                <a:srgbClr val="273f8c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3f8c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273f8c"/>
              </a:solidFill>
              <a:latin typeface="Helvetica Neue"/>
            </a:endParaRPr>
          </a:p>
          <a:p>
            <a:pPr lvl="4" marL="2171880" indent="-343080">
              <a:spcBef>
                <a:spcPts val="451"/>
              </a:spcBef>
              <a:buClr>
                <a:srgbClr val="0d093e"/>
              </a:buClr>
              <a:buSzPct val="85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5" marL="2171880" indent="-343080">
              <a:spcBef>
                <a:spcPts val="451"/>
              </a:spcBef>
              <a:buClr>
                <a:srgbClr val="161063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6" marL="2171880" indent="-343080">
              <a:spcBef>
                <a:spcPts val="451"/>
              </a:spcBef>
              <a:buClr>
                <a:srgbClr val="161063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1f4e"/>
                </a:solidFill>
                <a:latin typeface="Times-Bold"/>
              </a:rPr>
              <a:t>Collaboration in Emerging Ecological Practice</a:t>
            </a:r>
            <a:endParaRPr b="0" lang="en-US" sz="24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Times New Roman"/>
              </a:rPr>
              <a:t>Human-Computer Interaction in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Times New Roman"/>
              </a:rPr>
              <a:t>Biodiversity Informatics Workshop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Times New Roman"/>
              </a:rPr>
              <a:t>June 2, 2005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93e"/>
                </a:solidFill>
                <a:latin typeface="Helvetica Neue"/>
              </a:rPr>
              <a:t>Bonnie A. Nardi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93e"/>
                </a:solidFill>
                <a:latin typeface="Helvetica Neue"/>
              </a:rPr>
              <a:t>Department of Informatic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93e"/>
                </a:solidFill>
                <a:latin typeface="Helvetica Neue"/>
              </a:rPr>
              <a:t>School of Information and Computer Scienc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93e"/>
                </a:solidFill>
                <a:latin typeface="Helvetica Neue"/>
              </a:rPr>
              <a:t>University of California, Irvin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pic>
        <p:nvPicPr>
          <p:cNvPr id="44" name="snowdrop2" descr=""/>
          <p:cNvPicPr/>
          <p:nvPr/>
        </p:nvPicPr>
        <p:blipFill>
          <a:blip r:embed="rId1"/>
          <a:stretch/>
        </p:blipFill>
        <p:spPr>
          <a:xfrm>
            <a:off x="6172200" y="4572000"/>
            <a:ext cx="1981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Something that might be unique to ecology: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75648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Combination of: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Data from heterogeneous sources, including historical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field-based data which can be quite old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Very complex interactions among variable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living things in complex context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lvl="2" marL="125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1523520" y="4419360"/>
            <a:ext cx="229320" cy="1080"/>
          </a:xfrm>
          <a:prstGeom prst="straightConnector1">
            <a:avLst/>
          </a:prstGeom>
          <a:ln w="12600">
            <a:solidFill>
              <a:srgbClr val="16106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What I’ve done so far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124080" y="2057400"/>
          <a:ext cx="226548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057400"/>
                    <a:ext cx="22654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063"/>
                </a:solidFill>
                <a:latin typeface="Helvetica Neue"/>
              </a:rPr>
              <a:t>Collaboration in Ecology Workshop at UC Irvine, October, 2004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09360"/>
            <a:ext cx="515952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Karen Baker (data manager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Stephen Bocking (historian who studies ecology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Scott Collins (ecolog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Paul Dourish (computer scient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Cliff Duke (ESA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Anna Gold (librarian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Bryan Heidorn (librarian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Vivian Hutchison (USGS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Roberta Lamb (computer scient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Renee Miller (computer scient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Gary Olson (psycholog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Diane Pataki (ecolog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Collaboration in Ecology Workshop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06640"/>
            <a:ext cx="4672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Mark Schildhaeur (NCEAS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Katie Suding (ecolog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Bill Tomlinson (computer scient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Ferdinando Villa (ecologist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Ann Zimmerman (librarian and co-organizer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What else…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80440" cy="42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NSF Grant submitted: Collaboration in Transformational Scienc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(with Ann Zimmerman at U Michigan and Susan Sim, UCI)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Ongoing interviews with ecologists at UC Irvin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Participation in NEON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f4e"/>
                </a:solidFill>
                <a:latin typeface="Helvetica Neue"/>
              </a:rPr>
              <a:t>   </a:t>
            </a:r>
            <a:r>
              <a:rPr b="0" lang="en-US" sz="1800" spc="-1" strike="noStrike">
                <a:solidFill>
                  <a:srgbClr val="101f4e"/>
                </a:solidFill>
                <a:latin typeface="Helvetica Neue"/>
              </a:rPr>
              <a:t>Member NEON (National Ecological Observatory Network) </a:t>
            </a:r>
            <a:r>
              <a:rPr b="0" lang="en-US" sz="1800" spc="-1" strike="noStrike">
                <a:solidFill>
                  <a:srgbClr val="101f4e"/>
                </a:solidFill>
                <a:latin typeface="Helvetica Neue"/>
              </a:rPr>
              <a:t>	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   </a:t>
            </a: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Design Consortium’s Information Technology and </a:t>
            </a: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	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   </a:t>
            </a:r>
            <a:r>
              <a:rPr b="0" lang="en-US" sz="1800" spc="-1" strike="noStrike">
                <a:solidFill>
                  <a:srgbClr val="161063"/>
                </a:solidFill>
                <a:latin typeface="Helvetica Neue"/>
              </a:rPr>
              <a:t>Communication Subcommittee (“Cyberinfrastructure”)</a:t>
            </a: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What else…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00920" cy="24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h.D. student will study seismologists at UC San Diego this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summer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How they work with technicians and engineers to configure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distributed sensors and design experiment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Preliminary ideas on collaboration problems of interest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113976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“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Dating”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Design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Data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Dating”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8105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roblem: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Find collaborators with special expertise in a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articular area of ecology or in another field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As in dating, half the problem is locating the right person and th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other half is getting the relationship to work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ossible Solution: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Online directory (like Friendster) 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Service for linking people to collaborate in small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light-weight projects to get to know each other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Design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8012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roblem: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Experiments with large sensor network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Or analyses with government databases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How to design large experiments, analyses, observations?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Solutions: ??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Need ethnographic work here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     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89" name=""/>
          <p:cNvSpPr/>
          <p:nvPr/>
        </p:nvSpPr>
        <p:spPr>
          <a:xfrm>
            <a:off x="766080" y="21938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5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16106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Data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083280" cy="35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roblem: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NCEAS  et al. working on data problems of data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integration, metadata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How to interpet data scientists did not collect,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especially when there are large volumes of data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   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My background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68580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Anthropologist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Computer-supported collaborative work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Science studies (how does science work?)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Activity theory (culture and cognition)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Interpreting data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13480" cy="35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“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Data are not simple carriers of meaning. [C]onverting raw data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into scientific or social meaning is an active, context-dependent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rocess” (Birnholtz and Bietz, 2003)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Solution: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Talk to others about their experiences with the data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People talk about data to interpret it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12160" cy="48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Zimmerman interviewed an ecologist who was formerly an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1" marL="838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economist: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1" marL="838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 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2" marL="125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In economics, typically people are working with a shared data set.  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2" marL="125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There are hundreds of people that work with the current population 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2" marL="125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survey, for example, and you can go and find out, “Well, what are 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2" marL="125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the problems with this data set?”  Everyone can tell you, “Oh yeah, 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2" marL="125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’</a:t>
            </a: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79 was a really bad year, and there’s a glitch, and you are going to 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lvl="2" marL="125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93e"/>
                </a:solidFill>
                <a:latin typeface="Helvetica Neue"/>
              </a:rPr>
              <a:t>have to reprocess this field if you want to use it.” </a:t>
            </a:r>
            <a:endParaRPr b="0" lang="en-US" sz="1800" spc="-1" strike="noStrike">
              <a:solidFill>
                <a:srgbClr val="0d093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Solution: Data Conversations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226280" cy="536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Communications research has shown that conversation i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efficient for clarification, coordination, updates, brainstorming,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interpretation, critiquing and elaboration of complex ideas.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Harvest electronic conversations in instant messaging, wikis,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blogs, chats, listservs.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Make available to wider group of scientist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Tools for summary and presentation needed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Conclusion: Outputs of research</a:t>
            </a: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	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6637320" cy="32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a. New understandings of transformational scienc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b. New collaborative tools for ecologists working toward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transformational scienc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c. Testing of ideas about collaboration in activity theory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(which involve a and b).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15200" y="4114800"/>
            <a:ext cx="14349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Research on collaborative tools for ecologists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18432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1434960" cy="217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2819520"/>
            <a:ext cx="1434960" cy="2171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00800" y="3581280"/>
            <a:ext cx="14349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Why Ecology?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Pressing needs to understand environmental chang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Moment in time: ecology transforming to big scienc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  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Activity theory asks how such transformations happen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        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Interesting issues of changes in collaborative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        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technologies and practices during such transformation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sp>
        <p:nvSpPr>
          <p:cNvPr id="54" name=""/>
          <p:cNvSpPr/>
          <p:nvPr/>
        </p:nvSpPr>
        <p:spPr>
          <a:xfrm>
            <a:off x="1155600" y="3394080"/>
            <a:ext cx="190440" cy="162000"/>
          </a:xfrm>
          <a:custGeom>
            <a:avLst/>
            <a:gdLst/>
            <a:ahLst/>
            <a:rect l="l" t="t" r="r" b="b"/>
            <a:pathLst>
              <a:path w="120" h="102">
                <a:moveTo>
                  <a:pt x="0" y="22"/>
                </a:moveTo>
                <a:cubicBezTo>
                  <a:pt x="55" y="3"/>
                  <a:pt x="32" y="0"/>
                  <a:pt x="72" y="14"/>
                </a:cubicBezTo>
                <a:cubicBezTo>
                  <a:pt x="91" y="71"/>
                  <a:pt x="73" y="52"/>
                  <a:pt x="112" y="78"/>
                </a:cubicBezTo>
                <a:cubicBezTo>
                  <a:pt x="114" y="86"/>
                  <a:pt x="120" y="102"/>
                  <a:pt x="120" y="10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161063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>
            <a:off x="1294920" y="4190760"/>
            <a:ext cx="229320" cy="1080"/>
          </a:xfrm>
          <a:prstGeom prst="straightConnector1">
            <a:avLst/>
          </a:prstGeom>
          <a:ln w="12600">
            <a:solidFill>
              <a:srgbClr val="161063"/>
            </a:solidFill>
            <a:miter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>
            <a:off x="1294920" y="3504960"/>
            <a:ext cx="229320" cy="1080"/>
          </a:xfrm>
          <a:prstGeom prst="straightConnector1">
            <a:avLst/>
          </a:prstGeom>
          <a:ln w="12600">
            <a:solidFill>
              <a:srgbClr val="16106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General approach to my work</a:t>
            </a: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	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25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Ethnographic studies of work practice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Design of new tool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rototype, test new tools to evaluate their usefulness and usability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working with technical people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1294920" y="3962160"/>
            <a:ext cx="229320" cy="1080"/>
          </a:xfrm>
          <a:prstGeom prst="straightConnector1">
            <a:avLst/>
          </a:prstGeom>
          <a:ln w="12600">
            <a:solidFill>
              <a:srgbClr val="16106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Research on “emerging practice” in ecology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156440" cy="29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Current practice: single investigator or small team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Emerging practice: larger teams, more data, more technology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Transforming to “big science” (or trying to)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Big science”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933960" cy="54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Broad, problem-directed goal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Interdisciplinary teams of scientists, engineers, technician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Work is often distributed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Extensive instrumentation (such as NEON sensor network)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rocessing of large volumes of data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Projects are professionally  managed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Drivers of move to big science in ecology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164360" cy="40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Long Term Ecological Research Network (LTER)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EcoVisions Project of Ecological Society of America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NEON, CUAHSI (hydrology), CLEANER, and other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Availability of terabyte scale datasets from NASA, DOE, EPA,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USGS and other government agencie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76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        </a:t>
            </a:r>
            <a:r>
              <a:rPr b="0" lang="en-US" sz="2000" spc="-1" strike="noStrike">
                <a:solidFill>
                  <a:srgbClr val="101f4e"/>
                </a:solidFill>
                <a:latin typeface="Helvetica Neue"/>
              </a:rPr>
              <a:t>Individual scientists discovering these datasets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  <p:cxnSp>
        <p:nvCxnSpPr>
          <p:cNvPr id="66" name=""/>
          <p:cNvCxnSpPr/>
          <p:nvPr/>
        </p:nvCxnSpPr>
        <p:spPr>
          <a:xfrm>
            <a:off x="1218960" y="5486040"/>
            <a:ext cx="229320" cy="1080"/>
          </a:xfrm>
          <a:prstGeom prst="straightConnector1">
            <a:avLst/>
          </a:prstGeom>
          <a:ln w="12600">
            <a:solidFill>
              <a:srgbClr val="16106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93e"/>
                </a:solidFill>
                <a:latin typeface="Helvetica Neue"/>
              </a:rPr>
              <a:t>Collaboration in Ecology</a:t>
            </a:r>
            <a:endParaRPr b="0" lang="en-US" sz="2800" spc="-1" strike="noStrike">
              <a:solidFill>
                <a:srgbClr val="0d093e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6907320" cy="65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As ecology scales up to big science, need for different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kinds of collaboration: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interdisciplinary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distributed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involves sharing and interpreting large volumes of data 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What kinds of technologies will sustain such collaboration?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063"/>
                </a:solidFill>
                <a:latin typeface="Helvetica Neue"/>
              </a:rPr>
              <a:t>Are the problems similar to those of other fields?</a:t>
            </a: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1f4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1:54:10Z</dcterms:created>
  <dc:creator>Bonnie Nardi</dc:creator>
  <dc:description/>
  <dc:language>en-US</dc:language>
  <cp:lastModifiedBy>Bonnie User</cp:lastModifiedBy>
  <cp:lastPrinted>2005-05-19T17:26:47Z</cp:lastPrinted>
  <dcterms:modified xsi:type="dcterms:W3CDTF">2005-05-30T13:33:43Z</dcterms:modified>
  <cp:revision>1570</cp:revision>
  <dc:subject/>
  <dc:title>ContactMap</dc:title>
</cp:coreProperties>
</file>