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88400" cy="9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71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4012920" y="0"/>
            <a:ext cx="3071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85480" y="708120"/>
            <a:ext cx="4714920" cy="353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7760" y="447804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956440"/>
            <a:ext cx="307188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4012920" y="8956440"/>
            <a:ext cx="307188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FFE2-0255-4882-996F-F43A6EEFC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012920" y="8956440"/>
            <a:ext cx="307188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945A-65D5-4D95-9685-0F77848A6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8956440"/>
            <a:ext cx="307188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0"/>
            <a:ext cx="3071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012920" y="0"/>
            <a:ext cx="3071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714920" cy="35352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45720" y="4478040"/>
            <a:ext cx="519444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A058-2AA5-4C5B-BB9C-0A88D2130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4E2A-5AC8-40ED-AA0D-1C7320E7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53E3-D96D-423D-BF67-C63A8950C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B0BA-A428-47B1-9866-B0650949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FE3F-068C-4DB9-B7BC-577FCD30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7999-8718-4619-B5DB-2B086D05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30E8-728B-4D0C-B51A-FB2A244F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D6F6-1457-42D1-A276-E8862F31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CD08-4C49-4262-8780-99F5D051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AC4E-59E3-4622-AD65-D80484F6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6A37-A141-4F15-9D34-48E0A689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2187-5616-4430-B564-EAECD674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01FE-0746-4446-8B05-9ACDD478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4413-D481-497B-B701-F5241448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4916-2F74-4F6D-B95A-FB686C29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A797-32AB-4F23-A024-8839B33E6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C470-552E-4E83-91D8-24889F5D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D503-A58D-47B7-9776-77BECEDD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40CB-6775-45D5-BF00-E44AEE3C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CE19-F5DF-4E93-9580-19462AA3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56EA-D4FB-43A3-BA90-E09A45F8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035A-03B0-4D42-A324-01C30A0E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BAAF-DC67-4E37-9FC0-DFF714A0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773B-5F8F-4949-A535-513B05C8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700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-38736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CA1F-6D76-47BA-B745-E47106675DF3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082000" y="602784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4116-03E0-430F-B78F-F2D4F60BCACA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676520"/>
            <a:ext cx="4724280" cy="114300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1676520"/>
            <a:ext cx="472428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082000" y="6027840"/>
            <a:ext cx="914400" cy="68580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1143000" y="2743200"/>
            <a:ext cx="6858000" cy="933480"/>
            <a:chOff x="1143000" y="2743200"/>
            <a:chExt cx="6858000" cy="933480"/>
          </a:xfrm>
        </p:grpSpPr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 rot="5400000">
              <a:off x="2047680" y="1838160"/>
              <a:ext cx="93348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 rot="5400000">
              <a:off x="4867200" y="1838160"/>
              <a:ext cx="93348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5"/>
            <a:srcRect l="0" t="0" r="0" b="52782"/>
            <a:stretch/>
          </p:blipFill>
          <p:spPr>
            <a:xfrm rot="5400000">
              <a:off x="6886440" y="2562120"/>
              <a:ext cx="93348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449280" algn="ctr">
              <a:spcBef>
                <a:spcPts val="601"/>
              </a:spcBef>
              <a:buClr>
                <a:srgbClr val="99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51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User" TargetMode="External"/><Relationship Id="rId2" Type="http://schemas.openxmlformats.org/officeDocument/2006/relationships/hyperlink" Target="http://en.wikipedia.org/wiki/Computer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-Computer Interaction in Biodiversity Informatic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76520" y="3504960"/>
            <a:ext cx="68580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Workshop in association with the 22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annual HCIL Symposium and Open Hou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ponsored by NBII and NSF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http://www.cs.umd.edu/hcil/biodiversity/workshop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80880" y="5673600"/>
          <a:ext cx="281952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673600"/>
                    <a:ext cx="281952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for the da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alks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(with a break in the middle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unch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(maybe walk?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an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mo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inne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odivers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14600" y="533520"/>
            <a:ext cx="47242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iodiversity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is the extraordinary variety of all life on Earth - from genes to species to entire ecosystems.</a:t>
            </a:r>
            <a:r>
              <a:rPr b="0" lang="en-US" sz="700" spc="-1" strike="noStrike">
                <a:solidFill>
                  <a:srgbClr val="292929"/>
                </a:solidFill>
                <a:latin typeface="Fritz-Quad"/>
              </a:rPr>
              <a:t> </a:t>
            </a:r>
            <a:endParaRPr b="0" lang="en-US" sz="7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292929"/>
                </a:solidFill>
                <a:latin typeface="Fritz-Quad"/>
              </a:rPr>
              <a:t> </a:t>
            </a:r>
            <a:r>
              <a:rPr b="0" lang="en-US" sz="700" spc="-1" strike="noStrike">
                <a:solidFill>
                  <a:srgbClr val="292929"/>
                </a:solidFill>
                <a:latin typeface="Fritz-Quad"/>
              </a:rPr>
              <a:t>-- Smithsonian Institution Monitoring and Assessment of Biodiversity Program</a:t>
            </a:r>
            <a:endParaRPr b="0" lang="en-US" sz="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5410080"/>
            <a:ext cx="65689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How can we improve interaction with biodiversity information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acilitate research and management by developing ways t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ccess biodiversity dat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tegrat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atabases of biodiversity informa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omputational services such as predictive models, analytical, and planning tool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6094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Modified from Wikipedi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“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coinformatics” entr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87480" y="5410080"/>
            <a:ext cx="67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Information and problem-centere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48960" y="1676160"/>
            <a:ext cx="7661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e study of interaction between people (</a:t>
            </a:r>
            <a:r>
              <a:rPr b="0" lang="en-US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users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) and </a:t>
            </a:r>
            <a:r>
              <a:rPr b="0" lang="en-US" sz="24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computers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9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ethodologies and processes for designing interfaces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9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ethods for implementing interfac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9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eveloping new interfaces and interaction techniques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9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eveloping descriptive and predictive models and theories of interac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931680" y="96480"/>
            <a:ext cx="58496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uman-computer intera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05720" y="10666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Wikipedia “HCI” entr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64880" y="5791320"/>
            <a:ext cx="51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33"/>
                </a:solidFill>
                <a:latin typeface="Arial"/>
              </a:rPr>
              <a:t>People and task-centere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" dur="indefinite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" dur="indefinite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11280" t="15511" r="12046" b="13283"/>
          <a:stretch/>
        </p:blipFill>
        <p:spPr>
          <a:xfrm rot="6896400">
            <a:off x="219960" y="3533040"/>
            <a:ext cx="1309680" cy="12160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CI in Biodiversity Informat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duction of information complexity (spatial, historical, numerical, etc.) for human scal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otential for cross-over with other domain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cus on organisms -- names, attributes, habitats, localiti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otential for non-expert users: education, outreach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99960" y="4800600"/>
            <a:ext cx="9367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ssing . . 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ata entr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nsor ne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lgorithmic data min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ext min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mantic web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200400" y="1963800"/>
            <a:ext cx="4677480" cy="459720"/>
            <a:chOff x="3200400" y="1963800"/>
            <a:chExt cx="4677480" cy="459720"/>
          </a:xfrm>
        </p:grpSpPr>
        <p:sp>
          <p:nvSpPr>
            <p:cNvPr id="124" name=""/>
            <p:cNvSpPr/>
            <p:nvPr/>
          </p:nvSpPr>
          <p:spPr>
            <a:xfrm>
              <a:off x="3200400" y="2209680"/>
              <a:ext cx="1219320" cy="0"/>
            </a:xfrm>
            <a:prstGeom prst="line">
              <a:avLst/>
            </a:prstGeom>
            <a:ln w="57240">
              <a:solidFill>
                <a:srgbClr val="29292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95320" y="1963800"/>
              <a:ext cx="338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2929"/>
                  </a:solidFill>
                  <a:latin typeface="Arial"/>
                </a:rPr>
                <a:t>Lunch table tomorrow</a:t>
              </a: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14400" y="2133720"/>
            <a:ext cx="7924680" cy="300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iodiversit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Arial"/>
              </a:rPr>
              <a:t>plants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(White, Jacobs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Arial"/>
              </a:rPr>
              <a:t>fungi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(Farr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Arial"/>
              </a:rPr>
              <a:t>animals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(Allen, Nardi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Arial"/>
              </a:rPr>
              <a:t>multiple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(Parr, Shapley, Guimbetrere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2209680"/>
            <a:ext cx="7837560" cy="32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pproaches to biodiversity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Arial"/>
              </a:rPr>
              <a:t>Evolution 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Arial"/>
              </a:rPr>
              <a:t>        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(Guimbetrere, Farr, Shapley, Jacobs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Arial"/>
              </a:rPr>
              <a:t>Ecology and Environment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Arial"/>
              </a:rPr>
              <a:t>        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(Parr, Allen, White, Nardi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2133720"/>
            <a:ext cx="7620120" cy="321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cience process  </a:t>
            </a: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problems and task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Arial"/>
              </a:rPr>
              <a:t>data collection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(Farr, Jacobs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Arial"/>
              </a:rPr>
              <a:t>data exploration and analysis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(Parr, Guimbetrere, White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901"/>
              </a:spcBef>
              <a:buClr>
                <a:srgbClr val="99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Arial"/>
              </a:rPr>
              <a:t>education and outreach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(Shapley, Allen)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Arial"/>
              </a:rPr>
              <a:t>cross-cutting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(Nardi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2133720"/>
            <a:ext cx="7620120" cy="33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echnolog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Arial"/>
              </a:rPr>
              <a:t>identification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(Farr, Jacobs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Arial"/>
              </a:rPr>
              <a:t>information retrieval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(White, Allen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Arial"/>
              </a:rPr>
              <a:t>interactive data visualization 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(Parr, Guimbetrere, Shapley, White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Arial"/>
              </a:rPr>
              <a:t>collaboration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(Nardi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2133720"/>
            <a:ext cx="766116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searcher backgroun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iologist-turned-technologist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(Parr, Allen, Farr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HCI researcher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(Nardi, Guimbetrere, Shapley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Other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(White, Jacobs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 of speak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6:49:23Z</dcterms:created>
  <dc:creator>Cyndy Sims Parr</dc:creator>
  <dc:description/>
  <dc:language>en-US</dc:language>
  <cp:lastModifiedBy>Cynthia Sims Parr</cp:lastModifiedBy>
  <dcterms:modified xsi:type="dcterms:W3CDTF">2005-06-10T20:44:03Z</dcterms:modified>
  <cp:revision>170</cp:revision>
  <dc:subject/>
  <dc:title>Interfaces for Biodiversity Information</dc:title>
</cp:coreProperties>
</file>