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8.wmf" ContentType="image/x-wmf"/>
  <Override PartName="/ppt/media/image30.png" ContentType="image/png"/>
  <Override PartName="/ppt/media/image27.wmf" ContentType="image/x-wmf"/>
  <Override PartName="/ppt/media/image23.png" ContentType="image/png"/>
  <Override PartName="/ppt/media/image10.wmf" ContentType="image/x-wmf"/>
  <Override PartName="/ppt/media/image25.png" ContentType="image/png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9.jpeg" ContentType="image/jpeg"/>
  <Override PartName="/ppt/media/image32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.jpeg" ContentType="image/jpeg"/>
  <Override PartName="/ppt/media/image24.png" ContentType="image/png"/>
  <Override PartName="/ppt/media/image14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B98B2-A654-4B33-8E5C-D576DFEB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EDD34-7AE1-4545-A86A-239FBA6F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4B38-2804-4FA9-B061-5137A343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C676-2A61-4C1D-9726-AA084CEF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35D72-B5D5-481F-8FC2-DAB08D4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8428E-256B-43B4-8C22-79450124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753D-7547-4F44-B21B-1F43B71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9B8F5-8F73-47B5-ABF0-78FE4AA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8DEB7-685E-403A-B9A7-077B0FBE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BE65-6813-4111-9A2F-EF7B88B2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68A0-13D2-4434-AD6A-C82AF60A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83B6-9A10-4DCD-A522-B86F6425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polar.umd.edu/data_archive/UMD_logo_3.JPG&amp;imgrefurl=http://www.polar.umd.edu/data_archive/gifindex.htm.2&amp;h=444&amp;w=453&amp;sz=70&amp;tbnid=4u_8sOraNZ0J:&amp;tbnh=121&amp;tbnw=123&amp;start=3&amp;prev=/images%3Fq%3Dumd%2Blogo%26svnum%3D100%26hl%3Den%26lr%3D%26ie%3DUTF-8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549840"/>
            <a:ext cx="1981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uman-Computer Interaction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534520" y="6380280"/>
            <a:ext cx="609480" cy="477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257880"/>
            <a:ext cx="609480" cy="6001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962520" y="6550200"/>
            <a:ext cx="1371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col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EDC6-AC1D-4617-9554-91D1479B0D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hyperlink" Target="http://www.datelens.com/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s.umd.edu/hcil/piccolo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dlbooks.org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mesa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Piccolo.NET: A Scalable Structured Graphics Toolki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 Be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-Computer Interaction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is Presentation To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tructure to Graph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ene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 hand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205740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4267080" y="3657600"/>
          <a:ext cx="381024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657600"/>
                    <a:ext cx="3810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cketPiccolo.N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great taste – less fil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identical excep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quality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raphical paths or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ll the cool stu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erarchical, transformable obj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 hand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fficiency mech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0" y="1752480"/>
            <a:ext cx="1946160" cy="3067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248520" y="441972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istory Lesson – ZUI Toolkits</a:t>
            </a:r>
            <a:br>
              <a:rPr sz="38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patial Data Management System (SDMS): Donelson, MI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8 – SD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 d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biquitous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U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el input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ly specializ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34120" y="1752480"/>
          <a:ext cx="2977920" cy="27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52480"/>
                    <a:ext cx="297792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48520" y="4724280"/>
          <a:ext cx="2400120" cy="13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24001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istory Lesson – ZUI Toolkits</a:t>
            </a:r>
            <a:br>
              <a:rPr sz="38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d: Perlin, NYU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 –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 on Su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-zoom, B&amp;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vely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ly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95880" y="1922400"/>
          <a:ext cx="259092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22400"/>
                    <a:ext cx="259092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istory Lesson – ZUI Toolkits</a:t>
            </a:r>
            <a:br>
              <a:rPr sz="38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d++: Bederson, UNM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 – Pad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C++ and Tcl/Tk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or OpenGL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zo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maps and vecto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scale up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was defined in Tcl and the C++ code was efficient, but mess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02880" y="58672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[Bederson &amp; Meyer - SPE 199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Pad++ Zoomable Interface"/>
          <p:cNvPicPr/>
          <p:nvPr/>
        </p:nvPicPr>
        <p:blipFill>
          <a:blip r:embed="rId1"/>
          <a:stretch/>
        </p:blipFill>
        <p:spPr>
          <a:xfrm>
            <a:off x="5943600" y="1676520"/>
            <a:ext cx="285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istory Lesson – ZUI Toolkits</a:t>
            </a:r>
            <a:br>
              <a:rPr sz="38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Jazz: Bederson, UMD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 – J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ability to build “serious”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d to Java and 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ed by 3D graph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built “polylithic” scene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“monolithic” GUI toolk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09640" y="4138560"/>
          <a:ext cx="30765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4138560"/>
                    <a:ext cx="30765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62520" y="4844880"/>
          <a:ext cx="518148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844880"/>
                    <a:ext cx="518148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ylithic Potent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objects, easier to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ed objects, easier to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un-tim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tter support design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bjects to man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ed “editor” to manage object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t good enough for app program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istory Lesson – ZUI Toolkits</a:t>
            </a:r>
            <a:br>
              <a:rPr sz="38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iccolo: Bederson, UMD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 – Pic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app builder more important than toolkit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upport for C# and Pocket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t back to “monolithic”, but O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our “last” toolk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have commercial apps being built using Picco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Toolkits Compar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gh comparison – many design differences aside from polylithic / monolithic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case studies and a performa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743200" y="4627440"/>
          <a:ext cx="7629480" cy="22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627440"/>
                    <a:ext cx="762948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838080" y="2895480"/>
            <a:ext cx="4343040" cy="1470240"/>
            <a:chOff x="838080" y="2895480"/>
            <a:chExt cx="4343040" cy="1470240"/>
          </a:xfrm>
        </p:grpSpPr>
        <p:pic>
          <p:nvPicPr>
            <p:cNvPr id="201" name="datelens-1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1042200" cy="14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datelens-2" descr=""/>
            <p:cNvPicPr/>
            <p:nvPr/>
          </p:nvPicPr>
          <p:blipFill>
            <a:blip r:embed="rId4"/>
            <a:stretch/>
          </p:blipFill>
          <p:spPr>
            <a:xfrm>
              <a:off x="1938240" y="2895480"/>
              <a:ext cx="1042200" cy="14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datelens-3" descr=""/>
            <p:cNvPicPr/>
            <p:nvPr/>
          </p:nvPicPr>
          <p:blipFill>
            <a:blip r:embed="rId5"/>
            <a:stretch/>
          </p:blipFill>
          <p:spPr>
            <a:xfrm>
              <a:off x="3038400" y="2895480"/>
              <a:ext cx="1042200" cy="14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datelens-4" descr=""/>
            <p:cNvPicPr/>
            <p:nvPr/>
          </p:nvPicPr>
          <p:blipFill>
            <a:blip r:embed="rId6"/>
            <a:stretch/>
          </p:blipFill>
          <p:spPr>
            <a:xfrm>
              <a:off x="4138920" y="2895480"/>
              <a:ext cx="1042200" cy="147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0" y="-8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46360" y="112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46360" y="330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46360" y="548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8360" y="43434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Lens Mo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257800"/>
            <a:ext cx="2743200" cy="914400"/>
          </a:xfrm>
          <a:prstGeom prst="rect">
            <a:avLst/>
          </a:prstGeom>
          <a:noFill/>
          <a:ln w="381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colo.dll [120 k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coloX.dll [68 k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858000" y="2131920"/>
            <a:ext cx="1200240" cy="160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772320" y="36576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www.datelens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28760" y="1600200"/>
          <a:ext cx="612432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600200"/>
                    <a:ext cx="61243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formance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98840" y="3463920"/>
            <a:ext cx="6096240" cy="3774960"/>
            <a:chOff x="4398840" y="3463920"/>
            <a:chExt cx="6096240" cy="3774960"/>
          </a:xfrm>
        </p:grpSpPr>
        <p:sp>
          <p:nvSpPr>
            <p:cNvPr id="217" name=""/>
            <p:cNvSpPr/>
            <p:nvPr/>
          </p:nvSpPr>
          <p:spPr>
            <a:xfrm>
              <a:off x="5770440" y="3463920"/>
              <a:ext cx="3353040" cy="335268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4398840" y="3616200"/>
            <a:ext cx="6096240" cy="3622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98840" y="3616200"/>
                      <a:ext cx="6096240" cy="362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1331640" y="37130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54680" y="28764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o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60440" y="571500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[Bederson, Grosjean, Meyer - TSE 200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iccolo.NET:</a:t>
            </a:r>
            <a:r>
              <a:rPr b="1" i="1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i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kit that sup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canvas of graphical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 scenegraph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on of “controls” for use within Windows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2D object-oriente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es (transformation, transparency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ion, event han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ras, layers,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structure that relies on underlying rend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DI+, Direct3D, OpenGL, Java2D, et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Open, Extensible and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chitectural Refle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kits are usually worth thei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lithic and Monolithic each have me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performance and cod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arch. on expected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programmer oriented =&gt; monolith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design program oriented =&gt; polylith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nguage Reflections: Java vs. C#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# “usability” advances important for u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, events, indexer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but multiplatform has significan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-specific feature us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tortured its APIs with backwards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: Free, refactoring support, pluggable, rapid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.NET: Expensive, but fast, form designer, integrated device emulator, and cheap for acade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atform required for UMD’s required CS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# is used in some senior/grad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12408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s / Dire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oolkits benefic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Clearly yes (someti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zoom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imation help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small representation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ion helps maintain object con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domain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colo’s Fu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website, tutorial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 up to other renderers (Direct3D, OpenG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more ap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03040" y="5943600"/>
            <a:ext cx="4731480" cy="520560"/>
          </a:xfrm>
          <a:prstGeom prst="rect">
            <a:avLst/>
          </a:prstGeom>
          <a:noFill/>
          <a:ln w="381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cs.umd.edu/hcil/pic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1752480"/>
            <a:ext cx="1904760" cy="1676520"/>
          </a:xfrm>
          <a:prstGeom prst="rect">
            <a:avLst/>
          </a:prstGeom>
          <a:noFill/>
          <a:ln w="381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ly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990720" y="3089160"/>
          <a:ext cx="365760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89160"/>
                    <a:ext cx="36576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It Good F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Structure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able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105520" y="2438280"/>
          <a:ext cx="380988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438280"/>
                    <a:ext cx="38098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077440" y="51213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ware.com - Pose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8360" y="582444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Lens – Microsof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533412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It Good F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Custom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able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6480" y="60199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S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9720" y="4648320"/>
            <a:ext cx="39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Children’s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icdlbooks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29200" y="5562720"/>
            <a:ext cx="2933640" cy="514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9920" y="59580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esenta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40992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12408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It Good F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Zoomable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6240" y="579132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photomesa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28680" y="2971800"/>
            <a:ext cx="3724200" cy="2887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353040" cy="2444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5320" y="42670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 Victoria – Ontology 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41008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ere Does It Ru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colo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#) .NET for Wind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cketPiccolo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#) Compact Framework for Pocket P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colo.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Java) for everywhere 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es It Work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lithic”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lass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runtim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 for easy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81480" y="1676520"/>
            <a:ext cx="3810240" cy="2237400"/>
            <a:chOff x="5181480" y="1676520"/>
            <a:chExt cx="3810240" cy="2237400"/>
          </a:xfrm>
        </p:grpSpPr>
        <p:graphicFrame>
          <p:nvGraphicFramePr>
            <p:cNvPr id="135" name=""/>
            <p:cNvGraphicFramePr/>
            <p:nvPr/>
          </p:nvGraphicFramePr>
          <p:xfrm>
            <a:off x="5181480" y="1676520"/>
            <a:ext cx="3810240" cy="186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676520"/>
                      <a:ext cx="3810240" cy="1860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6220080" y="354564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172200" y="4114800"/>
            <a:ext cx="2781360" cy="2220840"/>
            <a:chOff x="6172200" y="4114800"/>
            <a:chExt cx="2781360" cy="2220840"/>
          </a:xfrm>
        </p:grpSpPr>
        <p:graphicFrame>
          <p:nvGraphicFramePr>
            <p:cNvPr id="139" name=""/>
            <p:cNvGraphicFramePr/>
            <p:nvPr/>
          </p:nvGraphicFramePr>
          <p:xfrm>
            <a:off x="6172200" y="4114800"/>
            <a:ext cx="2781360" cy="184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4114800"/>
                      <a:ext cx="2781360" cy="1847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6175080" y="5967360"/>
              <a:ext cx="275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ical run-time 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54560" y="3578040"/>
            <a:ext cx="5194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UMD.HCIL.Piccol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UMD.HCIL.Piccolo.Nod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UMD.HCIL.Piccolo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HelloWorld : PFor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override void Initializ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ext text = new PText("Hello World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nvas.Layer.AddChild(tex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void Ma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PHelloWor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541008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Does It Do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t the “Feature” de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1342800" cy="1714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66920" cy="2047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604880" cy="1633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124080" y="2209680"/>
            <a:ext cx="2467080" cy="239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657600" y="3962520"/>
            <a:ext cx="2205000" cy="224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181480" y="4191120"/>
            <a:ext cx="2205000" cy="2243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914400" y="2209680"/>
            <a:ext cx="1692360" cy="4081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33720" y="586728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igger Example: GraphEdi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nd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igh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gg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of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e nodes &amp; 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hand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133360" cy="21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5410080" y="3733920"/>
          <a:ext cx="3476880" cy="24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733920"/>
                    <a:ext cx="347688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581280" y="5410080"/>
            <a:ext cx="1143000" cy="685800"/>
          </a:xfrm>
          <a:prstGeom prst="irregularSeal1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njamin B. Bederson</cp:lastModifiedBy>
  <dcterms:modified xsi:type="dcterms:W3CDTF">2004-08-03T13:38:4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