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EF1-171A-43F0-B8B0-CE4439A4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BA2-48D4-448B-8734-BA94F146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63C-B914-4F7A-A73A-AE66D2F2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394-9E74-45BC-9F36-FBD167C1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5B8-AC77-4F53-99F1-A4A9FCF6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AC3-B136-4E26-9FC2-360DC1DB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CCC-8D92-49C0-A0E7-A8804B6A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B1A-C223-4476-8BDE-460731F4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2AF-82B4-44CB-AA90-82DF105F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5BC-A49E-4C0C-9390-D682C7F4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BCA-5312-4609-A33C-48E3BFA4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9B9-C1B0-47D7-A6E2-10B2318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1E47-DC98-4E2B-9CEF-EFF0E947E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781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sual Analytics Challenge</a:t>
            </a:r>
            <a:br>
              <a:rPr sz="2400"/>
            </a:br>
            <a:br>
              <a:rPr sz="4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submission category of the IEEE VAST 2009 Symposi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 rot="16941600">
            <a:off x="1066680" y="1131480"/>
            <a:ext cx="1352520" cy="1762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"/>
          <p:cNvPicPr/>
          <p:nvPr/>
        </p:nvPicPr>
        <p:blipFill>
          <a:blip r:embed="rId2"/>
          <a:stretch/>
        </p:blipFill>
        <p:spPr>
          <a:xfrm>
            <a:off x="1219320" y="3149640"/>
            <a:ext cx="137160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2971800" y="1584360"/>
            <a:ext cx="38545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think you can analyze JUST ONE of these data se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ocial network with a geographical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traffi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we have DATA and REPRESENTATIVE TASKS for YOU!  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ubmit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-Challen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y for any of these tas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n pull all that data together and analyze the overall situation THEN you can submit to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 Challeng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              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ies will be judged on the ACCURACY of the answer (compared to our ground truth scenario) and the SUBJECTIVE RATINGS given by Visual Analytics peer reviewers and by professional analy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deserving entries receive awards, have their two-page  summary PUBLISHED in the PROCEEDINGS of the VAST 2009 Symposium and may participate in a panel at the Confere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ubmitted entries have their two-page summary, answers and descriptive materials PUBLISHED on an archival website at NIST (National Institute of Standards and Technolog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s submitting an entry are invited to a Challenge WORKSHOP to discuss the results of the Challenge, compare their experiences, and influence next year's Challen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2583000" y="56386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cs.umd.edu/hcil/VASTchallenge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6"/>
          <p:cNvSpPr/>
          <p:nvPr/>
        </p:nvSpPr>
        <p:spPr>
          <a:xfrm>
            <a:off x="7086600" y="2314440"/>
            <a:ext cx="19810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mportant Dates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une 20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Submissions d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gust  1 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sults announc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10 - 16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hallenge Workshop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and VAST 2009 Sympos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VAST Challenge Chairs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orges Grinstei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U. of Massachusetts, L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therine Plaisa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ean Scholtz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acific Northwest National La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k Whiting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acific Northwest National La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3"/>
          <a:srcRect l="10767" t="12981" r="15411" b="17064"/>
          <a:stretch/>
        </p:blipFill>
        <p:spPr>
          <a:xfrm rot="1484400">
            <a:off x="304920" y="4140360"/>
            <a:ext cx="190476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 rot="20735400">
            <a:off x="304920" y="2463480"/>
            <a:ext cx="1476360" cy="85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red_logo.jpg"/>
          <p:cNvPicPr/>
          <p:nvPr/>
        </p:nvPicPr>
        <p:blipFill>
          <a:blip r:embed="rId5"/>
          <a:srcRect l="0" t="20960" r="0" b="9174"/>
          <a:stretch/>
        </p:blipFill>
        <p:spPr>
          <a:xfrm>
            <a:off x="6356520" y="304920"/>
            <a:ext cx="2438280" cy="76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logo3"/>
          <p:cNvPicPr/>
          <p:nvPr/>
        </p:nvPicPr>
        <p:blipFill>
          <a:blip r:embed="rId6"/>
          <a:stretch/>
        </p:blipFill>
        <p:spPr>
          <a:xfrm>
            <a:off x="6400800" y="6172200"/>
            <a:ext cx="2409840" cy="4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mage004"/>
          <p:cNvPicPr/>
          <p:nvPr/>
        </p:nvPicPr>
        <p:blipFill>
          <a:blip r:embed="rId7"/>
          <a:srcRect l="51232" t="8769" r="2793" b="50883"/>
          <a:stretch/>
        </p:blipFill>
        <p:spPr>
          <a:xfrm rot="20882400">
            <a:off x="914040" y="5207040"/>
            <a:ext cx="158580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19:51Z</dcterms:created>
  <dc:creator>sreddy</dc:creator>
  <dc:description/>
  <dc:language>en-US</dc:language>
  <cp:lastModifiedBy>sreddy</cp:lastModifiedBy>
  <dcterms:modified xsi:type="dcterms:W3CDTF">2009-04-06T17:54:51Z</dcterms:modified>
  <cp:revision>15</cp:revision>
  <dc:subject/>
  <dc:title>Slide 1</dc:title>
</cp:coreProperties>
</file>