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66EF-7AEF-4669-A18D-706CCFF01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3A95-460F-42EE-9D19-6E1F550B0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8A1F-3FF0-4809-8141-F11260893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5184-3826-4ACA-A1D2-4D64429D6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E81E-33B7-469A-9BA6-4F55168ED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AEEE-EA4B-4E9C-A185-E14DED8A8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54D4-61DD-471F-95C2-47B8D7235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1FE3-A46E-4E16-9528-03F6B9996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FA59-90A5-4C1A-949C-3DC8E974E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3BCF-E1A1-42E2-9B57-F6FDD842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A05D-71A9-4EC6-8E36-52345C35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0723-5C89-4A7F-AAE0-0ED0B10B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A31B8-FC5B-4C20-BC92-ECA1B9BAB9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67816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isual Analytics Challenge</a:t>
            </a:r>
            <a:br>
              <a:rPr sz="2400"/>
            </a:br>
            <a:br>
              <a:rPr sz="4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 submission category of the IEEE VAST 2009 Symposiu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5" descr=""/>
          <p:cNvPicPr/>
          <p:nvPr/>
        </p:nvPicPr>
        <p:blipFill>
          <a:blip r:embed="rId1"/>
          <a:stretch/>
        </p:blipFill>
        <p:spPr>
          <a:xfrm rot="16941600">
            <a:off x="1066680" y="1131480"/>
            <a:ext cx="1352520" cy="1762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2" descr=""/>
          <p:cNvPicPr/>
          <p:nvPr/>
        </p:nvPicPr>
        <p:blipFill>
          <a:blip r:embed="rId2"/>
          <a:stretch/>
        </p:blipFill>
        <p:spPr>
          <a:xfrm>
            <a:off x="1219320" y="3149640"/>
            <a:ext cx="1371600" cy="1158840"/>
          </a:xfrm>
          <a:prstGeom prst="rect">
            <a:avLst/>
          </a:prstGeom>
          <a:ln w="0">
            <a:noFill/>
          </a:ln>
        </p:spPr>
      </p:pic>
      <p:sp>
        <p:nvSpPr>
          <p:cNvPr id="44" name="TextBox 14"/>
          <p:cNvSpPr/>
          <p:nvPr/>
        </p:nvSpPr>
        <p:spPr>
          <a:xfrm>
            <a:off x="2971800" y="1584360"/>
            <a:ext cx="385452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you think you can analyze JUST ONE of these data se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ocial network with a geographical compon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picious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et traffic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de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we have DATA and REPRESENTATIVE TASKS for YOU!     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can submit a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-Challeng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ry for any of these task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you can pull all that data together and analyze the overall situation THEN you can submit to the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nd Challeng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                 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ies will be judged on the ACCURACY of the answer (compared to our ground truth scenario) and the SUBJECTIVE RATINGS given by Visual Analytics peer reviewers and by professional analys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ost deserving entries receive awards, have their two-page  summary PUBLISHED in the PROCEEDINGS of the VAST 2009 Symposium and may participate in a panel at the Conferen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submitted entries have their two-page summary, answers and descriptive materials PUBLISHED on an archival website at NIST (National Institute of Standards and Technology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ms submitting an entry are invited to a Challenge WORKSHOP to discuss the results of the Challenge, compare their experiences, and influence next year's Challeng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5"/>
          <p:cNvSpPr/>
          <p:nvPr/>
        </p:nvSpPr>
        <p:spPr>
          <a:xfrm>
            <a:off x="2583000" y="563868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ww.cs.umd.edu/hcil/VASTchallenge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6"/>
          <p:cNvSpPr/>
          <p:nvPr/>
        </p:nvSpPr>
        <p:spPr>
          <a:xfrm>
            <a:off x="7086600" y="2314440"/>
            <a:ext cx="1981080" cy="32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Important Dates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June 20</a:t>
            </a:r>
            <a:br>
              <a:rPr sz="900"/>
            </a:b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 Submissions du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ugust  1  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Results announc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ctober 10 - 16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Challenge Workshop</a:t>
            </a:r>
            <a:br>
              <a:rPr sz="900"/>
            </a:b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 and VAST 2009 Symposi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VAST Challenge Chairs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eorges Grinstein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U. of Massachusetts, Lowe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atherine Plaisant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University of Mary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Jean Scholtz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Pacific Northwest National Lab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rk Whiting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Pacific Northwest National La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3"/>
          <a:srcRect l="10767" t="12981" r="15411" b="17064"/>
          <a:stretch/>
        </p:blipFill>
        <p:spPr>
          <a:xfrm rot="1484400">
            <a:off x="304920" y="4140360"/>
            <a:ext cx="1904760" cy="1066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"/>
          <p:cNvPicPr/>
          <p:nvPr/>
        </p:nvPicPr>
        <p:blipFill>
          <a:blip r:embed="rId4"/>
          <a:stretch/>
        </p:blipFill>
        <p:spPr>
          <a:xfrm rot="20735400">
            <a:off x="304920" y="2463480"/>
            <a:ext cx="1476360" cy="852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0" descr="red_logo.jpg"/>
          <p:cNvPicPr/>
          <p:nvPr/>
        </p:nvPicPr>
        <p:blipFill>
          <a:blip r:embed="rId5"/>
          <a:srcRect l="0" t="20960" r="0" b="9174"/>
          <a:stretch/>
        </p:blipFill>
        <p:spPr>
          <a:xfrm>
            <a:off x="6356520" y="304920"/>
            <a:ext cx="2438280" cy="761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logo3"/>
          <p:cNvPicPr/>
          <p:nvPr/>
        </p:nvPicPr>
        <p:blipFill>
          <a:blip r:embed="rId6"/>
          <a:stretch/>
        </p:blipFill>
        <p:spPr>
          <a:xfrm>
            <a:off x="6400800" y="6172200"/>
            <a:ext cx="2409840" cy="452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image004"/>
          <p:cNvPicPr/>
          <p:nvPr/>
        </p:nvPicPr>
        <p:blipFill>
          <a:blip r:embed="rId7"/>
          <a:srcRect l="51232" t="8769" r="2793" b="50883"/>
          <a:stretch/>
        </p:blipFill>
        <p:spPr>
          <a:xfrm rot="20882400">
            <a:off x="914040" y="5207040"/>
            <a:ext cx="1585800" cy="10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2T15:19:51Z</dcterms:created>
  <dc:creator>sreddy</dc:creator>
  <dc:description/>
  <dc:language>en-US</dc:language>
  <cp:lastModifiedBy>sreddy</cp:lastModifiedBy>
  <dcterms:modified xsi:type="dcterms:W3CDTF">2009-04-06T17:54:51Z</dcterms:modified>
  <cp:revision>15</cp:revision>
  <dc:subject/>
  <dc:title>Slide 1</dc:title>
</cp:coreProperties>
</file>