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335800" y="6254640"/>
            <a:ext cx="50328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PhotoQuery 1983</a:t>
            </a:r>
            <a:r>
              <a:rPr b="1" i="1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           The Interactive Encyclopedia System 1984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30960" y="25146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447920"/>
            <a:ext cx="6858000" cy="5181480"/>
          </a:xfrm>
          <a:prstGeom prst="roundRect">
            <a:avLst>
              <a:gd name="adj" fmla="val 16667"/>
            </a:avLst>
          </a:prstGeom>
          <a:solidFill>
            <a:srgbClr val="081d58"/>
          </a:solidFill>
          <a:ln w="54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05120"/>
            <a:ext cx="647712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PHOTO-22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Sholem Asch, Isaac Leib Peretz, Peretz's son Lucjan, and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Hersh David Nomberg on an outing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Would you like detailed information on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1. ASCH, SHOLEM (1880-1957) - AUTH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2. NOMBERG. HERSH DOVID (1876-1927) - AUTH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3. PERETZ, ISAAC LEIB (1852-1915) - POET AND WRI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4. PERETZ, LUCJAN (1878-1942) - LAWY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Q. QUIT SESS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R. RETURN TO PREVIOUS SELEC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Please enter a single number or letter: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PhotoQuery 1983 </a:t>
            </a:r>
            <a:r>
              <a:rPr b="1" i="1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           The Interactive Encyclopedia System 1984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14300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0960" y="25146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447920"/>
            <a:ext cx="6858000" cy="5181480"/>
          </a:xfrm>
          <a:prstGeom prst="roundRect">
            <a:avLst>
              <a:gd name="adj" fmla="val 16667"/>
            </a:avLst>
          </a:prstGeom>
          <a:solidFill>
            <a:srgbClr val="081d58"/>
          </a:solidFill>
          <a:ln w="54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905120"/>
            <a:ext cx="647712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PHOTO-2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Four writers on an outing included the famed author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Sholem Asch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(1880-1957), the poet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Isaac Leib Peretz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(1852-1915), Peretz's son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Lucjan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(1878-1942), an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the author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Hersh David Nomberg</a:t>
            </a: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(1876-1927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BACK  NEXT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          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5afcf8"/>
                </a:solidFill>
                <a:latin typeface="Courier New"/>
                <a:ea typeface="Times New Roman"/>
              </a:rPr>
              <a:t>EXT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ies: Smithsonian March’88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8380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8680" y="2286000"/>
            <a:ext cx="125388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1198440"/>
            <a:ext cx="3657600" cy="260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4019400"/>
            <a:ext cx="3657600" cy="261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373392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13980" r="0" b="0"/>
          <a:stretch/>
        </p:blipFill>
        <p:spPr>
          <a:xfrm>
            <a:off x="4495680" y="1219320"/>
            <a:ext cx="373392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ext on Hypertext – CACM July’88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8380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886200" cy="276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0" t="10575" r="0" b="0"/>
          <a:stretch/>
        </p:blipFill>
        <p:spPr>
          <a:xfrm>
            <a:off x="685800" y="1143000"/>
            <a:ext cx="3809880" cy="269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0" t="13286" r="0" b="0"/>
          <a:stretch/>
        </p:blipFill>
        <p:spPr>
          <a:xfrm>
            <a:off x="685800" y="4038480"/>
            <a:ext cx="3886200" cy="2651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0" t="13959" r="0" b="0"/>
          <a:stretch/>
        </p:blipFill>
        <p:spPr>
          <a:xfrm>
            <a:off x="4724280" y="4038480"/>
            <a:ext cx="3886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ies Applications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8380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397656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52880" y="1092240"/>
            <a:ext cx="3886200" cy="2793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7353" t="8781" r="3751" b="0"/>
          <a:stretch/>
        </p:blipFill>
        <p:spPr>
          <a:xfrm>
            <a:off x="4950000" y="4000680"/>
            <a:ext cx="3887640" cy="278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33520" y="1066680"/>
            <a:ext cx="403848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ies: Applications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8380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3886200" cy="28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3886200" cy="281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3886200" cy="281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38862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ies: Cognetics Demo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8380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962520" cy="27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657600" cy="276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3875040"/>
            <a:ext cx="3962520" cy="2830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181480" y="388620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Hyperties: HP LaserJet4 User Manual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880" y="91440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0" b="5127"/>
          <a:stretch/>
        </p:blipFill>
        <p:spPr>
          <a:xfrm>
            <a:off x="685800" y="1044720"/>
            <a:ext cx="3886200" cy="2765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5127"/>
          <a:stretch/>
        </p:blipFill>
        <p:spPr>
          <a:xfrm>
            <a:off x="4952880" y="990720"/>
            <a:ext cx="3886200" cy="2765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0" b="4938"/>
          <a:stretch/>
        </p:blipFill>
        <p:spPr>
          <a:xfrm>
            <a:off x="685800" y="3933720"/>
            <a:ext cx="3886200" cy="277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0" t="0" r="0" b="4402"/>
          <a:stretch/>
        </p:blipFill>
        <p:spPr>
          <a:xfrm>
            <a:off x="4952880" y="3919680"/>
            <a:ext cx="388620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cp:keywords/>
  <dc:language>en-US</dc:language>
  <cp:lastModifiedBy>Ben Shneiderman</cp:lastModifiedBy>
  <cp:lastPrinted>1997-05-20T18:11:40Z</cp:lastPrinted>
  <dcterms:modified xsi:type="dcterms:W3CDTF">2006-12-15T13:56:11Z</dcterms:modified>
  <cp:revision>160</cp:revision>
  <dc:subject/>
  <dc:title>Relate-Create-Donate:  Educational strategies for the post-TV era  Ben Shneiderman  Head, Human-Computer Interaction Laboratory Professor, Department of Computer Science Member, Institute for Systems Research  University of Maryland College Park, </dc:title>
</cp:coreProperties>
</file>