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D1-71F7-447D-B312-E3C6BC4D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F2E-149F-4F69-91FF-434B612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A05-9831-4B70-AAB8-59E48F07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426-7A44-4C93-84A6-92F23729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976-6A00-4C9E-965F-6EA7908D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A14-922B-460A-889D-FD2395F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1D9-A084-4482-9AF5-397268F3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5EE-FBC6-487F-95D5-80A6DD7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271-F8DC-4258-96D6-4F47FD56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9C6-4B7D-4C0C-A702-AC714EC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4C1-B66C-4D70-9AF4-69E29A8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55C-DD8E-4FB5-A666-71BB0D31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E4EAF-72A8-4872-AD85-89663623A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962000"/>
            <a:ext cx="9144000" cy="263376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0140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feFlow Case Stud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How do people read children books onli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3233880"/>
            <a:ext cx="77724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This case study was conducted by Krist Wongsuphasawat and Hsueh-Chien Cheng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under the supervision of Ben Shneiderman and Catherine Plaisa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We appreciated the feedback from Anne Rose of the ICDL. 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Last updated: Nov 22, 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CIL_logoSmallNoBorder.png"/>
          <p:cNvPicPr/>
          <p:nvPr/>
        </p:nvPicPr>
        <p:blipFill>
          <a:blip r:embed="rId2"/>
          <a:stretch/>
        </p:blipFill>
        <p:spPr>
          <a:xfrm>
            <a:off x="193680" y="184320"/>
            <a:ext cx="69696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962640" y="243000"/>
            <a:ext cx="282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-Computer Interaction La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aryl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665040" y="6410160"/>
            <a:ext cx="23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  <a:ea typeface="Arial"/>
              </a:rPr>
              <a:t>http://www.cs.umd.edu/hcil/lifeflo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LifeFlow Case Study_ ICDL Web Logs-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LifeFlow Case Study_ ICDL Web Logs-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LifeFlow Case Study_ ICDL Web Log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ifeFlow Case Study_ ICDL Web Logs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ifeFlow Case Study_ ICDL Web Logs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ifeFlow Case Study_ ICDL Web Logs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feFlow Case Study_ ICDL Web Logs-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ifeFlow Case Study_ ICDL Web Logs-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ifeFlow Case Study_ ICDL Web Logs-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LifeFlow Case Study_ ICDL Web Logs-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0:33:09Z</dcterms:created>
  <dc:creator>Krist Wongsuphasawat</dc:creator>
  <dc:description/>
  <dc:language>en-US</dc:language>
  <cp:lastModifiedBy>Krist Wongsuphasawat</cp:lastModifiedBy>
  <dcterms:modified xsi:type="dcterms:W3CDTF">2012-02-13T03:41:05Z</dcterms:modified>
  <cp:revision>6</cp:revision>
  <dc:subject/>
  <dc:title>LifeFlow Case Study:  How do people read children books online?</dc:title>
</cp:coreProperties>
</file>