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C0490-C2E3-4A72-A364-C188C9CF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A504-6CB3-4D8B-8A62-7B923794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82E8-3282-446A-B7D3-D41CA108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5540-9F54-4CF1-883B-9E713893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CC83-5072-42D5-A13F-6A7050D3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27F4-CF3C-4008-AC0A-8B651E42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536E-33BC-4E3C-A789-822539E5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B763-D1AF-42CE-B4AB-E1F7C4B2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76CE-372B-47D3-A502-76C289FF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EC1F-2E32-44C5-8D7C-674C5BCF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D54F-0566-4CB5-BBE3-2C832985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6C93-D7D4-408F-8EF5-8234AE75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FC79-1AB0-4C4C-A93C-F4B428FA9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285840" cy="22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6f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2920" y="971640"/>
            <a:ext cx="8731080" cy="11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9680" y="971640"/>
            <a:ext cx="13788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914400"/>
            <a:ext cx="139680" cy="5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7560" y="971640"/>
            <a:ext cx="139680" cy="58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74680" y="1028880"/>
            <a:ext cx="13644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09680" y="1028880"/>
            <a:ext cx="137880" cy="56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74680" y="1085760"/>
            <a:ext cx="136440" cy="5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609840" cy="457200"/>
          </a:xfrm>
          <a:prstGeom prst="rect">
            <a:avLst/>
          </a:prstGeom>
          <a:ln w="15840">
            <a:solidFill>
              <a:srgbClr val="c0c0c0"/>
            </a:solidFill>
            <a:miter/>
          </a:ln>
        </p:spPr>
      </p:pic>
      <p:sp>
        <p:nvSpPr>
          <p:cNvPr id="14" name=""/>
          <p:cNvSpPr/>
          <p:nvPr/>
        </p:nvSpPr>
        <p:spPr>
          <a:xfrm>
            <a:off x="133200" y="952560"/>
            <a:ext cx="152640" cy="152280"/>
          </a:xfrm>
          <a:prstGeom prst="ellipse">
            <a:avLst/>
          </a:prstGeom>
          <a:solidFill>
            <a:srgbClr val="e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sability.gov/pdfs/guidelines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1142640"/>
            <a:ext cx="90676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CI Research Methods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Shneiderman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ben@cs.umd.edu</a:t>
            </a:r>
            <a:br>
              <a:rPr sz="2800"/>
            </a:b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ing Director (1983-2000), Human-Computer Interaction La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, Department of Computer Scie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, Institute for Advanced Computer Studies</a:t>
            </a:r>
            <a:br>
              <a:rPr sz="2400"/>
            </a:br>
            <a:br>
              <a:rPr sz="28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Park, MD 207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Welcome &#10;to the University of Maryland"/>
          <p:cNvPicPr/>
          <p:nvPr/>
        </p:nvPicPr>
        <p:blipFill>
          <a:blip r:embed="rId1"/>
          <a:stretch/>
        </p:blipFill>
        <p:spPr>
          <a:xfrm>
            <a:off x="2362320" y="5715000"/>
            <a:ext cx="43146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delines Document an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process for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 decisions for all parties to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s consistency and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s automation of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contain philosophy and examples of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title screens, menus, forms, buttons, graphic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cons, fonts, colors, instructions, help, tutorial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rror messag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levels are desirable: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standards, practices,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catio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orcemen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emption &amp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anc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t Reviews and Usa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product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developmen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edictable development life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organizational re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morale: staff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t Re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enced revie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every screen, menu, dialog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t inconsistencies and anoma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 ad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iplined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uristic evaluation: check if goals are being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lines review: verify adh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cy inspection: terms, layout, color, 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gnitive walkthrough: pretend to be a user follow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inspection: public presentation and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place and permanent staff v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discount usa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attention on user interfac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s iterativ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test of pape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prototyp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ment of 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of manuals, online help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orous acceptanc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participate from early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partners, not "the enem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umas &amp; Redish, 1999; Nielsen,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114800" y="1371600"/>
            <a:ext cx="4809960" cy="4419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280" y="1066680"/>
            <a:ext cx="38102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Usability testing not only speeds up projects but it produces dramatic cost sav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articipants should represent the intended user commun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background in computing, experience with the task, motivation, education, &amp; ability with the natural language used in th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Videota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valuable for later review &amp; for showing designers or managers the problems that users encoun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Many variant forms of usability testing have been tr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aper mock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iscount usa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mpetitive usa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Universal usa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eld test and portable l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Remote usa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an-you-break-thi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0" y="3325680"/>
            <a:ext cx="4038480" cy="2008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ability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ographic Observational Sit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ographic Observational Sit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Exper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Doing Their Own Wor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for Weeks &amp;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ographic Observational Sit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743560" y="4433760"/>
            <a:ext cx="356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ntique Olv (W1)"/>
              </a:rPr>
              <a:t>MILC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96520" y="628668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v (W1)"/>
              </a:rPr>
              <a:t>Shneiderman &amp; Plaisant, </a:t>
            </a:r>
            <a:r>
              <a:rPr b="1" i="1" lang="en-US" sz="1800" spc="-1" strike="noStrike">
                <a:solidFill>
                  <a:srgbClr val="000000"/>
                </a:solidFill>
                <a:latin typeface="Antique Olv (W1)"/>
              </a:rPr>
              <a:t>BeLIV workshop</a:t>
            </a:r>
            <a:r>
              <a:rPr b="1" lang="en-US" sz="1800" spc="-1" strike="noStrike">
                <a:solidFill>
                  <a:srgbClr val="000000"/>
                </a:solidFill>
                <a:latin typeface="Antique Olv (W1)"/>
              </a:rPr>
              <a:t>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LC examp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ierarch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lustering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on rank-by-featur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ase studies, 4-8 week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molecular biologist, statistician, meteorolo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 email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problems early, gave strong positive feedback about benefits of rank-by-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776240" y="6338880"/>
            <a:ext cx="47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v (W1)"/>
              </a:rPr>
              <a:t>Seo &amp; Shneiderman, </a:t>
            </a:r>
            <a:r>
              <a:rPr b="1" i="1" lang="en-US" sz="1800" spc="-1" strike="noStrike">
                <a:solidFill>
                  <a:srgbClr val="000000"/>
                </a:solidFill>
                <a:latin typeface="Antique Olv (W1)"/>
              </a:rPr>
              <a:t>IEEE TVCG</a:t>
            </a:r>
            <a:r>
              <a:rPr b="1" lang="en-US" sz="1800" spc="-1" strike="noStrike">
                <a:solidFill>
                  <a:srgbClr val="000000"/>
                </a:solidFill>
                <a:latin typeface="Antique Olv (W1)"/>
              </a:rPr>
              <a:t> 12,3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rcRect l="0" t="3462" r="0" b="2786"/>
          <a:stretch/>
        </p:blipFill>
        <p:spPr>
          <a:xfrm>
            <a:off x="4495680" y="152280"/>
            <a:ext cx="4648320" cy="34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Appro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beyond user friend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users an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and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huma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tention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ubjective satisfa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Questionnaire for User Interface Satisf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modate individu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cial, organizational &amp; cultur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800600" y="456840"/>
            <a:ext cx="3733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380880"/>
            <a:ext cx="37339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LC examp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Social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on integrating statistics &amp; vis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case studies, 4-8 week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journalist, bibliometrician, terrorist analys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organizational analy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desired features, gave strong positive feedback about benefits of inte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646000" y="649116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v (W1)"/>
              </a:rPr>
              <a:t>Perer &amp; Shneiderman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27276" t="35961" r="17426" b="17011"/>
          <a:stretch/>
        </p:blipFill>
        <p:spPr>
          <a:xfrm>
            <a:off x="3124080" y="1193760"/>
            <a:ext cx="594360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Study Method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Interview (1 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raining (2 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Early Use (2-4 wee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Mature Use (2-4 wee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Outcome (1 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ientific Method - Controlled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al Problem &amp; Existing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a Lucid &amp; testabl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 a small number of independent variabl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(treat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&amp; assign su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other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 small number depend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y statistical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dance for practitioners, refine theory, advice for experim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ientific Method - Controlled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ctical Problem &amp; Existing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a Lucid &amp; testabl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 a small number of independent variabl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(treat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&amp; assign su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other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 small number depend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y statistical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dance for practitioners, refine theory, advice for experim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81080"/>
            <a:ext cx="8534520" cy="32004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1905120"/>
            <a:ext cx="3657600" cy="1143000"/>
          </a:xfrm>
          <a:prstGeom prst="upArrowCallout">
            <a:avLst>
              <a:gd name="adj1" fmla="val 80007"/>
              <a:gd name="adj2" fmla="val 80000"/>
              <a:gd name="adj3" fmla="val 16667"/>
              <a:gd name="adj4" fmla="val 66660"/>
            </a:avLst>
          </a:prstGeom>
          <a:solidFill>
            <a:srgbClr val="99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Two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4038480"/>
            <a:ext cx="4648320" cy="1067040"/>
          </a:xfrm>
          <a:prstGeom prst="downArrowCallout">
            <a:avLst>
              <a:gd name="adj1" fmla="val 108917"/>
              <a:gd name="adj2" fmla="val 108907"/>
              <a:gd name="adj3" fmla="val 16667"/>
              <a:gd name="adj4" fmla="val 66667"/>
            </a:avLst>
          </a:prstGeom>
          <a:solidFill>
            <a:srgbClr val="99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Three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-driven, 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Independent Variabl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easure Dependent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nographic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s &amp; Questionnai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ing &amp; Automated Metr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48040" y="617220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otal.umd.edu/char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bility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Centered Desig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Documents an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-based (NCI, 2003)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Courier New"/>
                <a:hlinkClick r:id="rId1"/>
              </a:rPr>
              <a:t>www.usability.gov/pdfs/guidelines.html</a:t>
            </a:r>
            <a:br>
              <a:rPr sz="2000"/>
            </a:br>
            <a:r>
              <a:rPr b="0" lang="en-US" sz="2000" spc="-1" strike="noStrike" u="sng">
                <a:solidFill>
                  <a:srgbClr val="666699"/>
                </a:solidFill>
                <a:uFillTx/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 Building Too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Reviews and Usa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ocess – Data 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066680"/>
            <a:ext cx="8534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ographic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-base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Impact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ocess - LU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371600"/>
            <a:ext cx="83822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tique Olv (W1)"/>
                <a:ea typeface="Arial"/>
              </a:rPr>
              <a:t>Management strategy to highlight usability engine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tique Olv (W1)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ntique Olv (W1)"/>
                <a:ea typeface="Arial"/>
              </a:rPr>
              <a:t>Processes, Deliverables, and Review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ique Olv (W1)"/>
              </a:rPr>
              <a:t>Stages for LU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1: </a:t>
            </a:r>
            <a:r>
              <a:rPr b="1" lang="en-US" sz="2400" spc="-1" strike="noStrike">
                <a:solidFill>
                  <a:srgbClr val="000000"/>
                </a:solidFill>
                <a:latin typeface="Antique Olv (W1)"/>
              </a:rPr>
              <a:t>Envision: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 Develop product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2: </a:t>
            </a:r>
            <a:r>
              <a:rPr b="1" lang="en-US" sz="2400" spc="-1" strike="noStrike">
                <a:solidFill>
                  <a:srgbClr val="000000"/>
                </a:solidFill>
                <a:latin typeface="Antique Olv (W1)"/>
              </a:rPr>
              <a:t>Discovery: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Perform research and need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3: </a:t>
            </a:r>
            <a:r>
              <a:rPr b="1" lang="en-US" sz="2400" spc="-1" strike="noStrike">
                <a:solidFill>
                  <a:srgbClr val="000000"/>
                </a:solidFill>
                <a:latin typeface="Antique Olv (W1)"/>
              </a:rPr>
              <a:t>Design Foundation: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Design concepts &amp; key 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4: </a:t>
            </a:r>
            <a:r>
              <a:rPr b="1" lang="en-US" sz="2400" spc="-1" strike="noStrike">
                <a:solidFill>
                  <a:srgbClr val="000000"/>
                </a:solidFill>
                <a:latin typeface="Antique Olv (W1)"/>
              </a:rPr>
              <a:t>Design Detail: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Do iterative design and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5: </a:t>
            </a:r>
            <a:r>
              <a:rPr b="1" lang="en-US" sz="2400" spc="-1" strike="noStrike">
                <a:solidFill>
                  <a:srgbClr val="000000"/>
                </a:solidFill>
                <a:latin typeface="Antique Olv (W1)"/>
              </a:rPr>
              <a:t>Build: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Implement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6: </a:t>
            </a:r>
            <a:r>
              <a:rPr b="1" lang="en-US" sz="2400" spc="-1" strike="noStrike">
                <a:solidFill>
                  <a:srgbClr val="000000"/>
                </a:solidFill>
                <a:latin typeface="Antique Olv (W1)"/>
              </a:rPr>
              <a:t>Release:</a:t>
            </a: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 Provide rollou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gnetics Corp   www.cognetics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ocess - Contextua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5591160"/>
            <a:ext cx="83822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Karen Holtzblatt &amp; Hugh Beyer   www.incent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7021" t="45490" r="26541" b="9747"/>
          <a:stretch/>
        </p:blipFill>
        <p:spPr>
          <a:xfrm>
            <a:off x="1905120" y="1371600"/>
            <a:ext cx="4800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0:17:30Z</dcterms:created>
  <dc:creator>Benjamin B. Bederson</dc:creator>
  <dc:description/>
  <dc:language>en-US</dc:language>
  <cp:lastModifiedBy>Ben Shneiderman</cp:lastModifiedBy>
  <dcterms:modified xsi:type="dcterms:W3CDTF">2008-02-21T15:55:49Z</dcterms:modified>
  <cp:revision>189</cp:revision>
  <dc:subject/>
  <dc:title>Voting System Technologies</dc:title>
</cp:coreProperties>
</file>