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1.jpeg" ContentType="image/jpeg"/>
  <Override PartName="/ppt/media/image9.png" ContentType="image/png"/>
  <Override PartName="/ppt/media/image10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jpeg" ContentType="image/jpeg"/>
  <Override PartName="/ppt/media/image36.wmf" ContentType="image/x-wmf"/>
  <Override PartName="/ppt/media/image40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6932-1A4A-4AC4-8171-BC5A2415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FA14-E5D9-4CE8-8A04-467CF049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FCF4-F526-4BC7-8EE1-728D90CD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C779-B91C-4203-9EE2-A47EE101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CF0D-7224-4640-B55D-C918FF69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ADB-A6E3-498B-B0AC-BB010E12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FF48-4025-4181-A40B-E20F932F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5C75-4EC6-43A9-9975-DC2104C8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14B9-7A0F-423E-B471-5CDA3323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66C6-6FBD-4577-AFCC-95F89852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493E-FEE9-416C-99AB-8C225878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DAF9-AD03-4174-9354-15796141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35D4-55A4-462A-82F6-83905EAE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C89D-DE81-4A21-8FC6-EE1434BE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E90F-5B12-4786-B10B-215309AE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2CAE-6235-4774-8DCC-E4A09773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4D3F-F8D8-4B28-8982-C9E60903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CA0A-E303-4DC7-A37B-FA80B177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A3BA-7079-443F-A6A2-4BB14D6E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CAC4-39DE-4933-A202-DBE622A7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F496-FD00-46AC-B976-4B35F216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772B-5405-4E32-B272-6E26E12B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5B8D-A5BF-4DDB-85C6-336DD02F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E70F-0AF7-4D23-A171-4285715B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9D6A-DC4E-40BE-AF18-9B5ABA494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285840" cy="22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6f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971640"/>
            <a:ext cx="8731080" cy="11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9680" y="971640"/>
            <a:ext cx="13788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914400"/>
            <a:ext cx="139680" cy="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971640"/>
            <a:ext cx="139680" cy="5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4680" y="1028880"/>
            <a:ext cx="136440" cy="5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09680" y="1028880"/>
            <a:ext cx="137880" cy="56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74680" y="1085760"/>
            <a:ext cx="136440" cy="57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503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609840" cy="457200"/>
          </a:xfrm>
          <a:prstGeom prst="rect">
            <a:avLst/>
          </a:prstGeom>
          <a:ln w="15840">
            <a:solidFill>
              <a:srgbClr val="c0c0c0"/>
            </a:solidFill>
            <a:miter/>
          </a:ln>
        </p:spPr>
      </p:pic>
      <p:sp>
        <p:nvSpPr>
          <p:cNvPr id="14" name=""/>
          <p:cNvSpPr/>
          <p:nvPr/>
        </p:nvSpPr>
        <p:spPr>
          <a:xfrm>
            <a:off x="133200" y="952560"/>
            <a:ext cx="152640" cy="152280"/>
          </a:xfrm>
          <a:prstGeom prst="ellipse">
            <a:avLst/>
          </a:prstGeom>
          <a:solidFill>
            <a:srgbClr val="e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C6E5-D6B8-4B7C-A48E-7343D961B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503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5032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hyperlink" Target="http://www.museoscienza.org/english/leonardo/img/citta1_d.jpg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nsf.gov/start.ht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ils.unc.edu/idl/index.html" TargetMode="External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onardo’s Laptop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Needs and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Computing Technologies</a:t>
            </a:r>
            <a:br>
              <a:rPr sz="3600"/>
            </a:br>
            <a:br>
              <a:rPr sz="2000"/>
            </a:br>
            <a:br>
              <a:rPr sz="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Shneiderman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en@cs.umd.edu</a:t>
            </a:r>
            <a:br>
              <a:rPr sz="20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ing Director (1983-2000), Human-Computer Interaction La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, Department of Computer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, Institutes for Advanced Computer Studies &am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Research</a:t>
            </a:r>
            <a:br>
              <a:rPr sz="18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 Park, MD 20742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Welcome &#10;to the University of Maryland"/>
          <p:cNvPicPr/>
          <p:nvPr/>
        </p:nvPicPr>
        <p:blipFill>
          <a:blip r:embed="rId1"/>
          <a:stretch/>
        </p:blipFill>
        <p:spPr>
          <a:xfrm>
            <a:off x="2362320" y="5505480"/>
            <a:ext cx="43146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tional Children’s Digital Lib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994" t="15151" r="3508" b="1514"/>
          <a:stretch/>
        </p:blipFill>
        <p:spPr>
          <a:xfrm>
            <a:off x="762120" y="1204920"/>
            <a:ext cx="739116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oming Us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1800360" cy="2400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71360" y="622296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cs.umd.edu/jaz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010280" y="3695760"/>
            <a:ext cx="1800360" cy="2400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rcRect l="1092" t="15941" r="25582" b="25213"/>
          <a:stretch/>
        </p:blipFill>
        <p:spPr>
          <a:xfrm>
            <a:off x="380880" y="1371600"/>
            <a:ext cx="6324840" cy="4530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8120" y="624852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date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oming User Interfaces: Date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95160" y="641664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date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3932280" cy="502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y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indow of the sou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principal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which the central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most completel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ndantly apprec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inite works of 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452 - 15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87320" y="1219320"/>
            <a:ext cx="37083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526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10014" t="23804" r="0" b="23804"/>
          <a:stretch/>
        </p:blipFill>
        <p:spPr>
          <a:xfrm>
            <a:off x="5486400" y="0"/>
            <a:ext cx="34290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8937" r="24516" b="20446"/>
          <a:stretch/>
        </p:blipFill>
        <p:spPr>
          <a:xfrm>
            <a:off x="762120" y="1143000"/>
            <a:ext cx="73911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map: Stock market, industry clust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22860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map: News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14483" r="0" b="2760"/>
          <a:stretch/>
        </p:blipFill>
        <p:spPr>
          <a:xfrm>
            <a:off x="647640" y="1143000"/>
            <a:ext cx="834408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97000" y="64152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hivegrou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2860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map: Product cata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398" t="9756" r="6484" b="7317"/>
          <a:stretch/>
        </p:blipFill>
        <p:spPr>
          <a:xfrm>
            <a:off x="0" y="3124080"/>
            <a:ext cx="3624120" cy="3733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313080" y="1152360"/>
            <a:ext cx="58183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map: Gen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17611" t="25461" r="18532" b="20256"/>
          <a:stretch/>
        </p:blipFill>
        <p:spPr>
          <a:xfrm>
            <a:off x="898560" y="1141560"/>
            <a:ext cx="7365960" cy="4930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368440" y="644508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treema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14895" r="0" b="12764"/>
          <a:stretch/>
        </p:blipFill>
        <p:spPr>
          <a:xfrm>
            <a:off x="380880" y="0"/>
            <a:ext cx="7925040" cy="651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952880" y="3825720"/>
            <a:ext cx="3276720" cy="2727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748920" y="46080"/>
            <a:ext cx="218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f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81680" y="609480"/>
            <a:ext cx="2357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68800" y="65214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ww.cs.umd.edu/hcil/lifelin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3800" y="3962520"/>
            <a:ext cx="7000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disciplinary research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uter Science &amp;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formation Studies &amp;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www.cs.umd.edu/hcil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86080" y="120024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48240" y="1200240"/>
            <a:ext cx="24386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0"/>
            <a:ext cx="815328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onardo’s Lap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480" y="1041480"/>
            <a:ext cx="5956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computing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puters can 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New Comp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eople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4200" y="5027760"/>
            <a:ext cx="50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tpress.mit.edu/leonardoslap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899320" y="1192320"/>
            <a:ext cx="324468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72520"/>
            <a:ext cx="77724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spirational Mus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Leonardo da Vinci (1452-15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59200" y="1211040"/>
            <a:ext cx="609912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issance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science &amp;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engineering &amp; esth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technology advan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&amp; huma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visionary &amp;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2395800" cy="3335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1240" y="531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0" t="0" r="7724" b="0"/>
          <a:stretch/>
        </p:blipFill>
        <p:spPr>
          <a:xfrm>
            <a:off x="5657760" y="1036800"/>
            <a:ext cx="1903680" cy="2068200"/>
          </a:xfrm>
          <a:prstGeom prst="rect">
            <a:avLst/>
          </a:prstGeom>
          <a:ln w="22320">
            <a:solidFill>
              <a:srgbClr val="00007d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als for The New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17440" y="1168560"/>
            <a:ext cx="678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Usable: Reliab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compreh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Universal: Diverse user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&amp; varied equi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Useful: In harmony with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huma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0192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77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0" t="8506" r="0" b="19961"/>
          <a:stretch/>
        </p:blipFill>
        <p:spPr>
          <a:xfrm>
            <a:off x="6288120" y="2959200"/>
            <a:ext cx="2286000" cy="2022480"/>
          </a:xfrm>
          <a:prstGeom prst="rect">
            <a:avLst/>
          </a:prstGeom>
          <a:ln w="22320">
            <a:solidFill>
              <a:srgbClr val="00007d"/>
            </a:solidFill>
            <a:miter/>
          </a:ln>
        </p:spPr>
      </p:pic>
      <p:pic>
        <p:nvPicPr>
          <p:cNvPr id="204" name="" descr="">
            <a:hlinkClick r:id="rId3"/>
          </p:cNvPr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599080" y="4840200"/>
            <a:ext cx="1981080" cy="1676520"/>
          </a:xfrm>
          <a:prstGeom prst="rect">
            <a:avLst/>
          </a:prstGeom>
          <a:ln w="22320">
            <a:solidFill>
              <a:srgbClr val="0000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6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Usable: Ending User Frus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make computer usage less frust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p ten frust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severity &amp; frequency in los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he situation is improv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14600" y="4572000"/>
            <a:ext cx="4114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Time diar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812880"/>
            <a:ext cx="89154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reports &amp; observ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11 stud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session surve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experience and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mputer anxiety,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spend 2.5 hours (avera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heir frustrating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session surv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mood after th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rustratio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0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Frequent Frustrations (out of 3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09480" y="1380960"/>
            <a:ext cx="7696080" cy="4486320"/>
            <a:chOff x="609480" y="1380960"/>
            <a:chExt cx="7696080" cy="4486320"/>
          </a:xfrm>
        </p:grpSpPr>
        <p:grpSp>
          <p:nvGrpSpPr>
            <p:cNvPr id="212" name=""/>
            <p:cNvGrpSpPr/>
            <p:nvPr/>
          </p:nvGrpSpPr>
          <p:grpSpPr>
            <a:xfrm>
              <a:off x="615240" y="1383840"/>
              <a:ext cx="7683480" cy="4479840"/>
              <a:chOff x="615240" y="1383840"/>
              <a:chExt cx="7683480" cy="447984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15240" y="1383840"/>
                <a:ext cx="2861640" cy="580320"/>
                <a:chOff x="615240" y="1383840"/>
                <a:chExt cx="2861640" cy="58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43760" y="1383840"/>
                  <a:ext cx="2603880" cy="58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15240" y="1383840"/>
                  <a:ext cx="2861640" cy="58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477240" y="1383840"/>
                <a:ext cx="2087280" cy="580320"/>
                <a:chOff x="3477240" y="1383840"/>
                <a:chExt cx="2087280" cy="58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605760" y="1383840"/>
                  <a:ext cx="1829520" cy="58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pplica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477240" y="1383840"/>
                  <a:ext cx="2087280" cy="58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565240" y="1383840"/>
                <a:ext cx="2733480" cy="580320"/>
                <a:chOff x="5565240" y="1383840"/>
                <a:chExt cx="2733480" cy="58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693760" y="1383840"/>
                  <a:ext cx="2475720" cy="58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Operating System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65240" y="1383840"/>
                  <a:ext cx="2733480" cy="58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5240" y="1964160"/>
                <a:ext cx="2861640" cy="1101960"/>
                <a:chOff x="615240" y="1964160"/>
                <a:chExt cx="2861640" cy="11019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43760" y="1964160"/>
                  <a:ext cx="2603880" cy="11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d out/dropped/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fused connections (32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5240" y="1964160"/>
                  <a:ext cx="2861640" cy="11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477240" y="1964160"/>
                <a:ext cx="2087280" cy="1101960"/>
                <a:chOff x="3477240" y="1964160"/>
                <a:chExt cx="2087280" cy="1101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605760" y="1964160"/>
                  <a:ext cx="1829520" cy="11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ror messages (35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477240" y="1964160"/>
                  <a:ext cx="2087280" cy="11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565240" y="1964160"/>
                <a:ext cx="2733480" cy="1101960"/>
                <a:chOff x="5565240" y="1964160"/>
                <a:chExt cx="2733480" cy="11019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693760" y="1964160"/>
                  <a:ext cx="2475720" cy="11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rashes (16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65240" y="1964160"/>
                  <a:ext cx="2733480" cy="11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5240" y="3066120"/>
                <a:ext cx="2861640" cy="932400"/>
                <a:chOff x="615240" y="3066120"/>
                <a:chExt cx="2861640" cy="9324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43760" y="3066120"/>
                  <a:ext cx="260388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ng download time (23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5240" y="3066120"/>
                  <a:ext cx="286164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477240" y="3066120"/>
                <a:ext cx="2087280" cy="932400"/>
                <a:chOff x="3477240" y="3066120"/>
                <a:chExt cx="2087280" cy="9324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605760" y="3066120"/>
                  <a:ext cx="182952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reezes (24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77240" y="3066120"/>
                  <a:ext cx="208728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565240" y="3066120"/>
                <a:ext cx="2733480" cy="932400"/>
                <a:chOff x="5565240" y="3066120"/>
                <a:chExt cx="2733480" cy="9324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693760" y="3066120"/>
                  <a:ext cx="247572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rong response (10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565240" y="3066120"/>
                  <a:ext cx="273348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5240" y="3998520"/>
                <a:ext cx="2861640" cy="932760"/>
                <a:chOff x="615240" y="3998520"/>
                <a:chExt cx="2861640" cy="932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43760" y="3998520"/>
                  <a:ext cx="2603880" cy="93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eb page/site </a:t>
                  </a:r>
                  <a:br>
                    <a:rPr sz="1800"/>
                  </a:b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not found  (17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5240" y="3998520"/>
                  <a:ext cx="2861640" cy="93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477240" y="3998520"/>
                <a:ext cx="2087280" cy="932760"/>
                <a:chOff x="3477240" y="3998520"/>
                <a:chExt cx="2087280" cy="9327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605760" y="3998520"/>
                  <a:ext cx="1829520" cy="93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issing/ hard to   </a:t>
                  </a:r>
                  <a:br>
                    <a:rPr sz="1800"/>
                  </a:b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ind features (23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477240" y="3998520"/>
                  <a:ext cx="2087280" cy="93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565240" y="3998520"/>
                <a:ext cx="2733480" cy="932760"/>
                <a:chOff x="5565240" y="3998520"/>
                <a:chExt cx="2733480" cy="9327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693760" y="3998520"/>
                  <a:ext cx="2475720" cy="93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low response (8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565240" y="3998520"/>
                  <a:ext cx="2733480" cy="93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15240" y="4931280"/>
                <a:ext cx="2861640" cy="932400"/>
                <a:chOff x="615240" y="4931280"/>
                <a:chExt cx="2861640" cy="9324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43760" y="4931280"/>
                  <a:ext cx="260388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mail (15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15240" y="4931280"/>
                  <a:ext cx="286164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477240" y="4931280"/>
                <a:ext cx="2087280" cy="932400"/>
                <a:chOff x="3477240" y="4931280"/>
                <a:chExt cx="2087280" cy="9324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605760" y="4931280"/>
                  <a:ext cx="182952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rashes (13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477240" y="4931280"/>
                  <a:ext cx="208728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565240" y="4931280"/>
                <a:ext cx="2733480" cy="932400"/>
                <a:chOff x="5565240" y="4931280"/>
                <a:chExt cx="2733480" cy="932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693760" y="4931280"/>
                  <a:ext cx="2475720" cy="9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expected message  </a:t>
                  </a:r>
                  <a:br>
                    <a:rPr sz="1800"/>
                  </a:b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boxes (6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565240" y="4931280"/>
                  <a:ext cx="2733480" cy="93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8" name=""/>
            <p:cNvSpPr/>
            <p:nvPr/>
          </p:nvSpPr>
          <p:spPr>
            <a:xfrm>
              <a:off x="609480" y="1380960"/>
              <a:ext cx="7696080" cy="44863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0280" y="1484280"/>
            <a:ext cx="8334360" cy="2965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5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Minutes lost (111 subjects) – 4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1240" y="2503440"/>
            <a:ext cx="777240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41240" y="2503440"/>
            <a:ext cx="3662640" cy="9907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1240" y="2503440"/>
            <a:ext cx="89712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79680" y="2503440"/>
            <a:ext cx="74772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5480" y="2503440"/>
            <a:ext cx="52380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8720" y="3517920"/>
            <a:ext cx="8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4880" y="350676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486240"/>
            <a:ext cx="108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b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row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27520" y="3490920"/>
            <a:ext cx="148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 minute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10360" y="3506760"/>
            <a:ext cx="20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ductive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00880" y="202104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minutes: 17,4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69840" y="19699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s lost: 7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98520" y="2830680"/>
            <a:ext cx="9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46000" y="2819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98760" y="2830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98840" y="2351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513640" y="2351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79880" y="28306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3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4200" y="2503440"/>
            <a:ext cx="3644640" cy="990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71600" y="1911240"/>
            <a:ext cx="6705720" cy="410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991360" cy="83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) Universal: Digital Divide Remains Troub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004080"/>
            <a:ext cx="91440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.S. Department of Comme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ww.ntia.doc.gov/ntiahome/d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600200" y="1744560"/>
            <a:ext cx="5638680" cy="4351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66680" y="1378080"/>
            <a:ext cx="89917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of Internet Use by Educational At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343640" y="3581280"/>
            <a:ext cx="1800360" cy="3276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d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ccommodate users with different skill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knowledge, age, gender, disabiliti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disabling cond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(mobility, injury, noise, sunlight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literacy, culture, income, 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vari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upport broad range of hardwar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oftware, and network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ps in user 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Bridge the gap between what users kn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nd what they need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21760" y="6221520"/>
            <a:ext cx="43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unications of the AC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ay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24000"/>
            <a:ext cx="913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) Universal: Diverse Users &amp; Varie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019920" y="2649600"/>
            <a:ext cx="2133360" cy="20383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rcRect l="3117" t="2956" r="60521" b="47784"/>
          <a:stretch/>
        </p:blipFill>
        <p:spPr>
          <a:xfrm>
            <a:off x="7650000" y="1047600"/>
            <a:ext cx="149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85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Universal Usability 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rcRect l="2829" t="19728" r="9971" b="5367"/>
          <a:stretch/>
        </p:blipFill>
        <p:spPr>
          <a:xfrm>
            <a:off x="1220760" y="1150920"/>
            <a:ext cx="7088040" cy="516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2516400" y="630864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otal.umd.edu/uupractic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Approa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eyond user friend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users an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and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huma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tention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ubjective satisfa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Questionnaire for User Interface Satisf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modate individu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, organizational &amp; cultur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456840"/>
            <a:ext cx="3733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380880"/>
            <a:ext cx="37339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1440" y="18540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Useful: Generative The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85760" y="1219320"/>
            <a:ext cx="868068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al the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cri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xplana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di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scrip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big step forward 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ive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uide our invention of 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1447920"/>
            <a:ext cx="899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ffers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, Liberty &amp; the Pursuit of Happi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sevel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dom of speech &amp; expression, relig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from want, from fe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low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y of huma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ysi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-Actualiz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ing, Loving, Learning &amp; Leaving a lega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) Theories of Human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-615960" y="1206000"/>
            <a:ext cx="9858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l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orking on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-50 close intim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50-5000 acquaintan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e540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s &amp; Marke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5000 and mo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 Nee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17560" y="1252440"/>
            <a:ext cx="6095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ec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540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Dissemin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 Needs fo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686160" y="19807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38360" y="1371600"/>
            <a:ext cx="57056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533760" y="2514600"/>
          <a:ext cx="534204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35240"/>
                <a:gridCol w="1333440"/>
                <a:gridCol w="13366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5182560" y="5608800"/>
            <a:ext cx="3769920" cy="1099800"/>
          </a:xfrm>
          <a:prstGeom prst="rect">
            <a:avLst/>
          </a:prstGeom>
          <a:solidFill>
            <a:srgbClr val="fab5a2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eptics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e relationships more comple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e these useful activiti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-686160" y="1980720"/>
            <a:ext cx="7620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38360" y="1371600"/>
            <a:ext cx="570564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533760" y="2514600"/>
          <a:ext cx="534204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35240"/>
                <a:gridCol w="1333440"/>
                <a:gridCol w="13366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c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Di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M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um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St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phot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his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Kio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W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Find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Webst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Qui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F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17080" y="47160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photo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447920" y="1120680"/>
            <a:ext cx="76197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17080" y="47160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umd.edu/hcil/photo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914400" y="1128600"/>
            <a:ext cx="81532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ies and Relationship Table (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38360" y="1371600"/>
            <a:ext cx="570564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        Relate        Create        Don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533760" y="2514600"/>
          <a:ext cx="5240520" cy="3429000"/>
        </p:xfrm>
        <a:graphic>
          <a:graphicData uri="http://schemas.openxmlformats.org/drawingml/2006/table">
            <a:tbl>
              <a:tblPr/>
              <a:tblGrid>
                <a:gridCol w="1336680"/>
                <a:gridCol w="1393920"/>
                <a:gridCol w="1274760"/>
                <a:gridCol w="123516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log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-a-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Frien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L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vacatio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his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Do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herEma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-a-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Bus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  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diagn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ist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sha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-685800" y="1981080"/>
            <a:ext cx="7620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&amp;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leagues &amp;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tizenry &amp;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85800" y="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3812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1371600"/>
            <a:ext cx="72392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w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busines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w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healthca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w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govern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w politic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a-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er Goals &amp; The Next Leona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50840" y="62326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.cs.umd.edu/hcil/new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024680" y="1509840"/>
            <a:ext cx="20559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s &amp;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boards, pointing devices,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, forms, command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 &amp;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s, windows, color,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, tables,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, messages,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&amp;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s, tutorials,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54800" y="487692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awl.com/DT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bib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i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21440" y="1297080"/>
            <a:ext cx="28861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onardo da Vinci (1452-15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62040" y="1155600"/>
            <a:ext cx="3578040" cy="54104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105520" y="4711680"/>
            <a:ext cx="2438280" cy="18367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40120" y="1174680"/>
            <a:ext cx="51069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Usable: Reli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compreh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Universal: Diverse user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&amp; varied equi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Useful: In harmony with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huma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30960" y="5472000"/>
            <a:ext cx="747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-Computer Interactio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cs.umd.edu/hc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882800" y="3454560"/>
            <a:ext cx="2403360" cy="1803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5654520" y="3454560"/>
            <a:ext cx="1832040" cy="1801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663560" y="647640"/>
            <a:ext cx="59565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computing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puters can d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New Comp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eople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30960" y="5472000"/>
            <a:ext cx="747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-Computer Interactio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ww.cs.umd.edu/hc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882800" y="3454560"/>
            <a:ext cx="2403360" cy="18032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654520" y="3454560"/>
            <a:ext cx="1832040" cy="1801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663560" y="647640"/>
            <a:ext cx="595656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nual Sympos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-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85800" y="1126800"/>
            <a:ext cx="777240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pply usability guidelin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&amp; testing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 produc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velop UU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ovide responsible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urnalis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aise public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icy make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ise &amp; clarif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d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xpand research on 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isseminate scientific resul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c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xplore bold new 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399960"/>
            <a:ext cx="85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ting to the Golden Age of U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ACM Code of Ethic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360" y="12952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fair society, all individuals would hav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equal opportunity to participate i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or benefit from, the use of computer                      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resources regardless of race, sex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religion, age, disability, national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origin or other such similar fa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866880" y="1981080"/>
            <a:ext cx="1800000" cy="3276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638680" y="4438800"/>
            <a:ext cx="2133720" cy="20383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rcRect l="3117" t="2956" r="60521" b="47784"/>
          <a:stretch/>
        </p:blipFill>
        <p:spPr>
          <a:xfrm>
            <a:off x="3352680" y="4495680"/>
            <a:ext cx="1494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Library of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lars, Journalists, Citize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chers,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ble Human Explorer (N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rge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46600" y="1143000"/>
            <a:ext cx="52974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SA Environment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t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 plann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35800" y="625464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rcRect l="1552" t="12237" r="38786" b="22515"/>
          <a:stretch/>
        </p:blipFill>
        <p:spPr>
          <a:xfrm>
            <a:off x="4105440" y="1219320"/>
            <a:ext cx="5038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eau of the C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9520" y="11430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nomists, Policy makers, Journalis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s,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87676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5029200"/>
            <a:ext cx="76964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SF Digital Government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84320" y="930240"/>
            <a:ext cx="8482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hat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5032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you Find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30960" y="2286000"/>
            <a:ext cx="1254240" cy="851040"/>
          </a:xfrm>
          <a:prstGeom prst="cube">
            <a:avLst>
              <a:gd name="adj" fmla="val 24995"/>
            </a:avLst>
          </a:prstGeom>
          <a:noFill/>
          <a:ln w="0">
            <a:noFill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edStats"/>
          <p:cNvPicPr/>
          <p:nvPr/>
        </p:nvPicPr>
        <p:blipFill>
          <a:blip r:embed="rId1"/>
          <a:srcRect l="0" t="0" r="29249" b="0"/>
          <a:stretch/>
        </p:blipFill>
        <p:spPr>
          <a:xfrm>
            <a:off x="579600" y="5340240"/>
            <a:ext cx="7889760" cy="8319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144" name="" descr="National Science Foundation">
            <a:hlinkClick r:id="rId2"/>
          </p:cNvPr>
          <p:cNvPicPr/>
          <p:nvPr/>
        </p:nvPicPr>
        <p:blipFill>
          <a:blip r:embed="rId3"/>
          <a:srcRect l="0" t="4495" r="40865" b="7319"/>
          <a:stretch/>
        </p:blipFill>
        <p:spPr>
          <a:xfrm>
            <a:off x="579600" y="1447920"/>
            <a:ext cx="1706400" cy="1726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3880440" y="45720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ils.unc.edu/govsta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975360" y="3244680"/>
            <a:ext cx="1177920" cy="882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935680" y="3200400"/>
            <a:ext cx="979560" cy="965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08520" y="3276720"/>
            <a:ext cx="1272960" cy="799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university seal"/>
          <p:cNvPicPr/>
          <p:nvPr/>
        </p:nvPicPr>
        <p:blipFill>
          <a:blip r:embed="rId8"/>
          <a:srcRect l="40003" t="0" r="40003" b="36234"/>
          <a:stretch/>
        </p:blipFill>
        <p:spPr>
          <a:xfrm>
            <a:off x="2819520" y="3203640"/>
            <a:ext cx="1076040" cy="987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482920" y="1427040"/>
            <a:ext cx="5994360" cy="37339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79240" y="3328920"/>
            <a:ext cx="174780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H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S, E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S, 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20:17:30Z</dcterms:created>
  <dc:creator>Benjamin B. Bederson</dc:creator>
  <dc:description/>
  <dc:language>en-US</dc:language>
  <cp:lastModifiedBy>rose</cp:lastModifiedBy>
  <dcterms:modified xsi:type="dcterms:W3CDTF">2005-02-08T14:29:34Z</dcterms:modified>
  <cp:revision>70</cp:revision>
  <dc:subject/>
  <dc:title>Voting System Technologies</dc:title>
</cp:coreProperties>
</file>