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33.wmf" ContentType="image/x-wmf"/>
  <Override PartName="/ppt/media/image41.wmf" ContentType="image/x-wm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wmf" ContentType="image/x-wmf"/>
  <Override PartName="/ppt/media/image32.wmf" ContentType="image/x-wmf"/>
  <Override PartName="/ppt/media/image34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42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91C8-9C84-47ED-9A52-73791B830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articular interest was the fact that, as the tasks became more complex (tasks 3, 5, 8 and 11), the DateLens task time advantage gr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Lens allowed flexible views across time in a user-defined 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search mechanism made finding particular sets of events via keyword matching quite eff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DE0-6B57-4A31-B953-E4AF2757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5FE-1511-45A2-9247-61B358D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3E0-9EC9-4A2A-8680-0B201961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9A2-8530-4D5C-9B19-969165B5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13E-E46B-4D8B-B7F3-F8D594B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AB0-FF02-43D0-989A-3424FC6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DA71-1F00-446E-8277-A5BBBF1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704-F180-491D-A607-29FA67B3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6CA-B310-464D-9DA2-B937F52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DA73-CC61-405F-90B3-DAF8133F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BE3-9FD6-44A3-A907-52C5ABC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728-BB8F-48A6-83E6-35447AF1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E4CA-F06A-4E5F-8DFC-F38919F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119-9C53-49D8-BD65-F590AF2F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C71-6433-4EB3-BA88-B90B9DC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052B-D666-4A56-BC90-8AB5B114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3A0E-8C7F-4598-AC8D-F9CF5EF1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29A-5317-4649-8682-69A736BD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613-0EE4-4851-8BDB-D0C4209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FE9-0BFA-4AD6-8C29-F80FA68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F44-75A5-4D23-B4C9-D367D44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DFA-8C2F-408A-A58F-2E03FCB8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F9B-A3AF-4F50-9993-0B571D0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D67-4831-49A9-8CD8-369AB87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109A-297C-4CF6-A825-6E1B38ACC5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701A-3ACA-4E38-BC10-DB522E1AB2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82000" y="602784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otomesa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s.umd.edu/hcil/taxontree/images/taxontree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cs.umd.edu/hcil/datelens/images/ben-bill-gates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hyperlink" Target="http://www.datelens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king Visualization Wor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njamin B. Beder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artment/UMI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-Computer Interaction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hotoMesa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 – Zoomable Image Browser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5333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large numbers of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relationships among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review /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, or integrated w/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or web-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Is have excellent bandwidth characteristics – constant amount of information per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working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thumbnail cr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autonomous anno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ized at </a:t>
            </a:r>
            <a:br>
              <a:rPr sz="1800"/>
            </a:b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photomesa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45000" y="1844640"/>
            <a:ext cx="3430800" cy="259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51480" y="6181560"/>
            <a:ext cx="538380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photo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2760" y="114300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48481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Suh, Ling, Bederson &amp; Jacobs - UIST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UIST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Combs &amp; Bederson - DL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ying PhotoMesa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- Visual Search Result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64960"/>
            <a:ext cx="36021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search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with UMD Art History Dept. DB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,000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ed in slide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25960" y="2100240"/>
          <a:ext cx="396576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2100240"/>
                    <a:ext cx="396576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ntum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6095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 on treemaps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e-filling subdivision of a rectan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arantees that each rectangle’s dimensions are an integral multiple of a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s out images so that all images are the same size and are aligned on a single grid across rect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2920" y="3505320"/>
            <a:ext cx="1627200" cy="21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6781680" y="1066680"/>
          <a:ext cx="2003400" cy="20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1066680"/>
                    <a:ext cx="20034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304360" y="5867280"/>
            <a:ext cx="43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Shneiderman &amp; Wattenberg - TOG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ble to any treemap algorith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ectangles are generated, expand to next quantu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o match width/height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o avoid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e larger size within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antum Treemap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3352680"/>
          <a:ext cx="389556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389556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95680" y="3352680"/>
          <a:ext cx="4010040" cy="279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352680"/>
                    <a:ext cx="401004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ip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 rectangles to be or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ified alg. creates rows or colum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serts in order of rectangl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ny existing “Squarified” treemap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p appro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ctangle to current row (“strip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w’s average aspect ratio increases, start new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9640" y="48355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quarified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8720" y="48657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lt;=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819520" y="4267080"/>
          <a:ext cx="1828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26708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876920" y="4267080"/>
          <a:ext cx="18288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26708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ip Treema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uarified treemaps: avg aspect ratio: 1.75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p treemaps: avg aspect ratio: 2.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study examined “readabilit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3% faster for strip than squar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task w/ 100 rect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.5 sec vs 14.8 sec w/ 20 subj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aceTree / TaxonTree</a:t>
            </a:r>
            <a:br>
              <a:rPr sz="4200"/>
            </a:b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- Seeing Hierarchies in Contex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316240"/>
            <a:ext cx="396072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lore large hierarch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in understanding of relationships among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te search/brow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xonTree is specialized version of biodiver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MD Biodiversity BSCI 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ing on “SpaceGraph” to view ont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93240" y="160020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51480" y="2301840"/>
            <a:ext cx="4410000" cy="318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53720" y="6181560"/>
            <a:ext cx="518724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space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04360" y="5867280"/>
            <a:ext cx="38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Grosjean, Plaisant &amp; Bederson - InfoVis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eLens</a:t>
            </a:r>
            <a:br>
              <a:rPr sz="4200"/>
            </a:br>
            <a:r>
              <a:rPr b="1" i="1" lang="en-US" sz="2900" spc="-1" strike="noStrike">
                <a:solidFill>
                  <a:srgbClr val="006633"/>
                </a:solidFill>
                <a:latin typeface="Garamond"/>
              </a:rPr>
              <a:t>- Calendars on the G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979640"/>
            <a:ext cx="423864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longer range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e up while maintaining contex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2D fisheye dis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ly designed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search with or without text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erformance on low-powered de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2720880"/>
            <a:ext cx="2085840" cy="2765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49840" y="2717640"/>
            <a:ext cx="2074680" cy="2765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79360" y="6181560"/>
            <a:ext cx="49690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date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93240" y="2035080"/>
            <a:ext cx="1857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96600"/>
                </a:solidFill>
                <a:latin typeface="Comic Sans MS"/>
              </a:rPr>
              <a:t>Dem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25640" y="5867280"/>
            <a:ext cx="528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Clamage, Czerwinski, Robertson - TOCHI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914400"/>
            <a:ext cx="20098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eLens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user studies at Microsoft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with non-PDA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with MSR PDA-using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iming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quite enthusia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876920" y="1143000"/>
          <a:ext cx="40384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40384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36760" y="541008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ized at </a:t>
            </a:r>
            <a:br>
              <a:rPr sz="1800"/>
            </a:b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datelen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sheye Men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962520" y="2362320"/>
            <a:ext cx="5081400" cy="2210760"/>
            <a:chOff x="3962520" y="2362320"/>
            <a:chExt cx="5081400" cy="221076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962520" y="2362320"/>
              <a:ext cx="1648800" cy="21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5681160" y="2374920"/>
              <a:ext cx="164880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7395120" y="2373480"/>
              <a:ext cx="1648800" cy="21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805880" cy="46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: Selection from a long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ow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ollB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: Apply fisheye distor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detail in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mouse presses / t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73400" y="5867280"/>
            <a:ext cx="20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UIST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formation Visual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ive visual display of abstract information to help us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atterns, outliers and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data to build intu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specific questions to be ask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more traditional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s help us th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frame of reference, a temporary storag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ults —Task Ti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500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sks were performed faster using Fisheye Menus, F(1,1206)=29.4, p&lt;0.0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faster (4.0 vs 5.3 s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fference more pronounced for longer men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6095" t="17104" r="0" b="10690"/>
          <a:stretch/>
        </p:blipFill>
        <p:spPr>
          <a:xfrm>
            <a:off x="609480" y="3273480"/>
            <a:ext cx="4368960" cy="239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6520" y="3200400"/>
            <a:ext cx="37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ore pronounced for items near the end of the me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orking With Childr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dPad – A story telling / authoring t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children’s 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de zooming &amp; link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throug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Display Group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91120" y="544212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Druin - SPE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nford, Bederson, et al. - CHI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oltman, Druin, Bederson et al. - AERA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79360" y="6181560"/>
            <a:ext cx="46720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kid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Children’s Digital Libr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freely available collection of children’s boo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 languages, 260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ring interface and access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d version uses PhotoMe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15,000 unique visitors /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4803840"/>
            <a:ext cx="464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Revelle, Bederson, et al. - JCAL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et al. - Interacting w/ Comp.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Bederson, et al. - First Monday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Revelle, Druin, Platner, Bedersonet al.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J. of Science, Education and Technology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Druin, Bederson, et al. - JCDL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9760" y="6181560"/>
            <a:ext cx="314784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icdlbook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udy of Children’s Mouse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01760" y="1219320"/>
          <a:ext cx="106056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219320"/>
                    <a:ext cx="10605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2120" y="3830760"/>
          <a:ext cx="292104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30760"/>
                    <a:ext cx="29210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168560" y="2133720"/>
          <a:ext cx="1955520" cy="12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8560" y="2133720"/>
                    <a:ext cx="195552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86200" y="990720"/>
          <a:ext cx="4181400" cy="2590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990720"/>
                    <a:ext cx="4181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86200" y="3657600"/>
          <a:ext cx="4200480" cy="24480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657600"/>
                    <a:ext cx="42004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879280" y="6248520"/>
            <a:ext cx="511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urcade, Bederson, Druin, Guimbretiere - TOCHI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ccolo</a:t>
            </a:r>
            <a:br>
              <a:rPr sz="4200"/>
            </a:br>
            <a:r>
              <a:rPr b="1" i="1" lang="en-US" sz="3400" spc="-1" strike="noStrike">
                <a:solidFill>
                  <a:srgbClr val="006633"/>
                </a:solidFill>
                <a:latin typeface="Garamond"/>
              </a:rPr>
              <a:t>- A Zoomable User Interface Toolk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Java programmers (porting to C#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s a structured can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s 2D object-oriented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es (transformation, transparency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&gt; Extensible and 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03040" y="6181560"/>
            <a:ext cx="4731480" cy="520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umd.edu/hcil/pic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ry Lesson – ZUI Toolk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there was Pad+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ed for prototy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C++ and Tcl/Tk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or OpenGL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useful, but didn’t scale up w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PI was defined in Tcl and the C++ code was efficient, but mess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2880" y="58672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Meyer - SPE 19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Pad++ Zoomable Interface"/>
          <p:cNvPicPr/>
          <p:nvPr/>
        </p:nvPicPr>
        <p:blipFill>
          <a:blip r:embed="rId1"/>
          <a:stretch/>
        </p:blipFill>
        <p:spPr>
          <a:xfrm>
            <a:off x="5943600" y="1600200"/>
            <a:ext cx="285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n There Was Jazz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ed to spend less time on the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s became cle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and easy to learn, use within existing GUI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ainting, picking and event dispatch - customiz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handlers on elements an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rectangular, transparent, scaled, translated and rotated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numbers of objects in complex sce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ed view navigations (pans and zoo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model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67200" y="5867280"/>
            <a:ext cx="32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Meyer &amp; Good - CHI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pired by 3D Graph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built “polylithic” scene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than “monolithic” GUI toolk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70400" y="5867280"/>
            <a:ext cx="37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, Grosjean, Meyer - TSE submitt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2895480"/>
          <a:ext cx="360972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36097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4343400"/>
          <a:ext cx="5486400" cy="14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486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ylithic Potent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r objects, easier to mai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de-coupled objects, easier to ext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run-tim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better support design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objects to control was significan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d “editor” to manage object ch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not good enough for app program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w there is Picco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“last”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Java, and now also in C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eature set as Jazz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onolith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gest lesson: KI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181480" y="914400"/>
            <a:ext cx="3810240" cy="2238120"/>
            <a:chOff x="5181480" y="914400"/>
            <a:chExt cx="3810240" cy="2238120"/>
          </a:xfrm>
        </p:grpSpPr>
        <p:graphicFrame>
          <p:nvGraphicFramePr>
            <p:cNvPr id="246" name=""/>
            <p:cNvGraphicFramePr/>
            <p:nvPr/>
          </p:nvGraphicFramePr>
          <p:xfrm>
            <a:off x="5181480" y="914400"/>
            <a:ext cx="3810240" cy="186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914400"/>
                      <a:ext cx="3810240" cy="1861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8" name=""/>
            <p:cNvSpPr/>
            <p:nvPr/>
          </p:nvSpPr>
          <p:spPr>
            <a:xfrm>
              <a:off x="6224400" y="2784240"/>
              <a:ext cx="1789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172200" y="3505320"/>
            <a:ext cx="2781360" cy="2220840"/>
            <a:chOff x="6172200" y="3505320"/>
            <a:chExt cx="2781360" cy="2220840"/>
          </a:xfrm>
        </p:grpSpPr>
        <p:graphicFrame>
          <p:nvGraphicFramePr>
            <p:cNvPr id="250" name=""/>
            <p:cNvGraphicFramePr/>
            <p:nvPr/>
          </p:nvGraphicFramePr>
          <p:xfrm>
            <a:off x="6172200" y="3505320"/>
            <a:ext cx="2781360" cy="18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3505320"/>
                      <a:ext cx="2781360" cy="18478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2" name=""/>
            <p:cNvSpPr/>
            <p:nvPr/>
          </p:nvSpPr>
          <p:spPr>
            <a:xfrm>
              <a:off x="6179760" y="5357880"/>
              <a:ext cx="2756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ical run-time 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9000" y="3548520"/>
            <a:ext cx="5910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edu.umd.cs.piccolo.nodes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edu.umd.cs.piccolox.*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HelloWorld extends PFram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initialize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ext text = new PText("Hello World!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anvas().getLayer().addChild(tex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PHelloWorl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’s the Big Dea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098720"/>
          <a:ext cx="754380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98720"/>
                    <a:ext cx="754380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they compa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comparison – many design differences aside from polylithic / monolithic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 case studies and a performanc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038400" y="4761000"/>
          <a:ext cx="6105600" cy="178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4761000"/>
                    <a:ext cx="610560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228600" y="3048120"/>
            <a:ext cx="4343040" cy="1469880"/>
            <a:chOff x="228600" y="3048120"/>
            <a:chExt cx="4343040" cy="1469880"/>
          </a:xfrm>
        </p:grpSpPr>
        <p:pic>
          <p:nvPicPr>
            <p:cNvPr id="259" name="datelens-1" descr=""/>
            <p:cNvPicPr/>
            <p:nvPr/>
          </p:nvPicPr>
          <p:blipFill>
            <a:blip r:embed="rId3"/>
            <a:stretch/>
          </p:blipFill>
          <p:spPr>
            <a:xfrm>
              <a:off x="22860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atelens-2" descr=""/>
            <p:cNvPicPr/>
            <p:nvPr/>
          </p:nvPicPr>
          <p:blipFill>
            <a:blip r:embed="rId4"/>
            <a:stretch/>
          </p:blipFill>
          <p:spPr>
            <a:xfrm>
              <a:off x="132876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atelens-3" descr=""/>
            <p:cNvPicPr/>
            <p:nvPr/>
          </p:nvPicPr>
          <p:blipFill>
            <a:blip r:embed="rId5"/>
            <a:stretch/>
          </p:blipFill>
          <p:spPr>
            <a:xfrm>
              <a:off x="242892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datelens-4" descr=""/>
            <p:cNvPicPr/>
            <p:nvPr/>
          </p:nvPicPr>
          <p:blipFill>
            <a:blip r:embed="rId6"/>
            <a:stretch/>
          </p:blipFill>
          <p:spPr>
            <a:xfrm>
              <a:off x="3529440" y="3048120"/>
              <a:ext cx="1042200" cy="146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0" y="-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46360" y="1127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46360" y="3305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46360" y="548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8880" y="44956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Lens Mo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-104760" y="1665360"/>
          <a:ext cx="612468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1665360"/>
                    <a:ext cx="6124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formance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248000" y="2473200"/>
            <a:ext cx="6096240" cy="3774960"/>
            <a:chOff x="4248000" y="2473200"/>
            <a:chExt cx="6096240" cy="3774960"/>
          </a:xfrm>
        </p:grpSpPr>
        <p:sp>
          <p:nvSpPr>
            <p:cNvPr id="272" name=""/>
            <p:cNvSpPr/>
            <p:nvPr/>
          </p:nvSpPr>
          <p:spPr>
            <a:xfrm>
              <a:off x="5619600" y="2473200"/>
              <a:ext cx="3353040" cy="33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4248000" y="2625480"/>
            <a:ext cx="6096240" cy="3622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8000" y="2625480"/>
                      <a:ext cx="6096240" cy="362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5" name=""/>
          <p:cNvSpPr/>
          <p:nvPr/>
        </p:nvSpPr>
        <p:spPr>
          <a:xfrm>
            <a:off x="798120" y="37782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9200" y="188604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on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chitecture Refle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lithic and Monolithic approachs each have mer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performance and code siz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architecture on toolkit users and expected life cycle of toolk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tatic =&gt; monolit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dynamic =&gt; polylit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ccolo in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1240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eidon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L modeling, Gentlewar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Digital Album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Brain – Neural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Sear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,300 messages in public email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5105520" cy="3722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962880" y="4903920"/>
            <a:ext cx="454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 Victoria – Ontology Visu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zooming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imation helpfu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oolkits benefi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&gt; Clearly yes (someti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mall representation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ion to help maintain object constancy b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of domain and users cru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all interfaces, good visualizations remain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56545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ornbaek, Bederson &amp; Plaisant - TOCHI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Boltman - InfoVis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is everyth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170000"/>
          <a:ext cx="914400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0000"/>
                    <a:ext cx="91440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ernal Cog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human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 of external world in thinking and r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9664"/>
          <a:stretch/>
        </p:blipFill>
        <p:spPr>
          <a:xfrm>
            <a:off x="5450040" y="1760400"/>
            <a:ext cx="1523880" cy="1133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75240" y="1778040"/>
            <a:ext cx="1568520" cy="301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ellent Pattern Recogn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721520" y="2962440"/>
            <a:ext cx="71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1736875613897654698450698560498286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809858453822450985645894509845098096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9103020990595959577256467505067890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8457898098216776548726649085609129496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6840" y="2166840"/>
            <a:ext cx="4035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3’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17920" y="4543560"/>
            <a:ext cx="713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128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68756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976546984506985604982867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98098584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22450985645894509845098096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909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020990595959577256467505067890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88457898098216776548726649085609129496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itfa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navigation and oc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ppropriate use of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ingless spatial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Organizing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helpful an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Point, Visual Thesaur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efficient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using use of screen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t J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igure334"/>
          <p:cNvPicPr/>
          <p:nvPr/>
        </p:nvPicPr>
        <p:blipFill>
          <a:blip r:embed="rId1"/>
          <a:stretch/>
        </p:blipFill>
        <p:spPr>
          <a:xfrm>
            <a:off x="6172200" y="4191120"/>
            <a:ext cx="2629080" cy="159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477120" y="457200"/>
          <a:ext cx="2233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223344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403320" y="2665440"/>
            <a:ext cx="25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ive, Imagina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ous, Fanciful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But is it usef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ate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more than fits on the scre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se information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view+de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5D (ZU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ortion (fishey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eful 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omable User Interfaces (ZU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ye Dis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tional anim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closely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76400" y="1555560"/>
            <a:ext cx="1576440" cy="422280"/>
            <a:chOff x="1076400" y="1555560"/>
            <a:chExt cx="1576440" cy="422280"/>
          </a:xfrm>
        </p:grpSpPr>
        <p:sp>
          <p:nvSpPr>
            <p:cNvPr id="122" name=""/>
            <p:cNvSpPr/>
            <p:nvPr/>
          </p:nvSpPr>
          <p:spPr>
            <a:xfrm flipV="1">
              <a:off x="1076400" y="1555560"/>
              <a:ext cx="157644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98720" y="1597320"/>
              <a:ext cx="15048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193760" y="1901520"/>
            <a:ext cx="430200" cy="422280"/>
            <a:chOff x="1193760" y="1901520"/>
            <a:chExt cx="430200" cy="422280"/>
          </a:xfrm>
        </p:grpSpPr>
        <p:sp>
          <p:nvSpPr>
            <p:cNvPr id="125" name=""/>
            <p:cNvSpPr/>
            <p:nvPr/>
          </p:nvSpPr>
          <p:spPr>
            <a:xfrm flipV="1">
              <a:off x="1193760" y="1901520"/>
              <a:ext cx="430200" cy="42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9520" y="1943280"/>
              <a:ext cx="41076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857480" y="5827680"/>
            <a:ext cx="331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&amp; Shneiderman 2003 - Craf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8640" y="2133720"/>
            <a:ext cx="2465280" cy="64260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Support us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“in the flow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y Foc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De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lk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676520"/>
            <a:ext cx="4800600" cy="31705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alk is not about my other work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&amp; Inpu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Chipman, Bederson, Golbeck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Behaviour &amp; Information Technology (submitted)] [Hutchinson, Bederson et al. - CHI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audisch, Bederson et al. - Interact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Bederson - CHI 2003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Gandhi, Kumar, Bederson, Shneiderman - WebVis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Stewart, Bederson &amp; Druin - CHI 1999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[Hightower, Bederson, et al. - Hypertext 199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27760" y="5791320"/>
            <a:ext cx="56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Arial"/>
              </a:rPr>
              <a:t>CounterPoint - [Good &amp; Bederson - J. Information Visualization 200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5:00:20Z</dcterms:created>
  <dc:creator>Benjamin B. Bederson</dc:creator>
  <dc:description/>
  <dc:language>en-US</dc:language>
  <cp:lastModifiedBy>sharmon</cp:lastModifiedBy>
  <dcterms:modified xsi:type="dcterms:W3CDTF">2003-09-23T18:24:42Z</dcterms:modified>
  <cp:revision>72</cp:revision>
  <dc:subject/>
  <dc:title>Slide 1</dc:title>
</cp:coreProperties>
</file>