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2.wmf" ContentType="image/x-wmf"/>
  <Override PartName="/ppt/media/image27.png" ContentType="image/png"/>
  <Override PartName="/ppt/media/image13.png" ContentType="image/png"/>
  <Override PartName="/ppt/media/image33.wmf" ContentType="image/x-wmf"/>
  <Override PartName="/ppt/media/image41.wmf" ContentType="image/x-wmf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42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BA7B-4E1A-4A99-9BAB-0A7CE2D17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articular interest was the fact that, as the tasks became more complex (tasks 3, 5, 8 and 11), the DateLens task time advantage gr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Lens allowed flexible views across time in a user-defined 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search mechanism made finding particular sets of events via keyword matching quite eff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2B0-E893-4C7B-99AC-9AE24BAA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22F-F9C9-43AB-B91A-10E2B201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7F3-9588-43FD-A9CB-928CD3E8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495-EC27-48BC-8591-ECF29A68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5CFD-9938-4D10-B8C9-7732470B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D2BB-9882-4F7E-BD62-DBCD7025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F562-9D42-4149-AA79-6A320A85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BFBA-3489-4847-82AD-266EC975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1F1-84F7-4960-BB9F-F3739DD1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5875-4A50-4C01-9009-99EA153D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CFA6-2E84-493A-B707-FC1CC83B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B74-DAFD-4160-BBF8-3F958FF5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8E50-3018-4B59-BF6C-BA0BFBE7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B9B1-6365-4F27-A96D-A42E61C6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3BDD-7C33-4B6F-8531-0B5A2F5B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1734-6102-4700-A492-60C4A6B5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2EBD-217D-4691-8593-7A1A7633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AD9-F222-426F-B8AC-DE5B4A9C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EC7-1933-4C69-A308-8910C7D7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8CF-D606-4F1A-93D6-1C328E92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924-D97B-46C3-ABA7-4188A4F0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53F-887F-4379-BE93-CD9759B6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B05-E4F0-40BA-82EF-8CA77E0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5DE-906F-43B3-8DB4-2068633E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E27F-047A-459A-A1B3-9E698173D00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061B-CFCF-437E-B4C6-89E1972C98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otomesa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s.umd.edu/hcil/taxontree/images/taxontree.gif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cs.umd.edu/hcil/datelens/images/ben-bill-gates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hyperlink" Target="http://www.datelens.com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aking Visualization Work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njamin B. Beder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Department/UMI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-Computer Interaction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hotoMesa</a:t>
            </a:r>
            <a:br>
              <a:rPr sz="4200"/>
            </a:br>
            <a:r>
              <a:rPr b="1" i="1" lang="en-US" sz="2900" spc="-1" strike="noStrike">
                <a:solidFill>
                  <a:srgbClr val="006633"/>
                </a:solidFill>
                <a:latin typeface="Garamond"/>
              </a:rPr>
              <a:t> – Zoomable Image Browser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5333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 large numbers of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relationships among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review /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-alone, or integrated w/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or web-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Is have excellent bandwidth characteristics – constant amount of information per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working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thumbnail cro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-autonomous anno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ized at </a:t>
            </a:r>
            <a:br>
              <a:rPr sz="1800"/>
            </a:b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www.photomes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445000" y="1844640"/>
            <a:ext cx="3430800" cy="259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51480" y="6181560"/>
            <a:ext cx="538380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umd.edu/hcil/photo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2760" y="1143000"/>
            <a:ext cx="1857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996600"/>
                </a:solidFill>
                <a:latin typeface="Comic Sans MS"/>
              </a:rPr>
              <a:t>Dem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484812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Suh, Ling, Bederson &amp; Jacobs - UIST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- UIST 200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Combs &amp; Bederson - DL 1999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ying PhotoMesa</a:t>
            </a:r>
            <a:br>
              <a:rPr sz="4200"/>
            </a:br>
            <a:r>
              <a:rPr b="1" i="1" lang="en-US" sz="2900" spc="-1" strike="noStrike">
                <a:solidFill>
                  <a:srgbClr val="006633"/>
                </a:solidFill>
                <a:latin typeface="Garamond"/>
              </a:rPr>
              <a:t>- Visual Search Results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64960"/>
            <a:ext cx="36021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search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ed with UMD Art History Dept. DB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,000 im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ed in slide libr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025960" y="2100240"/>
          <a:ext cx="396576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2100240"/>
                    <a:ext cx="396576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ntum Treemap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6095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 on treemaps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ce-filling subdivision of a rectang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arantees that each rectangle’s dimensions are an integral multiple of a cons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ys out images so that all images are the same size and are aligned on a single grid across rect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2920" y="3505320"/>
            <a:ext cx="1627200" cy="21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6781680" y="1066680"/>
          <a:ext cx="2003400" cy="20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1066680"/>
                    <a:ext cx="200340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304360" y="5867280"/>
            <a:ext cx="43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, Shneiderman &amp; Wattenberg - TOG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ble to any treemap algorith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rectangles are generated, expand to next quantum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to match width/height of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to avoid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modate larger size within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ntum Treemap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3352680"/>
          <a:ext cx="3895560" cy="28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52680"/>
                    <a:ext cx="389556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495680" y="3352680"/>
          <a:ext cx="4010040" cy="2795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352680"/>
                    <a:ext cx="401004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ip Treemap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nt rectangles to be or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ified alg. creates rows or column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serts in order of rectangl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any existing “Squarified” treemap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p approa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ectangle to current row (“strip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ow’s average aspect ratio increases, start new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9640" y="48355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quarified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8720" y="486576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lt;= S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819520" y="4267080"/>
          <a:ext cx="1828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267080"/>
                    <a:ext cx="182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876920" y="4267080"/>
          <a:ext cx="18288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267080"/>
                    <a:ext cx="182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ip Treemap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quarified treemaps: avg aspect ratio: 1.75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ip treemaps: avg aspect ratio: 2.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study examined “readabilit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3% faster for strip than squar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 task w/ 100 rect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.5 sec vs 14.8 sec w/ 20 subj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aceTree / TaxonTree</a:t>
            </a:r>
            <a:br>
              <a:rPr sz="4200"/>
            </a:br>
            <a:r>
              <a:rPr b="1" i="1" lang="en-US" sz="3400" spc="-1" strike="noStrike">
                <a:solidFill>
                  <a:srgbClr val="006633"/>
                </a:solidFill>
                <a:latin typeface="Garamond"/>
              </a:rPr>
              <a:t>- Seeing Hierarchies in Contex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316240"/>
            <a:ext cx="396072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lore large hierarch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ain understanding of relationships among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te search/brow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xonTree is specialized version of biodivers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UMD Biodiversity BSCI 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ing on “SpaceGraph” to view ont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93240" y="1600200"/>
            <a:ext cx="1857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996600"/>
                </a:solidFill>
                <a:latin typeface="Comic Sans MS"/>
              </a:rPr>
              <a:t>Dem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51480" y="2301840"/>
            <a:ext cx="4410000" cy="318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53720" y="6181560"/>
            <a:ext cx="518724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umd.edu/hcil/space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04360" y="5867280"/>
            <a:ext cx="38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Grosjean, Plaisant &amp; Bederson - InfoVis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eLens</a:t>
            </a:r>
            <a:br>
              <a:rPr sz="4200"/>
            </a:br>
            <a:r>
              <a:rPr b="1" i="1" lang="en-US" sz="2900" spc="-1" strike="noStrike">
                <a:solidFill>
                  <a:srgbClr val="006633"/>
                </a:solidFill>
                <a:latin typeface="Garamond"/>
              </a:rPr>
              <a:t>- Calendars on the Go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979640"/>
            <a:ext cx="423864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longer range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e up while maintaining contex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2D fisheye dist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efully designed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ed search with or without text 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erformance on low-powered de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969240" y="2720880"/>
            <a:ext cx="2085840" cy="2765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49840" y="2717640"/>
            <a:ext cx="2074680" cy="2765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79360" y="6181560"/>
            <a:ext cx="496908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umd.edu/hcil/date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93240" y="2035080"/>
            <a:ext cx="1857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996600"/>
                </a:solidFill>
                <a:latin typeface="Comic Sans MS"/>
              </a:rPr>
              <a:t>Dem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25640" y="5867280"/>
            <a:ext cx="52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, Clamage, Czerwinski, Robertson - TOCHI submitt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914400"/>
            <a:ext cx="200988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eLens Stud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user studies at Microsoft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with non-PDA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with MSR PDA-using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iming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ll quite enthusias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876920" y="1143000"/>
          <a:ext cx="4038480" cy="31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143000"/>
                    <a:ext cx="403848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36760" y="541008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ized at </a:t>
            </a:r>
            <a:br>
              <a:rPr sz="1800"/>
            </a:b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datelen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sheye Men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62520" y="2362320"/>
            <a:ext cx="5081400" cy="2210760"/>
            <a:chOff x="3962520" y="2362320"/>
            <a:chExt cx="5081400" cy="221076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3962520" y="2362320"/>
              <a:ext cx="1648800" cy="21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5681160" y="2374920"/>
              <a:ext cx="1648800" cy="21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7395120" y="2373480"/>
              <a:ext cx="1648800" cy="21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805880" cy="46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: Selection from a long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ditional approach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rowB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ollB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: Apply fisheye distor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detail in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mouse presses / t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73400" y="5867280"/>
            <a:ext cx="205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- UIST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formation Visual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active visual display of abstract information to help us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patterns, outliers and tr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re data to build intu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specific questions to be aske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more traditional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s help us th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 frame of reference, a temporary storage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ults —Task Ti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500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sks were performed faster using Fisheye Menus, F(1,1206)=29.4, p&lt;0.00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 faster (4.0 vs 5.3 se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fference more pronounced for longer men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6095" t="17104" r="0" b="10690"/>
          <a:stretch/>
        </p:blipFill>
        <p:spPr>
          <a:xfrm>
            <a:off x="609480" y="3273480"/>
            <a:ext cx="4368960" cy="239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6520" y="3200400"/>
            <a:ext cx="378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more pronounced for items near the end of the me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orking With Childr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dPad – A story telling / authoring t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children’s 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de zooming &amp; link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on throug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le Display Group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191120" y="544212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Hourcade, Bederson, Druin - SPE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nford, Bederson, et al. - CHI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oltman, Druin, Bederson et al. - AERA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79360" y="6181560"/>
            <a:ext cx="467208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umd.edu/hcil/kid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Children’s Digital Libr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st freely available collection of children’s book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3 languages, 260 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ring interface and access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d version uses PhotoM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 15,000 unique visitors / mo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4803840"/>
            <a:ext cx="4648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Druin, Revelle, Bederson, et al. - JCAL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Hourcade, Bederson, et al. - Interacting w/ Comp.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Druin, Bederson, et al. - First Monday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Revelle, Druin, Platner, Bedersonet al.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J. of Science, Education and Technology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Druin, Bederson, et al. - JCDL 200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49760" y="6181560"/>
            <a:ext cx="314784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icdlbook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y of Children’s Mouse U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301760" y="1219320"/>
          <a:ext cx="106056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1760" y="1219320"/>
                    <a:ext cx="10605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62120" y="3830760"/>
          <a:ext cx="292104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830760"/>
                    <a:ext cx="29210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168560" y="2133720"/>
          <a:ext cx="1955520" cy="12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8560" y="2133720"/>
                    <a:ext cx="195552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86200" y="990720"/>
          <a:ext cx="4181400" cy="2590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990720"/>
                    <a:ext cx="4181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86200" y="3657600"/>
          <a:ext cx="4200480" cy="24480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3657600"/>
                    <a:ext cx="42004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879280" y="6248520"/>
            <a:ext cx="511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Hourcade, Bederson, Druin, Guimbretiere - TOCHI submitt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iccolo</a:t>
            </a:r>
            <a:br>
              <a:rPr sz="4200"/>
            </a:br>
            <a:r>
              <a:rPr b="1" i="1" lang="en-US" sz="3400" spc="-1" strike="noStrike">
                <a:solidFill>
                  <a:srgbClr val="006633"/>
                </a:solidFill>
                <a:latin typeface="Garamond"/>
              </a:rPr>
              <a:t>- A Zoomable User Interface Toolk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Java programmers (porting to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s a structured can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s 2D object-oriented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es (transformation, transparency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cy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&gt; Extensible and 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03040" y="6181560"/>
            <a:ext cx="473148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umd.edu/hcil/picc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tory Lesson – ZUI Toolk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there was Pad+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ed for prototy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C++ and Tcl/Tk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or OpenGL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useful, but didn’t scale up w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PI was defined in Tcl and the C++ code was efficient, but mess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02880" y="58672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&amp; Meyer - SPE 199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Pad++ Zoomable Interface"/>
          <p:cNvPicPr/>
          <p:nvPr/>
        </p:nvPicPr>
        <p:blipFill>
          <a:blip r:embed="rId1"/>
          <a:stretch/>
        </p:blipFill>
        <p:spPr>
          <a:xfrm>
            <a:off x="5943600" y="1600200"/>
            <a:ext cx="2857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n There Was Jazz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anted to spend less time on the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s became cle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and easy to learn, use within existing GUI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painting, picking and event dispatch - customiz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handlers on elements and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rectangular, transparent, scaled, translated and rotated grap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numbers of objects in complex sce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imated view navigations (pans and zoo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 model mani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67200" y="5867280"/>
            <a:ext cx="32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, Meyer &amp; Good - CHI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pired by 3D Graph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built “polylithic” scene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erent than “monolithic” GUI toolk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70400" y="5867280"/>
            <a:ext cx="37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, Grosjean, Meyer - TSE submitt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2895480"/>
          <a:ext cx="360972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360972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76720" y="4343400"/>
          <a:ext cx="5486400" cy="14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343400"/>
                    <a:ext cx="548640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lylithic Potent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r objects, easier to main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de-coupled objects, easier to ext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run-tim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ld better support design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objects to control was significant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d “editor” to manage object ch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not good enough for app program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w there is Picco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“last”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Java, and now also in C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eature set as Jazz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monolith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ggest lesson: KI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181480" y="914400"/>
            <a:ext cx="3810240" cy="2238120"/>
            <a:chOff x="5181480" y="914400"/>
            <a:chExt cx="3810240" cy="2238120"/>
          </a:xfrm>
        </p:grpSpPr>
        <p:graphicFrame>
          <p:nvGraphicFramePr>
            <p:cNvPr id="246" name=""/>
            <p:cNvGraphicFramePr/>
            <p:nvPr/>
          </p:nvGraphicFramePr>
          <p:xfrm>
            <a:off x="5181480" y="914400"/>
            <a:ext cx="3810240" cy="1861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914400"/>
                      <a:ext cx="3810240" cy="1861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>
              <a:off x="6224400" y="2784240"/>
              <a:ext cx="17899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172200" y="3505320"/>
            <a:ext cx="2781360" cy="2220840"/>
            <a:chOff x="6172200" y="3505320"/>
            <a:chExt cx="2781360" cy="2220840"/>
          </a:xfrm>
        </p:grpSpPr>
        <p:graphicFrame>
          <p:nvGraphicFramePr>
            <p:cNvPr id="250" name=""/>
            <p:cNvGraphicFramePr/>
            <p:nvPr/>
          </p:nvGraphicFramePr>
          <p:xfrm>
            <a:off x="6172200" y="3505320"/>
            <a:ext cx="2781360" cy="184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3505320"/>
                      <a:ext cx="2781360" cy="18478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52" name=""/>
            <p:cNvSpPr/>
            <p:nvPr/>
          </p:nvSpPr>
          <p:spPr>
            <a:xfrm>
              <a:off x="6179760" y="5357880"/>
              <a:ext cx="2756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ical run-time stru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9000" y="3548520"/>
            <a:ext cx="5910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edu.umd.cs.piccolo.nodes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edu.umd.cs.piccolox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HelloWorld extends PFram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initializ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ext text = new PText("Hello World!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Canvas().getLayer().addChild(tex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 PHelloWorl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’s the Big Deal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098720"/>
          <a:ext cx="7543800" cy="57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98720"/>
                    <a:ext cx="754380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o they compar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gh comparison – many design differences aside from polylithic / monolithic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d case studies and a performance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038400" y="4761000"/>
          <a:ext cx="6105600" cy="178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8400" y="4761000"/>
                    <a:ext cx="610560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228600" y="3048120"/>
            <a:ext cx="4343040" cy="1469880"/>
            <a:chOff x="228600" y="3048120"/>
            <a:chExt cx="4343040" cy="1469880"/>
          </a:xfrm>
        </p:grpSpPr>
        <p:pic>
          <p:nvPicPr>
            <p:cNvPr id="259" name="datelens-1" descr=""/>
            <p:cNvPicPr/>
            <p:nvPr/>
          </p:nvPicPr>
          <p:blipFill>
            <a:blip r:embed="rId3"/>
            <a:stretch/>
          </p:blipFill>
          <p:spPr>
            <a:xfrm>
              <a:off x="228600" y="3048120"/>
              <a:ext cx="1042200" cy="14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datelens-2" descr=""/>
            <p:cNvPicPr/>
            <p:nvPr/>
          </p:nvPicPr>
          <p:blipFill>
            <a:blip r:embed="rId4"/>
            <a:stretch/>
          </p:blipFill>
          <p:spPr>
            <a:xfrm>
              <a:off x="1328760" y="3048120"/>
              <a:ext cx="1042200" cy="14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datelens-3" descr=""/>
            <p:cNvPicPr/>
            <p:nvPr/>
          </p:nvPicPr>
          <p:blipFill>
            <a:blip r:embed="rId5"/>
            <a:stretch/>
          </p:blipFill>
          <p:spPr>
            <a:xfrm>
              <a:off x="2428920" y="3048120"/>
              <a:ext cx="1042200" cy="14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datelens-4" descr=""/>
            <p:cNvPicPr/>
            <p:nvPr/>
          </p:nvPicPr>
          <p:blipFill>
            <a:blip r:embed="rId6"/>
            <a:stretch/>
          </p:blipFill>
          <p:spPr>
            <a:xfrm>
              <a:off x="3529440" y="3048120"/>
              <a:ext cx="1042200" cy="146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0" y="-8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46360" y="112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46360" y="330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46360" y="548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8880" y="44956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Lens Mo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-104760" y="1665360"/>
          <a:ext cx="6124680" cy="26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1665360"/>
                    <a:ext cx="6124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formance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248000" y="2473200"/>
            <a:ext cx="6096240" cy="3774960"/>
            <a:chOff x="4248000" y="2473200"/>
            <a:chExt cx="6096240" cy="3774960"/>
          </a:xfrm>
        </p:grpSpPr>
        <p:sp>
          <p:nvSpPr>
            <p:cNvPr id="272" name=""/>
            <p:cNvSpPr/>
            <p:nvPr/>
          </p:nvSpPr>
          <p:spPr>
            <a:xfrm>
              <a:off x="5619600" y="2473200"/>
              <a:ext cx="335304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4248000" y="2625480"/>
            <a:ext cx="6096240" cy="36226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8000" y="2625480"/>
                      <a:ext cx="6096240" cy="362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5" name=""/>
          <p:cNvSpPr/>
          <p:nvPr/>
        </p:nvSpPr>
        <p:spPr>
          <a:xfrm>
            <a:off x="798120" y="377820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ing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99200" y="188604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on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chitecture Refle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lithic and Monolithic approachs each have mer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ilar performance and code siz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architecture on toolkit users and expected life cycle of toolk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static =&gt; monolith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dynamic =&gt; polylith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iccolo in U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1240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eidon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L modeling, Gentlewar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Digital Album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Brain – Neural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Searc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,300 messages in public email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5105520" cy="3722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962880" y="4903920"/>
            <a:ext cx="454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 Victoria – Ontology Visu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zooming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imation helpfu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toolkits benefici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&gt; Clearly yes (someti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small representation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imation to help maintain object constancy b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of domain and users cru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all interfaces, good visualizations remain h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56545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Hornbaek, Bederson &amp; Plaisant - TOCHI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&amp; Boltman - InfoVis 1999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is everyth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170000"/>
          <a:ext cx="914400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0000"/>
                    <a:ext cx="91440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ternal Cogn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human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of external world in thinking and r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9664"/>
          <a:stretch/>
        </p:blipFill>
        <p:spPr>
          <a:xfrm>
            <a:off x="5450040" y="1760400"/>
            <a:ext cx="1523880" cy="113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75240" y="1778040"/>
            <a:ext cx="1568520" cy="301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cellent Pattern Recogn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1721520" y="2962440"/>
            <a:ext cx="71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17368756138976546984506985604982867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8098584538224509856458945098450980965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9103020990595959577256467505067890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8457898098216776548726649085609129496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6840" y="2166840"/>
            <a:ext cx="40352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3’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17920" y="4543560"/>
            <a:ext cx="713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128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68756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8976546984506985604982867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98098584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8224509856458945098450980965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909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020990595959577256467505067890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88457898098216776548726649085609129496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itfa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navigation and oc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ppropriate use of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ningless spatial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Organizing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helpful an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Point, Visual Thesaur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efficient a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using use of screen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t Ju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figure334"/>
          <p:cNvPicPr/>
          <p:nvPr/>
        </p:nvPicPr>
        <p:blipFill>
          <a:blip r:embed="rId1"/>
          <a:stretch/>
        </p:blipFill>
        <p:spPr>
          <a:xfrm>
            <a:off x="6172200" y="4191120"/>
            <a:ext cx="2629080" cy="159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6477120" y="457200"/>
          <a:ext cx="2233440" cy="22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57200"/>
                    <a:ext cx="223344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403320" y="2665440"/>
            <a:ext cx="25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ive, Imagina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enious, Fanciful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But is it usef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ate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more than fits on the scre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o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se information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view+det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5D (ZU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ortion (fishey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eful 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q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omable User Interfaces (ZU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ye Dist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tional anim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closely with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76400" y="1555560"/>
            <a:ext cx="1576440" cy="422280"/>
            <a:chOff x="1076400" y="1555560"/>
            <a:chExt cx="1576440" cy="422280"/>
          </a:xfrm>
        </p:grpSpPr>
        <p:sp>
          <p:nvSpPr>
            <p:cNvPr id="122" name=""/>
            <p:cNvSpPr/>
            <p:nvPr/>
          </p:nvSpPr>
          <p:spPr>
            <a:xfrm flipV="1">
              <a:off x="1076400" y="1555560"/>
              <a:ext cx="157644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98720" y="1597320"/>
              <a:ext cx="1504800" cy="36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193760" y="1901520"/>
            <a:ext cx="430200" cy="422280"/>
            <a:chOff x="1193760" y="1901520"/>
            <a:chExt cx="430200" cy="422280"/>
          </a:xfrm>
        </p:grpSpPr>
        <p:sp>
          <p:nvSpPr>
            <p:cNvPr id="125" name=""/>
            <p:cNvSpPr/>
            <p:nvPr/>
          </p:nvSpPr>
          <p:spPr>
            <a:xfrm flipV="1">
              <a:off x="1193760" y="1901520"/>
              <a:ext cx="43020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99520" y="1943280"/>
              <a:ext cx="410760" cy="36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857480" y="5827680"/>
            <a:ext cx="331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&amp; Shneiderman 2003 - Craf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58640" y="2133720"/>
            <a:ext cx="2465280" cy="6426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Support us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“in the flow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y Foc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m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 De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lk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ach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1676520"/>
            <a:ext cx="4800600" cy="317052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alk is not about my other work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&amp; Input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Chipman, Bederson, Golbeck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Behaviour &amp; Information Technology (submitted)] [Hutchinson, Bederson et al. - CHI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audisch, Bederson et al. - Interact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- CHI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Gandhi, Kumar, Bederson, Shneiderman - WebVis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Stewart, Bederson &amp; Druin - CHI 1999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Hightower, Bederson, et al. - Hypertext 199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27760" y="5791320"/>
            <a:ext cx="56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CounterPoint - [Good &amp; Bederson - J. Information Visualization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15:00:20Z</dcterms:created>
  <dc:creator>Benjamin B. Bederson</dc:creator>
  <dc:description/>
  <dc:language>en-US</dc:language>
  <cp:lastModifiedBy>sharmon</cp:lastModifiedBy>
  <dcterms:modified xsi:type="dcterms:W3CDTF">2003-09-23T18:24:42Z</dcterms:modified>
  <cp:revision>72</cp:revision>
  <dc:subject/>
  <dc:title>Slide 1</dc:title>
</cp:coreProperties>
</file>