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49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5.jpeg" ContentType="image/jpeg"/>
  <Override PartName="/ppt/media/image50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45.png" ContentType="image/png"/>
  <Override PartName="/ppt/media/image33.jpeg" ContentType="image/jpeg"/>
  <Override PartName="/ppt/media/image22.jpeg" ContentType="image/jpeg"/>
  <Override PartName="/ppt/media/image9.png" ContentType="image/png"/>
  <Override PartName="/ppt/media/image43.png" ContentType="image/png"/>
  <Override PartName="/ppt/media/image57.jpeg" ContentType="image/jpeg"/>
  <Override PartName="/ppt/media/image46.png" ContentType="image/png"/>
  <Override PartName="/ppt/media/image51.png" ContentType="image/png"/>
  <Override PartName="/ppt/media/image41.png" ContentType="image/png"/>
  <Override PartName="/ppt/media/image40.jpeg" ContentType="image/jpeg"/>
  <Override PartName="/ppt/media/image44.png" ContentType="image/png"/>
  <Override PartName="/ppt/media/image53.png" ContentType="image/png"/>
  <Override PartName="/ppt/media/image58.jpeg" ContentType="image/jpeg"/>
  <Override PartName="/ppt/media/image42.png" ContentType="image/png"/>
  <Override PartName="/ppt/media/image54.png" ContentType="image/png"/>
  <Override PartName="/ppt/media/image55.jpeg" ContentType="image/jpeg"/>
  <Override PartName="/ppt/media/image31.jpeg" ContentType="image/jpeg"/>
  <Override PartName="/ppt/media/image30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27.jpeg" ContentType="image/jpeg"/>
  <Override PartName="/ppt/media/image52.png" ContentType="image/png"/>
  <Override PartName="/ppt/media/image13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37.png" ContentType="image/png"/>
  <Override PartName="/ppt/media/image3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A74A1-D25D-448E-B069-132A95F2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50978-C7FF-446F-BB89-44713319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69D6-E182-45C3-9EE2-B426389A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D54F3-C84D-4942-B978-DB615764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E9D7-DDA8-4D37-A8AB-0C856FF0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0E88-65D3-4A8F-8B25-F01F274E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6A8D-E60D-490E-B019-1E5CAC2A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87ED-93BE-48F8-9292-6FCC5B85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D8A4-82D9-4510-A143-D5772383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BA18-FBE8-440B-B33D-33FCB0E0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FF0E-7D83-4A45-971B-33284EDC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7A57-4257-40C9-A54F-64435521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F1F9-6E2B-4FCB-B1E5-F1A8B6DE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9BA0-F398-4EBD-873B-83CC450E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6524-D649-4B4A-9160-6696F151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28AF-2F77-49EB-888D-BC0489AF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D7BB-D5C1-456E-B086-5D7607BD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A39F-8168-4D3C-97F5-70B77FAE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E7949-665C-4113-8A4E-F2778B75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93BFE-C710-4FF6-897E-A67DC7C9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33466-BE2B-411E-8323-87288D99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0367-1846-40CE-B3EA-193F7E8F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FA620-A1BC-4B15-8D1E-FCF8A61E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6F770-88B9-412D-BE7E-FEB13865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7A29-7091-43FB-B016-7B404E20AE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914400"/>
            <a:ext cx="285840" cy="22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6f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2920" y="971640"/>
            <a:ext cx="8731080" cy="11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9680" y="971640"/>
            <a:ext cx="13788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560" y="914400"/>
            <a:ext cx="139680" cy="5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47560" y="971640"/>
            <a:ext cx="139680" cy="58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74680" y="1028880"/>
            <a:ext cx="13644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09680" y="1028880"/>
            <a:ext cx="137880" cy="56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74680" y="1085760"/>
            <a:ext cx="136440" cy="5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609840" cy="457200"/>
          </a:xfrm>
          <a:prstGeom prst="rect">
            <a:avLst/>
          </a:prstGeom>
          <a:ln w="15840">
            <a:solidFill>
              <a:srgbClr val="c0c0c0"/>
            </a:solidFill>
            <a:miter/>
          </a:ln>
        </p:spPr>
      </p:pic>
      <p:sp>
        <p:nvSpPr>
          <p:cNvPr id="14" name=""/>
          <p:cNvSpPr/>
          <p:nvPr/>
        </p:nvSpPr>
        <p:spPr>
          <a:xfrm>
            <a:off x="133200" y="952560"/>
            <a:ext cx="152640" cy="152280"/>
          </a:xfrm>
          <a:prstGeom prst="ellipse">
            <a:avLst/>
          </a:prstGeom>
          <a:solidFill>
            <a:srgbClr val="e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A2C2-8731-43B7-A7CF-E87463C3AE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nsf.gov/start.htm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ils.unc.edu/idl/index.html" TargetMode="External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hyperlink" Target="http://www.mrstest.com/product111/product_info.html" TargetMode="External"/><Relationship Id="rId3" Type="http://schemas.openxmlformats.org/officeDocument/2006/relationships/image" Target="../media/image39.jpeg"/><Relationship Id="rId4" Type="http://schemas.openxmlformats.org/officeDocument/2006/relationships/hyperlink" Target="http://www.mrstest.com/product136/product_info.html" TargetMode="External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1447920"/>
            <a:ext cx="906768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Human Needs and Mobile Device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, Fast &amp; Fun</a:t>
            </a:r>
            <a:br>
              <a:rPr sz="4000"/>
            </a:br>
            <a:br>
              <a:rPr sz="2000"/>
            </a:br>
            <a:br>
              <a:rPr sz="2400"/>
            </a:br>
            <a:br>
              <a:rPr sz="7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 Shneiderman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ben@cs.umd.edu</a:t>
            </a:r>
            <a:br>
              <a:rPr sz="2400"/>
            </a:br>
            <a:br>
              <a:rPr sz="1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ing Director (1983-2000), Human-Computer Interaction La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or, Department of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, Institutes for Advanced Computer Studies &amp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 Research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Maryl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 Park, MD 20742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Welcome &#10;to the University of Maryland"/>
          <p:cNvPicPr/>
          <p:nvPr/>
        </p:nvPicPr>
        <p:blipFill>
          <a:blip r:embed="rId1"/>
          <a:stretch/>
        </p:blipFill>
        <p:spPr>
          <a:xfrm>
            <a:off x="2362320" y="5962680"/>
            <a:ext cx="4314600" cy="74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SF Digital Government 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84320" y="930240"/>
            <a:ext cx="8482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what you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you Find</a:t>
            </a:r>
            <a:br>
              <a:rPr sz="3200"/>
            </a:br>
            <a:br>
              <a:rPr sz="1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FedStats"/>
          <p:cNvPicPr/>
          <p:nvPr/>
        </p:nvPicPr>
        <p:blipFill>
          <a:blip r:embed="rId1"/>
          <a:srcRect l="0" t="0" r="29249" b="0"/>
          <a:stretch/>
        </p:blipFill>
        <p:spPr>
          <a:xfrm>
            <a:off x="579600" y="5340240"/>
            <a:ext cx="7889760" cy="83196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pic>
        <p:nvPicPr>
          <p:cNvPr id="151" name="" descr="National Science Foundation">
            <a:hlinkClick r:id="rId2"/>
          </p:cNvPr>
          <p:cNvPicPr/>
          <p:nvPr/>
        </p:nvPicPr>
        <p:blipFill>
          <a:blip r:embed="rId3"/>
          <a:srcRect l="0" t="4495" r="40865" b="7319"/>
          <a:stretch/>
        </p:blipFill>
        <p:spPr>
          <a:xfrm>
            <a:off x="579600" y="1447920"/>
            <a:ext cx="1706400" cy="172692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3880440" y="457200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ils.unc.edu/govsta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6975360" y="3244680"/>
            <a:ext cx="1177920" cy="882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935680" y="3200400"/>
            <a:ext cx="979560" cy="965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08520" y="3276720"/>
            <a:ext cx="1272960" cy="799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university seal"/>
          <p:cNvPicPr/>
          <p:nvPr/>
        </p:nvPicPr>
        <p:blipFill>
          <a:blip r:embed="rId8"/>
          <a:srcRect l="40003" t="0" r="40003" b="36234"/>
          <a:stretch/>
        </p:blipFill>
        <p:spPr>
          <a:xfrm>
            <a:off x="2819520" y="3203640"/>
            <a:ext cx="1076040" cy="987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482920" y="1427040"/>
            <a:ext cx="5994360" cy="3733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79240" y="3328920"/>
            <a:ext cx="1747800" cy="1828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H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S, E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S, 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tional Children’s Digital Lib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994" t="15151" r="3508" b="1514"/>
          <a:stretch/>
        </p:blipFill>
        <p:spPr>
          <a:xfrm>
            <a:off x="762120" y="1204920"/>
            <a:ext cx="7391160" cy="53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Zooming User Interfa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010280" y="1143000"/>
            <a:ext cx="1800360" cy="2400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91200" y="6248520"/>
            <a:ext cx="31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cs.umd.edu/hcil/jaz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010280" y="3695760"/>
            <a:ext cx="1800360" cy="2400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rcRect l="1085" t="15897" r="25578" b="25213"/>
          <a:stretch/>
        </p:blipFill>
        <p:spPr>
          <a:xfrm>
            <a:off x="380880" y="1368360"/>
            <a:ext cx="6324840" cy="45338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4578120" y="6248520"/>
            <a:ext cx="35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cs.umd.edu/hcil/date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UI: Pocket PhotoM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94800" y="6416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windsorinterface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429000" y="17524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172200" y="17524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0"/>
            <a:ext cx="815328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onardo’s Lap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152280" y="1041480"/>
            <a:ext cx="59562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computing i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puters can 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New Comp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eople ca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360" y="5027760"/>
            <a:ext cx="505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tpress.mit.edu/leonardoslap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cs.umd.edu/hcil/new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791320" y="1192320"/>
            <a:ext cx="324468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272520"/>
            <a:ext cx="777240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nspirational Mus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Leonardo da Vinci (1452-151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59200" y="1211040"/>
            <a:ext cx="6099120" cy="56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aissance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science &amp;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engineering &amp; esth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technology advan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&amp; human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visionary &amp;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2395800" cy="3335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791240" y="531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&amp; Wellness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eople are familiar with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cost makes them widely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Social shift? to take greater responsibility for personal health care, fitness &amp; welln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health &amp; wellness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common interface inhibits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common file format prevents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4600" y="6066000"/>
            <a:ext cx="80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rveys: www.cs.umd.edu/hcil/iHealth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Projects: www.cs.umd.edu/class/spring2004/cmsc434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&amp; Wellness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chronic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hma, diabetes, obesity, high bloo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ssion, anxiety, sleep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ing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&amp; memory aids, monitoring, social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rts &amp;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ometers, body fat meters, bathroom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history &amp; personal health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history, vaccinations, medications, aller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cy treatment info, medical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78240" y="6313320"/>
            <a:ext cx="542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marketresearch.com/map/prod/92467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-255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ood Gluc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3812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9400" y="6232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683" t="13565" r="24885" b="14303"/>
          <a:stretch/>
        </p:blipFill>
        <p:spPr>
          <a:xfrm>
            <a:off x="1574640" y="1217520"/>
            <a:ext cx="6702480" cy="487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893240" y="62658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homediagnosticsin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1809720" cy="274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105520" y="3352680"/>
            <a:ext cx="2668320" cy="319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18360" y="304920"/>
            <a:ext cx="1836720" cy="274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422360" y="3352680"/>
            <a:ext cx="323532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3352680" y="304920"/>
            <a:ext cx="2532240" cy="274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88200" y="3886200"/>
            <a:ext cx="75279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-Computer Interaction Labora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disciplinary research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mputer Science &amp;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formation Studies &amp;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www.cs.umd.edu/hcil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86080" y="120024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448240" y="1200240"/>
            <a:ext cx="243864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362320" y="152280"/>
            <a:ext cx="40590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476360" y="3048120"/>
            <a:ext cx="5915160" cy="365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830240" y="228600"/>
            <a:ext cx="548496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830240" y="3963960"/>
            <a:ext cx="2770200" cy="274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021280" y="3970440"/>
            <a:ext cx="2293920" cy="27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od Pressure &amp; Pul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1020" t="17670" r="12210" b="5674"/>
          <a:stretch/>
        </p:blipFill>
        <p:spPr>
          <a:xfrm>
            <a:off x="1622520" y="1447920"/>
            <a:ext cx="5578560" cy="4329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57560" y="636264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promedproduct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rt Rate &amp; Therm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1585" t="14518" r="15563" b="3670"/>
          <a:stretch/>
        </p:blipFill>
        <p:spPr>
          <a:xfrm>
            <a:off x="457200" y="1476360"/>
            <a:ext cx="4724280" cy="4848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Instant Samsung Digital Ear Thermomet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167652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Digital Basal Thermomet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3886200"/>
            <a:ext cx="209700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dy 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1887" t="28140" r="3774" b="7358"/>
          <a:stretch/>
        </p:blipFill>
        <p:spPr>
          <a:xfrm>
            <a:off x="746280" y="2119320"/>
            <a:ext cx="7885080" cy="3446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107360" y="621972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linear-software.com/digitalcaliper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-255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ndardize &amp; Improve Health &amp; Wellness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812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49400" y="6232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1066680"/>
            <a:ext cx="65530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s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uracy of device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ging to common fi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ve/Send to health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notation by patient &amp; phys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sualize to spo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18540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CI 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85760" y="1219320"/>
            <a:ext cx="868068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cial the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scri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xplana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di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scrip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big step forward wi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tive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uide our invention of new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makes a mobile device different from a Desktop/Lap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kes a mobile device different from a Desktop/Lap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sensors do you w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kes a mobile device different from a Desktop/Lap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ensors do you w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you want to st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Interface Design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gnitively comprehensible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stent, predictable &amp; controllabl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fectively acceptable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Mastery, satisfaction &amp; responsibilit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ptive, autonomous &amp; anthropomor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76520" y="5028840"/>
            <a:ext cx="11430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5029200"/>
            <a:ext cx="11430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505320" y="5028840"/>
            <a:ext cx="1523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5029200"/>
            <a:ext cx="1523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172200" y="4990680"/>
            <a:ext cx="23623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4991040"/>
            <a:ext cx="23623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kes a mobile device different from a Desktop/Lap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ensors do you w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want to st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messages do you want to get?  S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kes a mobile device different from a Desktop/Lap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ensors do you w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want to st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essages do you want to get?  S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see a pattern y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bile Device User Interface Taxonomy (DU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0192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8776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1024200"/>
            <a:ext cx="8253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 from a location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 to a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ni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 stream output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n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 stream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c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s (nearest cafe or hotspot)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s (name of a person or fl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ath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sages from many people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r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sage to many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ticip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 in a group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l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 in a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-615960" y="1206000"/>
            <a:ext cx="9858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540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lf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orking on you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e540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&amp; Friend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2-50 close intima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e540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lleagues &amp; Neighbo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50-5000 acquaintanc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e540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tizens &amp; Marke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5000 and mo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 Needs for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17560" y="1252440"/>
            <a:ext cx="60958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llec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la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ea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na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Dissemin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 Needs for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812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ies and Relationship Table (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686160" y="1980720"/>
            <a:ext cx="7620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&amp;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leagues &amp;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tizenry &amp;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38360" y="1371600"/>
            <a:ext cx="570564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        Relate        Create        Don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533760" y="2514600"/>
          <a:ext cx="5342040" cy="3429000"/>
        </p:xfrm>
        <a:graphic>
          <a:graphicData uri="http://schemas.openxmlformats.org/drawingml/2006/table">
            <a:tbl>
              <a:tblPr/>
              <a:tblGrid>
                <a:gridCol w="1336680"/>
                <a:gridCol w="1335240"/>
                <a:gridCol w="1333440"/>
                <a:gridCol w="133668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182560" y="5608800"/>
            <a:ext cx="3769920" cy="1099800"/>
          </a:xfrm>
          <a:prstGeom prst="rect">
            <a:avLst/>
          </a:prstGeom>
          <a:solidFill>
            <a:srgbClr val="fab5a2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eptics co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re relationships more comple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re these useful activiti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ies and Relationship Table (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686160" y="1980720"/>
            <a:ext cx="7620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&amp;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leagues &amp;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tizenry &amp;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38360" y="1371600"/>
            <a:ext cx="570564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        Relate        Create        Don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533760" y="2514600"/>
          <a:ext cx="5342040" cy="3429000"/>
        </p:xfrm>
        <a:graphic>
          <a:graphicData uri="http://schemas.openxmlformats.org/drawingml/2006/table">
            <a:tbl>
              <a:tblPr/>
              <a:tblGrid>
                <a:gridCol w="1336680"/>
                <a:gridCol w="1335240"/>
                <a:gridCol w="1333440"/>
                <a:gridCol w="133668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c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Di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Fi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M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um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sharing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Sta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photo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his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Find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Kio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W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Find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Websta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Qui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sha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ies and Relationship Table (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38360" y="1371600"/>
            <a:ext cx="570564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        Relate        Create        Don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533760" y="2514600"/>
          <a:ext cx="5240520" cy="3429000"/>
        </p:xfrm>
        <a:graphic>
          <a:graphicData uri="http://schemas.openxmlformats.org/drawingml/2006/table">
            <a:tbl>
              <a:tblPr/>
              <a:tblGrid>
                <a:gridCol w="1336680"/>
                <a:gridCol w="1393920"/>
                <a:gridCol w="1274760"/>
                <a:gridCol w="123516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log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-a-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Friend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L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vacation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his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Do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herEma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-a-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Bus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   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diagno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ist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sha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-685800" y="1981080"/>
            <a:ext cx="7620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&amp;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leagues &amp;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tizenry &amp;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away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61680" y="1076040"/>
            <a:ext cx="8294760" cy="60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bile devices are huge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ast &amp; 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cost, easy-to-use, specific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ing on human needs will guide you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to more successful product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User Interface Taxonomy (D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&amp; Relationship Table (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32760" y="5530680"/>
            <a:ext cx="752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-Computer Interaction Labora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umd.edu/h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752480" y="3286080"/>
            <a:ext cx="2934000" cy="22003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651640" y="3286080"/>
            <a:ext cx="2235240" cy="21988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676520" y="1247760"/>
            <a:ext cx="571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The old computing is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what computers can d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ntique Olv (W1)"/>
              </a:rPr>
              <a:t>The New Computing</a:t>
            </a: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is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what people can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Appro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beyond user friend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users an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and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of huma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tention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subjective satisfa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Questionnaire for User Interface Satisf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modate individu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ocial, organizational &amp; cultur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00600" y="456840"/>
            <a:ext cx="3733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380880"/>
            <a:ext cx="37339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away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61680" y="1076040"/>
            <a:ext cx="8294760" cy="60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functions to serve huma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bility + reliability to prevent fru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age users with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uring metaph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lling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ive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ling ani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isfying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oto An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otating &amp; repurposing photos in the Semantic Web contex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Retrieve by personal 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date,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, country, organization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ght, necksize, hair color?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rieve by mediated 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s of papers/citations in WW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onferences they att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of students they superv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Public Access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77440" y="1200240"/>
            <a:ext cx="8566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 full participation by every citiz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ing, social security services, passport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licenses, registrations, permits, recreation,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tate-county-city government servic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er services to many residents &amp; visi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a applications, tourism info, employ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care, police, fire, education, training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eums, parks,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versal Usability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61680" y="1076040"/>
            <a:ext cx="8294760" cy="60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var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&amp; slow modems, small &amp; large disp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e platforms, multiple 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ice &amp; expert, old &amp;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with disabilities, poor literacy, or low motiv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dge the gap between what users know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and what they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ay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vs. Show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506160" y="21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ology vari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" y="1344600"/>
            <a:ext cx="4603320" cy="1435320"/>
          </a:xfrm>
          <a:prstGeom prst="rect">
            <a:avLst/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1 to 100 range in processor speed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286    486                     Pent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61760" y="2057040"/>
            <a:ext cx="3886200" cy="0"/>
            <a:chOff x="761760" y="2057040"/>
            <a:chExt cx="3886200" cy="0"/>
          </a:xfrm>
        </p:grpSpPr>
        <p:sp>
          <p:nvSpPr>
            <p:cNvPr id="270" name=""/>
            <p:cNvSpPr/>
            <p:nvPr/>
          </p:nvSpPr>
          <p:spPr>
            <a:xfrm>
              <a:off x="1071000" y="2057040"/>
              <a:ext cx="618120" cy="0"/>
            </a:xfrm>
            <a:prstGeom prst="line">
              <a:avLst/>
            </a:prstGeom>
            <a:ln w="7632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42640" y="2057040"/>
              <a:ext cx="2605320" cy="0"/>
            </a:xfrm>
            <a:prstGeom prst="line">
              <a:avLst/>
            </a:prstGeom>
            <a:ln w="7632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761760" y="2057040"/>
              <a:ext cx="88200" cy="0"/>
            </a:xfrm>
            <a:prstGeom prst="line">
              <a:avLst/>
            </a:prstGeom>
            <a:ln w="7632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648320" y="3429000"/>
            <a:ext cx="15238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590920"/>
            <a:ext cx="6095880" cy="2471760"/>
          </a:xfrm>
          <a:prstGeom prst="rect">
            <a:avLst/>
          </a:prstGeom>
          <a:solidFill>
            <a:srgbClr val="ffff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1 to 100 range in screen siz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Pal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devices      Laptops       Large Desktop or Wall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30,000       480,000                3,840,000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3040200"/>
            <a:ext cx="1371600" cy="1123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3265560"/>
            <a:ext cx="685800" cy="5983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14400" y="3564000"/>
            <a:ext cx="228600" cy="1508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00400" y="3040200"/>
            <a:ext cx="1371600" cy="1123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35280" y="3886200"/>
            <a:ext cx="2561040" cy="1374480"/>
          </a:xfrm>
          <a:prstGeom prst="rect">
            <a:avLst/>
          </a:prstGeom>
          <a:solidFill>
            <a:srgbClr val="ffff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Software 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File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Multiple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1409760"/>
            <a:ext cx="3200400" cy="1374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Device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Input: keyboard, speech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Output: visual, auditory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010880" y="5029200"/>
            <a:ext cx="4990320" cy="1069560"/>
            <a:chOff x="1010880" y="5029200"/>
            <a:chExt cx="4990320" cy="1069560"/>
          </a:xfrm>
        </p:grpSpPr>
        <p:sp>
          <p:nvSpPr>
            <p:cNvPr id="282" name=""/>
            <p:cNvSpPr/>
            <p:nvPr/>
          </p:nvSpPr>
          <p:spPr>
            <a:xfrm>
              <a:off x="1010880" y="5029200"/>
              <a:ext cx="4990320" cy="10695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Times New Roman"/>
                </a:rPr>
                <a:t>1 to 100 range in network bandwid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7d"/>
                  </a:solidFill>
                  <a:latin typeface="Times New Roman"/>
                </a:rPr>
                <a:t>9.6K  56K                    10,000Kb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297080" y="5741640"/>
              <a:ext cx="4343040" cy="0"/>
              <a:chOff x="1297080" y="5741640"/>
              <a:chExt cx="4343040" cy="0"/>
            </a:xfrm>
          </p:grpSpPr>
          <p:sp>
            <p:nvSpPr>
              <p:cNvPr id="284" name=""/>
              <p:cNvSpPr/>
              <p:nvPr/>
            </p:nvSpPr>
            <p:spPr>
              <a:xfrm>
                <a:off x="1642320" y="5741640"/>
                <a:ext cx="690840" cy="0"/>
              </a:xfrm>
              <a:prstGeom prst="line">
                <a:avLst/>
              </a:prstGeom>
              <a:ln w="7632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28440" y="5741640"/>
                <a:ext cx="2911680" cy="0"/>
              </a:xfrm>
              <a:prstGeom prst="line">
                <a:avLst/>
              </a:prstGeom>
              <a:ln w="76320">
                <a:solidFill>
                  <a:srgbClr val="99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1297080" y="5741640"/>
                <a:ext cx="98640" cy="0"/>
              </a:xfrm>
              <a:prstGeom prst="line">
                <a:avLst/>
              </a:prstGeom>
              <a:ln w="7632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80520" y="294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diversity: Accommodate al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1676520"/>
            <a:ext cx="3962160" cy="1861920"/>
          </a:xfrm>
          <a:prstGeom prst="rect">
            <a:avLst/>
          </a:prstGeom>
          <a:solidFill>
            <a:srgbClr val="ffff99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omputer newbie to hacker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Domain novice to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3289320"/>
            <a:ext cx="2971800" cy="192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Ag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 Young to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Male or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60880" y="4869000"/>
            <a:ext cx="277488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Impoverished to wealhy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933080" y="2050920"/>
            <a:ext cx="3972240" cy="1801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Dis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Visual, auditory, motoric, cognitiv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Disabl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Mobility, injury, noise, sun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295280" y="1473120"/>
            <a:ext cx="2971800" cy="192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Eth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National 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02560" y="4572000"/>
            <a:ext cx="268308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Fluent to illit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Multiple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2133720"/>
            <a:ext cx="3657600" cy="27158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Culture</a:t>
            </a:r>
            <a:r>
              <a:rPr b="0" lang="en-US" sz="2800" spc="-1" strike="noStrike">
                <a:solidFill>
                  <a:srgbClr val="00007d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Western, Eastern, developing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Pers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Introvert vs extrav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Thinking vs fe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Risk a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Locus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Planful vs play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2952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diversity: Accommodate all u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291320" y="5127480"/>
            <a:ext cx="4108320" cy="16185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Times New Roman"/>
              </a:rPr>
              <a:t>Online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Context sensitive, tables of content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Indexes, Keyword searc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FAQs, answer gard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ps in User Knowledge-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e the gap between what users know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they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55600" y="2490840"/>
            <a:ext cx="2959200" cy="1434600"/>
          </a:xfrm>
          <a:prstGeom prst="rect">
            <a:avLst/>
          </a:prstGeom>
          <a:solidFill>
            <a:srgbClr val="ffff99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7d"/>
                </a:solidFill>
                <a:latin typeface="Times New Roman"/>
              </a:rPr>
              <a:t>Design</a:t>
            </a:r>
            <a:r>
              <a:rPr b="1" i="1" lang="en-US" sz="2800" spc="-1" strike="noStrike">
                <a:solidFill>
                  <a:srgbClr val="00007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7d"/>
                </a:solidFill>
                <a:latin typeface="Times New Roman"/>
              </a:rPr>
              <a:t>Multi-Lay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7d"/>
                </a:solidFill>
                <a:latin typeface="Times New Roman"/>
              </a:rPr>
              <a:t>Task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76560" y="3832200"/>
            <a:ext cx="2524680" cy="1618560"/>
          </a:xfrm>
          <a:prstGeom prst="rect">
            <a:avLst/>
          </a:prstGeom>
          <a:solidFill>
            <a:srgbClr val="ffff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Times New Roman"/>
              </a:rPr>
              <a:t>Training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Fade-able scaffo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Training whe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Minima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66520" y="1851120"/>
            <a:ext cx="3003120" cy="2228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Times New Roman"/>
              </a:rPr>
              <a:t>Online Lear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7d"/>
                </a:solidFill>
                <a:latin typeface="Times New Roman"/>
              </a:rPr>
              <a:t>(evolutionary, phased)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Introductory tuto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Getting started manuals, 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Cue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Walkthroughs/D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Minimalist/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23040" y="4952880"/>
            <a:ext cx="3730320" cy="1313640"/>
          </a:xfrm>
          <a:prstGeom prst="rect">
            <a:avLst/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Newsgroups, online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Chat 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76520" y="2209680"/>
            <a:ext cx="2666880" cy="16185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Times New Roman"/>
              </a:rPr>
              <a:t>Customer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Help de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ps in User Knowledge-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e the gap between what users know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they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41840" y="3505320"/>
            <a:ext cx="4674960" cy="1618560"/>
          </a:xfrm>
          <a:prstGeom prst="rect">
            <a:avLst/>
          </a:prstGeom>
          <a:solidFill>
            <a:srgbClr val="ffff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Times New Roman"/>
              </a:rPr>
              <a:t>Supp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Online manuals,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Audio, video, 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Live lecture, peer training, personal tr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blic Access &amp; Universal U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62040" y="1254240"/>
            <a:ext cx="8367840" cy="54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Project Resou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ils.unc.edu/gov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umd.edu/hcil/new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universalusability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otal.umd.edu/uu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vernment Ac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usability.g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firstgov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fedstats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usability.gov/pdfs/guidelines.htm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www.access-board.gov/sec508/statu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6059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evices &amp;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boards, pointing devices,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s, forms, command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evices &amp;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s, windows, color,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, tables,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, messages,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 &amp;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s, tutorials,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54800" y="4876920"/>
            <a:ext cx="23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awl.com/DT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ibib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i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21440" y="1297080"/>
            <a:ext cx="28861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7627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signing the User Interface: 4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854680" y="1649520"/>
            <a:ext cx="3135240" cy="38797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85800" y="1257480"/>
            <a:ext cx="67816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: 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  Usability of  Interactiv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  Guidelines, Principles, and Theorie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: Development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  Managing Design Processes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  Evaluating Interfac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  Software Tools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: Interaction 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  Direct Manipulation and Virtual Environments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  Menu Selection, Form Fillin, and Dialog Boxes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  Command and Natural Languages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  Interaction Devices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  Collaboration 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: Design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  Quality of Service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  Balancing Function and Fashion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  User Manuals, Online Help, and Tutorials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  Information Search and Visualization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rcRect l="841" t="10873" r="27346" b="12975"/>
          <a:stretch/>
        </p:blipFill>
        <p:spPr>
          <a:xfrm>
            <a:off x="1373040" y="1219320"/>
            <a:ext cx="6477120" cy="520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14" name=""/>
          <p:cNvSpPr/>
          <p:nvPr/>
        </p:nvSpPr>
        <p:spPr>
          <a:xfrm>
            <a:off x="609480" y="1522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emap – Monit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54000" y="64771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hivegroup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emap – Gene Ont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rcRect l="17611" t="25461" r="18532" b="20256"/>
          <a:stretch/>
        </p:blipFill>
        <p:spPr>
          <a:xfrm>
            <a:off x="898560" y="1141560"/>
            <a:ext cx="7365960" cy="49305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368440" y="6445080"/>
            <a:ext cx="35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cs.umd.edu/hcil/treema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ynamometers &amp; Inclinomet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rcRect l="22127" t="25624" r="22424" b="17162"/>
          <a:stretch/>
        </p:blipFill>
        <p:spPr>
          <a:xfrm>
            <a:off x="236520" y="1209600"/>
            <a:ext cx="3878280" cy="46101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rcRect l="24184" t="40991" r="18172" b="4127"/>
          <a:stretch/>
        </p:blipFill>
        <p:spPr>
          <a:xfrm>
            <a:off x="4419720" y="1257480"/>
            <a:ext cx="42955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tion Visu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038120" y="152388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y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indow of the sou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principal me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which the central s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most completel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ndantly appreci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inite works of n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452 - 15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rcRect l="3425" t="1368" r="2052" b="2736"/>
          <a:stretch/>
        </p:blipFill>
        <p:spPr>
          <a:xfrm>
            <a:off x="839880" y="1219320"/>
            <a:ext cx="36558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otoM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7080" y="47160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umd.edu/hcil/photom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914400" y="1128600"/>
            <a:ext cx="815328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rcRect l="0" t="14895" r="0" b="12764"/>
          <a:stretch/>
        </p:blipFill>
        <p:spPr>
          <a:xfrm>
            <a:off x="380880" y="0"/>
            <a:ext cx="7925040" cy="65181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4952880" y="3825720"/>
            <a:ext cx="3276720" cy="2727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748920" y="46080"/>
            <a:ext cx="2186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f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781680" y="609480"/>
            <a:ext cx="2357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68800" y="65214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cs.umd.edu/hcil/lifelin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5260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rcRect l="10014" t="23804" r="0" b="23804"/>
          <a:stretch/>
        </p:blipFill>
        <p:spPr>
          <a:xfrm>
            <a:off x="5486400" y="0"/>
            <a:ext cx="34290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8937" r="24516" b="20446"/>
          <a:stretch/>
        </p:blipFill>
        <p:spPr>
          <a:xfrm>
            <a:off x="762120" y="1143000"/>
            <a:ext cx="7391160" cy="57150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map: Stock market, industry cluste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797000" y="64152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hivegroup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22860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emap – Product catal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rcRect l="1398" t="9756" r="6484" b="7317"/>
          <a:stretch/>
        </p:blipFill>
        <p:spPr>
          <a:xfrm>
            <a:off x="0" y="3124080"/>
            <a:ext cx="3624120" cy="37339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3313080" y="1152360"/>
            <a:ext cx="58183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brary of Cong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olars, Journalists, Citize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chers,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Medic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666520" y="1371240"/>
            <a:ext cx="2057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xiety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ssion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asthmahome" descr=""/>
          <p:cNvPicPr/>
          <p:nvPr/>
        </p:nvPicPr>
        <p:blipFill>
          <a:blip r:embed="rId1"/>
          <a:srcRect l="2486" t="8851" r="2653" b="885"/>
          <a:stretch/>
        </p:blipFill>
        <p:spPr>
          <a:xfrm>
            <a:off x="4876920" y="1143000"/>
            <a:ext cx="2666880" cy="3886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2701800" cy="3809880"/>
          </a:xfrm>
          <a:prstGeom prst="rect">
            <a:avLst/>
          </a:prstGeom>
          <a:ln w="0">
            <a:noFill/>
          </a:ln>
        </p:spPr>
      </p:pic>
      <p:pic>
        <p:nvPicPr>
          <p:cNvPr id="348" name="asthmaenv" descr=""/>
          <p:cNvPicPr/>
          <p:nvPr/>
        </p:nvPicPr>
        <p:blipFill>
          <a:blip r:embed="rId3"/>
          <a:srcRect l="2700" t="9414" r="3603" b="1174"/>
          <a:stretch/>
        </p:blipFill>
        <p:spPr>
          <a:xfrm>
            <a:off x="6669000" y="3276720"/>
            <a:ext cx="2398680" cy="3504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2133720" y="3200400"/>
            <a:ext cx="2593800" cy="36576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543800" y="1371600"/>
            <a:ext cx="2057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ible Human Explorer (NL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c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ge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846600" y="1143000"/>
            <a:ext cx="52974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SA Environmental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ientis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 plann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1552" t="12237" r="38786" b="22515"/>
          <a:stretch/>
        </p:blipFill>
        <p:spPr>
          <a:xfrm>
            <a:off x="4105440" y="1219320"/>
            <a:ext cx="503856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reau of Cen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9520" y="1143000"/>
            <a:ext cx="5867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onomists, Policy makers, Journalis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chers,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2876760" cy="2971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80880" y="5029200"/>
            <a:ext cx="76964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0:17:30Z</dcterms:created>
  <dc:creator>Benjamin B. Bederson</dc:creator>
  <dc:description/>
  <dc:language>en-US</dc:language>
  <cp:lastModifiedBy>rose</cp:lastModifiedBy>
  <dcterms:modified xsi:type="dcterms:W3CDTF">2004-06-08T18:28:52Z</dcterms:modified>
  <cp:revision>74</cp:revision>
  <dc:subject/>
  <dc:title>Voting System Technologies</dc:title>
</cp:coreProperties>
</file>