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970C-0DC2-4E39-8C58-963EC9A5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97E6-2993-4FA6-9E04-2D95665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F3D8-8C41-4ADD-8C2B-13A88751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6FE3-9736-46F6-AC01-2CB6C989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A20-8881-4192-AF92-13FD66F9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E6A-5C2E-4CCC-98A7-45BF7B8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E45-75DF-4F72-B694-9A59C2C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BB95-C9E2-439B-9F6E-2FC3D8F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0DA-9044-4E02-A887-99BD1C3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E7B2-F083-481B-8F6F-91197643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12C-8897-476C-AC97-5783517B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A142-39F3-4DD8-AB2D-CCA78E58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B32-1376-42E0-AE8F-637E1E8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9F4-4652-4CC6-A0F1-CE04FFF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33D-443C-48C4-8E7C-9EDD242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F424-34D1-4790-856E-88AF941E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2E6-529C-43EC-97CB-BF77A6BD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05A9-C51D-49AC-8978-DB654AE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D655-2D36-4C06-BA4B-51196F5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4BA0-D0FF-492E-A388-3F0E01F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B0AB-DD53-4178-91E7-2314C169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3EA7-4046-494F-B294-B7331AF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8FA9-579D-40F9-8FB0-6866E13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F282-9AE9-48AB-96B1-A075EFB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220-49E3-460F-90C2-E57EEF634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FF7D-5F50-4CB3-B22A-07587BD24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Visualizat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y Semantic Substrates </a:t>
            </a:r>
            <a:br>
              <a:rPr sz="2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ks Aris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ris@cs.umd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-Computer Interaction Lab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 of Computer Scie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90544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410080"/>
            <a:ext cx="3886200" cy="6098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647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3900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1231920"/>
            <a:ext cx="4343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0400" y="2316240"/>
            <a:ext cx="30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ntique Olv (W1)"/>
              </a:rPr>
              <a:t>?? ?? 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160640"/>
            <a:ext cx="5715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very node is visibl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For every n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unt its degr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For every lin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follow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ource to destin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Clusters and outliers are 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3530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1680" y="2205000"/>
            <a:ext cx="581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v (W1)"/>
              </a:rPr>
              <a:t>How to atta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v (W1)"/>
              </a:rPr>
              <a:t>NetViz Nirvan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2120" y="2438280"/>
            <a:ext cx="761976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419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419720"/>
            <a:ext cx="38098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sers control of link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-of-the-art network vis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9669" t="16329" r="10462" b="7626"/>
          <a:stretch/>
        </p:blipFill>
        <p:spPr>
          <a:xfrm>
            <a:off x="1370160" y="1143000"/>
            <a:ext cx="6630840" cy="567684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 Directed Layou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3949" t="3022" r="3949" b="0"/>
          <a:stretch/>
        </p:blipFill>
        <p:spPr>
          <a:xfrm>
            <a:off x="1981080" y="2114640"/>
            <a:ext cx="5334120" cy="4895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2240" y="982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080" y="1157400"/>
            <a:ext cx="79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36   Supreme &amp; 13    Circuit Court deci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268 citations on Regulatory Takings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19520" y="2743200"/>
            <a:ext cx="4647960" cy="3657600"/>
          </a:xfrm>
          <a:prstGeom prst="line">
            <a:avLst/>
          </a:prstGeom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2666880"/>
            <a:ext cx="4572000" cy="3657600"/>
          </a:xfrm>
          <a:prstGeom prst="line">
            <a:avLst/>
          </a:prstGeom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8720" y="134316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8080" y="1343160"/>
            <a:ext cx="152280" cy="15228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Visualiz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72040" y="1752120"/>
            <a:ext cx="1143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4897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90400" y="121932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NVSS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304920"/>
            <a:ext cx="3810240" cy="43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ering links by source-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ering links by time attribut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links by time attribut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lappe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from District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longevity of cases (short to l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5032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2590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48520" cy="4853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8600" y="1523880"/>
            <a:ext cx="2133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0x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122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645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a third attribute in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circuits for both Circuit and District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s that links remain mostly within a circuit although there are some across (lateral c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4864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convey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visual identific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elativ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between different groups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for nodes and lin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5 regions become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lacement interferes with link 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anel can get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304920"/>
            <a:ext cx="4419720" cy="43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720" t="18891" r="8394" b="6446"/>
          <a:stretch/>
        </p:blipFill>
        <p:spPr>
          <a:xfrm>
            <a:off x="762120" y="228600"/>
            <a:ext cx="716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 To &amp; CC list co-recip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371600"/>
            <a:ext cx="6019560" cy="48769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752480"/>
            <a:ext cx="2514600" cy="2590920"/>
          </a:xfrm>
          <a:prstGeom prst="rect">
            <a:avLst/>
          </a:prstGeom>
          <a:solidFill>
            <a:srgbClr val="feac9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752480"/>
            <a:ext cx="2514600" cy="175284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495680"/>
            <a:ext cx="2514600" cy="144792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3657600"/>
            <a:ext cx="2514600" cy="2286000"/>
          </a:xfrm>
          <a:prstGeom prst="rect">
            <a:avLst/>
          </a:prstGeom>
          <a:solidFill>
            <a:srgbClr val="cc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27480" y="17524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U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00920" y="55468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91920" y="55846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70320" y="17524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243828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228600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89548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2276640"/>
            <a:ext cx="380880" cy="3808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52680" y="2438280"/>
            <a:ext cx="137160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590920" y="2590920"/>
            <a:ext cx="220968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4114800"/>
            <a:ext cx="38124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016080"/>
            <a:ext cx="2514600" cy="12193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90720" y="3200400"/>
            <a:ext cx="304920" cy="7621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819520" y="3124080"/>
            <a:ext cx="2133360" cy="1447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05520" y="2666880"/>
            <a:ext cx="609480" cy="1828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85640" y="2634840"/>
            <a:ext cx="304920" cy="260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819520" y="2666520"/>
            <a:ext cx="30456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962520" y="3047760"/>
            <a:ext cx="76176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809880"/>
            <a:ext cx="381240" cy="1143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38680" y="2666880"/>
            <a:ext cx="152640" cy="14479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3200" y="4724280"/>
            <a:ext cx="2209680" cy="152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4114800"/>
            <a:ext cx="304560" cy="30492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648320"/>
            <a:ext cx="457200" cy="4474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76560" y="3962520"/>
            <a:ext cx="152280" cy="1522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96800" y="3108240"/>
            <a:ext cx="304920" cy="3812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37280" y="4753080"/>
            <a:ext cx="15228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486400" y="4495680"/>
            <a:ext cx="7632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65400" y="2666520"/>
            <a:ext cx="0" cy="7621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742840" y="5028840"/>
            <a:ext cx="60948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09880" y="5105160"/>
            <a:ext cx="152424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4952880"/>
            <a:ext cx="685800" cy="6858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32080" y="4648320"/>
            <a:ext cx="48744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429000"/>
            <a:ext cx="45720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1754280"/>
            <a:ext cx="38088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287440"/>
            <a:ext cx="380880" cy="38124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26480" y="17524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20120" y="5448240"/>
            <a:ext cx="4572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620120" y="5143680"/>
            <a:ext cx="45720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620120" y="5753160"/>
            <a:ext cx="457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39960" y="4951440"/>
            <a:ext cx="6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88080" y="3505320"/>
            <a:ext cx="30492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64400" y="3200400"/>
            <a:ext cx="152280" cy="1522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2120" y="3962520"/>
            <a:ext cx="45720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3160" y="3105000"/>
            <a:ext cx="6242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43520" y="4505400"/>
            <a:ext cx="30492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81080" y="51051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solidFill>
            <a:srgbClr val="ec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00800" y="4352760"/>
            <a:ext cx="190440" cy="447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419720"/>
            <a:ext cx="7596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4267080"/>
            <a:ext cx="1526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73392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5343480"/>
            <a:ext cx="457200" cy="44784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ec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2133720"/>
            <a:ext cx="30456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d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371600"/>
            <a:ext cx="8229600" cy="51055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600200"/>
            <a:ext cx="3809880" cy="3124080"/>
          </a:xfrm>
          <a:prstGeom prst="rect">
            <a:avLst/>
          </a:prstGeom>
          <a:solidFill>
            <a:srgbClr val="fbc4bb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1600200"/>
            <a:ext cx="3886200" cy="2209680"/>
          </a:xfrm>
          <a:prstGeom prst="rect">
            <a:avLst/>
          </a:prstGeom>
          <a:solidFill>
            <a:srgbClr val="cc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876920"/>
            <a:ext cx="1828800" cy="137160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038480"/>
            <a:ext cx="3886200" cy="2210040"/>
          </a:xfrm>
          <a:prstGeom prst="rect">
            <a:avLst/>
          </a:prstGeom>
          <a:solidFill>
            <a:srgbClr val="99c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06640" y="585144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400" y="58514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52360" y="16002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181480"/>
            <a:ext cx="380880" cy="38124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124080"/>
            <a:ext cx="381240" cy="38124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2590920"/>
            <a:ext cx="228600" cy="22860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2286000"/>
            <a:ext cx="304920" cy="30492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457200" cy="45720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29000" y="2437920"/>
            <a:ext cx="182880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362320" y="2971440"/>
            <a:ext cx="266688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352680"/>
            <a:ext cx="3886200" cy="990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6120" y="372420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514600"/>
            <a:ext cx="38124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4114800"/>
            <a:ext cx="1523880" cy="8380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5181480"/>
            <a:ext cx="228600" cy="228600"/>
          </a:xfrm>
          <a:prstGeom prst="ellipse">
            <a:avLst/>
          </a:prstGeom>
          <a:solidFill>
            <a:srgbClr val="0000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809880" y="4266720"/>
            <a:ext cx="1524240" cy="838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86400" y="2743200"/>
            <a:ext cx="1295280" cy="22096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09680" y="2666880"/>
            <a:ext cx="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2743200"/>
            <a:ext cx="83808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2743200"/>
            <a:ext cx="160020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28800" y="3505320"/>
            <a:ext cx="380880" cy="1600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886200" y="2133360"/>
            <a:ext cx="137160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4191120"/>
            <a:ext cx="30456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5486400"/>
            <a:ext cx="228600" cy="2286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4419720"/>
            <a:ext cx="914400" cy="7617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4876920"/>
            <a:ext cx="1752480" cy="1371600"/>
          </a:xfrm>
          <a:prstGeom prst="rect">
            <a:avLst/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6800" y="585144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5410080"/>
            <a:ext cx="228600" cy="228600"/>
          </a:xfrm>
          <a:prstGeom prst="ellipse">
            <a:avLst/>
          </a:prstGeom>
          <a:solidFill>
            <a:srgbClr val="0000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5105520"/>
            <a:ext cx="30492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886200"/>
            <a:ext cx="457200" cy="4572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7440" y="386712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43828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228600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541008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504960" y="548640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28840" y="2819520"/>
            <a:ext cx="60948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880" y="3429000"/>
            <a:ext cx="457200" cy="5335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142640" y="4343400"/>
            <a:ext cx="152280" cy="8380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95360" y="3429000"/>
            <a:ext cx="60984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886200" y="2666520"/>
            <a:ext cx="2286000" cy="1295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905120" y="5257440"/>
            <a:ext cx="129528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86000" y="5486400"/>
            <a:ext cx="99072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334120"/>
            <a:ext cx="304920" cy="30456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286160" y="5533560"/>
            <a:ext cx="1733760" cy="1047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286000" y="2514240"/>
            <a:ext cx="91440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72400" y="297180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4038480"/>
            <a:ext cx="304560" cy="1295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886200"/>
            <a:ext cx="30492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438280"/>
            <a:ext cx="53316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2819520"/>
            <a:ext cx="609480" cy="304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2819520"/>
            <a:ext cx="228600" cy="10666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sers control of link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560" y="4937040"/>
            <a:ext cx="414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~aris/nv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543800" y="55436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52280" y="5692680"/>
            <a:ext cx="106704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" y="52419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Lab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Pro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63000" y="4408560"/>
            <a:ext cx="49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/n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~aris/nv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219320" y="16192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181480" y="1619280"/>
            <a:ext cx="2438640" cy="239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7240" y="47530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La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Network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) Basic networks: nodes and lin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) Nod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rticle title, book author, animal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) Link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trength of connection, type of li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) Directed networ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) Nod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, Ordinal, Numerical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) Link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, Ordinal, 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4120" y="4076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8511" b="0"/>
          <a:stretch/>
        </p:blipFill>
        <p:spPr>
          <a:xfrm>
            <a:off x="5410080" y="1143000"/>
            <a:ext cx="3353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438280"/>
            <a:ext cx="3886200" cy="6098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4120" y="398160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2428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8695" t="0" r="13047" b="0"/>
          <a:stretch/>
        </p:blipFill>
        <p:spPr>
          <a:xfrm>
            <a:off x="5410080" y="3854520"/>
            <a:ext cx="2895840" cy="2774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9808" t="1965" r="0" b="0"/>
          <a:stretch/>
        </p:blipFill>
        <p:spPr>
          <a:xfrm>
            <a:off x="5410080" y="1104840"/>
            <a:ext cx="3505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44808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1936800"/>
            <a:ext cx="4429080" cy="3786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96252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8813" t="0" r="0" b="0"/>
          <a:stretch/>
        </p:blipFill>
        <p:spPr>
          <a:xfrm>
            <a:off x="5257800" y="1219320"/>
            <a:ext cx="3276720" cy="2698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10080" y="4041720"/>
            <a:ext cx="2895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Shneiderman</cp:lastModifiedBy>
  <dcterms:modified xsi:type="dcterms:W3CDTF">2006-10-30T15:33:15Z</dcterms:modified>
  <cp:revision>169</cp:revision>
  <dc:subject/>
  <dc:title>Voting System Technologies</dc:title>
</cp:coreProperties>
</file>