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9CF5-BC41-4B4E-BB61-332D2CDF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F2AB-54F9-4B14-B1E0-37BC9F50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8AC8-C2C5-4D48-8BF9-B7D08D0E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7F15-EF09-4F1A-8E72-2B2B87C9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D50-EFF2-4B02-88F3-D6A8CC8B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74E7-E4DE-4BE5-83D9-B9776B8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C92-F697-4CF2-897E-20DC61FE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DE10-94C2-4570-A475-AB29AB4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25C-6FE4-4318-9F5D-69167C7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CA6A-7415-48FC-A9BD-366B9D6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D209-E455-421B-9180-1136A88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C577-6DFA-4CCA-ABE3-37D02D8E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06D-59B7-4ADF-B456-8B8B679D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9216-766F-4593-819F-3FAC839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67A9-1C78-41A1-BBF5-C438256C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477F-7302-40FA-8331-4F419038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4FCF-D289-45C7-89E9-0E0CE85D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53999-09F5-427E-AF60-CB57828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AC27-F875-4B80-AB6A-B04F69D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1101-E820-4283-A5EC-AC61D21B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A977-810C-47AC-932E-9267CF1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D6B5-AFB9-4A98-8059-5ECAE41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EC35-E594-4686-AB03-9877B93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779C-229F-4E5B-8ADF-FEE6CEC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FE6-2CB3-42FB-8CF2-055345C51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0E0F-734E-4C49-9E6C-A5D17CC05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990720"/>
            <a:ext cx="906768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Visualizat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y Semantic Substrates </a:t>
            </a:r>
            <a:br>
              <a:rPr sz="2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ks Aris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ris@cs.umd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1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-Computer Interaction Lab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 of Computer Scienc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90544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410080"/>
            <a:ext cx="3886200" cy="6098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647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3900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1231920"/>
            <a:ext cx="4343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0400" y="2316240"/>
            <a:ext cx="30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ntique Olv (W1)"/>
              </a:rPr>
              <a:t>?? ?? 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160640"/>
            <a:ext cx="5715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very node is visibl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For every n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unt its degre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For every lin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follow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ource to destin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Clusters and outliers are iden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3530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1680" y="2205000"/>
            <a:ext cx="581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v (W1)"/>
              </a:rPr>
              <a:t>How to atta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v (W1)"/>
              </a:rPr>
              <a:t>NetViz Nirvan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Viz 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62120" y="2438280"/>
            <a:ext cx="761976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419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419720"/>
            <a:ext cx="38098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sers control of link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-of-the-art network visu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9669" t="16329" r="10462" b="7626"/>
          <a:stretch/>
        </p:blipFill>
        <p:spPr>
          <a:xfrm>
            <a:off x="1370160" y="1143000"/>
            <a:ext cx="6630840" cy="567684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e Directed Layou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3949" t="3022" r="3949" b="0"/>
          <a:stretch/>
        </p:blipFill>
        <p:spPr>
          <a:xfrm>
            <a:off x="1981080" y="2114640"/>
            <a:ext cx="5334120" cy="4895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2240" y="982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080" y="1157400"/>
            <a:ext cx="79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36   Supreme &amp; 13    Circuit Court deci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268 citations on Regulatory Takings 1978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19520" y="2743200"/>
            <a:ext cx="4647960" cy="3657600"/>
          </a:xfrm>
          <a:prstGeom prst="line">
            <a:avLst/>
          </a:prstGeom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2666880"/>
            <a:ext cx="4572000" cy="3657600"/>
          </a:xfrm>
          <a:prstGeom prst="line">
            <a:avLst/>
          </a:prstGeom>
          <a:ln cap="sq"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8720" y="1343160"/>
            <a:ext cx="152280" cy="1522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8080" y="1343160"/>
            <a:ext cx="152280" cy="15228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Visualiz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72040" y="1752120"/>
            <a:ext cx="1143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4897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90400" y="121932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v (W1)"/>
              </a:rPr>
              <a:t>NVSS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81480" y="304920"/>
            <a:ext cx="3810240" cy="43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ering links by source-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ering links by time attribute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links by time attribut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lappe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from District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longevity of cases (short to lo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5032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2590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48520" cy="4853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8600" y="1523880"/>
            <a:ext cx="2133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0x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122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,645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a third attribute in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59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circuits for both Circuit and District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s that links remain mostly within a circuit although there are some across (lateral c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4864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convey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visual identific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elativ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 between different groups of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le for nodes and lin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5 regions become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lacement interferes with link 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anel can get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304920"/>
            <a:ext cx="4419720" cy="436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720" t="18891" r="8394" b="6446"/>
          <a:stretch/>
        </p:blipFill>
        <p:spPr>
          <a:xfrm>
            <a:off x="762120" y="228600"/>
            <a:ext cx="716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ail To &amp; CC list co-recip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371600"/>
            <a:ext cx="6019560" cy="48769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1752480"/>
            <a:ext cx="2514600" cy="2590920"/>
          </a:xfrm>
          <a:prstGeom prst="rect">
            <a:avLst/>
          </a:prstGeom>
          <a:solidFill>
            <a:srgbClr val="feac9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752480"/>
            <a:ext cx="2514600" cy="175284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495680"/>
            <a:ext cx="2514600" cy="144792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3657600"/>
            <a:ext cx="2514600" cy="2286000"/>
          </a:xfrm>
          <a:prstGeom prst="rect">
            <a:avLst/>
          </a:prstGeom>
          <a:solidFill>
            <a:srgbClr val="cc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27480" y="17524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U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00920" y="55468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91920" y="55846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70320" y="175248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243828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228600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89548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2276640"/>
            <a:ext cx="380880" cy="3808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52680" y="2438280"/>
            <a:ext cx="137160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590920" y="2590920"/>
            <a:ext cx="220968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4114800"/>
            <a:ext cx="38124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016080"/>
            <a:ext cx="2514600" cy="12193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90720" y="3200400"/>
            <a:ext cx="304920" cy="7621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819520" y="3124080"/>
            <a:ext cx="2133360" cy="1447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05520" y="2666880"/>
            <a:ext cx="609480" cy="1828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285640" y="2634840"/>
            <a:ext cx="304920" cy="260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819520" y="2666520"/>
            <a:ext cx="30456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962520" y="3047760"/>
            <a:ext cx="76176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809880"/>
            <a:ext cx="381240" cy="11430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38680" y="2666880"/>
            <a:ext cx="152640" cy="14479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3200" y="4724280"/>
            <a:ext cx="2209680" cy="152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4114800"/>
            <a:ext cx="304560" cy="30492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648320"/>
            <a:ext cx="457200" cy="4474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76560" y="3962520"/>
            <a:ext cx="152280" cy="1522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96800" y="3108240"/>
            <a:ext cx="304920" cy="3812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37280" y="4753080"/>
            <a:ext cx="15228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486400" y="4495680"/>
            <a:ext cx="7632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2819520"/>
            <a:ext cx="38088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65400" y="2666520"/>
            <a:ext cx="0" cy="7621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742840" y="5028840"/>
            <a:ext cx="60948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09880" y="5105160"/>
            <a:ext cx="152424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4952880"/>
            <a:ext cx="685800" cy="6858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32080" y="4648320"/>
            <a:ext cx="48744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3429000"/>
            <a:ext cx="45720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1754280"/>
            <a:ext cx="38088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287440"/>
            <a:ext cx="380880" cy="38124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26480" y="175248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20120" y="5448240"/>
            <a:ext cx="4572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620120" y="5143680"/>
            <a:ext cx="45720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620120" y="5753160"/>
            <a:ext cx="4572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39960" y="4951440"/>
            <a:ext cx="6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88080" y="3505320"/>
            <a:ext cx="30492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64400" y="3200400"/>
            <a:ext cx="152280" cy="15228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12120" y="3962520"/>
            <a:ext cx="457200" cy="4572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03160" y="3105000"/>
            <a:ext cx="62424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43520" y="4505400"/>
            <a:ext cx="30492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81080" y="51051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4114800"/>
            <a:ext cx="228600" cy="228600"/>
          </a:xfrm>
          <a:prstGeom prst="ellipse">
            <a:avLst/>
          </a:prstGeom>
          <a:solidFill>
            <a:srgbClr val="ec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4800600"/>
            <a:ext cx="228600" cy="22860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400800" y="4352760"/>
            <a:ext cx="190440" cy="4478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419720"/>
            <a:ext cx="7596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4267080"/>
            <a:ext cx="1526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73392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5343480"/>
            <a:ext cx="457200" cy="44784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181480"/>
            <a:ext cx="228600" cy="228600"/>
          </a:xfrm>
          <a:prstGeom prst="ellipse">
            <a:avLst/>
          </a:prstGeom>
          <a:solidFill>
            <a:srgbClr val="ec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2133720"/>
            <a:ext cx="304560" cy="304560"/>
          </a:xfrm>
          <a:prstGeom prst="ellipse">
            <a:avLst/>
          </a:prstGeom>
          <a:solidFill>
            <a:srgbClr val="3366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d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371600"/>
            <a:ext cx="8229600" cy="51055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600200"/>
            <a:ext cx="3809880" cy="3124080"/>
          </a:xfrm>
          <a:prstGeom prst="rect">
            <a:avLst/>
          </a:prstGeom>
          <a:solidFill>
            <a:srgbClr val="fbc4bb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1600200"/>
            <a:ext cx="3886200" cy="2209680"/>
          </a:xfrm>
          <a:prstGeom prst="rect">
            <a:avLst/>
          </a:prstGeom>
          <a:solidFill>
            <a:srgbClr val="cc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876920"/>
            <a:ext cx="1828800" cy="137160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038480"/>
            <a:ext cx="3886200" cy="2210040"/>
          </a:xfrm>
          <a:prstGeom prst="rect">
            <a:avLst/>
          </a:prstGeom>
          <a:solidFill>
            <a:srgbClr val="99c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06640" y="585144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400" y="585144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52360" y="160020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438280"/>
            <a:ext cx="228600" cy="2286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181480"/>
            <a:ext cx="380880" cy="38124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124080"/>
            <a:ext cx="381240" cy="38124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2590920"/>
            <a:ext cx="228600" cy="228600"/>
          </a:xfrm>
          <a:prstGeom prst="ellipse">
            <a:avLst/>
          </a:prstGeom>
          <a:solidFill>
            <a:srgbClr val="339966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2286000"/>
            <a:ext cx="304920" cy="30492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457200" cy="457200"/>
          </a:xfrm>
          <a:prstGeom prst="ellipse">
            <a:avLst/>
          </a:prstGeom>
          <a:solidFill>
            <a:srgbClr val="00808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29000" y="2437920"/>
            <a:ext cx="182880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362320" y="2971440"/>
            <a:ext cx="266688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352680"/>
            <a:ext cx="3886200" cy="990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6120" y="3724200"/>
            <a:ext cx="30492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514600"/>
            <a:ext cx="381240" cy="38088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4114800"/>
            <a:ext cx="1523880" cy="8380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5181480"/>
            <a:ext cx="228600" cy="228600"/>
          </a:xfrm>
          <a:prstGeom prst="ellipse">
            <a:avLst/>
          </a:prstGeom>
          <a:solidFill>
            <a:srgbClr val="0000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809880" y="4266720"/>
            <a:ext cx="1524240" cy="838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86400" y="2743200"/>
            <a:ext cx="1295280" cy="22096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09680" y="2666880"/>
            <a:ext cx="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2743200"/>
            <a:ext cx="838080" cy="457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2743200"/>
            <a:ext cx="160020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28800" y="3505320"/>
            <a:ext cx="380880" cy="16002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886200" y="2133360"/>
            <a:ext cx="1371600" cy="2286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952880"/>
            <a:ext cx="304560" cy="30492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4191120"/>
            <a:ext cx="30456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5486400"/>
            <a:ext cx="228600" cy="2286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4419720"/>
            <a:ext cx="914400" cy="7617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4876920"/>
            <a:ext cx="1752480" cy="1371600"/>
          </a:xfrm>
          <a:prstGeom prst="rect">
            <a:avLst/>
          </a:prstGeom>
          <a:solidFill>
            <a:srgbClr val="99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46800" y="585144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tique Olv (W1)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5410080"/>
            <a:ext cx="228600" cy="228600"/>
          </a:xfrm>
          <a:prstGeom prst="ellipse">
            <a:avLst/>
          </a:prstGeom>
          <a:solidFill>
            <a:srgbClr val="0000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5105520"/>
            <a:ext cx="304920" cy="30456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886200"/>
            <a:ext cx="457200" cy="45720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7440" y="386712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43828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228600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541008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504960" y="548640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28840" y="2819520"/>
            <a:ext cx="60948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523880" y="3429000"/>
            <a:ext cx="457200" cy="5335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142640" y="4343400"/>
            <a:ext cx="152280" cy="8380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95360" y="3429000"/>
            <a:ext cx="60984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886200" y="2666520"/>
            <a:ext cx="2286000" cy="1295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905120" y="5257440"/>
            <a:ext cx="129528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86000" y="5486400"/>
            <a:ext cx="99072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334120"/>
            <a:ext cx="304920" cy="304560"/>
          </a:xfrm>
          <a:prstGeom prst="ellipse">
            <a:avLst/>
          </a:prstGeom>
          <a:solidFill>
            <a:srgbClr val="9933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286160" y="5533560"/>
            <a:ext cx="1733760" cy="1047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286000" y="2514240"/>
            <a:ext cx="914400" cy="1522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72400" y="2971800"/>
            <a:ext cx="457200" cy="457200"/>
          </a:xfrm>
          <a:prstGeom prst="ellipse">
            <a:avLst/>
          </a:prstGeom>
          <a:solidFill>
            <a:srgbClr val="ffcc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4038480"/>
            <a:ext cx="304560" cy="12956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886200"/>
            <a:ext cx="30492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438280"/>
            <a:ext cx="53316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2819520"/>
            <a:ext cx="609480" cy="304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2819520"/>
            <a:ext cx="228600" cy="10666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odes into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an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cal, ordinal, or binned numerica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des according to other attribute(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users control of link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228600"/>
            <a:ext cx="762012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5032b"/>
                    </a:gs>
                    <a:gs pos="100000">
                      <a:srgbClr val="5d011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mantic  Subst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5032b"/>
                  </a:gs>
                  <a:gs pos="100000">
                    <a:srgbClr val="5d011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990720"/>
            <a:ext cx="335268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990720"/>
            <a:ext cx="3810240" cy="0"/>
          </a:xfrm>
          <a:prstGeom prst="line">
            <a:avLst/>
          </a:prstGeom>
          <a:ln cap="sq" w="193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9560" y="4937040"/>
            <a:ext cx="414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v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~aris/nv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543800" y="55436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52280" y="5692680"/>
            <a:ext cx="106704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" y="5241960"/>
            <a:ext cx="259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Lab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Pro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ntique Olv (W1)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63000" y="4408560"/>
            <a:ext cx="49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/n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~aris/nv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219320" y="16192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181480" y="1619280"/>
            <a:ext cx="2438640" cy="239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7240" y="47530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La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tique Olv (W1)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Network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) Basic networks: nodes and lin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) Node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article title, book author, animal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) Link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trength of connection, type of li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) Directed networ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) Nod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, Ordinal, Numerical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) Link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f503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, Ordinal, Num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4120" y="4076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8511" b="0"/>
          <a:stretch/>
        </p:blipFill>
        <p:spPr>
          <a:xfrm>
            <a:off x="5410080" y="1143000"/>
            <a:ext cx="3353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438280"/>
            <a:ext cx="3886200" cy="60984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4120" y="398160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2428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8695" t="0" r="13047" b="0"/>
          <a:stretch/>
        </p:blipFill>
        <p:spPr>
          <a:xfrm>
            <a:off x="5410080" y="3854520"/>
            <a:ext cx="2895840" cy="2774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9808" t="1965" r="0" b="0"/>
          <a:stretch/>
        </p:blipFill>
        <p:spPr>
          <a:xfrm>
            <a:off x="5410080" y="1104840"/>
            <a:ext cx="3505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44808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1936800"/>
            <a:ext cx="4429080" cy="3786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de Placement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647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link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-directe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s based on node attributes (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ar 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962520"/>
            <a:ext cx="3886200" cy="60948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8813" t="0" r="0" b="0"/>
          <a:stretch/>
        </p:blipFill>
        <p:spPr>
          <a:xfrm>
            <a:off x="5257800" y="1219320"/>
            <a:ext cx="3276720" cy="2698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10080" y="4041720"/>
            <a:ext cx="2895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Ben Shneiderman</cp:lastModifiedBy>
  <dcterms:modified xsi:type="dcterms:W3CDTF">2006-10-30T15:33:15Z</dcterms:modified>
  <cp:revision>169</cp:revision>
  <dc:subject/>
  <dc:title>Voting System Technologies</dc:title>
</cp:coreProperties>
</file>