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1A0-D498-4050-B0B6-3DCB13B7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311-C7D7-48DB-93B4-21155EE6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62B-9C3D-439F-8299-6043D37F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5E4-01D9-4BEF-87D8-278FA072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AA8-2187-4E66-9563-03846145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650-D673-4421-BF73-FD91542A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C02-6C28-4D97-934A-72EFEC55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E40-0EC6-49DF-BB98-8202A2E2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4E5-CA7C-497E-AF47-C97ABEA2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A8B-1E81-4966-8417-A0B48113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CE1-4209-4360-9674-89439158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414-FBF1-4DF7-8738-CE4D0225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2CFE-8A25-42DD-AB14-842E69D8C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e-shari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web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listic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lorabl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urity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 Shneid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19015800">
            <a:off x="6243120" y="3585960"/>
            <a:ext cx="167652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1870200"/>
            <a:ext cx="327636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2251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3352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4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WiFi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828800" y="2425680"/>
            <a:ext cx="1467000" cy="228600"/>
            <a:chOff x="1828800" y="2425680"/>
            <a:chExt cx="1467000" cy="228600"/>
          </a:xfrm>
        </p:grpSpPr>
        <p:sp>
          <p:nvSpPr>
            <p:cNvPr id="174" name=""/>
            <p:cNvSpPr/>
            <p:nvPr/>
          </p:nvSpPr>
          <p:spPr>
            <a:xfrm>
              <a:off x="1828800" y="242568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133720" y="249804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828800" y="3013200"/>
            <a:ext cx="1467000" cy="228600"/>
            <a:chOff x="1828800" y="3013200"/>
            <a:chExt cx="1467000" cy="228600"/>
          </a:xfrm>
        </p:grpSpPr>
        <p:sp>
          <p:nvSpPr>
            <p:cNvPr id="177" name=""/>
            <p:cNvSpPr/>
            <p:nvPr/>
          </p:nvSpPr>
          <p:spPr>
            <a:xfrm>
              <a:off x="1828800" y="30132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133720" y="30855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4197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54864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48769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51055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449568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553080" y="3089160"/>
            <a:ext cx="1295640" cy="381240"/>
          </a:xfrm>
          <a:custGeom>
            <a:avLst/>
            <a:gdLst>
              <a:gd name="textAreaLeft" fmla="*/ 4680 w 1295640"/>
              <a:gd name="textAreaRight" fmla="*/ 1290960 w 129564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2174760"/>
            <a:ext cx="1752840" cy="609840"/>
          </a:xfrm>
          <a:custGeom>
            <a:avLst/>
            <a:gdLst>
              <a:gd name="textAreaLeft" fmla="*/ 0 w 1752840"/>
              <a:gd name="textAreaRight" fmla="*/ 1753200 w 175284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4120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077320" y="2174760"/>
            <a:ext cx="380880" cy="228600"/>
            <a:chOff x="8077320" y="2174760"/>
            <a:chExt cx="380880" cy="228600"/>
          </a:xfrm>
        </p:grpSpPr>
        <p:sp>
          <p:nvSpPr>
            <p:cNvPr id="190" name=""/>
            <p:cNvSpPr/>
            <p:nvPr/>
          </p:nvSpPr>
          <p:spPr>
            <a:xfrm flipH="1">
              <a:off x="80823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80773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924680" y="2403360"/>
            <a:ext cx="381240" cy="228600"/>
            <a:chOff x="7924680" y="2403360"/>
            <a:chExt cx="381240" cy="228600"/>
          </a:xfrm>
        </p:grpSpPr>
        <p:sp>
          <p:nvSpPr>
            <p:cNvPr id="193" name=""/>
            <p:cNvSpPr/>
            <p:nvPr/>
          </p:nvSpPr>
          <p:spPr>
            <a:xfrm>
              <a:off x="7924680" y="2403360"/>
              <a:ext cx="376200" cy="228600"/>
            </a:xfrm>
            <a:prstGeom prst="leftArrow">
              <a:avLst>
                <a:gd name="adj1" fmla="val 50000"/>
                <a:gd name="adj2" fmla="val 4114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8003880" y="2475720"/>
              <a:ext cx="3020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8077320" y="3013200"/>
            <a:ext cx="380880" cy="228600"/>
            <a:chOff x="8077320" y="3013200"/>
            <a:chExt cx="380880" cy="228600"/>
          </a:xfrm>
        </p:grpSpPr>
        <p:sp>
          <p:nvSpPr>
            <p:cNvPr id="196" name=""/>
            <p:cNvSpPr/>
            <p:nvPr/>
          </p:nvSpPr>
          <p:spPr>
            <a:xfrm flipH="1">
              <a:off x="80823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80773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924680" y="3241800"/>
            <a:ext cx="381240" cy="228600"/>
            <a:chOff x="7924680" y="3241800"/>
            <a:chExt cx="381240" cy="228600"/>
          </a:xfrm>
        </p:grpSpPr>
        <p:sp>
          <p:nvSpPr>
            <p:cNvPr id="199" name=""/>
            <p:cNvSpPr/>
            <p:nvPr/>
          </p:nvSpPr>
          <p:spPr>
            <a:xfrm>
              <a:off x="7924680" y="3241800"/>
              <a:ext cx="376200" cy="228600"/>
            </a:xfrm>
            <a:prstGeom prst="leftArrow">
              <a:avLst>
                <a:gd name="adj1" fmla="val 50000"/>
                <a:gd name="adj2" fmla="val 4114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003880" y="3314160"/>
              <a:ext cx="3020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077320" y="4003560"/>
            <a:ext cx="380880" cy="228600"/>
            <a:chOff x="8077320" y="4003560"/>
            <a:chExt cx="380880" cy="228600"/>
          </a:xfrm>
        </p:grpSpPr>
        <p:sp>
          <p:nvSpPr>
            <p:cNvPr id="202" name=""/>
            <p:cNvSpPr/>
            <p:nvPr/>
          </p:nvSpPr>
          <p:spPr>
            <a:xfrm flipH="1">
              <a:off x="80823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80773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924680" y="4232160"/>
            <a:ext cx="381240" cy="228600"/>
            <a:chOff x="7924680" y="4232160"/>
            <a:chExt cx="381240" cy="228600"/>
          </a:xfrm>
        </p:grpSpPr>
        <p:sp>
          <p:nvSpPr>
            <p:cNvPr id="205" name=""/>
            <p:cNvSpPr/>
            <p:nvPr/>
          </p:nvSpPr>
          <p:spPr>
            <a:xfrm>
              <a:off x="7924680" y="4232160"/>
              <a:ext cx="376200" cy="228600"/>
            </a:xfrm>
            <a:prstGeom prst="leftArrow">
              <a:avLst>
                <a:gd name="adj1" fmla="val 50000"/>
                <a:gd name="adj2" fmla="val 4114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003880" y="4304520"/>
              <a:ext cx="3020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45320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760" y="3241800"/>
            <a:ext cx="1675800" cy="228600"/>
            <a:chOff x="2057760" y="3241800"/>
            <a:chExt cx="1675800" cy="228600"/>
          </a:xfrm>
        </p:grpSpPr>
        <p:sp>
          <p:nvSpPr>
            <p:cNvPr id="209" name=""/>
            <p:cNvSpPr/>
            <p:nvPr/>
          </p:nvSpPr>
          <p:spPr>
            <a:xfrm flipH="1">
              <a:off x="2079000" y="324180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057760" y="331416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335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4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WiFi, etc. for specified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222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225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6575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33433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73384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791240" y="308916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238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241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244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247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250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253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257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533520" y="5257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4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WiFi, etc. for specified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270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273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6575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33433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73384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791240" y="308916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286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289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292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295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298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301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62920" y="2286000"/>
            <a:ext cx="1523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308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52578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5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Fi, etc. for specified actions. Firewall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321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324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6575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33433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73384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819680" y="312408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337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340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343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346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349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352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62920" y="228600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359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3809880" y="2590560"/>
            <a:ext cx="1219320" cy="1371600"/>
          </a:xfrm>
          <a:prstGeom prst="blockArc">
            <a:avLst>
              <a:gd name="adj1" fmla="val 10993459"/>
              <a:gd name="adj2" fmla="val 21406541"/>
              <a:gd name="adj3" fmla="val 314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76600" y="285444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33160" y="52578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5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Fi, etc. for specified actions. Firewall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374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377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6575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33433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73384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819680" y="312408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6476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390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393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396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399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402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405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162920" y="228600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412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3352680" y="2971800"/>
            <a:ext cx="1981440" cy="1371600"/>
          </a:xfrm>
          <a:prstGeom prst="blockArc">
            <a:avLst>
              <a:gd name="adj1" fmla="val 10993459"/>
              <a:gd name="adj2" fmla="val 21406541"/>
              <a:gd name="adj3" fmla="val 314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48160" y="330192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33160" y="52578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5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Fi, etc. for specified actions. Firewall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427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430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657520" y="339408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3343320" y="3546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733840" y="3546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791240" y="308916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443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446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449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452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455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458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62920" y="228600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465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2504520" y="2361960"/>
            <a:ext cx="3353040" cy="1676520"/>
          </a:xfrm>
          <a:prstGeom prst="blockArc">
            <a:avLst>
              <a:gd name="adj1" fmla="val 10995398"/>
              <a:gd name="adj2" fmla="val 21404602"/>
              <a:gd name="adj3" fmla="val 199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19720" y="2008080"/>
            <a:ext cx="68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3160" y="52578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7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Fi, etc. for specified actions. Firewall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480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483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5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2133720" y="3346560"/>
            <a:ext cx="1295280" cy="11016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2895480" y="353376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286000" y="353376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791240" y="308916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496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499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502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505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508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511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162920" y="2286000"/>
            <a:ext cx="1523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518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5400000">
            <a:off x="2504520" y="2361960"/>
            <a:ext cx="3353040" cy="1676520"/>
          </a:xfrm>
          <a:prstGeom prst="blockArc">
            <a:avLst>
              <a:gd name="adj1" fmla="val 10995398"/>
              <a:gd name="adj2" fmla="val 21404602"/>
              <a:gd name="adj3" fmla="val 199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419720" y="2008080"/>
            <a:ext cx="68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0"/>
          <a:srcRect l="34497" t="49877" r="59404" b="34291"/>
          <a:stretch/>
        </p:blipFill>
        <p:spPr>
          <a:xfrm>
            <a:off x="2898720" y="3987720"/>
            <a:ext cx="374760" cy="3114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525" name="" descr=""/>
          <p:cNvPicPr/>
          <p:nvPr/>
        </p:nvPicPr>
        <p:blipFill>
          <a:blip r:embed="rId11"/>
          <a:srcRect l="34497" t="49877" r="59404" b="34291"/>
          <a:stretch/>
        </p:blipFill>
        <p:spPr>
          <a:xfrm>
            <a:off x="2289240" y="3987720"/>
            <a:ext cx="374760" cy="3114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526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 rot="19015800">
            <a:off x="4481280" y="3586320"/>
            <a:ext cx="1676160" cy="113796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1870200"/>
            <a:ext cx="327672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38400" y="2251080"/>
            <a:ext cx="129564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2352600" y="202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174312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1743120" y="2022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33160" y="52578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7: Networked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outside world by LAN, Interne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Fi, etc. for specified actions. Firewall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990720" y="2425680"/>
            <a:ext cx="532800" cy="228600"/>
            <a:chOff x="990720" y="2425680"/>
            <a:chExt cx="532800" cy="228600"/>
          </a:xfrm>
        </p:grpSpPr>
        <p:sp>
          <p:nvSpPr>
            <p:cNvPr id="535" name=""/>
            <p:cNvSpPr/>
            <p:nvPr/>
          </p:nvSpPr>
          <p:spPr>
            <a:xfrm>
              <a:off x="990720" y="242568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101240" y="249804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990720" y="3013200"/>
            <a:ext cx="532800" cy="228600"/>
            <a:chOff x="990720" y="3013200"/>
            <a:chExt cx="532800" cy="228600"/>
          </a:xfrm>
        </p:grpSpPr>
        <p:sp>
          <p:nvSpPr>
            <p:cNvPr id="538" name=""/>
            <p:cNvSpPr/>
            <p:nvPr/>
          </p:nvSpPr>
          <p:spPr>
            <a:xfrm>
              <a:off x="990720" y="3013200"/>
              <a:ext cx="526320" cy="228600"/>
            </a:xfrm>
            <a:prstGeom prst="leftArrow">
              <a:avLst>
                <a:gd name="adj1" fmla="val 50000"/>
                <a:gd name="adj2" fmla="val 5755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101240" y="3085560"/>
              <a:ext cx="422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228600" y="1984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228600" y="293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2133720" y="3346560"/>
            <a:ext cx="1295280" cy="11016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372420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3114720" y="240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2895480" y="353376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2286000" y="353376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4791240" y="3089160"/>
            <a:ext cx="1295280" cy="381240"/>
          </a:xfrm>
          <a:custGeom>
            <a:avLst/>
            <a:gdLst>
              <a:gd name="textAreaLeft" fmla="*/ 4680 w 1295280"/>
              <a:gd name="textAreaRight" fmla="*/ 1290600 w 1295280"/>
              <a:gd name="textAreaTop" fmla="*/ 78480 h 381240"/>
              <a:gd name="textAreaBottom" fmla="*/ 302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59" y="-5667"/>
                  <a:pt x="7200" y="10125"/>
                  <a:pt x="10759" y="2229"/>
                </a:cubicBezTo>
                <a:cubicBezTo>
                  <a:pt x="14318" y="-5667"/>
                  <a:pt x="17959" y="10125"/>
                  <a:pt x="21518" y="2229"/>
                </a:cubicBezTo>
                <a:lnTo>
                  <a:pt x="21600" y="19371"/>
                </a:lnTo>
                <a:cubicBezTo>
                  <a:pt x="18041" y="27267"/>
                  <a:pt x="14400" y="11475"/>
                  <a:pt x="10841" y="19371"/>
                </a:cubicBezTo>
                <a:cubicBezTo>
                  <a:pt x="7282" y="27267"/>
                  <a:pt x="3641" y="11475"/>
                  <a:pt x="82" y="1937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34040" y="2174760"/>
            <a:ext cx="1752480" cy="609840"/>
          </a:xfrm>
          <a:custGeom>
            <a:avLst/>
            <a:gdLst>
              <a:gd name="textAreaLeft" fmla="*/ 0 w 1752480"/>
              <a:gd name="textAreaRight" fmla="*/ 1752840 w 1752480"/>
              <a:gd name="textAreaTop" fmla="*/ 251640 h 609840"/>
              <a:gd name="textAreaBottom" fmla="*/ 358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21840" y="39466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315120" y="2174760"/>
            <a:ext cx="380880" cy="228600"/>
            <a:chOff x="6315120" y="2174760"/>
            <a:chExt cx="380880" cy="228600"/>
          </a:xfrm>
        </p:grpSpPr>
        <p:sp>
          <p:nvSpPr>
            <p:cNvPr id="551" name=""/>
            <p:cNvSpPr/>
            <p:nvPr/>
          </p:nvSpPr>
          <p:spPr>
            <a:xfrm flipH="1">
              <a:off x="6320160" y="21747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6315120" y="22471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162840" y="2403360"/>
            <a:ext cx="380880" cy="228600"/>
            <a:chOff x="6162840" y="2403360"/>
            <a:chExt cx="380880" cy="228600"/>
          </a:xfrm>
        </p:grpSpPr>
        <p:sp>
          <p:nvSpPr>
            <p:cNvPr id="554" name=""/>
            <p:cNvSpPr/>
            <p:nvPr/>
          </p:nvSpPr>
          <p:spPr>
            <a:xfrm>
              <a:off x="6162840" y="24033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242040" y="24757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315120" y="3013200"/>
            <a:ext cx="380880" cy="228600"/>
            <a:chOff x="6315120" y="3013200"/>
            <a:chExt cx="380880" cy="228600"/>
          </a:xfrm>
        </p:grpSpPr>
        <p:sp>
          <p:nvSpPr>
            <p:cNvPr id="557" name=""/>
            <p:cNvSpPr/>
            <p:nvPr/>
          </p:nvSpPr>
          <p:spPr>
            <a:xfrm flipH="1">
              <a:off x="6320160" y="30132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6315120" y="30855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162840" y="3241800"/>
            <a:ext cx="380880" cy="228600"/>
            <a:chOff x="6162840" y="3241800"/>
            <a:chExt cx="380880" cy="228600"/>
          </a:xfrm>
        </p:grpSpPr>
        <p:sp>
          <p:nvSpPr>
            <p:cNvPr id="560" name=""/>
            <p:cNvSpPr/>
            <p:nvPr/>
          </p:nvSpPr>
          <p:spPr>
            <a:xfrm>
              <a:off x="6162840" y="324180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242040" y="331416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315120" y="4003560"/>
            <a:ext cx="380880" cy="228600"/>
            <a:chOff x="6315120" y="4003560"/>
            <a:chExt cx="380880" cy="228600"/>
          </a:xfrm>
        </p:grpSpPr>
        <p:sp>
          <p:nvSpPr>
            <p:cNvPr id="563" name=""/>
            <p:cNvSpPr/>
            <p:nvPr/>
          </p:nvSpPr>
          <p:spPr>
            <a:xfrm flipH="1">
              <a:off x="6320160" y="40035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6315120" y="40759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162840" y="4232160"/>
            <a:ext cx="380880" cy="228600"/>
            <a:chOff x="6162840" y="4232160"/>
            <a:chExt cx="380880" cy="228600"/>
          </a:xfrm>
        </p:grpSpPr>
        <p:sp>
          <p:nvSpPr>
            <p:cNvPr id="566" name=""/>
            <p:cNvSpPr/>
            <p:nvPr/>
          </p:nvSpPr>
          <p:spPr>
            <a:xfrm>
              <a:off x="6162840" y="4232160"/>
              <a:ext cx="375840" cy="228600"/>
            </a:xfrm>
            <a:prstGeom prst="leftArrow">
              <a:avLst>
                <a:gd name="adj1" fmla="val 50000"/>
                <a:gd name="adj2" fmla="val 41102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242040" y="4304520"/>
              <a:ext cx="301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6781680" y="1828800"/>
            <a:ext cx="2210040" cy="281952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450560" y="14270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162920" y="2286000"/>
            <a:ext cx="1523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668680" y="141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066320" y="3241800"/>
            <a:ext cx="685800" cy="228600"/>
            <a:chOff x="1066320" y="3241800"/>
            <a:chExt cx="685800" cy="228600"/>
          </a:xfrm>
        </p:grpSpPr>
        <p:sp>
          <p:nvSpPr>
            <p:cNvPr id="573" name=""/>
            <p:cNvSpPr/>
            <p:nvPr/>
          </p:nvSpPr>
          <p:spPr>
            <a:xfrm flipH="1">
              <a:off x="1075320" y="3241800"/>
              <a:ext cx="676800" cy="228600"/>
            </a:xfrm>
            <a:prstGeom prst="leftArrow">
              <a:avLst>
                <a:gd name="adj1" fmla="val 50000"/>
                <a:gd name="adj2" fmla="val 7401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1065960" y="3314160"/>
              <a:ext cx="54324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2504520" y="2361960"/>
            <a:ext cx="3353040" cy="1676520"/>
          </a:xfrm>
          <a:prstGeom prst="blockArc">
            <a:avLst>
              <a:gd name="adj1" fmla="val 10995398"/>
              <a:gd name="adj2" fmla="val 21404602"/>
              <a:gd name="adj3" fmla="val 1993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2008080"/>
            <a:ext cx="68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0"/>
          <a:srcRect l="34497" t="49877" r="59404" b="34291"/>
          <a:stretch/>
        </p:blipFill>
        <p:spPr>
          <a:xfrm>
            <a:off x="2898720" y="3987720"/>
            <a:ext cx="374760" cy="3114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pic>
        <p:nvPicPr>
          <p:cNvPr id="580" name="" descr=""/>
          <p:cNvPicPr/>
          <p:nvPr/>
        </p:nvPicPr>
        <p:blipFill>
          <a:blip r:embed="rId11"/>
          <a:srcRect l="34497" t="49877" r="59404" b="34291"/>
          <a:stretch/>
        </p:blipFill>
        <p:spPr>
          <a:xfrm>
            <a:off x="2289240" y="3987720"/>
            <a:ext cx="374760" cy="31140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581" name=""/>
          <p:cNvSpPr/>
          <p:nvPr/>
        </p:nvSpPr>
        <p:spPr>
          <a:xfrm rot="5400000">
            <a:off x="2514600" y="3276720"/>
            <a:ext cx="1371600" cy="1218960"/>
          </a:xfrm>
          <a:prstGeom prst="blockArc">
            <a:avLst>
              <a:gd name="adj1" fmla="val 10373305"/>
              <a:gd name="adj2" fmla="val 426695"/>
              <a:gd name="adj3" fmla="val 35306"/>
            </a:avLst>
          </a:prstGeom>
          <a:solidFill>
            <a:srgbClr val="ff8d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336852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08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e-shari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web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listic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lorabl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urity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 Shneid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e-shari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web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listic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lorabl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urity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5002" t="21669" r="5002" b="6669"/>
          <a:stretch/>
        </p:blipFill>
        <p:spPr>
          <a:xfrm>
            <a:off x="4648320" y="3200400"/>
            <a:ext cx="4190760" cy="2503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ort William Henry"/>
          <p:cNvPicPr/>
          <p:nvPr/>
        </p:nvPicPr>
        <p:blipFill>
          <a:blip r:embed="rId2"/>
          <a:srcRect l="16841" t="0" r="0" b="0"/>
          <a:stretch/>
        </p:blipFill>
        <p:spPr>
          <a:xfrm>
            <a:off x="380880" y="2743200"/>
            <a:ext cx="37623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0: Stand alone PC with fil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in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1905120"/>
            <a:ext cx="1523880" cy="16002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600200"/>
              <a:gd name="textAreaBottom" fmla="*/ 1526040 h 1600200"/>
            </a:gdLst>
            <a:ahLst/>
            <a:rect l="textAreaLeft" t="textAreaTop" r="textAreaRight" b="textAreaBottom"/>
            <a:pathLst>
              <a:path w="21600" h="22682">
                <a:moveTo>
                  <a:pt x="3600" y="0"/>
                </a:moveTo>
                <a:arcTo wR="3600" hR="3600" stAng="16200000" swAng="-5400000"/>
                <a:lnTo>
                  <a:pt x="0" y="19082"/>
                </a:lnTo>
                <a:arcTo wR="3600" hR="3600" stAng="10800000" swAng="-5400000"/>
                <a:lnTo>
                  <a:pt x="18000" y="22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1905120"/>
            <a:ext cx="1523880" cy="16002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600200"/>
              <a:gd name="textAreaBottom" fmla="*/ 1526040 h 1600200"/>
            </a:gdLst>
            <a:ahLst/>
            <a:rect l="textAreaLeft" t="textAreaTop" r="textAreaRight" b="textAreaBottom"/>
            <a:pathLst>
              <a:path w="21600" h="22682">
                <a:moveTo>
                  <a:pt x="3600" y="0"/>
                </a:moveTo>
                <a:arcTo wR="3600" hR="3600" stAng="16200000" swAng="-5400000"/>
                <a:lnTo>
                  <a:pt x="0" y="19082"/>
                </a:lnTo>
                <a:arcTo wR="3600" hR="3600" stAng="10800000" swAng="-5400000"/>
                <a:lnTo>
                  <a:pt x="18000" y="22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: Stand alone PC with files, local printer, local disks, no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limit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58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61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76720" y="19051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 Stand alone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limit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73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76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057760" y="3276720"/>
            <a:ext cx="1675800" cy="228600"/>
            <a:chOff x="2057760" y="3276720"/>
            <a:chExt cx="1675800" cy="228600"/>
          </a:xfrm>
        </p:grpSpPr>
        <p:sp>
          <p:nvSpPr>
            <p:cNvPr id="81" name=""/>
            <p:cNvSpPr/>
            <p:nvPr/>
          </p:nvSpPr>
          <p:spPr>
            <a:xfrm flipH="1">
              <a:off x="2079000" y="327672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2057760" y="334908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9051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 Stand alone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limit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91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94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2057760" y="3276720"/>
            <a:ext cx="1675800" cy="228600"/>
            <a:chOff x="2057760" y="3276720"/>
            <a:chExt cx="1675800" cy="228600"/>
          </a:xfrm>
        </p:grpSpPr>
        <p:sp>
          <p:nvSpPr>
            <p:cNvPr id="99" name=""/>
            <p:cNvSpPr/>
            <p:nvPr/>
          </p:nvSpPr>
          <p:spPr>
            <a:xfrm flipH="1">
              <a:off x="2079000" y="327672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2057760" y="334908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6720" y="19051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 Stand alone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limit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109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112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057760" y="3276720"/>
            <a:ext cx="1675800" cy="228600"/>
            <a:chOff x="2057760" y="3276720"/>
            <a:chExt cx="1675800" cy="228600"/>
          </a:xfrm>
        </p:grpSpPr>
        <p:sp>
          <p:nvSpPr>
            <p:cNvPr id="117" name=""/>
            <p:cNvSpPr/>
            <p:nvPr/>
          </p:nvSpPr>
          <p:spPr>
            <a:xfrm flipH="1">
              <a:off x="2079000" y="327672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057760" y="334908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733920"/>
            <a:ext cx="2819520" cy="990360"/>
          </a:xfrm>
          <a:prstGeom prst="wedgeRectCallout">
            <a:avLst>
              <a:gd name="adj1" fmla="val 26856"/>
              <a:gd name="adj2" fmla="val -1096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809880"/>
            <a:ext cx="29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-FORTS3   8/3/2005  8:48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C434-Outline  8/2/2005  7:20p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NIX-Prog         8/2/2005  7:11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76720" y="190512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3520" y="4800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 Stand alone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ly secured, but limited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128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131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057760" y="3276720"/>
            <a:ext cx="1675800" cy="228600"/>
            <a:chOff x="2057760" y="3276720"/>
            <a:chExt cx="1675800" cy="228600"/>
          </a:xfrm>
        </p:grpSpPr>
        <p:sp>
          <p:nvSpPr>
            <p:cNvPr id="136" name=""/>
            <p:cNvSpPr/>
            <p:nvPr/>
          </p:nvSpPr>
          <p:spPr>
            <a:xfrm flipH="1">
              <a:off x="2079000" y="327672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057760" y="334908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712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76720" y="1905120"/>
            <a:ext cx="3276360" cy="2743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228600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34438" t="50012" r="59340" b="34426"/>
          <a:stretch/>
        </p:blipFill>
        <p:spPr>
          <a:xfrm>
            <a:off x="411480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34438" t="50012" r="59340" b="34426"/>
          <a:stretch/>
        </p:blipFill>
        <p:spPr>
          <a:xfrm>
            <a:off x="3505320" y="2743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34438" t="50012" r="59340" b="34426"/>
          <a:stretch/>
        </p:blipFill>
        <p:spPr>
          <a:xfrm>
            <a:off x="3505320" y="205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160" y="47239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: Stand alone PC with files, local printer, local disks, two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ersons &amp; groups given access to some folders, higher protection inside interior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28800" y="2460600"/>
            <a:ext cx="1467000" cy="228600"/>
            <a:chOff x="1828800" y="2460600"/>
            <a:chExt cx="1467000" cy="228600"/>
          </a:xfrm>
        </p:grpSpPr>
        <p:sp>
          <p:nvSpPr>
            <p:cNvPr id="147" name=""/>
            <p:cNvSpPr/>
            <p:nvPr/>
          </p:nvSpPr>
          <p:spPr>
            <a:xfrm>
              <a:off x="1828800" y="246060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133720" y="253296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828800" y="3048120"/>
            <a:ext cx="1467000" cy="228600"/>
            <a:chOff x="1828800" y="3048120"/>
            <a:chExt cx="1467000" cy="228600"/>
          </a:xfrm>
        </p:grpSpPr>
        <p:sp>
          <p:nvSpPr>
            <p:cNvPr id="150" name=""/>
            <p:cNvSpPr/>
            <p:nvPr/>
          </p:nvSpPr>
          <p:spPr>
            <a:xfrm>
              <a:off x="1828800" y="3048120"/>
              <a:ext cx="1447920" cy="228600"/>
            </a:xfrm>
            <a:prstGeom prst="leftArrow">
              <a:avLst>
                <a:gd name="adj1" fmla="val 50000"/>
                <a:gd name="adj2" fmla="val 158346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133720" y="3120480"/>
              <a:ext cx="11620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4"/>
          <a:srcRect l="12398" t="15471" r="83960" b="73484"/>
          <a:stretch/>
        </p:blipFill>
        <p:spPr>
          <a:xfrm>
            <a:off x="1066680" y="20192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rcRect l="8022" t="15471" r="88336" b="73484"/>
          <a:stretch/>
        </p:blipFill>
        <p:spPr>
          <a:xfrm>
            <a:off x="1066680" y="2971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19720" y="3429000"/>
            <a:ext cx="1295280" cy="7621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rcRect l="34438" t="50012" r="59340" b="34426"/>
          <a:stretch/>
        </p:blipFill>
        <p:spPr>
          <a:xfrm>
            <a:off x="5486400" y="243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rcRect l="34438" t="50012" r="59340" b="34426"/>
          <a:stretch/>
        </p:blipFill>
        <p:spPr>
          <a:xfrm>
            <a:off x="4876920" y="243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rcRect l="34438" t="50012" r="59340" b="34426"/>
          <a:stretch/>
        </p:blipFill>
        <p:spPr>
          <a:xfrm>
            <a:off x="510552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rcRect l="34438" t="50012" r="59340" b="34426"/>
          <a:stretch/>
        </p:blipFill>
        <p:spPr>
          <a:xfrm>
            <a:off x="4495680" y="358128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057760" y="3276720"/>
            <a:ext cx="1675800" cy="228600"/>
            <a:chOff x="2057760" y="3276720"/>
            <a:chExt cx="1675800" cy="228600"/>
          </a:xfrm>
        </p:grpSpPr>
        <p:sp>
          <p:nvSpPr>
            <p:cNvPr id="160" name=""/>
            <p:cNvSpPr/>
            <p:nvPr/>
          </p:nvSpPr>
          <p:spPr>
            <a:xfrm flipH="1">
              <a:off x="2079000" y="3276720"/>
              <a:ext cx="1654560" cy="228600"/>
            </a:xfrm>
            <a:prstGeom prst="leftArrow">
              <a:avLst>
                <a:gd name="adj1" fmla="val 50000"/>
                <a:gd name="adj2" fmla="val 1809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2057760" y="3349080"/>
              <a:ext cx="13276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453200" y="1447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152280"/>
            <a:ext cx="5181480" cy="1067040"/>
          </a:xfrm>
          <a:prstGeom prst="rect">
            <a:avLst/>
          </a:prstGeom>
          <a:solidFill>
            <a:srgbClr val="fae1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Entity     Read  Write  Append  Mod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           Person      x         x           x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ern    Group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6360" y="1522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6320" y="3618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21:18:10Z</dcterms:created>
  <dc:creator>Ben Shneiderman (ben@cs.umd.edu)</dc:creator>
  <dc:description/>
  <dc:language>en-US</dc:language>
  <cp:lastModifiedBy>rose</cp:lastModifiedBy>
  <dcterms:modified xsi:type="dcterms:W3CDTF">2005-08-05T13:13:38Z</dcterms:modified>
  <cp:revision>18</cp:revision>
  <dc:subject/>
  <dc:title>FORTS: Flexible online realtime security</dc:title>
</cp:coreProperties>
</file>