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582-CF53-4192-A86C-F5EB7107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1A6-119F-43BB-9B50-61CCC4C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684-FD63-4ADC-8ACD-C2917503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604-C5F5-4060-8E47-556E2051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5FEF-1B68-43ED-BAC0-8A9C830F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756F-598F-48D6-BF79-F6B50EA0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3CB3-BE87-4BA2-875C-1B6EABDF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F522-EF60-4386-AC6C-DE0A97C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C63B-924C-4BA3-8862-3A3B45F0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D0A2-1D1D-4751-8F77-4DE4B963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9B7-463D-41E0-A5AA-800468E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26F-E045-43D0-AEB8-1F9381A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018-6425-444A-8554-9815175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86E0-6AED-442D-BF40-03426FB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DB3F-E2F2-4643-99BA-37BAD7C1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941-F7B4-4075-95A7-70316D9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0CF2-5B67-4E45-BCDE-28871E50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595-37CB-4E4F-9BD0-1D24EAF2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367-9FEE-4747-A2DA-080B024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1C9-9174-4CCA-803D-70DC0CC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FC8-50DC-4D27-AA23-E320F1E7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623-86A2-484C-84BA-CBB3D8E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0B5-AF13-47E0-8AE6-64297869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043-9B49-435F-954F-D4668DD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58D-D76B-4F11-8CF6-7256A8AF5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020600" y="154080"/>
            <a:ext cx="7696080" cy="685800"/>
            <a:chOff x="1020600" y="154080"/>
            <a:chExt cx="7696080" cy="685800"/>
          </a:xfrm>
        </p:grpSpPr>
        <p:sp>
          <p:nvSpPr>
            <p:cNvPr id="6" name=""/>
            <p:cNvSpPr/>
            <p:nvPr/>
          </p:nvSpPr>
          <p:spPr>
            <a:xfrm>
              <a:off x="1020600" y="15408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e5d09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1863720" y="154080"/>
              <a:ext cx="6075360" cy="680400"/>
              <a:chOff x="1863720" y="154080"/>
              <a:chExt cx="6075360" cy="680400"/>
            </a:xfrm>
          </p:grpSpPr>
          <p:grpSp>
            <p:nvGrpSpPr>
              <p:cNvPr id="8" name=""/>
              <p:cNvGrpSpPr/>
              <p:nvPr/>
            </p:nvGrpSpPr>
            <p:grpSpPr>
              <a:xfrm>
                <a:off x="1863720" y="155520"/>
                <a:ext cx="3505320" cy="677160"/>
                <a:chOff x="1863720" y="155520"/>
                <a:chExt cx="3505320" cy="67716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3826080" y="77724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44880" y="82008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608640" y="75024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365640" y="77112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292560" y="78048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246480" y="77904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997360" y="64080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143520" y="63144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246480" y="68040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43240" y="70596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329280" y="67572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35400" y="72504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0128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380040" y="71388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548160" y="72324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659400" y="63612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726000" y="69948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511800" y="556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399120" y="623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275280" y="60264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257640" y="51228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73480" y="57888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229200" y="58536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4894200" y="54864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265640" y="15660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060800" y="47880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41720" y="46944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811760" y="41688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934160" y="45972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884840" y="47268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859280" y="40428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5061240" y="48996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523040" y="16452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235400" y="16308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3570480" y="20916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2792520" y="16308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486240" y="15552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467160" y="22824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367080" y="27900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51320" y="31212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739960" y="38988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836800" y="59652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259080" y="44064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40080" y="42192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863720" y="27108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130480" y="48204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586240" y="74232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71840" y="56160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944720" y="33912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424240" y="19332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105280" y="16452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295720" y="22032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271960" y="24228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70240" y="30744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57720" y="30600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224080" y="24084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6131160" y="154080"/>
                <a:ext cx="1807920" cy="680400"/>
                <a:chOff x="6131160" y="154080"/>
                <a:chExt cx="1807920" cy="680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875720" y="7506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632720" y="7714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559640" y="7808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13920" y="77940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264440" y="6411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410600" y="6318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513920" y="6807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10680" y="7063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96360" y="6760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02480" y="72540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0164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47120" y="7142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815240" y="7236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26480" y="6364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778880" y="5569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666200" y="623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542360" y="6030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24720" y="51264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40560" y="5792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496280" y="58572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837560" y="2095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58160" y="16344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753320" y="15408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34240" y="22860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634520" y="27936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718400" y="3124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007400" y="39024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104240" y="5968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526520" y="44100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07520" y="42228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131160" y="27288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97560" y="48420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53320" y="7426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38920" y="5619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12160" y="3394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91320" y="1936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372360" y="1648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562800" y="2206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39040" y="24264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637320" y="3078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24800" y="3063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491520" y="24120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"/>
            <p:cNvGrpSpPr/>
            <p:nvPr/>
          </p:nvGrpSpPr>
          <p:grpSpPr>
            <a:xfrm>
              <a:off x="1233360" y="164880"/>
              <a:ext cx="7464240" cy="663840"/>
              <a:chOff x="1233360" y="164880"/>
              <a:chExt cx="7464240" cy="663840"/>
            </a:xfrm>
          </p:grpSpPr>
          <p:sp>
            <p:nvSpPr>
              <p:cNvPr id="109" name=""/>
              <p:cNvSpPr/>
              <p:nvPr/>
            </p:nvSpPr>
            <p:spPr>
              <a:xfrm>
                <a:off x="1233360" y="515880"/>
                <a:ext cx="7464240" cy="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951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573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191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812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30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048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670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288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9100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5280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149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767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3856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007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6252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246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864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74828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104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72240" y="164880"/>
                <a:ext cx="0" cy="663840"/>
              </a:xfrm>
              <a:prstGeom prst="line">
                <a:avLst/>
              </a:prstGeom>
              <a:ln w="9360">
                <a:solidFill>
                  <a:srgbClr val="ccb3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884240" y="162000"/>
              <a:ext cx="5864040" cy="671040"/>
              <a:chOff x="1884240" y="162000"/>
              <a:chExt cx="5864040" cy="671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490640" y="163440"/>
                <a:ext cx="0" cy="2250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84320" y="515880"/>
                <a:ext cx="1112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52800" y="544320"/>
                <a:ext cx="0" cy="44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14600" y="703080"/>
                <a:ext cx="0" cy="1249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0720" y="341280"/>
                <a:ext cx="0" cy="2851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51320" y="515880"/>
                <a:ext cx="5526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62520" y="363240"/>
                <a:ext cx="0" cy="466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665760" y="166320"/>
                <a:ext cx="0" cy="788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7024320" y="163080"/>
                <a:ext cx="0" cy="2883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7262640" y="515880"/>
                <a:ext cx="1238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052760" y="515880"/>
                <a:ext cx="982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386480" y="163080"/>
                <a:ext cx="0" cy="4280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48280" y="734760"/>
                <a:ext cx="0" cy="5364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04880" y="169560"/>
                <a:ext cx="0" cy="98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3080" y="164880"/>
                <a:ext cx="0" cy="53460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01680" y="515880"/>
                <a:ext cx="1080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88920" y="515880"/>
                <a:ext cx="9540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471400" y="515880"/>
                <a:ext cx="13032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84240" y="515880"/>
                <a:ext cx="55224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15880" y="360360"/>
                <a:ext cx="0" cy="4726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57320" y="388800"/>
                <a:ext cx="0" cy="24732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319120" y="162000"/>
                <a:ext cx="0" cy="424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80920" y="274320"/>
                <a:ext cx="0" cy="15228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680920" y="164880"/>
                <a:ext cx="0" cy="3456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43520" y="514080"/>
                <a:ext cx="127080" cy="0"/>
              </a:xfrm>
              <a:prstGeom prst="line">
                <a:avLst/>
              </a:prstGeom>
              <a:ln w="9360">
                <a:solidFill>
                  <a:srgbClr val="e5d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11000" cy="738360"/>
          </a:xfrm>
          <a:prstGeom prst="rect">
            <a:avLst/>
          </a:prstGeom>
          <a:ln w="0">
            <a:noFill/>
          </a:ln>
        </p:spPr>
      </p:pic>
      <p:pic>
        <p:nvPicPr>
          <p:cNvPr id="157" name="hcil-logo" descr=""/>
          <p:cNvPicPr/>
          <p:nvPr/>
        </p:nvPicPr>
        <p:blipFill>
          <a:blip r:embed="rId5"/>
          <a:stretch/>
        </p:blipFill>
        <p:spPr>
          <a:xfrm>
            <a:off x="8077320" y="6095880"/>
            <a:ext cx="8604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C694-7B1C-4100-BB19-3EA576B9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46196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mproving Web-based Civic Information Access:</a:t>
            </a:r>
            <a:br>
              <a:rPr sz="3200"/>
            </a:br>
            <a:r>
              <a:rPr b="1" i="1" lang="en-US" sz="32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A Case Study of the 50 US State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3438360"/>
            <a:ext cx="75438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ina Ceaparu and Ben Shneiderm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Computer Science &am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action Labora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0600" y="2438280"/>
            <a:ext cx="1320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2004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914400"/>
          <a:ext cx="77724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7772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Navigation style: Consistency &amp; Rapid Acce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2147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navigate web sit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states use a navigation bar throughout the entire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states do not use a navigation bar at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tates have a navigation bar just on the first two-three levels of navi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Graphic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record image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half display governor’s pi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half display state seal or statehou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show their map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70% display a scenery ima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’ websites use tab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tates’ websites use fram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85800" y="1600200"/>
          <a:ext cx="885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85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3048120" y="1600200"/>
          <a:ext cx="111420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00200"/>
                    <a:ext cx="11142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295280" y="3657600"/>
          <a:ext cx="1105200" cy="12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657600"/>
                    <a:ext cx="11052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5486400" y="1523880"/>
          <a:ext cx="180036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523880"/>
                    <a:ext cx="1800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733920" y="3581280"/>
          <a:ext cx="1361880" cy="1162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581280"/>
                    <a:ext cx="13618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990720" y="2819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                        MI                 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MT                          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rvice 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214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ology: record service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0% provide privacy polic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8% provide universal usability state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8% offer contact by email,  36 offer full contact info and 16% do not offer any contact inf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9 states offer online help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 states offer search featu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number and size of images small (image bytes &lt; 50K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broad and shallow menu tree (30-80 links on the home page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navigation bar consistently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rames to support universal usa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most popular categori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(40)   Tourism(40)      Business(33)     Education(2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ment(26)   Legislature(17)  Online Services(11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(11)             Citizens(11)       Living (9)         Tax 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s (cont’d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consistency in naming li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:www.gov.state.md.us      TX:www.governor.state.tx.us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OH:www.state.oh.us/gov       AR: www.state.ar.us/govern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on home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 polic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usability stat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information for public offici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 box/butt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 help &amp; phone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clusions: For NAS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trees, privacy policies, universal u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consistent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tructure, common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agreement on t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ards shared web site constructio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, speed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ain fea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home pages of 50 U. S. state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(www.state.md.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(source code, gifs, total by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on (incoming &amp; outgoing links, style of navig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s (governor’s picture, state seal, statehouse picture, scenery picture, map, use of tables and frames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(privacy policy, universal usability statement, contact information, online help, search box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esign goals: Improve E-govern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livery of government services to citiz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interactions with business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zen empowerment through access to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icient government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- set of guidelines &amp; metr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rchitectural and design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 out requirements for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users’ experience with the web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time &amp; effort to access information on similarly we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ize metrics: Reduce Download Tim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214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byte cou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of the hom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 on the home pag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image on the hom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st total byte count - Vermont (42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total byte count - Washington (274k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image - Nevada (84k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Navigation metrics: 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incoming &amp; outgoing links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: number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going links for the home pag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links for the whole web site of each sta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going li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ware &amp; Nevada (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mont (1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ington (627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nessee (7213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14:48:58Z</dcterms:created>
  <dc:creator>irina</dc:creator>
  <dc:description/>
  <dc:language>en-US</dc:language>
  <cp:lastModifiedBy>tharris</cp:lastModifiedBy>
  <dcterms:modified xsi:type="dcterms:W3CDTF">2002-06-24T19:11:03Z</dcterms:modified>
  <cp:revision>30</cp:revision>
  <dc:subject/>
  <dc:title>Improving Web-based Civic Information Access: A Case Study of the 50 US States</dc:title>
</cp:coreProperties>
</file>