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5EF-2B77-4812-814D-0AD866B0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5BE-9840-4F5D-A4E1-B0FFA48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877-B4DB-4A5F-B645-E93E8C46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7E-C2E4-4C83-BAF7-CC04F9D1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780-C9EE-4515-9F1A-F91BD640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4D46-CF7E-4B30-A09F-E0F8CED3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7D41-AE1E-40FC-8728-8DDD5BE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4B14-094F-4BBC-AB9F-E85781A9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C39-04C2-44D2-A358-78A5E7D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B4D-3E16-44C4-9F39-A9E8715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5D1E-1C4F-4BC2-B832-EB346A8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28F-D0BB-46C3-8F89-ED470EF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C804-B990-4006-98A0-B10FA14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FDEA-560B-42C0-8A98-913A44C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E115-4CF5-4E44-B73B-5385F5BC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65F-5543-4CA2-9B02-931181BD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963-246B-4D04-B231-C2D0659E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54A-79A1-4852-9C1B-5F02CB52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8FD-8B22-4F5C-8DA3-CF129A4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121-0A9E-44A5-B34E-C55D5284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648-86D8-4A66-9865-FFEA51E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DCC-1D15-4158-B1BB-079FF80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C22-87B7-4AA9-A8FB-D609ED4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070-1FB2-40A0-A2F5-FA4269C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A33D-AAD4-4484-8B4F-594052D80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020600" y="154080"/>
            <a:ext cx="7696080" cy="685800"/>
            <a:chOff x="1020600" y="154080"/>
            <a:chExt cx="7696080" cy="685800"/>
          </a:xfrm>
        </p:grpSpPr>
        <p:sp>
          <p:nvSpPr>
            <p:cNvPr id="6" name=""/>
            <p:cNvSpPr/>
            <p:nvPr/>
          </p:nvSpPr>
          <p:spPr>
            <a:xfrm>
              <a:off x="1020600" y="15408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e5d09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1863720" y="154080"/>
              <a:ext cx="6075360" cy="680400"/>
              <a:chOff x="1863720" y="154080"/>
              <a:chExt cx="6075360" cy="680400"/>
            </a:xfrm>
          </p:grpSpPr>
          <p:grpSp>
            <p:nvGrpSpPr>
              <p:cNvPr id="8" name=""/>
              <p:cNvGrpSpPr/>
              <p:nvPr/>
            </p:nvGrpSpPr>
            <p:grpSpPr>
              <a:xfrm>
                <a:off x="1863720" y="155520"/>
                <a:ext cx="3505320" cy="677160"/>
                <a:chOff x="1863720" y="155520"/>
                <a:chExt cx="3505320" cy="67716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3826080" y="77724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44880" y="82008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608640" y="75024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365640" y="77112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292560" y="78048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246480" y="77904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997360" y="64080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143520" y="63144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246480" y="68040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43240" y="70596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329280" y="67572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35400" y="72504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0128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380040" y="71388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548160" y="72324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659400" y="63612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726000" y="69948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511800" y="556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399120" y="623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275280" y="60264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257640" y="51228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73480" y="57888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229200" y="58536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4894200" y="54864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265640" y="15660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060800" y="47880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41720" y="46944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811760" y="41688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934160" y="45972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884840" y="47268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859280" y="40428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5061240" y="48996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523040" y="16452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235400" y="16308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3570480" y="20916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2792520" y="16308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486240" y="15552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467160" y="22824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367080" y="27900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51320" y="31212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739960" y="38988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836800" y="59652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259080" y="44064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40080" y="42192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863720" y="27108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130480" y="48204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586240" y="74232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71840" y="56160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944720" y="33912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424240" y="19332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05280" y="16452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295720" y="22032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271960" y="24228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70240" y="30744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57720" y="30600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224080" y="24084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6131160" y="154080"/>
                <a:ext cx="1807920" cy="680400"/>
                <a:chOff x="6131160" y="154080"/>
                <a:chExt cx="1807920" cy="680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875720" y="7506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632720" y="7714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559640" y="7808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13920" y="77940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264440" y="6411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410600" y="6318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513920" y="6807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10680" y="7063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96360" y="6760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02480" y="72540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0164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47120" y="7142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815240" y="7236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26480" y="6364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778880" y="5569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666200" y="623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542360" y="6030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24720" y="51264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40560" y="5792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496280" y="58572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37560" y="2095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58160" y="16344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753320" y="15408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34240" y="22860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634520" y="27936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718400" y="312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007400" y="39024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04240" y="5968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526520" y="44100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07520" y="42228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131160" y="27288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97560" y="48420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53320" y="7426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38920" y="5619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12160" y="3394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91320" y="1936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72360" y="1648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562800" y="2206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39040" y="24264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637320" y="3078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24800" y="3063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491520" y="24120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"/>
            <p:cNvGrpSpPr/>
            <p:nvPr/>
          </p:nvGrpSpPr>
          <p:grpSpPr>
            <a:xfrm>
              <a:off x="1233360" y="164880"/>
              <a:ext cx="7464240" cy="663840"/>
              <a:chOff x="1233360" y="164880"/>
              <a:chExt cx="7464240" cy="66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1233360" y="515880"/>
                <a:ext cx="746424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951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573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191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812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30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048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670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288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9100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5280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149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767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385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007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625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246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864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482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104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722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884240" y="162000"/>
              <a:ext cx="5864040" cy="671040"/>
              <a:chOff x="1884240" y="162000"/>
              <a:chExt cx="5864040" cy="671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490640" y="163440"/>
                <a:ext cx="0" cy="2250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84320" y="515880"/>
                <a:ext cx="1112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52800" y="544320"/>
                <a:ext cx="0" cy="44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14600" y="703080"/>
                <a:ext cx="0" cy="1249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0720" y="341280"/>
                <a:ext cx="0" cy="2851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51320" y="515880"/>
                <a:ext cx="5526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62520" y="363240"/>
                <a:ext cx="0" cy="466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665760" y="166320"/>
                <a:ext cx="0" cy="78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7024320" y="163080"/>
                <a:ext cx="0" cy="2883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7262640" y="515880"/>
                <a:ext cx="1238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052760" y="515880"/>
                <a:ext cx="98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386480" y="163080"/>
                <a:ext cx="0" cy="4280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48280" y="734760"/>
                <a:ext cx="0" cy="536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04880" y="169560"/>
                <a:ext cx="0" cy="98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3080" y="164880"/>
                <a:ext cx="0" cy="5346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01680" y="515880"/>
                <a:ext cx="1080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88920" y="515880"/>
                <a:ext cx="954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471400" y="515880"/>
                <a:ext cx="1303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84240" y="515880"/>
                <a:ext cx="5522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15880" y="360360"/>
                <a:ext cx="0" cy="4726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57320" y="388800"/>
                <a:ext cx="0" cy="2473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319120" y="162000"/>
                <a:ext cx="0" cy="424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80920" y="274320"/>
                <a:ext cx="0" cy="152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680920" y="164880"/>
                <a:ext cx="0" cy="34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43520" y="514080"/>
                <a:ext cx="127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11000" cy="738360"/>
          </a:xfrm>
          <a:prstGeom prst="rect">
            <a:avLst/>
          </a:prstGeom>
          <a:ln w="0">
            <a:noFill/>
          </a:ln>
        </p:spPr>
      </p:pic>
      <p:pic>
        <p:nvPicPr>
          <p:cNvPr id="157" name="hcil-logo" descr=""/>
          <p:cNvPicPr/>
          <p:nvPr/>
        </p:nvPicPr>
        <p:blipFill>
          <a:blip r:embed="rId5"/>
          <a:stretch/>
        </p:blipFill>
        <p:spPr>
          <a:xfrm>
            <a:off x="8077320" y="6095880"/>
            <a:ext cx="8604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F975-3ACA-49C4-9813-90E5FAAA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46196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mproving Web-based Civic Information Access:</a:t>
            </a:r>
            <a:br>
              <a:rPr sz="3200"/>
            </a:b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A Case Study of the 50 US Stat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3438360"/>
            <a:ext cx="75438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ina Ceaparu and Ben Shneiderm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Computer Science &am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action Labora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0600" y="2438280"/>
            <a:ext cx="1320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2004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914400"/>
          <a:ext cx="77724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772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Navigation style: Consistency &amp; Rapid Acce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navigate web sit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states use a navigation bar throughout the entire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states do not use a navigation bar at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tates have a navigation bar just on the first two-three levels of nav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raphic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record image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half display governor’s pi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half display state seal or statehou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show their map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70% display a scenery ima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’ websites use tab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tates’ websites use fram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85800" y="1600200"/>
          <a:ext cx="885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85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48120" y="1600200"/>
          <a:ext cx="111420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00200"/>
                    <a:ext cx="11142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295280" y="3657600"/>
          <a:ext cx="1105200" cy="12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657600"/>
                    <a:ext cx="1105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5486400" y="1523880"/>
          <a:ext cx="180036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523880"/>
                    <a:ext cx="1800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733920" y="3581280"/>
          <a:ext cx="1361880" cy="116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581280"/>
                    <a:ext cx="13618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990720" y="2819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                        MI                 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MT                          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214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: record service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0% provide privacy polic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8% provide universal usability stat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8% offer contact by email,  36 offer full contact info and 16% do not offer any contact inf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9 states offer online help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 states offer search featu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number and size of images small (image bytes &lt; 50K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broad and shallow menu tree (30-80 links on the home page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navigation bar consistently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rames to support universal usa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most popular categori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(40)   Tourism(40)      Business(33)     Education(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(26)   Legislature(17)  Online Services(11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(11)             Citizens(11)       Living (9)         Tax 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s (cont’d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consistency in naming li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:www.gov.state.md.us      TX:www.governor.state.tx.us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H:www.state.oh.us/gov       AR: www.state.ar.us/gover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on home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 polic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usability stat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information for public offici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box/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help &amp; phone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clusions: For NAS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trees, privacy policies, universal u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consistent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tructure, common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agreement on t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ards shared web site constructio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, speed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ain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home pages of 50 U. S. state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(www.state.md.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(source code, gifs, total by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 (incoming &amp; outgoing links, style of navig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 (governor’s picture, state seal, statehouse picture, scenery picture, map, use of tables and frame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(privacy policy, universal usability statement, contact information, online help, search box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sign goals: Improve E-govern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livery of government services to citiz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interactions with business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zen empowerment through access to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icient government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- set of guidelines &amp; metr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rchitectural and desig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 out requirements for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users’ experience with the web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time &amp; effort to access information on similarly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ize metrics: Reduce Download Tim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214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byte cou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of the hom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 on the home pag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image on the hom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st total byte count - Vermont (42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total byte count - Washington (274k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image - Nevada (84k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Navigation metrics: 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ncoming &amp; outgoing links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number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going links for the home pag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links for the whole web site of each sta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going li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ware &amp; Nevada (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mont (1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ington (627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nessee (7213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14:48:58Z</dcterms:created>
  <dc:creator>irina</dc:creator>
  <dc:description/>
  <dc:language>en-US</dc:language>
  <cp:lastModifiedBy>tharris</cp:lastModifiedBy>
  <dcterms:modified xsi:type="dcterms:W3CDTF">2002-06-24T19:11:03Z</dcterms:modified>
  <cp:revision>30</cp:revision>
  <dc:subject/>
  <dc:title>Improving Web-based Civic Information Access: A Case Study of the 50 US States</dc:title>
</cp:coreProperties>
</file>