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6.pct" ContentType="image/x-pict"/>
  <Override PartName="/ppt/media/image9.png" ContentType="image/png"/>
  <Override PartName="/ppt/media/image34.png" ContentType="image/png"/>
  <Override PartName="/ppt/media/image7.pct" ContentType="image/x-pict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22.png" ContentType="image/png"/>
  <Override PartName="/ppt/media/image10.pct" ContentType="image/x-pict"/>
  <Override PartName="/ppt/media/image13.png" ContentType="image/png"/>
  <Override PartName="/ppt/media/image37.png" ContentType="image/png"/>
  <Override PartName="/ppt/media/image8.png" ContentType="image/png"/>
  <Override PartName="/ppt/media/image5.pct" ContentType="image/x-pict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2626F-DED5-4E3A-915D-A04559A297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83703-8BEB-415E-8A00-60EA912E4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7E376-D151-4B83-BF75-0F0FE9B64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8FB73-5FD8-4EEF-9464-046B23FC4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3B685-B4F5-4A4E-A767-EEB7D34FF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593B7-9832-4AD4-BED8-EFCBDC2E2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57A9C-F2C6-4554-B2D1-E63563D81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focusing on Computerized Physician Order Entry (CPO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CDBE7-3CAC-4122-A7F4-0DB790075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insight to problems in order to give ideas on how to fix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502B6-8C02-4744-98E8-3F729A951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D32B1-1485-407C-B399-7ADFD9048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0E58F-0A44-40CA-A4C6-845884644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F0820-CDDC-4773-A183-A77023875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DD435-FCB7-429C-8301-EE28AFB68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6E642-C98F-44C7-8E4E-48D25CD69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F1D4B-EAC9-4A92-971B-11FCCF803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293B3-BAC0-46AA-9A2C-7243E1432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EE7CF-C674-40A3-8EC4-89EA9B966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BC36E-E335-4BA2-A042-C0AD6E65D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11BB9-6AB9-48BC-966E-43990F6BD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733-BF51-49EE-AEE2-19FEDB7E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788-67C3-43D3-8E2D-00B7D001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F60-9054-4441-BC07-01FABEF9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8DA-DDA0-4F81-93D6-7B25D27B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B019-D302-436D-971D-39AC8D09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06D-698E-404C-AC87-F0A2CB5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4707-A1AA-472C-A613-0DC8A6BB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A03A-00D8-4888-8EFA-787CEB31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F7E6-AD9F-430C-A95D-20A181F4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3B2-5019-4904-A507-88A4E2B2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CD06-16FD-49C1-9C17-3CDB0555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F8F-FFB0-4872-AB9D-9E34D5F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F7C2-ABF4-44CB-941A-DB10366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6F29-D17A-4E36-BC43-7F83027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B1A4-A446-42E2-86B0-5B745538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DFBA-046F-453D-A917-B38C5F00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ED8B-CC78-45D2-BE63-CB01B9F0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0A9-0B3E-4573-8674-34FD2DD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0AE-EF53-484B-9B86-AD1A2DE4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61F-A7C2-4F83-BE3A-7D4E030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1DF-3D24-4956-B0D8-5BB2C97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DC7-BC1E-48F3-9F20-915EE56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119-92D1-466A-A598-07C1E84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B42-A23B-4848-ADD4-499F829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D67D4-B595-4226-99A4-B11EB146A7CB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1FD57-C278-4350-BDF3-35043369906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A8932-12BE-4B07-BC4F-9EF636018F70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92613-2697-487E-8A55-3393E69547E0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ureyya@cs.umd.edu" TargetMode="External"/><Relationship Id="rId3" Type="http://schemas.openxmlformats.org/officeDocument/2006/relationships/hyperlink" Target="http://www.cs.umd.edu/hcil/sharpc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ct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ureyya@cs.umd.edu" TargetMode="External"/><Relationship Id="rId3" Type="http://schemas.openxmlformats.org/officeDocument/2006/relationships/hyperlink" Target="http://www.cs.umd.edu/hcil/sharp/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240" y="1320480"/>
            <a:ext cx="870408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Enhancing Timely Management of Workflow with Interactive Visual Displays &amp; Actions for Situation Awareness Process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9400" y="3298320"/>
            <a:ext cx="741672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News Gothic MT"/>
              </a:rPr>
              <a:t>Sureyya Tarka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News Gothic MT"/>
              </a:rPr>
              <a:t>UMD Dept. of Computer Science &amp; HCI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sureyya@cs.umd.edu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News Gothic MT"/>
                <a:hlinkClick r:id="rId3"/>
              </a:rPr>
              <a:t>http://www.cs.umd.edu/hcil/sharpc/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News Gothic MT"/>
              </a:rPr>
              <a:t>Supervised by Ben Shneiderman &amp; Catherine Plaisan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2" name="Picture 5" descr="HCIL_Logo.png"/>
          <p:cNvPicPr/>
          <p:nvPr/>
        </p:nvPicPr>
        <p:blipFill>
          <a:blip r:embed="rId4"/>
          <a:stretch/>
        </p:blipFill>
        <p:spPr>
          <a:xfrm>
            <a:off x="7620120" y="5583240"/>
            <a:ext cx="1116000" cy="98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93640" y="5530680"/>
            <a:ext cx="8636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9000" y="12492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Laboratory Test Result Management Workflow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8" name="Content Placeholder 5" descr=""/>
          <p:cNvPicPr/>
          <p:nvPr/>
        </p:nvPicPr>
        <p:blipFill>
          <a:blip r:embed="rId2"/>
          <a:stretch/>
        </p:blipFill>
        <p:spPr>
          <a:xfrm>
            <a:off x="469800" y="1596960"/>
            <a:ext cx="8204400" cy="4353120"/>
          </a:xfrm>
          <a:prstGeom prst="rect">
            <a:avLst/>
          </a:prstGeom>
          <a:ln w="0">
            <a:noFill/>
          </a:ln>
        </p:spPr>
      </p:pic>
      <p:sp>
        <p:nvSpPr>
          <p:cNvPr id="179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8C93C-7E0F-416C-9D4F-7F826F05813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BE963-8444-41E1-8419-2769CF636E59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9000" y="-1288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deling Ac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82" name="Content Placeholder 6" descr="Screen shot 2011-10-14 at 7.19.41 PM.png"/>
          <p:cNvPicPr/>
          <p:nvPr/>
        </p:nvPicPr>
        <p:blipFill>
          <a:blip r:embed="rId2"/>
          <a:stretch/>
        </p:blipFill>
        <p:spPr>
          <a:xfrm>
            <a:off x="884160" y="1224000"/>
            <a:ext cx="7344000" cy="541332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ECCF9-AFE2-4428-B42D-01CDD65245E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Right Arrow 7"/>
          <p:cNvGrpSpPr/>
          <p:nvPr/>
        </p:nvGrpSpPr>
        <p:grpSpPr>
          <a:xfrm>
            <a:off x="146160" y="1620720"/>
            <a:ext cx="1731960" cy="482760"/>
            <a:chOff x="146160" y="1620720"/>
            <a:chExt cx="1731960" cy="482760"/>
          </a:xfrm>
        </p:grpSpPr>
        <p:pic>
          <p:nvPicPr>
            <p:cNvPr id="185" name="Right Arrow 7" descr=""/>
            <p:cNvPicPr/>
            <p:nvPr/>
          </p:nvPicPr>
          <p:blipFill>
            <a:blip r:embed="rId3"/>
            <a:stretch/>
          </p:blipFill>
          <p:spPr>
            <a:xfrm>
              <a:off x="146160" y="1620720"/>
              <a:ext cx="17319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35080" y="1765440"/>
              <a:ext cx="1476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ight Arrow 8"/>
          <p:cNvGrpSpPr/>
          <p:nvPr/>
        </p:nvGrpSpPr>
        <p:grpSpPr>
          <a:xfrm>
            <a:off x="579600" y="2109960"/>
            <a:ext cx="1730160" cy="480960"/>
            <a:chOff x="579600" y="2109960"/>
            <a:chExt cx="1730160" cy="480960"/>
          </a:xfrm>
        </p:grpSpPr>
        <p:pic>
          <p:nvPicPr>
            <p:cNvPr id="188" name="Right Arrow 8" descr=""/>
            <p:cNvPicPr/>
            <p:nvPr/>
          </p:nvPicPr>
          <p:blipFill>
            <a:blip r:embed="rId4"/>
            <a:stretch/>
          </p:blipFill>
          <p:spPr>
            <a:xfrm>
              <a:off x="579600" y="2109960"/>
              <a:ext cx="1730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68160" y="2251080"/>
              <a:ext cx="1476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ight Arrow 9"/>
          <p:cNvGrpSpPr/>
          <p:nvPr/>
        </p:nvGrpSpPr>
        <p:grpSpPr>
          <a:xfrm>
            <a:off x="146160" y="3346560"/>
            <a:ext cx="1725480" cy="482400"/>
            <a:chOff x="146160" y="3346560"/>
            <a:chExt cx="1725480" cy="482400"/>
          </a:xfrm>
        </p:grpSpPr>
        <p:pic>
          <p:nvPicPr>
            <p:cNvPr id="191" name="Right Arrow 9" descr=""/>
            <p:cNvPicPr/>
            <p:nvPr/>
          </p:nvPicPr>
          <p:blipFill>
            <a:blip r:embed="rId5"/>
            <a:stretch/>
          </p:blipFill>
          <p:spPr>
            <a:xfrm>
              <a:off x="146160" y="3346560"/>
              <a:ext cx="172548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35080" y="3487680"/>
              <a:ext cx="14745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8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F5C18-AC9E-44DE-8901-7668E09A2354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Content Placeholder 11" descr="track.png"/>
          <p:cNvPicPr/>
          <p:nvPr/>
        </p:nvPicPr>
        <p:blipFill>
          <a:blip r:embed="rId2"/>
          <a:stretch/>
        </p:blipFill>
        <p:spPr>
          <a:xfrm>
            <a:off x="701640" y="1082520"/>
            <a:ext cx="8256600" cy="6232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Multi-Step Task Analyzing, Reporting, Tracking (MSTART) Prototype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07DAC-5119-48CF-AD2B-DC2E136DD3EA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ame 15"/>
          <p:cNvSpPr/>
          <p:nvPr/>
        </p:nvSpPr>
        <p:spPr>
          <a:xfrm>
            <a:off x="1049400" y="2039760"/>
            <a:ext cx="1050840" cy="34776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ame 16"/>
          <p:cNvSpPr/>
          <p:nvPr/>
        </p:nvSpPr>
        <p:spPr>
          <a:xfrm>
            <a:off x="5452920" y="2023920"/>
            <a:ext cx="2505240" cy="36360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ame 17"/>
          <p:cNvSpPr/>
          <p:nvPr/>
        </p:nvSpPr>
        <p:spPr>
          <a:xfrm>
            <a:off x="3301920" y="2398680"/>
            <a:ext cx="2405160" cy="1684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ame 19"/>
          <p:cNvSpPr/>
          <p:nvPr/>
        </p:nvSpPr>
        <p:spPr>
          <a:xfrm>
            <a:off x="1100160" y="2557440"/>
            <a:ext cx="1846080" cy="42670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ontent Placeholder 8" descr="track_cropped.png"/>
          <p:cNvPicPr/>
          <p:nvPr/>
        </p:nvPicPr>
        <p:blipFill>
          <a:blip r:embed="rId2"/>
          <a:srcRect l="-18596" t="0" r="-18596" b="0"/>
          <a:stretch/>
        </p:blipFill>
        <p:spPr>
          <a:xfrm>
            <a:off x="-660240" y="1166760"/>
            <a:ext cx="10539360" cy="5691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28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Rich Tabular Display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C7697-DC28-4AC6-A369-73891A5992F8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7AFB0-DB07-47FC-880C-360A37835C3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track_cropped.png"/>
          <p:cNvPicPr/>
          <p:nvPr/>
        </p:nvPicPr>
        <p:blipFill>
          <a:blip r:embed="rId3"/>
          <a:stretch/>
        </p:blipFill>
        <p:spPr>
          <a:xfrm>
            <a:off x="806400" y="1166760"/>
            <a:ext cx="704844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6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CB419-5336-4823-B741-52B7A5732BF8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0600" y="107640"/>
            <a:ext cx="85950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Generating Actor Action Sheets: Result Review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08" name="Content Placeholder 6" descr="result review.png"/>
          <p:cNvPicPr/>
          <p:nvPr/>
        </p:nvPicPr>
        <p:blipFill>
          <a:blip r:embed="rId2"/>
          <a:stretch/>
        </p:blipFill>
        <p:spPr>
          <a:xfrm>
            <a:off x="-271440" y="1447920"/>
            <a:ext cx="9702720" cy="54100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1898E-FCC2-4C3D-9449-D098E4B0D8DB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ame 7"/>
          <p:cNvSpPr/>
          <p:nvPr/>
        </p:nvSpPr>
        <p:spPr>
          <a:xfrm>
            <a:off x="338040" y="2303640"/>
            <a:ext cx="3556080" cy="354960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ame 11"/>
          <p:cNvSpPr/>
          <p:nvPr/>
        </p:nvSpPr>
        <p:spPr>
          <a:xfrm>
            <a:off x="5418000" y="5954760"/>
            <a:ext cx="3488040" cy="2602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7FDC8-1AD3-425F-B9B8-6F1D3AB4204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5ABF7-5142-412F-B984-EC5A00333E95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-251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d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5" name="Content Placeholder 5" descr="Screen shot 2011-02-15 at 2.01.05 PM.png"/>
          <p:cNvPicPr/>
          <p:nvPr/>
        </p:nvPicPr>
        <p:blipFill>
          <a:blip r:embed="rId2"/>
          <a:srcRect l="-9548" t="0" r="-9548" b="0"/>
          <a:stretch/>
        </p:blipFill>
        <p:spPr>
          <a:xfrm>
            <a:off x="-520560" y="744480"/>
            <a:ext cx="1017252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94148-6AC5-4D9D-8E3D-A1A5E992D619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ate Placeholder 12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6B23D-B558-45C3-9676-C762C7039043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-182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trospective Analy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9" name="Content Placeholder 7" descr="Screen shot 2011-02-17 at 12.28.43 PM.png"/>
          <p:cNvPicPr/>
          <p:nvPr/>
        </p:nvPicPr>
        <p:blipFill>
          <a:blip r:embed="rId2"/>
          <a:stretch/>
        </p:blipFill>
        <p:spPr>
          <a:xfrm>
            <a:off x="22320" y="1168560"/>
            <a:ext cx="9104040" cy="5707080"/>
          </a:xfrm>
          <a:prstGeom prst="rect">
            <a:avLst/>
          </a:prstGeom>
          <a:ln w="0">
            <a:noFill/>
          </a:ln>
        </p:spPr>
      </p:pic>
      <p:sp>
        <p:nvSpPr>
          <p:cNvPr id="220" name="Frame 5"/>
          <p:cNvSpPr/>
          <p:nvPr/>
        </p:nvSpPr>
        <p:spPr>
          <a:xfrm>
            <a:off x="22320" y="1219320"/>
            <a:ext cx="4110120" cy="27144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ame 6"/>
          <p:cNvSpPr/>
          <p:nvPr/>
        </p:nvSpPr>
        <p:spPr>
          <a:xfrm>
            <a:off x="5079960" y="3149640"/>
            <a:ext cx="1575000" cy="348768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ame 8"/>
          <p:cNvSpPr/>
          <p:nvPr/>
        </p:nvSpPr>
        <p:spPr>
          <a:xfrm>
            <a:off x="254160" y="1828800"/>
            <a:ext cx="6400800" cy="25416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ame 9"/>
          <p:cNvSpPr/>
          <p:nvPr/>
        </p:nvSpPr>
        <p:spPr>
          <a:xfrm>
            <a:off x="254160" y="4233960"/>
            <a:ext cx="6672240" cy="23652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ame 10"/>
          <p:cNvSpPr/>
          <p:nvPr/>
        </p:nvSpPr>
        <p:spPr>
          <a:xfrm>
            <a:off x="812880" y="2387520"/>
            <a:ext cx="863640" cy="62712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ame 11"/>
          <p:cNvSpPr/>
          <p:nvPr/>
        </p:nvSpPr>
        <p:spPr>
          <a:xfrm>
            <a:off x="812880" y="4521240"/>
            <a:ext cx="863640" cy="592200"/>
          </a:xfrm>
          <a:prstGeom prst="pie">
            <a:avLst/>
          </a:prstGeom>
          <a:solidFill>
            <a:srgbClr val="215d77">
              <a:alpha val="50000"/>
            </a:srgbClr>
          </a:solidFill>
          <a:ln w="12600">
            <a:solidFill>
              <a:srgbClr val="287a9e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Proposed Work: Actions for Situation Awareness Processing (ASAP)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D253B-9405-4B64-93EB-9FEC1E8F93AA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D9C44-5CC9-4B43-9678-B58297534E5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Content Placeholder 5" descr="marking.png"/>
          <p:cNvPicPr/>
          <p:nvPr/>
        </p:nvPicPr>
        <p:blipFill>
          <a:blip r:embed="rId2"/>
          <a:stretch/>
        </p:blipFill>
        <p:spPr>
          <a:xfrm>
            <a:off x="752400" y="5611680"/>
            <a:ext cx="8042400" cy="1193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editannotate.png"/>
          <p:cNvPicPr/>
          <p:nvPr/>
        </p:nvPicPr>
        <p:blipFill>
          <a:blip r:embed="rId3"/>
          <a:stretch/>
        </p:blipFill>
        <p:spPr>
          <a:xfrm>
            <a:off x="1547640" y="4433760"/>
            <a:ext cx="6350040" cy="795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moreinfo.png"/>
          <p:cNvPicPr/>
          <p:nvPr/>
        </p:nvPicPr>
        <p:blipFill>
          <a:blip r:embed="rId4"/>
          <a:stretch/>
        </p:blipFill>
        <p:spPr>
          <a:xfrm>
            <a:off x="430200" y="2081160"/>
            <a:ext cx="8339040" cy="2073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re inform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dit/Annot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rk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F4C23-1E5C-4AD7-8DD2-BAE85DFF3E9E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D70B4-3969-49B0-8D9A-8D98B0979AD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ontent Placeholder 6" descr="resultaction.png"/>
          <p:cNvPicPr/>
          <p:nvPr/>
        </p:nvPicPr>
        <p:blipFill>
          <a:blip r:embed="rId2"/>
          <a:stretch/>
        </p:blipFill>
        <p:spPr>
          <a:xfrm>
            <a:off x="549360" y="1407960"/>
            <a:ext cx="8339040" cy="3110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9000" y="-33372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ctions, Groups, and Valu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37" name="Content Placeholder 8" descr="pendingaction.png"/>
          <p:cNvPicPr/>
          <p:nvPr/>
        </p:nvPicPr>
        <p:blipFill>
          <a:blip r:embed="rId3"/>
          <a:srcRect l="0" t="-162895" r="0" b="-162895"/>
          <a:stretch/>
        </p:blipFill>
        <p:spPr>
          <a:xfrm>
            <a:off x="549360" y="957240"/>
            <a:ext cx="833904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valuation Plans for ASA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terative Design Reviews with Medical Professiona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ability Tes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10 subjects, 25 tasks (1 hour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form desig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eedback: Interview, Questionnai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rolled Experi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est whether ASAP reduces the amount of missed and delayed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Busy s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mulation environment </a:t>
            </a: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ere multiple distracting factors are in place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ompare to a plain list ordered by time of arriv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20 participants, 50 tasks (2 hours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0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A75DA-ACCE-4BE3-ADBF-4E3CFD65875C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BC442-4E0B-4F87-A0AE-B86ED28EB6D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ituation Awareness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</a:t>
            </a: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Endsley, 2004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35AEF-5FB6-4889-A95E-52689E4F35B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965160" y="1220760"/>
            <a:ext cx="1473120" cy="222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3584520" y="1752480"/>
            <a:ext cx="19558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6586560" y="1889280"/>
            <a:ext cx="1811160" cy="15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5780160" y="4656240"/>
            <a:ext cx="1816200" cy="1485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1"/>
          <p:cNvSpPr/>
          <p:nvPr/>
        </p:nvSpPr>
        <p:spPr>
          <a:xfrm>
            <a:off x="1408680" y="6141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SA of a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001480" y="61419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l dynamic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924840" y="35924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er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3564720" y="35449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6739920" y="35272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ight Arrow 16"/>
          <p:cNvGrpSpPr/>
          <p:nvPr/>
        </p:nvGrpSpPr>
        <p:grpSpPr>
          <a:xfrm>
            <a:off x="2462040" y="2419200"/>
            <a:ext cx="1043280" cy="573120"/>
            <a:chOff x="2462040" y="2419200"/>
            <a:chExt cx="1043280" cy="573120"/>
          </a:xfrm>
        </p:grpSpPr>
        <p:pic>
          <p:nvPicPr>
            <p:cNvPr id="106" name="Right Arrow 16" descr=""/>
            <p:cNvPicPr/>
            <p:nvPr/>
          </p:nvPicPr>
          <p:blipFill>
            <a:blip r:embed="rId6"/>
            <a:stretch/>
          </p:blipFill>
          <p:spPr>
            <a:xfrm>
              <a:off x="2462040" y="2419200"/>
              <a:ext cx="10432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544840" y="2585880"/>
              <a:ext cx="7794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ight Arrow 17"/>
          <p:cNvGrpSpPr/>
          <p:nvPr/>
        </p:nvGrpSpPr>
        <p:grpSpPr>
          <a:xfrm>
            <a:off x="5535720" y="2419200"/>
            <a:ext cx="1073160" cy="573120"/>
            <a:chOff x="5535720" y="2419200"/>
            <a:chExt cx="1073160" cy="573120"/>
          </a:xfrm>
        </p:grpSpPr>
        <p:pic>
          <p:nvPicPr>
            <p:cNvPr id="109" name="Right Arrow 17" descr=""/>
            <p:cNvPicPr/>
            <p:nvPr/>
          </p:nvPicPr>
          <p:blipFill>
            <a:blip r:embed="rId7"/>
            <a:stretch/>
          </p:blipFill>
          <p:spPr>
            <a:xfrm>
              <a:off x="5535720" y="2419200"/>
              <a:ext cx="10731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621400" y="2585880"/>
              <a:ext cx="8017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0" descr="j0290795.pict"/>
          <p:cNvPicPr/>
          <p:nvPr/>
        </p:nvPicPr>
        <p:blipFill>
          <a:blip r:embed="rId8"/>
          <a:stretch/>
        </p:blipFill>
        <p:spPr>
          <a:xfrm>
            <a:off x="1668600" y="454176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9000" y="-3164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umma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46240" y="1247760"/>
            <a:ext cx="88135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odel user actions within workflow specific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llow actions as part of displa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tegrate review of results with possible actor actions from within same scree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racking shows how much time has passed since last ac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95959"/>
                </a:solidFill>
                <a:latin typeface="News Gothic MT"/>
              </a:rPr>
              <a:t>Acknowledgments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Zach Hettinger, Daniel Murphy, Archana Laxmisan, Hardeep Singh, Dean Sittig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Strategic Health-IT Advanced Research Projects (SHARPC)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Contact: </a:t>
            </a:r>
            <a:r>
              <a:rPr b="0" lang="en-US" sz="13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sureyya@cs.umd.edu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Website: </a:t>
            </a:r>
            <a:r>
              <a:rPr b="0" lang="en-US" sz="1300" spc="-1" strike="noStrike" u="sng">
                <a:solidFill>
                  <a:srgbClr val="7030a0"/>
                </a:solidFill>
                <a:uFillTx/>
                <a:latin typeface="News Gothic MT"/>
                <a:hlinkClick r:id="rId3"/>
              </a:rPr>
              <a:t>http://www.cs.umd.edu/hcil/sharp/</a:t>
            </a:r>
            <a:r>
              <a:rPr b="0" lang="en-US" sz="13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6BB0C-04CE-4244-99C8-202F413F99DF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image001.jpg"/>
          <p:cNvPicPr/>
          <p:nvPr/>
        </p:nvPicPr>
        <p:blipFill>
          <a:blip r:embed="rId4"/>
          <a:stretch/>
        </p:blipFill>
        <p:spPr>
          <a:xfrm>
            <a:off x="380880" y="5357880"/>
            <a:ext cx="2581560" cy="866880"/>
          </a:xfrm>
          <a:prstGeom prst="rect">
            <a:avLst/>
          </a:prstGeom>
          <a:ln w="0">
            <a:noFill/>
          </a:ln>
        </p:spPr>
      </p:pic>
      <p:sp>
        <p:nvSpPr>
          <p:cNvPr id="246" name="Date Placeholder 5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64CD0-059A-44B6-892B-34D7E3F6F461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1080" y="-179640"/>
            <a:ext cx="859140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erruptions &amp; Notifica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0920" y="1452600"/>
            <a:ext cx="3840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fb7d7"/>
              </a:solidFill>
              <a:latin typeface="News Gothic MT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3E40C-C0C1-4D9E-AC2D-2266F9183E09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613D9-C405-4538-91BE-EC7F962383FE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fb alerts.png"/>
          <p:cNvPicPr/>
          <p:nvPr/>
        </p:nvPicPr>
        <p:blipFill>
          <a:blip r:embed="rId2"/>
          <a:stretch/>
        </p:blipFill>
        <p:spPr>
          <a:xfrm>
            <a:off x="1322280" y="1733400"/>
            <a:ext cx="2324160" cy="47016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14" descr="fb alarms.png"/>
          <p:cNvPicPr/>
          <p:nvPr/>
        </p:nvPicPr>
        <p:blipFill>
          <a:blip r:embed="rId3"/>
          <a:srcRect l="-7877" t="0" r="-7877" b="0"/>
          <a:stretch/>
        </p:blipFill>
        <p:spPr>
          <a:xfrm>
            <a:off x="549360" y="2347920"/>
            <a:ext cx="3840120" cy="359568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19" descr="Screen shot 2011-10-14 at 6.59.16 PM.png"/>
          <p:cNvPicPr/>
          <p:nvPr/>
        </p:nvPicPr>
        <p:blipFill>
          <a:blip r:embed="rId4"/>
          <a:srcRect l="-35914" t="0" r="-35914" b="0"/>
          <a:stretch/>
        </p:blipFill>
        <p:spPr>
          <a:xfrm>
            <a:off x="4751280" y="2347920"/>
            <a:ext cx="3840120" cy="359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Screen shot 2011-10-14 at 6.58.25 PM.png"/>
          <p:cNvPicPr/>
          <p:nvPr/>
        </p:nvPicPr>
        <p:blipFill>
          <a:blip r:embed="rId5"/>
          <a:stretch/>
        </p:blipFill>
        <p:spPr>
          <a:xfrm>
            <a:off x="5838840" y="1461960"/>
            <a:ext cx="1714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‘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ssed Results’ Proble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shandling of abnormal results &amp; no follow-up (Wahls, 2007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st common missing information: lab test results (Dovey, 2002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lay in care, time/financial loss, pain/suffering, adverse clinical consequence (Hickner, 2008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02099-6206-4E39-A624-0ACEC2D88F8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F51FF-2DE1-4B76-B0DA-89A0FAD18748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27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A338B-D194-455E-A5CC-4D0B6DA98627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est Process Step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re-analyt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Ordering the te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mplementing the te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nalyt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erforming the te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ost-analytic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Reporting results to the clinicia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Responding to the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Notifying the patients of the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ollowing-up to ensure the patient took the appropriate action based on test resul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4742D-7025-4FA2-96FC-FB99CC2BF5E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6"/>
          <p:cNvSpPr/>
          <p:nvPr/>
        </p:nvSpPr>
        <p:spPr>
          <a:xfrm>
            <a:off x="4486320" y="3060720"/>
            <a:ext cx="1674720" cy="73188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b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7"/>
          <p:cNvCxnSpPr>
            <a:stCxn id="130" idx="1"/>
          </p:cNvCxnSpPr>
          <p:nvPr/>
        </p:nvCxnSpPr>
        <p:spPr>
          <a:xfrm flipH="1">
            <a:off x="3555720" y="3426480"/>
            <a:ext cx="930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Straight Arrow Connector 9"/>
          <p:cNvCxnSpPr>
            <a:stCxn id="130" idx="0"/>
          </p:cNvCxnSpPr>
          <p:nvPr/>
        </p:nvCxnSpPr>
        <p:spPr>
          <a:xfrm flipH="1" flipV="1">
            <a:off x="3979080" y="2642760"/>
            <a:ext cx="1343880" cy="418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" name="Rounded Rectangle 15"/>
          <p:cNvSpPr/>
          <p:nvPr/>
        </p:nvSpPr>
        <p:spPr>
          <a:xfrm>
            <a:off x="5992920" y="1927080"/>
            <a:ext cx="1987560" cy="73188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tient &amp;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7"/>
          <p:cNvCxnSpPr>
            <a:stCxn id="130" idx="2"/>
          </p:cNvCxnSpPr>
          <p:nvPr/>
        </p:nvCxnSpPr>
        <p:spPr>
          <a:xfrm flipH="1">
            <a:off x="3355560" y="3792600"/>
            <a:ext cx="1967760" cy="356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Straight Arrow Connector 18"/>
          <p:cNvCxnSpPr>
            <a:stCxn id="133" idx="1"/>
          </p:cNvCxnSpPr>
          <p:nvPr/>
        </p:nvCxnSpPr>
        <p:spPr>
          <a:xfrm flipH="1" flipV="1">
            <a:off x="3355200" y="2279160"/>
            <a:ext cx="2637720" cy="1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6" name="Rounded Rectangle 23"/>
          <p:cNvSpPr/>
          <p:nvPr/>
        </p:nvSpPr>
        <p:spPr>
          <a:xfrm>
            <a:off x="5478480" y="4148280"/>
            <a:ext cx="1278000" cy="69660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8"/>
          <p:cNvCxnSpPr>
            <a:stCxn id="133" idx="3"/>
          </p:cNvCxnSpPr>
          <p:nvPr/>
        </p:nvCxnSpPr>
        <p:spPr>
          <a:xfrm flipH="1">
            <a:off x="6160680" y="2292480"/>
            <a:ext cx="1820160" cy="3442320"/>
          </a:xfrm>
          <a:prstGeom prst="curvedConnector5">
            <a:avLst>
              <a:gd name="adj1" fmla="val -30247"/>
              <a:gd name="adj2" fmla="val 50036"/>
              <a:gd name="adj3" fmla="val -30247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32"/>
          <p:cNvCxnSpPr>
            <a:stCxn id="136" idx="1"/>
          </p:cNvCxnSpPr>
          <p:nvPr/>
        </p:nvCxnSpPr>
        <p:spPr>
          <a:xfrm flipH="1">
            <a:off x="4316400" y="4494600"/>
            <a:ext cx="1162440" cy="165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35"/>
          <p:cNvCxnSpPr>
            <a:stCxn id="140" idx="1"/>
          </p:cNvCxnSpPr>
          <p:nvPr/>
        </p:nvCxnSpPr>
        <p:spPr>
          <a:xfrm flipH="1" flipV="1">
            <a:off x="5648040" y="5086080"/>
            <a:ext cx="9374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Rounded Rectangular Callout 16"/>
          <p:cNvSpPr/>
          <p:nvPr/>
        </p:nvSpPr>
        <p:spPr>
          <a:xfrm>
            <a:off x="4653000" y="1600200"/>
            <a:ext cx="1339920" cy="612720"/>
          </a:xfrm>
          <a:prstGeom prst="wedgeRoundRectCallout">
            <a:avLst>
              <a:gd name="adj1" fmla="val -201611"/>
              <a:gd name="adj2" fmla="val -9361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Specimen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ular Callout 19"/>
          <p:cNvSpPr/>
          <p:nvPr/>
        </p:nvSpPr>
        <p:spPr>
          <a:xfrm>
            <a:off x="6389640" y="3164040"/>
            <a:ext cx="2013120" cy="984240"/>
          </a:xfrm>
          <a:prstGeom prst="wedgeRoundRectCallout">
            <a:avLst>
              <a:gd name="adj1" fmla="val -106240"/>
              <a:gd name="adj2" fmla="val 62342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Specimen mislabeled i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ular Callout 20"/>
          <p:cNvSpPr/>
          <p:nvPr/>
        </p:nvSpPr>
        <p:spPr>
          <a:xfrm>
            <a:off x="6161040" y="5857920"/>
            <a:ext cx="2013120" cy="795240"/>
          </a:xfrm>
          <a:prstGeom prst="wedgeRoundRectCallout">
            <a:avLst>
              <a:gd name="adj1" fmla="val -61203"/>
              <a:gd name="adj2" fmla="val -86435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Physician on va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6389640" y="4359240"/>
            <a:ext cx="2287800" cy="366840"/>
          </a:xfrm>
          <a:prstGeom prst="wedgeRoundRectCallout">
            <a:avLst>
              <a:gd name="adj1" fmla="val -99291"/>
              <a:gd name="adj2" fmla="val -62462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Results mis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ular Callout 22"/>
          <p:cNvSpPr/>
          <p:nvPr/>
        </p:nvSpPr>
        <p:spPr>
          <a:xfrm>
            <a:off x="4653000" y="2292480"/>
            <a:ext cx="2012760" cy="812520"/>
          </a:xfrm>
          <a:prstGeom prst="wedgeRoundRectCallout">
            <a:avLst>
              <a:gd name="adj1" fmla="val -153717"/>
              <a:gd name="adj2" fmla="val -97916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Specimen damaged during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ular Callout 25"/>
          <p:cNvSpPr/>
          <p:nvPr/>
        </p:nvSpPr>
        <p:spPr>
          <a:xfrm>
            <a:off x="6568920" y="4821120"/>
            <a:ext cx="2387880" cy="830520"/>
          </a:xfrm>
          <a:prstGeom prst="wedgeRoundRectCallout">
            <a:avLst>
              <a:gd name="adj1" fmla="val -138564"/>
              <a:gd name="adj2" fmla="val -65990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No documentation on 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24"/>
          <p:cNvSpPr/>
          <p:nvPr/>
        </p:nvSpPr>
        <p:spPr>
          <a:xfrm>
            <a:off x="6585120" y="4903920"/>
            <a:ext cx="1373040" cy="365040"/>
          </a:xfrm>
          <a:prstGeom prst="roundRect">
            <a:avLst>
              <a:gd name="adj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Nur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ular Callout 26"/>
          <p:cNvSpPr/>
          <p:nvPr/>
        </p:nvSpPr>
        <p:spPr>
          <a:xfrm>
            <a:off x="4951440" y="3165480"/>
            <a:ext cx="1359000" cy="627120"/>
          </a:xfrm>
          <a:prstGeom prst="wedgeRoundRectCallout">
            <a:avLst>
              <a:gd name="adj1" fmla="val -145425"/>
              <a:gd name="adj2" fmla="val 3162"/>
              <a:gd name="adj3" fmla="val 16667"/>
            </a:avLst>
          </a:prstGeom>
          <a:solidFill>
            <a:srgbClr val="ff6600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Patient doesn’t 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9000" y="219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edical Informatics Applic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9" name="Content Placeholder 6" descr="ViewAlertWindow-Text-Large.gif"/>
          <p:cNvPicPr/>
          <p:nvPr/>
        </p:nvPicPr>
        <p:blipFill>
          <a:blip r:embed="rId2"/>
          <a:srcRect l="-15460" t="0" r="-1546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  <p:sp>
        <p:nvSpPr>
          <p:cNvPr id="150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CA63C-A411-47EC-BF98-57CEBE1287A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346200" y="617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View Alert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ounded Rectangular Callout 5"/>
          <p:cNvGrpSpPr/>
          <p:nvPr/>
        </p:nvGrpSpPr>
        <p:grpSpPr>
          <a:xfrm>
            <a:off x="-96840" y="4870440"/>
            <a:ext cx="3468600" cy="1682640"/>
            <a:chOff x="-96840" y="4870440"/>
            <a:chExt cx="3468600" cy="1682640"/>
          </a:xfrm>
        </p:grpSpPr>
        <p:pic>
          <p:nvPicPr>
            <p:cNvPr id="153" name="Rounded Rectangular Callout 5" descr=""/>
            <p:cNvPicPr/>
            <p:nvPr/>
          </p:nvPicPr>
          <p:blipFill>
            <a:blip r:embed="rId3"/>
            <a:stretch/>
          </p:blipFill>
          <p:spPr>
            <a:xfrm>
              <a:off x="-96840" y="4870440"/>
              <a:ext cx="346860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1680" y="5835600"/>
              <a:ext cx="23241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Alert arrived results in chronological 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Rounded Rectangular Callout 6"/>
          <p:cNvGrpSpPr/>
          <p:nvPr/>
        </p:nvGrpSpPr>
        <p:grpSpPr>
          <a:xfrm>
            <a:off x="3584520" y="1749600"/>
            <a:ext cx="2438280" cy="1164960"/>
            <a:chOff x="3584520" y="1749600"/>
            <a:chExt cx="2438280" cy="1164960"/>
          </a:xfrm>
        </p:grpSpPr>
        <p:pic>
          <p:nvPicPr>
            <p:cNvPr id="156" name="Rounded Rectangular Callout 6" descr=""/>
            <p:cNvPicPr/>
            <p:nvPr/>
          </p:nvPicPr>
          <p:blipFill>
            <a:blip r:embed="rId4"/>
            <a:stretch/>
          </p:blipFill>
          <p:spPr>
            <a:xfrm>
              <a:off x="3584520" y="1749600"/>
              <a:ext cx="243828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368960" y="1836720"/>
              <a:ext cx="1539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Patient l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Rounded Rectangular Callout 7"/>
          <p:cNvGrpSpPr/>
          <p:nvPr/>
        </p:nvGrpSpPr>
        <p:grpSpPr>
          <a:xfrm>
            <a:off x="365040" y="2004840"/>
            <a:ext cx="2335320" cy="1652760"/>
            <a:chOff x="365040" y="2004840"/>
            <a:chExt cx="2335320" cy="1652760"/>
          </a:xfrm>
        </p:grpSpPr>
        <p:pic>
          <p:nvPicPr>
            <p:cNvPr id="159" name="Rounded Rectangular Callout 7" descr=""/>
            <p:cNvPicPr/>
            <p:nvPr/>
          </p:nvPicPr>
          <p:blipFill>
            <a:blip r:embed="rId5"/>
            <a:stretch/>
          </p:blipFill>
          <p:spPr>
            <a:xfrm>
              <a:off x="365040" y="2004840"/>
              <a:ext cx="233532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92120" y="2109960"/>
              <a:ext cx="18604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News Gothic MT"/>
                </a:rPr>
                <a:t>Pending tests in patient 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9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47DDF-C861-458E-BB82-B9091A9DA0D9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BEE31-F4F7-441E-AF31-83C2F3A6E86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12" descr="Fedex progress.png"/>
          <p:cNvPicPr/>
          <p:nvPr/>
        </p:nvPicPr>
        <p:blipFill>
          <a:blip r:embed="rId2"/>
          <a:srcRect l="-38843" t="0" r="-38843" b="0"/>
          <a:stretch/>
        </p:blipFill>
        <p:spPr>
          <a:xfrm>
            <a:off x="244440" y="706320"/>
            <a:ext cx="11390400" cy="6151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-43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otivation: Package Tracking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Rounded Rectangular Callout 6"/>
          <p:cNvSpPr/>
          <p:nvPr/>
        </p:nvSpPr>
        <p:spPr>
          <a:xfrm>
            <a:off x="0" y="914400"/>
            <a:ext cx="2265480" cy="414360"/>
          </a:xfrm>
          <a:prstGeom prst="wedgeRoundRectCallout">
            <a:avLst>
              <a:gd name="adj1" fmla="val 93115"/>
              <a:gd name="adj2" fmla="val 310800"/>
              <a:gd name="adj3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 Gothic MT"/>
              </a:rPr>
              <a:t>Clear expec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ular Callout 7"/>
          <p:cNvSpPr/>
          <p:nvPr/>
        </p:nvSpPr>
        <p:spPr>
          <a:xfrm>
            <a:off x="0" y="3106800"/>
            <a:ext cx="2252520" cy="457200"/>
          </a:xfrm>
          <a:prstGeom prst="wedgeRoundRectCallout">
            <a:avLst>
              <a:gd name="adj1" fmla="val 77625"/>
              <a:gd name="adj2" fmla="val 140277"/>
              <a:gd name="adj3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 Gothic MT"/>
              </a:rPr>
              <a:t>Constant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ular Callout 8"/>
          <p:cNvSpPr/>
          <p:nvPr/>
        </p:nvSpPr>
        <p:spPr>
          <a:xfrm>
            <a:off x="0" y="5853240"/>
            <a:ext cx="2577960" cy="422280"/>
          </a:xfrm>
          <a:prstGeom prst="wedgeRoundRectCallout">
            <a:avLst>
              <a:gd name="adj1" fmla="val 129166"/>
              <a:gd name="adj2" fmla="val -273500"/>
              <a:gd name="adj3" fmla="val 16667"/>
            </a:avLst>
          </a:prstGeom>
          <a:solidFill>
            <a:srgbClr val="215d77"/>
          </a:solidFill>
          <a:ln w="12600">
            <a:solidFill>
              <a:srgbClr val="ffb400"/>
            </a:solidFill>
            <a:miter/>
          </a:ln>
          <a:effectLst>
            <a:outerShdw dist="255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 Gothic MT"/>
              </a:rPr>
              <a:t>Explicit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4EAAD-6CA4-45FD-8A70-70F1E992902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ontent Placeholder 9" descr="image001.png"/>
          <p:cNvPicPr/>
          <p:nvPr/>
        </p:nvPicPr>
        <p:blipFill>
          <a:blip r:embed="rId2"/>
          <a:srcRect l="-7860" t="0" r="-7860" b="0"/>
          <a:stretch/>
        </p:blipFill>
        <p:spPr>
          <a:xfrm>
            <a:off x="-741240" y="1150920"/>
            <a:ext cx="10602720" cy="5727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tivation: Lists &amp; Ac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C70A1-9D91-44A2-A852-06D2838594C2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002.png"/>
          <p:cNvPicPr/>
          <p:nvPr/>
        </p:nvPicPr>
        <p:blipFill>
          <a:blip r:embed="rId3"/>
          <a:stretch/>
        </p:blipFill>
        <p:spPr>
          <a:xfrm>
            <a:off x="0" y="1147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6640" y="107640"/>
            <a:ext cx="832176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Approach for Reducing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issed Result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2960" y="1600200"/>
            <a:ext cx="8431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del user actions within workflow specific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ssign temporal responsibilit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rive an interactive display from the mod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rom order time to until all follow-up actions are take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upport actor action sheets as part of track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vide retrospective analyses for manager to identify common problems and compare performa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711E1-6B73-4DE9-B412-4261953B81B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562932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DBD20-3EB6-43A9-ABFE-6FBB12BD279C}" type="datetime3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23:04:12Z</dcterms:created>
  <dc:creator>Sureyya Tarkan</dc:creator>
  <dc:description/>
  <dc:language>en-US</dc:language>
  <cp:lastModifiedBy>Sureyya Tarkan</cp:lastModifiedBy>
  <dcterms:modified xsi:type="dcterms:W3CDTF">2011-11-08T23:38:20Z</dcterms:modified>
  <cp:revision>476</cp:revision>
  <dc:subject/>
  <dc:title>Lab Tracking (Missed Labs)</dc:title>
</cp:coreProperties>
</file>