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6.pct" ContentType="image/x-pict"/>
  <Override PartName="/ppt/media/image9.png" ContentType="image/png"/>
  <Override PartName="/ppt/media/image34.png" ContentType="image/png"/>
  <Override PartName="/ppt/media/image7.pct" ContentType="image/x-pict"/>
  <Override PartName="/ppt/media/image30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22.png" ContentType="image/png"/>
  <Override PartName="/ppt/media/image10.pct" ContentType="image/x-pict"/>
  <Override PartName="/ppt/media/image13.png" ContentType="image/png"/>
  <Override PartName="/ppt/media/image37.png" ContentType="image/png"/>
  <Override PartName="/ppt/media/image8.png" ContentType="image/png"/>
  <Override PartName="/ppt/media/image5.pct" ContentType="image/x-pict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96941-541A-4B82-99DF-B8ECBB2AC7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8989C-1CFA-4589-83EA-69355B460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CA8E3-AACF-4B7C-AFB0-A8FE1A807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5AF6C-49DA-4E61-BAFF-C8F7FCA83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8913B-45ED-4DC5-B28D-56FED386B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74EBD-49B0-4876-843E-D4CC05DA4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600AE-1552-4109-B358-71EE9BEE4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focusing on Computerized Physician Order Entry (CPO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CCF56-02AA-4980-B1DE-C820B0C7F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insight to problems in order to give ideas on how to fix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44F1F-D4E1-4BBB-B9E9-B54C6A8CA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7E433-6765-4DD9-87C6-872CD8B64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1DB65-E919-4516-A3D8-50FEDE888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E0D76-823D-4C12-8DE9-CCF647DF5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AF073-DBB7-4F05-8A1A-CDA093C7B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7AC4D-1A1F-402B-B14E-21DA35AB2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00E00-067C-4818-8100-348F96483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945F4-8B22-4557-8025-0EEEC2D14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081C2-9F17-4BA7-847E-39BB92965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4748E-83D7-40B6-8ED5-A76538BB5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D9701-CF1B-4A33-AE1F-2D15F3082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AA0-3B9B-45DD-BADF-A7967263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6EF-8A60-4349-8E08-29B02E04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FC8-CE6E-46D4-BE35-1A64F5B8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519-B486-4CA5-94C3-72B77476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C6EC-B0FD-42C5-825C-A6296743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54B3-61BD-4B6B-B528-620BA59B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7A38-2D9E-43FE-8A80-5E01B6C1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9B43-69C5-4FD3-B7E8-DE6915D7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CA40-13BF-4337-9EF2-242A6468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3302-9FCB-4E56-B5A9-93FB62D4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FDAB-7D4C-4746-A289-75E9551A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601-FF6E-4F69-B8B2-B5CF2049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1F69-93B0-4A7F-A11C-3AF41FDE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DE80-F286-48B1-88D0-8C02C111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98D5-9F9A-44F2-A94F-C094FBBB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3A0E-41DE-490C-B97C-8089E104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B625-D334-496A-9082-83EC01EF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DAF-7BA3-4C10-9501-C7B50FA9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936-3E42-476A-A796-922CBEAC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64B-A497-43D6-8758-4AB4A691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CB3-D48D-44EE-93B5-503F2CDE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9ED-9077-4F7D-A07B-1A4838E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764-4B36-4AE0-B8D4-1459DFAA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FEB-0049-455D-8619-199947B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B3CA5-05DB-478D-BD82-4FD8BF9815C2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93492-1F03-43E2-9874-FE1557C5859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AA1CF-8CFC-4C08-A173-F792941F8CC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73F5F-E426-4E81-9412-AEB73183C65F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ureyya@cs.umd.edu" TargetMode="External"/><Relationship Id="rId3" Type="http://schemas.openxmlformats.org/officeDocument/2006/relationships/hyperlink" Target="http://www.cs.umd.edu/hcil/sharpc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ct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ureyya@cs.umd.edu" TargetMode="External"/><Relationship Id="rId3" Type="http://schemas.openxmlformats.org/officeDocument/2006/relationships/hyperlink" Target="http://www.cs.umd.edu/hcil/sharp/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240" y="1320480"/>
            <a:ext cx="870408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Enhancing Timely Management of Workflow with Interactive Visual Displays &amp; Actions for Situation Awareness Process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9400" y="3298320"/>
            <a:ext cx="74167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News Gothic MT"/>
              </a:rPr>
              <a:t>Sureyya Tarka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News Gothic MT"/>
              </a:rPr>
              <a:t>UMD Dept. of Computer Science &amp; HCI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sureyya@cs.umd.edu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030a0"/>
                </a:solidFill>
                <a:uFillTx/>
                <a:latin typeface="News Gothic MT"/>
                <a:hlinkClick r:id="rId3"/>
              </a:rPr>
              <a:t>http://www.cs.umd.edu/hcil/sharpc/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News Gothic MT"/>
              </a:rPr>
              <a:t>Supervised by Ben Shneiderman &amp; Catherine Plaisan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2" name="Picture 5" descr="HCIL_Logo.png"/>
          <p:cNvPicPr/>
          <p:nvPr/>
        </p:nvPicPr>
        <p:blipFill>
          <a:blip r:embed="rId4"/>
          <a:stretch/>
        </p:blipFill>
        <p:spPr>
          <a:xfrm>
            <a:off x="7620120" y="5583240"/>
            <a:ext cx="1116000" cy="98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93640" y="5530680"/>
            <a:ext cx="8636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9000" y="12492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Laboratory Test Result Management Workflow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8" name="Content Placeholder 5" descr=""/>
          <p:cNvPicPr/>
          <p:nvPr/>
        </p:nvPicPr>
        <p:blipFill>
          <a:blip r:embed="rId2"/>
          <a:stretch/>
        </p:blipFill>
        <p:spPr>
          <a:xfrm>
            <a:off x="469800" y="1596960"/>
            <a:ext cx="8204400" cy="435312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9A2DB-0520-4E2C-9668-D53D0E3E1659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DFFC0-CE38-429E-BAF4-A584F05BA455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9000" y="-1288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deling Ac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82" name="Content Placeholder 6" descr="Screen shot 2011-10-14 at 7.19.41 PM.png"/>
          <p:cNvPicPr/>
          <p:nvPr/>
        </p:nvPicPr>
        <p:blipFill>
          <a:blip r:embed="rId2"/>
          <a:stretch/>
        </p:blipFill>
        <p:spPr>
          <a:xfrm>
            <a:off x="884160" y="1224000"/>
            <a:ext cx="7344000" cy="541332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73422-FD69-4D28-A636-FF8A15390130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Right Arrow 7"/>
          <p:cNvGrpSpPr/>
          <p:nvPr/>
        </p:nvGrpSpPr>
        <p:grpSpPr>
          <a:xfrm>
            <a:off x="146160" y="1620720"/>
            <a:ext cx="1731960" cy="482760"/>
            <a:chOff x="146160" y="1620720"/>
            <a:chExt cx="1731960" cy="482760"/>
          </a:xfrm>
        </p:grpSpPr>
        <p:pic>
          <p:nvPicPr>
            <p:cNvPr id="185" name="Right Arrow 7" descr=""/>
            <p:cNvPicPr/>
            <p:nvPr/>
          </p:nvPicPr>
          <p:blipFill>
            <a:blip r:embed="rId3"/>
            <a:stretch/>
          </p:blipFill>
          <p:spPr>
            <a:xfrm>
              <a:off x="146160" y="1620720"/>
              <a:ext cx="17319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35080" y="1765440"/>
              <a:ext cx="1476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ight Arrow 8"/>
          <p:cNvGrpSpPr/>
          <p:nvPr/>
        </p:nvGrpSpPr>
        <p:grpSpPr>
          <a:xfrm>
            <a:off x="579600" y="2109960"/>
            <a:ext cx="1730160" cy="480960"/>
            <a:chOff x="579600" y="2109960"/>
            <a:chExt cx="1730160" cy="480960"/>
          </a:xfrm>
        </p:grpSpPr>
        <p:pic>
          <p:nvPicPr>
            <p:cNvPr id="188" name="Right Arrow 8" descr=""/>
            <p:cNvPicPr/>
            <p:nvPr/>
          </p:nvPicPr>
          <p:blipFill>
            <a:blip r:embed="rId4"/>
            <a:stretch/>
          </p:blipFill>
          <p:spPr>
            <a:xfrm>
              <a:off x="579600" y="2109960"/>
              <a:ext cx="1730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68160" y="2251080"/>
              <a:ext cx="1476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ight Arrow 9"/>
          <p:cNvGrpSpPr/>
          <p:nvPr/>
        </p:nvGrpSpPr>
        <p:grpSpPr>
          <a:xfrm>
            <a:off x="146160" y="3346560"/>
            <a:ext cx="1725480" cy="482400"/>
            <a:chOff x="146160" y="3346560"/>
            <a:chExt cx="1725480" cy="482400"/>
          </a:xfrm>
        </p:grpSpPr>
        <p:pic>
          <p:nvPicPr>
            <p:cNvPr id="191" name="Right Arrow 9" descr=""/>
            <p:cNvPicPr/>
            <p:nvPr/>
          </p:nvPicPr>
          <p:blipFill>
            <a:blip r:embed="rId5"/>
            <a:stretch/>
          </p:blipFill>
          <p:spPr>
            <a:xfrm>
              <a:off x="146160" y="3346560"/>
              <a:ext cx="17254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35080" y="3487680"/>
              <a:ext cx="14745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8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C0E33-87E9-48C5-8C61-65C914F724DB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Content Placeholder 11" descr="track.png"/>
          <p:cNvPicPr/>
          <p:nvPr/>
        </p:nvPicPr>
        <p:blipFill>
          <a:blip r:embed="rId2"/>
          <a:stretch/>
        </p:blipFill>
        <p:spPr>
          <a:xfrm>
            <a:off x="701640" y="1082520"/>
            <a:ext cx="8256600" cy="6232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Multi-Step Task Analyzing, Reporting, Tracking (MSTART) Prototype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552B1-FB2E-4DC0-8F15-2544DABA4F0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ame 15"/>
          <p:cNvSpPr/>
          <p:nvPr/>
        </p:nvSpPr>
        <p:spPr>
          <a:xfrm>
            <a:off x="1049400" y="2039760"/>
            <a:ext cx="1050840" cy="34776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ame 16"/>
          <p:cNvSpPr/>
          <p:nvPr/>
        </p:nvSpPr>
        <p:spPr>
          <a:xfrm>
            <a:off x="5452920" y="2023920"/>
            <a:ext cx="2505240" cy="36360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ame 17"/>
          <p:cNvSpPr/>
          <p:nvPr/>
        </p:nvSpPr>
        <p:spPr>
          <a:xfrm>
            <a:off x="3301920" y="2398680"/>
            <a:ext cx="2405160" cy="16848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ame 19"/>
          <p:cNvSpPr/>
          <p:nvPr/>
        </p:nvSpPr>
        <p:spPr>
          <a:xfrm>
            <a:off x="1100160" y="2557440"/>
            <a:ext cx="1846080" cy="426708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ontent Placeholder 8" descr="track_cropped.png"/>
          <p:cNvPicPr/>
          <p:nvPr/>
        </p:nvPicPr>
        <p:blipFill>
          <a:blip r:embed="rId2"/>
          <a:srcRect l="-18596" t="0" r="-18596" b="0"/>
          <a:stretch/>
        </p:blipFill>
        <p:spPr>
          <a:xfrm>
            <a:off x="-660240" y="1166760"/>
            <a:ext cx="10539360" cy="5691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28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Rich Tabular Display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52AD9-ACD2-42E2-A38B-61F06822A021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E06DF-0D7F-4B82-A0D8-F2E33E2567F5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track_cropped.png"/>
          <p:cNvPicPr/>
          <p:nvPr/>
        </p:nvPicPr>
        <p:blipFill>
          <a:blip r:embed="rId3"/>
          <a:stretch/>
        </p:blipFill>
        <p:spPr>
          <a:xfrm>
            <a:off x="806400" y="1166760"/>
            <a:ext cx="704844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6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6ED63-A63E-4AA4-9B2E-C24848234352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0600" y="107640"/>
            <a:ext cx="859500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Generating Actor Action Sheets: Result Review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08" name="Content Placeholder 6" descr="result review.png"/>
          <p:cNvPicPr/>
          <p:nvPr/>
        </p:nvPicPr>
        <p:blipFill>
          <a:blip r:embed="rId2"/>
          <a:stretch/>
        </p:blipFill>
        <p:spPr>
          <a:xfrm>
            <a:off x="-271440" y="1447920"/>
            <a:ext cx="9702720" cy="541008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DD448-6882-4B05-9668-CF11BB2F8F1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ame 7"/>
          <p:cNvSpPr/>
          <p:nvPr/>
        </p:nvSpPr>
        <p:spPr>
          <a:xfrm>
            <a:off x="338040" y="2303640"/>
            <a:ext cx="3556080" cy="354960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ame 11"/>
          <p:cNvSpPr/>
          <p:nvPr/>
        </p:nvSpPr>
        <p:spPr>
          <a:xfrm>
            <a:off x="5418000" y="5954760"/>
            <a:ext cx="3488040" cy="26028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D3F62-75D2-4194-8FAF-76D4C33BFD8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8582A-698E-4662-81F4-4F60A3473FE3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-251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d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5" name="Content Placeholder 5" descr="Screen shot 2011-02-15 at 2.01.05 PM.png"/>
          <p:cNvPicPr/>
          <p:nvPr/>
        </p:nvPicPr>
        <p:blipFill>
          <a:blip r:embed="rId2"/>
          <a:srcRect l="-9548" t="0" r="-9548" b="0"/>
          <a:stretch/>
        </p:blipFill>
        <p:spPr>
          <a:xfrm>
            <a:off x="-520560" y="744480"/>
            <a:ext cx="1017252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56843-F1DD-4E2B-AB2A-8543A698794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12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4E0F2-BC4C-4984-9EDD-D42CEFC33234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-1828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trospective Analy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9" name="Content Placeholder 7" descr="Screen shot 2011-02-17 at 12.28.43 PM.png"/>
          <p:cNvPicPr/>
          <p:nvPr/>
        </p:nvPicPr>
        <p:blipFill>
          <a:blip r:embed="rId2"/>
          <a:stretch/>
        </p:blipFill>
        <p:spPr>
          <a:xfrm>
            <a:off x="22320" y="1168560"/>
            <a:ext cx="9104040" cy="5707080"/>
          </a:xfrm>
          <a:prstGeom prst="rect">
            <a:avLst/>
          </a:prstGeom>
          <a:ln w="0">
            <a:noFill/>
          </a:ln>
        </p:spPr>
      </p:pic>
      <p:sp>
        <p:nvSpPr>
          <p:cNvPr id="220" name="Frame 5"/>
          <p:cNvSpPr/>
          <p:nvPr/>
        </p:nvSpPr>
        <p:spPr>
          <a:xfrm>
            <a:off x="22320" y="1219320"/>
            <a:ext cx="4110120" cy="27144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ame 6"/>
          <p:cNvSpPr/>
          <p:nvPr/>
        </p:nvSpPr>
        <p:spPr>
          <a:xfrm>
            <a:off x="5079960" y="3149640"/>
            <a:ext cx="1575000" cy="348768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ame 8"/>
          <p:cNvSpPr/>
          <p:nvPr/>
        </p:nvSpPr>
        <p:spPr>
          <a:xfrm>
            <a:off x="254160" y="1828800"/>
            <a:ext cx="6400800" cy="25416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ame 9"/>
          <p:cNvSpPr/>
          <p:nvPr/>
        </p:nvSpPr>
        <p:spPr>
          <a:xfrm>
            <a:off x="254160" y="4233960"/>
            <a:ext cx="6672240" cy="23652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ame 10"/>
          <p:cNvSpPr/>
          <p:nvPr/>
        </p:nvSpPr>
        <p:spPr>
          <a:xfrm>
            <a:off x="812880" y="2387520"/>
            <a:ext cx="863640" cy="62712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ame 11"/>
          <p:cNvSpPr/>
          <p:nvPr/>
        </p:nvSpPr>
        <p:spPr>
          <a:xfrm>
            <a:off x="812880" y="4521240"/>
            <a:ext cx="863640" cy="59220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Proposed Work: Actions for Situation Awareness Processing (ASAP)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D2233-23ED-4F55-A4F9-07A78255BDFE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563DD-D1F6-4B06-A367-6B0D7E718211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Content Placeholder 5" descr="marking.png"/>
          <p:cNvPicPr/>
          <p:nvPr/>
        </p:nvPicPr>
        <p:blipFill>
          <a:blip r:embed="rId2"/>
          <a:stretch/>
        </p:blipFill>
        <p:spPr>
          <a:xfrm>
            <a:off x="752400" y="5611680"/>
            <a:ext cx="8042400" cy="1193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editannotate.png"/>
          <p:cNvPicPr/>
          <p:nvPr/>
        </p:nvPicPr>
        <p:blipFill>
          <a:blip r:embed="rId3"/>
          <a:stretch/>
        </p:blipFill>
        <p:spPr>
          <a:xfrm>
            <a:off x="1547640" y="4433760"/>
            <a:ext cx="6350040" cy="795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moreinfo.png"/>
          <p:cNvPicPr/>
          <p:nvPr/>
        </p:nvPicPr>
        <p:blipFill>
          <a:blip r:embed="rId4"/>
          <a:stretch/>
        </p:blipFill>
        <p:spPr>
          <a:xfrm>
            <a:off x="430200" y="2081160"/>
            <a:ext cx="8339040" cy="2073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re inform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dit/Annot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rk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AB623-BEA2-470C-9A61-1B9A0DE0901B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57B09-A72F-457F-B16A-FB3FF162E1A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Content Placeholder 6" descr="resultaction.png"/>
          <p:cNvPicPr/>
          <p:nvPr/>
        </p:nvPicPr>
        <p:blipFill>
          <a:blip r:embed="rId2"/>
          <a:stretch/>
        </p:blipFill>
        <p:spPr>
          <a:xfrm>
            <a:off x="549360" y="1407960"/>
            <a:ext cx="8339040" cy="31100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9000" y="-33372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ctions, Groups, and Valu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37" name="Content Placeholder 8" descr="pendingaction.png"/>
          <p:cNvPicPr/>
          <p:nvPr/>
        </p:nvPicPr>
        <p:blipFill>
          <a:blip r:embed="rId3"/>
          <a:srcRect l="0" t="-162895" r="0" b="-162895"/>
          <a:stretch/>
        </p:blipFill>
        <p:spPr>
          <a:xfrm>
            <a:off x="549360" y="957240"/>
            <a:ext cx="833904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valuation Plans for ASA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terative Design Reviews with Medical Professional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sability Tes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10 subjects, 25 tasks (1 hour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form desig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eedback: Interview, Questionnai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trolled Experime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est whether ASAP reduces the amount of missed and delayed resul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Busy s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mulation environment </a:t>
            </a: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ere multiple distracting factors are in place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ompare to a plain list ordered by time of arriv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20 participants, 50 tasks (2 hours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0" name="Date Placeholder 4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FCA2E-2476-44DE-A9D8-C52B66709E13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52B52-B1A6-4583-86EC-ADB6C9FBAD88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ituation Awareness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(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Endsley, 2004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8322F-E86C-483E-AEDF-D53002188B1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965160" y="1220760"/>
            <a:ext cx="1473120" cy="222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3584520" y="1752480"/>
            <a:ext cx="19558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4"/>
          <a:stretch/>
        </p:blipFill>
        <p:spPr>
          <a:xfrm>
            <a:off x="6586560" y="1889280"/>
            <a:ext cx="1811160" cy="151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5780160" y="4656240"/>
            <a:ext cx="1816200" cy="1485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1"/>
          <p:cNvSpPr/>
          <p:nvPr/>
        </p:nvSpPr>
        <p:spPr>
          <a:xfrm>
            <a:off x="1408680" y="6141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SA of a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001480" y="614196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l dynamic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924840" y="35924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er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3564720" y="35449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6739920" y="35272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ight Arrow 16"/>
          <p:cNvGrpSpPr/>
          <p:nvPr/>
        </p:nvGrpSpPr>
        <p:grpSpPr>
          <a:xfrm>
            <a:off x="2462040" y="2419200"/>
            <a:ext cx="1043280" cy="573120"/>
            <a:chOff x="2462040" y="2419200"/>
            <a:chExt cx="1043280" cy="573120"/>
          </a:xfrm>
        </p:grpSpPr>
        <p:pic>
          <p:nvPicPr>
            <p:cNvPr id="106" name="Right Arrow 16" descr=""/>
            <p:cNvPicPr/>
            <p:nvPr/>
          </p:nvPicPr>
          <p:blipFill>
            <a:blip r:embed="rId6"/>
            <a:stretch/>
          </p:blipFill>
          <p:spPr>
            <a:xfrm>
              <a:off x="2462040" y="2419200"/>
              <a:ext cx="10432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544840" y="2585880"/>
              <a:ext cx="7794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ight Arrow 17"/>
          <p:cNvGrpSpPr/>
          <p:nvPr/>
        </p:nvGrpSpPr>
        <p:grpSpPr>
          <a:xfrm>
            <a:off x="5535720" y="2419200"/>
            <a:ext cx="1073160" cy="573120"/>
            <a:chOff x="5535720" y="2419200"/>
            <a:chExt cx="1073160" cy="573120"/>
          </a:xfrm>
        </p:grpSpPr>
        <p:pic>
          <p:nvPicPr>
            <p:cNvPr id="109" name="Right Arrow 17" descr=""/>
            <p:cNvPicPr/>
            <p:nvPr/>
          </p:nvPicPr>
          <p:blipFill>
            <a:blip r:embed="rId7"/>
            <a:stretch/>
          </p:blipFill>
          <p:spPr>
            <a:xfrm>
              <a:off x="5535720" y="2419200"/>
              <a:ext cx="10731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621400" y="2585880"/>
              <a:ext cx="8017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0" descr="j0290795.pict"/>
          <p:cNvPicPr/>
          <p:nvPr/>
        </p:nvPicPr>
        <p:blipFill>
          <a:blip r:embed="rId8"/>
          <a:stretch/>
        </p:blipFill>
        <p:spPr>
          <a:xfrm>
            <a:off x="1668600" y="454176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9000" y="-3164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umma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46240" y="1247760"/>
            <a:ext cx="88135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odel user actions within workflow specifica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llow actions as part of displa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tegrate review of results with possible actor actions from within same scree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racking shows how much time has passed since last ac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95959"/>
                </a:solidFill>
                <a:latin typeface="News Gothic MT"/>
              </a:rPr>
              <a:t>Acknowledgments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Zach Hettinger, Daniel Murphy, Archana Laxmisan, Hardeep Singh, Dean Sittig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Strategic Health-IT Advanced Research Projects (SHARPC)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Contact: </a:t>
            </a:r>
            <a:r>
              <a:rPr b="0" lang="en-US" sz="13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sureyya@cs.umd.edu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Website: </a:t>
            </a:r>
            <a:r>
              <a:rPr b="0" lang="en-US" sz="1300" spc="-1" strike="noStrike" u="sng">
                <a:solidFill>
                  <a:srgbClr val="7030a0"/>
                </a:solidFill>
                <a:uFillTx/>
                <a:latin typeface="News Gothic MT"/>
                <a:hlinkClick r:id="rId3"/>
              </a:rPr>
              <a:t>http://www.cs.umd.edu/hcil/sharp/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E55A5-0AEC-4D3E-9413-CC9AE8B6D23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image001.jpg"/>
          <p:cNvPicPr/>
          <p:nvPr/>
        </p:nvPicPr>
        <p:blipFill>
          <a:blip r:embed="rId4"/>
          <a:stretch/>
        </p:blipFill>
        <p:spPr>
          <a:xfrm>
            <a:off x="380880" y="5357880"/>
            <a:ext cx="2581560" cy="866880"/>
          </a:xfrm>
          <a:prstGeom prst="rect">
            <a:avLst/>
          </a:prstGeom>
          <a:ln w="0">
            <a:noFill/>
          </a:ln>
        </p:spPr>
      </p:pic>
      <p:sp>
        <p:nvSpPr>
          <p:cNvPr id="246" name="Date Placeholder 5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562BD-6FAC-451D-931F-313DD3924B2D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1080" y="-179640"/>
            <a:ext cx="859140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erruptions &amp; Notifica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fb7d7"/>
              </a:solidFill>
              <a:latin typeface="News Gothic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092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fb7d7"/>
              </a:solidFill>
              <a:latin typeface="News Gothic MT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2A536-0524-42FD-A6CE-C41DB0EF6558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E105A-BD82-449C-8940-C7F79BD45A20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fb alerts.png"/>
          <p:cNvPicPr/>
          <p:nvPr/>
        </p:nvPicPr>
        <p:blipFill>
          <a:blip r:embed="rId2"/>
          <a:stretch/>
        </p:blipFill>
        <p:spPr>
          <a:xfrm>
            <a:off x="1322280" y="1733400"/>
            <a:ext cx="2324160" cy="47016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14" descr="fb alarms.png"/>
          <p:cNvPicPr/>
          <p:nvPr/>
        </p:nvPicPr>
        <p:blipFill>
          <a:blip r:embed="rId3"/>
          <a:srcRect l="-7877" t="0" r="-7877" b="0"/>
          <a:stretch/>
        </p:blipFill>
        <p:spPr>
          <a:xfrm>
            <a:off x="549360" y="2347920"/>
            <a:ext cx="3840120" cy="359568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19" descr="Screen shot 2011-10-14 at 6.59.16 PM.png"/>
          <p:cNvPicPr/>
          <p:nvPr/>
        </p:nvPicPr>
        <p:blipFill>
          <a:blip r:embed="rId4"/>
          <a:srcRect l="-35914" t="0" r="-35914" b="0"/>
          <a:stretch/>
        </p:blipFill>
        <p:spPr>
          <a:xfrm>
            <a:off x="4751280" y="2347920"/>
            <a:ext cx="3840120" cy="359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Screen shot 2011-10-14 at 6.58.25 PM.png"/>
          <p:cNvPicPr/>
          <p:nvPr/>
        </p:nvPicPr>
        <p:blipFill>
          <a:blip r:embed="rId5"/>
          <a:stretch/>
        </p:blipFill>
        <p:spPr>
          <a:xfrm>
            <a:off x="5838840" y="1461960"/>
            <a:ext cx="1714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‘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ssed Results’ Proble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shandling of abnormal results &amp; no follow-up (Wahls, 2007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st common missing information: lab test results (Dovey, 200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lay in care, time/financial loss, pain/suffering, adverse clinical consequence (Hickner, 2008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F2AD0-4623-4010-B8B5-1594D57A3EB0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620F0-05D9-45CF-92FC-194221805835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7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B9259-0879-4AEA-BDB5-9BD19BA0E59B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est Process Step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re-analytic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Ordering the tes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mplementing the tes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nalytic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erforming the tes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ost-analytic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Reporting results to the clinicia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Responding to the resul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Notifying the patients of the resul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ollowing-up to ensure the patient took the appropriate action based on test resul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DF9E9-3F97-444D-8814-BD49CA8A88F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6"/>
          <p:cNvSpPr/>
          <p:nvPr/>
        </p:nvSpPr>
        <p:spPr>
          <a:xfrm>
            <a:off x="4486320" y="3060720"/>
            <a:ext cx="1674720" cy="731880"/>
          </a:xfrm>
          <a:prstGeom prst="roundRect">
            <a:avLst>
              <a:gd name="adj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b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7"/>
          <p:cNvCxnSpPr>
            <a:stCxn id="130" idx="1"/>
          </p:cNvCxnSpPr>
          <p:nvPr/>
        </p:nvCxnSpPr>
        <p:spPr>
          <a:xfrm flipH="1">
            <a:off x="3555720" y="3426480"/>
            <a:ext cx="930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Straight Arrow Connector 9"/>
          <p:cNvCxnSpPr>
            <a:stCxn id="130" idx="0"/>
          </p:cNvCxnSpPr>
          <p:nvPr/>
        </p:nvCxnSpPr>
        <p:spPr>
          <a:xfrm flipH="1" flipV="1">
            <a:off x="3979080" y="2642760"/>
            <a:ext cx="1343880" cy="418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3" name="Rounded Rectangle 15"/>
          <p:cNvSpPr/>
          <p:nvPr/>
        </p:nvSpPr>
        <p:spPr>
          <a:xfrm>
            <a:off x="5992920" y="1927080"/>
            <a:ext cx="1987560" cy="731880"/>
          </a:xfrm>
          <a:prstGeom prst="roundRect">
            <a:avLst>
              <a:gd name="adj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tient &amp;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17"/>
          <p:cNvCxnSpPr>
            <a:stCxn id="130" idx="2"/>
          </p:cNvCxnSpPr>
          <p:nvPr/>
        </p:nvCxnSpPr>
        <p:spPr>
          <a:xfrm flipH="1">
            <a:off x="3355560" y="3792600"/>
            <a:ext cx="1967760" cy="356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Straight Arrow Connector 18"/>
          <p:cNvCxnSpPr>
            <a:stCxn id="133" idx="1"/>
          </p:cNvCxnSpPr>
          <p:nvPr/>
        </p:nvCxnSpPr>
        <p:spPr>
          <a:xfrm flipH="1" flipV="1">
            <a:off x="3355200" y="2279160"/>
            <a:ext cx="2637720" cy="13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6" name="Rounded Rectangle 23"/>
          <p:cNvSpPr/>
          <p:nvPr/>
        </p:nvSpPr>
        <p:spPr>
          <a:xfrm>
            <a:off x="5478480" y="4148280"/>
            <a:ext cx="1278000" cy="696600"/>
          </a:xfrm>
          <a:prstGeom prst="roundRect">
            <a:avLst>
              <a:gd name="adj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8"/>
          <p:cNvCxnSpPr>
            <a:stCxn id="133" idx="3"/>
          </p:cNvCxnSpPr>
          <p:nvPr/>
        </p:nvCxnSpPr>
        <p:spPr>
          <a:xfrm flipH="1">
            <a:off x="6160680" y="2292480"/>
            <a:ext cx="1820160" cy="3442320"/>
          </a:xfrm>
          <a:prstGeom prst="curvedConnector5">
            <a:avLst>
              <a:gd name="adj1" fmla="val -30247"/>
              <a:gd name="adj2" fmla="val 50036"/>
              <a:gd name="adj3" fmla="val -30247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32"/>
          <p:cNvCxnSpPr>
            <a:stCxn id="136" idx="1"/>
          </p:cNvCxnSpPr>
          <p:nvPr/>
        </p:nvCxnSpPr>
        <p:spPr>
          <a:xfrm flipH="1">
            <a:off x="4316400" y="4494600"/>
            <a:ext cx="1162440" cy="165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35"/>
          <p:cNvCxnSpPr>
            <a:stCxn id="140" idx="1"/>
          </p:cNvCxnSpPr>
          <p:nvPr/>
        </p:nvCxnSpPr>
        <p:spPr>
          <a:xfrm flipH="1" flipV="1">
            <a:off x="5648040" y="5086080"/>
            <a:ext cx="9374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Rounded Rectangular Callout 16"/>
          <p:cNvSpPr/>
          <p:nvPr/>
        </p:nvSpPr>
        <p:spPr>
          <a:xfrm>
            <a:off x="4653000" y="1600200"/>
            <a:ext cx="1339920" cy="612720"/>
          </a:xfrm>
          <a:prstGeom prst="wedgeRoundRectCallout">
            <a:avLst>
              <a:gd name="adj1" fmla="val -201611"/>
              <a:gd name="adj2" fmla="val -9361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Specimen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ular Callout 19"/>
          <p:cNvSpPr/>
          <p:nvPr/>
        </p:nvSpPr>
        <p:spPr>
          <a:xfrm>
            <a:off x="6389640" y="3164040"/>
            <a:ext cx="2013120" cy="984240"/>
          </a:xfrm>
          <a:prstGeom prst="wedgeRoundRectCallout">
            <a:avLst>
              <a:gd name="adj1" fmla="val -106240"/>
              <a:gd name="adj2" fmla="val 62342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Specimen mislabeled i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ular Callout 20"/>
          <p:cNvSpPr/>
          <p:nvPr/>
        </p:nvSpPr>
        <p:spPr>
          <a:xfrm>
            <a:off x="6161040" y="5857920"/>
            <a:ext cx="2013120" cy="795240"/>
          </a:xfrm>
          <a:prstGeom prst="wedgeRoundRectCallout">
            <a:avLst>
              <a:gd name="adj1" fmla="val -61203"/>
              <a:gd name="adj2" fmla="val -86435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Physician on va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ular Callout 21"/>
          <p:cNvSpPr/>
          <p:nvPr/>
        </p:nvSpPr>
        <p:spPr>
          <a:xfrm>
            <a:off x="6389640" y="4359240"/>
            <a:ext cx="2287800" cy="366840"/>
          </a:xfrm>
          <a:prstGeom prst="wedgeRoundRectCallout">
            <a:avLst>
              <a:gd name="adj1" fmla="val -99291"/>
              <a:gd name="adj2" fmla="val -62462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Results mis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ular Callout 22"/>
          <p:cNvSpPr/>
          <p:nvPr/>
        </p:nvSpPr>
        <p:spPr>
          <a:xfrm>
            <a:off x="4653000" y="2292480"/>
            <a:ext cx="2012760" cy="812520"/>
          </a:xfrm>
          <a:prstGeom prst="wedgeRoundRectCallout">
            <a:avLst>
              <a:gd name="adj1" fmla="val -153717"/>
              <a:gd name="adj2" fmla="val -97916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Specimen damaged during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ular Callout 25"/>
          <p:cNvSpPr/>
          <p:nvPr/>
        </p:nvSpPr>
        <p:spPr>
          <a:xfrm>
            <a:off x="6568920" y="4821120"/>
            <a:ext cx="2387880" cy="830520"/>
          </a:xfrm>
          <a:prstGeom prst="wedgeRoundRectCallout">
            <a:avLst>
              <a:gd name="adj1" fmla="val -138564"/>
              <a:gd name="adj2" fmla="val -65990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No documentation on 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24"/>
          <p:cNvSpPr/>
          <p:nvPr/>
        </p:nvSpPr>
        <p:spPr>
          <a:xfrm>
            <a:off x="6585120" y="4903920"/>
            <a:ext cx="1373040" cy="365040"/>
          </a:xfrm>
          <a:prstGeom prst="roundRect">
            <a:avLst>
              <a:gd name="adj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ur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ular Callout 26"/>
          <p:cNvSpPr/>
          <p:nvPr/>
        </p:nvSpPr>
        <p:spPr>
          <a:xfrm>
            <a:off x="4951440" y="3165480"/>
            <a:ext cx="1359000" cy="627120"/>
          </a:xfrm>
          <a:prstGeom prst="wedgeRoundRectCallout">
            <a:avLst>
              <a:gd name="adj1" fmla="val -145425"/>
              <a:gd name="adj2" fmla="val 3162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Patient doesn’t 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9000" y="219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Medical Informatics Application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9" name="Content Placeholder 6" descr="ViewAlertWindow-Text-Large.gif"/>
          <p:cNvPicPr/>
          <p:nvPr/>
        </p:nvPicPr>
        <p:blipFill>
          <a:blip r:embed="rId2"/>
          <a:srcRect l="-15460" t="0" r="-1546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43B4C-0C50-4DA1-B25E-EC60E74404F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346200" y="617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 View Alert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ounded Rectangular Callout 5"/>
          <p:cNvGrpSpPr/>
          <p:nvPr/>
        </p:nvGrpSpPr>
        <p:grpSpPr>
          <a:xfrm>
            <a:off x="-96840" y="4870440"/>
            <a:ext cx="3468600" cy="1682640"/>
            <a:chOff x="-96840" y="4870440"/>
            <a:chExt cx="3468600" cy="1682640"/>
          </a:xfrm>
        </p:grpSpPr>
        <p:pic>
          <p:nvPicPr>
            <p:cNvPr id="153" name="Rounded Rectangular Callout 5" descr=""/>
            <p:cNvPicPr/>
            <p:nvPr/>
          </p:nvPicPr>
          <p:blipFill>
            <a:blip r:embed="rId3"/>
            <a:stretch/>
          </p:blipFill>
          <p:spPr>
            <a:xfrm>
              <a:off x="-96840" y="4870440"/>
              <a:ext cx="346860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1680" y="5835600"/>
              <a:ext cx="23241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News Gothic MT"/>
                </a:rPr>
                <a:t>Alert arrived results in chronological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Rounded Rectangular Callout 6"/>
          <p:cNvGrpSpPr/>
          <p:nvPr/>
        </p:nvGrpSpPr>
        <p:grpSpPr>
          <a:xfrm>
            <a:off x="3584520" y="1749600"/>
            <a:ext cx="2438280" cy="1164960"/>
            <a:chOff x="3584520" y="1749600"/>
            <a:chExt cx="2438280" cy="1164960"/>
          </a:xfrm>
        </p:grpSpPr>
        <p:pic>
          <p:nvPicPr>
            <p:cNvPr id="156" name="Rounded Rectangular Callout 6" descr=""/>
            <p:cNvPicPr/>
            <p:nvPr/>
          </p:nvPicPr>
          <p:blipFill>
            <a:blip r:embed="rId4"/>
            <a:stretch/>
          </p:blipFill>
          <p:spPr>
            <a:xfrm>
              <a:off x="3584520" y="1749600"/>
              <a:ext cx="2438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368960" y="1836720"/>
              <a:ext cx="1539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News Gothic MT"/>
                </a:rPr>
                <a:t>Patient l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Rounded Rectangular Callout 7"/>
          <p:cNvGrpSpPr/>
          <p:nvPr/>
        </p:nvGrpSpPr>
        <p:grpSpPr>
          <a:xfrm>
            <a:off x="365040" y="2004840"/>
            <a:ext cx="2335320" cy="1652760"/>
            <a:chOff x="365040" y="2004840"/>
            <a:chExt cx="2335320" cy="1652760"/>
          </a:xfrm>
        </p:grpSpPr>
        <p:pic>
          <p:nvPicPr>
            <p:cNvPr id="159" name="Rounded Rectangular Callout 7" descr=""/>
            <p:cNvPicPr/>
            <p:nvPr/>
          </p:nvPicPr>
          <p:blipFill>
            <a:blip r:embed="rId5"/>
            <a:stretch/>
          </p:blipFill>
          <p:spPr>
            <a:xfrm>
              <a:off x="365040" y="2004840"/>
              <a:ext cx="233532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92120" y="2109960"/>
              <a:ext cx="18604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News Gothic MT"/>
                </a:rPr>
                <a:t>Pending tests in patient 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9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3C3D4-F09A-4F68-BD1D-D39E503DF37C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A3BD8-198F-456D-B49C-4D8BD13AD49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ntent Placeholder 12" descr="Fedex progress.png"/>
          <p:cNvPicPr/>
          <p:nvPr/>
        </p:nvPicPr>
        <p:blipFill>
          <a:blip r:embed="rId2"/>
          <a:srcRect l="-38843" t="0" r="-38843" b="0"/>
          <a:stretch/>
        </p:blipFill>
        <p:spPr>
          <a:xfrm>
            <a:off x="244440" y="706320"/>
            <a:ext cx="11390400" cy="6151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-437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Motivation: Package Track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Rounded Rectangular Callout 6"/>
          <p:cNvSpPr/>
          <p:nvPr/>
        </p:nvSpPr>
        <p:spPr>
          <a:xfrm>
            <a:off x="0" y="914400"/>
            <a:ext cx="2265480" cy="414360"/>
          </a:xfrm>
          <a:prstGeom prst="wedgeRoundRectCallout">
            <a:avLst>
              <a:gd name="adj1" fmla="val 93115"/>
              <a:gd name="adj2" fmla="val 310800"/>
              <a:gd name="adj3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 Gothic MT"/>
              </a:rPr>
              <a:t>Clear expec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ular Callout 7"/>
          <p:cNvSpPr/>
          <p:nvPr/>
        </p:nvSpPr>
        <p:spPr>
          <a:xfrm>
            <a:off x="0" y="3106800"/>
            <a:ext cx="2252520" cy="457200"/>
          </a:xfrm>
          <a:prstGeom prst="wedgeRoundRectCallout">
            <a:avLst>
              <a:gd name="adj1" fmla="val 77625"/>
              <a:gd name="adj2" fmla="val 140277"/>
              <a:gd name="adj3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 Gothic MT"/>
              </a:rPr>
              <a:t>Constant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ular Callout 8"/>
          <p:cNvSpPr/>
          <p:nvPr/>
        </p:nvSpPr>
        <p:spPr>
          <a:xfrm>
            <a:off x="0" y="5853240"/>
            <a:ext cx="2577960" cy="422280"/>
          </a:xfrm>
          <a:prstGeom prst="wedgeRoundRectCallout">
            <a:avLst>
              <a:gd name="adj1" fmla="val 129166"/>
              <a:gd name="adj2" fmla="val -273500"/>
              <a:gd name="adj3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 Gothic MT"/>
              </a:rPr>
              <a:t>Explicit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53F00-E96E-435D-88EB-3858F5C6345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Content Placeholder 9" descr="image001.png"/>
          <p:cNvPicPr/>
          <p:nvPr/>
        </p:nvPicPr>
        <p:blipFill>
          <a:blip r:embed="rId2"/>
          <a:srcRect l="-7860" t="0" r="-7860" b="0"/>
          <a:stretch/>
        </p:blipFill>
        <p:spPr>
          <a:xfrm>
            <a:off x="-741240" y="1150920"/>
            <a:ext cx="10602720" cy="57276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tivation: Lists &amp; Ac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6BD33-5889-4CDB-ADF0-8E4F54525454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002.png"/>
          <p:cNvPicPr/>
          <p:nvPr/>
        </p:nvPicPr>
        <p:blipFill>
          <a:blip r:embed="rId3"/>
          <a:stretch/>
        </p:blipFill>
        <p:spPr>
          <a:xfrm>
            <a:off x="0" y="1147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6640" y="107640"/>
            <a:ext cx="832176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Approach for Reducing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Missed Result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2960" y="1600200"/>
            <a:ext cx="8431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 user actions within workflow specific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ssign temporal responsibilit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rive an interactive display from the mod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rom order time to until all follow-up actions are take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upport actor action sheets as part of track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vide retrospective analyses for manager to identify common problems and compare performan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78C7A-FF5D-407F-950C-19B4039154A8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4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86B16-9248-4D6D-A381-75D439FE5FC9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23:04:12Z</dcterms:created>
  <dc:creator>Sureyya Tarkan</dc:creator>
  <dc:description/>
  <dc:language>en-US</dc:language>
  <cp:lastModifiedBy>Sureyya Tarkan</cp:lastModifiedBy>
  <dcterms:modified xsi:type="dcterms:W3CDTF">2011-11-08T23:38:20Z</dcterms:modified>
  <cp:revision>476</cp:revision>
  <dc:subject/>
  <dc:title>Lab Tracking (Missed Labs)</dc:title>
</cp:coreProperties>
</file>