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94738" cy="3026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9C7-7086-4AFB-93CF-7340A5E0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1925640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95280"/>
            <a:ext cx="1925640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F95-751B-40EC-82A6-F7CD808C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716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FE6-EEFD-4255-B0EF-E57586B1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80520" y="70624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91120" y="70624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952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80520" y="174952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91120" y="174952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910-A66B-461D-A518-9A7B3D1D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62480"/>
            <a:ext cx="19256400" cy="19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74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DAE-D3C5-4558-880E-C48FA9CD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1925640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AF9-FFD9-41D6-890A-F251DC7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344-E91F-4615-9E99-4244991F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109-B81A-4E21-88BA-4AF6D16C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2840"/>
            <a:ext cx="19256400" cy="233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74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3FD-39F3-4EA5-94E5-5436168B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3B1-0C02-453F-9012-57BCADC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716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E3D-A3E5-47DF-9A2B-91B66A2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95280"/>
            <a:ext cx="1925640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9DE-A585-4274-A6F3-DA37C489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62480"/>
            <a:ext cx="1925640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marL="1106640" indent="-1106640">
              <a:spcBef>
                <a:spcPts val="2574"/>
              </a:spcBef>
              <a:buClr>
                <a:srgbClr val="000000"/>
              </a:buClr>
              <a:buFont typeface="굴림"/>
              <a:buChar char="•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1" marL="2398680" indent="-922320">
              <a:spcBef>
                <a:spcPts val="2574"/>
              </a:spcBef>
              <a:buClr>
                <a:srgbClr val="000000"/>
              </a:buClr>
              <a:buFont typeface="굴림"/>
              <a:buChar char="–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2" marL="3691080" indent="-738360">
              <a:spcBef>
                <a:spcPts val="2574"/>
              </a:spcBef>
              <a:buClr>
                <a:srgbClr val="000000"/>
              </a:buClr>
              <a:buFont typeface="굴림"/>
              <a:buChar char="•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3" marL="5165640" indent="-738000">
              <a:spcBef>
                <a:spcPts val="2574"/>
              </a:spcBef>
              <a:buClr>
                <a:srgbClr val="000000"/>
              </a:buClr>
              <a:buFont typeface="굴림"/>
              <a:buChar char="–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4" marL="6642000" indent="-738000">
              <a:spcBef>
                <a:spcPts val="2574"/>
              </a:spcBef>
              <a:buClr>
                <a:srgbClr val="000000"/>
              </a:buClr>
              <a:buFont typeface="굴림"/>
              <a:buChar char="»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5" marL="6642000" indent="-738000">
              <a:spcBef>
                <a:spcPts val="2574"/>
              </a:spcBef>
              <a:buClr>
                <a:srgbClr val="000000"/>
              </a:buClr>
              <a:buFont typeface="굴림"/>
              <a:buChar char="»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6" marL="6642000" indent="-738000">
              <a:spcBef>
                <a:spcPts val="2574"/>
              </a:spcBef>
              <a:buClr>
                <a:srgbClr val="000000"/>
              </a:buClr>
              <a:buFont typeface="굴림"/>
              <a:buChar char="»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560" y="27562320"/>
            <a:ext cx="4992840" cy="21016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45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10520" y="27562320"/>
            <a:ext cx="6775200" cy="21016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45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33840" y="27562320"/>
            <a:ext cx="4992480" cy="21016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r"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45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fld id="{67FC4020-EB08-40FD-9E67-D915B1281798}" type="slidenum">
              <a:rPr b="0" lang="en-US" sz="45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65440"/>
            <a:ext cx="21396240" cy="906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503280"/>
            <a:ext cx="13311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Visualizing Graphs as Trees: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Plant a seed and watch it grow.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3040" y="2789280"/>
            <a:ext cx="1897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ngshin Lee, Cynthia Sims Parr, Catherine Plaisant, and Benjamin B. Beders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18240" y="579600"/>
            <a:ext cx="2282760" cy="22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200" y="3551400"/>
            <a:ext cx="21026520" cy="6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29381400"/>
            <a:ext cx="187135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454720" y="29457720"/>
            <a:ext cx="1379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aryland, Human-Computer Interaction Laborator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ttp://www.cs.umd.edu/hci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140480" y="28619280"/>
            <a:ext cx="1859040" cy="139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8240" y="7385040"/>
            <a:ext cx="925848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ign Philosoph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 advantage of human perception of tre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as many nodes readable as possib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 stability of layou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 preview before commi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multi-step animations so that users can follow chang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768240" y="4116240"/>
            <a:ext cx="89391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building an interactive graph visualization system by applying a tree layout approac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e transform a graph into a tree and use special visualization and interaction techniques to show the graph structure superimposed onto the tree structure.  We enable users to start with a specific nod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a s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incrementally explore the graph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tch it g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68240" y="10288440"/>
            <a:ext cx="92584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eePlus Contro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e browser panel + Adjacent nodes pan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ggable into C# applic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with Piccolo.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779120" y="3870360"/>
            <a:ext cx="9829800" cy="731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926720" y="103521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9918440" y="6008760"/>
            <a:ext cx="639720" cy="63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8059400" y="821844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460240" y="39513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0698120" y="11190240"/>
            <a:ext cx="101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we visualized a food web with 137 nodes and 1,039 links as modified from Waide RB, Reagan WB. (1996) The food web of a tropical rainforest. University of Chicago Press, Chicago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944640" y="27493920"/>
            <a:ext cx="6010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s give a preview of how fruitful it would be to go down a path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11233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456920" y="21199680"/>
            <a:ext cx="413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nt of Graph Stru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88240" y="25544520"/>
            <a:ext cx="2905200" cy="2771640"/>
            <a:chOff x="6888240" y="25544520"/>
            <a:chExt cx="2905200" cy="277164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888240" y="25544520"/>
              <a:ext cx="290520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88240" y="26173080"/>
              <a:ext cx="200988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6888240" y="27621000"/>
              <a:ext cx="223848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888240" y="26935200"/>
              <a:ext cx="190512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5364000" y="21853440"/>
            <a:ext cx="510552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color and arrows help users see the direction of connections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: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ue: From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: To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ple: From/To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ren can be sorted by direction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23880" y="21974040"/>
            <a:ext cx="443880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506320" y="23910840"/>
            <a:ext cx="86868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results are colored orange and the view is limited to nodes relevant to the search result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ow users to set a specific node as a root. Once users reset a root, a spanning tree is rebuilt from the selected root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+ Root Selection: Easy access to interested are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 Selection + Search:  Find a shortest pat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0833120" y="21123360"/>
            <a:ext cx="676080" cy="64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1506320" y="211978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ing and Root Sel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1231640" y="22006080"/>
            <a:ext cx="9239040" cy="168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516960" y="18351360"/>
            <a:ext cx="9380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 can browse trees in the tree browser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graphs into tre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is constructed by a breadth-first searc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oot is a node with the most connec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links are hidden by default and shown on dem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 contex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456560" y="13106880"/>
            <a:ext cx="26510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e Brows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30017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768240" y="13855680"/>
            <a:ext cx="8656920" cy="6711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92000" y="14389200"/>
            <a:ext cx="8259840" cy="614196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672160" y="14465160"/>
            <a:ext cx="319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ee Browser Pan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1533320" y="13703400"/>
            <a:ext cx="60595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acent nodes of the focus are previewed in the adjacent nodes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acent nodes already appearing in the tree browser panel are shown in the color gray. They are also highlighted in the tree browser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s are left aligned for readability, as in the tree browser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833120" y="13001760"/>
            <a:ext cx="639720" cy="64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1510280" y="13106880"/>
            <a:ext cx="4746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view of Adjacent Nod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18106920" y="13550760"/>
            <a:ext cx="2502000" cy="6477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159760" y="1301760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djacent Nodes Pan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0682280" y="18765720"/>
            <a:ext cx="184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40520" y="28544760"/>
            <a:ext cx="1181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ork is supported by NSF #0219492, Microsoft Research,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DA / Booz Allen Hamilton #MDA-904-03-c-0408 Novel Intelligence from Massive Data Program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4:28:11Z</dcterms:created>
  <dc:creator>Bongshin Lee</dc:creator>
  <dc:description/>
  <dc:language>en-US</dc:language>
  <cp:lastModifiedBy>Bongshin Lee</cp:lastModifiedBy>
  <dcterms:modified xsi:type="dcterms:W3CDTF">2005-08-05T19:07:46Z</dcterms:modified>
  <cp:revision>13</cp:revision>
  <dc:subject/>
  <dc:title>Slide 1</dc:title>
</cp:coreProperties>
</file>