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B6C82D0-0752-4C4D-9DE4-03C0A610DE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5400" y="9148680"/>
            <a:ext cx="136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60D1AD-F0FB-4B40-B3A6-AF2D0E13F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4AB349D-A265-400F-A9CD-3A34687195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body"/>
          </p:nvPr>
        </p:nvSpPr>
        <p:spPr>
          <a:xfrm>
            <a:off x="550440" y="4560480"/>
            <a:ext cx="63039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ldImg"/>
          </p:nvPr>
        </p:nvSpPr>
        <p:spPr>
          <a:xfrm>
            <a:off x="1273320" y="615960"/>
            <a:ext cx="4782960" cy="3587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1st slide of the “Course Structure and Course Philosophy” section of the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mphasis that for exams, our goal is the test your knowledge. It is not our goal to test how well your perform under time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9C5FD57-5C4E-4A77-8981-0A75118C47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D3A8EE5-A331-4817-BE0E-2DE8750E62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2BA1F10-717A-4A00-8301-AD7A2FED5F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E584066-70EB-45F9-BA44-DEEC1052D3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B4C8637-8A59-4269-AB5D-BA64C11A163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11400" y="709560"/>
            <a:ext cx="4840200" cy="36306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57240" y="4576680"/>
            <a:ext cx="53467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1338120" y="4560480"/>
            <a:ext cx="45626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nciple of locality states that programs access a relatively small portion of the address space at  any instant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ind of like in real life, we all have a lot of friends.  But at any given time most of us can  only  keep in touch with a small group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different types of locality: Temporal and Spatial. Temporal locality is the locality in time  which says if an item is referenced, it  will tend to be referenced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like saying if you just talk to one of your friends, it is likely that you will talk to him or her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sense. For example, if you just have lunch with a friend, you may say, let’s go to the ball game this Sunday.  So you will talk to him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tial locality is the locality in space.  It says if an item is referenced, items whose addresses are close by tend to be referenc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using our analogy.  We can usually divide our friends into groups.  Like friends from high school, friends from work, friends from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ay you just talk to one of your friends from high school and she may say something like: “So did you hear so and so just won the lotter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obably will say NO, I better give him a call and find out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is is an example of spatial locality.  You just talked to a friend from your high school days.  As a result, you end up talking to another high school friend.  Or at least in this case, you hope he still remember you are his fri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= 10 min. (X: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B4CE400-B23F-4CCE-855B-D69B207E29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3B664E6-4BB9-41DB-8469-79CC600868F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73320" y="615960"/>
            <a:ext cx="4782960" cy="3587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FD1-24A8-4929-9713-532A82EC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A2C-6A82-41A0-B0B7-8F5A6F7E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520-5E24-42DF-BA46-85E84BE0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353-290B-4D78-8143-B79795B1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1BF-0A52-4D3A-A2B4-91EF2373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353-61CE-4640-9F52-8615AA6B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22E-AC98-43F8-9939-4707BCEE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224-DCB9-4ADE-9008-7239C870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2711-52FD-4E76-9592-3445198F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779-AA71-4CB1-8584-DBE1A3A9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F45-5C2C-42D9-99E4-B84A150A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C94-229D-4835-A9CD-054CBA74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801F-B058-4922-B7FF-19D2C563DA40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D731-8391-413F-A25A-D51858DEE7DB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t-ram.com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1 - Introduction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8800" y="419040"/>
            <a:ext cx="30387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MIP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4560" y="1139760"/>
            <a:ext cx="1282680" cy="13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2859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4382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352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07880" y="1095480"/>
            <a:ext cx="2264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4200" y="1095480"/>
            <a:ext cx="46872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4560" y="258768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4560" y="281628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44560" y="296856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3840" y="2543040"/>
            <a:ext cx="4446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74920" y="1146240"/>
            <a:ext cx="4330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able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^32 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x 32-bit GPRs (R0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x 32-bit FP regs (paired 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, LO,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8720" y="1187280"/>
            <a:ext cx="242568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typ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ing Modes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11880" y="20304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6360" y="3352680"/>
            <a:ext cx="837900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 log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,  AddU,  Sub,   SubU, And,  Or,  Xor, Nor, SLT, SLTU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, AddIU, SLTI, SLTIU, AndI, OrI, XorI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L, SRL, SRA, SLLV, SRLV, SR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B, LBU, LH, LHU, LW, LWL,LW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B, SH, SW, SWL, SW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, JAL, JR, JA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q, BNE, BLEZ,BGTZ,BLTZ,BGEZ,BLTZAL,BGEZ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54360" y="5540400"/>
            <a:ext cx="422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32-bit instructions on word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DDB-E02D-4BB0-884D-72C67725D48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94FF2-043F-41FB-AA79-B3B21DD9C425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3200" y="401760"/>
            <a:ext cx="54705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ruction Set Archit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7800" y="1126800"/>
            <a:ext cx="7988400" cy="1917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 the attributes of a [computing] system as seen by the programmer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.e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ceptual structure and functional behavior, as distinct from the organization of the data flows and controls the logic design, and the physical implementation.”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mdahl, Blaauw, and Brooks,  196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257800" y="3098880"/>
            <a:ext cx="3581280" cy="2108160"/>
            <a:chOff x="5257800" y="3098880"/>
            <a:chExt cx="3581280" cy="2108160"/>
          </a:xfrm>
        </p:grpSpPr>
        <p:sp>
          <p:nvSpPr>
            <p:cNvPr id="146" name=""/>
            <p:cNvSpPr/>
            <p:nvPr/>
          </p:nvSpPr>
          <p:spPr>
            <a:xfrm>
              <a:off x="5791320" y="322596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64280" y="3689280"/>
              <a:ext cx="3187440" cy="1511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257800" y="3225960"/>
              <a:ext cx="5335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458200" y="322596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839080" y="322596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458200" y="4673520"/>
              <a:ext cx="3808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32880" y="3098880"/>
              <a:ext cx="18694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73760" y="4756320"/>
              <a:ext cx="36828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8160" y="4680000"/>
              <a:ext cx="29196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26240" y="4070520"/>
              <a:ext cx="29232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095880" y="4673520"/>
              <a:ext cx="83844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172200" y="5054400"/>
              <a:ext cx="9144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781680" y="4140000"/>
              <a:ext cx="83844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162920" y="4368600"/>
              <a:ext cx="7617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26040" y="4146480"/>
              <a:ext cx="825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4852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080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940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772400" y="4140000"/>
              <a:ext cx="763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858000" y="48261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019920" y="4825800"/>
              <a:ext cx="228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7480" y="4527720"/>
              <a:ext cx="2156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77320" y="46735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924680" y="4902120"/>
              <a:ext cx="1526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24680" y="505476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77320" y="490212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8153280" y="5054760"/>
              <a:ext cx="763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8001000" y="474984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848360" y="474984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848360" y="459720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07680" y="3505320"/>
            <a:ext cx="747144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Organization of Programm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Data Types &amp; Data Structu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dings &amp; 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Instruction Form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Instruction (or Operation Code)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Modes of Addressing and Accessing Data Items and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Exception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D13-EAE8-45D1-B5C9-3FDC8CF987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2DCE7-C138-4A47-A85A-8037EFEF8D12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SA vs. Computer Archit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218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 definition of computer architectu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instruction set desig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aspects of computer design called implementatio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inuates implementation is uninteresting or less challen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view is computer architecture &gt;&gt; I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’s job much more than instruction set design; technical hurdles today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llenging than those in instruction set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instruction set design not where action is, some conclude computer architecture (using old definition) is not where action 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disagree on conclu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 that ISA not where action is (ISA in CA:AQA 4/e appendi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CC6-0610-4EEE-90B2-DF4D433914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C9D05-603A-4574-BF10-A42B58B58E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15560" y="347760"/>
            <a:ext cx="716292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omp. Arch. is an Integrated Approach 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6440" y="1320480"/>
            <a:ext cx="8305920" cy="489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really matters is the functioning of the complete syst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, runtime system, compiler, operating system, and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networking, this is called the “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nd to End argu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is not just about transistors, individual instructions, or particular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riginal RISC projects replaced complex instructions with a compiler + simpl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CBC-DA8A-4D8B-AD16-27228C4490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AAAC9-CB86-4C55-BC11-9FA8235D6083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puter Architecture is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sign and Analysi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1841760" cy="1841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97600" y="1255680"/>
            <a:ext cx="639864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chitecture is an iterative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arching the space  of possible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all levels of comput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2463840"/>
            <a:ext cx="0" cy="253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527880" y="2768760"/>
            <a:ext cx="355680" cy="177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78640" y="2997360"/>
            <a:ext cx="253800" cy="177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603480" y="3225960"/>
            <a:ext cx="279720" cy="330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64480" y="3206880"/>
            <a:ext cx="29196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936760" y="2978280"/>
            <a:ext cx="62244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50080" y="3282840"/>
            <a:ext cx="3682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64480" y="2749680"/>
            <a:ext cx="82548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461360" y="2978280"/>
            <a:ext cx="2412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02560" y="2978280"/>
            <a:ext cx="44460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784480" y="3282840"/>
            <a:ext cx="16524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8280" y="3892680"/>
            <a:ext cx="1206360" cy="1206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73560" y="4273560"/>
            <a:ext cx="749160" cy="749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11640" y="4578480"/>
            <a:ext cx="520920" cy="4442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50760" y="3448080"/>
            <a:ext cx="1622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3753000"/>
            <a:ext cx="57168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4896000"/>
            <a:ext cx="0" cy="11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4896000"/>
            <a:ext cx="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4896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19480" y="5200560"/>
            <a:ext cx="2857320" cy="114480"/>
          </a:xfrm>
          <a:prstGeom prst="roundRect">
            <a:avLst>
              <a:gd name="adj" fmla="val 1249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17960" y="5492880"/>
            <a:ext cx="1343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ood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22680" y="5823000"/>
            <a:ext cx="24530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diocre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05080" y="6013440"/>
            <a:ext cx="2360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ad Id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3840" y="4133880"/>
            <a:ext cx="16102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st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C03-A272-4B60-AEBC-8402AF7789A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1E5B3-9C3C-49E2-B962-A129EB9AE251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Tre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361-8A38-49C8-9EF3-FA0F4E62D0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DDDA5-E48A-4A46-9A07-8616DA824D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irst reading assignment: Chapter 1 (handout) for today, Mon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Appendix A (handout) A for Wed 1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B90-F69D-41FB-ABD1-701BF950FB0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31C64-9A4D-4F5A-9849-FDEC48317689}" type="datetime1">
              <a:rPr lang="en-US"/>
              <a:t>07/31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5840" y="517320"/>
            <a:ext cx="773748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ypical Class format (after week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8440" y="1311120"/>
            <a:ext cx="8248680" cy="32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ring questions to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Minute Revie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-Minute L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 Minute Administrative Mat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-Minute Lecture/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Minute Break (water, stret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5-Minute Discussion based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 your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ill come to class early to answer questions, can stay after on Wednes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73880" y="1565280"/>
            <a:ext cx="0" cy="1652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49760" y="3230640"/>
            <a:ext cx="3405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488080" y="33228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14520" y="11588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72120" y="331164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20 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75480" y="3309840"/>
            <a:ext cx="135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And in </a:t>
            </a:r>
            <a:br>
              <a:rPr sz="1600"/>
            </a:b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clusio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24640" y="1916280"/>
            <a:ext cx="750600" cy="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62640" y="1903320"/>
            <a:ext cx="374760" cy="23832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26240" y="2128680"/>
            <a:ext cx="1365120" cy="7272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8078760" y="2479680"/>
            <a:ext cx="212760" cy="4017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61000" y="1816200"/>
            <a:ext cx="714240" cy="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88000" y="1803240"/>
            <a:ext cx="663840" cy="20160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238880" y="1802880"/>
            <a:ext cx="100080" cy="16380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02400" y="1728720"/>
            <a:ext cx="701640" cy="37476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8205840" y="1792440"/>
            <a:ext cx="149040" cy="27432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890-58F6-4246-8F36-346C5B9815B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96A0E-DEB9-40BE-87EE-492D63A44631}" type="datetime1">
              <a:rPr lang="en-US"/>
              <a:t>07/31/2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98120" y="609480"/>
            <a:ext cx="3429000" cy="26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Quizz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58360" y="1096560"/>
            <a:ext cx="8156520" cy="534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ation causes you to systematize your understa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the pressure of taking ex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618f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2 Graded quizzes:  dates T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: test knowledge vs. speed wri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hrs to take 1.5-hr quiz (5:30-8:30 PM, TBA lo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quizzes can bring summary she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ideas from book to p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/Faculty meet over free pizza/drinks at La Val’s after ex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45B-C9BB-4ED2-A598-626998E07D2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D0EEC-BD9D-45E1-A7A4-1CEB0D3AFAE2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Course Focu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ing the design techniques, machine structures, technology factors, evaluation methods that will determine the form of computers in 21st Centu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45840" y="2922480"/>
            <a:ext cx="15904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24680" y="3011400"/>
            <a:ext cx="1898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62840" y="3278160"/>
            <a:ext cx="1514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56720" y="5227560"/>
            <a:ext cx="14288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06040" y="5506920"/>
            <a:ext cx="1176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65640" y="5397480"/>
            <a:ext cx="11653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0880" y="3657600"/>
            <a:ext cx="1704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3809880"/>
            <a:ext cx="888840" cy="19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124080" y="5016240"/>
            <a:ext cx="368280" cy="46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54560" y="3289320"/>
            <a:ext cx="39348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86040" y="3352680"/>
            <a:ext cx="787320" cy="55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753160" y="4952520"/>
            <a:ext cx="1270080" cy="660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76360" y="3733920"/>
            <a:ext cx="1907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552720" y="388620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11480" y="5264280"/>
            <a:ext cx="3086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 algn="ctr"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asurement &amp;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70600" y="2844720"/>
            <a:ext cx="1828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Paralle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793760" y="3206880"/>
            <a:ext cx="8892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3962520"/>
            <a:ext cx="3581640" cy="75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 Architect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rdware/Software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31520" y="464832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pi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553080" y="4724280"/>
            <a:ext cx="60984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70B-BDA1-49E8-8815-7D2F266318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3DDC9-DC41-4B78-A4BA-3563083954D7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486-0FAE-484A-9C23-8BA333A8E9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14328-E987-42AD-8C4D-20431FC344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Your CS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is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tionalization and renaiss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, dependability, multi CPU vs. 1 CPU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 of lecture vs.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s on how well reading is done before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is to learn how to do good systems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 a lot from looking at good work in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commit point, you may chose to pursue your own new idea instea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0E4-745D-4939-B1DF-E38B52913C4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A664A-4C89-4A7A-8B40-D8DBA5EF6B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520" y="264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search Paper 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graduate students, you are now researc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nformation of importance to you will be in research pa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to rapidly scan and understand research papers is key to your su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: you will read a few papers in this cou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ick 1 paragraph summaries and question will be due in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supplement to boo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discuss papers in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s will be scanned and on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C91-5E9D-465E-8EC3-ED5843F1987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F5684-CC21-4F99-B4AA-1C648AC5BF75}" type="datetime1">
              <a:rPr lang="en-US"/>
              <a:t>07/31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lated Cours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8240" y="1987560"/>
            <a:ext cx="13590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1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92680" y="1987560"/>
            <a:ext cx="1358640" cy="97776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S 2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58920" y="2514600"/>
            <a:ext cx="1701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16760" y="1987560"/>
            <a:ext cx="13590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2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64280" y="251460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92680" y="4197240"/>
            <a:ext cx="135864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3240" y="3102120"/>
            <a:ext cx="288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to build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mplementation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06560" y="3025800"/>
            <a:ext cx="1819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y, Analys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0080" y="3025800"/>
            <a:ext cx="2732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rallel Architectur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nguages,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70440" y="5311800"/>
            <a:ext cx="4844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grated Circuit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a computer-organization view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02920" y="1978200"/>
            <a:ext cx="1490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requi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75280" y="3787920"/>
            <a:ext cx="3307320" cy="911880"/>
            <a:chOff x="575280" y="3787920"/>
            <a:chExt cx="3307320" cy="911880"/>
          </a:xfrm>
        </p:grpSpPr>
        <p:sp>
          <p:nvSpPr>
            <p:cNvPr id="272" name=""/>
            <p:cNvSpPr/>
            <p:nvPr/>
          </p:nvSpPr>
          <p:spPr>
            <a:xfrm>
              <a:off x="692280" y="3816360"/>
              <a:ext cx="303516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5280" y="3787920"/>
              <a:ext cx="33073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asic knowledge of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rganization of a 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s assumed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2E8B-D145-45DB-A877-F1999E82CFA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017C3-07D9-4288-9D74-EBDBDC42FE8A}" type="datetime1">
              <a:rPr lang="en-US"/>
              <a:t>07/31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ping with CS 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82120" y="1106640"/>
            <a:ext cx="787572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grads must have taken CS1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 Students with too varied backgroun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ast, CS grad students took written prelim exams on undergraduate material in hardware, software, and the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st 5 weeks reviewed background, helped 252, 262, 27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lims were dropped =&gt; some unprepared for CS 252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s without CS152 equivalent may have to work hard; Review: Appendix A, B, C; CS 152 home page, maybe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uter Organization and Design (COD) 3/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s 1 to 8 of COD if never took prerequis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ook a class, be sure COD Chapters 2, 6, 7 are famili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n loan you a cop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pend 2 lectures on review of Pipelining and Memory Hierarchy, and in class quiz to be sure everyone is up to spe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BB28-88B0-4013-AF14-CA251FA64B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36DA6-44C6-4474-A39C-128973A08B70}" type="datetime1">
              <a:rPr lang="en-US"/>
              <a:t>07/31/2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9200" y="2329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Gr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1283760"/>
            <a:ext cx="815364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% Homeworks (work in pairs) and reading write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% Examinations (2 Quizz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% Research Project (work in pair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ion from undergrad to grad stu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keley wants you to succeed, but you need to show initia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ck topic (more on this la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 3 times with faculty to see prog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 oral presentation or poster s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ten report like conference p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weeks work full time for 2 peo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rtunity to do “research in the small” to help make transition from good student to research colleag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% Class Particip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2F9-0525-4D5C-A831-7F0FA204967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22193-887F-4AD4-BCF9-A32B3100E2A8}" type="datetime1">
              <a:rPr lang="en-US"/>
              <a:t>07/31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58360" y="-36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ew Project opportunity this semest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79000" y="1168560"/>
            <a:ext cx="8426520" cy="50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PGAs as New Research Plat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~ 25 CPUs can fit in Field Programmable Gate Array (FPGA), 1000-CPU system fro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 40 FPGA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4-bit simple “soft core” RISC at 100MHz in 2004 (Virtex-I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GA generations every 1.5 yrs; 2X CPUs, 2X clock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W research community does logic design (“gate shareware”) to create out-of-the-box, Massively Parallel Processor runs standard binaries of OS, ap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ware: Processors, Caches, Coherency, Ethernet Interfaces, Switches, Routers, …  (IBM, Sun have donated processo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1000 processor, IBM Power binary-compatible, cache-coherent supercomputer @ 200 MHz; fast enough for re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AD5-532C-4619-9809-C25AE885BF2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A798E-CD97-455A-9440-B5EE03209794}" type="datetime1">
              <a:rPr lang="en-US"/>
              <a:t>07/31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ce goal is to ramp up research in multiprocessing, called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earch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elerator for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tiple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ess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more, read “RAMP: Research Accelerator for Multiple Processors - A Community Vision for a Shared Experimental Parallel HW/SW Platform,” Technical Report UCB//CSD-05-1412, Sept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page ramp.eecs.berkeley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2E5-E001-4E71-90B9-72F14462D2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5A38F-5E2A-49DE-A662-F64E2150B0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Why RAMP Good for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Arial"/>
              </a:rPr>
              <a:t>Research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? 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1066680"/>
          <a:ext cx="9067680" cy="5757840"/>
        </p:xfrm>
        <a:graphic>
          <a:graphicData uri="http://schemas.openxmlformats.org/drawingml/2006/table">
            <a:tbl>
              <a:tblPr/>
              <a:tblGrid>
                <a:gridCol w="2666880"/>
                <a:gridCol w="1600200"/>
                <a:gridCol w="1447920"/>
                <a:gridCol w="1447920"/>
                <a:gridCol w="190476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0 CP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40M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2M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0M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0.1M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of own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/Space</a:t>
                      </a:r>
                      <a:br>
                        <a:rPr sz="18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ilowatts,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0 kw, 12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0 kw, 12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1 kw, 0.1 racks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 kw,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racks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oduc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.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lock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2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2664000" y="1420920"/>
            <a:ext cx="1574640" cy="60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214880" y="1886040"/>
            <a:ext cx="1574640" cy="1768320"/>
            <a:chOff x="4214880" y="1886040"/>
            <a:chExt cx="1574640" cy="1768320"/>
          </a:xfrm>
        </p:grpSpPr>
        <p:sp>
          <p:nvSpPr>
            <p:cNvPr id="286" name=""/>
            <p:cNvSpPr/>
            <p:nvPr/>
          </p:nvSpPr>
          <p:spPr>
            <a:xfrm>
              <a:off x="4255920" y="1886040"/>
              <a:ext cx="1478160" cy="60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14880" y="2992320"/>
              <a:ext cx="1574640" cy="662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708520" y="5459400"/>
            <a:ext cx="1474920" cy="911160"/>
            <a:chOff x="5708520" y="5459400"/>
            <a:chExt cx="1474920" cy="911160"/>
          </a:xfrm>
        </p:grpSpPr>
        <p:sp>
          <p:nvSpPr>
            <p:cNvPr id="289" name=""/>
            <p:cNvSpPr/>
            <p:nvPr/>
          </p:nvSpPr>
          <p:spPr>
            <a:xfrm>
              <a:off x="5708520" y="5459400"/>
              <a:ext cx="1459080" cy="4492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24360" y="5921280"/>
              <a:ext cx="1459080" cy="4492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267680" y="5872320"/>
            <a:ext cx="1579320" cy="985680"/>
            <a:chOff x="7267680" y="5872320"/>
            <a:chExt cx="1579320" cy="985680"/>
          </a:xfrm>
        </p:grpSpPr>
        <p:sp>
          <p:nvSpPr>
            <p:cNvPr id="292" name=""/>
            <p:cNvSpPr/>
            <p:nvPr/>
          </p:nvSpPr>
          <p:spPr>
            <a:xfrm>
              <a:off x="7272360" y="5872320"/>
              <a:ext cx="1574640" cy="447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67680" y="6372360"/>
              <a:ext cx="1574640" cy="485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3ABA-372A-46BD-9F2D-B88A9C59108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1D42E-EA7D-4B8C-B61A-9E926708B1B6}" type="datetime1">
              <a:rPr lang="en-US"/>
              <a:t>07/31/26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276720" y="2325600"/>
            <a:ext cx="5715000" cy="36943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04920" y="14479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d Dec. 2004 (14x17 inch 22-layer PC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1905120"/>
            <a:ext cx="30477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GAs, memory, 10GigE co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ct Fl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nistration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 por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/100 E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DMI/D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4K/module w/o FPGAs or 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000" y="279360"/>
            <a:ext cx="822960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1 Hardwa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6080" y="6095880"/>
            <a:ext cx="75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d “BEE2” for Berkeley Emulation Engi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4F1C-F03C-4627-A8AA-1E31F087985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73851-EC3A-4063-9F38-0F472EAC0E71}" type="datetime1">
              <a:rPr lang="en-US"/>
              <a:t>07/31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37480" y="397800"/>
            <a:ext cx="8093880" cy="6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ultiple Module RAMP 1 System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0720" y="3809880"/>
            <a:ext cx="6026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compute modules (plus power supplies) in 8U rack mount chas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-1000 emulated process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topologies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U single module tray for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storage: disk emulator + Network Attached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ATXBlade"/>
          <p:cNvPicPr/>
          <p:nvPr/>
        </p:nvPicPr>
        <p:blipFill>
          <a:blip r:embed="rId1"/>
          <a:stretch/>
        </p:blipFill>
        <p:spPr>
          <a:xfrm>
            <a:off x="1371600" y="1447920"/>
            <a:ext cx="3114720" cy="23763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019920" y="1523880"/>
            <a:ext cx="2273040" cy="30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26A7-FD68-4F5F-84E2-5DC57B992AA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86974-C557-4089-A5EC-438902DF4287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28376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onventional Wisdom: Power is free, Transistors expens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ventional Wisdom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“Power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wer expensive, Xtors fre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an put more on chip than can afford to turn 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Sufficiently increasing Instruction Level Parallelism via compilers, innovation (Out-of-order, speculation, VLIW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“ILP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aw of diminishing returns on more HW for IL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Multiplies are slow, Memory access is f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“Memory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emory slow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ies fa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200 clock cycles to DRAM memory, 4 clocks for multipl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Uniprocessor performance 2X / 1.5 y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Power Wall + ILP Wall + Memory Wall =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rick W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processor performance now 2X / 5(?) y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 change in chip design: multiple “cores”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X processors per chip / ~ 2 yea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simpler processors are more power effic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85760" y="17424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roads: Conventional Wisdom in Comp. Arch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270-BCCD-4FD0-810D-3C4A15F353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DFD64-EC9D-4088-9FFE-6598B8ABBC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4360" y="16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ision: Multiprocessing Watering Ho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attracts many communities to shared artifa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ross-disciplinary interac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lerate innovation in multi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as next Standard Research Platform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.g., VAX/BSD Unix in 1980s, x86/Linux in 1990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943600" cy="1598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276720" y="2573280"/>
            <a:ext cx="1828800" cy="398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Elephant"/>
              </a:rPr>
              <a:t>R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2720" y="297180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 fil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8720" y="320040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d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99960" y="3429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rocessor switch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81560" y="3657600"/>
            <a:ext cx="39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ult insertion to check depend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90760" y="298620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enter in a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41200" y="321480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nternet in a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24560" y="297180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flow language/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75400" y="321480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5600" y="3429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44200" y="34290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 to FP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20040" y="367200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28E-74BC-411E-8F0F-02F57845ED6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86390-A92E-4974-8497-B2115DE3AD09}" type="datetime1">
              <a:rPr lang="en-US"/>
              <a:t>07/31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09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upporters </a:t>
            </a:r>
            <a:r>
              <a:rPr b="1" i="1" lang="en-US" sz="2000" spc="-1" strike="noStrike">
                <a:solidFill>
                  <a:srgbClr val="0332b7"/>
                </a:solidFill>
                <a:latin typeface="Arial"/>
              </a:rPr>
              <a:t>(wrote letters to NSF) &amp; 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articipan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1165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rdon Bell  (Microsof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o Bolsens  (Xilinx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 Jouppi  (HP Lab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Kramer  (NERSC/LB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ig Mundie  (MS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. Papadopoulos  (Sun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in Rattner  (Intel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an Sutherland  (Sun Fello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uck Thacker  (Microsoft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s Vissers  (Xilin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38240" y="10890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g Burger  (Tex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Dally  (Stanfor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l Ebeling  (Washingt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an Eggers  (Washingt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ve Keckler  (Tex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g Morrisett  (Harvar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tt Shenker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on Stoica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hy Yelick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0990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Participants: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Arvind  (MIT), Krste Asanovíc (MIT), </a:t>
            </a:r>
            <a:br>
              <a:rPr sz="2000"/>
            </a:b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Derek Chiou  (Texas), James Hoe  (CMU), Christos Kozyrakis  (Stanford), Shih-Lien Lu  (Intel), Mark Oskin  (Washington), David Patterson (Berkeley), Jan Rabaey  (Berkeley), and John Wawrzynek (Berkel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286-94D0-400D-96F7-261463029381}" type="slidenum">
              <a:t>3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5B9C4-5A59-4559-9B14-53B35F38F823}" type="datetime1">
              <a:rPr lang="en-US"/>
              <a:t>07/31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AMP as system-level time machine: preview computers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f future to accelerate HW/SW genera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anything, Reproduce everything, Tape out every 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TP new supercomputer overnight and boot in mor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 to check results (as fast in Berkeley as in Boston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ulate Massive Multiprocessor, Data Center, or Distributed Comp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rpe Diem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s researchers (HW &amp; SW) need the cap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GA technology is ready today, and getting better every y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 on shoulders vs. toes: standardize on multi-year Berkeley effort on FPGA platform Berkeley Emulation Engine 2 (BEE2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e researchers get opportunity to immediately aid colleagues via gateware (as SW researchers have done in pa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ramp.eecs.berkeley.e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sion “Multiprocessor Research Watering Hole” accelerate research in multiprocessing via standard research platform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hasten sea change from sequential to parallel computin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1676160" y="114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Summ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EFE3-B286-48EB-A501-134853F1DD6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4FB21-17F5-4A9A-888B-BC89344E46C2}" type="datetime1">
              <a:rPr lang="en-US"/>
              <a:t>07/31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projects for CS 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a of guest timing accounting strate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 to be able specify performance parameters (clock rate, memory latency, network latency,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must accurately account for guest clock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want to slow down host execution time very mu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 disk emulator for use in RA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itates disk, accesses network attached storage for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ed after guest VM/driver VM from Xen VM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 cluster using components from opencores.org on BEE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source hardware consort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 emulator of an “Internet in a Box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mulab/Planetlab in a box is closer to rea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6E0-01E6-45CD-A268-8E2A3DD6971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16A40-2F74-4FB4-B6BB-9D48D20FBE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ther projec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reate results from research paper to s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y are reproduc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y still h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valuation of Niagara, new 8 core, 4 threads per core chip from S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 your own research project that is related to computer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796-E709-441A-87CE-45B14358B01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32251-FD06-4677-884A-2437E2C5B2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0EB-A1E2-4830-9AF2-84A0948F445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0EB7D-DA85-45BA-899C-34C81C1FAC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8566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What Computer Architecture brings to Tabl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98040" y="1092240"/>
            <a:ext cx="798516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ields often borrow ideas from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rinciples of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Advantage of Parallel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of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on the Common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dahl’s La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or Performance Eq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well-defined interfaces that are carefully implemented and thoroughly che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586-6C97-483C-8ED4-8F395F1D26F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9F2BA-7105-4807-8CB1-9DD0F7CC9C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1) Taking Advantage of Parallelism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98400" y="1193400"/>
            <a:ext cx="79790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throughput of server computer via multiple processors or multiple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HW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Carry lookahead add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s parallelism to speed up computing sums from linear to logarithmic in number of bits per oper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Multiple memory ban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earched in parallel in set-associative ca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Pipeli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overlap instruction execution to reduce the total time to complete an instruction seque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every instruction depends on immediate predecesso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executing instructions completely/partially in parallel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 5-stage pipeline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Instruction Fetch (Ifetch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Register Read (Reg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Execute (ALU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Data Memory Access (Dmem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Register Write (Re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F15-65E4-4979-96B6-326C226918B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9B901-6007-45A9-B4B3-9D7534A1A9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96880" y="228240"/>
            <a:ext cx="7556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ed Instruction Exec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8920" y="1279440"/>
            <a:ext cx="7607160" cy="4969080"/>
            <a:chOff x="538920" y="1279440"/>
            <a:chExt cx="7607160" cy="4969080"/>
          </a:xfrm>
        </p:grpSpPr>
        <p:sp>
          <p:nvSpPr>
            <p:cNvPr id="336" name=""/>
            <p:cNvSpPr/>
            <p:nvPr/>
          </p:nvSpPr>
          <p:spPr>
            <a:xfrm>
              <a:off x="538920" y="22096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2286000"/>
              <a:ext cx="0" cy="302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14600" y="1279440"/>
              <a:ext cx="237492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ime (clock cyc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57480" y="1314360"/>
              <a:ext cx="144756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95280" y="1676520"/>
              <a:ext cx="657864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752480" y="2286000"/>
              <a:ext cx="3863160" cy="699840"/>
              <a:chOff x="1752480" y="2286000"/>
              <a:chExt cx="3863160" cy="69984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2684880" y="2450880"/>
                <a:ext cx="448920" cy="370080"/>
                <a:chOff x="2684880" y="2450880"/>
                <a:chExt cx="448920" cy="37008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2684880" y="2450880"/>
                  <a:ext cx="448920" cy="370080"/>
                  <a:chOff x="2684880" y="2450880"/>
                  <a:chExt cx="448920" cy="3700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2909520" y="24508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684880" y="24508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2701080" y="2489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3135960" y="25257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135960" y="27460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3542040" y="2341440"/>
                <a:ext cx="404280" cy="588960"/>
                <a:chOff x="3542040" y="2341440"/>
                <a:chExt cx="404280" cy="588960"/>
              </a:xfrm>
            </p:grpSpPr>
            <p:sp>
              <p:nvSpPr>
                <p:cNvPr id="350" name=""/>
                <p:cNvSpPr/>
                <p:nvPr/>
              </p:nvSpPr>
              <p:spPr>
                <a:xfrm rot="16200000">
                  <a:off x="3462120" y="24462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5400000">
                  <a:off x="3548160" y="25344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5400000">
                  <a:off x="3561480" y="25578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16200000">
                  <a:off x="3593880" y="24786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3950640" y="26366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10320" y="263664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4253040" y="2452680"/>
                <a:ext cx="592200" cy="368280"/>
                <a:chOff x="4253040" y="2452680"/>
                <a:chExt cx="592200" cy="3682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3279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253040" y="2491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" name=""/>
              <p:cNvSpPr/>
              <p:nvPr/>
            </p:nvSpPr>
            <p:spPr>
              <a:xfrm>
                <a:off x="4267440" y="26366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17960" y="27478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57120" y="25257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752480" y="2452680"/>
                <a:ext cx="557280" cy="368280"/>
                <a:chOff x="1752480" y="2452680"/>
                <a:chExt cx="557280" cy="3682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061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752480" y="2491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2398320" y="2286000"/>
                <a:ext cx="2634480" cy="699840"/>
                <a:chOff x="2398320" y="2286000"/>
                <a:chExt cx="2634480" cy="69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3246480" y="22860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94208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39832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094280" y="22899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5163120" y="2438280"/>
                <a:ext cx="452520" cy="369720"/>
                <a:chOff x="5163120" y="2438280"/>
                <a:chExt cx="452520" cy="36972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5163120" y="2438280"/>
                  <a:ext cx="452520" cy="369720"/>
                  <a:chOff x="5163120" y="2438280"/>
                  <a:chExt cx="452520" cy="3697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>
                    <a:off x="5163120" y="24382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>
                    <a:off x="5162760" y="24382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" name=""/>
                <p:cNvSpPr/>
                <p:nvPr/>
              </p:nvSpPr>
              <p:spPr>
                <a:xfrm flipH="1">
                  <a:off x="5182920" y="2476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5" name=""/>
            <p:cNvGrpSpPr/>
            <p:nvPr/>
          </p:nvGrpSpPr>
          <p:grpSpPr>
            <a:xfrm>
              <a:off x="2606760" y="3200400"/>
              <a:ext cx="3862800" cy="699840"/>
              <a:chOff x="2606760" y="3200400"/>
              <a:chExt cx="3862800" cy="69984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3539160" y="3365280"/>
                <a:ext cx="448920" cy="370080"/>
                <a:chOff x="3539160" y="3365280"/>
                <a:chExt cx="448920" cy="370080"/>
              </a:xfrm>
            </p:grpSpPr>
            <p:grpSp>
              <p:nvGrpSpPr>
                <p:cNvPr id="377" name=""/>
                <p:cNvGrpSpPr/>
                <p:nvPr/>
              </p:nvGrpSpPr>
              <p:grpSpPr>
                <a:xfrm>
                  <a:off x="3539160" y="3365280"/>
                  <a:ext cx="448920" cy="370080"/>
                  <a:chOff x="3539160" y="3365280"/>
                  <a:chExt cx="448920" cy="37008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3763800" y="33652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539160" y="33652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>
                  <a:off x="3555360" y="3403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3990240" y="34401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90240" y="36604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3" name=""/>
              <p:cNvGrpSpPr/>
              <p:nvPr/>
            </p:nvGrpSpPr>
            <p:grpSpPr>
              <a:xfrm>
                <a:off x="4395960" y="3255840"/>
                <a:ext cx="404280" cy="588960"/>
                <a:chOff x="4395960" y="3255840"/>
                <a:chExt cx="404280" cy="588960"/>
              </a:xfrm>
            </p:grpSpPr>
            <p:sp>
              <p:nvSpPr>
                <p:cNvPr id="384" name=""/>
                <p:cNvSpPr/>
                <p:nvPr/>
              </p:nvSpPr>
              <p:spPr>
                <a:xfrm rot="16200000">
                  <a:off x="4316040" y="33606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5400000">
                  <a:off x="4402080" y="34488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5400000">
                  <a:off x="4415400" y="34722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rot="16200000">
                  <a:off x="4447800" y="33930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4804560" y="35510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664240" y="355104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5106960" y="3367080"/>
                <a:ext cx="592200" cy="368280"/>
                <a:chOff x="5106960" y="3367080"/>
                <a:chExt cx="592200" cy="3682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5181840" y="336708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106960" y="3405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5121720" y="35510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072240" y="36622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011400" y="34401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606760" y="3367080"/>
                <a:ext cx="557280" cy="368280"/>
                <a:chOff x="2606760" y="3367080"/>
                <a:chExt cx="557280" cy="3682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660400" y="33670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606760" y="3405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252600" y="3200400"/>
                <a:ext cx="2634480" cy="699840"/>
                <a:chOff x="3252600" y="3200400"/>
                <a:chExt cx="2634480" cy="69984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4100760" y="32004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79636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25260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948560" y="32043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6017040" y="3352680"/>
                <a:ext cx="452520" cy="369720"/>
                <a:chOff x="6017040" y="3352680"/>
                <a:chExt cx="452520" cy="3697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6017040" y="3352680"/>
                  <a:ext cx="452520" cy="369720"/>
                  <a:chOff x="6017040" y="3352680"/>
                  <a:chExt cx="452520" cy="36972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H="1">
                    <a:off x="6017040" y="33526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>
                    <a:off x="6016680" y="33526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8" name=""/>
                <p:cNvSpPr/>
                <p:nvPr/>
              </p:nvSpPr>
              <p:spPr>
                <a:xfrm flipH="1">
                  <a:off x="6036840" y="3391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9" name=""/>
            <p:cNvGrpSpPr/>
            <p:nvPr/>
          </p:nvGrpSpPr>
          <p:grpSpPr>
            <a:xfrm>
              <a:off x="3444840" y="4038480"/>
              <a:ext cx="3862800" cy="699840"/>
              <a:chOff x="3444840" y="4038480"/>
              <a:chExt cx="3862800" cy="69984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4377240" y="4203360"/>
                <a:ext cx="448920" cy="370080"/>
                <a:chOff x="4377240" y="4203360"/>
                <a:chExt cx="448920" cy="370080"/>
              </a:xfrm>
            </p:grpSpPr>
            <p:grpSp>
              <p:nvGrpSpPr>
                <p:cNvPr id="411" name=""/>
                <p:cNvGrpSpPr/>
                <p:nvPr/>
              </p:nvGrpSpPr>
              <p:grpSpPr>
                <a:xfrm>
                  <a:off x="4377240" y="4203360"/>
                  <a:ext cx="448920" cy="370080"/>
                  <a:chOff x="4377240" y="4203360"/>
                  <a:chExt cx="448920" cy="37008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4601880" y="420336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377240" y="420336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4393440" y="4241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4828320" y="427824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828320" y="44985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5234040" y="4093920"/>
                <a:ext cx="404280" cy="588960"/>
                <a:chOff x="5234040" y="4093920"/>
                <a:chExt cx="404280" cy="588960"/>
              </a:xfrm>
            </p:grpSpPr>
            <p:sp>
              <p:nvSpPr>
                <p:cNvPr id="418" name=""/>
                <p:cNvSpPr/>
                <p:nvPr/>
              </p:nvSpPr>
              <p:spPr>
                <a:xfrm rot="16200000">
                  <a:off x="5154120" y="419868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5400000">
                  <a:off x="5240160" y="428688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5400000">
                  <a:off x="5253480" y="431028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16200000">
                  <a:off x="5285880" y="4231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5642640" y="438912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502320" y="438912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5945040" y="4205160"/>
                <a:ext cx="592200" cy="368280"/>
                <a:chOff x="5945040" y="4205160"/>
                <a:chExt cx="592200" cy="3682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019920" y="420516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945040" y="4243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5959800" y="438912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910320" y="450036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49480" y="427824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3444840" y="4205160"/>
                <a:ext cx="557280" cy="368280"/>
                <a:chOff x="3444840" y="4205160"/>
                <a:chExt cx="557280" cy="368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3498480" y="420516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444840" y="4243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4090680" y="4038480"/>
                <a:ext cx="2634480" cy="699840"/>
                <a:chOff x="4090680" y="4038480"/>
                <a:chExt cx="2634480" cy="6998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938840" y="403848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63444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09068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786640" y="404244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6855120" y="4190760"/>
                <a:ext cx="452520" cy="369720"/>
                <a:chOff x="6855120" y="4190760"/>
                <a:chExt cx="452520" cy="36972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6855120" y="4190760"/>
                  <a:ext cx="452520" cy="369720"/>
                  <a:chOff x="6855120" y="4190760"/>
                  <a:chExt cx="452520" cy="36972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flipH="1">
                    <a:off x="6855120" y="419076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6854760" y="419076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2" name=""/>
                <p:cNvSpPr/>
                <p:nvPr/>
              </p:nvSpPr>
              <p:spPr>
                <a:xfrm flipH="1">
                  <a:off x="6874920" y="4229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3" name=""/>
            <p:cNvGrpSpPr/>
            <p:nvPr/>
          </p:nvGrpSpPr>
          <p:grpSpPr>
            <a:xfrm>
              <a:off x="4282920" y="4876920"/>
              <a:ext cx="3863160" cy="699840"/>
              <a:chOff x="4282920" y="4876920"/>
              <a:chExt cx="3863160" cy="69984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5215320" y="5041800"/>
                <a:ext cx="448920" cy="370080"/>
                <a:chOff x="5215320" y="5041800"/>
                <a:chExt cx="448920" cy="370080"/>
              </a:xfrm>
            </p:grpSpPr>
            <p:grpSp>
              <p:nvGrpSpPr>
                <p:cNvPr id="445" name=""/>
                <p:cNvGrpSpPr/>
                <p:nvPr/>
              </p:nvGrpSpPr>
              <p:grpSpPr>
                <a:xfrm>
                  <a:off x="5215320" y="5041800"/>
                  <a:ext cx="448920" cy="370080"/>
                  <a:chOff x="5215320" y="5041800"/>
                  <a:chExt cx="448920" cy="37008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5439960" y="504180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215320" y="504180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8" name=""/>
                <p:cNvSpPr/>
                <p:nvPr/>
              </p:nvSpPr>
              <p:spPr>
                <a:xfrm>
                  <a:off x="5231520" y="508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9" name=""/>
              <p:cNvSpPr/>
              <p:nvPr/>
            </p:nvSpPr>
            <p:spPr>
              <a:xfrm>
                <a:off x="5666400" y="51166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66400" y="533700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6072480" y="4932360"/>
                <a:ext cx="404280" cy="588960"/>
                <a:chOff x="6072480" y="4932360"/>
                <a:chExt cx="404280" cy="588960"/>
              </a:xfrm>
            </p:grpSpPr>
            <p:sp>
              <p:nvSpPr>
                <p:cNvPr id="452" name=""/>
                <p:cNvSpPr/>
                <p:nvPr/>
              </p:nvSpPr>
              <p:spPr>
                <a:xfrm rot="16200000">
                  <a:off x="5992560" y="503712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5400000">
                  <a:off x="6078600" y="512532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5400000">
                  <a:off x="6091920" y="514872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16200000">
                  <a:off x="6124320" y="50695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6481080" y="522756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340760" y="522756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6783480" y="5043600"/>
                <a:ext cx="592200" cy="368280"/>
                <a:chOff x="6783480" y="5043600"/>
                <a:chExt cx="592200" cy="3682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68583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83480" y="50821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6797880" y="522756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748400" y="533880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687560" y="511668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4282920" y="5043600"/>
                <a:ext cx="557280" cy="368280"/>
                <a:chOff x="4282920" y="5043600"/>
                <a:chExt cx="557280" cy="3682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3365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282920" y="50821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4928760" y="4876920"/>
                <a:ext cx="2634480" cy="699840"/>
                <a:chOff x="4928760" y="4876920"/>
                <a:chExt cx="2634480" cy="6998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776920" y="487692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47252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92876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24720" y="488088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693560" y="5029200"/>
                <a:ext cx="452520" cy="369720"/>
                <a:chOff x="7693560" y="5029200"/>
                <a:chExt cx="452520" cy="369720"/>
              </a:xfrm>
            </p:grpSpPr>
            <p:grpSp>
              <p:nvGrpSpPr>
                <p:cNvPr id="473" name=""/>
                <p:cNvGrpSpPr/>
                <p:nvPr/>
              </p:nvGrpSpPr>
              <p:grpSpPr>
                <a:xfrm>
                  <a:off x="7693560" y="5029200"/>
                  <a:ext cx="452520" cy="369720"/>
                  <a:chOff x="7693560" y="5029200"/>
                  <a:chExt cx="452520" cy="3697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>
                    <a:off x="7693560" y="502920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>
                    <a:off x="7693200" y="502920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 flipH="1">
                  <a:off x="7713360" y="50677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7" name=""/>
            <p:cNvSpPr/>
            <p:nvPr/>
          </p:nvSpPr>
          <p:spPr>
            <a:xfrm>
              <a:off x="2438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76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14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67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528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05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02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807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9688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61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1120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44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8304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5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6DE-5E9E-4605-8E5A-727E668FC6E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482E2-3CC0-4067-9A6F-2CF713B7D071}" type="datetime1">
              <a:rPr lang="en-US"/>
              <a:t>07/31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pipelining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83720" y="1347840"/>
            <a:ext cx="7734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aza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vent next instruction from executing during its designated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tructura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ttempt to use the same hardware to do two different things at o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Data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nstruction depends on result of prior instruction still in the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ontro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aused by delay between the fetching of instructions and decisions about changes in control flow (branches and jump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33200" y="4390920"/>
            <a:ext cx="292680" cy="20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227400" y="4425840"/>
            <a:ext cx="0" cy="1390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32480" y="3808440"/>
            <a:ext cx="2304720" cy="33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359160" y="3979800"/>
            <a:ext cx="1006560" cy="13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386160" y="4146480"/>
            <a:ext cx="45705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619080" y="4353840"/>
            <a:ext cx="2826000" cy="435240"/>
            <a:chOff x="3619080" y="4353840"/>
            <a:chExt cx="2826000" cy="435240"/>
          </a:xfrm>
        </p:grpSpPr>
        <p:grpSp>
          <p:nvGrpSpPr>
            <p:cNvPr id="500" name=""/>
            <p:cNvGrpSpPr/>
            <p:nvPr/>
          </p:nvGrpSpPr>
          <p:grpSpPr>
            <a:xfrm>
              <a:off x="4300200" y="4455000"/>
              <a:ext cx="420120" cy="246240"/>
              <a:chOff x="4300200" y="4455000"/>
              <a:chExt cx="420120" cy="24624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4352040" y="4503240"/>
                <a:ext cx="311760" cy="169920"/>
                <a:chOff x="4352040" y="4503240"/>
                <a:chExt cx="311760" cy="1699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4507920" y="4503240"/>
                  <a:ext cx="15588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352040" y="4503240"/>
                  <a:ext cx="31176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4300200" y="4455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4664520" y="453744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64520" y="463860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4946760" y="4353840"/>
              <a:ext cx="310680" cy="435240"/>
              <a:chOff x="4946760" y="4353840"/>
              <a:chExt cx="310680" cy="435240"/>
            </a:xfrm>
          </p:grpSpPr>
          <p:sp>
            <p:nvSpPr>
              <p:cNvPr id="508" name=""/>
              <p:cNvSpPr/>
              <p:nvPr/>
            </p:nvSpPr>
            <p:spPr>
              <a:xfrm rot="16200000">
                <a:off x="4960440" y="4455720"/>
                <a:ext cx="270720" cy="264240"/>
              </a:xfrm>
              <a:custGeom>
                <a:avLst/>
                <a:gdLst>
                  <a:gd name="textAreaLeft" fmla="*/ 59400 w 270720"/>
                  <a:gd name="textAreaRight" fmla="*/ 211320 w 27072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5400000">
                <a:off x="4973400" y="451692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5400000">
                <a:off x="4979520" y="4533120"/>
                <a:ext cx="7668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6200000">
                <a:off x="4916520" y="444816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5230440" y="458820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27320" y="458820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5349960" y="4455000"/>
              <a:ext cx="592200" cy="246240"/>
              <a:chOff x="5349960" y="4455000"/>
              <a:chExt cx="592200" cy="246240"/>
            </a:xfrm>
          </p:grpSpPr>
          <p:sp>
            <p:nvSpPr>
              <p:cNvPr id="515" name=""/>
              <p:cNvSpPr/>
              <p:nvPr/>
            </p:nvSpPr>
            <p:spPr>
              <a:xfrm>
                <a:off x="5492160" y="4503600"/>
                <a:ext cx="31392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349960" y="44550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450400" y="4588200"/>
              <a:ext cx="468360" cy="13500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26960" y="463932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84480" y="45374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3619080" y="4455000"/>
              <a:ext cx="557280" cy="246240"/>
              <a:chOff x="3619080" y="4455000"/>
              <a:chExt cx="557280" cy="246240"/>
            </a:xfrm>
          </p:grpSpPr>
          <p:sp>
            <p:nvSpPr>
              <p:cNvPr id="521" name=""/>
              <p:cNvSpPr/>
              <p:nvPr/>
            </p:nvSpPr>
            <p:spPr>
              <a:xfrm>
                <a:off x="3740760" y="4503600"/>
                <a:ext cx="31356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619080" y="44550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4152240" y="4427280"/>
              <a:ext cx="1829880" cy="321480"/>
              <a:chOff x="4152240" y="4427280"/>
              <a:chExt cx="1829880" cy="321480"/>
            </a:xfrm>
          </p:grpSpPr>
          <p:sp>
            <p:nvSpPr>
              <p:cNvPr id="524" name=""/>
              <p:cNvSpPr/>
              <p:nvPr/>
            </p:nvSpPr>
            <p:spPr>
              <a:xfrm>
                <a:off x="474120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91912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5224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330160" y="4429080"/>
                <a:ext cx="61920" cy="3171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024960" y="4448880"/>
              <a:ext cx="420120" cy="246240"/>
              <a:chOff x="6024960" y="4448880"/>
              <a:chExt cx="420120" cy="2462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6082920" y="4497120"/>
                <a:ext cx="314280" cy="169920"/>
                <a:chOff x="6082920" y="4497120"/>
                <a:chExt cx="314280" cy="169920"/>
              </a:xfrm>
            </p:grpSpPr>
            <p:sp>
              <p:nvSpPr>
                <p:cNvPr id="530" name=""/>
                <p:cNvSpPr/>
                <p:nvPr/>
              </p:nvSpPr>
              <p:spPr>
                <a:xfrm flipH="1">
                  <a:off x="6082920" y="4497120"/>
                  <a:ext cx="15696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>
                  <a:off x="6082560" y="4497120"/>
                  <a:ext cx="31428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 flipH="1">
                <a:off x="6024600" y="44488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4211280" y="4773600"/>
            <a:ext cx="2827440" cy="435240"/>
            <a:chOff x="4211280" y="4773600"/>
            <a:chExt cx="2827440" cy="435240"/>
          </a:xfrm>
        </p:grpSpPr>
        <p:grpSp>
          <p:nvGrpSpPr>
            <p:cNvPr id="534" name=""/>
            <p:cNvGrpSpPr/>
            <p:nvPr/>
          </p:nvGrpSpPr>
          <p:grpSpPr>
            <a:xfrm>
              <a:off x="4893120" y="4874760"/>
              <a:ext cx="420120" cy="246240"/>
              <a:chOff x="4893120" y="4874760"/>
              <a:chExt cx="420120" cy="24624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4944600" y="4922640"/>
                <a:ext cx="312120" cy="170280"/>
                <a:chOff x="4944600" y="4922640"/>
                <a:chExt cx="312120" cy="1702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100840" y="4922640"/>
                  <a:ext cx="155880" cy="16848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944600" y="4922640"/>
                  <a:ext cx="312120" cy="170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4893120" y="48747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5257440" y="495684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7440" y="505872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539680" y="4773600"/>
              <a:ext cx="310680" cy="435240"/>
              <a:chOff x="5539680" y="4773600"/>
              <a:chExt cx="310680" cy="435240"/>
            </a:xfrm>
          </p:grpSpPr>
          <p:sp>
            <p:nvSpPr>
              <p:cNvPr id="542" name=""/>
              <p:cNvSpPr/>
              <p:nvPr/>
            </p:nvSpPr>
            <p:spPr>
              <a:xfrm rot="16200000">
                <a:off x="5552640" y="4875120"/>
                <a:ext cx="271800" cy="264240"/>
              </a:xfrm>
              <a:custGeom>
                <a:avLst/>
                <a:gdLst>
                  <a:gd name="textAreaLeft" fmla="*/ 59760 w 271800"/>
                  <a:gd name="textAreaRight" fmla="*/ 212040 w 27180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5400000">
                <a:off x="5566320" y="493668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5400000">
                <a:off x="5572440" y="4953240"/>
                <a:ext cx="7704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6200000">
                <a:off x="5509440" y="48679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5823360" y="500832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20960" y="500832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945040" y="4874760"/>
              <a:ext cx="592200" cy="246240"/>
              <a:chOff x="5945040" y="4874760"/>
              <a:chExt cx="592200" cy="246240"/>
            </a:xfrm>
          </p:grpSpPr>
          <p:sp>
            <p:nvSpPr>
              <p:cNvPr id="549" name=""/>
              <p:cNvSpPr/>
              <p:nvPr/>
            </p:nvSpPr>
            <p:spPr>
              <a:xfrm>
                <a:off x="6086160" y="4923000"/>
                <a:ext cx="313560" cy="169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5040" y="487476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6043680" y="5008320"/>
              <a:ext cx="468720" cy="1353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19160" y="505944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77040" y="49568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4211280" y="4874760"/>
              <a:ext cx="557280" cy="246240"/>
              <a:chOff x="4211280" y="4874760"/>
              <a:chExt cx="557280" cy="246240"/>
            </a:xfrm>
          </p:grpSpPr>
          <p:sp>
            <p:nvSpPr>
              <p:cNvPr id="555" name=""/>
              <p:cNvSpPr/>
              <p:nvPr/>
            </p:nvSpPr>
            <p:spPr>
              <a:xfrm>
                <a:off x="4332960" y="4923000"/>
                <a:ext cx="313920" cy="169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211280" y="487476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4744800" y="4846320"/>
              <a:ext cx="1830960" cy="322560"/>
              <a:chOff x="4744800" y="4846320"/>
              <a:chExt cx="1830960" cy="322560"/>
            </a:xfrm>
          </p:grpSpPr>
          <p:sp>
            <p:nvSpPr>
              <p:cNvPr id="558" name=""/>
              <p:cNvSpPr/>
              <p:nvPr/>
            </p:nvSpPr>
            <p:spPr>
              <a:xfrm>
                <a:off x="533412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1276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4480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23440" y="4848120"/>
                <a:ext cx="61920" cy="3182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618600" y="4868640"/>
              <a:ext cx="420120" cy="246240"/>
              <a:chOff x="6618600" y="4868640"/>
              <a:chExt cx="420120" cy="24624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6675840" y="4916520"/>
                <a:ext cx="314640" cy="170280"/>
                <a:chOff x="6675840" y="4916520"/>
                <a:chExt cx="314640" cy="170280"/>
              </a:xfrm>
            </p:grpSpPr>
            <p:sp>
              <p:nvSpPr>
                <p:cNvPr id="564" name=""/>
                <p:cNvSpPr/>
                <p:nvPr/>
              </p:nvSpPr>
              <p:spPr>
                <a:xfrm flipH="1">
                  <a:off x="6675480" y="4916520"/>
                  <a:ext cx="157320" cy="16848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>
                  <a:off x="6675840" y="4916520"/>
                  <a:ext cx="314640" cy="170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 flipH="1">
                <a:off x="6618240" y="48686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4793760" y="5158080"/>
            <a:ext cx="2827440" cy="435240"/>
            <a:chOff x="4793760" y="5158080"/>
            <a:chExt cx="2827440" cy="435240"/>
          </a:xfrm>
        </p:grpSpPr>
        <p:grpSp>
          <p:nvGrpSpPr>
            <p:cNvPr id="568" name=""/>
            <p:cNvGrpSpPr/>
            <p:nvPr/>
          </p:nvGrpSpPr>
          <p:grpSpPr>
            <a:xfrm>
              <a:off x="5475600" y="5259240"/>
              <a:ext cx="420120" cy="246240"/>
              <a:chOff x="5475600" y="5259240"/>
              <a:chExt cx="420120" cy="24624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5527080" y="5307480"/>
                <a:ext cx="312120" cy="169560"/>
                <a:chOff x="5527080" y="5307480"/>
                <a:chExt cx="312120" cy="1695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5683320" y="5307480"/>
                  <a:ext cx="155880" cy="167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527080" y="5307480"/>
                  <a:ext cx="312120" cy="169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475600" y="52592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5839920" y="534204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839920" y="544320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6122160" y="5158080"/>
              <a:ext cx="310680" cy="435240"/>
              <a:chOff x="6122160" y="5158080"/>
              <a:chExt cx="310680" cy="435240"/>
            </a:xfrm>
          </p:grpSpPr>
          <p:sp>
            <p:nvSpPr>
              <p:cNvPr id="576" name=""/>
              <p:cNvSpPr/>
              <p:nvPr/>
            </p:nvSpPr>
            <p:spPr>
              <a:xfrm rot="16200000">
                <a:off x="6135840" y="5259600"/>
                <a:ext cx="270360" cy="264240"/>
              </a:xfrm>
              <a:custGeom>
                <a:avLst/>
                <a:gdLst>
                  <a:gd name="textAreaLeft" fmla="*/ 59400 w 270360"/>
                  <a:gd name="textAreaRight" fmla="*/ 210960 w 27036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5400000">
                <a:off x="6149160" y="5321880"/>
                <a:ext cx="8712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5400000">
                <a:off x="6154920" y="5338080"/>
                <a:ext cx="7668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6200000">
                <a:off x="6091920" y="52524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6405840" y="539316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03440" y="539316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6527520" y="5259600"/>
              <a:ext cx="592200" cy="246240"/>
              <a:chOff x="6527520" y="5259600"/>
              <a:chExt cx="592200" cy="246240"/>
            </a:xfrm>
          </p:grpSpPr>
          <p:sp>
            <p:nvSpPr>
              <p:cNvPr id="583" name=""/>
              <p:cNvSpPr/>
              <p:nvPr/>
            </p:nvSpPr>
            <p:spPr>
              <a:xfrm>
                <a:off x="6668640" y="5308560"/>
                <a:ext cx="31356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27520" y="52596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6626160" y="5393160"/>
              <a:ext cx="468720" cy="13464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01640" y="544428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59520" y="53420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4793760" y="5259600"/>
              <a:ext cx="557280" cy="246240"/>
              <a:chOff x="4793760" y="5259600"/>
              <a:chExt cx="557280" cy="246240"/>
            </a:xfrm>
          </p:grpSpPr>
          <p:sp>
            <p:nvSpPr>
              <p:cNvPr id="589" name=""/>
              <p:cNvSpPr/>
              <p:nvPr/>
            </p:nvSpPr>
            <p:spPr>
              <a:xfrm>
                <a:off x="4915440" y="5308560"/>
                <a:ext cx="31392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793760" y="52596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5327280" y="5231880"/>
              <a:ext cx="1830960" cy="321480"/>
              <a:chOff x="5327280" y="5231880"/>
              <a:chExt cx="1830960" cy="321480"/>
            </a:xfrm>
          </p:grpSpPr>
          <p:sp>
            <p:nvSpPr>
              <p:cNvPr id="592" name=""/>
              <p:cNvSpPr/>
              <p:nvPr/>
            </p:nvSpPr>
            <p:spPr>
              <a:xfrm>
                <a:off x="591660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09524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2728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505920" y="5233680"/>
                <a:ext cx="61920" cy="3171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7201080" y="5253480"/>
              <a:ext cx="420120" cy="246240"/>
              <a:chOff x="7201080" y="5253480"/>
              <a:chExt cx="420120" cy="24624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7258320" y="5301720"/>
                <a:ext cx="314640" cy="169560"/>
                <a:chOff x="7258320" y="5301720"/>
                <a:chExt cx="314640" cy="169560"/>
              </a:xfrm>
            </p:grpSpPr>
            <p:sp>
              <p:nvSpPr>
                <p:cNvPr id="598" name=""/>
                <p:cNvSpPr/>
                <p:nvPr/>
              </p:nvSpPr>
              <p:spPr>
                <a:xfrm flipH="1">
                  <a:off x="7257960" y="5301720"/>
                  <a:ext cx="157320" cy="167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>
                  <a:off x="7258320" y="5301720"/>
                  <a:ext cx="314640" cy="169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 flipH="1">
                <a:off x="7200720" y="52534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"/>
          <p:cNvGrpSpPr/>
          <p:nvPr/>
        </p:nvGrpSpPr>
        <p:grpSpPr>
          <a:xfrm>
            <a:off x="5376600" y="5546880"/>
            <a:ext cx="2827080" cy="435240"/>
            <a:chOff x="5376600" y="5546880"/>
            <a:chExt cx="2827080" cy="435240"/>
          </a:xfrm>
        </p:grpSpPr>
        <p:grpSp>
          <p:nvGrpSpPr>
            <p:cNvPr id="602" name=""/>
            <p:cNvGrpSpPr/>
            <p:nvPr/>
          </p:nvGrpSpPr>
          <p:grpSpPr>
            <a:xfrm>
              <a:off x="6057720" y="5645880"/>
              <a:ext cx="420120" cy="246240"/>
              <a:chOff x="6057720" y="5645880"/>
              <a:chExt cx="420120" cy="24624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6109560" y="5694120"/>
                <a:ext cx="311760" cy="169920"/>
                <a:chOff x="6109560" y="5694120"/>
                <a:chExt cx="311760" cy="16992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6265440" y="5694120"/>
                  <a:ext cx="15588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109560" y="5694120"/>
                  <a:ext cx="31176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6" name=""/>
              <p:cNvSpPr/>
              <p:nvPr/>
            </p:nvSpPr>
            <p:spPr>
              <a:xfrm>
                <a:off x="6057720" y="56458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6422760" y="572868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22760" y="582984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6705000" y="5546880"/>
              <a:ext cx="310680" cy="435240"/>
              <a:chOff x="6705000" y="5546880"/>
              <a:chExt cx="310680" cy="435240"/>
            </a:xfrm>
          </p:grpSpPr>
          <p:sp>
            <p:nvSpPr>
              <p:cNvPr id="610" name=""/>
              <p:cNvSpPr/>
              <p:nvPr/>
            </p:nvSpPr>
            <p:spPr>
              <a:xfrm rot="16200000">
                <a:off x="6718320" y="5646960"/>
                <a:ext cx="271440" cy="264240"/>
              </a:xfrm>
              <a:custGeom>
                <a:avLst/>
                <a:gdLst>
                  <a:gd name="textAreaLeft" fmla="*/ 59760 w 271440"/>
                  <a:gd name="textAreaRight" fmla="*/ 211680 w 27144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5400000">
                <a:off x="6731640" y="570852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5400000">
                <a:off x="6737760" y="5725080"/>
                <a:ext cx="7704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6674760" y="56412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6988680" y="577944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85920" y="577944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7110000" y="5646240"/>
              <a:ext cx="592200" cy="246240"/>
              <a:chOff x="7110000" y="5646240"/>
              <a:chExt cx="592200" cy="246240"/>
            </a:xfrm>
          </p:grpSpPr>
          <p:sp>
            <p:nvSpPr>
              <p:cNvPr id="617" name=""/>
              <p:cNvSpPr/>
              <p:nvPr/>
            </p:nvSpPr>
            <p:spPr>
              <a:xfrm>
                <a:off x="7251120" y="5694840"/>
                <a:ext cx="313560" cy="169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110000" y="564624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7209000" y="5779440"/>
              <a:ext cx="468360" cy="13500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84480" y="583092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42360" y="572868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5376600" y="5646240"/>
              <a:ext cx="557280" cy="246240"/>
              <a:chOff x="5376600" y="5646240"/>
              <a:chExt cx="557280" cy="246240"/>
            </a:xfrm>
          </p:grpSpPr>
          <p:sp>
            <p:nvSpPr>
              <p:cNvPr id="623" name=""/>
              <p:cNvSpPr/>
              <p:nvPr/>
            </p:nvSpPr>
            <p:spPr>
              <a:xfrm>
                <a:off x="5498280" y="5694840"/>
                <a:ext cx="313920" cy="169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376600" y="56462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5910120" y="5618160"/>
              <a:ext cx="1830960" cy="322200"/>
              <a:chOff x="5910120" y="5618160"/>
              <a:chExt cx="1830960" cy="322200"/>
            </a:xfrm>
          </p:grpSpPr>
          <p:sp>
            <p:nvSpPr>
              <p:cNvPr id="626" name=""/>
              <p:cNvSpPr/>
              <p:nvPr/>
            </p:nvSpPr>
            <p:spPr>
              <a:xfrm>
                <a:off x="649944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7808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1012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88760" y="5619960"/>
                <a:ext cx="61920" cy="3178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7783560" y="5639760"/>
              <a:ext cx="420120" cy="246240"/>
              <a:chOff x="7783560" y="5639760"/>
              <a:chExt cx="420120" cy="24624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7840800" y="5688000"/>
                <a:ext cx="314640" cy="169920"/>
                <a:chOff x="7840800" y="5688000"/>
                <a:chExt cx="314640" cy="169920"/>
              </a:xfrm>
            </p:grpSpPr>
            <p:sp>
              <p:nvSpPr>
                <p:cNvPr id="632" name=""/>
                <p:cNvSpPr/>
                <p:nvPr/>
              </p:nvSpPr>
              <p:spPr>
                <a:xfrm flipH="1">
                  <a:off x="7840440" y="5688000"/>
                  <a:ext cx="15732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H="1">
                  <a:off x="7840800" y="5688000"/>
                  <a:ext cx="31464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 flipH="1">
                <a:off x="7783200" y="56397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417996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244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4528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56280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2776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14528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72812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9712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F46-6146-4BAC-9BF4-5F2BFE89C00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E7B38-B309-42C5-938F-72B516B50529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1055520"/>
          <a:ext cx="9144000" cy="459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5520"/>
                    <a:ext cx="91440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63080"/>
            <a:ext cx="851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roads: Uniprocessor Performanc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41560" y="5452920"/>
            <a:ext cx="488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: 25%/year 1978 to 19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C + x86: 52%/year 1986 to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C + x86: ??%/year 2002 to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24080" y="1413000"/>
            <a:ext cx="34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Hennessy and Patterson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uter Architecture: A Quantitative Approac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4th edition, Octo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759-4910-4D30-B391-D15EED5000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04E77-326F-464B-8A5C-BE80A3CCE697}" type="datetime1">
              <a:rPr lang="en-US"/>
              <a:t>07/31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09200" y="501480"/>
            <a:ext cx="757260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2) The Principle of Loca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6200" y="1274400"/>
            <a:ext cx="8248680" cy="25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nciple of Locali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ccess a relatively small portion of the address space at any instant of ti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Different Types of Locali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Temporal Locali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cality in Time): If an item is referenced, it will tend to be referenced again soon (e.g., loops, reu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patial Locali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cality in Space): If an item is referenced, items whose addresses are close by tend to be referenced so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.g., straight-line code, array ac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 30 years, HW  relied on locality for memory per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180880" y="5211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32560" y="516888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406680" y="5213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79720" y="5162400"/>
            <a:ext cx="66348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33880" y="5167440"/>
            <a:ext cx="66348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557600" y="4778280"/>
            <a:ext cx="1104840" cy="125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28800" y="5427720"/>
            <a:ext cx="486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13200" y="5432400"/>
            <a:ext cx="633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169000" y="4630680"/>
            <a:ext cx="1326240" cy="30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B7C-2872-4480-B07F-3AC2960C708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206EF-154D-46CE-B9CD-EDBA0FAB85DE}" type="datetime1">
              <a:rPr lang="en-US"/>
              <a:t>07/31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97000" y="169920"/>
            <a:ext cx="647208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evels of the Memory Hierarch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3160" y="1150920"/>
            <a:ext cx="215424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PU 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0s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00 – 500 ps (0.3-0.5 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4680" y="2038320"/>
            <a:ext cx="15768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L1 and L2 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s-100s K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1 ns - ~10 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$1000s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34520" y="3276720"/>
            <a:ext cx="13374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Mai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80ns- 200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 $100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8600" y="4419720"/>
            <a:ext cx="17643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s T Bytes, 10 m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0,000,000 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 $1 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1160" y="461880"/>
            <a:ext cx="20602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cess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28400" y="5638680"/>
            <a:ext cx="113328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T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fin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c-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$1 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336840" y="1150920"/>
            <a:ext cx="11462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44760" y="1216080"/>
            <a:ext cx="1195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3040" y="1969920"/>
            <a:ext cx="1136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1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399480" y="3606840"/>
            <a:ext cx="1076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425760" y="4673520"/>
            <a:ext cx="622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10360" y="5816520"/>
            <a:ext cx="678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32000" y="1905120"/>
            <a:ext cx="1505160" cy="4125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03520" y="3517920"/>
            <a:ext cx="287028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70000" y="4584600"/>
            <a:ext cx="393696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765440" y="5651640"/>
            <a:ext cx="4698720" cy="507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160164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86200" y="3166920"/>
            <a:ext cx="0" cy="33192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6200" y="4044960"/>
            <a:ext cx="0" cy="52056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86200" y="5111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90960" y="1593720"/>
            <a:ext cx="1816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tr. Ope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70440" y="2362320"/>
            <a:ext cx="816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48840" y="4140360"/>
            <a:ext cx="773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86280" y="5207040"/>
            <a:ext cx="604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406560" y="646200"/>
            <a:ext cx="880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St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Xfer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47280" y="1492200"/>
            <a:ext cx="1451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g./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-8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271200" y="2230560"/>
            <a:ext cx="1125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che cn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-6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354360" y="4013280"/>
            <a:ext cx="1159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K-8K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57880" y="5079960"/>
            <a:ext cx="1377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ser/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476120" y="1144440"/>
            <a:ext cx="1488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mic Sans MS"/>
              </a:rPr>
              <a:t>Upp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92520" y="5816520"/>
            <a:ext cx="1492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mic Sans MS"/>
              </a:rPr>
              <a:t>Low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7848720" y="1841400"/>
            <a:ext cx="0" cy="380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827840" y="1606680"/>
            <a:ext cx="750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458200" y="1903320"/>
            <a:ext cx="0" cy="342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089920" y="5435640"/>
            <a:ext cx="834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r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49800" y="2739960"/>
            <a:ext cx="1136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2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92600" y="2651040"/>
            <a:ext cx="195552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82960" y="2324160"/>
            <a:ext cx="0" cy="3556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60040" y="3048120"/>
            <a:ext cx="1227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che cn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64-128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003920" y="3192480"/>
            <a:ext cx="816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FB1-1C73-47DF-812D-32E823CFAA68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E4A77-3482-451A-BBC2-004CAEF8519F}" type="datetime1">
              <a:rPr lang="en-US"/>
              <a:t>07/31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3) Focus on the Common Cas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945560" cy="51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sense guides computer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its engineering, common sense is valu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aking a design trade-off, favor the frequent case over the infrequent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Instruction fetch and decode unit used more frequently than multiplier, so optimize it 1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If database server has 50 disks / processor, storage dependability dominates system dependability, so optimize it 1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t case is often simpler and can be done faster than the infrequent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verflow is rare when adding 2 numbers, so improve performance by optimizing more common case of no overflo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slow down overflow, but overall performance improved by optimizing for the normal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frequent case and how much performance improved by making case faster =&gt; </a:t>
            </a: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Amdahl’s La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0BD0-F37B-4191-A43A-34E62B7D8B4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AC1C0-B906-4ACE-8288-235E420752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4) Amdahl’s La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33520" y="2743200"/>
                <a:ext cx="815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eedu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eral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u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451800" y="411480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est you could ever hope to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2209680" y="4648320"/>
                <a:ext cx="4610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eedu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imu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-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609480" y="1295280"/>
                <a:ext cx="76978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Ti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xTi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u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02" name=""/>
          <p:cNvGrpSpPr/>
          <p:nvPr/>
        </p:nvGrpSpPr>
        <p:grpSpPr>
          <a:xfrm>
            <a:off x="1219320" y="5867280"/>
            <a:ext cx="6997680" cy="368280"/>
            <a:chOff x="1219320" y="5867280"/>
            <a:chExt cx="6997680" cy="368280"/>
          </a:xfrm>
        </p:grpSpPr>
        <p:sp>
          <p:nvSpPr>
            <p:cNvPr id="703" name=""/>
            <p:cNvSpPr/>
            <p:nvPr/>
          </p:nvSpPr>
          <p:spPr>
            <a:xfrm>
              <a:off x="121932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86000" y="5867280"/>
              <a:ext cx="1054080" cy="368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35268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8640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53080" y="5867280"/>
              <a:ext cx="596880" cy="368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6292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60920" y="6089400"/>
              <a:ext cx="49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862-9B1C-4AFC-A5AD-135B3C20B9A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989EA-2321-46ED-B9DA-6EEB26FADC65}" type="datetime1">
              <a:rPr lang="en-US"/>
              <a:t>07/31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mdahl’s Law examp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999560" cy="10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PU 10X fa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ound server, so 60% time waiting for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2347920"/>
                <a:ext cx="690588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u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veral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Fractio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ractio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edu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863640" y="5029200"/>
            <a:ext cx="79992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arently, its human nature to be attracted by 10X faster, vs. keeping in perspective its just 1.6X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288-FC05-426E-B423-502B154003F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45932-43C8-4243-848D-A731C1985A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) Processor performance equ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838080" y="1676520"/>
            <a:ext cx="7696080" cy="873360"/>
            <a:chOff x="838080" y="1676520"/>
            <a:chExt cx="7696080" cy="873360"/>
          </a:xfrm>
        </p:grpSpPr>
        <p:sp>
          <p:nvSpPr>
            <p:cNvPr id="716" name=""/>
            <p:cNvSpPr/>
            <p:nvPr/>
          </p:nvSpPr>
          <p:spPr>
            <a:xfrm>
              <a:off x="838080" y="1676520"/>
              <a:ext cx="7696080" cy="87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343080" indent="-343080">
                <a:lnSpc>
                  <a:spcPct val="86000"/>
                </a:lnSpc>
                <a:spcBef>
                  <a:spcPts val="901"/>
                </a:spcBef>
                <a:tabLst>
                  <a:tab algn="l" pos="0"/>
                  <a:tab algn="l" pos="1371600"/>
                  <a:tab algn="l" pos="30733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PU tim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 Seconds    =   Instructions  x    Cycles     x   Seco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6000"/>
                </a:lnSpc>
                <a:spcBef>
                  <a:spcPts val="901"/>
                </a:spcBef>
                <a:tabLst>
                  <a:tab algn="l" pos="0"/>
                  <a:tab algn="l" pos="1371600"/>
                  <a:tab algn="l" pos="30733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Program          Instruction       Cy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76440" y="19620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14800" y="19875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03920" y="2012760"/>
              <a:ext cx="97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70560" y="1987560"/>
              <a:ext cx="9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66320" y="25142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 Cou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P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ck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. Se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092400" y="240624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51360" y="245736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943600" y="2419200"/>
            <a:ext cx="0" cy="372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102520" y="2419200"/>
            <a:ext cx="0" cy="377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68560" y="3429000"/>
            <a:ext cx="690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49480" y="4108320"/>
            <a:ext cx="692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49480" y="4838760"/>
            <a:ext cx="692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68560" y="5499000"/>
            <a:ext cx="690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87280" y="6165720"/>
            <a:ext cx="688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0400" y="2832120"/>
            <a:ext cx="694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0" y="380880"/>
            <a:ext cx="968400" cy="838440"/>
          </a:xfrm>
          <a:custGeom>
            <a:avLst/>
            <a:gdLst/>
            <a:ahLst/>
            <a:rect l="l" t="t" r="r" b="b"/>
            <a:pathLst>
              <a:path w="610" h="528">
                <a:moveTo>
                  <a:pt x="0" y="528"/>
                </a:moveTo>
                <a:lnTo>
                  <a:pt x="305" y="0"/>
                </a:lnTo>
                <a:lnTo>
                  <a:pt x="610" y="528"/>
                </a:lnTo>
                <a:lnTo>
                  <a:pt x="0" y="528"/>
                </a:lnTo>
                <a:close/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932800" y="118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inst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98840" y="763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C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545600" y="12193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Cycl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658-6C6C-41DF-947B-3ADDECF88B8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881A5-AE2E-4872-989A-5F3ABAECC7CB}" type="datetime1">
              <a:rPr lang="en-US"/>
              <a:t>07/31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What’s a Clock Cycle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 days: 10 levels of g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: determined by numerous time-of-flight issues + gate del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propagation, wire lengths, dri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438280" y="1371600"/>
            <a:ext cx="38124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05320" y="1447920"/>
            <a:ext cx="1981080" cy="1676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313640" y="1828800"/>
            <a:ext cx="102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819520" y="1828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195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172200" y="1371600"/>
            <a:ext cx="38088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86400" y="1752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86400" y="2666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609720" y="190512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bi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76520" y="3505320"/>
            <a:ext cx="5562360" cy="380880"/>
          </a:xfrm>
          <a:custGeom>
            <a:avLst/>
            <a:gdLst/>
            <a:ahLst/>
            <a:rect l="l" t="t" r="r" b="b"/>
            <a:pathLst>
              <a:path w="3504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  <a:lnTo>
                  <a:pt x="1248" y="0"/>
                </a:lnTo>
                <a:lnTo>
                  <a:pt x="1248" y="240"/>
                </a:lnTo>
                <a:lnTo>
                  <a:pt x="2976" y="240"/>
                </a:lnTo>
                <a:lnTo>
                  <a:pt x="2976" y="0"/>
                </a:lnTo>
                <a:lnTo>
                  <a:pt x="350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259092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40080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53080" y="1752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553080" y="2666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52480" y="1676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75248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C7FC-1F8B-4B4F-9CBF-ADF8756682D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DFAB9-8630-4376-A4B7-26CC2EDD092A}" type="datetime1">
              <a:rPr lang="en-US"/>
              <a:t>07/31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&gt;&gt; instruction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skill sets are differ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Quantitative principles of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ative approach to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 interfaces that really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tracking and anticip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 252 to learn new skills, transition to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the crossroads from sequential to parallel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vation requires innovation in many fields, including compute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is interesting and timely CS 252 project opportunity given CS is at the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Chapter 1, then Appendix A, record bug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1C9-247A-4C04-940D-4B2A1E5D3AC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A1002-2E5A-48D1-9675-30D315E0AB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ea Change in Chip Desig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33640"/>
            <a:ext cx="5997600" cy="12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tel 4004 (1971): 4-bit processor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312 transistors, 0.4 MHz,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 micron PMOS, 11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41308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2422800" cy="175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1640" y="5696640"/>
            <a:ext cx="69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b8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b4"/>
                </a:solidFill>
                <a:latin typeface="Arial"/>
              </a:rPr>
              <a:t>Processor is the new transistor?</a:t>
            </a:r>
            <a:r>
              <a:rPr b="1" lang="en-US" sz="3200" spc="-1" strike="noStrike">
                <a:solidFill>
                  <a:srgbClr val="0000b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62320"/>
            <a:ext cx="796752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ISC II (1983): 32-bit, 5 stage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ipeline, 40,760 transistors, 3 MHz,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 micron NMOS, 60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75160"/>
            <a:ext cx="832788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5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, 0.065 micron CMOS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= 2312 RISC II+FPU+Icache+Dcach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C II shrinks to ~ 0.02 m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65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s via DRAM or 1 transistor SRAM (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3"/>
              </a:rPr>
              <a:t>www.t-ram.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imity Communication via capacitive coupling at &gt; 1 TB/s 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van Sutherland @ Sun / Berkel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CCE-84C7-43A0-905A-67BFA5BCD7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D7678-09C4-4CDA-BD8A-669A5E77300E}" type="datetime1">
              <a:rPr lang="en-US"/>
              <a:t>07/31/26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4160" y="-36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éjà vu all over again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ultiprocessors imminent in 1970s, ‘80s, ‘90s, …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“… 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today’s processors … are nearing an impasse as technologies approach the speed of light..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r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avid Mitchell,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The Transputer: The Time Is Now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1989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ransputer was premature 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ustom multiprocessors strove to lead uniprocessors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crastination rewarded: 2X seq. perf. / 1.5 yea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We are dedicating all of our future product development to multicore designs. … This is a sea change in computing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r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ul Otellini, President, Intel (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2004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fference is all microprocessor companies switch to multiprocessors (AMD, Intel, IBM, Sun; all new Apples 2 CPUs) 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crastination penalized: 2X sequential perf. / 5 yrs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Biggest programming challenge: 1 to 2 CPUs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54800" y="0"/>
            <a:ext cx="1789200" cy="10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F48-E239-4BA6-8C8C-B816D09C07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3DFE8-772C-462A-B7EB-D648515DBF72}" type="datetime1">
              <a:rPr lang="en-US"/>
              <a:t>07/31/26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Sea Change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s, Programming Languages, Compilers, Operating Systems, Architectures, Libraries, … not ready to supply Thread Level Parallelism or Data Level Parallelism for 1000 CPUs / chip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s not ready for 1000 CPUs /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ike Instruction Level Parallelism, cannot be solved by just by computer architects and compiler writers alone, but also cannot be solved </a:t>
            </a: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rticipation of computer archit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edition of CS 252 (and 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ition of textbook Computer Architecture: A Quantitative Approach) explores shift from Instruction Level Parallelism to Thread Level Parallelism / Data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F5F-D2F8-48F7-B6A9-16F5749C69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43DF8-746A-470E-A866-2162B795E115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D83-3A77-4D3D-8477-C69580AD22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6200E-8E06-49ED-8F64-9684C03914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479520"/>
            <a:ext cx="88977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ruction Set Architecture: Critical Interfa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01760" y="2635200"/>
            <a:ext cx="66927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40040" y="126360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886200" y="1562040"/>
            <a:ext cx="763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2171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21718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24764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733560" y="217188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504960" y="25527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179064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191120" y="1790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1714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114800" y="15620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11640" y="133992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1638360"/>
            <a:ext cx="759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105520" y="224784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24764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24784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2380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232416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181480" y="186696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952520" y="201924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028840" y="17906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800240" y="163800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81480" y="14857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885840" y="14094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352320" y="3085920"/>
            <a:ext cx="2362680" cy="1390680"/>
            <a:chOff x="3352320" y="3085920"/>
            <a:chExt cx="2362680" cy="1390680"/>
          </a:xfrm>
        </p:grpSpPr>
        <p:sp>
          <p:nvSpPr>
            <p:cNvPr id="103" name=""/>
            <p:cNvSpPr/>
            <p:nvPr/>
          </p:nvSpPr>
          <p:spPr>
            <a:xfrm>
              <a:off x="4216320" y="3166560"/>
              <a:ext cx="635040" cy="38268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419720" y="3388320"/>
              <a:ext cx="7596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388320"/>
              <a:ext cx="76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3388320"/>
              <a:ext cx="7632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0" y="326736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343400" y="3267360"/>
              <a:ext cx="76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886200" y="4416120"/>
              <a:ext cx="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569760"/>
              <a:ext cx="0" cy="483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4053240"/>
              <a:ext cx="380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52880" y="4053240"/>
              <a:ext cx="152640" cy="362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105520" y="4355280"/>
              <a:ext cx="75960" cy="6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191120" y="4053240"/>
              <a:ext cx="38088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038480" y="4113720"/>
              <a:ext cx="152640" cy="362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885840" y="447660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0" y="3569760"/>
              <a:ext cx="53352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105520" y="3085920"/>
              <a:ext cx="380880" cy="543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6400" y="30862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800" y="3630240"/>
              <a:ext cx="457200" cy="6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581280" y="3086280"/>
              <a:ext cx="533520" cy="60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352320" y="30862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669840" y="2717640"/>
            <a:ext cx="17031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1040" y="1816200"/>
            <a:ext cx="1066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1400" y="3720960"/>
            <a:ext cx="1142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520" y="4788000"/>
            <a:ext cx="7683480" cy="17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 of a good abstr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s through many generations (portabi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in many different ways (genera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onven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unctionality to higher l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ts a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mplementation at lower l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CCD-9332-4A0A-B528-7F8999BB7D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56DEA-561B-4AED-A732-A1E7A068C801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1T15:15:10Z</dcterms:modified>
  <cp:revision>57</cp:revision>
  <dc:subject/>
  <dc:title>EECS 252 Graduate Computer Architecture   Lec 01 - Introduction  </dc:title>
</cp:coreProperties>
</file>