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62F3F69-A31A-4D14-8755-0DA60D8430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F04088-2B3A-45F8-83F3-3BDB6167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D78B019-D3F2-4816-B6A3-1067CF3B7A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E796E92-1F4C-4345-B400-32913631BA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397FCC1-C0AA-44E8-AEBC-14280852D0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6E0BB0E-C49A-438F-885C-FF9C2C91D2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2D4-7A42-49FB-8943-55BBE95A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5B8-A469-4E27-81B4-4628C54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056-579D-46C5-A61D-88C5F7E5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0B4-2853-426F-9FF3-A0E26652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0DE-C7C8-4E15-A3A4-B44EA27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AEF-36A0-41E2-A775-629684C3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A64-8B8C-41DE-A9DA-126E4F8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672-5496-4B86-AA6B-9651510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61D-7110-4A85-9B2D-74894B6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8E3-27D6-41FC-AEFC-2C59C0A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9DC-C83C-4CAB-97A8-06EB58D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B86-A77B-4167-B842-75DE6B2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E06-8DFF-4977-9B14-B0D55EAED815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30F-FD0A-4312-9D47-7CC29AB001CC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2C6-AC97-4FBF-B449-9DA62BE739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9939A-43BF-4B3B-A3FA-F214F78E6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9A1-8BBB-47A1-8966-0A00B0DD12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C7327-99AF-4A35-AE1C-18213DC58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530-9256-444A-A08C-2DE7DCB1CA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91A9-AF65-401E-A24E-63E34F3C50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3FD-ADCA-4B98-AE07-6927B32A8D6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F7EF1-963A-41F7-826B-1A227E2B93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B27-8C8F-46A8-81C4-BD14D714C7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E16BA-F46E-4F92-B82A-8B3354160F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223-825E-4D1B-9AE2-6B32BEF578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827C-B96A-42EB-B112-D8E29D82DB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EF1-8308-45BD-B253-6A53F562A3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597DA-6963-4BB3-89CC-2E398A7A9E89}" type="datetime1">
              <a:rPr lang="en-US"/>
              <a:t>07/31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FF1-45C4-4026-8EBE-A679E9A547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074FA-BF25-4EAE-AD6A-9DACA5EDD8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043-5F6D-40F7-9AB8-8303DD90BF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DC65A-4642-4ED5-B309-A0A6626ED5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A50-1E3C-4981-A96C-A046CBFAAC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4818D-8A24-4D9A-84C8-325D8CDB51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11C-6264-4DE6-846E-A361A6DEB2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A4FB9-63CA-4999-9A09-E26149B0A0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D8E-D838-4A5D-807D-44C3F9899C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67DF0-3EFF-4240-8025-53540FAEBC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FAC-6BCA-4F47-86A1-3D8CB92569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42B3-7F78-408E-8E35-52E23BD152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692-DFBE-4785-A469-14E83E6369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0ABFA-1739-4DDD-B50E-BD6C2425F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9D7-2C49-48CD-A615-70587DEF72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D36EA-70BE-4014-8D3E-820111F00B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2F3-3F1D-403E-93A4-5155333338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55951-742A-441D-AA9D-CFCDEC816A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B8D-A018-41CE-8510-1BEA43B2C2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6A737-9CE4-424F-93F5-411739C49E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9C0-24CD-4CA7-B326-D51BE9D6B2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E27E-3CAE-4074-8F2A-1EC7B1DC40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3CB-9B47-4AF8-82AF-06E790886B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70875-159F-4809-B16E-A70FCF1D9F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C8-DCB4-4827-9040-CDEC910722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5A99E-600F-4297-A464-63ACFCACA2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253-F87A-4B27-8FB0-D77828A2D6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DD7C8-90DC-46C9-AD8C-EE976B0AC9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1CC-C69C-4C86-929D-621E006BD8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BDAE2-EE71-4AC2-A5D2-F72E3BF4DE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717-81F5-41F0-B505-EF04C87909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6901-68A4-458F-A4ED-12A5CB30F6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C8F-DAD8-41A4-82F6-50160394F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FA437-1115-4C4C-AD1B-7C9D7AB7CFC8}" type="datetime1">
              <a:rPr lang="en-US"/>
              <a:t>07/31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319-39D7-4366-9B6B-B706D9A32F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76A31-6CEE-4053-A857-9DCB3BDA87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CFA-72F7-4605-AD35-2C723B8D38E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3B804-059B-47AB-A72E-B83BE4F17AF9}" type="datetime1">
              <a:rPr lang="en-US"/>
              <a:t>07/31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1CD-1EC0-421F-B4F5-B2436E0E3F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9B810-E856-44DF-B19D-8CE5EE0D6C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08F-EA67-42B7-A07B-738A5EC8EE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9E5C8-25D7-454F-8344-5BCCAD344C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358-5FEA-46C4-BDD8-38AFDD0D65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AABBB-0168-4E81-B5C4-950E5E1C50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865-AD67-4BF3-B525-02831421BE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EFAE3-D7B7-453F-92CE-FCF1ED5857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9C3-5A81-419F-9FDC-BBDB965D09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1197E-EDBE-45C1-B3D3-BC1AFFEE69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06E-32CC-4D1F-9033-DC52BB5484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83859-FA7D-4FF7-939B-26B5EDD98A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D74-990B-4398-AAE3-EC70866CAE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896BD-3DFA-415F-8134-7FED2B970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B02-20E8-40C0-8EC3-D45675FBBA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F04C7-6498-4FEC-BCB1-7CD136517A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E8D-38FA-4413-AC2B-BCC29A61A4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1DC0B-9D37-42F4-A77A-F0216D4468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652-BC30-4EC6-AE9C-7732D60BF1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4F2C-9130-4AEA-8496-D20F8AD14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E0A-AAB5-4036-AE01-A2DFCD3BD9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60154-AB60-4206-A070-1AAF90E45D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B6D-364D-468A-9AC4-0382D820EF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0082-9F95-4F78-91A8-D1209CC85382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346-5F2D-4D71-B9C4-DC90022AD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6E39C-B021-4EA2-8A95-406F4C1DA6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0DB-263F-4CC7-92CE-AA7DB2BFF32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CB5CA-C2F2-44E2-A299-1B10256862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304-D1BE-4873-9D1F-794A39F73B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D91F9-9AA0-4CA8-A90C-A31035FD1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85D-061C-48F4-832A-5E47A4B8A5C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0161-EB58-4958-8292-CDFD1ADF96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