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DFB5EA46-31FD-448C-B2E2-DEC9AA4EF3C9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E85C6F-2ACD-46CB-BA78-BCF17680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17E-BF9C-485E-8D88-26F20EBB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6F4-4D7C-4352-9CDD-E8EB9D4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64A-7306-4784-A932-2CD0553A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C47-DB2D-4FA4-828E-D5F55803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D0D-F3B8-491E-A3B6-4369864B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647-0810-4D17-9F8F-C7951976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456-CDC3-4F67-98B2-905792F0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940-D514-4DD8-8EF0-72D374D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CB8-4ABE-4F2B-A6D1-E341AC1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B3E-EF74-4E71-914D-BE94BE7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7CB-E664-4302-A007-DCBAAEF2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F1F-CDEF-489E-90F9-384B33A5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3009-0F00-4101-B2AF-2506787401BC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957-9F6A-43E0-B3EE-9AE9C6F9F026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3D7-A30C-47CC-869D-1D9DEB233F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ACDBE-84CB-4B7F-BF65-54A74D42B26C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FD7-3285-4C35-BAF3-4AF82C1C03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F422F-796F-4DD4-8A42-3516ADEA4166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12D-19C9-42DF-B793-3249615BCA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7B445-7423-4538-BFEC-37CB5B8F3FDF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BC1-D15F-49D1-B3CB-F1DF7D7984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7DC7-4608-4813-AF1F-131B8AA80495}" type="datetime1">
              <a:rPr lang="en-US"/>
              <a:t>07/31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BB6-ACD6-4370-A872-485C3F680B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027D5-FAE8-4413-A7F6-F6993A7FCF77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207-DEF6-42DE-836E-3EB51724FE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17389-0E49-4FE5-8C61-403C3A54F9D9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1DD-EE77-4AFD-BD5C-EF6F3369F4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0D782-F64A-406E-ACC7-E12B72357843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93F-E768-4BD4-87B8-233FE38F24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53F39-96CE-4DE1-907F-F44CE7F3A07E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8AD-1675-4EFC-AB84-FC34154374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F4242-EC63-4D72-9985-4B48DB3397D6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6EB-44CE-450C-BFD6-4647529A58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C4ED2-67D9-4903-B350-CAEBC0A6444E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158-DDA8-47DC-AC03-FEED64128C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1F70A-D51F-49D2-B35B-707B99379DBF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EDC-0A68-420C-B3CF-40DCADDF74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0ED31-E57B-41E6-AB86-CF25D8DC276F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9B1-EC1F-4D66-9D93-2B39E336C1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2DFC1-1B13-47CB-BAED-9EF6C74642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B01-A20A-4E9C-8552-D4A6CF39AB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8D9F6-1A54-40FC-A417-9987818A0E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F58-E992-4FD5-842D-C7F50F1DA7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C9E1D-83F3-4FAC-B639-6C91EFC0B9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AA0-97EB-4911-97AA-2E01465A8D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852F7-5193-42B3-9900-A2943F08BA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845-BC91-43D6-99E0-FB2FE6212E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52AB9-3AAD-4678-A5CF-51799FD2D074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6C5-B6D6-417B-9045-CCC9CC271C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57208-857D-44A2-80B2-F4AD8CA976BF}" type="datetime1">
              <a:rPr lang="en-US"/>
              <a:t>07/31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D8C-40B6-4D64-8D8E-935FDFC6E3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1FD76-A30A-46F2-8425-9A8C890DC377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F46-6D35-4483-876A-7374059CBA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E947D-47F8-45E0-ABDD-B903FF4DCC0E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C6D-2E62-4F45-BE31-5E47C02660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C2BC8-0400-4AAD-9F8F-15DBA5C744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16C-3EA7-4469-BC95-066A139B4E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EBCF5-D615-4B26-B175-779064DF892A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695-4565-423C-9EDF-4E3691BFE1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CB725-F9D5-4EC2-8CC1-B9B92A3729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234-4FD1-4DE2-A4B4-45FA0F7CA7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9BFD4-B994-4393-866E-60FEB65772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EEB-4758-4B5E-913F-28BFA63F78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490F3-EA3B-41F6-8F7B-551041511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14C-20D7-4A31-8592-CC9DCFDC26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80C70-87B1-4BB2-9FFF-3CBB6AA387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4E3-1579-4350-8396-A2006816770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E202C-BD5F-45CA-A01D-BEC0E994BB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ED0-6401-4178-BCD1-3C2E021CA1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7EDD4-218D-437C-86C9-2D089123C9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35E-F482-44EC-B8C2-897099CE2C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6A5F1-5EAD-4C23-9C45-E27C41928F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F26-F029-4FAD-8EB0-994AC776AC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D24A2-9819-4661-A538-BE65AC698A97}" type="datetime1">
              <a:rPr lang="en-US"/>
              <a:t>07/31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DF1-726D-4ACE-B6FA-D3C8421A57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B3C8D-C623-4551-860C-4BFBF46E62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57A-F1A8-49A6-BC9C-35E60C0C88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7020B-BB99-448A-A1D1-F5553E766D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7EE-129F-4EE3-87DF-3BCA215C3F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E45EB-79FA-4AA1-A4B6-F8EEB12777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3CF-376D-49DD-B820-8F791A814D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51D87-296C-4F32-8A4B-95A1164886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F3F-1544-41C2-A64D-D655A3D77A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54B52-483B-4292-8553-BA6A93612E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380-4AEA-4B61-9F4F-9C793C05D2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7F13D-40D0-4CCD-98EC-49E721E791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44E-BBE2-411C-8201-1AA93225B1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4CDCC-71E7-46E9-AF8D-FAD7475F0B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F27-D90D-4747-A1A9-4AB99F4173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FFE73-D0F3-48FC-9579-7A37863E22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