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59480" y="88423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CFE8469-C2BB-4EBC-BE1C-C8BC99BAB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8404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15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 from NEC article “A hardware overview of SX-6 and SX-7 supercomput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7720" y="152280"/>
            <a:ext cx="7162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362320" y="571680"/>
            <a:ext cx="441936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407360" y="38160"/>
            <a:ext cx="184788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r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 252 Feb. 27,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cture 12, Slide </a:t>
            </a:r>
            <a:fld id="{35C9735F-940F-455E-ACF8-29891462512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rste@mit.edu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9440" y="1219320"/>
            <a:ext cx="8037360" cy="116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ECS 252 Graduate Computer Architecture</a:t>
            </a:r>
            <a:br>
              <a:rPr sz="2800"/>
            </a:br>
            <a:br>
              <a:rPr sz="2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c. 12: Vector Compu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203720"/>
            <a:ext cx="817560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ste Asanov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Courier New"/>
                <a:hlinkClick r:id="rId1"/>
              </a:rPr>
              <a:t>krste@mit.ed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Science and Artificial Intelligence Labor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sachusetts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838080" y="152280"/>
            <a:ext cx="7162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Arithmetic Exec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2280" y="1543320"/>
            <a:ext cx="556272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deep pipeline (=&gt; fast clock) to execute element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ifies control of deep pipeline because elements in vector are independent (=&gt; no hazards!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477120" y="2971800"/>
            <a:ext cx="914400" cy="228600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6477120" y="3886200"/>
            <a:ext cx="993240" cy="76320"/>
            <a:chOff x="6477120" y="3886200"/>
            <a:chExt cx="993240" cy="76320"/>
          </a:xfrm>
        </p:grpSpPr>
        <p:sp>
          <p:nvSpPr>
            <p:cNvPr id="497" name=""/>
            <p:cNvSpPr/>
            <p:nvPr/>
          </p:nvSpPr>
          <p:spPr>
            <a:xfrm>
              <a:off x="6477120" y="38862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315200" y="38862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94400" y="39243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6477120" y="3124080"/>
            <a:ext cx="993240" cy="76320"/>
            <a:chOff x="6477120" y="3124080"/>
            <a:chExt cx="993240" cy="76320"/>
          </a:xfrm>
        </p:grpSpPr>
        <p:sp>
          <p:nvSpPr>
            <p:cNvPr id="501" name=""/>
            <p:cNvSpPr/>
            <p:nvPr/>
          </p:nvSpPr>
          <p:spPr>
            <a:xfrm>
              <a:off x="6477120" y="31240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315200" y="31240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394400" y="31622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477120" y="3505320"/>
            <a:ext cx="993240" cy="75960"/>
            <a:chOff x="6477120" y="3505320"/>
            <a:chExt cx="993240" cy="75960"/>
          </a:xfrm>
        </p:grpSpPr>
        <p:sp>
          <p:nvSpPr>
            <p:cNvPr id="505" name=""/>
            <p:cNvSpPr/>
            <p:nvPr/>
          </p:nvSpPr>
          <p:spPr>
            <a:xfrm>
              <a:off x="6477120" y="350532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315200" y="350532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394400" y="35431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7238880" y="266688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629400" y="266688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934320" y="2666880"/>
            <a:ext cx="761760" cy="2743200"/>
          </a:xfrm>
          <a:custGeom>
            <a:avLst/>
            <a:gdLst/>
            <a:ahLst/>
            <a:rect l="l" t="t" r="r" b="b"/>
            <a:pathLst>
              <a:path w="482" h="1584">
                <a:moveTo>
                  <a:pt x="0" y="1490"/>
                </a:moveTo>
                <a:lnTo>
                  <a:pt x="2" y="1584"/>
                </a:lnTo>
                <a:lnTo>
                  <a:pt x="482" y="1584"/>
                </a:lnTo>
                <a:lnTo>
                  <a:pt x="48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00800" y="1371600"/>
            <a:ext cx="457200" cy="1305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934320" y="1371600"/>
            <a:ext cx="457200" cy="1305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467480" y="1371600"/>
            <a:ext cx="457200" cy="1305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945400" y="563796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3 &lt;- v1 * 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6477120" y="5029200"/>
            <a:ext cx="993240" cy="76320"/>
            <a:chOff x="6477120" y="5029200"/>
            <a:chExt cx="993240" cy="76320"/>
          </a:xfrm>
        </p:grpSpPr>
        <p:sp>
          <p:nvSpPr>
            <p:cNvPr id="516" name=""/>
            <p:cNvSpPr/>
            <p:nvPr/>
          </p:nvSpPr>
          <p:spPr>
            <a:xfrm>
              <a:off x="6477120" y="50292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315200" y="50292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394400" y="50673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477120" y="4267080"/>
            <a:ext cx="993240" cy="76320"/>
            <a:chOff x="6477120" y="4267080"/>
            <a:chExt cx="993240" cy="76320"/>
          </a:xfrm>
        </p:grpSpPr>
        <p:sp>
          <p:nvSpPr>
            <p:cNvPr id="520" name=""/>
            <p:cNvSpPr/>
            <p:nvPr/>
          </p:nvSpPr>
          <p:spPr>
            <a:xfrm>
              <a:off x="6477120" y="42670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15200" y="42670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94400" y="43052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6477120" y="4648320"/>
            <a:ext cx="993240" cy="75960"/>
            <a:chOff x="6477120" y="4648320"/>
            <a:chExt cx="993240" cy="75960"/>
          </a:xfrm>
        </p:grpSpPr>
        <p:sp>
          <p:nvSpPr>
            <p:cNvPr id="524" name=""/>
            <p:cNvSpPr/>
            <p:nvPr/>
          </p:nvSpPr>
          <p:spPr>
            <a:xfrm>
              <a:off x="6477120" y="464832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464832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394400" y="46861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3733920" y="3962520"/>
            <a:ext cx="1828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742840" y="4495680"/>
            <a:ext cx="305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ix stage multiply pip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5715000" y="4343040"/>
            <a:ext cx="76212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83808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Memory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380880" y="2602800"/>
            <a:ext cx="8534520" cy="3721320"/>
            <a:chOff x="380880" y="2602800"/>
            <a:chExt cx="8534520" cy="3721320"/>
          </a:xfrm>
        </p:grpSpPr>
        <p:grpSp>
          <p:nvGrpSpPr>
            <p:cNvPr id="532" name=""/>
            <p:cNvGrpSpPr/>
            <p:nvPr/>
          </p:nvGrpSpPr>
          <p:grpSpPr>
            <a:xfrm>
              <a:off x="380880" y="3213360"/>
              <a:ext cx="7327800" cy="3008160"/>
              <a:chOff x="380880" y="3213360"/>
              <a:chExt cx="7327800" cy="3008160"/>
            </a:xfrm>
          </p:grpSpPr>
          <p:sp>
            <p:nvSpPr>
              <p:cNvPr id="533" name=""/>
              <p:cNvSpPr/>
              <p:nvPr/>
            </p:nvSpPr>
            <p:spPr>
              <a:xfrm>
                <a:off x="380880" y="4889880"/>
                <a:ext cx="46332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442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3014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7586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209680" y="4889880"/>
                <a:ext cx="46332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6730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1302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5874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038480" y="4889880"/>
                <a:ext cx="46332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5018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9590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4162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867280" y="4889880"/>
                <a:ext cx="46332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306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7878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450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9" name=""/>
              <p:cNvGrpSpPr/>
              <p:nvPr/>
            </p:nvGrpSpPr>
            <p:grpSpPr>
              <a:xfrm>
                <a:off x="3587400" y="4051440"/>
                <a:ext cx="993960" cy="76320"/>
                <a:chOff x="3587400" y="4051440"/>
                <a:chExt cx="993960" cy="7632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3587400" y="405144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425840" y="405144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4505040" y="408960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3" name=""/>
              <p:cNvSpPr/>
              <p:nvPr/>
            </p:nvSpPr>
            <p:spPr>
              <a:xfrm flipV="1">
                <a:off x="615600" y="4127400"/>
                <a:ext cx="33530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1149120" y="4127400"/>
                <a:ext cx="28195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1530000" y="4127400"/>
                <a:ext cx="24386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1987200" y="4127400"/>
                <a:ext cx="19814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2444400" y="4127400"/>
                <a:ext cx="15242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2901600" y="4127400"/>
                <a:ext cx="10670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V="1">
                <a:off x="3358800" y="4127400"/>
                <a:ext cx="6098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3816000" y="4127400"/>
                <a:ext cx="1526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 flipV="1">
                <a:off x="3968640" y="4127400"/>
                <a:ext cx="3045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 flipV="1">
                <a:off x="3968640" y="4127400"/>
                <a:ext cx="7617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 flipV="1">
                <a:off x="3968640" y="4127400"/>
                <a:ext cx="12189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 flipV="1">
                <a:off x="3968640" y="4127400"/>
                <a:ext cx="16761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 flipV="1">
                <a:off x="3968640" y="4127400"/>
                <a:ext cx="21333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 flipV="1">
                <a:off x="3968640" y="4127400"/>
                <a:ext cx="25905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 flipV="1">
                <a:off x="3968640" y="4127400"/>
                <a:ext cx="30477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 flipV="1">
                <a:off x="3968640" y="4127400"/>
                <a:ext cx="35049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968640" y="321336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7696080" y="3670560"/>
              <a:ext cx="914400" cy="380880"/>
            </a:xfrm>
            <a:custGeom>
              <a:avLst/>
              <a:gdLst/>
              <a:ahLst/>
              <a:rect l="l" t="t" r="r" b="b"/>
              <a:pathLst>
                <a:path w="576" h="672">
                  <a:moveTo>
                    <a:pt x="0" y="0"/>
                  </a:moveTo>
                  <a:lnTo>
                    <a:pt x="144" y="672"/>
                  </a:lnTo>
                  <a:lnTo>
                    <a:pt x="450" y="672"/>
                  </a:lnTo>
                  <a:lnTo>
                    <a:pt x="576" y="0"/>
                  </a:lnTo>
                  <a:lnTo>
                    <a:pt x="336" y="0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153280" y="4051440"/>
              <a:ext cx="14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7543800" y="3365640"/>
              <a:ext cx="536400" cy="76320"/>
              <a:chOff x="7543800" y="3365640"/>
              <a:chExt cx="536400" cy="76320"/>
            </a:xfrm>
          </p:grpSpPr>
          <p:sp>
            <p:nvSpPr>
              <p:cNvPr id="573" name=""/>
              <p:cNvSpPr/>
              <p:nvPr/>
            </p:nvSpPr>
            <p:spPr>
              <a:xfrm>
                <a:off x="7543800" y="3365640"/>
                <a:ext cx="493560" cy="76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996320" y="3365640"/>
                <a:ext cx="40680" cy="7632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96"/>
                    </a:moveTo>
                    <a:lnTo>
                      <a:pt x="0" y="48"/>
                    </a:lnTo>
                    <a:lnTo>
                      <a:pt x="48" y="0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039160" y="3403800"/>
                <a:ext cx="41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8229600" y="3365640"/>
              <a:ext cx="536400" cy="76320"/>
              <a:chOff x="8229600" y="3365640"/>
              <a:chExt cx="536400" cy="76320"/>
            </a:xfrm>
          </p:grpSpPr>
          <p:sp>
            <p:nvSpPr>
              <p:cNvPr id="577" name=""/>
              <p:cNvSpPr/>
              <p:nvPr/>
            </p:nvSpPr>
            <p:spPr>
              <a:xfrm>
                <a:off x="8229600" y="3365640"/>
                <a:ext cx="493560" cy="76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8682120" y="3365640"/>
                <a:ext cx="40680" cy="7632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96"/>
                    </a:moveTo>
                    <a:lnTo>
                      <a:pt x="0" y="48"/>
                    </a:lnTo>
                    <a:lnTo>
                      <a:pt x="48" y="0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24960" y="3403800"/>
                <a:ext cx="41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 flipH="1">
              <a:off x="7848000" y="3441960"/>
              <a:ext cx="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458200" y="3441960"/>
              <a:ext cx="14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001000" y="3593520"/>
              <a:ext cx="39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7924680" y="4280040"/>
              <a:ext cx="536400" cy="76320"/>
              <a:chOff x="7924680" y="4280040"/>
              <a:chExt cx="536400" cy="76320"/>
            </a:xfrm>
          </p:grpSpPr>
          <p:sp>
            <p:nvSpPr>
              <p:cNvPr id="584" name=""/>
              <p:cNvSpPr/>
              <p:nvPr/>
            </p:nvSpPr>
            <p:spPr>
              <a:xfrm>
                <a:off x="7924680" y="4280040"/>
                <a:ext cx="493560" cy="76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377200" y="4280040"/>
                <a:ext cx="40680" cy="7632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96"/>
                    </a:moveTo>
                    <a:lnTo>
                      <a:pt x="0" y="48"/>
                    </a:lnTo>
                    <a:lnTo>
                      <a:pt x="48" y="0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420040" y="4318200"/>
                <a:ext cx="41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7238880" y="3213360"/>
              <a:ext cx="914400" cy="914400"/>
            </a:xfrm>
            <a:custGeom>
              <a:avLst/>
              <a:gdLst/>
              <a:ahLst/>
              <a:rect l="l" t="t" r="r" b="b"/>
              <a:pathLst>
                <a:path w="576" h="576">
                  <a:moveTo>
                    <a:pt x="576" y="576"/>
                  </a:moveTo>
                  <a:lnTo>
                    <a:pt x="0" y="576"/>
                  </a:lnTo>
                  <a:lnTo>
                    <a:pt x="0" y="0"/>
                  </a:lnTo>
                  <a:lnTo>
                    <a:pt x="288" y="0"/>
                  </a:lnTo>
                  <a:lnTo>
                    <a:pt x="288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924680" y="2908440"/>
              <a:ext cx="14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458200" y="2908440"/>
              <a:ext cx="14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391160" y="2602800"/>
              <a:ext cx="73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076960" y="26028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tr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696080" y="4356360"/>
              <a:ext cx="457200" cy="1218960"/>
            </a:xfrm>
            <a:custGeom>
              <a:avLst/>
              <a:gdLst/>
              <a:ahLst/>
              <a:rect l="l" t="t" r="r" b="b"/>
              <a:pathLst>
                <a:path w="288" h="768">
                  <a:moveTo>
                    <a:pt x="288" y="0"/>
                  </a:moveTo>
                  <a:lnTo>
                    <a:pt x="288" y="768"/>
                  </a:lnTo>
                  <a:lnTo>
                    <a:pt x="0" y="76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74680" y="2755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Vector Regis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126960" y="5955840"/>
              <a:ext cx="180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mory Ban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867280" y="336528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ddress Gen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280800" y="1234800"/>
            <a:ext cx="858564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ay-1, 16 banks, 4 cycle bank busy time, 12 cycle la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ank busy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Cycles between accesses to same 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Instruction Execu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973600" y="8373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V C,A,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762120" y="1295280"/>
            <a:ext cx="2743200" cy="4833000"/>
            <a:chOff x="762120" y="1295280"/>
            <a:chExt cx="2743200" cy="4833000"/>
          </a:xfrm>
        </p:grpSpPr>
        <p:grpSp>
          <p:nvGrpSpPr>
            <p:cNvPr id="600" name=""/>
            <p:cNvGrpSpPr/>
            <p:nvPr/>
          </p:nvGrpSpPr>
          <p:grpSpPr>
            <a:xfrm>
              <a:off x="1049040" y="2971440"/>
              <a:ext cx="1259640" cy="3156840"/>
              <a:chOff x="1049040" y="2971440"/>
              <a:chExt cx="1259640" cy="3156840"/>
            </a:xfrm>
          </p:grpSpPr>
          <p:sp>
            <p:nvSpPr>
              <p:cNvPr id="601" name=""/>
              <p:cNvSpPr/>
              <p:nvPr/>
            </p:nvSpPr>
            <p:spPr>
              <a:xfrm>
                <a:off x="1274760" y="449604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2" name=""/>
              <p:cNvGrpSpPr/>
              <p:nvPr/>
            </p:nvGrpSpPr>
            <p:grpSpPr>
              <a:xfrm>
                <a:off x="1274760" y="5410440"/>
                <a:ext cx="993960" cy="75960"/>
                <a:chOff x="1274760" y="5410440"/>
                <a:chExt cx="993960" cy="759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1274760" y="5410440"/>
                  <a:ext cx="91440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2113200" y="541044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2192400" y="544824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1274760" y="4648320"/>
                <a:ext cx="993960" cy="76320"/>
                <a:chOff x="1274760" y="4648320"/>
                <a:chExt cx="993960" cy="7632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1274760" y="464832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113200" y="464832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2192400" y="468648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1274760" y="5029200"/>
                <a:ext cx="993960" cy="76320"/>
                <a:chOff x="1274760" y="5029200"/>
                <a:chExt cx="993960" cy="7632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1274760" y="502920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2113200" y="50292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2192400" y="506736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4" name=""/>
              <p:cNvSpPr/>
              <p:nvPr/>
            </p:nvSpPr>
            <p:spPr>
              <a:xfrm>
                <a:off x="1429920" y="5028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429920" y="4647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429920" y="5790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731960" y="556272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03688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42740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049040" y="3885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734840" y="3885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049040" y="358128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734840" y="358128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049040" y="32763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734840" y="32763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049040" y="29714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734840" y="29714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 flipH="1">
              <a:off x="1828440" y="1295280"/>
              <a:ext cx="1600200" cy="167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62120" y="1432440"/>
              <a:ext cx="2743200" cy="11653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Execution using one pipelined functional un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3203280" y="1295280"/>
            <a:ext cx="5334120" cy="4833000"/>
            <a:chOff x="3203280" y="1295280"/>
            <a:chExt cx="5334120" cy="4833000"/>
          </a:xfrm>
        </p:grpSpPr>
        <p:grpSp>
          <p:nvGrpSpPr>
            <p:cNvPr id="631" name=""/>
            <p:cNvGrpSpPr/>
            <p:nvPr/>
          </p:nvGrpSpPr>
          <p:grpSpPr>
            <a:xfrm>
              <a:off x="3203280" y="2971440"/>
              <a:ext cx="1372320" cy="3156840"/>
              <a:chOff x="3203280" y="2971440"/>
              <a:chExt cx="1372320" cy="3156840"/>
            </a:xfrm>
          </p:grpSpPr>
          <p:sp>
            <p:nvSpPr>
              <p:cNvPr id="632" name=""/>
              <p:cNvSpPr/>
              <p:nvPr/>
            </p:nvSpPr>
            <p:spPr>
              <a:xfrm>
                <a:off x="3484440" y="449604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3" name=""/>
              <p:cNvGrpSpPr/>
              <p:nvPr/>
            </p:nvGrpSpPr>
            <p:grpSpPr>
              <a:xfrm>
                <a:off x="3484440" y="5410440"/>
                <a:ext cx="993960" cy="75960"/>
                <a:chOff x="3484440" y="5410440"/>
                <a:chExt cx="993960" cy="7596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3484440" y="5410440"/>
                  <a:ext cx="91440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322880" y="541044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4402080" y="544824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3484440" y="4648320"/>
                <a:ext cx="993960" cy="76320"/>
                <a:chOff x="3484440" y="4648320"/>
                <a:chExt cx="993960" cy="7632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3484440" y="464832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4322880" y="464832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402080" y="468648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3484440" y="5029200"/>
                <a:ext cx="993960" cy="76320"/>
                <a:chOff x="3484440" y="5029200"/>
                <a:chExt cx="993960" cy="7632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3484440" y="502920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322880" y="50292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402080" y="506736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5" name=""/>
              <p:cNvSpPr/>
              <p:nvPr/>
            </p:nvSpPr>
            <p:spPr>
              <a:xfrm>
                <a:off x="3639600" y="5028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639600" y="4647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8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639600" y="5790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941640" y="556272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24656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63708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20328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88908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20328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88908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20328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88908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20328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88908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4574880" y="2971440"/>
              <a:ext cx="1372320" cy="3156840"/>
              <a:chOff x="4574880" y="2971440"/>
              <a:chExt cx="1372320" cy="3156840"/>
            </a:xfrm>
          </p:grpSpPr>
          <p:sp>
            <p:nvSpPr>
              <p:cNvPr id="660" name=""/>
              <p:cNvSpPr/>
              <p:nvPr/>
            </p:nvSpPr>
            <p:spPr>
              <a:xfrm>
                <a:off x="4856040" y="449604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1" name=""/>
              <p:cNvGrpSpPr/>
              <p:nvPr/>
            </p:nvGrpSpPr>
            <p:grpSpPr>
              <a:xfrm>
                <a:off x="4856040" y="5410440"/>
                <a:ext cx="993960" cy="75960"/>
                <a:chOff x="4856040" y="5410440"/>
                <a:chExt cx="993960" cy="7596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4856040" y="5410440"/>
                  <a:ext cx="91440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694480" y="541044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773680" y="544824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4856040" y="4648320"/>
                <a:ext cx="993960" cy="76320"/>
                <a:chOff x="4856040" y="4648320"/>
                <a:chExt cx="993960" cy="7632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4856040" y="464832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694480" y="464832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5773680" y="468648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4856040" y="5029200"/>
                <a:ext cx="993960" cy="76320"/>
                <a:chOff x="4856040" y="5029200"/>
                <a:chExt cx="993960" cy="7632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4856040" y="502920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694480" y="50292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773680" y="506736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3" name=""/>
              <p:cNvSpPr/>
              <p:nvPr/>
            </p:nvSpPr>
            <p:spPr>
              <a:xfrm>
                <a:off x="5011200" y="5028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011200" y="4647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9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011200" y="5790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313240" y="556272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61816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00868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57488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26068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57488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26068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57488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26068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57488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26068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5870160" y="2971440"/>
              <a:ext cx="1372320" cy="3156840"/>
              <a:chOff x="5870160" y="2971440"/>
              <a:chExt cx="1372320" cy="3156840"/>
            </a:xfrm>
          </p:grpSpPr>
          <p:sp>
            <p:nvSpPr>
              <p:cNvPr id="688" name=""/>
              <p:cNvSpPr/>
              <p:nvPr/>
            </p:nvSpPr>
            <p:spPr>
              <a:xfrm>
                <a:off x="6151320" y="449604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9" name=""/>
              <p:cNvGrpSpPr/>
              <p:nvPr/>
            </p:nvGrpSpPr>
            <p:grpSpPr>
              <a:xfrm>
                <a:off x="6151320" y="5410440"/>
                <a:ext cx="993960" cy="75960"/>
                <a:chOff x="6151320" y="5410440"/>
                <a:chExt cx="993960" cy="7596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6151320" y="5410440"/>
                  <a:ext cx="91440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989760" y="541044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7068960" y="544824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3" name=""/>
              <p:cNvGrpSpPr/>
              <p:nvPr/>
            </p:nvGrpSpPr>
            <p:grpSpPr>
              <a:xfrm>
                <a:off x="6151320" y="4648320"/>
                <a:ext cx="993960" cy="76320"/>
                <a:chOff x="6151320" y="4648320"/>
                <a:chExt cx="993960" cy="7632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6151320" y="464832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989760" y="464832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7068960" y="468648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151320" y="5029200"/>
                <a:ext cx="993960" cy="76320"/>
                <a:chOff x="6151320" y="5029200"/>
                <a:chExt cx="993960" cy="763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151320" y="502920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989760" y="50292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7068960" y="506736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1" name=""/>
              <p:cNvSpPr/>
              <p:nvPr/>
            </p:nvSpPr>
            <p:spPr>
              <a:xfrm>
                <a:off x="6306480" y="5028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251040" y="46479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1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306480" y="5790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608520" y="556272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91344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30396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87016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55596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87016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8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55596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8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87016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55596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87016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55596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7165440" y="2971440"/>
              <a:ext cx="1371960" cy="3156840"/>
              <a:chOff x="7165440" y="2971440"/>
              <a:chExt cx="1371960" cy="3156840"/>
            </a:xfrm>
          </p:grpSpPr>
          <p:sp>
            <p:nvSpPr>
              <p:cNvPr id="716" name=""/>
              <p:cNvSpPr/>
              <p:nvPr/>
            </p:nvSpPr>
            <p:spPr>
              <a:xfrm>
                <a:off x="7446600" y="4496040"/>
                <a:ext cx="91404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7" name=""/>
              <p:cNvGrpSpPr/>
              <p:nvPr/>
            </p:nvGrpSpPr>
            <p:grpSpPr>
              <a:xfrm>
                <a:off x="7446600" y="5410440"/>
                <a:ext cx="993240" cy="75960"/>
                <a:chOff x="7446600" y="5410440"/>
                <a:chExt cx="993240" cy="7596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7446600" y="5410440"/>
                  <a:ext cx="91404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8284680" y="5410440"/>
                  <a:ext cx="7560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8363880" y="5448240"/>
                  <a:ext cx="759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7446600" y="4648320"/>
                <a:ext cx="993240" cy="76320"/>
                <a:chOff x="7446600" y="4648320"/>
                <a:chExt cx="993240" cy="763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7446600" y="4648320"/>
                  <a:ext cx="91404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8284680" y="4648320"/>
                  <a:ext cx="7560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8363880" y="4686480"/>
                  <a:ext cx="759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" name=""/>
              <p:cNvGrpSpPr/>
              <p:nvPr/>
            </p:nvGrpSpPr>
            <p:grpSpPr>
              <a:xfrm>
                <a:off x="7446600" y="5029200"/>
                <a:ext cx="993240" cy="76320"/>
                <a:chOff x="7446600" y="5029200"/>
                <a:chExt cx="993240" cy="7632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7446600" y="5029200"/>
                  <a:ext cx="91404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8284680" y="5029200"/>
                  <a:ext cx="7560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8363880" y="5067360"/>
                  <a:ext cx="759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9" name=""/>
              <p:cNvSpPr/>
              <p:nvPr/>
            </p:nvSpPr>
            <p:spPr>
              <a:xfrm>
                <a:off x="7601760" y="5028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545960" y="46479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1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01760" y="5790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903800" y="556272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20872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59924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16544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85088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16544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9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85088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9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16544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85088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16544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85088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" name=""/>
            <p:cNvSpPr/>
            <p:nvPr/>
          </p:nvSpPr>
          <p:spPr>
            <a:xfrm>
              <a:off x="4343400" y="1295280"/>
              <a:ext cx="1447920" cy="160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3657600" y="1432440"/>
              <a:ext cx="2743200" cy="11653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Execution using four pipelined functional un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Unit Stru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828800" y="4267080"/>
            <a:ext cx="914400" cy="106704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1828800" y="5181480"/>
            <a:ext cx="993240" cy="76320"/>
            <a:chOff x="1828800" y="5181480"/>
            <a:chExt cx="993240" cy="76320"/>
          </a:xfrm>
        </p:grpSpPr>
        <p:sp>
          <p:nvSpPr>
            <p:cNvPr id="748" name=""/>
            <p:cNvSpPr/>
            <p:nvPr/>
          </p:nvSpPr>
          <p:spPr>
            <a:xfrm>
              <a:off x="1828800" y="51814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66880" y="51814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46080" y="52196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1828800" y="4419720"/>
            <a:ext cx="993240" cy="75960"/>
            <a:chOff x="1828800" y="4419720"/>
            <a:chExt cx="993240" cy="75960"/>
          </a:xfrm>
        </p:grpSpPr>
        <p:sp>
          <p:nvSpPr>
            <p:cNvPr id="752" name=""/>
            <p:cNvSpPr/>
            <p:nvPr/>
          </p:nvSpPr>
          <p:spPr>
            <a:xfrm>
              <a:off x="1828800" y="441972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666880" y="441972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746080" y="44575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1828800" y="4800600"/>
            <a:ext cx="993240" cy="76320"/>
            <a:chOff x="1828800" y="4800600"/>
            <a:chExt cx="993240" cy="76320"/>
          </a:xfrm>
        </p:grpSpPr>
        <p:sp>
          <p:nvSpPr>
            <p:cNvPr id="756" name=""/>
            <p:cNvSpPr/>
            <p:nvPr/>
          </p:nvSpPr>
          <p:spPr>
            <a:xfrm>
              <a:off x="1828800" y="48006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666880" y="48006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746080" y="48387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59092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98108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1828800" y="1675800"/>
            <a:ext cx="914400" cy="10666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1828800" y="1752480"/>
            <a:ext cx="993240" cy="76320"/>
            <a:chOff x="1828800" y="1752480"/>
            <a:chExt cx="993240" cy="76320"/>
          </a:xfrm>
        </p:grpSpPr>
        <p:sp>
          <p:nvSpPr>
            <p:cNvPr id="763" name=""/>
            <p:cNvSpPr/>
            <p:nvPr/>
          </p:nvSpPr>
          <p:spPr>
            <a:xfrm flipV="1">
              <a:off x="1828800" y="17524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2666880" y="17524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746080" y="17906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1828800" y="2514600"/>
            <a:ext cx="993240" cy="76320"/>
            <a:chOff x="1828800" y="2514600"/>
            <a:chExt cx="993240" cy="76320"/>
          </a:xfrm>
        </p:grpSpPr>
        <p:sp>
          <p:nvSpPr>
            <p:cNvPr id="767" name=""/>
            <p:cNvSpPr/>
            <p:nvPr/>
          </p:nvSpPr>
          <p:spPr>
            <a:xfrm flipV="1">
              <a:off x="1828800" y="25146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2666880" y="25146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746080" y="25527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1828800" y="2133360"/>
            <a:ext cx="993240" cy="75960"/>
            <a:chOff x="1828800" y="2133360"/>
            <a:chExt cx="993240" cy="75960"/>
          </a:xfrm>
        </p:grpSpPr>
        <p:sp>
          <p:nvSpPr>
            <p:cNvPr id="771" name=""/>
            <p:cNvSpPr/>
            <p:nvPr/>
          </p:nvSpPr>
          <p:spPr>
            <a:xfrm flipV="1">
              <a:off x="1828800" y="213300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2666880" y="213300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746080" y="21715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4" name=""/>
          <p:cNvSpPr/>
          <p:nvPr/>
        </p:nvSpPr>
        <p:spPr>
          <a:xfrm flipV="1">
            <a:off x="259092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198108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523880" y="2971800"/>
            <a:ext cx="1524240" cy="1066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286000" y="40384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2286000" y="15238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160020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75248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733920" y="4267080"/>
            <a:ext cx="914400" cy="106704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3733920" y="5181480"/>
            <a:ext cx="993240" cy="76320"/>
            <a:chOff x="3733920" y="5181480"/>
            <a:chExt cx="993240" cy="76320"/>
          </a:xfrm>
        </p:grpSpPr>
        <p:sp>
          <p:nvSpPr>
            <p:cNvPr id="783" name=""/>
            <p:cNvSpPr/>
            <p:nvPr/>
          </p:nvSpPr>
          <p:spPr>
            <a:xfrm>
              <a:off x="3733920" y="51814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572000" y="51814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651200" y="52196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3733920" y="4419720"/>
            <a:ext cx="993240" cy="75960"/>
            <a:chOff x="3733920" y="4419720"/>
            <a:chExt cx="993240" cy="75960"/>
          </a:xfrm>
        </p:grpSpPr>
        <p:sp>
          <p:nvSpPr>
            <p:cNvPr id="787" name=""/>
            <p:cNvSpPr/>
            <p:nvPr/>
          </p:nvSpPr>
          <p:spPr>
            <a:xfrm>
              <a:off x="3733920" y="441972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572000" y="441972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651200" y="44575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3733920" y="4800600"/>
            <a:ext cx="993240" cy="76320"/>
            <a:chOff x="3733920" y="4800600"/>
            <a:chExt cx="993240" cy="76320"/>
          </a:xfrm>
        </p:grpSpPr>
        <p:sp>
          <p:nvSpPr>
            <p:cNvPr id="791" name=""/>
            <p:cNvSpPr/>
            <p:nvPr/>
          </p:nvSpPr>
          <p:spPr>
            <a:xfrm>
              <a:off x="3733920" y="48006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572000" y="48006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651200" y="48387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449568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88620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3733920" y="1675800"/>
            <a:ext cx="914400" cy="10666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3733920" y="1752480"/>
            <a:ext cx="993240" cy="76320"/>
            <a:chOff x="3733920" y="1752480"/>
            <a:chExt cx="993240" cy="76320"/>
          </a:xfrm>
        </p:grpSpPr>
        <p:sp>
          <p:nvSpPr>
            <p:cNvPr id="798" name=""/>
            <p:cNvSpPr/>
            <p:nvPr/>
          </p:nvSpPr>
          <p:spPr>
            <a:xfrm flipV="1">
              <a:off x="3733920" y="17524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4572000" y="17524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651200" y="17906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3733920" y="2514600"/>
            <a:ext cx="993240" cy="76320"/>
            <a:chOff x="3733920" y="2514600"/>
            <a:chExt cx="993240" cy="76320"/>
          </a:xfrm>
        </p:grpSpPr>
        <p:sp>
          <p:nvSpPr>
            <p:cNvPr id="802" name=""/>
            <p:cNvSpPr/>
            <p:nvPr/>
          </p:nvSpPr>
          <p:spPr>
            <a:xfrm flipV="1">
              <a:off x="3733920" y="25146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4572000" y="25146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651200" y="25527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3733920" y="2133360"/>
            <a:ext cx="993240" cy="75960"/>
            <a:chOff x="3733920" y="2133360"/>
            <a:chExt cx="993240" cy="75960"/>
          </a:xfrm>
        </p:grpSpPr>
        <p:sp>
          <p:nvSpPr>
            <p:cNvPr id="806" name=""/>
            <p:cNvSpPr/>
            <p:nvPr/>
          </p:nvSpPr>
          <p:spPr>
            <a:xfrm flipV="1">
              <a:off x="3733920" y="213300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4572000" y="213300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651200" y="21715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9" name=""/>
          <p:cNvSpPr/>
          <p:nvPr/>
        </p:nvSpPr>
        <p:spPr>
          <a:xfrm flipV="1">
            <a:off x="449568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388620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429000" y="2971800"/>
            <a:ext cx="1523880" cy="1066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191120" y="40384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4191120" y="15238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350532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65760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638680" y="4267080"/>
            <a:ext cx="914400" cy="106704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5638680" y="5181480"/>
            <a:ext cx="993960" cy="76320"/>
            <a:chOff x="5638680" y="5181480"/>
            <a:chExt cx="993960" cy="76320"/>
          </a:xfrm>
        </p:grpSpPr>
        <p:sp>
          <p:nvSpPr>
            <p:cNvPr id="818" name=""/>
            <p:cNvSpPr/>
            <p:nvPr/>
          </p:nvSpPr>
          <p:spPr>
            <a:xfrm>
              <a:off x="5638680" y="5181480"/>
              <a:ext cx="9144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477120" y="518148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556320" y="521964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5638680" y="4419720"/>
            <a:ext cx="993960" cy="75960"/>
            <a:chOff x="5638680" y="4419720"/>
            <a:chExt cx="993960" cy="75960"/>
          </a:xfrm>
        </p:grpSpPr>
        <p:sp>
          <p:nvSpPr>
            <p:cNvPr id="822" name=""/>
            <p:cNvSpPr/>
            <p:nvPr/>
          </p:nvSpPr>
          <p:spPr>
            <a:xfrm>
              <a:off x="5638680" y="4419720"/>
              <a:ext cx="9144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477120" y="441972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556320" y="445752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5638680" y="4800600"/>
            <a:ext cx="993960" cy="76320"/>
            <a:chOff x="5638680" y="4800600"/>
            <a:chExt cx="993960" cy="76320"/>
          </a:xfrm>
        </p:grpSpPr>
        <p:sp>
          <p:nvSpPr>
            <p:cNvPr id="826" name=""/>
            <p:cNvSpPr/>
            <p:nvPr/>
          </p:nvSpPr>
          <p:spPr>
            <a:xfrm>
              <a:off x="5638680" y="4800600"/>
              <a:ext cx="9144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477120" y="48006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556320" y="483876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640080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79132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5638680" y="1675800"/>
            <a:ext cx="914400" cy="10666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5638680" y="1752480"/>
            <a:ext cx="993960" cy="76320"/>
            <a:chOff x="5638680" y="1752480"/>
            <a:chExt cx="993960" cy="76320"/>
          </a:xfrm>
        </p:grpSpPr>
        <p:sp>
          <p:nvSpPr>
            <p:cNvPr id="833" name=""/>
            <p:cNvSpPr/>
            <p:nvPr/>
          </p:nvSpPr>
          <p:spPr>
            <a:xfrm flipV="1">
              <a:off x="5638680" y="1752480"/>
              <a:ext cx="9144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6477120" y="175248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6320" y="179064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5638680" y="2514600"/>
            <a:ext cx="993960" cy="76320"/>
            <a:chOff x="5638680" y="2514600"/>
            <a:chExt cx="993960" cy="76320"/>
          </a:xfrm>
        </p:grpSpPr>
        <p:sp>
          <p:nvSpPr>
            <p:cNvPr id="837" name=""/>
            <p:cNvSpPr/>
            <p:nvPr/>
          </p:nvSpPr>
          <p:spPr>
            <a:xfrm flipV="1">
              <a:off x="5638680" y="2514600"/>
              <a:ext cx="9144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6477120" y="25146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556320" y="255276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5638680" y="2133360"/>
            <a:ext cx="993960" cy="75960"/>
            <a:chOff x="5638680" y="2133360"/>
            <a:chExt cx="993960" cy="75960"/>
          </a:xfrm>
        </p:grpSpPr>
        <p:sp>
          <p:nvSpPr>
            <p:cNvPr id="841" name=""/>
            <p:cNvSpPr/>
            <p:nvPr/>
          </p:nvSpPr>
          <p:spPr>
            <a:xfrm flipV="1">
              <a:off x="5638680" y="2133000"/>
              <a:ext cx="9144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6477120" y="213300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556320" y="217152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4" name=""/>
          <p:cNvSpPr/>
          <p:nvPr/>
        </p:nvSpPr>
        <p:spPr>
          <a:xfrm flipV="1">
            <a:off x="640080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579132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334120" y="2971800"/>
            <a:ext cx="1523880" cy="1066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095880" y="40384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6095880" y="15238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541008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56272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543800" y="4267080"/>
            <a:ext cx="914400" cy="106704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7543800" y="5181480"/>
            <a:ext cx="993240" cy="76320"/>
            <a:chOff x="7543800" y="5181480"/>
            <a:chExt cx="993240" cy="76320"/>
          </a:xfrm>
        </p:grpSpPr>
        <p:sp>
          <p:nvSpPr>
            <p:cNvPr id="853" name=""/>
            <p:cNvSpPr/>
            <p:nvPr/>
          </p:nvSpPr>
          <p:spPr>
            <a:xfrm>
              <a:off x="7543800" y="51814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381880" y="51814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461080" y="52196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7543800" y="4419720"/>
            <a:ext cx="993240" cy="75960"/>
            <a:chOff x="7543800" y="4419720"/>
            <a:chExt cx="993240" cy="75960"/>
          </a:xfrm>
        </p:grpSpPr>
        <p:sp>
          <p:nvSpPr>
            <p:cNvPr id="857" name=""/>
            <p:cNvSpPr/>
            <p:nvPr/>
          </p:nvSpPr>
          <p:spPr>
            <a:xfrm>
              <a:off x="7543800" y="441972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381880" y="441972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461080" y="44575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7543800" y="4800600"/>
            <a:ext cx="993240" cy="76320"/>
            <a:chOff x="7543800" y="4800600"/>
            <a:chExt cx="993240" cy="76320"/>
          </a:xfrm>
        </p:grpSpPr>
        <p:sp>
          <p:nvSpPr>
            <p:cNvPr id="861" name=""/>
            <p:cNvSpPr/>
            <p:nvPr/>
          </p:nvSpPr>
          <p:spPr>
            <a:xfrm>
              <a:off x="7543800" y="48006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381880" y="48006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461080" y="48387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830592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69608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7543800" y="1675800"/>
            <a:ext cx="914400" cy="10666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7543800" y="1752480"/>
            <a:ext cx="993240" cy="76320"/>
            <a:chOff x="7543800" y="1752480"/>
            <a:chExt cx="993240" cy="76320"/>
          </a:xfrm>
        </p:grpSpPr>
        <p:sp>
          <p:nvSpPr>
            <p:cNvPr id="868" name=""/>
            <p:cNvSpPr/>
            <p:nvPr/>
          </p:nvSpPr>
          <p:spPr>
            <a:xfrm flipV="1">
              <a:off x="7543800" y="17524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8381880" y="17524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461080" y="17906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7543800" y="2514600"/>
            <a:ext cx="993240" cy="76320"/>
            <a:chOff x="7543800" y="2514600"/>
            <a:chExt cx="993240" cy="76320"/>
          </a:xfrm>
        </p:grpSpPr>
        <p:sp>
          <p:nvSpPr>
            <p:cNvPr id="872" name=""/>
            <p:cNvSpPr/>
            <p:nvPr/>
          </p:nvSpPr>
          <p:spPr>
            <a:xfrm flipV="1">
              <a:off x="7543800" y="25146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8381880" y="25146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461080" y="25527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7543800" y="2133360"/>
            <a:ext cx="993240" cy="75960"/>
            <a:chOff x="7543800" y="2133360"/>
            <a:chExt cx="993240" cy="75960"/>
          </a:xfrm>
        </p:grpSpPr>
        <p:sp>
          <p:nvSpPr>
            <p:cNvPr id="876" name=""/>
            <p:cNvSpPr/>
            <p:nvPr/>
          </p:nvSpPr>
          <p:spPr>
            <a:xfrm flipV="1">
              <a:off x="7543800" y="213300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8381880" y="213300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461080" y="21715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 flipV="1">
            <a:off x="830592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769608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238880" y="2971800"/>
            <a:ext cx="1524240" cy="1066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001000" y="40384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V="1">
            <a:off x="8001000" y="15238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731520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46748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53000" y="1295280"/>
            <a:ext cx="3047400" cy="4436640"/>
            <a:chOff x="153000" y="1295280"/>
            <a:chExt cx="3047400" cy="4436640"/>
          </a:xfrm>
        </p:grpSpPr>
        <p:sp>
          <p:nvSpPr>
            <p:cNvPr id="887" name=""/>
            <p:cNvSpPr/>
            <p:nvPr/>
          </p:nvSpPr>
          <p:spPr>
            <a:xfrm>
              <a:off x="1371600" y="1295280"/>
              <a:ext cx="1828800" cy="434340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4343400"/>
                <a:gd name="textAreaBottom" fmla="*/ 4254120 h 4343400"/>
              </a:gdLst>
              <a:ahLst/>
              <a:rect l="textAreaLeft" t="textAreaTop" r="textAreaRight" b="textAreaBottom"/>
              <a:pathLst>
                <a:path w="21600" h="51294">
                  <a:moveTo>
                    <a:pt x="3600" y="0"/>
                  </a:moveTo>
                  <a:arcTo wR="3600" hR="3600" stAng="16200000" swAng="-5400000"/>
                  <a:lnTo>
                    <a:pt x="0" y="47694"/>
                  </a:lnTo>
                  <a:arcTo wR="3600" hR="3600" stAng="10800000" swAng="-5400000"/>
                  <a:lnTo>
                    <a:pt x="18000" y="512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914040" y="5257800"/>
              <a:ext cx="453960" cy="2412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53000" y="5333040"/>
              <a:ext cx="77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c0128"/>
                  </a:solidFill>
                  <a:latin typeface="Arial"/>
                </a:rPr>
                <a:t>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1523880" y="989640"/>
            <a:ext cx="7391520" cy="1829880"/>
            <a:chOff x="1523880" y="989640"/>
            <a:chExt cx="7391520" cy="1829880"/>
          </a:xfrm>
        </p:grpSpPr>
        <p:sp>
          <p:nvSpPr>
            <p:cNvPr id="891" name=""/>
            <p:cNvSpPr/>
            <p:nvPr/>
          </p:nvSpPr>
          <p:spPr>
            <a:xfrm>
              <a:off x="1523880" y="1447920"/>
              <a:ext cx="7391520" cy="13716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5562720" y="1218960"/>
              <a:ext cx="380880" cy="22860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867280" y="989640"/>
              <a:ext cx="203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618ffd"/>
                  </a:solidFill>
                  <a:latin typeface="Arial"/>
                </a:rPr>
                <a:t>Functional 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-360" y="271368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 flipV="1">
            <a:off x="1027080" y="3386160"/>
            <a:ext cx="496800" cy="169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447920" y="6019920"/>
            <a:ext cx="7315200" cy="533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emory Sub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676520" y="3200400"/>
            <a:ext cx="123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s 0, 4, 8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581280" y="3200400"/>
            <a:ext cx="123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s 1, 5, 9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486400" y="3200400"/>
            <a:ext cx="123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s 2, 6, 10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391520" y="3200400"/>
            <a:ext cx="123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s 3, 7, 11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0 Vector Microprocessor (1995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t0die" descr=""/>
          <p:cNvPicPr/>
          <p:nvPr/>
        </p:nvPicPr>
        <p:blipFill>
          <a:blip r:embed="rId1"/>
          <a:stretch/>
        </p:blipFill>
        <p:spPr>
          <a:xfrm>
            <a:off x="2743200" y="1143000"/>
            <a:ext cx="5138640" cy="5176800"/>
          </a:xfrm>
          <a:prstGeom prst="rect">
            <a:avLst/>
          </a:prstGeom>
          <a:ln w="0">
            <a:noFill/>
          </a:ln>
        </p:spPr>
      </p:pic>
      <p:sp>
        <p:nvSpPr>
          <p:cNvPr id="903" name=""/>
          <p:cNvSpPr/>
          <p:nvPr/>
        </p:nvSpPr>
        <p:spPr>
          <a:xfrm>
            <a:off x="6858000" y="2971800"/>
            <a:ext cx="457200" cy="3200400"/>
          </a:xfrm>
          <a:prstGeom prst="rect">
            <a:avLst/>
          </a:prstGeom>
          <a:noFill/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7315200" y="3200400"/>
            <a:ext cx="762120" cy="38088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077680" y="289476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304920" y="2894400"/>
            <a:ext cx="7119000" cy="1999440"/>
            <a:chOff x="304920" y="2894400"/>
            <a:chExt cx="7119000" cy="1999440"/>
          </a:xfrm>
        </p:grpSpPr>
        <p:sp>
          <p:nvSpPr>
            <p:cNvPr id="907" name=""/>
            <p:cNvSpPr/>
            <p:nvPr/>
          </p:nvSpPr>
          <p:spPr>
            <a:xfrm>
              <a:off x="304920" y="2894400"/>
              <a:ext cx="2438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Vector register elements striped over la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3129840" y="3809160"/>
              <a:ext cx="4294080" cy="1084680"/>
              <a:chOff x="3129840" y="3809160"/>
              <a:chExt cx="4294080" cy="1084680"/>
            </a:xfrm>
          </p:grpSpPr>
          <p:sp>
            <p:nvSpPr>
              <p:cNvPr id="909" name=""/>
              <p:cNvSpPr/>
              <p:nvPr/>
            </p:nvSpPr>
            <p:spPr>
              <a:xfrm>
                <a:off x="320148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0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201480" y="42663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8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12984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6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13128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4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65400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654000" y="42663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9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58200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7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58380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5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19220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122000" y="42663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0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12020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8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12200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6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71924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3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649040" y="42663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1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464724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9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64904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7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18256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4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112360" y="42663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2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11092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0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11236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8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79240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5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722200" y="42663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3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72040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1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72220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9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32556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6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253920" y="42663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4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25392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2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25536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30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85908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7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788880" y="42663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5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78744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3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78888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31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1" name=""/>
            <p:cNvSpPr/>
            <p:nvPr/>
          </p:nvSpPr>
          <p:spPr>
            <a:xfrm>
              <a:off x="2209680" y="3581280"/>
              <a:ext cx="9907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Memory-Memory versus Vector Register Mach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6840" y="1139760"/>
            <a:ext cx="8001000" cy="16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ctor memory-memory instructions hold all vector operands in main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irst vector machines, CDC Star-100 (‘73) and TI ASC (‘71), were memory-memory mach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ay-1 (’76) was first vector register mach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380880" y="3200400"/>
            <a:ext cx="3200400" cy="2167200"/>
            <a:chOff x="380880" y="3200400"/>
            <a:chExt cx="3200400" cy="2167200"/>
          </a:xfrm>
        </p:grpSpPr>
        <p:sp>
          <p:nvSpPr>
            <p:cNvPr id="945" name=""/>
            <p:cNvSpPr/>
            <p:nvPr/>
          </p:nvSpPr>
          <p:spPr>
            <a:xfrm>
              <a:off x="459360" y="3673080"/>
              <a:ext cx="3061080" cy="16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or (i=0; i&lt;N; i++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[i] = A[i] + B[i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[i] = A[i] - B[i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80880" y="3275640"/>
              <a:ext cx="286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xample Source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80880" y="3200400"/>
              <a:ext cx="3200400" cy="2133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3581280" y="2858040"/>
            <a:ext cx="5334120" cy="1372680"/>
            <a:chOff x="3581280" y="2858040"/>
            <a:chExt cx="5334120" cy="1372680"/>
          </a:xfrm>
        </p:grpSpPr>
        <p:grpSp>
          <p:nvGrpSpPr>
            <p:cNvPr id="949" name=""/>
            <p:cNvGrpSpPr/>
            <p:nvPr/>
          </p:nvGrpSpPr>
          <p:grpSpPr>
            <a:xfrm>
              <a:off x="5027400" y="2858040"/>
              <a:ext cx="3888000" cy="1372680"/>
              <a:chOff x="5027400" y="2858040"/>
              <a:chExt cx="3888000" cy="1372680"/>
            </a:xfrm>
          </p:grpSpPr>
          <p:sp>
            <p:nvSpPr>
              <p:cNvPr id="950" name=""/>
              <p:cNvSpPr/>
              <p:nvPr/>
            </p:nvSpPr>
            <p:spPr>
              <a:xfrm>
                <a:off x="5869080" y="3314880"/>
                <a:ext cx="1826640" cy="69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DDV C, A, 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UBV D, A, 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027400" y="2858040"/>
                <a:ext cx="378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Vector Memory-Memory Co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29200" y="2859120"/>
                <a:ext cx="3886200" cy="13716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3" name=""/>
            <p:cNvSpPr/>
            <p:nvPr/>
          </p:nvSpPr>
          <p:spPr>
            <a:xfrm flipV="1">
              <a:off x="3581280" y="3544560"/>
              <a:ext cx="144792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3581280" y="4230720"/>
            <a:ext cx="5334120" cy="2515680"/>
            <a:chOff x="3581280" y="4230720"/>
            <a:chExt cx="5334120" cy="2515680"/>
          </a:xfrm>
        </p:grpSpPr>
        <p:grpSp>
          <p:nvGrpSpPr>
            <p:cNvPr id="955" name=""/>
            <p:cNvGrpSpPr/>
            <p:nvPr/>
          </p:nvGrpSpPr>
          <p:grpSpPr>
            <a:xfrm>
              <a:off x="5027760" y="4266360"/>
              <a:ext cx="3887640" cy="2480040"/>
              <a:chOff x="5027760" y="4266360"/>
              <a:chExt cx="3887640" cy="2480040"/>
            </a:xfrm>
          </p:grpSpPr>
          <p:sp>
            <p:nvSpPr>
              <p:cNvPr id="956" name=""/>
              <p:cNvSpPr/>
              <p:nvPr/>
            </p:nvSpPr>
            <p:spPr>
              <a:xfrm>
                <a:off x="5792760" y="4720320"/>
                <a:ext cx="2238120" cy="20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LV V1, 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LV V2, 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DDV V3, V1, V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V V3, 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UBV V4, V1, V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V V4, 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027760" y="4266360"/>
                <a:ext cx="276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Vector Register Co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029200" y="4267080"/>
                <a:ext cx="3886200" cy="243864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9" name=""/>
            <p:cNvSpPr/>
            <p:nvPr/>
          </p:nvSpPr>
          <p:spPr>
            <a:xfrm>
              <a:off x="3581280" y="4230720"/>
              <a:ext cx="1447920" cy="144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Memory-Memory vs. Vector Register Mach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304560" y="1369080"/>
            <a:ext cx="8381880" cy="52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 memory-memory architectures (VMMA) require greater main memory bandwidth, wh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ff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All operands must be read in and out of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MMAs make if difficult to overlap execution of multiple vector operations, why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ff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Must check dependencies on memory addr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MMAs incur greater startup lat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ar code was faster on CDC Star-100 for vectors &lt; 100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Cray-1, vector/scalar breakeven point was around 2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part from CDC follow-ons (Cyber-205, ETA-10) all major vector machines since Cray-1 have had vector register architec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ff"/>
                </a:solidFill>
                <a:latin typeface="Arial"/>
              </a:rPr>
              <a:t>(we ignore vector memory-memory from now 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066680" y="2133720"/>
            <a:ext cx="60962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066680" y="3238560"/>
            <a:ext cx="60962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7720" y="-763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omatic Code Vectoriz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287800" y="683640"/>
            <a:ext cx="43869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=0; i &lt; N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[i] = A[i] + B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-34920" y="1446840"/>
            <a:ext cx="3194640" cy="5258880"/>
            <a:chOff x="-34920" y="1446840"/>
            <a:chExt cx="3194640" cy="5258880"/>
          </a:xfrm>
        </p:grpSpPr>
        <p:grpSp>
          <p:nvGrpSpPr>
            <p:cNvPr id="967" name=""/>
            <p:cNvGrpSpPr/>
            <p:nvPr/>
          </p:nvGrpSpPr>
          <p:grpSpPr>
            <a:xfrm>
              <a:off x="1045440" y="1977840"/>
              <a:ext cx="1660320" cy="2270160"/>
              <a:chOff x="1045440" y="1977840"/>
              <a:chExt cx="1660320" cy="2270160"/>
            </a:xfrm>
          </p:grpSpPr>
          <p:sp>
            <p:nvSpPr>
              <p:cNvPr id="968" name=""/>
              <p:cNvSpPr/>
              <p:nvPr/>
            </p:nvSpPr>
            <p:spPr>
              <a:xfrm>
                <a:off x="1045440" y="1977840"/>
                <a:ext cx="74592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lo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959840" y="2435040"/>
                <a:ext cx="74592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lo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425600" y="3120840"/>
                <a:ext cx="67572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ad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376280" y="3806640"/>
                <a:ext cx="84636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sto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428480" y="2438280"/>
                <a:ext cx="228600" cy="685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H="1">
                <a:off x="1885320" y="2895480"/>
                <a:ext cx="30492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809720" y="358128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1064520" y="4340160"/>
              <a:ext cx="1660320" cy="2269800"/>
              <a:chOff x="1064520" y="4340160"/>
              <a:chExt cx="1660320" cy="2269800"/>
            </a:xfrm>
          </p:grpSpPr>
          <p:sp>
            <p:nvSpPr>
              <p:cNvPr id="976" name=""/>
              <p:cNvSpPr/>
              <p:nvPr/>
            </p:nvSpPr>
            <p:spPr>
              <a:xfrm>
                <a:off x="1064520" y="4340160"/>
                <a:ext cx="74592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00ae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lo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1978920" y="4797000"/>
                <a:ext cx="74592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00ae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lo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44680" y="5482800"/>
                <a:ext cx="67572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00ae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ad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395360" y="6168600"/>
                <a:ext cx="84636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00ae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sto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47560" y="4800240"/>
                <a:ext cx="228600" cy="685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H="1">
                <a:off x="1904400" y="5257440"/>
                <a:ext cx="304920" cy="228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828800" y="5943240"/>
                <a:ext cx="0" cy="228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3" name=""/>
            <p:cNvSpPr/>
            <p:nvPr/>
          </p:nvSpPr>
          <p:spPr>
            <a:xfrm>
              <a:off x="838080" y="1905120"/>
              <a:ext cx="1981440" cy="2361960"/>
            </a:xfrm>
            <a:custGeom>
              <a:avLst/>
              <a:gdLst>
                <a:gd name="textAreaLeft" fmla="*/ 96480 w 1981440"/>
                <a:gd name="textAreaRight" fmla="*/ 1884960 w 1981440"/>
                <a:gd name="textAreaTop" fmla="*/ 96480 h 2361960"/>
                <a:gd name="textAreaBottom" fmla="*/ 2265480 h 2361960"/>
              </a:gdLst>
              <a:ahLst/>
              <a:rect l="textAreaLeft" t="textAreaTop" r="textAreaRight" b="textAreaBottom"/>
              <a:pathLst>
                <a:path w="21600" h="25747">
                  <a:moveTo>
                    <a:pt x="3600" y="0"/>
                  </a:moveTo>
                  <a:arcTo wR="3600" hR="3600" stAng="16200000" swAng="-5400000"/>
                  <a:lnTo>
                    <a:pt x="0" y="22147"/>
                  </a:lnTo>
                  <a:arcTo wR="3600" hR="3600" stAng="10800000" swAng="-5400000"/>
                  <a:lnTo>
                    <a:pt x="18000" y="257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62120" y="4343400"/>
              <a:ext cx="2057400" cy="2362320"/>
            </a:xfrm>
            <a:custGeom>
              <a:avLst/>
              <a:gdLst>
                <a:gd name="textAreaLeft" fmla="*/ 100440 w 2057400"/>
                <a:gd name="textAreaRight" fmla="*/ 1956960 w 2057400"/>
                <a:gd name="textAreaTop" fmla="*/ 100440 h 2362320"/>
                <a:gd name="textAreaBottom" fmla="*/ 2261880 h 2362320"/>
              </a:gdLst>
              <a:ahLst/>
              <a:rect l="textAreaLeft" t="textAreaTop" r="textAreaRight" b="textAreaBottom"/>
              <a:pathLst>
                <a:path w="21600" h="24801">
                  <a:moveTo>
                    <a:pt x="3600" y="0"/>
                  </a:moveTo>
                  <a:arcTo wR="3600" hR="3600" stAng="16200000" swAng="-5400000"/>
                  <a:lnTo>
                    <a:pt x="0" y="21201"/>
                  </a:lnTo>
                  <a:arcTo wR="3600" hR="3600" stAng="10800000" swAng="-5400000"/>
                  <a:lnTo>
                    <a:pt x="18000" y="248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-34920" y="251352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ter.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-34920" y="487584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ter.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51920" y="1446840"/>
              <a:ext cx="30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calar Sequential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"/>
          <p:cNvSpPr/>
          <p:nvPr/>
        </p:nvSpPr>
        <p:spPr>
          <a:xfrm>
            <a:off x="2590920" y="530316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ization is a massive compile-time reordering of operation seque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s extensive loop dependenc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3048120" y="1370520"/>
            <a:ext cx="6089760" cy="3827880"/>
            <a:chOff x="3048120" y="1370520"/>
            <a:chExt cx="6089760" cy="3827880"/>
          </a:xfrm>
        </p:grpSpPr>
        <p:sp>
          <p:nvSpPr>
            <p:cNvPr id="990" name=""/>
            <p:cNvSpPr/>
            <p:nvPr/>
          </p:nvSpPr>
          <p:spPr>
            <a:xfrm>
              <a:off x="3733920" y="2438280"/>
              <a:ext cx="5029200" cy="609840"/>
            </a:xfrm>
            <a:prstGeom prst="roundRect">
              <a:avLst>
                <a:gd name="adj" fmla="val 16667"/>
              </a:avLst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733920" y="1806480"/>
              <a:ext cx="5029200" cy="579600"/>
            </a:xfrm>
            <a:prstGeom prst="roundRect">
              <a:avLst>
                <a:gd name="adj" fmla="val 16667"/>
              </a:avLst>
            </a:prstGeom>
            <a:solidFill>
              <a:srgbClr val="cc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733920" y="3124080"/>
              <a:ext cx="5029200" cy="53352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733920" y="3809880"/>
              <a:ext cx="5029200" cy="45720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224480" y="4800240"/>
              <a:ext cx="191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Vector Instr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188960" y="1901880"/>
              <a:ext cx="745920" cy="441360"/>
            </a:xfrm>
            <a:prstGeom prst="roundRect">
              <a:avLst>
                <a:gd name="adj" fmla="val 16667"/>
              </a:avLst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103360" y="2511360"/>
              <a:ext cx="745920" cy="441360"/>
            </a:xfrm>
            <a:prstGeom prst="roundRect">
              <a:avLst>
                <a:gd name="adj" fmla="val 16667"/>
              </a:avLst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569120" y="3197160"/>
              <a:ext cx="675720" cy="441360"/>
            </a:xfrm>
            <a:prstGeom prst="roundRect">
              <a:avLst>
                <a:gd name="adj" fmla="val 16667"/>
              </a:avLst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519440" y="3807000"/>
              <a:ext cx="846360" cy="441360"/>
            </a:xfrm>
            <a:prstGeom prst="roundRect">
              <a:avLst>
                <a:gd name="adj" fmla="val 16667"/>
              </a:avLst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572000" y="2362320"/>
              <a:ext cx="228600" cy="838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5028840" y="2971800"/>
              <a:ext cx="22860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952880" y="3657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093720" y="1901880"/>
              <a:ext cx="745920" cy="441360"/>
            </a:xfrm>
            <a:prstGeom prst="roundRect">
              <a:avLst>
                <a:gd name="adj" fmla="val 16667"/>
              </a:avLst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008120" y="2511360"/>
              <a:ext cx="745920" cy="441360"/>
            </a:xfrm>
            <a:prstGeom prst="roundRect">
              <a:avLst>
                <a:gd name="adj" fmla="val 16667"/>
              </a:avLst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474240" y="3197160"/>
              <a:ext cx="675720" cy="441360"/>
            </a:xfrm>
            <a:prstGeom prst="roundRect">
              <a:avLst>
                <a:gd name="adj" fmla="val 16667"/>
              </a:avLst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424560" y="3807000"/>
              <a:ext cx="846360" cy="441360"/>
            </a:xfrm>
            <a:prstGeom prst="roundRect">
              <a:avLst>
                <a:gd name="adj" fmla="val 16667"/>
              </a:avLst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400800" y="2362320"/>
              <a:ext cx="304920" cy="838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6933960" y="2971800"/>
              <a:ext cx="22860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858000" y="3657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962520" y="1828800"/>
              <a:ext cx="1981080" cy="2590920"/>
            </a:xfrm>
            <a:custGeom>
              <a:avLst/>
              <a:gdLst>
                <a:gd name="textAreaLeft" fmla="*/ 96480 w 1981080"/>
                <a:gd name="textAreaRight" fmla="*/ 1884600 w 1981080"/>
                <a:gd name="textAreaTop" fmla="*/ 96480 h 2590920"/>
                <a:gd name="textAreaBottom" fmla="*/ 2494440 h 2590920"/>
              </a:gdLst>
              <a:ahLst/>
              <a:rect l="textAreaLeft" t="textAreaTop" r="textAreaRight" b="textAreaBottom"/>
              <a:pathLst>
                <a:path w="21600" h="28248">
                  <a:moveTo>
                    <a:pt x="3600" y="0"/>
                  </a:moveTo>
                  <a:arcTo wR="3600" hR="3600" stAng="16200000" swAng="-5400000"/>
                  <a:lnTo>
                    <a:pt x="0" y="24648"/>
                  </a:lnTo>
                  <a:arcTo wR="3600" hR="3600" stAng="10800000" swAng="-5400000"/>
                  <a:lnTo>
                    <a:pt x="18000" y="282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943600" y="1828800"/>
              <a:ext cx="1981080" cy="2590920"/>
            </a:xfrm>
            <a:custGeom>
              <a:avLst/>
              <a:gdLst>
                <a:gd name="textAreaLeft" fmla="*/ 96480 w 1981080"/>
                <a:gd name="textAreaRight" fmla="*/ 1884600 w 1981080"/>
                <a:gd name="textAreaTop" fmla="*/ 96480 h 2590920"/>
                <a:gd name="textAreaBottom" fmla="*/ 2494440 h 2590920"/>
              </a:gdLst>
              <a:ahLst/>
              <a:rect l="textAreaLeft" t="textAreaTop" r="textAreaRight" b="textAreaBottom"/>
              <a:pathLst>
                <a:path w="21600" h="28248">
                  <a:moveTo>
                    <a:pt x="3600" y="0"/>
                  </a:moveTo>
                  <a:arcTo wR="3600" hR="3600" stAng="16200000" swAng="-5400000"/>
                  <a:lnTo>
                    <a:pt x="0" y="24648"/>
                  </a:lnTo>
                  <a:arcTo wR="3600" hR="3600" stAng="10800000" swAng="-5400000"/>
                  <a:lnTo>
                    <a:pt x="18000" y="282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962520" y="449460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ter.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943600" y="449460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ter.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476760" y="1370520"/>
              <a:ext cx="217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Vectorized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8077320" y="4267080"/>
              <a:ext cx="152280" cy="609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29000" y="243828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rot="16200000">
              <a:off x="2831760" y="288432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077320" y="2819520"/>
              <a:ext cx="533160" cy="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Stripmi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304920" y="605160"/>
            <a:ext cx="861048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Vector registers have finite leng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: Break loops into pieces that fit into vector registers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Stripmining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506760" y="1759320"/>
            <a:ext cx="6124320" cy="51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NDI R1, N, 63   # N mod 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TC1 VLR, R1     # Do rema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V V1, 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SLL R2, R1, 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Multiply by 8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DDU RA, RA, R2 # Bump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V V2, 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DDU RB, RB, R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V.D V3, V1, 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V V3, 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DDU RC, RC, 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SUBU N, N, R1 # Subtract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 R1, 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TC1 VLR, R1   # Reset full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GTZ N, loop   # Any more to 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1800" y="2131920"/>
            <a:ext cx="3617280" cy="4497480"/>
            <a:chOff x="1800" y="2131920"/>
            <a:chExt cx="3617280" cy="4497480"/>
          </a:xfrm>
        </p:grpSpPr>
        <p:sp>
          <p:nvSpPr>
            <p:cNvPr id="1022" name=""/>
            <p:cNvSpPr/>
            <p:nvPr/>
          </p:nvSpPr>
          <p:spPr>
            <a:xfrm>
              <a:off x="1800" y="2131920"/>
              <a:ext cx="3381120" cy="73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for (i=0; i&lt;N; i++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[i] = A[i]+B[i]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230040" y="2894760"/>
              <a:ext cx="3389040" cy="3734640"/>
              <a:chOff x="230040" y="2894760"/>
              <a:chExt cx="3389040" cy="3734640"/>
            </a:xfrm>
          </p:grpSpPr>
          <p:sp>
            <p:nvSpPr>
              <p:cNvPr id="1024" name=""/>
              <p:cNvSpPr/>
              <p:nvPr/>
            </p:nvSpPr>
            <p:spPr>
              <a:xfrm>
                <a:off x="304920" y="3276720"/>
                <a:ext cx="152280" cy="3352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62120" y="3276720"/>
                <a:ext cx="152280" cy="3352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600200" y="3276720"/>
                <a:ext cx="152280" cy="3352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04920" y="3886200"/>
                <a:ext cx="152280" cy="1371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62120" y="3886200"/>
                <a:ext cx="152280" cy="1371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600200" y="3886200"/>
                <a:ext cx="152280" cy="1371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04920" y="5257800"/>
                <a:ext cx="152280" cy="1371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62120" y="5257800"/>
                <a:ext cx="152280" cy="1371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600200" y="5257800"/>
                <a:ext cx="152280" cy="1371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4920" y="3276720"/>
                <a:ext cx="152280" cy="609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62120" y="3276720"/>
                <a:ext cx="152280" cy="609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600200" y="3276720"/>
                <a:ext cx="152280" cy="609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6" name=""/>
              <p:cNvGrpSpPr/>
              <p:nvPr/>
            </p:nvGrpSpPr>
            <p:grpSpPr>
              <a:xfrm>
                <a:off x="457200" y="4343400"/>
                <a:ext cx="1143000" cy="456840"/>
                <a:chOff x="457200" y="4343400"/>
                <a:chExt cx="1143000" cy="456840"/>
              </a:xfrm>
            </p:grpSpPr>
            <p:sp>
              <p:nvSpPr>
                <p:cNvPr id="1037" name=""/>
                <p:cNvSpPr/>
                <p:nvPr/>
              </p:nvSpPr>
              <p:spPr>
                <a:xfrm>
                  <a:off x="1143000" y="4419720"/>
                  <a:ext cx="304560" cy="29844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914400" y="4343400"/>
                  <a:ext cx="30456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 flipV="1">
                  <a:off x="457200" y="4647960"/>
                  <a:ext cx="68580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1447560" y="4572000"/>
                  <a:ext cx="1526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457200" y="5715000"/>
                <a:ext cx="1143000" cy="456840"/>
                <a:chOff x="457200" y="5715000"/>
                <a:chExt cx="1143000" cy="45684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1143000" y="5791320"/>
                  <a:ext cx="304560" cy="29844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914400" y="5715000"/>
                  <a:ext cx="30456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 flipV="1">
                  <a:off x="457200" y="6019560"/>
                  <a:ext cx="68580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1447560" y="5943600"/>
                  <a:ext cx="1526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6" name=""/>
              <p:cNvGrpSpPr/>
              <p:nvPr/>
            </p:nvGrpSpPr>
            <p:grpSpPr>
              <a:xfrm>
                <a:off x="457200" y="3352680"/>
                <a:ext cx="1143000" cy="456840"/>
                <a:chOff x="457200" y="3352680"/>
                <a:chExt cx="1143000" cy="45684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1143000" y="3429000"/>
                  <a:ext cx="304560" cy="29844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914400" y="3352680"/>
                  <a:ext cx="30456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 flipV="1">
                  <a:off x="457200" y="3657240"/>
                  <a:ext cx="68580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1447560" y="3581280"/>
                  <a:ext cx="1526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1" name=""/>
              <p:cNvSpPr/>
              <p:nvPr/>
            </p:nvSpPr>
            <p:spPr>
              <a:xfrm>
                <a:off x="230040" y="28947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87240" y="28947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525320" y="28947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828800" y="3962520"/>
                <a:ext cx="228600" cy="121896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981440" y="4342320"/>
                <a:ext cx="163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4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828800" y="3276720"/>
                <a:ext cx="228600" cy="60948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981800" y="3351960"/>
                <a:ext cx="149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emaind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8" name=""/>
          <p:cNvGrpSpPr/>
          <p:nvPr/>
        </p:nvGrpSpPr>
        <p:grpSpPr>
          <a:xfrm>
            <a:off x="685800" y="3324240"/>
            <a:ext cx="3276360" cy="1628640"/>
            <a:chOff x="685800" y="3324240"/>
            <a:chExt cx="3276360" cy="1628640"/>
          </a:xfrm>
        </p:grpSpPr>
        <p:grpSp>
          <p:nvGrpSpPr>
            <p:cNvPr id="1059" name=""/>
            <p:cNvGrpSpPr/>
            <p:nvPr/>
          </p:nvGrpSpPr>
          <p:grpSpPr>
            <a:xfrm>
              <a:off x="1523880" y="3733920"/>
              <a:ext cx="2438280" cy="1218960"/>
              <a:chOff x="1523880" y="3733920"/>
              <a:chExt cx="2438280" cy="1218960"/>
            </a:xfrm>
          </p:grpSpPr>
          <p:grpSp>
            <p:nvGrpSpPr>
              <p:cNvPr id="1060" name=""/>
              <p:cNvGrpSpPr/>
              <p:nvPr/>
            </p:nvGrpSpPr>
            <p:grpSpPr>
              <a:xfrm>
                <a:off x="3657240" y="3733920"/>
                <a:ext cx="304920" cy="304560"/>
                <a:chOff x="3657240" y="3733920"/>
                <a:chExt cx="304920" cy="304560"/>
              </a:xfrm>
            </p:grpSpPr>
            <p:sp>
              <p:nvSpPr>
                <p:cNvPr id="1061" name=""/>
                <p:cNvSpPr/>
                <p:nvPr/>
              </p:nvSpPr>
              <p:spPr>
                <a:xfrm>
                  <a:off x="365724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3733560" y="38098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3" name=""/>
              <p:cNvSpPr/>
              <p:nvPr/>
            </p:nvSpPr>
            <p:spPr>
              <a:xfrm>
                <a:off x="1523880" y="3733920"/>
                <a:ext cx="2438280" cy="1218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4" name=""/>
              <p:cNvGrpSpPr/>
              <p:nvPr/>
            </p:nvGrpSpPr>
            <p:grpSpPr>
              <a:xfrm>
                <a:off x="3657240" y="4038480"/>
                <a:ext cx="304920" cy="304560"/>
                <a:chOff x="3657240" y="4038480"/>
                <a:chExt cx="304920" cy="304560"/>
              </a:xfrm>
            </p:grpSpPr>
            <p:sp>
              <p:nvSpPr>
                <p:cNvPr id="1065" name=""/>
                <p:cNvSpPr/>
                <p:nvPr/>
              </p:nvSpPr>
              <p:spPr>
                <a:xfrm>
                  <a:off x="3657240" y="40384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3733560" y="411444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7" name=""/>
              <p:cNvGrpSpPr/>
              <p:nvPr/>
            </p:nvGrpSpPr>
            <p:grpSpPr>
              <a:xfrm>
                <a:off x="3657240" y="4343400"/>
                <a:ext cx="304920" cy="304560"/>
                <a:chOff x="3657240" y="4343400"/>
                <a:chExt cx="304920" cy="304560"/>
              </a:xfrm>
            </p:grpSpPr>
            <p:sp>
              <p:nvSpPr>
                <p:cNvPr id="1068" name=""/>
                <p:cNvSpPr/>
                <p:nvPr/>
              </p:nvSpPr>
              <p:spPr>
                <a:xfrm>
                  <a:off x="3657240" y="43434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3733560" y="441936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0" name=""/>
              <p:cNvGrpSpPr/>
              <p:nvPr/>
            </p:nvGrpSpPr>
            <p:grpSpPr>
              <a:xfrm>
                <a:off x="3657240" y="4648320"/>
                <a:ext cx="304920" cy="304560"/>
                <a:chOff x="3657240" y="4648320"/>
                <a:chExt cx="304920" cy="30456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365724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3733560" y="47242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3" name=""/>
              <p:cNvGrpSpPr/>
              <p:nvPr/>
            </p:nvGrpSpPr>
            <p:grpSpPr>
              <a:xfrm>
                <a:off x="3352680" y="3733920"/>
                <a:ext cx="304560" cy="304560"/>
                <a:chOff x="3352680" y="3733920"/>
                <a:chExt cx="304560" cy="304560"/>
              </a:xfrm>
            </p:grpSpPr>
            <p:sp>
              <p:nvSpPr>
                <p:cNvPr id="1074" name=""/>
                <p:cNvSpPr/>
                <p:nvPr/>
              </p:nvSpPr>
              <p:spPr>
                <a:xfrm>
                  <a:off x="335268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3428640" y="380988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6" name=""/>
              <p:cNvGrpSpPr/>
              <p:nvPr/>
            </p:nvGrpSpPr>
            <p:grpSpPr>
              <a:xfrm>
                <a:off x="3352680" y="4038480"/>
                <a:ext cx="304560" cy="304560"/>
                <a:chOff x="3352680" y="4038480"/>
                <a:chExt cx="304560" cy="304560"/>
              </a:xfrm>
            </p:grpSpPr>
            <p:sp>
              <p:nvSpPr>
                <p:cNvPr id="1077" name=""/>
                <p:cNvSpPr/>
                <p:nvPr/>
              </p:nvSpPr>
              <p:spPr>
                <a:xfrm>
                  <a:off x="3352680" y="40384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3428640" y="411444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9" name=""/>
              <p:cNvGrpSpPr/>
              <p:nvPr/>
            </p:nvGrpSpPr>
            <p:grpSpPr>
              <a:xfrm>
                <a:off x="3352680" y="4343400"/>
                <a:ext cx="304560" cy="304560"/>
                <a:chOff x="3352680" y="4343400"/>
                <a:chExt cx="304560" cy="304560"/>
              </a:xfrm>
            </p:grpSpPr>
            <p:sp>
              <p:nvSpPr>
                <p:cNvPr id="1080" name=""/>
                <p:cNvSpPr/>
                <p:nvPr/>
              </p:nvSpPr>
              <p:spPr>
                <a:xfrm>
                  <a:off x="3352680" y="434340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3428640" y="441936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2" name=""/>
              <p:cNvGrpSpPr/>
              <p:nvPr/>
            </p:nvGrpSpPr>
            <p:grpSpPr>
              <a:xfrm>
                <a:off x="3352680" y="4648320"/>
                <a:ext cx="304560" cy="304560"/>
                <a:chOff x="3352680" y="4648320"/>
                <a:chExt cx="304560" cy="304560"/>
              </a:xfrm>
            </p:grpSpPr>
            <p:sp>
              <p:nvSpPr>
                <p:cNvPr id="1083" name=""/>
                <p:cNvSpPr/>
                <p:nvPr/>
              </p:nvSpPr>
              <p:spPr>
                <a:xfrm>
                  <a:off x="335268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3428640" y="472428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5" name=""/>
              <p:cNvGrpSpPr/>
              <p:nvPr/>
            </p:nvGrpSpPr>
            <p:grpSpPr>
              <a:xfrm>
                <a:off x="3047760" y="3733920"/>
                <a:ext cx="304920" cy="304560"/>
                <a:chOff x="3047760" y="3733920"/>
                <a:chExt cx="304920" cy="304560"/>
              </a:xfrm>
            </p:grpSpPr>
            <p:sp>
              <p:nvSpPr>
                <p:cNvPr id="1086" name=""/>
                <p:cNvSpPr/>
                <p:nvPr/>
              </p:nvSpPr>
              <p:spPr>
                <a:xfrm>
                  <a:off x="304776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3124080" y="38098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8" name=""/>
              <p:cNvGrpSpPr/>
              <p:nvPr/>
            </p:nvGrpSpPr>
            <p:grpSpPr>
              <a:xfrm>
                <a:off x="3047760" y="4038480"/>
                <a:ext cx="304920" cy="304560"/>
                <a:chOff x="3047760" y="4038480"/>
                <a:chExt cx="304920" cy="304560"/>
              </a:xfrm>
            </p:grpSpPr>
            <p:sp>
              <p:nvSpPr>
                <p:cNvPr id="1089" name=""/>
                <p:cNvSpPr/>
                <p:nvPr/>
              </p:nvSpPr>
              <p:spPr>
                <a:xfrm>
                  <a:off x="3047760" y="40384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3124080" y="411444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1" name=""/>
              <p:cNvGrpSpPr/>
              <p:nvPr/>
            </p:nvGrpSpPr>
            <p:grpSpPr>
              <a:xfrm>
                <a:off x="3047760" y="4343400"/>
                <a:ext cx="304920" cy="304560"/>
                <a:chOff x="3047760" y="4343400"/>
                <a:chExt cx="304920" cy="304560"/>
              </a:xfrm>
            </p:grpSpPr>
            <p:sp>
              <p:nvSpPr>
                <p:cNvPr id="1092" name=""/>
                <p:cNvSpPr/>
                <p:nvPr/>
              </p:nvSpPr>
              <p:spPr>
                <a:xfrm>
                  <a:off x="3047760" y="43434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3124080" y="441936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4" name=""/>
              <p:cNvGrpSpPr/>
              <p:nvPr/>
            </p:nvGrpSpPr>
            <p:grpSpPr>
              <a:xfrm>
                <a:off x="3047760" y="4648320"/>
                <a:ext cx="304920" cy="304560"/>
                <a:chOff x="3047760" y="4648320"/>
                <a:chExt cx="304920" cy="30456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304776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3124080" y="47242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7" name=""/>
              <p:cNvGrpSpPr/>
              <p:nvPr/>
            </p:nvGrpSpPr>
            <p:grpSpPr>
              <a:xfrm>
                <a:off x="2742840" y="3733920"/>
                <a:ext cx="304920" cy="304560"/>
                <a:chOff x="2742840" y="3733920"/>
                <a:chExt cx="304920" cy="304560"/>
              </a:xfrm>
            </p:grpSpPr>
            <p:sp>
              <p:nvSpPr>
                <p:cNvPr id="1098" name=""/>
                <p:cNvSpPr/>
                <p:nvPr/>
              </p:nvSpPr>
              <p:spPr>
                <a:xfrm>
                  <a:off x="274284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2819160" y="38098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0" name=""/>
              <p:cNvGrpSpPr/>
              <p:nvPr/>
            </p:nvGrpSpPr>
            <p:grpSpPr>
              <a:xfrm>
                <a:off x="2742840" y="4038480"/>
                <a:ext cx="304920" cy="304560"/>
                <a:chOff x="2742840" y="4038480"/>
                <a:chExt cx="304920" cy="304560"/>
              </a:xfrm>
            </p:grpSpPr>
            <p:sp>
              <p:nvSpPr>
                <p:cNvPr id="1101" name=""/>
                <p:cNvSpPr/>
                <p:nvPr/>
              </p:nvSpPr>
              <p:spPr>
                <a:xfrm>
                  <a:off x="2742840" y="40384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2819160" y="411444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3" name=""/>
              <p:cNvGrpSpPr/>
              <p:nvPr/>
            </p:nvGrpSpPr>
            <p:grpSpPr>
              <a:xfrm>
                <a:off x="2742840" y="4343400"/>
                <a:ext cx="304920" cy="304560"/>
                <a:chOff x="2742840" y="4343400"/>
                <a:chExt cx="304920" cy="304560"/>
              </a:xfrm>
            </p:grpSpPr>
            <p:sp>
              <p:nvSpPr>
                <p:cNvPr id="1104" name=""/>
                <p:cNvSpPr/>
                <p:nvPr/>
              </p:nvSpPr>
              <p:spPr>
                <a:xfrm>
                  <a:off x="2742840" y="43434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2819160" y="441936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6" name=""/>
              <p:cNvGrpSpPr/>
              <p:nvPr/>
            </p:nvGrpSpPr>
            <p:grpSpPr>
              <a:xfrm>
                <a:off x="2742840" y="4648320"/>
                <a:ext cx="304920" cy="304560"/>
                <a:chOff x="2742840" y="4648320"/>
                <a:chExt cx="304920" cy="30456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274284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2819160" y="47242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9" name=""/>
              <p:cNvGrpSpPr/>
              <p:nvPr/>
            </p:nvGrpSpPr>
            <p:grpSpPr>
              <a:xfrm>
                <a:off x="2438280" y="3733920"/>
                <a:ext cx="304560" cy="304560"/>
                <a:chOff x="2438280" y="3733920"/>
                <a:chExt cx="304560" cy="30456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243828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2514240" y="380988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2438280" y="4038480"/>
                <a:ext cx="304560" cy="304560"/>
                <a:chOff x="2438280" y="4038480"/>
                <a:chExt cx="304560" cy="30456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2438280" y="40384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2514240" y="411444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5" name=""/>
              <p:cNvGrpSpPr/>
              <p:nvPr/>
            </p:nvGrpSpPr>
            <p:grpSpPr>
              <a:xfrm>
                <a:off x="2438280" y="4343400"/>
                <a:ext cx="304560" cy="304560"/>
                <a:chOff x="2438280" y="4343400"/>
                <a:chExt cx="304560" cy="30456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2438280" y="434340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2514240" y="441936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8" name=""/>
              <p:cNvGrpSpPr/>
              <p:nvPr/>
            </p:nvGrpSpPr>
            <p:grpSpPr>
              <a:xfrm>
                <a:off x="2438280" y="4648320"/>
                <a:ext cx="304560" cy="304560"/>
                <a:chOff x="2438280" y="4648320"/>
                <a:chExt cx="304560" cy="304560"/>
              </a:xfrm>
            </p:grpSpPr>
            <p:sp>
              <p:nvSpPr>
                <p:cNvPr id="1119" name=""/>
                <p:cNvSpPr/>
                <p:nvPr/>
              </p:nvSpPr>
              <p:spPr>
                <a:xfrm>
                  <a:off x="243828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2514240" y="472428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1" name=""/>
              <p:cNvGrpSpPr/>
              <p:nvPr/>
            </p:nvGrpSpPr>
            <p:grpSpPr>
              <a:xfrm>
                <a:off x="2133360" y="3733920"/>
                <a:ext cx="304920" cy="304560"/>
                <a:chOff x="2133360" y="3733920"/>
                <a:chExt cx="304920" cy="304560"/>
              </a:xfrm>
            </p:grpSpPr>
            <p:sp>
              <p:nvSpPr>
                <p:cNvPr id="1122" name=""/>
                <p:cNvSpPr/>
                <p:nvPr/>
              </p:nvSpPr>
              <p:spPr>
                <a:xfrm>
                  <a:off x="213336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2209680" y="38098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4" name=""/>
              <p:cNvGrpSpPr/>
              <p:nvPr/>
            </p:nvGrpSpPr>
            <p:grpSpPr>
              <a:xfrm>
                <a:off x="2133360" y="4038480"/>
                <a:ext cx="304920" cy="304560"/>
                <a:chOff x="2133360" y="4038480"/>
                <a:chExt cx="304920" cy="30456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2133360" y="40384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2209680" y="411444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7" name=""/>
              <p:cNvGrpSpPr/>
              <p:nvPr/>
            </p:nvGrpSpPr>
            <p:grpSpPr>
              <a:xfrm>
                <a:off x="2133360" y="4343400"/>
                <a:ext cx="304920" cy="304560"/>
                <a:chOff x="2133360" y="4343400"/>
                <a:chExt cx="304920" cy="30456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2133360" y="43434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2209680" y="441936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0" name=""/>
              <p:cNvGrpSpPr/>
              <p:nvPr/>
            </p:nvGrpSpPr>
            <p:grpSpPr>
              <a:xfrm>
                <a:off x="2133360" y="4648320"/>
                <a:ext cx="304920" cy="304560"/>
                <a:chOff x="2133360" y="4648320"/>
                <a:chExt cx="304920" cy="304560"/>
              </a:xfrm>
            </p:grpSpPr>
            <p:sp>
              <p:nvSpPr>
                <p:cNvPr id="1131" name=""/>
                <p:cNvSpPr/>
                <p:nvPr/>
              </p:nvSpPr>
              <p:spPr>
                <a:xfrm>
                  <a:off x="213336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2209680" y="47242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3" name=""/>
              <p:cNvGrpSpPr/>
              <p:nvPr/>
            </p:nvGrpSpPr>
            <p:grpSpPr>
              <a:xfrm>
                <a:off x="1828440" y="3733920"/>
                <a:ext cx="304920" cy="304560"/>
                <a:chOff x="1828440" y="3733920"/>
                <a:chExt cx="304920" cy="304560"/>
              </a:xfrm>
            </p:grpSpPr>
            <p:sp>
              <p:nvSpPr>
                <p:cNvPr id="1134" name=""/>
                <p:cNvSpPr/>
                <p:nvPr/>
              </p:nvSpPr>
              <p:spPr>
                <a:xfrm>
                  <a:off x="182844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1904760" y="38098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6" name=""/>
              <p:cNvGrpSpPr/>
              <p:nvPr/>
            </p:nvGrpSpPr>
            <p:grpSpPr>
              <a:xfrm>
                <a:off x="1828440" y="4038480"/>
                <a:ext cx="304920" cy="304560"/>
                <a:chOff x="1828440" y="4038480"/>
                <a:chExt cx="304920" cy="304560"/>
              </a:xfrm>
            </p:grpSpPr>
            <p:sp>
              <p:nvSpPr>
                <p:cNvPr id="1137" name=""/>
                <p:cNvSpPr/>
                <p:nvPr/>
              </p:nvSpPr>
              <p:spPr>
                <a:xfrm>
                  <a:off x="1828440" y="40384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1904760" y="411444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9" name=""/>
              <p:cNvGrpSpPr/>
              <p:nvPr/>
            </p:nvGrpSpPr>
            <p:grpSpPr>
              <a:xfrm>
                <a:off x="1828440" y="4343400"/>
                <a:ext cx="304920" cy="304560"/>
                <a:chOff x="1828440" y="4343400"/>
                <a:chExt cx="304920" cy="30456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1828440" y="43434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1904760" y="441936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2" name=""/>
              <p:cNvGrpSpPr/>
              <p:nvPr/>
            </p:nvGrpSpPr>
            <p:grpSpPr>
              <a:xfrm>
                <a:off x="1828440" y="4648320"/>
                <a:ext cx="304920" cy="304560"/>
                <a:chOff x="1828440" y="4648320"/>
                <a:chExt cx="304920" cy="30456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182844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1904760" y="47242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1523880" y="3733920"/>
                <a:ext cx="304560" cy="304560"/>
                <a:chOff x="1523880" y="3733920"/>
                <a:chExt cx="304560" cy="30456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152388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1599840" y="380988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1523880" y="4038480"/>
                <a:ext cx="304560" cy="304560"/>
                <a:chOff x="1523880" y="4038480"/>
                <a:chExt cx="304560" cy="304560"/>
              </a:xfrm>
            </p:grpSpPr>
            <p:sp>
              <p:nvSpPr>
                <p:cNvPr id="1149" name=""/>
                <p:cNvSpPr/>
                <p:nvPr/>
              </p:nvSpPr>
              <p:spPr>
                <a:xfrm>
                  <a:off x="1523880" y="40384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1599840" y="411444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1523880" y="4343400"/>
                <a:ext cx="304560" cy="304560"/>
                <a:chOff x="1523880" y="4343400"/>
                <a:chExt cx="304560" cy="30456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1523880" y="434340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1599840" y="441936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1523880" y="4648320"/>
                <a:ext cx="304560" cy="304560"/>
                <a:chOff x="1523880" y="4648320"/>
                <a:chExt cx="304560" cy="30456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152388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1599840" y="472428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57" name=""/>
            <p:cNvSpPr/>
            <p:nvPr/>
          </p:nvSpPr>
          <p:spPr>
            <a:xfrm>
              <a:off x="685800" y="3324240"/>
              <a:ext cx="838080" cy="797040"/>
            </a:xfrm>
            <a:prstGeom prst="rightArrow">
              <a:avLst>
                <a:gd name="adj1" fmla="val 50000"/>
                <a:gd name="adj2" fmla="val 2628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Instruction Parallelis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533520" y="988200"/>
            <a:ext cx="7981920" cy="75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overlap execution of multiple vector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machine has 32 elements per vector register and 8 la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"/>
          <p:cNvGrpSpPr/>
          <p:nvPr/>
        </p:nvGrpSpPr>
        <p:grpSpPr>
          <a:xfrm>
            <a:off x="685800" y="2154240"/>
            <a:ext cx="3276360" cy="1579680"/>
            <a:chOff x="685800" y="2154240"/>
            <a:chExt cx="3276360" cy="1579680"/>
          </a:xfrm>
        </p:grpSpPr>
        <p:grpSp>
          <p:nvGrpSpPr>
            <p:cNvPr id="1161" name=""/>
            <p:cNvGrpSpPr/>
            <p:nvPr/>
          </p:nvGrpSpPr>
          <p:grpSpPr>
            <a:xfrm>
              <a:off x="1523880" y="2514600"/>
              <a:ext cx="2438280" cy="1219320"/>
              <a:chOff x="1523880" y="2514600"/>
              <a:chExt cx="2438280" cy="1219320"/>
            </a:xfrm>
          </p:grpSpPr>
          <p:grpSp>
            <p:nvGrpSpPr>
              <p:cNvPr id="1162" name=""/>
              <p:cNvGrpSpPr/>
              <p:nvPr/>
            </p:nvGrpSpPr>
            <p:grpSpPr>
              <a:xfrm>
                <a:off x="3657240" y="2514600"/>
                <a:ext cx="304920" cy="304920"/>
                <a:chOff x="3657240" y="2514600"/>
                <a:chExt cx="304920" cy="30492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3657240" y="25146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3733560" y="25909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5" name=""/>
              <p:cNvSpPr/>
              <p:nvPr/>
            </p:nvSpPr>
            <p:spPr>
              <a:xfrm>
                <a:off x="1523880" y="2514600"/>
                <a:ext cx="2438280" cy="1219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6" name=""/>
              <p:cNvGrpSpPr/>
              <p:nvPr/>
            </p:nvGrpSpPr>
            <p:grpSpPr>
              <a:xfrm>
                <a:off x="3657240" y="2819520"/>
                <a:ext cx="304920" cy="304560"/>
                <a:chOff x="3657240" y="2819520"/>
                <a:chExt cx="304920" cy="304560"/>
              </a:xfrm>
            </p:grpSpPr>
            <p:sp>
              <p:nvSpPr>
                <p:cNvPr id="1167" name=""/>
                <p:cNvSpPr/>
                <p:nvPr/>
              </p:nvSpPr>
              <p:spPr>
                <a:xfrm>
                  <a:off x="365724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3733560" y="2895480"/>
                  <a:ext cx="15228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9" name=""/>
              <p:cNvGrpSpPr/>
              <p:nvPr/>
            </p:nvGrpSpPr>
            <p:grpSpPr>
              <a:xfrm>
                <a:off x="3657240" y="3124080"/>
                <a:ext cx="304920" cy="304920"/>
                <a:chOff x="3657240" y="3124080"/>
                <a:chExt cx="304920" cy="304920"/>
              </a:xfrm>
            </p:grpSpPr>
            <p:sp>
              <p:nvSpPr>
                <p:cNvPr id="1170" name=""/>
                <p:cNvSpPr/>
                <p:nvPr/>
              </p:nvSpPr>
              <p:spPr>
                <a:xfrm>
                  <a:off x="3657240" y="31240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3733560" y="320040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3657240" y="3429000"/>
                <a:ext cx="304920" cy="304920"/>
                <a:chOff x="3657240" y="3429000"/>
                <a:chExt cx="304920" cy="30492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3657240" y="34290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3733560" y="35053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5" name=""/>
              <p:cNvGrpSpPr/>
              <p:nvPr/>
            </p:nvGrpSpPr>
            <p:grpSpPr>
              <a:xfrm>
                <a:off x="3352680" y="2514600"/>
                <a:ext cx="304560" cy="304920"/>
                <a:chOff x="3352680" y="2514600"/>
                <a:chExt cx="304560" cy="30492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3352680" y="25146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3428640" y="259092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8" name=""/>
              <p:cNvGrpSpPr/>
              <p:nvPr/>
            </p:nvGrpSpPr>
            <p:grpSpPr>
              <a:xfrm>
                <a:off x="3352680" y="2819520"/>
                <a:ext cx="304560" cy="304560"/>
                <a:chOff x="3352680" y="2819520"/>
                <a:chExt cx="304560" cy="304560"/>
              </a:xfrm>
            </p:grpSpPr>
            <p:sp>
              <p:nvSpPr>
                <p:cNvPr id="1179" name=""/>
                <p:cNvSpPr/>
                <p:nvPr/>
              </p:nvSpPr>
              <p:spPr>
                <a:xfrm>
                  <a:off x="3352680" y="28195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3428640" y="2895480"/>
                  <a:ext cx="15192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1" name=""/>
              <p:cNvGrpSpPr/>
              <p:nvPr/>
            </p:nvGrpSpPr>
            <p:grpSpPr>
              <a:xfrm>
                <a:off x="3352680" y="3124080"/>
                <a:ext cx="304560" cy="304920"/>
                <a:chOff x="3352680" y="3124080"/>
                <a:chExt cx="304560" cy="304920"/>
              </a:xfrm>
            </p:grpSpPr>
            <p:sp>
              <p:nvSpPr>
                <p:cNvPr id="1182" name=""/>
                <p:cNvSpPr/>
                <p:nvPr/>
              </p:nvSpPr>
              <p:spPr>
                <a:xfrm>
                  <a:off x="335268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3428640" y="320040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4" name=""/>
              <p:cNvGrpSpPr/>
              <p:nvPr/>
            </p:nvGrpSpPr>
            <p:grpSpPr>
              <a:xfrm>
                <a:off x="3352680" y="3429000"/>
                <a:ext cx="304560" cy="304920"/>
                <a:chOff x="3352680" y="3429000"/>
                <a:chExt cx="304560" cy="304920"/>
              </a:xfrm>
            </p:grpSpPr>
            <p:sp>
              <p:nvSpPr>
                <p:cNvPr id="1185" name=""/>
                <p:cNvSpPr/>
                <p:nvPr/>
              </p:nvSpPr>
              <p:spPr>
                <a:xfrm>
                  <a:off x="335268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3428640" y="350532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7" name=""/>
              <p:cNvGrpSpPr/>
              <p:nvPr/>
            </p:nvGrpSpPr>
            <p:grpSpPr>
              <a:xfrm>
                <a:off x="3047760" y="2514600"/>
                <a:ext cx="304920" cy="304920"/>
                <a:chOff x="3047760" y="2514600"/>
                <a:chExt cx="304920" cy="304920"/>
              </a:xfrm>
            </p:grpSpPr>
            <p:sp>
              <p:nvSpPr>
                <p:cNvPr id="1188" name=""/>
                <p:cNvSpPr/>
                <p:nvPr/>
              </p:nvSpPr>
              <p:spPr>
                <a:xfrm>
                  <a:off x="3047760" y="25146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3124080" y="25909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0" name=""/>
              <p:cNvGrpSpPr/>
              <p:nvPr/>
            </p:nvGrpSpPr>
            <p:grpSpPr>
              <a:xfrm>
                <a:off x="3047760" y="2819520"/>
                <a:ext cx="304920" cy="304560"/>
                <a:chOff x="3047760" y="2819520"/>
                <a:chExt cx="304920" cy="304560"/>
              </a:xfrm>
            </p:grpSpPr>
            <p:sp>
              <p:nvSpPr>
                <p:cNvPr id="1191" name=""/>
                <p:cNvSpPr/>
                <p:nvPr/>
              </p:nvSpPr>
              <p:spPr>
                <a:xfrm>
                  <a:off x="304776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3124080" y="2895480"/>
                  <a:ext cx="15228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3" name=""/>
              <p:cNvGrpSpPr/>
              <p:nvPr/>
            </p:nvGrpSpPr>
            <p:grpSpPr>
              <a:xfrm>
                <a:off x="3047760" y="3124080"/>
                <a:ext cx="304920" cy="304920"/>
                <a:chOff x="3047760" y="3124080"/>
                <a:chExt cx="304920" cy="30492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3047760" y="31240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3124080" y="320040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6" name=""/>
              <p:cNvGrpSpPr/>
              <p:nvPr/>
            </p:nvGrpSpPr>
            <p:grpSpPr>
              <a:xfrm>
                <a:off x="3047760" y="3429000"/>
                <a:ext cx="304920" cy="304920"/>
                <a:chOff x="3047760" y="3429000"/>
                <a:chExt cx="304920" cy="304920"/>
              </a:xfrm>
            </p:grpSpPr>
            <p:sp>
              <p:nvSpPr>
                <p:cNvPr id="1197" name=""/>
                <p:cNvSpPr/>
                <p:nvPr/>
              </p:nvSpPr>
              <p:spPr>
                <a:xfrm>
                  <a:off x="3047760" y="34290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3124080" y="35053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9" name=""/>
              <p:cNvGrpSpPr/>
              <p:nvPr/>
            </p:nvGrpSpPr>
            <p:grpSpPr>
              <a:xfrm>
                <a:off x="2742840" y="2514600"/>
                <a:ext cx="304920" cy="304920"/>
                <a:chOff x="2742840" y="2514600"/>
                <a:chExt cx="304920" cy="304920"/>
              </a:xfrm>
            </p:grpSpPr>
            <p:sp>
              <p:nvSpPr>
                <p:cNvPr id="1200" name=""/>
                <p:cNvSpPr/>
                <p:nvPr/>
              </p:nvSpPr>
              <p:spPr>
                <a:xfrm>
                  <a:off x="2742840" y="25146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2819160" y="25909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2" name=""/>
              <p:cNvGrpSpPr/>
              <p:nvPr/>
            </p:nvGrpSpPr>
            <p:grpSpPr>
              <a:xfrm>
                <a:off x="2742840" y="2819520"/>
                <a:ext cx="304920" cy="304560"/>
                <a:chOff x="2742840" y="2819520"/>
                <a:chExt cx="304920" cy="304560"/>
              </a:xfrm>
            </p:grpSpPr>
            <p:sp>
              <p:nvSpPr>
                <p:cNvPr id="1203" name=""/>
                <p:cNvSpPr/>
                <p:nvPr/>
              </p:nvSpPr>
              <p:spPr>
                <a:xfrm>
                  <a:off x="274284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2819160" y="2895480"/>
                  <a:ext cx="15228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5" name=""/>
              <p:cNvGrpSpPr/>
              <p:nvPr/>
            </p:nvGrpSpPr>
            <p:grpSpPr>
              <a:xfrm>
                <a:off x="2742840" y="3124080"/>
                <a:ext cx="304920" cy="304920"/>
                <a:chOff x="2742840" y="3124080"/>
                <a:chExt cx="304920" cy="30492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2742840" y="31240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2819160" y="320040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8" name=""/>
              <p:cNvGrpSpPr/>
              <p:nvPr/>
            </p:nvGrpSpPr>
            <p:grpSpPr>
              <a:xfrm>
                <a:off x="2742840" y="3429000"/>
                <a:ext cx="304920" cy="304920"/>
                <a:chOff x="2742840" y="3429000"/>
                <a:chExt cx="304920" cy="304920"/>
              </a:xfrm>
            </p:grpSpPr>
            <p:sp>
              <p:nvSpPr>
                <p:cNvPr id="1209" name=""/>
                <p:cNvSpPr/>
                <p:nvPr/>
              </p:nvSpPr>
              <p:spPr>
                <a:xfrm>
                  <a:off x="2742840" y="34290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2819160" y="35053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1" name=""/>
              <p:cNvGrpSpPr/>
              <p:nvPr/>
            </p:nvGrpSpPr>
            <p:grpSpPr>
              <a:xfrm>
                <a:off x="2438280" y="2514600"/>
                <a:ext cx="304560" cy="304920"/>
                <a:chOff x="2438280" y="2514600"/>
                <a:chExt cx="304560" cy="304920"/>
              </a:xfrm>
            </p:grpSpPr>
            <p:sp>
              <p:nvSpPr>
                <p:cNvPr id="1212" name=""/>
                <p:cNvSpPr/>
                <p:nvPr/>
              </p:nvSpPr>
              <p:spPr>
                <a:xfrm>
                  <a:off x="2438280" y="25146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2514240" y="259092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4" name=""/>
              <p:cNvGrpSpPr/>
              <p:nvPr/>
            </p:nvGrpSpPr>
            <p:grpSpPr>
              <a:xfrm>
                <a:off x="2438280" y="2819520"/>
                <a:ext cx="304560" cy="304560"/>
                <a:chOff x="2438280" y="2819520"/>
                <a:chExt cx="304560" cy="304560"/>
              </a:xfrm>
            </p:grpSpPr>
            <p:sp>
              <p:nvSpPr>
                <p:cNvPr id="1215" name=""/>
                <p:cNvSpPr/>
                <p:nvPr/>
              </p:nvSpPr>
              <p:spPr>
                <a:xfrm>
                  <a:off x="2438280" y="28195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2514240" y="2895480"/>
                  <a:ext cx="15192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7" name=""/>
              <p:cNvGrpSpPr/>
              <p:nvPr/>
            </p:nvGrpSpPr>
            <p:grpSpPr>
              <a:xfrm>
                <a:off x="2438280" y="3124080"/>
                <a:ext cx="304560" cy="304920"/>
                <a:chOff x="2438280" y="3124080"/>
                <a:chExt cx="304560" cy="304920"/>
              </a:xfrm>
            </p:grpSpPr>
            <p:sp>
              <p:nvSpPr>
                <p:cNvPr id="1218" name=""/>
                <p:cNvSpPr/>
                <p:nvPr/>
              </p:nvSpPr>
              <p:spPr>
                <a:xfrm>
                  <a:off x="243828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2514240" y="320040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0" name=""/>
              <p:cNvGrpSpPr/>
              <p:nvPr/>
            </p:nvGrpSpPr>
            <p:grpSpPr>
              <a:xfrm>
                <a:off x="2438280" y="3429000"/>
                <a:ext cx="304560" cy="304920"/>
                <a:chOff x="2438280" y="3429000"/>
                <a:chExt cx="304560" cy="304920"/>
              </a:xfrm>
            </p:grpSpPr>
            <p:sp>
              <p:nvSpPr>
                <p:cNvPr id="1221" name=""/>
                <p:cNvSpPr/>
                <p:nvPr/>
              </p:nvSpPr>
              <p:spPr>
                <a:xfrm>
                  <a:off x="243828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2514240" y="350532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3" name=""/>
              <p:cNvGrpSpPr/>
              <p:nvPr/>
            </p:nvGrpSpPr>
            <p:grpSpPr>
              <a:xfrm>
                <a:off x="2133360" y="2514600"/>
                <a:ext cx="304920" cy="304920"/>
                <a:chOff x="2133360" y="2514600"/>
                <a:chExt cx="304920" cy="30492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2133360" y="25146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2209680" y="25909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6" name=""/>
              <p:cNvGrpSpPr/>
              <p:nvPr/>
            </p:nvGrpSpPr>
            <p:grpSpPr>
              <a:xfrm>
                <a:off x="2133360" y="2819520"/>
                <a:ext cx="304920" cy="304560"/>
                <a:chOff x="2133360" y="2819520"/>
                <a:chExt cx="304920" cy="304560"/>
              </a:xfrm>
            </p:grpSpPr>
            <p:sp>
              <p:nvSpPr>
                <p:cNvPr id="1227" name=""/>
                <p:cNvSpPr/>
                <p:nvPr/>
              </p:nvSpPr>
              <p:spPr>
                <a:xfrm>
                  <a:off x="213336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2209680" y="2895480"/>
                  <a:ext cx="15228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9" name=""/>
              <p:cNvGrpSpPr/>
              <p:nvPr/>
            </p:nvGrpSpPr>
            <p:grpSpPr>
              <a:xfrm>
                <a:off x="2133360" y="3124080"/>
                <a:ext cx="304920" cy="304920"/>
                <a:chOff x="2133360" y="3124080"/>
                <a:chExt cx="304920" cy="304920"/>
              </a:xfrm>
            </p:grpSpPr>
            <p:sp>
              <p:nvSpPr>
                <p:cNvPr id="1230" name=""/>
                <p:cNvSpPr/>
                <p:nvPr/>
              </p:nvSpPr>
              <p:spPr>
                <a:xfrm>
                  <a:off x="2133360" y="31240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2209680" y="320040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2" name=""/>
              <p:cNvGrpSpPr/>
              <p:nvPr/>
            </p:nvGrpSpPr>
            <p:grpSpPr>
              <a:xfrm>
                <a:off x="2133360" y="3429000"/>
                <a:ext cx="304920" cy="304920"/>
                <a:chOff x="2133360" y="3429000"/>
                <a:chExt cx="304920" cy="304920"/>
              </a:xfrm>
            </p:grpSpPr>
            <p:sp>
              <p:nvSpPr>
                <p:cNvPr id="1233" name=""/>
                <p:cNvSpPr/>
                <p:nvPr/>
              </p:nvSpPr>
              <p:spPr>
                <a:xfrm>
                  <a:off x="2133360" y="34290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2209680" y="35053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5" name=""/>
              <p:cNvGrpSpPr/>
              <p:nvPr/>
            </p:nvGrpSpPr>
            <p:grpSpPr>
              <a:xfrm>
                <a:off x="1828440" y="2514600"/>
                <a:ext cx="304920" cy="304920"/>
                <a:chOff x="1828440" y="2514600"/>
                <a:chExt cx="304920" cy="30492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1828440" y="25146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1904760" y="25909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8" name=""/>
              <p:cNvGrpSpPr/>
              <p:nvPr/>
            </p:nvGrpSpPr>
            <p:grpSpPr>
              <a:xfrm>
                <a:off x="1828440" y="2819520"/>
                <a:ext cx="304920" cy="304560"/>
                <a:chOff x="1828440" y="2819520"/>
                <a:chExt cx="304920" cy="304560"/>
              </a:xfrm>
            </p:grpSpPr>
            <p:sp>
              <p:nvSpPr>
                <p:cNvPr id="1239" name=""/>
                <p:cNvSpPr/>
                <p:nvPr/>
              </p:nvSpPr>
              <p:spPr>
                <a:xfrm>
                  <a:off x="182844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1904760" y="2895480"/>
                  <a:ext cx="15228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1" name=""/>
              <p:cNvGrpSpPr/>
              <p:nvPr/>
            </p:nvGrpSpPr>
            <p:grpSpPr>
              <a:xfrm>
                <a:off x="1828440" y="3124080"/>
                <a:ext cx="304920" cy="304920"/>
                <a:chOff x="1828440" y="3124080"/>
                <a:chExt cx="304920" cy="304920"/>
              </a:xfrm>
            </p:grpSpPr>
            <p:sp>
              <p:nvSpPr>
                <p:cNvPr id="1242" name=""/>
                <p:cNvSpPr/>
                <p:nvPr/>
              </p:nvSpPr>
              <p:spPr>
                <a:xfrm>
                  <a:off x="1828440" y="31240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1904760" y="320040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4" name=""/>
              <p:cNvGrpSpPr/>
              <p:nvPr/>
            </p:nvGrpSpPr>
            <p:grpSpPr>
              <a:xfrm>
                <a:off x="1828440" y="3429000"/>
                <a:ext cx="304920" cy="304920"/>
                <a:chOff x="1828440" y="3429000"/>
                <a:chExt cx="304920" cy="304920"/>
              </a:xfrm>
            </p:grpSpPr>
            <p:sp>
              <p:nvSpPr>
                <p:cNvPr id="1245" name=""/>
                <p:cNvSpPr/>
                <p:nvPr/>
              </p:nvSpPr>
              <p:spPr>
                <a:xfrm>
                  <a:off x="1828440" y="34290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1904760" y="35053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7" name=""/>
              <p:cNvGrpSpPr/>
              <p:nvPr/>
            </p:nvGrpSpPr>
            <p:grpSpPr>
              <a:xfrm>
                <a:off x="1523880" y="2514600"/>
                <a:ext cx="304560" cy="304920"/>
                <a:chOff x="1523880" y="2514600"/>
                <a:chExt cx="304560" cy="30492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1523880" y="25146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1599840" y="259092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0" name=""/>
              <p:cNvGrpSpPr/>
              <p:nvPr/>
            </p:nvGrpSpPr>
            <p:grpSpPr>
              <a:xfrm>
                <a:off x="1523880" y="2819520"/>
                <a:ext cx="304560" cy="304560"/>
                <a:chOff x="1523880" y="2819520"/>
                <a:chExt cx="304560" cy="30456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1523880" y="28195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1599840" y="2895480"/>
                  <a:ext cx="15192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3" name=""/>
              <p:cNvGrpSpPr/>
              <p:nvPr/>
            </p:nvGrpSpPr>
            <p:grpSpPr>
              <a:xfrm>
                <a:off x="1523880" y="3124080"/>
                <a:ext cx="304560" cy="304920"/>
                <a:chOff x="1523880" y="3124080"/>
                <a:chExt cx="304560" cy="304920"/>
              </a:xfrm>
            </p:grpSpPr>
            <p:sp>
              <p:nvSpPr>
                <p:cNvPr id="1254" name=""/>
                <p:cNvSpPr/>
                <p:nvPr/>
              </p:nvSpPr>
              <p:spPr>
                <a:xfrm>
                  <a:off x="152388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1599840" y="320040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6" name=""/>
              <p:cNvGrpSpPr/>
              <p:nvPr/>
            </p:nvGrpSpPr>
            <p:grpSpPr>
              <a:xfrm>
                <a:off x="1523880" y="3429000"/>
                <a:ext cx="304560" cy="304920"/>
                <a:chOff x="1523880" y="3429000"/>
                <a:chExt cx="304560" cy="304920"/>
              </a:xfrm>
            </p:grpSpPr>
            <p:sp>
              <p:nvSpPr>
                <p:cNvPr id="1257" name=""/>
                <p:cNvSpPr/>
                <p:nvPr/>
              </p:nvSpPr>
              <p:spPr>
                <a:xfrm>
                  <a:off x="152388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1599840" y="350532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9" name=""/>
            <p:cNvSpPr/>
            <p:nvPr/>
          </p:nvSpPr>
          <p:spPr>
            <a:xfrm>
              <a:off x="685800" y="2154240"/>
              <a:ext cx="838080" cy="797040"/>
            </a:xfrm>
            <a:prstGeom prst="rightArrow">
              <a:avLst>
                <a:gd name="adj1" fmla="val 50000"/>
                <a:gd name="adj2" fmla="val 2628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0" name=""/>
          <p:cNvGrpSpPr/>
          <p:nvPr/>
        </p:nvGrpSpPr>
        <p:grpSpPr>
          <a:xfrm>
            <a:off x="3200400" y="2409840"/>
            <a:ext cx="3200400" cy="1628640"/>
            <a:chOff x="3200400" y="2409840"/>
            <a:chExt cx="3200400" cy="1628640"/>
          </a:xfrm>
        </p:grpSpPr>
        <p:grpSp>
          <p:nvGrpSpPr>
            <p:cNvPr id="1261" name=""/>
            <p:cNvGrpSpPr/>
            <p:nvPr/>
          </p:nvGrpSpPr>
          <p:grpSpPr>
            <a:xfrm>
              <a:off x="3962520" y="2819520"/>
              <a:ext cx="2438280" cy="1218960"/>
              <a:chOff x="3962520" y="2819520"/>
              <a:chExt cx="2438280" cy="1218960"/>
            </a:xfrm>
          </p:grpSpPr>
          <p:grpSp>
            <p:nvGrpSpPr>
              <p:cNvPr id="1262" name=""/>
              <p:cNvGrpSpPr/>
              <p:nvPr/>
            </p:nvGrpSpPr>
            <p:grpSpPr>
              <a:xfrm>
                <a:off x="3962520" y="2819520"/>
                <a:ext cx="304920" cy="304560"/>
                <a:chOff x="3962520" y="2819520"/>
                <a:chExt cx="304920" cy="30456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396252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4038840" y="28954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5" name=""/>
              <p:cNvSpPr/>
              <p:nvPr/>
            </p:nvSpPr>
            <p:spPr>
              <a:xfrm>
                <a:off x="3962520" y="2819520"/>
                <a:ext cx="2438280" cy="1218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6" name=""/>
              <p:cNvGrpSpPr/>
              <p:nvPr/>
            </p:nvGrpSpPr>
            <p:grpSpPr>
              <a:xfrm>
                <a:off x="3962520" y="3124080"/>
                <a:ext cx="304920" cy="304560"/>
                <a:chOff x="3962520" y="3124080"/>
                <a:chExt cx="304920" cy="30456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3962520" y="31240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4038840" y="320004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9" name=""/>
              <p:cNvGrpSpPr/>
              <p:nvPr/>
            </p:nvGrpSpPr>
            <p:grpSpPr>
              <a:xfrm>
                <a:off x="3962520" y="3429000"/>
                <a:ext cx="304920" cy="304560"/>
                <a:chOff x="3962520" y="3429000"/>
                <a:chExt cx="304920" cy="304560"/>
              </a:xfrm>
            </p:grpSpPr>
            <p:sp>
              <p:nvSpPr>
                <p:cNvPr id="1270" name=""/>
                <p:cNvSpPr/>
                <p:nvPr/>
              </p:nvSpPr>
              <p:spPr>
                <a:xfrm>
                  <a:off x="3962520" y="34290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4038840" y="350496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2" name=""/>
              <p:cNvGrpSpPr/>
              <p:nvPr/>
            </p:nvGrpSpPr>
            <p:grpSpPr>
              <a:xfrm>
                <a:off x="3962520" y="3733920"/>
                <a:ext cx="304920" cy="304560"/>
                <a:chOff x="3962520" y="3733920"/>
                <a:chExt cx="304920" cy="304560"/>
              </a:xfrm>
            </p:grpSpPr>
            <p:sp>
              <p:nvSpPr>
                <p:cNvPr id="1273" name=""/>
                <p:cNvSpPr/>
                <p:nvPr/>
              </p:nvSpPr>
              <p:spPr>
                <a:xfrm>
                  <a:off x="396252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4038840" y="38098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5" name=""/>
              <p:cNvGrpSpPr/>
              <p:nvPr/>
            </p:nvGrpSpPr>
            <p:grpSpPr>
              <a:xfrm>
                <a:off x="4267440" y="2819520"/>
                <a:ext cx="304560" cy="304560"/>
                <a:chOff x="4267440" y="2819520"/>
                <a:chExt cx="304560" cy="30456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4267440" y="28195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4343400" y="289548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8" name=""/>
              <p:cNvGrpSpPr/>
              <p:nvPr/>
            </p:nvGrpSpPr>
            <p:grpSpPr>
              <a:xfrm>
                <a:off x="4267440" y="3124080"/>
                <a:ext cx="304560" cy="304560"/>
                <a:chOff x="4267440" y="3124080"/>
                <a:chExt cx="304560" cy="304560"/>
              </a:xfrm>
            </p:grpSpPr>
            <p:sp>
              <p:nvSpPr>
                <p:cNvPr id="1279" name=""/>
                <p:cNvSpPr/>
                <p:nvPr/>
              </p:nvSpPr>
              <p:spPr>
                <a:xfrm>
                  <a:off x="4267440" y="31240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343400" y="320004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1" name=""/>
              <p:cNvGrpSpPr/>
              <p:nvPr/>
            </p:nvGrpSpPr>
            <p:grpSpPr>
              <a:xfrm>
                <a:off x="4267440" y="3429000"/>
                <a:ext cx="304560" cy="304560"/>
                <a:chOff x="4267440" y="3429000"/>
                <a:chExt cx="304560" cy="304560"/>
              </a:xfrm>
            </p:grpSpPr>
            <p:sp>
              <p:nvSpPr>
                <p:cNvPr id="1282" name=""/>
                <p:cNvSpPr/>
                <p:nvPr/>
              </p:nvSpPr>
              <p:spPr>
                <a:xfrm>
                  <a:off x="4267440" y="342900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4343400" y="350496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4" name=""/>
              <p:cNvGrpSpPr/>
              <p:nvPr/>
            </p:nvGrpSpPr>
            <p:grpSpPr>
              <a:xfrm>
                <a:off x="4267440" y="3733920"/>
                <a:ext cx="304560" cy="304560"/>
                <a:chOff x="4267440" y="3733920"/>
                <a:chExt cx="304560" cy="304560"/>
              </a:xfrm>
            </p:grpSpPr>
            <p:sp>
              <p:nvSpPr>
                <p:cNvPr id="1285" name=""/>
                <p:cNvSpPr/>
                <p:nvPr/>
              </p:nvSpPr>
              <p:spPr>
                <a:xfrm>
                  <a:off x="426744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4343400" y="380988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4572000" y="2819520"/>
                <a:ext cx="304920" cy="304560"/>
                <a:chOff x="4572000" y="2819520"/>
                <a:chExt cx="304920" cy="30456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457200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4648320" y="28954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0" name=""/>
              <p:cNvGrpSpPr/>
              <p:nvPr/>
            </p:nvGrpSpPr>
            <p:grpSpPr>
              <a:xfrm>
                <a:off x="4572000" y="3124080"/>
                <a:ext cx="304920" cy="304560"/>
                <a:chOff x="4572000" y="3124080"/>
                <a:chExt cx="304920" cy="304560"/>
              </a:xfrm>
            </p:grpSpPr>
            <p:sp>
              <p:nvSpPr>
                <p:cNvPr id="1291" name=""/>
                <p:cNvSpPr/>
                <p:nvPr/>
              </p:nvSpPr>
              <p:spPr>
                <a:xfrm>
                  <a:off x="4572000" y="31240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4648320" y="320004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3" name=""/>
              <p:cNvGrpSpPr/>
              <p:nvPr/>
            </p:nvGrpSpPr>
            <p:grpSpPr>
              <a:xfrm>
                <a:off x="4572000" y="3429000"/>
                <a:ext cx="304920" cy="304560"/>
                <a:chOff x="4572000" y="3429000"/>
                <a:chExt cx="304920" cy="304560"/>
              </a:xfrm>
            </p:grpSpPr>
            <p:sp>
              <p:nvSpPr>
                <p:cNvPr id="1294" name=""/>
                <p:cNvSpPr/>
                <p:nvPr/>
              </p:nvSpPr>
              <p:spPr>
                <a:xfrm>
                  <a:off x="4572000" y="34290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4648320" y="350496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6" name=""/>
              <p:cNvGrpSpPr/>
              <p:nvPr/>
            </p:nvGrpSpPr>
            <p:grpSpPr>
              <a:xfrm>
                <a:off x="4572000" y="3733920"/>
                <a:ext cx="304920" cy="304560"/>
                <a:chOff x="4572000" y="3733920"/>
                <a:chExt cx="304920" cy="304560"/>
              </a:xfrm>
            </p:grpSpPr>
            <p:sp>
              <p:nvSpPr>
                <p:cNvPr id="1297" name=""/>
                <p:cNvSpPr/>
                <p:nvPr/>
              </p:nvSpPr>
              <p:spPr>
                <a:xfrm>
                  <a:off x="457200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4648320" y="38098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9" name=""/>
              <p:cNvGrpSpPr/>
              <p:nvPr/>
            </p:nvGrpSpPr>
            <p:grpSpPr>
              <a:xfrm>
                <a:off x="4876920" y="2819520"/>
                <a:ext cx="304920" cy="304560"/>
                <a:chOff x="4876920" y="2819520"/>
                <a:chExt cx="304920" cy="304560"/>
              </a:xfrm>
            </p:grpSpPr>
            <p:sp>
              <p:nvSpPr>
                <p:cNvPr id="1300" name=""/>
                <p:cNvSpPr/>
                <p:nvPr/>
              </p:nvSpPr>
              <p:spPr>
                <a:xfrm>
                  <a:off x="487692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4953240" y="28954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2" name=""/>
              <p:cNvGrpSpPr/>
              <p:nvPr/>
            </p:nvGrpSpPr>
            <p:grpSpPr>
              <a:xfrm>
                <a:off x="4876920" y="3124080"/>
                <a:ext cx="304920" cy="304560"/>
                <a:chOff x="4876920" y="3124080"/>
                <a:chExt cx="304920" cy="304560"/>
              </a:xfrm>
            </p:grpSpPr>
            <p:sp>
              <p:nvSpPr>
                <p:cNvPr id="1303" name=""/>
                <p:cNvSpPr/>
                <p:nvPr/>
              </p:nvSpPr>
              <p:spPr>
                <a:xfrm>
                  <a:off x="4876920" y="31240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4953240" y="320004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5" name=""/>
              <p:cNvGrpSpPr/>
              <p:nvPr/>
            </p:nvGrpSpPr>
            <p:grpSpPr>
              <a:xfrm>
                <a:off x="4876920" y="3429000"/>
                <a:ext cx="304920" cy="304560"/>
                <a:chOff x="4876920" y="3429000"/>
                <a:chExt cx="304920" cy="304560"/>
              </a:xfrm>
            </p:grpSpPr>
            <p:sp>
              <p:nvSpPr>
                <p:cNvPr id="1306" name=""/>
                <p:cNvSpPr/>
                <p:nvPr/>
              </p:nvSpPr>
              <p:spPr>
                <a:xfrm>
                  <a:off x="4876920" y="34290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4953240" y="350496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8" name=""/>
              <p:cNvGrpSpPr/>
              <p:nvPr/>
            </p:nvGrpSpPr>
            <p:grpSpPr>
              <a:xfrm>
                <a:off x="4876920" y="3733920"/>
                <a:ext cx="304920" cy="304560"/>
                <a:chOff x="4876920" y="3733920"/>
                <a:chExt cx="304920" cy="30456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487692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4953240" y="38098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1" name=""/>
              <p:cNvGrpSpPr/>
              <p:nvPr/>
            </p:nvGrpSpPr>
            <p:grpSpPr>
              <a:xfrm>
                <a:off x="5181840" y="2819520"/>
                <a:ext cx="304560" cy="304560"/>
                <a:chOff x="5181840" y="2819520"/>
                <a:chExt cx="304560" cy="304560"/>
              </a:xfrm>
            </p:grpSpPr>
            <p:sp>
              <p:nvSpPr>
                <p:cNvPr id="1312" name=""/>
                <p:cNvSpPr/>
                <p:nvPr/>
              </p:nvSpPr>
              <p:spPr>
                <a:xfrm>
                  <a:off x="5181840" y="28195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5257800" y="289548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4" name=""/>
              <p:cNvGrpSpPr/>
              <p:nvPr/>
            </p:nvGrpSpPr>
            <p:grpSpPr>
              <a:xfrm>
                <a:off x="5181840" y="3124080"/>
                <a:ext cx="304560" cy="304560"/>
                <a:chOff x="5181840" y="3124080"/>
                <a:chExt cx="304560" cy="304560"/>
              </a:xfrm>
            </p:grpSpPr>
            <p:sp>
              <p:nvSpPr>
                <p:cNvPr id="1315" name=""/>
                <p:cNvSpPr/>
                <p:nvPr/>
              </p:nvSpPr>
              <p:spPr>
                <a:xfrm>
                  <a:off x="5181840" y="31240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5257800" y="320004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7" name=""/>
              <p:cNvGrpSpPr/>
              <p:nvPr/>
            </p:nvGrpSpPr>
            <p:grpSpPr>
              <a:xfrm>
                <a:off x="5181840" y="3429000"/>
                <a:ext cx="304560" cy="304560"/>
                <a:chOff x="5181840" y="3429000"/>
                <a:chExt cx="304560" cy="304560"/>
              </a:xfrm>
            </p:grpSpPr>
            <p:sp>
              <p:nvSpPr>
                <p:cNvPr id="1318" name=""/>
                <p:cNvSpPr/>
                <p:nvPr/>
              </p:nvSpPr>
              <p:spPr>
                <a:xfrm>
                  <a:off x="5181840" y="342900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5257800" y="350496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0" name=""/>
              <p:cNvGrpSpPr/>
              <p:nvPr/>
            </p:nvGrpSpPr>
            <p:grpSpPr>
              <a:xfrm>
                <a:off x="5181840" y="3733920"/>
                <a:ext cx="304560" cy="304560"/>
                <a:chOff x="5181840" y="3733920"/>
                <a:chExt cx="304560" cy="304560"/>
              </a:xfrm>
            </p:grpSpPr>
            <p:sp>
              <p:nvSpPr>
                <p:cNvPr id="1321" name=""/>
                <p:cNvSpPr/>
                <p:nvPr/>
              </p:nvSpPr>
              <p:spPr>
                <a:xfrm>
                  <a:off x="518184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5257800" y="380988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3" name=""/>
              <p:cNvGrpSpPr/>
              <p:nvPr/>
            </p:nvGrpSpPr>
            <p:grpSpPr>
              <a:xfrm>
                <a:off x="5486400" y="2819520"/>
                <a:ext cx="304920" cy="304560"/>
                <a:chOff x="5486400" y="2819520"/>
                <a:chExt cx="304920" cy="304560"/>
              </a:xfrm>
            </p:grpSpPr>
            <p:sp>
              <p:nvSpPr>
                <p:cNvPr id="1324" name=""/>
                <p:cNvSpPr/>
                <p:nvPr/>
              </p:nvSpPr>
              <p:spPr>
                <a:xfrm>
                  <a:off x="548640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5562720" y="28954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5486400" y="3124080"/>
                <a:ext cx="304920" cy="304560"/>
                <a:chOff x="5486400" y="3124080"/>
                <a:chExt cx="304920" cy="304560"/>
              </a:xfrm>
            </p:grpSpPr>
            <p:sp>
              <p:nvSpPr>
                <p:cNvPr id="1327" name=""/>
                <p:cNvSpPr/>
                <p:nvPr/>
              </p:nvSpPr>
              <p:spPr>
                <a:xfrm>
                  <a:off x="5486400" y="31240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5562720" y="320004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9" name=""/>
              <p:cNvGrpSpPr/>
              <p:nvPr/>
            </p:nvGrpSpPr>
            <p:grpSpPr>
              <a:xfrm>
                <a:off x="5486400" y="3429000"/>
                <a:ext cx="304920" cy="304560"/>
                <a:chOff x="5486400" y="3429000"/>
                <a:chExt cx="304920" cy="304560"/>
              </a:xfrm>
            </p:grpSpPr>
            <p:sp>
              <p:nvSpPr>
                <p:cNvPr id="1330" name=""/>
                <p:cNvSpPr/>
                <p:nvPr/>
              </p:nvSpPr>
              <p:spPr>
                <a:xfrm>
                  <a:off x="5486400" y="34290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562720" y="350496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2" name=""/>
              <p:cNvGrpSpPr/>
              <p:nvPr/>
            </p:nvGrpSpPr>
            <p:grpSpPr>
              <a:xfrm>
                <a:off x="5486400" y="3733920"/>
                <a:ext cx="304920" cy="304560"/>
                <a:chOff x="5486400" y="3733920"/>
                <a:chExt cx="304920" cy="304560"/>
              </a:xfrm>
            </p:grpSpPr>
            <p:sp>
              <p:nvSpPr>
                <p:cNvPr id="1333" name=""/>
                <p:cNvSpPr/>
                <p:nvPr/>
              </p:nvSpPr>
              <p:spPr>
                <a:xfrm>
                  <a:off x="548640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5562720" y="38098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5" name=""/>
              <p:cNvGrpSpPr/>
              <p:nvPr/>
            </p:nvGrpSpPr>
            <p:grpSpPr>
              <a:xfrm>
                <a:off x="5791320" y="2819520"/>
                <a:ext cx="304920" cy="304560"/>
                <a:chOff x="5791320" y="2819520"/>
                <a:chExt cx="304920" cy="304560"/>
              </a:xfrm>
            </p:grpSpPr>
            <p:sp>
              <p:nvSpPr>
                <p:cNvPr id="1336" name=""/>
                <p:cNvSpPr/>
                <p:nvPr/>
              </p:nvSpPr>
              <p:spPr>
                <a:xfrm>
                  <a:off x="579132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5867640" y="28954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8" name=""/>
              <p:cNvGrpSpPr/>
              <p:nvPr/>
            </p:nvGrpSpPr>
            <p:grpSpPr>
              <a:xfrm>
                <a:off x="5791320" y="3124080"/>
                <a:ext cx="304920" cy="304560"/>
                <a:chOff x="5791320" y="3124080"/>
                <a:chExt cx="304920" cy="304560"/>
              </a:xfrm>
            </p:grpSpPr>
            <p:sp>
              <p:nvSpPr>
                <p:cNvPr id="1339" name=""/>
                <p:cNvSpPr/>
                <p:nvPr/>
              </p:nvSpPr>
              <p:spPr>
                <a:xfrm>
                  <a:off x="5791320" y="31240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5867640" y="320004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1" name=""/>
              <p:cNvGrpSpPr/>
              <p:nvPr/>
            </p:nvGrpSpPr>
            <p:grpSpPr>
              <a:xfrm>
                <a:off x="5791320" y="3429000"/>
                <a:ext cx="304920" cy="304560"/>
                <a:chOff x="5791320" y="3429000"/>
                <a:chExt cx="304920" cy="304560"/>
              </a:xfrm>
            </p:grpSpPr>
            <p:sp>
              <p:nvSpPr>
                <p:cNvPr id="1342" name=""/>
                <p:cNvSpPr/>
                <p:nvPr/>
              </p:nvSpPr>
              <p:spPr>
                <a:xfrm>
                  <a:off x="5791320" y="34290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5867640" y="350496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4" name=""/>
              <p:cNvGrpSpPr/>
              <p:nvPr/>
            </p:nvGrpSpPr>
            <p:grpSpPr>
              <a:xfrm>
                <a:off x="5791320" y="3733920"/>
                <a:ext cx="304920" cy="304560"/>
                <a:chOff x="5791320" y="3733920"/>
                <a:chExt cx="304920" cy="304560"/>
              </a:xfrm>
            </p:grpSpPr>
            <p:sp>
              <p:nvSpPr>
                <p:cNvPr id="1345" name=""/>
                <p:cNvSpPr/>
                <p:nvPr/>
              </p:nvSpPr>
              <p:spPr>
                <a:xfrm>
                  <a:off x="579132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5867640" y="38098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7" name=""/>
              <p:cNvGrpSpPr/>
              <p:nvPr/>
            </p:nvGrpSpPr>
            <p:grpSpPr>
              <a:xfrm>
                <a:off x="6096240" y="2819520"/>
                <a:ext cx="304560" cy="304560"/>
                <a:chOff x="6096240" y="2819520"/>
                <a:chExt cx="304560" cy="304560"/>
              </a:xfrm>
            </p:grpSpPr>
            <p:sp>
              <p:nvSpPr>
                <p:cNvPr id="1348" name=""/>
                <p:cNvSpPr/>
                <p:nvPr/>
              </p:nvSpPr>
              <p:spPr>
                <a:xfrm>
                  <a:off x="6096240" y="28195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6172200" y="289548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0" name=""/>
              <p:cNvGrpSpPr/>
              <p:nvPr/>
            </p:nvGrpSpPr>
            <p:grpSpPr>
              <a:xfrm>
                <a:off x="6096240" y="3124080"/>
                <a:ext cx="304560" cy="304560"/>
                <a:chOff x="6096240" y="3124080"/>
                <a:chExt cx="304560" cy="304560"/>
              </a:xfrm>
            </p:grpSpPr>
            <p:sp>
              <p:nvSpPr>
                <p:cNvPr id="1351" name=""/>
                <p:cNvSpPr/>
                <p:nvPr/>
              </p:nvSpPr>
              <p:spPr>
                <a:xfrm>
                  <a:off x="6096240" y="31240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6172200" y="320004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6096240" y="3429000"/>
                <a:ext cx="304560" cy="304560"/>
                <a:chOff x="6096240" y="3429000"/>
                <a:chExt cx="304560" cy="30456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6096240" y="342900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6172200" y="350496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6" name=""/>
              <p:cNvGrpSpPr/>
              <p:nvPr/>
            </p:nvGrpSpPr>
            <p:grpSpPr>
              <a:xfrm>
                <a:off x="6096240" y="3733920"/>
                <a:ext cx="304560" cy="304560"/>
                <a:chOff x="6096240" y="3733920"/>
                <a:chExt cx="304560" cy="304560"/>
              </a:xfrm>
            </p:grpSpPr>
            <p:sp>
              <p:nvSpPr>
                <p:cNvPr id="1357" name=""/>
                <p:cNvSpPr/>
                <p:nvPr/>
              </p:nvSpPr>
              <p:spPr>
                <a:xfrm>
                  <a:off x="609624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6172200" y="380988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59" name=""/>
            <p:cNvSpPr/>
            <p:nvPr/>
          </p:nvSpPr>
          <p:spPr>
            <a:xfrm>
              <a:off x="3200400" y="2409840"/>
              <a:ext cx="762120" cy="7970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0" name=""/>
          <p:cNvGrpSpPr/>
          <p:nvPr/>
        </p:nvGrpSpPr>
        <p:grpSpPr>
          <a:xfrm>
            <a:off x="3200400" y="3629160"/>
            <a:ext cx="3200400" cy="1628640"/>
            <a:chOff x="3200400" y="3629160"/>
            <a:chExt cx="3200400" cy="1628640"/>
          </a:xfrm>
        </p:grpSpPr>
        <p:grpSp>
          <p:nvGrpSpPr>
            <p:cNvPr id="1361" name=""/>
            <p:cNvGrpSpPr/>
            <p:nvPr/>
          </p:nvGrpSpPr>
          <p:grpSpPr>
            <a:xfrm>
              <a:off x="3962520" y="4038480"/>
              <a:ext cx="2438280" cy="1219320"/>
              <a:chOff x="3962520" y="4038480"/>
              <a:chExt cx="2438280" cy="1219320"/>
            </a:xfrm>
          </p:grpSpPr>
          <p:grpSp>
            <p:nvGrpSpPr>
              <p:cNvPr id="1362" name=""/>
              <p:cNvGrpSpPr/>
              <p:nvPr/>
            </p:nvGrpSpPr>
            <p:grpSpPr>
              <a:xfrm>
                <a:off x="3962520" y="4038480"/>
                <a:ext cx="304920" cy="304920"/>
                <a:chOff x="3962520" y="4038480"/>
                <a:chExt cx="304920" cy="304920"/>
              </a:xfrm>
            </p:grpSpPr>
            <p:sp>
              <p:nvSpPr>
                <p:cNvPr id="1363" name=""/>
                <p:cNvSpPr/>
                <p:nvPr/>
              </p:nvSpPr>
              <p:spPr>
                <a:xfrm>
                  <a:off x="3962520" y="40384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4038840" y="41148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5" name=""/>
              <p:cNvSpPr/>
              <p:nvPr/>
            </p:nvSpPr>
            <p:spPr>
              <a:xfrm>
                <a:off x="3962520" y="4038480"/>
                <a:ext cx="2438280" cy="1219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6" name=""/>
              <p:cNvGrpSpPr/>
              <p:nvPr/>
            </p:nvGrpSpPr>
            <p:grpSpPr>
              <a:xfrm>
                <a:off x="3962520" y="4343400"/>
                <a:ext cx="304920" cy="304920"/>
                <a:chOff x="3962520" y="4343400"/>
                <a:chExt cx="304920" cy="304920"/>
              </a:xfrm>
            </p:grpSpPr>
            <p:sp>
              <p:nvSpPr>
                <p:cNvPr id="1367" name=""/>
                <p:cNvSpPr/>
                <p:nvPr/>
              </p:nvSpPr>
              <p:spPr>
                <a:xfrm>
                  <a:off x="3962520" y="43434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4038840" y="441972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9" name=""/>
              <p:cNvGrpSpPr/>
              <p:nvPr/>
            </p:nvGrpSpPr>
            <p:grpSpPr>
              <a:xfrm>
                <a:off x="3962520" y="4648320"/>
                <a:ext cx="304920" cy="304560"/>
                <a:chOff x="3962520" y="4648320"/>
                <a:chExt cx="304920" cy="30456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396252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4038840" y="4724280"/>
                  <a:ext cx="15228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2" name=""/>
              <p:cNvGrpSpPr/>
              <p:nvPr/>
            </p:nvGrpSpPr>
            <p:grpSpPr>
              <a:xfrm>
                <a:off x="3962520" y="4952880"/>
                <a:ext cx="304920" cy="304920"/>
                <a:chOff x="3962520" y="4952880"/>
                <a:chExt cx="304920" cy="304920"/>
              </a:xfrm>
            </p:grpSpPr>
            <p:sp>
              <p:nvSpPr>
                <p:cNvPr id="1373" name=""/>
                <p:cNvSpPr/>
                <p:nvPr/>
              </p:nvSpPr>
              <p:spPr>
                <a:xfrm>
                  <a:off x="3962520" y="49528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4038840" y="50292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5" name=""/>
              <p:cNvGrpSpPr/>
              <p:nvPr/>
            </p:nvGrpSpPr>
            <p:grpSpPr>
              <a:xfrm>
                <a:off x="4267440" y="4038480"/>
                <a:ext cx="304560" cy="304920"/>
                <a:chOff x="4267440" y="4038480"/>
                <a:chExt cx="304560" cy="304920"/>
              </a:xfrm>
            </p:grpSpPr>
            <p:sp>
              <p:nvSpPr>
                <p:cNvPr id="1376" name=""/>
                <p:cNvSpPr/>
                <p:nvPr/>
              </p:nvSpPr>
              <p:spPr>
                <a:xfrm>
                  <a:off x="426744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4343400" y="411480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8" name=""/>
              <p:cNvGrpSpPr/>
              <p:nvPr/>
            </p:nvGrpSpPr>
            <p:grpSpPr>
              <a:xfrm>
                <a:off x="4267440" y="4343400"/>
                <a:ext cx="304560" cy="304920"/>
                <a:chOff x="4267440" y="4343400"/>
                <a:chExt cx="304560" cy="304920"/>
              </a:xfrm>
            </p:grpSpPr>
            <p:sp>
              <p:nvSpPr>
                <p:cNvPr id="1379" name=""/>
                <p:cNvSpPr/>
                <p:nvPr/>
              </p:nvSpPr>
              <p:spPr>
                <a:xfrm>
                  <a:off x="426744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4343400" y="441972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1" name=""/>
              <p:cNvGrpSpPr/>
              <p:nvPr/>
            </p:nvGrpSpPr>
            <p:grpSpPr>
              <a:xfrm>
                <a:off x="4267440" y="4648320"/>
                <a:ext cx="304560" cy="304560"/>
                <a:chOff x="4267440" y="4648320"/>
                <a:chExt cx="304560" cy="304560"/>
              </a:xfrm>
            </p:grpSpPr>
            <p:sp>
              <p:nvSpPr>
                <p:cNvPr id="1382" name=""/>
                <p:cNvSpPr/>
                <p:nvPr/>
              </p:nvSpPr>
              <p:spPr>
                <a:xfrm>
                  <a:off x="426744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4343400" y="4724280"/>
                  <a:ext cx="15192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4" name=""/>
              <p:cNvGrpSpPr/>
              <p:nvPr/>
            </p:nvGrpSpPr>
            <p:grpSpPr>
              <a:xfrm>
                <a:off x="4267440" y="4952880"/>
                <a:ext cx="304560" cy="304920"/>
                <a:chOff x="4267440" y="4952880"/>
                <a:chExt cx="304560" cy="304920"/>
              </a:xfrm>
            </p:grpSpPr>
            <p:sp>
              <p:nvSpPr>
                <p:cNvPr id="1385" name=""/>
                <p:cNvSpPr/>
                <p:nvPr/>
              </p:nvSpPr>
              <p:spPr>
                <a:xfrm>
                  <a:off x="426744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4343400" y="502920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7" name=""/>
              <p:cNvGrpSpPr/>
              <p:nvPr/>
            </p:nvGrpSpPr>
            <p:grpSpPr>
              <a:xfrm>
                <a:off x="4572000" y="4038480"/>
                <a:ext cx="304920" cy="304920"/>
                <a:chOff x="4572000" y="4038480"/>
                <a:chExt cx="304920" cy="304920"/>
              </a:xfrm>
            </p:grpSpPr>
            <p:sp>
              <p:nvSpPr>
                <p:cNvPr id="1388" name=""/>
                <p:cNvSpPr/>
                <p:nvPr/>
              </p:nvSpPr>
              <p:spPr>
                <a:xfrm>
                  <a:off x="4572000" y="40384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4648320" y="41148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0" name=""/>
              <p:cNvGrpSpPr/>
              <p:nvPr/>
            </p:nvGrpSpPr>
            <p:grpSpPr>
              <a:xfrm>
                <a:off x="4572000" y="4343400"/>
                <a:ext cx="304920" cy="304920"/>
                <a:chOff x="4572000" y="4343400"/>
                <a:chExt cx="304920" cy="304920"/>
              </a:xfrm>
            </p:grpSpPr>
            <p:sp>
              <p:nvSpPr>
                <p:cNvPr id="1391" name=""/>
                <p:cNvSpPr/>
                <p:nvPr/>
              </p:nvSpPr>
              <p:spPr>
                <a:xfrm>
                  <a:off x="4572000" y="43434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4648320" y="441972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3" name=""/>
              <p:cNvGrpSpPr/>
              <p:nvPr/>
            </p:nvGrpSpPr>
            <p:grpSpPr>
              <a:xfrm>
                <a:off x="4572000" y="4648320"/>
                <a:ext cx="304920" cy="304560"/>
                <a:chOff x="4572000" y="4648320"/>
                <a:chExt cx="304920" cy="304560"/>
              </a:xfrm>
            </p:grpSpPr>
            <p:sp>
              <p:nvSpPr>
                <p:cNvPr id="1394" name=""/>
                <p:cNvSpPr/>
                <p:nvPr/>
              </p:nvSpPr>
              <p:spPr>
                <a:xfrm>
                  <a:off x="457200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4648320" y="4724280"/>
                  <a:ext cx="15228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6" name=""/>
              <p:cNvGrpSpPr/>
              <p:nvPr/>
            </p:nvGrpSpPr>
            <p:grpSpPr>
              <a:xfrm>
                <a:off x="4572000" y="4952880"/>
                <a:ext cx="304920" cy="304920"/>
                <a:chOff x="4572000" y="4952880"/>
                <a:chExt cx="304920" cy="304920"/>
              </a:xfrm>
            </p:grpSpPr>
            <p:sp>
              <p:nvSpPr>
                <p:cNvPr id="1397" name=""/>
                <p:cNvSpPr/>
                <p:nvPr/>
              </p:nvSpPr>
              <p:spPr>
                <a:xfrm>
                  <a:off x="4572000" y="49528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4648320" y="50292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9" name=""/>
              <p:cNvGrpSpPr/>
              <p:nvPr/>
            </p:nvGrpSpPr>
            <p:grpSpPr>
              <a:xfrm>
                <a:off x="4876920" y="4038480"/>
                <a:ext cx="304920" cy="304920"/>
                <a:chOff x="4876920" y="4038480"/>
                <a:chExt cx="304920" cy="304920"/>
              </a:xfrm>
            </p:grpSpPr>
            <p:sp>
              <p:nvSpPr>
                <p:cNvPr id="1400" name=""/>
                <p:cNvSpPr/>
                <p:nvPr/>
              </p:nvSpPr>
              <p:spPr>
                <a:xfrm>
                  <a:off x="4876920" y="40384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4953240" y="41148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2" name=""/>
              <p:cNvGrpSpPr/>
              <p:nvPr/>
            </p:nvGrpSpPr>
            <p:grpSpPr>
              <a:xfrm>
                <a:off x="4876920" y="4343400"/>
                <a:ext cx="304920" cy="304920"/>
                <a:chOff x="4876920" y="4343400"/>
                <a:chExt cx="304920" cy="304920"/>
              </a:xfrm>
            </p:grpSpPr>
            <p:sp>
              <p:nvSpPr>
                <p:cNvPr id="1403" name=""/>
                <p:cNvSpPr/>
                <p:nvPr/>
              </p:nvSpPr>
              <p:spPr>
                <a:xfrm>
                  <a:off x="4876920" y="43434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4953240" y="441972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5" name=""/>
              <p:cNvGrpSpPr/>
              <p:nvPr/>
            </p:nvGrpSpPr>
            <p:grpSpPr>
              <a:xfrm>
                <a:off x="4876920" y="4648320"/>
                <a:ext cx="304920" cy="304560"/>
                <a:chOff x="4876920" y="4648320"/>
                <a:chExt cx="304920" cy="304560"/>
              </a:xfrm>
            </p:grpSpPr>
            <p:sp>
              <p:nvSpPr>
                <p:cNvPr id="1406" name=""/>
                <p:cNvSpPr/>
                <p:nvPr/>
              </p:nvSpPr>
              <p:spPr>
                <a:xfrm>
                  <a:off x="487692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4953240" y="4724280"/>
                  <a:ext cx="15228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8" name=""/>
              <p:cNvGrpSpPr/>
              <p:nvPr/>
            </p:nvGrpSpPr>
            <p:grpSpPr>
              <a:xfrm>
                <a:off x="4876920" y="4952880"/>
                <a:ext cx="304920" cy="304920"/>
                <a:chOff x="4876920" y="4952880"/>
                <a:chExt cx="304920" cy="304920"/>
              </a:xfrm>
            </p:grpSpPr>
            <p:sp>
              <p:nvSpPr>
                <p:cNvPr id="1409" name=""/>
                <p:cNvSpPr/>
                <p:nvPr/>
              </p:nvSpPr>
              <p:spPr>
                <a:xfrm>
                  <a:off x="4876920" y="49528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4953240" y="50292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1" name=""/>
              <p:cNvGrpSpPr/>
              <p:nvPr/>
            </p:nvGrpSpPr>
            <p:grpSpPr>
              <a:xfrm>
                <a:off x="5181840" y="4038480"/>
                <a:ext cx="304560" cy="304920"/>
                <a:chOff x="5181840" y="4038480"/>
                <a:chExt cx="304560" cy="304920"/>
              </a:xfrm>
            </p:grpSpPr>
            <p:sp>
              <p:nvSpPr>
                <p:cNvPr id="1412" name=""/>
                <p:cNvSpPr/>
                <p:nvPr/>
              </p:nvSpPr>
              <p:spPr>
                <a:xfrm>
                  <a:off x="518184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5257800" y="411480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4" name=""/>
              <p:cNvGrpSpPr/>
              <p:nvPr/>
            </p:nvGrpSpPr>
            <p:grpSpPr>
              <a:xfrm>
                <a:off x="5181840" y="4343400"/>
                <a:ext cx="304560" cy="304920"/>
                <a:chOff x="5181840" y="4343400"/>
                <a:chExt cx="304560" cy="304920"/>
              </a:xfrm>
            </p:grpSpPr>
            <p:sp>
              <p:nvSpPr>
                <p:cNvPr id="1415" name=""/>
                <p:cNvSpPr/>
                <p:nvPr/>
              </p:nvSpPr>
              <p:spPr>
                <a:xfrm>
                  <a:off x="518184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5257800" y="441972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7" name=""/>
              <p:cNvGrpSpPr/>
              <p:nvPr/>
            </p:nvGrpSpPr>
            <p:grpSpPr>
              <a:xfrm>
                <a:off x="5181840" y="4648320"/>
                <a:ext cx="304560" cy="304560"/>
                <a:chOff x="5181840" y="4648320"/>
                <a:chExt cx="304560" cy="30456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518184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5257800" y="4724280"/>
                  <a:ext cx="15192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0" name=""/>
              <p:cNvGrpSpPr/>
              <p:nvPr/>
            </p:nvGrpSpPr>
            <p:grpSpPr>
              <a:xfrm>
                <a:off x="5181840" y="4952880"/>
                <a:ext cx="304560" cy="304920"/>
                <a:chOff x="5181840" y="4952880"/>
                <a:chExt cx="304560" cy="304920"/>
              </a:xfrm>
            </p:grpSpPr>
            <p:sp>
              <p:nvSpPr>
                <p:cNvPr id="1421" name=""/>
                <p:cNvSpPr/>
                <p:nvPr/>
              </p:nvSpPr>
              <p:spPr>
                <a:xfrm>
                  <a:off x="518184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5257800" y="502920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3" name=""/>
              <p:cNvGrpSpPr/>
              <p:nvPr/>
            </p:nvGrpSpPr>
            <p:grpSpPr>
              <a:xfrm>
                <a:off x="5486400" y="4038480"/>
                <a:ext cx="304920" cy="304920"/>
                <a:chOff x="5486400" y="4038480"/>
                <a:chExt cx="304920" cy="304920"/>
              </a:xfrm>
            </p:grpSpPr>
            <p:sp>
              <p:nvSpPr>
                <p:cNvPr id="1424" name=""/>
                <p:cNvSpPr/>
                <p:nvPr/>
              </p:nvSpPr>
              <p:spPr>
                <a:xfrm>
                  <a:off x="5486400" y="40384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5562720" y="41148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6" name=""/>
              <p:cNvGrpSpPr/>
              <p:nvPr/>
            </p:nvGrpSpPr>
            <p:grpSpPr>
              <a:xfrm>
                <a:off x="5486400" y="4343400"/>
                <a:ext cx="304920" cy="304920"/>
                <a:chOff x="5486400" y="4343400"/>
                <a:chExt cx="304920" cy="304920"/>
              </a:xfrm>
            </p:grpSpPr>
            <p:sp>
              <p:nvSpPr>
                <p:cNvPr id="1427" name=""/>
                <p:cNvSpPr/>
                <p:nvPr/>
              </p:nvSpPr>
              <p:spPr>
                <a:xfrm>
                  <a:off x="5486400" y="43434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5562720" y="441972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9" name=""/>
              <p:cNvGrpSpPr/>
              <p:nvPr/>
            </p:nvGrpSpPr>
            <p:grpSpPr>
              <a:xfrm>
                <a:off x="5486400" y="4648320"/>
                <a:ext cx="304920" cy="304560"/>
                <a:chOff x="5486400" y="4648320"/>
                <a:chExt cx="304920" cy="304560"/>
              </a:xfrm>
            </p:grpSpPr>
            <p:sp>
              <p:nvSpPr>
                <p:cNvPr id="1430" name=""/>
                <p:cNvSpPr/>
                <p:nvPr/>
              </p:nvSpPr>
              <p:spPr>
                <a:xfrm>
                  <a:off x="548640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5562720" y="4724280"/>
                  <a:ext cx="15228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2" name=""/>
              <p:cNvGrpSpPr/>
              <p:nvPr/>
            </p:nvGrpSpPr>
            <p:grpSpPr>
              <a:xfrm>
                <a:off x="5486400" y="4952880"/>
                <a:ext cx="304920" cy="304920"/>
                <a:chOff x="5486400" y="4952880"/>
                <a:chExt cx="304920" cy="304920"/>
              </a:xfrm>
            </p:grpSpPr>
            <p:sp>
              <p:nvSpPr>
                <p:cNvPr id="1433" name=""/>
                <p:cNvSpPr/>
                <p:nvPr/>
              </p:nvSpPr>
              <p:spPr>
                <a:xfrm>
                  <a:off x="5486400" y="49528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5562720" y="50292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5" name=""/>
              <p:cNvGrpSpPr/>
              <p:nvPr/>
            </p:nvGrpSpPr>
            <p:grpSpPr>
              <a:xfrm>
                <a:off x="5791320" y="4038480"/>
                <a:ext cx="304920" cy="304920"/>
                <a:chOff x="5791320" y="4038480"/>
                <a:chExt cx="304920" cy="304920"/>
              </a:xfrm>
            </p:grpSpPr>
            <p:sp>
              <p:nvSpPr>
                <p:cNvPr id="1436" name=""/>
                <p:cNvSpPr/>
                <p:nvPr/>
              </p:nvSpPr>
              <p:spPr>
                <a:xfrm>
                  <a:off x="5791320" y="40384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5867640" y="41148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8" name=""/>
              <p:cNvGrpSpPr/>
              <p:nvPr/>
            </p:nvGrpSpPr>
            <p:grpSpPr>
              <a:xfrm>
                <a:off x="5791320" y="4343400"/>
                <a:ext cx="304920" cy="304920"/>
                <a:chOff x="5791320" y="4343400"/>
                <a:chExt cx="304920" cy="304920"/>
              </a:xfrm>
            </p:grpSpPr>
            <p:sp>
              <p:nvSpPr>
                <p:cNvPr id="1439" name=""/>
                <p:cNvSpPr/>
                <p:nvPr/>
              </p:nvSpPr>
              <p:spPr>
                <a:xfrm>
                  <a:off x="5791320" y="43434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5867640" y="441972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1" name=""/>
              <p:cNvGrpSpPr/>
              <p:nvPr/>
            </p:nvGrpSpPr>
            <p:grpSpPr>
              <a:xfrm>
                <a:off x="5791320" y="4648320"/>
                <a:ext cx="304920" cy="304560"/>
                <a:chOff x="5791320" y="4648320"/>
                <a:chExt cx="304920" cy="304560"/>
              </a:xfrm>
            </p:grpSpPr>
            <p:sp>
              <p:nvSpPr>
                <p:cNvPr id="1442" name=""/>
                <p:cNvSpPr/>
                <p:nvPr/>
              </p:nvSpPr>
              <p:spPr>
                <a:xfrm>
                  <a:off x="579132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5867640" y="4724280"/>
                  <a:ext cx="15228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4" name=""/>
              <p:cNvGrpSpPr/>
              <p:nvPr/>
            </p:nvGrpSpPr>
            <p:grpSpPr>
              <a:xfrm>
                <a:off x="5791320" y="4952880"/>
                <a:ext cx="304920" cy="304920"/>
                <a:chOff x="5791320" y="4952880"/>
                <a:chExt cx="304920" cy="304920"/>
              </a:xfrm>
            </p:grpSpPr>
            <p:sp>
              <p:nvSpPr>
                <p:cNvPr id="1445" name=""/>
                <p:cNvSpPr/>
                <p:nvPr/>
              </p:nvSpPr>
              <p:spPr>
                <a:xfrm>
                  <a:off x="5791320" y="49528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5867640" y="50292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7" name=""/>
              <p:cNvGrpSpPr/>
              <p:nvPr/>
            </p:nvGrpSpPr>
            <p:grpSpPr>
              <a:xfrm>
                <a:off x="6096240" y="4038480"/>
                <a:ext cx="304560" cy="304920"/>
                <a:chOff x="6096240" y="4038480"/>
                <a:chExt cx="304560" cy="304920"/>
              </a:xfrm>
            </p:grpSpPr>
            <p:sp>
              <p:nvSpPr>
                <p:cNvPr id="1448" name=""/>
                <p:cNvSpPr/>
                <p:nvPr/>
              </p:nvSpPr>
              <p:spPr>
                <a:xfrm>
                  <a:off x="609624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6172200" y="411480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0" name=""/>
              <p:cNvGrpSpPr/>
              <p:nvPr/>
            </p:nvGrpSpPr>
            <p:grpSpPr>
              <a:xfrm>
                <a:off x="6096240" y="4343400"/>
                <a:ext cx="304560" cy="304920"/>
                <a:chOff x="6096240" y="4343400"/>
                <a:chExt cx="304560" cy="304920"/>
              </a:xfrm>
            </p:grpSpPr>
            <p:sp>
              <p:nvSpPr>
                <p:cNvPr id="1451" name=""/>
                <p:cNvSpPr/>
                <p:nvPr/>
              </p:nvSpPr>
              <p:spPr>
                <a:xfrm>
                  <a:off x="609624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6172200" y="441972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3" name=""/>
              <p:cNvGrpSpPr/>
              <p:nvPr/>
            </p:nvGrpSpPr>
            <p:grpSpPr>
              <a:xfrm>
                <a:off x="6096240" y="4648320"/>
                <a:ext cx="304560" cy="304560"/>
                <a:chOff x="6096240" y="4648320"/>
                <a:chExt cx="304560" cy="304560"/>
              </a:xfrm>
            </p:grpSpPr>
            <p:sp>
              <p:nvSpPr>
                <p:cNvPr id="1454" name=""/>
                <p:cNvSpPr/>
                <p:nvPr/>
              </p:nvSpPr>
              <p:spPr>
                <a:xfrm>
                  <a:off x="609624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6172200" y="4724280"/>
                  <a:ext cx="15192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6" name=""/>
              <p:cNvGrpSpPr/>
              <p:nvPr/>
            </p:nvGrpSpPr>
            <p:grpSpPr>
              <a:xfrm>
                <a:off x="6096240" y="4952880"/>
                <a:ext cx="304560" cy="304920"/>
                <a:chOff x="6096240" y="4952880"/>
                <a:chExt cx="304560" cy="304920"/>
              </a:xfrm>
            </p:grpSpPr>
            <p:sp>
              <p:nvSpPr>
                <p:cNvPr id="1457" name=""/>
                <p:cNvSpPr/>
                <p:nvPr/>
              </p:nvSpPr>
              <p:spPr>
                <a:xfrm>
                  <a:off x="609624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6172200" y="502920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59" name=""/>
            <p:cNvSpPr/>
            <p:nvPr/>
          </p:nvSpPr>
          <p:spPr>
            <a:xfrm>
              <a:off x="3200400" y="3629160"/>
              <a:ext cx="762120" cy="7970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0" name=""/>
          <p:cNvGrpSpPr/>
          <p:nvPr/>
        </p:nvGrpSpPr>
        <p:grpSpPr>
          <a:xfrm>
            <a:off x="5638680" y="2791080"/>
            <a:ext cx="3200400" cy="1552320"/>
            <a:chOff x="5638680" y="2791080"/>
            <a:chExt cx="3200400" cy="1552320"/>
          </a:xfrm>
        </p:grpSpPr>
        <p:grpSp>
          <p:nvGrpSpPr>
            <p:cNvPr id="1461" name=""/>
            <p:cNvGrpSpPr/>
            <p:nvPr/>
          </p:nvGrpSpPr>
          <p:grpSpPr>
            <a:xfrm>
              <a:off x="6400800" y="3124080"/>
              <a:ext cx="2438280" cy="1219320"/>
              <a:chOff x="6400800" y="3124080"/>
              <a:chExt cx="2438280" cy="1219320"/>
            </a:xfrm>
          </p:grpSpPr>
          <p:sp>
            <p:nvSpPr>
              <p:cNvPr id="1462" name=""/>
              <p:cNvSpPr/>
              <p:nvPr/>
            </p:nvSpPr>
            <p:spPr>
              <a:xfrm>
                <a:off x="6400800" y="3124080"/>
                <a:ext cx="2438280" cy="1219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3" name=""/>
              <p:cNvGrpSpPr/>
              <p:nvPr/>
            </p:nvGrpSpPr>
            <p:grpSpPr>
              <a:xfrm>
                <a:off x="6400800" y="3124080"/>
                <a:ext cx="304560" cy="304920"/>
                <a:chOff x="6400800" y="3124080"/>
                <a:chExt cx="304560" cy="304920"/>
              </a:xfrm>
            </p:grpSpPr>
            <p:sp>
              <p:nvSpPr>
                <p:cNvPr id="1464" name=""/>
                <p:cNvSpPr/>
                <p:nvPr/>
              </p:nvSpPr>
              <p:spPr>
                <a:xfrm>
                  <a:off x="640080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647676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6" name=""/>
              <p:cNvGrpSpPr/>
              <p:nvPr/>
            </p:nvGrpSpPr>
            <p:grpSpPr>
              <a:xfrm>
                <a:off x="6400800" y="3429000"/>
                <a:ext cx="304560" cy="304920"/>
                <a:chOff x="6400800" y="3429000"/>
                <a:chExt cx="304560" cy="304920"/>
              </a:xfrm>
            </p:grpSpPr>
            <p:sp>
              <p:nvSpPr>
                <p:cNvPr id="1467" name=""/>
                <p:cNvSpPr/>
                <p:nvPr/>
              </p:nvSpPr>
              <p:spPr>
                <a:xfrm>
                  <a:off x="640080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647676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9" name=""/>
              <p:cNvGrpSpPr/>
              <p:nvPr/>
            </p:nvGrpSpPr>
            <p:grpSpPr>
              <a:xfrm>
                <a:off x="6400800" y="3733920"/>
                <a:ext cx="304560" cy="304560"/>
                <a:chOff x="6400800" y="3733920"/>
                <a:chExt cx="304560" cy="304560"/>
              </a:xfrm>
            </p:grpSpPr>
            <p:sp>
              <p:nvSpPr>
                <p:cNvPr id="1470" name=""/>
                <p:cNvSpPr/>
                <p:nvPr/>
              </p:nvSpPr>
              <p:spPr>
                <a:xfrm>
                  <a:off x="640080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647676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2" name=""/>
              <p:cNvGrpSpPr/>
              <p:nvPr/>
            </p:nvGrpSpPr>
            <p:grpSpPr>
              <a:xfrm>
                <a:off x="6400800" y="4038480"/>
                <a:ext cx="304560" cy="304920"/>
                <a:chOff x="6400800" y="4038480"/>
                <a:chExt cx="304560" cy="304920"/>
              </a:xfrm>
            </p:grpSpPr>
            <p:sp>
              <p:nvSpPr>
                <p:cNvPr id="1473" name=""/>
                <p:cNvSpPr/>
                <p:nvPr/>
              </p:nvSpPr>
              <p:spPr>
                <a:xfrm>
                  <a:off x="640080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647676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5" name=""/>
              <p:cNvGrpSpPr/>
              <p:nvPr/>
            </p:nvGrpSpPr>
            <p:grpSpPr>
              <a:xfrm>
                <a:off x="6705360" y="3124080"/>
                <a:ext cx="304560" cy="304920"/>
                <a:chOff x="6705360" y="3124080"/>
                <a:chExt cx="304560" cy="304920"/>
              </a:xfrm>
            </p:grpSpPr>
            <p:sp>
              <p:nvSpPr>
                <p:cNvPr id="1476" name=""/>
                <p:cNvSpPr/>
                <p:nvPr/>
              </p:nvSpPr>
              <p:spPr>
                <a:xfrm>
                  <a:off x="670536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678132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8" name=""/>
              <p:cNvGrpSpPr/>
              <p:nvPr/>
            </p:nvGrpSpPr>
            <p:grpSpPr>
              <a:xfrm>
                <a:off x="6705360" y="3429000"/>
                <a:ext cx="304560" cy="304920"/>
                <a:chOff x="6705360" y="3429000"/>
                <a:chExt cx="304560" cy="304920"/>
              </a:xfrm>
            </p:grpSpPr>
            <p:sp>
              <p:nvSpPr>
                <p:cNvPr id="1479" name=""/>
                <p:cNvSpPr/>
                <p:nvPr/>
              </p:nvSpPr>
              <p:spPr>
                <a:xfrm>
                  <a:off x="670536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678132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1" name=""/>
              <p:cNvGrpSpPr/>
              <p:nvPr/>
            </p:nvGrpSpPr>
            <p:grpSpPr>
              <a:xfrm>
                <a:off x="6705360" y="3733920"/>
                <a:ext cx="304560" cy="304560"/>
                <a:chOff x="6705360" y="3733920"/>
                <a:chExt cx="304560" cy="304560"/>
              </a:xfrm>
            </p:grpSpPr>
            <p:sp>
              <p:nvSpPr>
                <p:cNvPr id="1482" name=""/>
                <p:cNvSpPr/>
                <p:nvPr/>
              </p:nvSpPr>
              <p:spPr>
                <a:xfrm>
                  <a:off x="670536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678132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4" name=""/>
              <p:cNvGrpSpPr/>
              <p:nvPr/>
            </p:nvGrpSpPr>
            <p:grpSpPr>
              <a:xfrm>
                <a:off x="6705360" y="4038480"/>
                <a:ext cx="304560" cy="304920"/>
                <a:chOff x="6705360" y="4038480"/>
                <a:chExt cx="304560" cy="304920"/>
              </a:xfrm>
            </p:grpSpPr>
            <p:sp>
              <p:nvSpPr>
                <p:cNvPr id="1485" name=""/>
                <p:cNvSpPr/>
                <p:nvPr/>
              </p:nvSpPr>
              <p:spPr>
                <a:xfrm>
                  <a:off x="670536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678132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7" name=""/>
              <p:cNvGrpSpPr/>
              <p:nvPr/>
            </p:nvGrpSpPr>
            <p:grpSpPr>
              <a:xfrm>
                <a:off x="7010280" y="3124080"/>
                <a:ext cx="304200" cy="304920"/>
                <a:chOff x="7010280" y="3124080"/>
                <a:chExt cx="304200" cy="304920"/>
              </a:xfrm>
            </p:grpSpPr>
            <p:sp>
              <p:nvSpPr>
                <p:cNvPr id="1488" name=""/>
                <p:cNvSpPr/>
                <p:nvPr/>
              </p:nvSpPr>
              <p:spPr>
                <a:xfrm>
                  <a:off x="7010280" y="312408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708624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0" name=""/>
              <p:cNvGrpSpPr/>
              <p:nvPr/>
            </p:nvGrpSpPr>
            <p:grpSpPr>
              <a:xfrm>
                <a:off x="7010280" y="3429000"/>
                <a:ext cx="304200" cy="304920"/>
                <a:chOff x="7010280" y="3429000"/>
                <a:chExt cx="304200" cy="304920"/>
              </a:xfrm>
            </p:grpSpPr>
            <p:sp>
              <p:nvSpPr>
                <p:cNvPr id="1491" name=""/>
                <p:cNvSpPr/>
                <p:nvPr/>
              </p:nvSpPr>
              <p:spPr>
                <a:xfrm>
                  <a:off x="7010280" y="342900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708624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3" name=""/>
              <p:cNvGrpSpPr/>
              <p:nvPr/>
            </p:nvGrpSpPr>
            <p:grpSpPr>
              <a:xfrm>
                <a:off x="7010280" y="3733920"/>
                <a:ext cx="304200" cy="304560"/>
                <a:chOff x="7010280" y="3733920"/>
                <a:chExt cx="304200" cy="304560"/>
              </a:xfrm>
            </p:grpSpPr>
            <p:sp>
              <p:nvSpPr>
                <p:cNvPr id="1494" name=""/>
                <p:cNvSpPr/>
                <p:nvPr/>
              </p:nvSpPr>
              <p:spPr>
                <a:xfrm>
                  <a:off x="7010280" y="3733920"/>
                  <a:ext cx="30420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708624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6" name=""/>
              <p:cNvGrpSpPr/>
              <p:nvPr/>
            </p:nvGrpSpPr>
            <p:grpSpPr>
              <a:xfrm>
                <a:off x="7010280" y="4038480"/>
                <a:ext cx="304200" cy="304920"/>
                <a:chOff x="7010280" y="4038480"/>
                <a:chExt cx="304200" cy="304920"/>
              </a:xfrm>
            </p:grpSpPr>
            <p:sp>
              <p:nvSpPr>
                <p:cNvPr id="1497" name=""/>
                <p:cNvSpPr/>
                <p:nvPr/>
              </p:nvSpPr>
              <p:spPr>
                <a:xfrm>
                  <a:off x="7010280" y="403848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708624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9" name=""/>
              <p:cNvGrpSpPr/>
              <p:nvPr/>
            </p:nvGrpSpPr>
            <p:grpSpPr>
              <a:xfrm>
                <a:off x="7314840" y="3124080"/>
                <a:ext cx="304560" cy="304920"/>
                <a:chOff x="7314840" y="3124080"/>
                <a:chExt cx="304560" cy="304920"/>
              </a:xfrm>
            </p:grpSpPr>
            <p:sp>
              <p:nvSpPr>
                <p:cNvPr id="1500" name=""/>
                <p:cNvSpPr/>
                <p:nvPr/>
              </p:nvSpPr>
              <p:spPr>
                <a:xfrm>
                  <a:off x="731484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739080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2" name=""/>
              <p:cNvGrpSpPr/>
              <p:nvPr/>
            </p:nvGrpSpPr>
            <p:grpSpPr>
              <a:xfrm>
                <a:off x="7314840" y="3429000"/>
                <a:ext cx="304560" cy="304920"/>
                <a:chOff x="7314840" y="3429000"/>
                <a:chExt cx="304560" cy="304920"/>
              </a:xfrm>
            </p:grpSpPr>
            <p:sp>
              <p:nvSpPr>
                <p:cNvPr id="1503" name=""/>
                <p:cNvSpPr/>
                <p:nvPr/>
              </p:nvSpPr>
              <p:spPr>
                <a:xfrm>
                  <a:off x="731484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739080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5" name=""/>
              <p:cNvGrpSpPr/>
              <p:nvPr/>
            </p:nvGrpSpPr>
            <p:grpSpPr>
              <a:xfrm>
                <a:off x="7314840" y="3733920"/>
                <a:ext cx="304560" cy="304560"/>
                <a:chOff x="7314840" y="3733920"/>
                <a:chExt cx="304560" cy="304560"/>
              </a:xfrm>
            </p:grpSpPr>
            <p:sp>
              <p:nvSpPr>
                <p:cNvPr id="1506" name=""/>
                <p:cNvSpPr/>
                <p:nvPr/>
              </p:nvSpPr>
              <p:spPr>
                <a:xfrm>
                  <a:off x="731484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739080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8" name=""/>
              <p:cNvGrpSpPr/>
              <p:nvPr/>
            </p:nvGrpSpPr>
            <p:grpSpPr>
              <a:xfrm>
                <a:off x="7314840" y="4038480"/>
                <a:ext cx="304560" cy="304920"/>
                <a:chOff x="7314840" y="4038480"/>
                <a:chExt cx="304560" cy="304920"/>
              </a:xfrm>
            </p:grpSpPr>
            <p:sp>
              <p:nvSpPr>
                <p:cNvPr id="1509" name=""/>
                <p:cNvSpPr/>
                <p:nvPr/>
              </p:nvSpPr>
              <p:spPr>
                <a:xfrm>
                  <a:off x="731484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739080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1" name=""/>
              <p:cNvGrpSpPr/>
              <p:nvPr/>
            </p:nvGrpSpPr>
            <p:grpSpPr>
              <a:xfrm>
                <a:off x="7619760" y="3124080"/>
                <a:ext cx="304560" cy="304920"/>
                <a:chOff x="7619760" y="3124080"/>
                <a:chExt cx="304560" cy="304920"/>
              </a:xfrm>
            </p:grpSpPr>
            <p:sp>
              <p:nvSpPr>
                <p:cNvPr id="1512" name=""/>
                <p:cNvSpPr/>
                <p:nvPr/>
              </p:nvSpPr>
              <p:spPr>
                <a:xfrm>
                  <a:off x="761976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769572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4" name=""/>
              <p:cNvGrpSpPr/>
              <p:nvPr/>
            </p:nvGrpSpPr>
            <p:grpSpPr>
              <a:xfrm>
                <a:off x="7619760" y="3429000"/>
                <a:ext cx="304560" cy="304920"/>
                <a:chOff x="7619760" y="3429000"/>
                <a:chExt cx="304560" cy="304920"/>
              </a:xfrm>
            </p:grpSpPr>
            <p:sp>
              <p:nvSpPr>
                <p:cNvPr id="1515" name=""/>
                <p:cNvSpPr/>
                <p:nvPr/>
              </p:nvSpPr>
              <p:spPr>
                <a:xfrm>
                  <a:off x="761976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769572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7" name=""/>
              <p:cNvGrpSpPr/>
              <p:nvPr/>
            </p:nvGrpSpPr>
            <p:grpSpPr>
              <a:xfrm>
                <a:off x="7619760" y="3733920"/>
                <a:ext cx="304560" cy="304560"/>
                <a:chOff x="7619760" y="3733920"/>
                <a:chExt cx="304560" cy="304560"/>
              </a:xfrm>
            </p:grpSpPr>
            <p:sp>
              <p:nvSpPr>
                <p:cNvPr id="1518" name=""/>
                <p:cNvSpPr/>
                <p:nvPr/>
              </p:nvSpPr>
              <p:spPr>
                <a:xfrm>
                  <a:off x="761976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769572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0" name=""/>
              <p:cNvGrpSpPr/>
              <p:nvPr/>
            </p:nvGrpSpPr>
            <p:grpSpPr>
              <a:xfrm>
                <a:off x="7619760" y="4038480"/>
                <a:ext cx="304560" cy="304920"/>
                <a:chOff x="7619760" y="4038480"/>
                <a:chExt cx="304560" cy="304920"/>
              </a:xfrm>
            </p:grpSpPr>
            <p:sp>
              <p:nvSpPr>
                <p:cNvPr id="1521" name=""/>
                <p:cNvSpPr/>
                <p:nvPr/>
              </p:nvSpPr>
              <p:spPr>
                <a:xfrm>
                  <a:off x="761976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769572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3" name=""/>
              <p:cNvGrpSpPr/>
              <p:nvPr/>
            </p:nvGrpSpPr>
            <p:grpSpPr>
              <a:xfrm>
                <a:off x="7924680" y="3124080"/>
                <a:ext cx="304200" cy="304920"/>
                <a:chOff x="7924680" y="3124080"/>
                <a:chExt cx="304200" cy="304920"/>
              </a:xfrm>
            </p:grpSpPr>
            <p:sp>
              <p:nvSpPr>
                <p:cNvPr id="1524" name=""/>
                <p:cNvSpPr/>
                <p:nvPr/>
              </p:nvSpPr>
              <p:spPr>
                <a:xfrm>
                  <a:off x="7924680" y="312408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800064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6" name=""/>
              <p:cNvGrpSpPr/>
              <p:nvPr/>
            </p:nvGrpSpPr>
            <p:grpSpPr>
              <a:xfrm>
                <a:off x="7924680" y="3429000"/>
                <a:ext cx="304200" cy="304920"/>
                <a:chOff x="7924680" y="3429000"/>
                <a:chExt cx="304200" cy="304920"/>
              </a:xfrm>
            </p:grpSpPr>
            <p:sp>
              <p:nvSpPr>
                <p:cNvPr id="1527" name=""/>
                <p:cNvSpPr/>
                <p:nvPr/>
              </p:nvSpPr>
              <p:spPr>
                <a:xfrm>
                  <a:off x="7924680" y="342900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800064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9" name=""/>
              <p:cNvGrpSpPr/>
              <p:nvPr/>
            </p:nvGrpSpPr>
            <p:grpSpPr>
              <a:xfrm>
                <a:off x="7924680" y="3733920"/>
                <a:ext cx="304200" cy="304560"/>
                <a:chOff x="7924680" y="3733920"/>
                <a:chExt cx="304200" cy="304560"/>
              </a:xfrm>
            </p:grpSpPr>
            <p:sp>
              <p:nvSpPr>
                <p:cNvPr id="1530" name=""/>
                <p:cNvSpPr/>
                <p:nvPr/>
              </p:nvSpPr>
              <p:spPr>
                <a:xfrm>
                  <a:off x="7924680" y="3733920"/>
                  <a:ext cx="30420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800064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2" name=""/>
              <p:cNvGrpSpPr/>
              <p:nvPr/>
            </p:nvGrpSpPr>
            <p:grpSpPr>
              <a:xfrm>
                <a:off x="7924680" y="4038480"/>
                <a:ext cx="304200" cy="304920"/>
                <a:chOff x="7924680" y="4038480"/>
                <a:chExt cx="304200" cy="304920"/>
              </a:xfrm>
            </p:grpSpPr>
            <p:sp>
              <p:nvSpPr>
                <p:cNvPr id="1533" name=""/>
                <p:cNvSpPr/>
                <p:nvPr/>
              </p:nvSpPr>
              <p:spPr>
                <a:xfrm>
                  <a:off x="7924680" y="403848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800064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5" name=""/>
              <p:cNvGrpSpPr/>
              <p:nvPr/>
            </p:nvGrpSpPr>
            <p:grpSpPr>
              <a:xfrm>
                <a:off x="8229240" y="3124080"/>
                <a:ext cx="304560" cy="304920"/>
                <a:chOff x="8229240" y="3124080"/>
                <a:chExt cx="304560" cy="304920"/>
              </a:xfrm>
            </p:grpSpPr>
            <p:sp>
              <p:nvSpPr>
                <p:cNvPr id="1536" name=""/>
                <p:cNvSpPr/>
                <p:nvPr/>
              </p:nvSpPr>
              <p:spPr>
                <a:xfrm>
                  <a:off x="822924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830520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8" name=""/>
              <p:cNvGrpSpPr/>
              <p:nvPr/>
            </p:nvGrpSpPr>
            <p:grpSpPr>
              <a:xfrm>
                <a:off x="8229240" y="3429000"/>
                <a:ext cx="304560" cy="304920"/>
                <a:chOff x="8229240" y="3429000"/>
                <a:chExt cx="304560" cy="304920"/>
              </a:xfrm>
            </p:grpSpPr>
            <p:sp>
              <p:nvSpPr>
                <p:cNvPr id="1539" name=""/>
                <p:cNvSpPr/>
                <p:nvPr/>
              </p:nvSpPr>
              <p:spPr>
                <a:xfrm>
                  <a:off x="822924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830520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1" name=""/>
              <p:cNvGrpSpPr/>
              <p:nvPr/>
            </p:nvGrpSpPr>
            <p:grpSpPr>
              <a:xfrm>
                <a:off x="8229240" y="3733920"/>
                <a:ext cx="304560" cy="304560"/>
                <a:chOff x="8229240" y="3733920"/>
                <a:chExt cx="304560" cy="304560"/>
              </a:xfrm>
            </p:grpSpPr>
            <p:sp>
              <p:nvSpPr>
                <p:cNvPr id="1542" name=""/>
                <p:cNvSpPr/>
                <p:nvPr/>
              </p:nvSpPr>
              <p:spPr>
                <a:xfrm>
                  <a:off x="822924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830520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4" name=""/>
              <p:cNvGrpSpPr/>
              <p:nvPr/>
            </p:nvGrpSpPr>
            <p:grpSpPr>
              <a:xfrm>
                <a:off x="8229240" y="4038480"/>
                <a:ext cx="304560" cy="304920"/>
                <a:chOff x="8229240" y="4038480"/>
                <a:chExt cx="304560" cy="304920"/>
              </a:xfrm>
            </p:grpSpPr>
            <p:sp>
              <p:nvSpPr>
                <p:cNvPr id="1545" name=""/>
                <p:cNvSpPr/>
                <p:nvPr/>
              </p:nvSpPr>
              <p:spPr>
                <a:xfrm>
                  <a:off x="822924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830520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7" name=""/>
              <p:cNvGrpSpPr/>
              <p:nvPr/>
            </p:nvGrpSpPr>
            <p:grpSpPr>
              <a:xfrm>
                <a:off x="8534160" y="3124080"/>
                <a:ext cx="304560" cy="304920"/>
                <a:chOff x="8534160" y="3124080"/>
                <a:chExt cx="304560" cy="304920"/>
              </a:xfrm>
            </p:grpSpPr>
            <p:sp>
              <p:nvSpPr>
                <p:cNvPr id="1548" name=""/>
                <p:cNvSpPr/>
                <p:nvPr/>
              </p:nvSpPr>
              <p:spPr>
                <a:xfrm>
                  <a:off x="853416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861012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0" name=""/>
              <p:cNvGrpSpPr/>
              <p:nvPr/>
            </p:nvGrpSpPr>
            <p:grpSpPr>
              <a:xfrm>
                <a:off x="8534160" y="3429000"/>
                <a:ext cx="304560" cy="304920"/>
                <a:chOff x="8534160" y="3429000"/>
                <a:chExt cx="304560" cy="304920"/>
              </a:xfrm>
            </p:grpSpPr>
            <p:sp>
              <p:nvSpPr>
                <p:cNvPr id="1551" name=""/>
                <p:cNvSpPr/>
                <p:nvPr/>
              </p:nvSpPr>
              <p:spPr>
                <a:xfrm>
                  <a:off x="853416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861012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3" name=""/>
              <p:cNvGrpSpPr/>
              <p:nvPr/>
            </p:nvGrpSpPr>
            <p:grpSpPr>
              <a:xfrm>
                <a:off x="8534160" y="3733920"/>
                <a:ext cx="304560" cy="304560"/>
                <a:chOff x="8534160" y="3733920"/>
                <a:chExt cx="304560" cy="304560"/>
              </a:xfrm>
            </p:grpSpPr>
            <p:sp>
              <p:nvSpPr>
                <p:cNvPr id="1554" name=""/>
                <p:cNvSpPr/>
                <p:nvPr/>
              </p:nvSpPr>
              <p:spPr>
                <a:xfrm>
                  <a:off x="853416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861012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6" name=""/>
              <p:cNvGrpSpPr/>
              <p:nvPr/>
            </p:nvGrpSpPr>
            <p:grpSpPr>
              <a:xfrm>
                <a:off x="8534160" y="4038480"/>
                <a:ext cx="304560" cy="304920"/>
                <a:chOff x="8534160" y="4038480"/>
                <a:chExt cx="304560" cy="304920"/>
              </a:xfrm>
            </p:grpSpPr>
            <p:sp>
              <p:nvSpPr>
                <p:cNvPr id="1557" name=""/>
                <p:cNvSpPr/>
                <p:nvPr/>
              </p:nvSpPr>
              <p:spPr>
                <a:xfrm>
                  <a:off x="853416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861012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59" name=""/>
            <p:cNvSpPr/>
            <p:nvPr/>
          </p:nvSpPr>
          <p:spPr>
            <a:xfrm>
              <a:off x="5638680" y="2791080"/>
              <a:ext cx="762120" cy="7970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5638680" y="4010040"/>
            <a:ext cx="3200400" cy="1552680"/>
            <a:chOff x="5638680" y="4010040"/>
            <a:chExt cx="3200400" cy="1552680"/>
          </a:xfrm>
        </p:grpSpPr>
        <p:grpSp>
          <p:nvGrpSpPr>
            <p:cNvPr id="1561" name=""/>
            <p:cNvGrpSpPr/>
            <p:nvPr/>
          </p:nvGrpSpPr>
          <p:grpSpPr>
            <a:xfrm>
              <a:off x="6400800" y="4343400"/>
              <a:ext cx="2438280" cy="1219320"/>
              <a:chOff x="6400800" y="4343400"/>
              <a:chExt cx="2438280" cy="1219320"/>
            </a:xfrm>
          </p:grpSpPr>
          <p:sp>
            <p:nvSpPr>
              <p:cNvPr id="1562" name=""/>
              <p:cNvSpPr/>
              <p:nvPr/>
            </p:nvSpPr>
            <p:spPr>
              <a:xfrm>
                <a:off x="6400800" y="4343400"/>
                <a:ext cx="2438280" cy="1219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3" name=""/>
              <p:cNvGrpSpPr/>
              <p:nvPr/>
            </p:nvGrpSpPr>
            <p:grpSpPr>
              <a:xfrm>
                <a:off x="6400800" y="4343400"/>
                <a:ext cx="304560" cy="304920"/>
                <a:chOff x="6400800" y="4343400"/>
                <a:chExt cx="304560" cy="304920"/>
              </a:xfrm>
            </p:grpSpPr>
            <p:sp>
              <p:nvSpPr>
                <p:cNvPr id="1564" name=""/>
                <p:cNvSpPr/>
                <p:nvPr/>
              </p:nvSpPr>
              <p:spPr>
                <a:xfrm>
                  <a:off x="640080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647676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6" name=""/>
              <p:cNvGrpSpPr/>
              <p:nvPr/>
            </p:nvGrpSpPr>
            <p:grpSpPr>
              <a:xfrm>
                <a:off x="6400800" y="4648320"/>
                <a:ext cx="304560" cy="304560"/>
                <a:chOff x="6400800" y="4648320"/>
                <a:chExt cx="304560" cy="30456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640080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647676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9" name=""/>
              <p:cNvGrpSpPr/>
              <p:nvPr/>
            </p:nvGrpSpPr>
            <p:grpSpPr>
              <a:xfrm>
                <a:off x="6400800" y="4952880"/>
                <a:ext cx="304560" cy="304920"/>
                <a:chOff x="6400800" y="4952880"/>
                <a:chExt cx="304560" cy="304920"/>
              </a:xfrm>
            </p:grpSpPr>
            <p:sp>
              <p:nvSpPr>
                <p:cNvPr id="1570" name=""/>
                <p:cNvSpPr/>
                <p:nvPr/>
              </p:nvSpPr>
              <p:spPr>
                <a:xfrm>
                  <a:off x="640080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647676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2" name=""/>
              <p:cNvGrpSpPr/>
              <p:nvPr/>
            </p:nvGrpSpPr>
            <p:grpSpPr>
              <a:xfrm>
                <a:off x="6400800" y="5257800"/>
                <a:ext cx="304560" cy="304920"/>
                <a:chOff x="6400800" y="5257800"/>
                <a:chExt cx="304560" cy="304920"/>
              </a:xfrm>
            </p:grpSpPr>
            <p:sp>
              <p:nvSpPr>
                <p:cNvPr id="1573" name=""/>
                <p:cNvSpPr/>
                <p:nvPr/>
              </p:nvSpPr>
              <p:spPr>
                <a:xfrm>
                  <a:off x="6400800" y="52578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647676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5" name=""/>
              <p:cNvGrpSpPr/>
              <p:nvPr/>
            </p:nvGrpSpPr>
            <p:grpSpPr>
              <a:xfrm>
                <a:off x="6705360" y="4343400"/>
                <a:ext cx="304560" cy="304920"/>
                <a:chOff x="6705360" y="4343400"/>
                <a:chExt cx="304560" cy="304920"/>
              </a:xfrm>
            </p:grpSpPr>
            <p:sp>
              <p:nvSpPr>
                <p:cNvPr id="1576" name=""/>
                <p:cNvSpPr/>
                <p:nvPr/>
              </p:nvSpPr>
              <p:spPr>
                <a:xfrm>
                  <a:off x="670536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678132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8" name=""/>
              <p:cNvGrpSpPr/>
              <p:nvPr/>
            </p:nvGrpSpPr>
            <p:grpSpPr>
              <a:xfrm>
                <a:off x="6705360" y="4648320"/>
                <a:ext cx="304560" cy="304560"/>
                <a:chOff x="6705360" y="4648320"/>
                <a:chExt cx="304560" cy="304560"/>
              </a:xfrm>
            </p:grpSpPr>
            <p:sp>
              <p:nvSpPr>
                <p:cNvPr id="1579" name=""/>
                <p:cNvSpPr/>
                <p:nvPr/>
              </p:nvSpPr>
              <p:spPr>
                <a:xfrm>
                  <a:off x="670536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678132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1" name=""/>
              <p:cNvGrpSpPr/>
              <p:nvPr/>
            </p:nvGrpSpPr>
            <p:grpSpPr>
              <a:xfrm>
                <a:off x="6705360" y="4952880"/>
                <a:ext cx="304560" cy="304920"/>
                <a:chOff x="6705360" y="4952880"/>
                <a:chExt cx="304560" cy="304920"/>
              </a:xfrm>
            </p:grpSpPr>
            <p:sp>
              <p:nvSpPr>
                <p:cNvPr id="1582" name=""/>
                <p:cNvSpPr/>
                <p:nvPr/>
              </p:nvSpPr>
              <p:spPr>
                <a:xfrm>
                  <a:off x="670536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678132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4" name=""/>
              <p:cNvGrpSpPr/>
              <p:nvPr/>
            </p:nvGrpSpPr>
            <p:grpSpPr>
              <a:xfrm>
                <a:off x="6705360" y="5257800"/>
                <a:ext cx="304560" cy="304920"/>
                <a:chOff x="6705360" y="5257800"/>
                <a:chExt cx="304560" cy="304920"/>
              </a:xfrm>
            </p:grpSpPr>
            <p:sp>
              <p:nvSpPr>
                <p:cNvPr id="1585" name=""/>
                <p:cNvSpPr/>
                <p:nvPr/>
              </p:nvSpPr>
              <p:spPr>
                <a:xfrm>
                  <a:off x="6705360" y="52578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678132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7" name=""/>
              <p:cNvGrpSpPr/>
              <p:nvPr/>
            </p:nvGrpSpPr>
            <p:grpSpPr>
              <a:xfrm>
                <a:off x="7010280" y="4343400"/>
                <a:ext cx="304200" cy="304920"/>
                <a:chOff x="7010280" y="4343400"/>
                <a:chExt cx="304200" cy="304920"/>
              </a:xfrm>
            </p:grpSpPr>
            <p:sp>
              <p:nvSpPr>
                <p:cNvPr id="1588" name=""/>
                <p:cNvSpPr/>
                <p:nvPr/>
              </p:nvSpPr>
              <p:spPr>
                <a:xfrm>
                  <a:off x="7010280" y="434340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708624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0" name=""/>
              <p:cNvGrpSpPr/>
              <p:nvPr/>
            </p:nvGrpSpPr>
            <p:grpSpPr>
              <a:xfrm>
                <a:off x="7010280" y="4648320"/>
                <a:ext cx="304200" cy="304560"/>
                <a:chOff x="7010280" y="4648320"/>
                <a:chExt cx="304200" cy="304560"/>
              </a:xfrm>
            </p:grpSpPr>
            <p:sp>
              <p:nvSpPr>
                <p:cNvPr id="1591" name=""/>
                <p:cNvSpPr/>
                <p:nvPr/>
              </p:nvSpPr>
              <p:spPr>
                <a:xfrm>
                  <a:off x="7010280" y="4648320"/>
                  <a:ext cx="30420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708624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3" name=""/>
              <p:cNvGrpSpPr/>
              <p:nvPr/>
            </p:nvGrpSpPr>
            <p:grpSpPr>
              <a:xfrm>
                <a:off x="7010280" y="4952880"/>
                <a:ext cx="304200" cy="304920"/>
                <a:chOff x="7010280" y="4952880"/>
                <a:chExt cx="304200" cy="304920"/>
              </a:xfrm>
            </p:grpSpPr>
            <p:sp>
              <p:nvSpPr>
                <p:cNvPr id="1594" name=""/>
                <p:cNvSpPr/>
                <p:nvPr/>
              </p:nvSpPr>
              <p:spPr>
                <a:xfrm>
                  <a:off x="7010280" y="495288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708624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6" name=""/>
              <p:cNvGrpSpPr/>
              <p:nvPr/>
            </p:nvGrpSpPr>
            <p:grpSpPr>
              <a:xfrm>
                <a:off x="7010280" y="5257800"/>
                <a:ext cx="304200" cy="304920"/>
                <a:chOff x="7010280" y="5257800"/>
                <a:chExt cx="304200" cy="304920"/>
              </a:xfrm>
            </p:grpSpPr>
            <p:sp>
              <p:nvSpPr>
                <p:cNvPr id="1597" name=""/>
                <p:cNvSpPr/>
                <p:nvPr/>
              </p:nvSpPr>
              <p:spPr>
                <a:xfrm>
                  <a:off x="7010280" y="525780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708624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9" name=""/>
              <p:cNvGrpSpPr/>
              <p:nvPr/>
            </p:nvGrpSpPr>
            <p:grpSpPr>
              <a:xfrm>
                <a:off x="7314840" y="4343400"/>
                <a:ext cx="304560" cy="304920"/>
                <a:chOff x="7314840" y="4343400"/>
                <a:chExt cx="304560" cy="304920"/>
              </a:xfrm>
            </p:grpSpPr>
            <p:sp>
              <p:nvSpPr>
                <p:cNvPr id="1600" name=""/>
                <p:cNvSpPr/>
                <p:nvPr/>
              </p:nvSpPr>
              <p:spPr>
                <a:xfrm>
                  <a:off x="731484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739080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2" name=""/>
              <p:cNvGrpSpPr/>
              <p:nvPr/>
            </p:nvGrpSpPr>
            <p:grpSpPr>
              <a:xfrm>
                <a:off x="7314840" y="4648320"/>
                <a:ext cx="304560" cy="304560"/>
                <a:chOff x="7314840" y="4648320"/>
                <a:chExt cx="304560" cy="304560"/>
              </a:xfrm>
            </p:grpSpPr>
            <p:sp>
              <p:nvSpPr>
                <p:cNvPr id="1603" name=""/>
                <p:cNvSpPr/>
                <p:nvPr/>
              </p:nvSpPr>
              <p:spPr>
                <a:xfrm>
                  <a:off x="731484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739080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5" name=""/>
              <p:cNvGrpSpPr/>
              <p:nvPr/>
            </p:nvGrpSpPr>
            <p:grpSpPr>
              <a:xfrm>
                <a:off x="7314840" y="4952880"/>
                <a:ext cx="304560" cy="304920"/>
                <a:chOff x="7314840" y="4952880"/>
                <a:chExt cx="304560" cy="304920"/>
              </a:xfrm>
            </p:grpSpPr>
            <p:sp>
              <p:nvSpPr>
                <p:cNvPr id="1606" name=""/>
                <p:cNvSpPr/>
                <p:nvPr/>
              </p:nvSpPr>
              <p:spPr>
                <a:xfrm>
                  <a:off x="731484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739080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8" name=""/>
              <p:cNvGrpSpPr/>
              <p:nvPr/>
            </p:nvGrpSpPr>
            <p:grpSpPr>
              <a:xfrm>
                <a:off x="7314840" y="5257800"/>
                <a:ext cx="304560" cy="304920"/>
                <a:chOff x="7314840" y="5257800"/>
                <a:chExt cx="304560" cy="304920"/>
              </a:xfrm>
            </p:grpSpPr>
            <p:sp>
              <p:nvSpPr>
                <p:cNvPr id="1609" name=""/>
                <p:cNvSpPr/>
                <p:nvPr/>
              </p:nvSpPr>
              <p:spPr>
                <a:xfrm>
                  <a:off x="7314840" y="52578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739080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1" name=""/>
              <p:cNvGrpSpPr/>
              <p:nvPr/>
            </p:nvGrpSpPr>
            <p:grpSpPr>
              <a:xfrm>
                <a:off x="7619760" y="4343400"/>
                <a:ext cx="304560" cy="304920"/>
                <a:chOff x="7619760" y="4343400"/>
                <a:chExt cx="304560" cy="304920"/>
              </a:xfrm>
            </p:grpSpPr>
            <p:sp>
              <p:nvSpPr>
                <p:cNvPr id="1612" name=""/>
                <p:cNvSpPr/>
                <p:nvPr/>
              </p:nvSpPr>
              <p:spPr>
                <a:xfrm>
                  <a:off x="761976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769572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4" name=""/>
              <p:cNvGrpSpPr/>
              <p:nvPr/>
            </p:nvGrpSpPr>
            <p:grpSpPr>
              <a:xfrm>
                <a:off x="7619760" y="4648320"/>
                <a:ext cx="304560" cy="304560"/>
                <a:chOff x="7619760" y="4648320"/>
                <a:chExt cx="304560" cy="304560"/>
              </a:xfrm>
            </p:grpSpPr>
            <p:sp>
              <p:nvSpPr>
                <p:cNvPr id="1615" name=""/>
                <p:cNvSpPr/>
                <p:nvPr/>
              </p:nvSpPr>
              <p:spPr>
                <a:xfrm>
                  <a:off x="761976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769572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7" name=""/>
              <p:cNvGrpSpPr/>
              <p:nvPr/>
            </p:nvGrpSpPr>
            <p:grpSpPr>
              <a:xfrm>
                <a:off x="7619760" y="4952880"/>
                <a:ext cx="304560" cy="304920"/>
                <a:chOff x="7619760" y="4952880"/>
                <a:chExt cx="304560" cy="304920"/>
              </a:xfrm>
            </p:grpSpPr>
            <p:sp>
              <p:nvSpPr>
                <p:cNvPr id="1618" name=""/>
                <p:cNvSpPr/>
                <p:nvPr/>
              </p:nvSpPr>
              <p:spPr>
                <a:xfrm>
                  <a:off x="761976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769572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0" name=""/>
              <p:cNvGrpSpPr/>
              <p:nvPr/>
            </p:nvGrpSpPr>
            <p:grpSpPr>
              <a:xfrm>
                <a:off x="7619760" y="5257800"/>
                <a:ext cx="304560" cy="304920"/>
                <a:chOff x="7619760" y="5257800"/>
                <a:chExt cx="304560" cy="304920"/>
              </a:xfrm>
            </p:grpSpPr>
            <p:sp>
              <p:nvSpPr>
                <p:cNvPr id="1621" name=""/>
                <p:cNvSpPr/>
                <p:nvPr/>
              </p:nvSpPr>
              <p:spPr>
                <a:xfrm>
                  <a:off x="7619760" y="52578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769572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3" name=""/>
              <p:cNvGrpSpPr/>
              <p:nvPr/>
            </p:nvGrpSpPr>
            <p:grpSpPr>
              <a:xfrm>
                <a:off x="7924680" y="4343400"/>
                <a:ext cx="304200" cy="304920"/>
                <a:chOff x="7924680" y="4343400"/>
                <a:chExt cx="304200" cy="304920"/>
              </a:xfrm>
            </p:grpSpPr>
            <p:sp>
              <p:nvSpPr>
                <p:cNvPr id="1624" name=""/>
                <p:cNvSpPr/>
                <p:nvPr/>
              </p:nvSpPr>
              <p:spPr>
                <a:xfrm>
                  <a:off x="7924680" y="434340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800064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6" name=""/>
              <p:cNvGrpSpPr/>
              <p:nvPr/>
            </p:nvGrpSpPr>
            <p:grpSpPr>
              <a:xfrm>
                <a:off x="7924680" y="4648320"/>
                <a:ext cx="304200" cy="304560"/>
                <a:chOff x="7924680" y="4648320"/>
                <a:chExt cx="304200" cy="304560"/>
              </a:xfrm>
            </p:grpSpPr>
            <p:sp>
              <p:nvSpPr>
                <p:cNvPr id="1627" name=""/>
                <p:cNvSpPr/>
                <p:nvPr/>
              </p:nvSpPr>
              <p:spPr>
                <a:xfrm>
                  <a:off x="7924680" y="4648320"/>
                  <a:ext cx="30420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800064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9" name=""/>
              <p:cNvGrpSpPr/>
              <p:nvPr/>
            </p:nvGrpSpPr>
            <p:grpSpPr>
              <a:xfrm>
                <a:off x="7924680" y="4952880"/>
                <a:ext cx="304200" cy="304920"/>
                <a:chOff x="7924680" y="4952880"/>
                <a:chExt cx="304200" cy="304920"/>
              </a:xfrm>
            </p:grpSpPr>
            <p:sp>
              <p:nvSpPr>
                <p:cNvPr id="1630" name=""/>
                <p:cNvSpPr/>
                <p:nvPr/>
              </p:nvSpPr>
              <p:spPr>
                <a:xfrm>
                  <a:off x="7924680" y="495288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800064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2" name=""/>
              <p:cNvGrpSpPr/>
              <p:nvPr/>
            </p:nvGrpSpPr>
            <p:grpSpPr>
              <a:xfrm>
                <a:off x="7924680" y="5257800"/>
                <a:ext cx="304200" cy="304920"/>
                <a:chOff x="7924680" y="5257800"/>
                <a:chExt cx="304200" cy="304920"/>
              </a:xfrm>
            </p:grpSpPr>
            <p:sp>
              <p:nvSpPr>
                <p:cNvPr id="1633" name=""/>
                <p:cNvSpPr/>
                <p:nvPr/>
              </p:nvSpPr>
              <p:spPr>
                <a:xfrm>
                  <a:off x="7924680" y="525780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800064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5" name=""/>
              <p:cNvGrpSpPr/>
              <p:nvPr/>
            </p:nvGrpSpPr>
            <p:grpSpPr>
              <a:xfrm>
                <a:off x="8229240" y="4343400"/>
                <a:ext cx="304560" cy="304920"/>
                <a:chOff x="8229240" y="4343400"/>
                <a:chExt cx="304560" cy="304920"/>
              </a:xfrm>
            </p:grpSpPr>
            <p:sp>
              <p:nvSpPr>
                <p:cNvPr id="1636" name=""/>
                <p:cNvSpPr/>
                <p:nvPr/>
              </p:nvSpPr>
              <p:spPr>
                <a:xfrm>
                  <a:off x="822924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830520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8" name=""/>
              <p:cNvGrpSpPr/>
              <p:nvPr/>
            </p:nvGrpSpPr>
            <p:grpSpPr>
              <a:xfrm>
                <a:off x="8229240" y="4648320"/>
                <a:ext cx="304560" cy="304560"/>
                <a:chOff x="8229240" y="4648320"/>
                <a:chExt cx="304560" cy="304560"/>
              </a:xfrm>
            </p:grpSpPr>
            <p:sp>
              <p:nvSpPr>
                <p:cNvPr id="1639" name=""/>
                <p:cNvSpPr/>
                <p:nvPr/>
              </p:nvSpPr>
              <p:spPr>
                <a:xfrm>
                  <a:off x="822924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830520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1" name=""/>
              <p:cNvGrpSpPr/>
              <p:nvPr/>
            </p:nvGrpSpPr>
            <p:grpSpPr>
              <a:xfrm>
                <a:off x="8229240" y="4952880"/>
                <a:ext cx="304560" cy="304920"/>
                <a:chOff x="8229240" y="4952880"/>
                <a:chExt cx="304560" cy="304920"/>
              </a:xfrm>
            </p:grpSpPr>
            <p:sp>
              <p:nvSpPr>
                <p:cNvPr id="1642" name=""/>
                <p:cNvSpPr/>
                <p:nvPr/>
              </p:nvSpPr>
              <p:spPr>
                <a:xfrm>
                  <a:off x="822924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830520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4" name=""/>
              <p:cNvGrpSpPr/>
              <p:nvPr/>
            </p:nvGrpSpPr>
            <p:grpSpPr>
              <a:xfrm>
                <a:off x="8229240" y="5257800"/>
                <a:ext cx="304560" cy="304920"/>
                <a:chOff x="8229240" y="5257800"/>
                <a:chExt cx="304560" cy="304920"/>
              </a:xfrm>
            </p:grpSpPr>
            <p:sp>
              <p:nvSpPr>
                <p:cNvPr id="1645" name=""/>
                <p:cNvSpPr/>
                <p:nvPr/>
              </p:nvSpPr>
              <p:spPr>
                <a:xfrm>
                  <a:off x="8229240" y="52578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830520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7" name=""/>
              <p:cNvGrpSpPr/>
              <p:nvPr/>
            </p:nvGrpSpPr>
            <p:grpSpPr>
              <a:xfrm>
                <a:off x="8534160" y="4343400"/>
                <a:ext cx="304560" cy="304920"/>
                <a:chOff x="8534160" y="4343400"/>
                <a:chExt cx="304560" cy="304920"/>
              </a:xfrm>
            </p:grpSpPr>
            <p:sp>
              <p:nvSpPr>
                <p:cNvPr id="1648" name=""/>
                <p:cNvSpPr/>
                <p:nvPr/>
              </p:nvSpPr>
              <p:spPr>
                <a:xfrm>
                  <a:off x="853416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861012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0" name=""/>
              <p:cNvGrpSpPr/>
              <p:nvPr/>
            </p:nvGrpSpPr>
            <p:grpSpPr>
              <a:xfrm>
                <a:off x="8534160" y="4648320"/>
                <a:ext cx="304560" cy="304560"/>
                <a:chOff x="8534160" y="4648320"/>
                <a:chExt cx="304560" cy="304560"/>
              </a:xfrm>
            </p:grpSpPr>
            <p:sp>
              <p:nvSpPr>
                <p:cNvPr id="1651" name=""/>
                <p:cNvSpPr/>
                <p:nvPr/>
              </p:nvSpPr>
              <p:spPr>
                <a:xfrm>
                  <a:off x="853416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861012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3" name=""/>
              <p:cNvGrpSpPr/>
              <p:nvPr/>
            </p:nvGrpSpPr>
            <p:grpSpPr>
              <a:xfrm>
                <a:off x="8534160" y="4952880"/>
                <a:ext cx="304560" cy="304920"/>
                <a:chOff x="8534160" y="4952880"/>
                <a:chExt cx="304560" cy="304920"/>
              </a:xfrm>
            </p:grpSpPr>
            <p:sp>
              <p:nvSpPr>
                <p:cNvPr id="1654" name=""/>
                <p:cNvSpPr/>
                <p:nvPr/>
              </p:nvSpPr>
              <p:spPr>
                <a:xfrm>
                  <a:off x="853416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861012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6" name=""/>
              <p:cNvGrpSpPr/>
              <p:nvPr/>
            </p:nvGrpSpPr>
            <p:grpSpPr>
              <a:xfrm>
                <a:off x="8534160" y="5257800"/>
                <a:ext cx="304560" cy="304920"/>
                <a:chOff x="8534160" y="5257800"/>
                <a:chExt cx="304560" cy="304920"/>
              </a:xfrm>
            </p:grpSpPr>
            <p:sp>
              <p:nvSpPr>
                <p:cNvPr id="1657" name=""/>
                <p:cNvSpPr/>
                <p:nvPr/>
              </p:nvSpPr>
              <p:spPr>
                <a:xfrm>
                  <a:off x="8534160" y="52578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861012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59" name=""/>
            <p:cNvSpPr/>
            <p:nvPr/>
          </p:nvSpPr>
          <p:spPr>
            <a:xfrm>
              <a:off x="5638680" y="4010040"/>
              <a:ext cx="762120" cy="7970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0" name=""/>
          <p:cNvSpPr/>
          <p:nvPr/>
        </p:nvSpPr>
        <p:spPr>
          <a:xfrm>
            <a:off x="2058120" y="1980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d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4342680" y="1980360"/>
            <a:ext cx="17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y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010280" y="198036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2860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30040" y="3123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838080" y="5079960"/>
            <a:ext cx="1447920" cy="1160280"/>
          </a:xfrm>
          <a:prstGeom prst="rightArrow">
            <a:avLst>
              <a:gd name="adj1" fmla="val 50000"/>
              <a:gd name="adj2" fmla="val 31198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struction iss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19240" y="6323760"/>
            <a:ext cx="84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24 operations/cycle while issuing 1 short instruction/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percompu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 of a supercomput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est machine in world at given tas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evice to turn a compute-bound problem into an I/O bound proble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machine costing $30M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machine designed by Seymour Cr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C6600 (Cray, 1964) regarded as first supercompu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Chai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1066320" y="988200"/>
            <a:ext cx="5753160" cy="75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 version of register bypas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d with Cray-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9" name=""/>
          <p:cNvGrpSpPr/>
          <p:nvPr/>
        </p:nvGrpSpPr>
        <p:grpSpPr>
          <a:xfrm>
            <a:off x="2895480" y="2209680"/>
            <a:ext cx="1548000" cy="3733920"/>
            <a:chOff x="2895480" y="2209680"/>
            <a:chExt cx="1548000" cy="3733920"/>
          </a:xfrm>
        </p:grpSpPr>
        <p:sp>
          <p:nvSpPr>
            <p:cNvPr id="1670" name=""/>
            <p:cNvSpPr/>
            <p:nvPr/>
          </p:nvSpPr>
          <p:spPr>
            <a:xfrm>
              <a:off x="2895480" y="5486400"/>
              <a:ext cx="121932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962520" y="2209680"/>
              <a:ext cx="480960" cy="1305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971800" y="4496400"/>
              <a:ext cx="1133640" cy="703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ad 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V="1">
              <a:off x="3581280" y="3504960"/>
              <a:ext cx="63972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V="1">
              <a:off x="3505320" y="5181120"/>
              <a:ext cx="144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5" name=""/>
          <p:cNvGrpSpPr/>
          <p:nvPr/>
        </p:nvGrpSpPr>
        <p:grpSpPr>
          <a:xfrm>
            <a:off x="3886200" y="2209680"/>
            <a:ext cx="2514600" cy="3810240"/>
            <a:chOff x="3886200" y="2209680"/>
            <a:chExt cx="2514600" cy="3810240"/>
          </a:xfrm>
        </p:grpSpPr>
        <p:grpSp>
          <p:nvGrpSpPr>
            <p:cNvPr id="1676" name=""/>
            <p:cNvGrpSpPr/>
            <p:nvPr/>
          </p:nvGrpSpPr>
          <p:grpSpPr>
            <a:xfrm>
              <a:off x="4952880" y="4572000"/>
              <a:ext cx="1143000" cy="1447920"/>
              <a:chOff x="4952880" y="4572000"/>
              <a:chExt cx="1143000" cy="1447920"/>
            </a:xfrm>
          </p:grpSpPr>
          <p:sp>
            <p:nvSpPr>
              <p:cNvPr id="1677" name=""/>
              <p:cNvSpPr/>
              <p:nvPr/>
            </p:nvSpPr>
            <p:spPr>
              <a:xfrm>
                <a:off x="4952880" y="480060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8" name=""/>
              <p:cNvGrpSpPr/>
              <p:nvPr/>
            </p:nvGrpSpPr>
            <p:grpSpPr>
              <a:xfrm>
                <a:off x="4952880" y="5715000"/>
                <a:ext cx="993960" cy="76320"/>
                <a:chOff x="4952880" y="5715000"/>
                <a:chExt cx="993960" cy="76320"/>
              </a:xfrm>
            </p:grpSpPr>
            <p:sp>
              <p:nvSpPr>
                <p:cNvPr id="1679" name=""/>
                <p:cNvSpPr/>
                <p:nvPr/>
              </p:nvSpPr>
              <p:spPr>
                <a:xfrm>
                  <a:off x="4952880" y="571500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5791320" y="57150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5870520" y="5753160"/>
                  <a:ext cx="76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2" name=""/>
              <p:cNvGrpSpPr/>
              <p:nvPr/>
            </p:nvGrpSpPr>
            <p:grpSpPr>
              <a:xfrm>
                <a:off x="4952880" y="4952880"/>
                <a:ext cx="993960" cy="76320"/>
                <a:chOff x="4952880" y="4952880"/>
                <a:chExt cx="993960" cy="76320"/>
              </a:xfrm>
            </p:grpSpPr>
            <p:sp>
              <p:nvSpPr>
                <p:cNvPr id="1683" name=""/>
                <p:cNvSpPr/>
                <p:nvPr/>
              </p:nvSpPr>
              <p:spPr>
                <a:xfrm>
                  <a:off x="4952880" y="495288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5791320" y="495288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5870520" y="4991040"/>
                  <a:ext cx="76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6" name=""/>
              <p:cNvGrpSpPr/>
              <p:nvPr/>
            </p:nvGrpSpPr>
            <p:grpSpPr>
              <a:xfrm>
                <a:off x="4952880" y="5334120"/>
                <a:ext cx="993960" cy="75960"/>
                <a:chOff x="4952880" y="5334120"/>
                <a:chExt cx="993960" cy="75960"/>
              </a:xfrm>
            </p:grpSpPr>
            <p:sp>
              <p:nvSpPr>
                <p:cNvPr id="1687" name=""/>
                <p:cNvSpPr/>
                <p:nvPr/>
              </p:nvSpPr>
              <p:spPr>
                <a:xfrm>
                  <a:off x="4952880" y="5334120"/>
                  <a:ext cx="914400" cy="759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5791320" y="533412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5870520" y="5371920"/>
                  <a:ext cx="76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0" name=""/>
              <p:cNvSpPr/>
              <p:nvPr/>
            </p:nvSpPr>
            <p:spPr>
              <a:xfrm>
                <a:off x="5715000" y="45720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5105520" y="45720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410080" y="4572000"/>
                <a:ext cx="685800" cy="1447920"/>
              </a:xfrm>
              <a:custGeom>
                <a:avLst/>
                <a:gdLst/>
                <a:ahLst/>
                <a:rect l="l" t="t" r="r" b="b"/>
                <a:pathLst>
                  <a:path w="432" h="912">
                    <a:moveTo>
                      <a:pt x="0" y="816"/>
                    </a:moveTo>
                    <a:lnTo>
                      <a:pt x="0" y="912"/>
                    </a:lnTo>
                    <a:lnTo>
                      <a:pt x="432" y="912"/>
                    </a:lnTo>
                    <a:lnTo>
                      <a:pt x="43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986000" y="5028120"/>
                <a:ext cx="77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ult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4" name=""/>
            <p:cNvSpPr/>
            <p:nvPr/>
          </p:nvSpPr>
          <p:spPr>
            <a:xfrm>
              <a:off x="3886200" y="4038480"/>
              <a:ext cx="1219320" cy="53352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410080" y="2209680"/>
              <a:ext cx="457200" cy="1305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715000" y="350532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943600" y="2209680"/>
              <a:ext cx="457200" cy="1305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V="1">
              <a:off x="6095880" y="3504960"/>
              <a:ext cx="7632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267800" y="3961440"/>
              <a:ext cx="8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c0128"/>
                  </a:solidFill>
                  <a:latin typeface="Arial"/>
                </a:rPr>
                <a:t>Ch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0" name=""/>
          <p:cNvGrpSpPr/>
          <p:nvPr/>
        </p:nvGrpSpPr>
        <p:grpSpPr>
          <a:xfrm>
            <a:off x="6095880" y="2209680"/>
            <a:ext cx="2133720" cy="3810240"/>
            <a:chOff x="6095880" y="2209680"/>
            <a:chExt cx="2133720" cy="3810240"/>
          </a:xfrm>
        </p:grpSpPr>
        <p:grpSp>
          <p:nvGrpSpPr>
            <p:cNvPr id="1701" name=""/>
            <p:cNvGrpSpPr/>
            <p:nvPr/>
          </p:nvGrpSpPr>
          <p:grpSpPr>
            <a:xfrm>
              <a:off x="6629400" y="4572000"/>
              <a:ext cx="1143000" cy="1447920"/>
              <a:chOff x="6629400" y="4572000"/>
              <a:chExt cx="1143000" cy="1447920"/>
            </a:xfrm>
          </p:grpSpPr>
          <p:sp>
            <p:nvSpPr>
              <p:cNvPr id="1702" name=""/>
              <p:cNvSpPr/>
              <p:nvPr/>
            </p:nvSpPr>
            <p:spPr>
              <a:xfrm>
                <a:off x="6629400" y="480060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3" name=""/>
              <p:cNvGrpSpPr/>
              <p:nvPr/>
            </p:nvGrpSpPr>
            <p:grpSpPr>
              <a:xfrm>
                <a:off x="6629400" y="5715000"/>
                <a:ext cx="993240" cy="76320"/>
                <a:chOff x="6629400" y="5715000"/>
                <a:chExt cx="993240" cy="76320"/>
              </a:xfrm>
            </p:grpSpPr>
            <p:sp>
              <p:nvSpPr>
                <p:cNvPr id="1704" name=""/>
                <p:cNvSpPr/>
                <p:nvPr/>
              </p:nvSpPr>
              <p:spPr>
                <a:xfrm>
                  <a:off x="6629400" y="5715000"/>
                  <a:ext cx="914040" cy="76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7467480" y="5715000"/>
                  <a:ext cx="7560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7546680" y="5753160"/>
                  <a:ext cx="75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7" name=""/>
              <p:cNvGrpSpPr/>
              <p:nvPr/>
            </p:nvGrpSpPr>
            <p:grpSpPr>
              <a:xfrm>
                <a:off x="6629400" y="4952880"/>
                <a:ext cx="993240" cy="76320"/>
                <a:chOff x="6629400" y="4952880"/>
                <a:chExt cx="993240" cy="76320"/>
              </a:xfrm>
            </p:grpSpPr>
            <p:sp>
              <p:nvSpPr>
                <p:cNvPr id="1708" name=""/>
                <p:cNvSpPr/>
                <p:nvPr/>
              </p:nvSpPr>
              <p:spPr>
                <a:xfrm>
                  <a:off x="6629400" y="4952880"/>
                  <a:ext cx="914040" cy="76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7467480" y="4952880"/>
                  <a:ext cx="7560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7546680" y="4991040"/>
                  <a:ext cx="75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1" name=""/>
              <p:cNvGrpSpPr/>
              <p:nvPr/>
            </p:nvGrpSpPr>
            <p:grpSpPr>
              <a:xfrm>
                <a:off x="6629400" y="5334120"/>
                <a:ext cx="993240" cy="75960"/>
                <a:chOff x="6629400" y="5334120"/>
                <a:chExt cx="993240" cy="75960"/>
              </a:xfrm>
            </p:grpSpPr>
            <p:sp>
              <p:nvSpPr>
                <p:cNvPr id="1712" name=""/>
                <p:cNvSpPr/>
                <p:nvPr/>
              </p:nvSpPr>
              <p:spPr>
                <a:xfrm>
                  <a:off x="6629400" y="5334120"/>
                  <a:ext cx="914040" cy="759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7467480" y="5334120"/>
                  <a:ext cx="7560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7546680" y="5371920"/>
                  <a:ext cx="75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5" name=""/>
              <p:cNvSpPr/>
              <p:nvPr/>
            </p:nvSpPr>
            <p:spPr>
              <a:xfrm>
                <a:off x="7391520" y="45720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781680" y="45720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7086600" y="4572000"/>
                <a:ext cx="685800" cy="1447920"/>
              </a:xfrm>
              <a:custGeom>
                <a:avLst/>
                <a:gdLst/>
                <a:ahLst/>
                <a:rect l="l" t="t" r="r" b="b"/>
                <a:pathLst>
                  <a:path w="432" h="912">
                    <a:moveTo>
                      <a:pt x="0" y="816"/>
                    </a:moveTo>
                    <a:lnTo>
                      <a:pt x="0" y="912"/>
                    </a:lnTo>
                    <a:lnTo>
                      <a:pt x="432" y="912"/>
                    </a:lnTo>
                    <a:lnTo>
                      <a:pt x="43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782400" y="5028120"/>
                <a:ext cx="67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d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9" name=""/>
            <p:cNvSpPr/>
            <p:nvPr/>
          </p:nvSpPr>
          <p:spPr>
            <a:xfrm>
              <a:off x="7086600" y="2209680"/>
              <a:ext cx="457200" cy="1305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772400" y="2209680"/>
              <a:ext cx="457200" cy="1305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095880" y="4191120"/>
              <a:ext cx="685800" cy="38088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391520" y="350532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V="1">
              <a:off x="7772400" y="3504960"/>
              <a:ext cx="22860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248880" y="4037760"/>
              <a:ext cx="8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c0128"/>
                  </a:solidFill>
                  <a:latin typeface="Arial"/>
                </a:rPr>
                <a:t>Ch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5" name=""/>
          <p:cNvSpPr/>
          <p:nvPr/>
        </p:nvSpPr>
        <p:spPr>
          <a:xfrm>
            <a:off x="534960" y="2659680"/>
            <a:ext cx="2466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V   v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LV v3,v1,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V v5, v3, v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1676520" y="29718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1676520" y="3429000"/>
            <a:ext cx="30456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Chaining Advant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9" name=""/>
          <p:cNvGrpSpPr/>
          <p:nvPr/>
        </p:nvGrpSpPr>
        <p:grpSpPr>
          <a:xfrm>
            <a:off x="304920" y="3884760"/>
            <a:ext cx="8534160" cy="2230200"/>
            <a:chOff x="304920" y="3884760"/>
            <a:chExt cx="8534160" cy="2230200"/>
          </a:xfrm>
        </p:grpSpPr>
        <p:sp>
          <p:nvSpPr>
            <p:cNvPr id="1730" name=""/>
            <p:cNvSpPr/>
            <p:nvPr/>
          </p:nvSpPr>
          <p:spPr>
            <a:xfrm>
              <a:off x="304920" y="3884760"/>
              <a:ext cx="85341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ith chaining, can start dependent instruction as soon as first result appe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1" name=""/>
            <p:cNvGrpSpPr/>
            <p:nvPr/>
          </p:nvGrpSpPr>
          <p:grpSpPr>
            <a:xfrm>
              <a:off x="1295280" y="4952880"/>
              <a:ext cx="3276720" cy="1162080"/>
              <a:chOff x="1295280" y="4952880"/>
              <a:chExt cx="3276720" cy="1162080"/>
            </a:xfrm>
          </p:grpSpPr>
          <p:sp>
            <p:nvSpPr>
              <p:cNvPr id="1732" name=""/>
              <p:cNvSpPr/>
              <p:nvPr/>
            </p:nvSpPr>
            <p:spPr>
              <a:xfrm>
                <a:off x="1295280" y="4952880"/>
                <a:ext cx="2438640" cy="381240"/>
              </a:xfrm>
              <a:prstGeom prst="rect">
                <a:avLst/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Lo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1752480" y="5334120"/>
                <a:ext cx="2438640" cy="3808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Mu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2133720" y="5715000"/>
                <a:ext cx="2438280" cy="399960"/>
              </a:xfrm>
              <a:prstGeom prst="rect">
                <a:avLst/>
              </a:prstGeom>
              <a:solidFill>
                <a:srgbClr val="fc012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Ad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35" name=""/>
          <p:cNvGrpSpPr/>
          <p:nvPr/>
        </p:nvGrpSpPr>
        <p:grpSpPr>
          <a:xfrm>
            <a:off x="304920" y="1294200"/>
            <a:ext cx="8534160" cy="2153880"/>
            <a:chOff x="304920" y="1294200"/>
            <a:chExt cx="8534160" cy="2153880"/>
          </a:xfrm>
        </p:grpSpPr>
        <p:grpSp>
          <p:nvGrpSpPr>
            <p:cNvPr id="1736" name=""/>
            <p:cNvGrpSpPr/>
            <p:nvPr/>
          </p:nvGrpSpPr>
          <p:grpSpPr>
            <a:xfrm>
              <a:off x="990720" y="2286000"/>
              <a:ext cx="7315200" cy="1162080"/>
              <a:chOff x="990720" y="2286000"/>
              <a:chExt cx="7315200" cy="1162080"/>
            </a:xfrm>
          </p:grpSpPr>
          <p:grpSp>
            <p:nvGrpSpPr>
              <p:cNvPr id="1737" name=""/>
              <p:cNvGrpSpPr/>
              <p:nvPr/>
            </p:nvGrpSpPr>
            <p:grpSpPr>
              <a:xfrm>
                <a:off x="990720" y="2286000"/>
                <a:ext cx="7315200" cy="1162080"/>
                <a:chOff x="990720" y="2286000"/>
                <a:chExt cx="7315200" cy="1162080"/>
              </a:xfrm>
            </p:grpSpPr>
            <p:sp>
              <p:nvSpPr>
                <p:cNvPr id="1738" name=""/>
                <p:cNvSpPr/>
                <p:nvPr/>
              </p:nvSpPr>
              <p:spPr>
                <a:xfrm>
                  <a:off x="990720" y="2286000"/>
                  <a:ext cx="2438280" cy="380880"/>
                </a:xfrm>
                <a:prstGeom prst="rect">
                  <a:avLst/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Loa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3429000" y="2666880"/>
                  <a:ext cx="2438280" cy="3812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Mu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5867280" y="3048120"/>
                  <a:ext cx="2438640" cy="399960"/>
                </a:xfrm>
                <a:prstGeom prst="rect">
                  <a:avLst/>
                </a:prstGeom>
                <a:solidFill>
                  <a:srgbClr val="fc0128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Ad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1" name=""/>
              <p:cNvGrpSpPr/>
              <p:nvPr/>
            </p:nvGrpSpPr>
            <p:grpSpPr>
              <a:xfrm>
                <a:off x="1747440" y="3000960"/>
                <a:ext cx="1300680" cy="398880"/>
                <a:chOff x="1747440" y="3000960"/>
                <a:chExt cx="1300680" cy="398880"/>
              </a:xfrm>
            </p:grpSpPr>
            <p:sp>
              <p:nvSpPr>
                <p:cNvPr id="1742" name=""/>
                <p:cNvSpPr/>
                <p:nvPr/>
              </p:nvSpPr>
              <p:spPr>
                <a:xfrm>
                  <a:off x="2514600" y="3200400"/>
                  <a:ext cx="533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1747440" y="3000960"/>
                  <a:ext cx="773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Tim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4" name=""/>
            <p:cNvSpPr/>
            <p:nvPr/>
          </p:nvSpPr>
          <p:spPr>
            <a:xfrm>
              <a:off x="304920" y="1294200"/>
              <a:ext cx="85341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ithout chaining, must wait for last element of result to be written before starting dependent instru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Startu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685440" y="682920"/>
            <a:ext cx="7924680" cy="13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components of vector startup penal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al unit latency (time through pipelin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d time or recovery time (time before another vector instruction can start down pipelin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685800" y="2819520"/>
            <a:ext cx="1904760" cy="380880"/>
            <a:chOff x="685800" y="2819520"/>
            <a:chExt cx="1904760" cy="380880"/>
          </a:xfrm>
        </p:grpSpPr>
        <p:sp>
          <p:nvSpPr>
            <p:cNvPr id="1748" name=""/>
            <p:cNvSpPr/>
            <p:nvPr/>
          </p:nvSpPr>
          <p:spPr>
            <a:xfrm>
              <a:off x="68580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06668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447560" y="2819520"/>
              <a:ext cx="3812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82880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20968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3" name=""/>
          <p:cNvGrpSpPr/>
          <p:nvPr/>
        </p:nvGrpSpPr>
        <p:grpSpPr>
          <a:xfrm>
            <a:off x="1066680" y="3200400"/>
            <a:ext cx="1904760" cy="380880"/>
            <a:chOff x="1066680" y="3200400"/>
            <a:chExt cx="1904760" cy="380880"/>
          </a:xfrm>
        </p:grpSpPr>
        <p:sp>
          <p:nvSpPr>
            <p:cNvPr id="1754" name=""/>
            <p:cNvSpPr/>
            <p:nvPr/>
          </p:nvSpPr>
          <p:spPr>
            <a:xfrm>
              <a:off x="106668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44756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828440" y="3200400"/>
              <a:ext cx="3812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220968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259056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9" name=""/>
          <p:cNvGrpSpPr/>
          <p:nvPr/>
        </p:nvGrpSpPr>
        <p:grpSpPr>
          <a:xfrm>
            <a:off x="1447920" y="3581280"/>
            <a:ext cx="1904760" cy="380880"/>
            <a:chOff x="1447920" y="3581280"/>
            <a:chExt cx="1904760" cy="380880"/>
          </a:xfrm>
        </p:grpSpPr>
        <p:sp>
          <p:nvSpPr>
            <p:cNvPr id="1760" name=""/>
            <p:cNvSpPr/>
            <p:nvPr/>
          </p:nvSpPr>
          <p:spPr>
            <a:xfrm>
              <a:off x="1447920" y="3581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828800" y="3581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209680" y="3581280"/>
              <a:ext cx="3812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590920" y="3581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971800" y="3581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5" name=""/>
          <p:cNvGrpSpPr/>
          <p:nvPr/>
        </p:nvGrpSpPr>
        <p:grpSpPr>
          <a:xfrm>
            <a:off x="1828800" y="3962520"/>
            <a:ext cx="1904760" cy="380880"/>
            <a:chOff x="1828800" y="3962520"/>
            <a:chExt cx="1904760" cy="380880"/>
          </a:xfrm>
        </p:grpSpPr>
        <p:sp>
          <p:nvSpPr>
            <p:cNvPr id="1766" name=""/>
            <p:cNvSpPr/>
            <p:nvPr/>
          </p:nvSpPr>
          <p:spPr>
            <a:xfrm>
              <a:off x="1828800" y="3962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209680" y="3962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590560" y="3962520"/>
              <a:ext cx="38124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971800" y="3962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352680" y="3962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1" name=""/>
          <p:cNvGrpSpPr/>
          <p:nvPr/>
        </p:nvGrpSpPr>
        <p:grpSpPr>
          <a:xfrm>
            <a:off x="2209680" y="4343400"/>
            <a:ext cx="1904760" cy="380880"/>
            <a:chOff x="2209680" y="4343400"/>
            <a:chExt cx="1904760" cy="380880"/>
          </a:xfrm>
        </p:grpSpPr>
        <p:sp>
          <p:nvSpPr>
            <p:cNvPr id="1772" name=""/>
            <p:cNvSpPr/>
            <p:nvPr/>
          </p:nvSpPr>
          <p:spPr>
            <a:xfrm>
              <a:off x="2209680" y="434340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590560" y="434340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971440" y="4343400"/>
              <a:ext cx="38124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352680" y="434340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733560" y="434340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2590920" y="4724280"/>
            <a:ext cx="1904760" cy="380880"/>
            <a:chOff x="2590920" y="4724280"/>
            <a:chExt cx="1904760" cy="380880"/>
          </a:xfrm>
        </p:grpSpPr>
        <p:sp>
          <p:nvSpPr>
            <p:cNvPr id="1778" name=""/>
            <p:cNvSpPr/>
            <p:nvPr/>
          </p:nvSpPr>
          <p:spPr>
            <a:xfrm>
              <a:off x="2590920" y="472428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971800" y="472428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3352680" y="4724280"/>
              <a:ext cx="38124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3733920" y="472428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114800" y="472428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2971800" y="5105520"/>
            <a:ext cx="1904760" cy="380880"/>
            <a:chOff x="2971800" y="5105520"/>
            <a:chExt cx="1904760" cy="380880"/>
          </a:xfrm>
        </p:grpSpPr>
        <p:sp>
          <p:nvSpPr>
            <p:cNvPr id="1784" name=""/>
            <p:cNvSpPr/>
            <p:nvPr/>
          </p:nvSpPr>
          <p:spPr>
            <a:xfrm>
              <a:off x="2971800" y="5105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3352680" y="5105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3733560" y="5105520"/>
              <a:ext cx="38124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114800" y="5105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495680" y="5105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9" name=""/>
          <p:cNvGrpSpPr/>
          <p:nvPr/>
        </p:nvGrpSpPr>
        <p:grpSpPr>
          <a:xfrm>
            <a:off x="3352680" y="5486400"/>
            <a:ext cx="1904760" cy="380880"/>
            <a:chOff x="3352680" y="5486400"/>
            <a:chExt cx="1904760" cy="380880"/>
          </a:xfrm>
        </p:grpSpPr>
        <p:sp>
          <p:nvSpPr>
            <p:cNvPr id="1790" name=""/>
            <p:cNvSpPr/>
            <p:nvPr/>
          </p:nvSpPr>
          <p:spPr>
            <a:xfrm>
              <a:off x="3352680" y="5486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733560" y="5486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114440" y="5486400"/>
              <a:ext cx="3812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495680" y="5486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876560" y="5486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5" name=""/>
          <p:cNvGrpSpPr/>
          <p:nvPr/>
        </p:nvGrpSpPr>
        <p:grpSpPr>
          <a:xfrm>
            <a:off x="3733920" y="5867280"/>
            <a:ext cx="1904760" cy="380880"/>
            <a:chOff x="3733920" y="5867280"/>
            <a:chExt cx="1904760" cy="380880"/>
          </a:xfrm>
        </p:grpSpPr>
        <p:sp>
          <p:nvSpPr>
            <p:cNvPr id="1796" name=""/>
            <p:cNvSpPr/>
            <p:nvPr/>
          </p:nvSpPr>
          <p:spPr>
            <a:xfrm>
              <a:off x="3733920" y="5867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114800" y="5867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495680" y="5867280"/>
              <a:ext cx="3812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876920" y="5867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257800" y="5867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1" name=""/>
          <p:cNvGrpSpPr/>
          <p:nvPr/>
        </p:nvGrpSpPr>
        <p:grpSpPr>
          <a:xfrm>
            <a:off x="4114800" y="6248520"/>
            <a:ext cx="1904760" cy="380880"/>
            <a:chOff x="4114800" y="6248520"/>
            <a:chExt cx="1904760" cy="380880"/>
          </a:xfrm>
        </p:grpSpPr>
        <p:sp>
          <p:nvSpPr>
            <p:cNvPr id="1802" name=""/>
            <p:cNvSpPr/>
            <p:nvPr/>
          </p:nvSpPr>
          <p:spPr>
            <a:xfrm>
              <a:off x="4114800" y="6248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495680" y="6248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876560" y="6248520"/>
              <a:ext cx="3812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257800" y="6248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638680" y="6248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7" name=""/>
          <p:cNvSpPr/>
          <p:nvPr/>
        </p:nvSpPr>
        <p:spPr>
          <a:xfrm>
            <a:off x="68580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25909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85800" y="25909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419400" y="2133360"/>
            <a:ext cx="247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al Unit Lat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1828800" y="4419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352680" y="5943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1828800" y="60958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2033640" y="579096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ad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6400800" y="28195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400800" y="39625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6400800" y="5410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6400800" y="655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238880" y="28195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7238880" y="3962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7238880" y="54100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6026400" y="3200040"/>
            <a:ext cx="24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First Vector Instr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6033600" y="5790960"/>
            <a:ext cx="27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Second Vector Instr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6632640" y="449532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ad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 Time and Short Vect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6" name=""/>
          <p:cNvGrpSpPr/>
          <p:nvPr/>
        </p:nvGrpSpPr>
        <p:grpSpPr>
          <a:xfrm>
            <a:off x="914400" y="1371600"/>
            <a:ext cx="304920" cy="304920"/>
            <a:chOff x="914400" y="1371600"/>
            <a:chExt cx="304920" cy="304920"/>
          </a:xfrm>
        </p:grpSpPr>
        <p:sp>
          <p:nvSpPr>
            <p:cNvPr id="1827" name=""/>
            <p:cNvSpPr/>
            <p:nvPr/>
          </p:nvSpPr>
          <p:spPr>
            <a:xfrm>
              <a:off x="914400" y="1371600"/>
              <a:ext cx="304920" cy="304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990720" y="1447920"/>
              <a:ext cx="152280" cy="152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9" name=""/>
          <p:cNvGrpSpPr/>
          <p:nvPr/>
        </p:nvGrpSpPr>
        <p:grpSpPr>
          <a:xfrm>
            <a:off x="1219320" y="1371600"/>
            <a:ext cx="304560" cy="304920"/>
            <a:chOff x="1219320" y="1371600"/>
            <a:chExt cx="304560" cy="304920"/>
          </a:xfrm>
        </p:grpSpPr>
        <p:sp>
          <p:nvSpPr>
            <p:cNvPr id="1830" name=""/>
            <p:cNvSpPr/>
            <p:nvPr/>
          </p:nvSpPr>
          <p:spPr>
            <a:xfrm>
              <a:off x="1219320" y="1371600"/>
              <a:ext cx="304560" cy="304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295280" y="1447920"/>
              <a:ext cx="151920" cy="152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2" name=""/>
          <p:cNvGrpSpPr/>
          <p:nvPr/>
        </p:nvGrpSpPr>
        <p:grpSpPr>
          <a:xfrm>
            <a:off x="914400" y="1676520"/>
            <a:ext cx="304920" cy="304560"/>
            <a:chOff x="914400" y="1676520"/>
            <a:chExt cx="304920" cy="304560"/>
          </a:xfrm>
        </p:grpSpPr>
        <p:sp>
          <p:nvSpPr>
            <p:cNvPr id="1833" name=""/>
            <p:cNvSpPr/>
            <p:nvPr/>
          </p:nvSpPr>
          <p:spPr>
            <a:xfrm>
              <a:off x="914400" y="167652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990720" y="1752480"/>
              <a:ext cx="152280" cy="15192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5" name=""/>
          <p:cNvGrpSpPr/>
          <p:nvPr/>
        </p:nvGrpSpPr>
        <p:grpSpPr>
          <a:xfrm>
            <a:off x="1219320" y="1676520"/>
            <a:ext cx="304560" cy="304560"/>
            <a:chOff x="1219320" y="1676520"/>
            <a:chExt cx="304560" cy="304560"/>
          </a:xfrm>
        </p:grpSpPr>
        <p:sp>
          <p:nvSpPr>
            <p:cNvPr id="1836" name=""/>
            <p:cNvSpPr/>
            <p:nvPr/>
          </p:nvSpPr>
          <p:spPr>
            <a:xfrm>
              <a:off x="1219320" y="167652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295280" y="1752480"/>
              <a:ext cx="151920" cy="15192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8" name=""/>
          <p:cNvGrpSpPr/>
          <p:nvPr/>
        </p:nvGrpSpPr>
        <p:grpSpPr>
          <a:xfrm>
            <a:off x="914400" y="1981080"/>
            <a:ext cx="304920" cy="304920"/>
            <a:chOff x="914400" y="1981080"/>
            <a:chExt cx="304920" cy="304920"/>
          </a:xfrm>
        </p:grpSpPr>
        <p:sp>
          <p:nvSpPr>
            <p:cNvPr id="1839" name=""/>
            <p:cNvSpPr/>
            <p:nvPr/>
          </p:nvSpPr>
          <p:spPr>
            <a:xfrm>
              <a:off x="914400" y="1981080"/>
              <a:ext cx="304920" cy="304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990720" y="2057400"/>
              <a:ext cx="152280" cy="152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1219320" y="1981080"/>
            <a:ext cx="304560" cy="304920"/>
            <a:chOff x="1219320" y="1981080"/>
            <a:chExt cx="304560" cy="304920"/>
          </a:xfrm>
        </p:grpSpPr>
        <p:sp>
          <p:nvSpPr>
            <p:cNvPr id="1842" name=""/>
            <p:cNvSpPr/>
            <p:nvPr/>
          </p:nvSpPr>
          <p:spPr>
            <a:xfrm>
              <a:off x="1219320" y="1981080"/>
              <a:ext cx="304560" cy="304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295280" y="2057400"/>
              <a:ext cx="151920" cy="152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4" name=""/>
          <p:cNvGrpSpPr/>
          <p:nvPr/>
        </p:nvGrpSpPr>
        <p:grpSpPr>
          <a:xfrm>
            <a:off x="914400" y="2286000"/>
            <a:ext cx="304920" cy="304920"/>
            <a:chOff x="914400" y="2286000"/>
            <a:chExt cx="304920" cy="304920"/>
          </a:xfrm>
        </p:grpSpPr>
        <p:sp>
          <p:nvSpPr>
            <p:cNvPr id="1845" name=""/>
            <p:cNvSpPr/>
            <p:nvPr/>
          </p:nvSpPr>
          <p:spPr>
            <a:xfrm>
              <a:off x="914400" y="2286000"/>
              <a:ext cx="304920" cy="304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990720" y="2362320"/>
              <a:ext cx="152280" cy="152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7" name=""/>
          <p:cNvGrpSpPr/>
          <p:nvPr/>
        </p:nvGrpSpPr>
        <p:grpSpPr>
          <a:xfrm>
            <a:off x="1219320" y="2286000"/>
            <a:ext cx="304560" cy="304920"/>
            <a:chOff x="1219320" y="2286000"/>
            <a:chExt cx="304560" cy="304920"/>
          </a:xfrm>
        </p:grpSpPr>
        <p:sp>
          <p:nvSpPr>
            <p:cNvPr id="1848" name=""/>
            <p:cNvSpPr/>
            <p:nvPr/>
          </p:nvSpPr>
          <p:spPr>
            <a:xfrm>
              <a:off x="1219320" y="2286000"/>
              <a:ext cx="304560" cy="304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295280" y="2362320"/>
              <a:ext cx="151920" cy="152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0" name=""/>
          <p:cNvSpPr/>
          <p:nvPr/>
        </p:nvSpPr>
        <p:spPr>
          <a:xfrm>
            <a:off x="914400" y="1143000"/>
            <a:ext cx="609480" cy="1447920"/>
          </a:xfrm>
          <a:custGeom>
            <a:avLst/>
            <a:gdLst/>
            <a:ahLst/>
            <a:rect l="l" t="t" r="r" b="b"/>
            <a:pathLst>
              <a:path w="384" h="912">
                <a:moveTo>
                  <a:pt x="0" y="0"/>
                </a:moveTo>
                <a:lnTo>
                  <a:pt x="0" y="912"/>
                </a:lnTo>
                <a:lnTo>
                  <a:pt x="384" y="912"/>
                </a:lnTo>
                <a:lnTo>
                  <a:pt x="384" y="4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1" name=""/>
          <p:cNvGrpSpPr/>
          <p:nvPr/>
        </p:nvGrpSpPr>
        <p:grpSpPr>
          <a:xfrm>
            <a:off x="914400" y="2590920"/>
            <a:ext cx="304920" cy="304560"/>
            <a:chOff x="914400" y="2590920"/>
            <a:chExt cx="304920" cy="304560"/>
          </a:xfrm>
        </p:grpSpPr>
        <p:sp>
          <p:nvSpPr>
            <p:cNvPr id="1852" name=""/>
            <p:cNvSpPr/>
            <p:nvPr/>
          </p:nvSpPr>
          <p:spPr>
            <a:xfrm>
              <a:off x="914400" y="2590920"/>
              <a:ext cx="304920" cy="30456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990720" y="2666880"/>
              <a:ext cx="152280" cy="15192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4" name=""/>
          <p:cNvGrpSpPr/>
          <p:nvPr/>
        </p:nvGrpSpPr>
        <p:grpSpPr>
          <a:xfrm>
            <a:off x="1219320" y="2590920"/>
            <a:ext cx="304560" cy="304560"/>
            <a:chOff x="1219320" y="2590920"/>
            <a:chExt cx="304560" cy="304560"/>
          </a:xfrm>
        </p:grpSpPr>
        <p:sp>
          <p:nvSpPr>
            <p:cNvPr id="1855" name=""/>
            <p:cNvSpPr/>
            <p:nvPr/>
          </p:nvSpPr>
          <p:spPr>
            <a:xfrm>
              <a:off x="1219320" y="2590920"/>
              <a:ext cx="304560" cy="30456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295280" y="2666880"/>
              <a:ext cx="151920" cy="15192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7" name=""/>
          <p:cNvGrpSpPr/>
          <p:nvPr/>
        </p:nvGrpSpPr>
        <p:grpSpPr>
          <a:xfrm>
            <a:off x="914400" y="2895480"/>
            <a:ext cx="304920" cy="304920"/>
            <a:chOff x="914400" y="2895480"/>
            <a:chExt cx="304920" cy="304920"/>
          </a:xfrm>
        </p:grpSpPr>
        <p:sp>
          <p:nvSpPr>
            <p:cNvPr id="1858" name=""/>
            <p:cNvSpPr/>
            <p:nvPr/>
          </p:nvSpPr>
          <p:spPr>
            <a:xfrm>
              <a:off x="914400" y="2895480"/>
              <a:ext cx="304920" cy="3049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990720" y="2971800"/>
              <a:ext cx="152280" cy="15228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0" name=""/>
          <p:cNvGrpSpPr/>
          <p:nvPr/>
        </p:nvGrpSpPr>
        <p:grpSpPr>
          <a:xfrm>
            <a:off x="1219320" y="2895480"/>
            <a:ext cx="304560" cy="304920"/>
            <a:chOff x="1219320" y="2895480"/>
            <a:chExt cx="304560" cy="304920"/>
          </a:xfrm>
        </p:grpSpPr>
        <p:sp>
          <p:nvSpPr>
            <p:cNvPr id="1861" name=""/>
            <p:cNvSpPr/>
            <p:nvPr/>
          </p:nvSpPr>
          <p:spPr>
            <a:xfrm>
              <a:off x="1219320" y="2895480"/>
              <a:ext cx="304560" cy="3049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295280" y="2971800"/>
              <a:ext cx="151920" cy="15228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3" name=""/>
          <p:cNvGrpSpPr/>
          <p:nvPr/>
        </p:nvGrpSpPr>
        <p:grpSpPr>
          <a:xfrm>
            <a:off x="914400" y="3200400"/>
            <a:ext cx="304920" cy="304920"/>
            <a:chOff x="914400" y="3200400"/>
            <a:chExt cx="304920" cy="304920"/>
          </a:xfrm>
        </p:grpSpPr>
        <p:sp>
          <p:nvSpPr>
            <p:cNvPr id="1864" name=""/>
            <p:cNvSpPr/>
            <p:nvPr/>
          </p:nvSpPr>
          <p:spPr>
            <a:xfrm>
              <a:off x="914400" y="3200400"/>
              <a:ext cx="304920" cy="3049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990720" y="3276720"/>
              <a:ext cx="152280" cy="15228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6" name=""/>
          <p:cNvGrpSpPr/>
          <p:nvPr/>
        </p:nvGrpSpPr>
        <p:grpSpPr>
          <a:xfrm>
            <a:off x="1219320" y="3200400"/>
            <a:ext cx="304560" cy="304920"/>
            <a:chOff x="1219320" y="3200400"/>
            <a:chExt cx="304560" cy="304920"/>
          </a:xfrm>
        </p:grpSpPr>
        <p:sp>
          <p:nvSpPr>
            <p:cNvPr id="1867" name=""/>
            <p:cNvSpPr/>
            <p:nvPr/>
          </p:nvSpPr>
          <p:spPr>
            <a:xfrm>
              <a:off x="1219320" y="3200400"/>
              <a:ext cx="304560" cy="3049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295280" y="3276720"/>
              <a:ext cx="151920" cy="15228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9" name=""/>
          <p:cNvGrpSpPr/>
          <p:nvPr/>
        </p:nvGrpSpPr>
        <p:grpSpPr>
          <a:xfrm>
            <a:off x="914400" y="3505320"/>
            <a:ext cx="304920" cy="304560"/>
            <a:chOff x="914400" y="3505320"/>
            <a:chExt cx="304920" cy="304560"/>
          </a:xfrm>
        </p:grpSpPr>
        <p:sp>
          <p:nvSpPr>
            <p:cNvPr id="1870" name=""/>
            <p:cNvSpPr/>
            <p:nvPr/>
          </p:nvSpPr>
          <p:spPr>
            <a:xfrm>
              <a:off x="914400" y="3505320"/>
              <a:ext cx="304920" cy="30456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990720" y="3581280"/>
              <a:ext cx="152280" cy="15192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2" name=""/>
          <p:cNvGrpSpPr/>
          <p:nvPr/>
        </p:nvGrpSpPr>
        <p:grpSpPr>
          <a:xfrm>
            <a:off x="1219320" y="3505320"/>
            <a:ext cx="304560" cy="304560"/>
            <a:chOff x="1219320" y="3505320"/>
            <a:chExt cx="304560" cy="304560"/>
          </a:xfrm>
        </p:grpSpPr>
        <p:sp>
          <p:nvSpPr>
            <p:cNvPr id="1873" name=""/>
            <p:cNvSpPr/>
            <p:nvPr/>
          </p:nvSpPr>
          <p:spPr>
            <a:xfrm>
              <a:off x="1219320" y="3505320"/>
              <a:ext cx="304560" cy="30456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295280" y="3581280"/>
              <a:ext cx="151920" cy="15192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5" name=""/>
          <p:cNvGrpSpPr/>
          <p:nvPr/>
        </p:nvGrpSpPr>
        <p:grpSpPr>
          <a:xfrm>
            <a:off x="914400" y="3809880"/>
            <a:ext cx="304920" cy="304560"/>
            <a:chOff x="914400" y="3809880"/>
            <a:chExt cx="304920" cy="304560"/>
          </a:xfrm>
        </p:grpSpPr>
        <p:sp>
          <p:nvSpPr>
            <p:cNvPr id="1876" name=""/>
            <p:cNvSpPr/>
            <p:nvPr/>
          </p:nvSpPr>
          <p:spPr>
            <a:xfrm>
              <a:off x="914400" y="380988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990720" y="388584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1219320" y="3809880"/>
            <a:ext cx="304560" cy="304560"/>
            <a:chOff x="1219320" y="3809880"/>
            <a:chExt cx="304560" cy="304560"/>
          </a:xfrm>
        </p:grpSpPr>
        <p:sp>
          <p:nvSpPr>
            <p:cNvPr id="1879" name=""/>
            <p:cNvSpPr/>
            <p:nvPr/>
          </p:nvSpPr>
          <p:spPr>
            <a:xfrm>
              <a:off x="1219320" y="380988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295280" y="388584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1" name=""/>
          <p:cNvGrpSpPr/>
          <p:nvPr/>
        </p:nvGrpSpPr>
        <p:grpSpPr>
          <a:xfrm>
            <a:off x="1219320" y="4114800"/>
            <a:ext cx="304560" cy="304560"/>
            <a:chOff x="1219320" y="4114800"/>
            <a:chExt cx="304560" cy="304560"/>
          </a:xfrm>
        </p:grpSpPr>
        <p:sp>
          <p:nvSpPr>
            <p:cNvPr id="1882" name=""/>
            <p:cNvSpPr/>
            <p:nvPr/>
          </p:nvSpPr>
          <p:spPr>
            <a:xfrm>
              <a:off x="1219320" y="411480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295280" y="419076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4" name=""/>
          <p:cNvGrpSpPr/>
          <p:nvPr/>
        </p:nvGrpSpPr>
        <p:grpSpPr>
          <a:xfrm>
            <a:off x="914400" y="4114800"/>
            <a:ext cx="304920" cy="304560"/>
            <a:chOff x="914400" y="4114800"/>
            <a:chExt cx="304920" cy="304560"/>
          </a:xfrm>
        </p:grpSpPr>
        <p:sp>
          <p:nvSpPr>
            <p:cNvPr id="1885" name=""/>
            <p:cNvSpPr/>
            <p:nvPr/>
          </p:nvSpPr>
          <p:spPr>
            <a:xfrm>
              <a:off x="914400" y="411480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990720" y="419076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7" name=""/>
          <p:cNvGrpSpPr/>
          <p:nvPr/>
        </p:nvGrpSpPr>
        <p:grpSpPr>
          <a:xfrm>
            <a:off x="1219320" y="4419720"/>
            <a:ext cx="304560" cy="304560"/>
            <a:chOff x="1219320" y="4419720"/>
            <a:chExt cx="304560" cy="304560"/>
          </a:xfrm>
        </p:grpSpPr>
        <p:sp>
          <p:nvSpPr>
            <p:cNvPr id="1888" name=""/>
            <p:cNvSpPr/>
            <p:nvPr/>
          </p:nvSpPr>
          <p:spPr>
            <a:xfrm>
              <a:off x="1219320" y="441972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295280" y="449568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0" name=""/>
          <p:cNvGrpSpPr/>
          <p:nvPr/>
        </p:nvGrpSpPr>
        <p:grpSpPr>
          <a:xfrm>
            <a:off x="914400" y="4419720"/>
            <a:ext cx="304920" cy="304560"/>
            <a:chOff x="914400" y="4419720"/>
            <a:chExt cx="304920" cy="304560"/>
          </a:xfrm>
        </p:grpSpPr>
        <p:sp>
          <p:nvSpPr>
            <p:cNvPr id="1891" name=""/>
            <p:cNvSpPr/>
            <p:nvPr/>
          </p:nvSpPr>
          <p:spPr>
            <a:xfrm>
              <a:off x="914400" y="441972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990720" y="449568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3" name=""/>
          <p:cNvGrpSpPr/>
          <p:nvPr/>
        </p:nvGrpSpPr>
        <p:grpSpPr>
          <a:xfrm>
            <a:off x="914400" y="4724280"/>
            <a:ext cx="304920" cy="304560"/>
            <a:chOff x="914400" y="4724280"/>
            <a:chExt cx="304920" cy="304560"/>
          </a:xfrm>
        </p:grpSpPr>
        <p:sp>
          <p:nvSpPr>
            <p:cNvPr id="1894" name=""/>
            <p:cNvSpPr/>
            <p:nvPr/>
          </p:nvSpPr>
          <p:spPr>
            <a:xfrm>
              <a:off x="914400" y="472428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990720" y="480024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6" name=""/>
          <p:cNvGrpSpPr/>
          <p:nvPr/>
        </p:nvGrpSpPr>
        <p:grpSpPr>
          <a:xfrm>
            <a:off x="1219320" y="4724280"/>
            <a:ext cx="304560" cy="304560"/>
            <a:chOff x="1219320" y="4724280"/>
            <a:chExt cx="304560" cy="304560"/>
          </a:xfrm>
        </p:grpSpPr>
        <p:sp>
          <p:nvSpPr>
            <p:cNvPr id="1897" name=""/>
            <p:cNvSpPr/>
            <p:nvPr/>
          </p:nvSpPr>
          <p:spPr>
            <a:xfrm>
              <a:off x="1219320" y="472428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295280" y="480024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9" name=""/>
          <p:cNvGrpSpPr/>
          <p:nvPr/>
        </p:nvGrpSpPr>
        <p:grpSpPr>
          <a:xfrm>
            <a:off x="1219320" y="5029200"/>
            <a:ext cx="304560" cy="304560"/>
            <a:chOff x="1219320" y="5029200"/>
            <a:chExt cx="304560" cy="304560"/>
          </a:xfrm>
        </p:grpSpPr>
        <p:sp>
          <p:nvSpPr>
            <p:cNvPr id="1900" name=""/>
            <p:cNvSpPr/>
            <p:nvPr/>
          </p:nvSpPr>
          <p:spPr>
            <a:xfrm>
              <a:off x="1219320" y="502920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295280" y="510516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2" name=""/>
          <p:cNvGrpSpPr/>
          <p:nvPr/>
        </p:nvGrpSpPr>
        <p:grpSpPr>
          <a:xfrm>
            <a:off x="914400" y="5029200"/>
            <a:ext cx="304920" cy="304560"/>
            <a:chOff x="914400" y="5029200"/>
            <a:chExt cx="304920" cy="304560"/>
          </a:xfrm>
        </p:grpSpPr>
        <p:sp>
          <p:nvSpPr>
            <p:cNvPr id="1903" name=""/>
            <p:cNvSpPr/>
            <p:nvPr/>
          </p:nvSpPr>
          <p:spPr>
            <a:xfrm>
              <a:off x="914400" y="502920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990720" y="510516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5" name=""/>
          <p:cNvGrpSpPr/>
          <p:nvPr/>
        </p:nvGrpSpPr>
        <p:grpSpPr>
          <a:xfrm>
            <a:off x="1219320" y="5334120"/>
            <a:ext cx="304560" cy="304560"/>
            <a:chOff x="1219320" y="5334120"/>
            <a:chExt cx="304560" cy="304560"/>
          </a:xfrm>
        </p:grpSpPr>
        <p:sp>
          <p:nvSpPr>
            <p:cNvPr id="1906" name=""/>
            <p:cNvSpPr/>
            <p:nvPr/>
          </p:nvSpPr>
          <p:spPr>
            <a:xfrm>
              <a:off x="1219320" y="533412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295280" y="541008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914400" y="5334120"/>
            <a:ext cx="304920" cy="304560"/>
            <a:chOff x="914400" y="5334120"/>
            <a:chExt cx="304920" cy="304560"/>
          </a:xfrm>
        </p:grpSpPr>
        <p:sp>
          <p:nvSpPr>
            <p:cNvPr id="1909" name=""/>
            <p:cNvSpPr/>
            <p:nvPr/>
          </p:nvSpPr>
          <p:spPr>
            <a:xfrm>
              <a:off x="914400" y="533412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990720" y="541008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1" name=""/>
          <p:cNvSpPr/>
          <p:nvPr/>
        </p:nvSpPr>
        <p:spPr>
          <a:xfrm>
            <a:off x="914400" y="3809880"/>
            <a:ext cx="609480" cy="2133720"/>
          </a:xfrm>
          <a:custGeom>
            <a:avLst/>
            <a:gdLst/>
            <a:ahLst/>
            <a:rect l="l" t="t" r="r" b="b"/>
            <a:pathLst>
              <a:path w="384" h="1344">
                <a:moveTo>
                  <a:pt x="0" y="1296"/>
                </a:moveTo>
                <a:lnTo>
                  <a:pt x="0" y="0"/>
                </a:lnTo>
                <a:lnTo>
                  <a:pt x="384" y="0"/>
                </a:lnTo>
                <a:lnTo>
                  <a:pt x="384" y="13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2209680" y="5486400"/>
            <a:ext cx="28195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ray C90, Two 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4 cycle dead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ximum efficiency 94% with 128 element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1600200" y="3809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160020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1752480" y="25909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1832760" y="3047760"/>
            <a:ext cx="19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cycles dead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7" name=""/>
          <p:cNvGrpSpPr/>
          <p:nvPr/>
        </p:nvGrpSpPr>
        <p:grpSpPr>
          <a:xfrm>
            <a:off x="4690440" y="2209680"/>
            <a:ext cx="4301280" cy="2007000"/>
            <a:chOff x="4690440" y="2209680"/>
            <a:chExt cx="4301280" cy="2007000"/>
          </a:xfrm>
        </p:grpSpPr>
        <p:grpSp>
          <p:nvGrpSpPr>
            <p:cNvPr id="1918" name=""/>
            <p:cNvGrpSpPr/>
            <p:nvPr/>
          </p:nvGrpSpPr>
          <p:grpSpPr>
            <a:xfrm>
              <a:off x="6400800" y="2209680"/>
              <a:ext cx="2438280" cy="609480"/>
              <a:chOff x="6400800" y="2209680"/>
              <a:chExt cx="2438280" cy="609480"/>
            </a:xfrm>
          </p:grpSpPr>
          <p:grpSp>
            <p:nvGrpSpPr>
              <p:cNvPr id="1919" name=""/>
              <p:cNvGrpSpPr/>
              <p:nvPr/>
            </p:nvGrpSpPr>
            <p:grpSpPr>
              <a:xfrm>
                <a:off x="6400800" y="2209680"/>
                <a:ext cx="304920" cy="304560"/>
                <a:chOff x="6400800" y="2209680"/>
                <a:chExt cx="304920" cy="304560"/>
              </a:xfrm>
            </p:grpSpPr>
            <p:sp>
              <p:nvSpPr>
                <p:cNvPr id="1920" name=""/>
                <p:cNvSpPr/>
                <p:nvPr/>
              </p:nvSpPr>
              <p:spPr>
                <a:xfrm>
                  <a:off x="6400800" y="22096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6477120" y="2285640"/>
                  <a:ext cx="15228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2" name=""/>
              <p:cNvGrpSpPr/>
              <p:nvPr/>
            </p:nvGrpSpPr>
            <p:grpSpPr>
              <a:xfrm>
                <a:off x="6705720" y="2209680"/>
                <a:ext cx="304560" cy="304560"/>
                <a:chOff x="6705720" y="2209680"/>
                <a:chExt cx="304560" cy="304560"/>
              </a:xfrm>
            </p:grpSpPr>
            <p:sp>
              <p:nvSpPr>
                <p:cNvPr id="1923" name=""/>
                <p:cNvSpPr/>
                <p:nvPr/>
              </p:nvSpPr>
              <p:spPr>
                <a:xfrm>
                  <a:off x="6705720" y="22096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6781680" y="2285640"/>
                  <a:ext cx="15192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5" name=""/>
              <p:cNvGrpSpPr/>
              <p:nvPr/>
            </p:nvGrpSpPr>
            <p:grpSpPr>
              <a:xfrm>
                <a:off x="7620120" y="2209680"/>
                <a:ext cx="304560" cy="304560"/>
                <a:chOff x="7620120" y="2209680"/>
                <a:chExt cx="304560" cy="304560"/>
              </a:xfrm>
            </p:grpSpPr>
            <p:sp>
              <p:nvSpPr>
                <p:cNvPr id="1926" name=""/>
                <p:cNvSpPr/>
                <p:nvPr/>
              </p:nvSpPr>
              <p:spPr>
                <a:xfrm>
                  <a:off x="7620120" y="22096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7696080" y="2285640"/>
                  <a:ext cx="15192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8" name=""/>
              <p:cNvGrpSpPr/>
              <p:nvPr/>
            </p:nvGrpSpPr>
            <p:grpSpPr>
              <a:xfrm>
                <a:off x="7924680" y="2209680"/>
                <a:ext cx="304920" cy="304560"/>
                <a:chOff x="7924680" y="2209680"/>
                <a:chExt cx="304920" cy="304560"/>
              </a:xfrm>
            </p:grpSpPr>
            <p:sp>
              <p:nvSpPr>
                <p:cNvPr id="1929" name=""/>
                <p:cNvSpPr/>
                <p:nvPr/>
              </p:nvSpPr>
              <p:spPr>
                <a:xfrm>
                  <a:off x="7924680" y="22096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8001000" y="2285640"/>
                  <a:ext cx="15228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1" name=""/>
              <p:cNvGrpSpPr/>
              <p:nvPr/>
            </p:nvGrpSpPr>
            <p:grpSpPr>
              <a:xfrm>
                <a:off x="7010280" y="2209680"/>
                <a:ext cx="304920" cy="304560"/>
                <a:chOff x="7010280" y="2209680"/>
                <a:chExt cx="304920" cy="304560"/>
              </a:xfrm>
            </p:grpSpPr>
            <p:sp>
              <p:nvSpPr>
                <p:cNvPr id="1932" name=""/>
                <p:cNvSpPr/>
                <p:nvPr/>
              </p:nvSpPr>
              <p:spPr>
                <a:xfrm>
                  <a:off x="7010280" y="22096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7086600" y="2285640"/>
                  <a:ext cx="15228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4" name=""/>
              <p:cNvGrpSpPr/>
              <p:nvPr/>
            </p:nvGrpSpPr>
            <p:grpSpPr>
              <a:xfrm>
                <a:off x="7315200" y="2209680"/>
                <a:ext cx="304920" cy="304560"/>
                <a:chOff x="7315200" y="2209680"/>
                <a:chExt cx="304920" cy="304560"/>
              </a:xfrm>
            </p:grpSpPr>
            <p:sp>
              <p:nvSpPr>
                <p:cNvPr id="1935" name=""/>
                <p:cNvSpPr/>
                <p:nvPr/>
              </p:nvSpPr>
              <p:spPr>
                <a:xfrm>
                  <a:off x="7315200" y="22096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7391520" y="2285640"/>
                  <a:ext cx="15228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7" name=""/>
              <p:cNvGrpSpPr/>
              <p:nvPr/>
            </p:nvGrpSpPr>
            <p:grpSpPr>
              <a:xfrm>
                <a:off x="8229600" y="2209680"/>
                <a:ext cx="304920" cy="304560"/>
                <a:chOff x="8229600" y="2209680"/>
                <a:chExt cx="304920" cy="304560"/>
              </a:xfrm>
            </p:grpSpPr>
            <p:sp>
              <p:nvSpPr>
                <p:cNvPr id="1938" name=""/>
                <p:cNvSpPr/>
                <p:nvPr/>
              </p:nvSpPr>
              <p:spPr>
                <a:xfrm>
                  <a:off x="8229600" y="22096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8305920" y="2285640"/>
                  <a:ext cx="15228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0" name=""/>
              <p:cNvGrpSpPr/>
              <p:nvPr/>
            </p:nvGrpSpPr>
            <p:grpSpPr>
              <a:xfrm>
                <a:off x="8534520" y="2209680"/>
                <a:ext cx="304560" cy="304560"/>
                <a:chOff x="8534520" y="2209680"/>
                <a:chExt cx="304560" cy="304560"/>
              </a:xfrm>
            </p:grpSpPr>
            <p:sp>
              <p:nvSpPr>
                <p:cNvPr id="1941" name=""/>
                <p:cNvSpPr/>
                <p:nvPr/>
              </p:nvSpPr>
              <p:spPr>
                <a:xfrm>
                  <a:off x="8534520" y="22096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8610480" y="2285640"/>
                  <a:ext cx="15192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3" name=""/>
              <p:cNvSpPr/>
              <p:nvPr/>
            </p:nvSpPr>
            <p:spPr>
              <a:xfrm>
                <a:off x="6400800" y="2209680"/>
                <a:ext cx="2438280" cy="3045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4" name=""/>
              <p:cNvGrpSpPr/>
              <p:nvPr/>
            </p:nvGrpSpPr>
            <p:grpSpPr>
              <a:xfrm>
                <a:off x="6400800" y="2514240"/>
                <a:ext cx="304920" cy="304560"/>
                <a:chOff x="6400800" y="2514240"/>
                <a:chExt cx="304920" cy="304560"/>
              </a:xfrm>
            </p:grpSpPr>
            <p:sp>
              <p:nvSpPr>
                <p:cNvPr id="1945" name=""/>
                <p:cNvSpPr/>
                <p:nvPr/>
              </p:nvSpPr>
              <p:spPr>
                <a:xfrm>
                  <a:off x="6400800" y="251424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6477120" y="2590200"/>
                  <a:ext cx="15228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7" name=""/>
              <p:cNvGrpSpPr/>
              <p:nvPr/>
            </p:nvGrpSpPr>
            <p:grpSpPr>
              <a:xfrm>
                <a:off x="6705720" y="2514240"/>
                <a:ext cx="304560" cy="304560"/>
                <a:chOff x="6705720" y="2514240"/>
                <a:chExt cx="304560" cy="304560"/>
              </a:xfrm>
            </p:grpSpPr>
            <p:sp>
              <p:nvSpPr>
                <p:cNvPr id="1948" name=""/>
                <p:cNvSpPr/>
                <p:nvPr/>
              </p:nvSpPr>
              <p:spPr>
                <a:xfrm>
                  <a:off x="6705720" y="251424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6781680" y="2590200"/>
                  <a:ext cx="15192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0" name=""/>
              <p:cNvGrpSpPr/>
              <p:nvPr/>
            </p:nvGrpSpPr>
            <p:grpSpPr>
              <a:xfrm>
                <a:off x="7010280" y="2514240"/>
                <a:ext cx="304920" cy="304560"/>
                <a:chOff x="7010280" y="2514240"/>
                <a:chExt cx="304920" cy="304560"/>
              </a:xfrm>
            </p:grpSpPr>
            <p:sp>
              <p:nvSpPr>
                <p:cNvPr id="1951" name=""/>
                <p:cNvSpPr/>
                <p:nvPr/>
              </p:nvSpPr>
              <p:spPr>
                <a:xfrm>
                  <a:off x="7010280" y="251424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7086600" y="2590200"/>
                  <a:ext cx="15228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3" name=""/>
              <p:cNvGrpSpPr/>
              <p:nvPr/>
            </p:nvGrpSpPr>
            <p:grpSpPr>
              <a:xfrm>
                <a:off x="7315200" y="2514240"/>
                <a:ext cx="304920" cy="304560"/>
                <a:chOff x="7315200" y="2514240"/>
                <a:chExt cx="304920" cy="304560"/>
              </a:xfrm>
            </p:grpSpPr>
            <p:sp>
              <p:nvSpPr>
                <p:cNvPr id="1954" name=""/>
                <p:cNvSpPr/>
                <p:nvPr/>
              </p:nvSpPr>
              <p:spPr>
                <a:xfrm>
                  <a:off x="7315200" y="251424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7391520" y="2590200"/>
                  <a:ext cx="15228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6" name=""/>
              <p:cNvGrpSpPr/>
              <p:nvPr/>
            </p:nvGrpSpPr>
            <p:grpSpPr>
              <a:xfrm>
                <a:off x="7620120" y="2514240"/>
                <a:ext cx="304560" cy="304560"/>
                <a:chOff x="7620120" y="2514240"/>
                <a:chExt cx="304560" cy="304560"/>
              </a:xfrm>
            </p:grpSpPr>
            <p:sp>
              <p:nvSpPr>
                <p:cNvPr id="1957" name=""/>
                <p:cNvSpPr/>
                <p:nvPr/>
              </p:nvSpPr>
              <p:spPr>
                <a:xfrm>
                  <a:off x="7620120" y="251424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7696080" y="2590200"/>
                  <a:ext cx="15192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9" name=""/>
              <p:cNvGrpSpPr/>
              <p:nvPr/>
            </p:nvGrpSpPr>
            <p:grpSpPr>
              <a:xfrm>
                <a:off x="7924680" y="2514240"/>
                <a:ext cx="304920" cy="304560"/>
                <a:chOff x="7924680" y="2514240"/>
                <a:chExt cx="304920" cy="304560"/>
              </a:xfrm>
            </p:grpSpPr>
            <p:sp>
              <p:nvSpPr>
                <p:cNvPr id="1960" name=""/>
                <p:cNvSpPr/>
                <p:nvPr/>
              </p:nvSpPr>
              <p:spPr>
                <a:xfrm>
                  <a:off x="7924680" y="251424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8001000" y="2590200"/>
                  <a:ext cx="15228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2" name=""/>
              <p:cNvGrpSpPr/>
              <p:nvPr/>
            </p:nvGrpSpPr>
            <p:grpSpPr>
              <a:xfrm>
                <a:off x="8229600" y="2514240"/>
                <a:ext cx="304920" cy="304560"/>
                <a:chOff x="8229600" y="2514240"/>
                <a:chExt cx="304920" cy="304560"/>
              </a:xfrm>
            </p:grpSpPr>
            <p:sp>
              <p:nvSpPr>
                <p:cNvPr id="1963" name=""/>
                <p:cNvSpPr/>
                <p:nvPr/>
              </p:nvSpPr>
              <p:spPr>
                <a:xfrm>
                  <a:off x="8229600" y="251424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8305920" y="2590200"/>
                  <a:ext cx="15228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5" name=""/>
              <p:cNvGrpSpPr/>
              <p:nvPr/>
            </p:nvGrpSpPr>
            <p:grpSpPr>
              <a:xfrm>
                <a:off x="8534520" y="2514240"/>
                <a:ext cx="304560" cy="304560"/>
                <a:chOff x="8534520" y="2514240"/>
                <a:chExt cx="304560" cy="304560"/>
              </a:xfrm>
            </p:grpSpPr>
            <p:sp>
              <p:nvSpPr>
                <p:cNvPr id="1966" name=""/>
                <p:cNvSpPr/>
                <p:nvPr/>
              </p:nvSpPr>
              <p:spPr>
                <a:xfrm>
                  <a:off x="8534520" y="251424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8610480" y="2590200"/>
                  <a:ext cx="15192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68" name=""/>
              <p:cNvSpPr/>
              <p:nvPr/>
            </p:nvSpPr>
            <p:spPr>
              <a:xfrm>
                <a:off x="6400800" y="2514240"/>
                <a:ext cx="2438280" cy="304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9" name=""/>
            <p:cNvSpPr/>
            <p:nvPr/>
          </p:nvSpPr>
          <p:spPr>
            <a:xfrm>
              <a:off x="5791320" y="3047760"/>
              <a:ext cx="3200400" cy="11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T0, Eight la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No dead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100% efficiency with 8 element ve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4690440" y="2361960"/>
              <a:ext cx="145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 dead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172200" y="2514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2" name=""/>
          <p:cNvGrpSpPr/>
          <p:nvPr/>
        </p:nvGrpSpPr>
        <p:grpSpPr>
          <a:xfrm>
            <a:off x="1219320" y="6095880"/>
            <a:ext cx="304560" cy="304560"/>
            <a:chOff x="1219320" y="6095880"/>
            <a:chExt cx="304560" cy="304560"/>
          </a:xfrm>
        </p:grpSpPr>
        <p:sp>
          <p:nvSpPr>
            <p:cNvPr id="1973" name=""/>
            <p:cNvSpPr/>
            <p:nvPr/>
          </p:nvSpPr>
          <p:spPr>
            <a:xfrm>
              <a:off x="1219320" y="609588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1295280" y="617184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5" name=""/>
          <p:cNvGrpSpPr/>
          <p:nvPr/>
        </p:nvGrpSpPr>
        <p:grpSpPr>
          <a:xfrm>
            <a:off x="914400" y="6095880"/>
            <a:ext cx="304920" cy="304560"/>
            <a:chOff x="914400" y="6095880"/>
            <a:chExt cx="304920" cy="304560"/>
          </a:xfrm>
        </p:grpSpPr>
        <p:sp>
          <p:nvSpPr>
            <p:cNvPr id="1976" name=""/>
            <p:cNvSpPr/>
            <p:nvPr/>
          </p:nvSpPr>
          <p:spPr>
            <a:xfrm>
              <a:off x="914400" y="609588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990720" y="617184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8" name=""/>
          <p:cNvGrpSpPr/>
          <p:nvPr/>
        </p:nvGrpSpPr>
        <p:grpSpPr>
          <a:xfrm>
            <a:off x="1219320" y="6400800"/>
            <a:ext cx="304560" cy="304560"/>
            <a:chOff x="1219320" y="6400800"/>
            <a:chExt cx="304560" cy="304560"/>
          </a:xfrm>
        </p:grpSpPr>
        <p:sp>
          <p:nvSpPr>
            <p:cNvPr id="1979" name=""/>
            <p:cNvSpPr/>
            <p:nvPr/>
          </p:nvSpPr>
          <p:spPr>
            <a:xfrm>
              <a:off x="1219320" y="640080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295280" y="647676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1" name=""/>
          <p:cNvGrpSpPr/>
          <p:nvPr/>
        </p:nvGrpSpPr>
        <p:grpSpPr>
          <a:xfrm>
            <a:off x="914400" y="6400800"/>
            <a:ext cx="304920" cy="304560"/>
            <a:chOff x="914400" y="6400800"/>
            <a:chExt cx="304920" cy="304560"/>
          </a:xfrm>
        </p:grpSpPr>
        <p:sp>
          <p:nvSpPr>
            <p:cNvPr id="1982" name=""/>
            <p:cNvSpPr/>
            <p:nvPr/>
          </p:nvSpPr>
          <p:spPr>
            <a:xfrm>
              <a:off x="914400" y="640080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990720" y="647676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4" name=""/>
          <p:cNvSpPr/>
          <p:nvPr/>
        </p:nvSpPr>
        <p:spPr>
          <a:xfrm>
            <a:off x="914400" y="5943600"/>
            <a:ext cx="609480" cy="762120"/>
          </a:xfrm>
          <a:custGeom>
            <a:avLst/>
            <a:gdLst/>
            <a:ahLst/>
            <a:rect l="l" t="t" r="r" b="b"/>
            <a:pathLst>
              <a:path w="384" h="480">
                <a:moveTo>
                  <a:pt x="0" y="0"/>
                </a:moveTo>
                <a:lnTo>
                  <a:pt x="0" y="480"/>
                </a:lnTo>
                <a:lnTo>
                  <a:pt x="384" y="480"/>
                </a:lnTo>
                <a:lnTo>
                  <a:pt x="384" y="9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1600200" y="6705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1752480" y="3809880"/>
            <a:ext cx="0" cy="2895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1832040" y="487656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4 cycles a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219320" y="5715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Scatter/Gath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533520" y="1642680"/>
            <a:ext cx="8229600" cy="39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57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nt to vectorize loops with indirect access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[i] = B[i] + C[D[i]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xed load instruction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ath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V vD, rD       # Load indices in D vec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VI vC, rC, vD  # Load indirect from rC b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V vB, rB       # Load B vec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V.D vA, vB, vC # Do ad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V vA, rA       # Store resul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Scatter/Gath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235080" y="1347120"/>
            <a:ext cx="8686800" cy="45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452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tter exampl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[B[i]]++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following a correct translat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V vB, rB       # Load indices in B ve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VI vA, rA, vB  # Gather initial A va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V vA, vA, 1  # Incr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VI vA, rA, vB  # Scatter incremented va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Conditional Execu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457200" y="1035720"/>
            <a:ext cx="830268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Want to vectorize loops with conditional c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A[i]&gt;0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[i] = B[i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: Add vect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s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la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 version of predicate registers, 1 bit per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sk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ector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 operation becomes NOP at elements where mask bit is cl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VM             # Turn on all elem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V vA, rA       # Load entire A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GTVS.D vA, F0  # Set bits in mask register where A&g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V vA, r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# Load B vector into A under m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V vA, r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# Store A back to memory under m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sked Vector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6" name=""/>
          <p:cNvGrpSpPr/>
          <p:nvPr/>
        </p:nvGrpSpPr>
        <p:grpSpPr>
          <a:xfrm>
            <a:off x="4267080" y="1065240"/>
            <a:ext cx="4724640" cy="4148640"/>
            <a:chOff x="4267080" y="1065240"/>
            <a:chExt cx="4724640" cy="4148640"/>
          </a:xfrm>
        </p:grpSpPr>
        <p:grpSp>
          <p:nvGrpSpPr>
            <p:cNvPr id="1997" name=""/>
            <p:cNvGrpSpPr/>
            <p:nvPr/>
          </p:nvGrpSpPr>
          <p:grpSpPr>
            <a:xfrm>
              <a:off x="4879440" y="2209320"/>
              <a:ext cx="3767040" cy="3004560"/>
              <a:chOff x="4879440" y="2209320"/>
              <a:chExt cx="3767040" cy="3004560"/>
            </a:xfrm>
          </p:grpSpPr>
          <p:sp>
            <p:nvSpPr>
              <p:cNvPr id="1998" name=""/>
              <p:cNvSpPr/>
              <p:nvPr/>
            </p:nvSpPr>
            <p:spPr>
              <a:xfrm>
                <a:off x="6705720" y="320040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9" name=""/>
              <p:cNvGrpSpPr/>
              <p:nvPr/>
            </p:nvGrpSpPr>
            <p:grpSpPr>
              <a:xfrm>
                <a:off x="6705720" y="4114800"/>
                <a:ext cx="993240" cy="76320"/>
                <a:chOff x="6705720" y="4114800"/>
                <a:chExt cx="993240" cy="76320"/>
              </a:xfrm>
            </p:grpSpPr>
            <p:sp>
              <p:nvSpPr>
                <p:cNvPr id="2000" name=""/>
                <p:cNvSpPr/>
                <p:nvPr/>
              </p:nvSpPr>
              <p:spPr>
                <a:xfrm>
                  <a:off x="6705720" y="4114800"/>
                  <a:ext cx="91404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7543800" y="4114800"/>
                  <a:ext cx="7560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7623000" y="4152960"/>
                  <a:ext cx="759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3" name=""/>
              <p:cNvGrpSpPr/>
              <p:nvPr/>
            </p:nvGrpSpPr>
            <p:grpSpPr>
              <a:xfrm>
                <a:off x="6705720" y="3352680"/>
                <a:ext cx="993240" cy="76320"/>
                <a:chOff x="6705720" y="3352680"/>
                <a:chExt cx="993240" cy="76320"/>
              </a:xfrm>
            </p:grpSpPr>
            <p:sp>
              <p:nvSpPr>
                <p:cNvPr id="2004" name=""/>
                <p:cNvSpPr/>
                <p:nvPr/>
              </p:nvSpPr>
              <p:spPr>
                <a:xfrm>
                  <a:off x="6705720" y="3352680"/>
                  <a:ext cx="91404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7543800" y="3352680"/>
                  <a:ext cx="7560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7623000" y="3390840"/>
                  <a:ext cx="759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7" name=""/>
              <p:cNvGrpSpPr/>
              <p:nvPr/>
            </p:nvGrpSpPr>
            <p:grpSpPr>
              <a:xfrm>
                <a:off x="6705720" y="3733920"/>
                <a:ext cx="993240" cy="75960"/>
                <a:chOff x="6705720" y="3733920"/>
                <a:chExt cx="993240" cy="75960"/>
              </a:xfrm>
            </p:grpSpPr>
            <p:sp>
              <p:nvSpPr>
                <p:cNvPr id="2008" name=""/>
                <p:cNvSpPr/>
                <p:nvPr/>
              </p:nvSpPr>
              <p:spPr>
                <a:xfrm>
                  <a:off x="6705720" y="3733920"/>
                  <a:ext cx="91404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7543800" y="3733920"/>
                  <a:ext cx="7560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7623000" y="3771720"/>
                  <a:ext cx="759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1" name=""/>
              <p:cNvSpPr/>
              <p:nvPr/>
            </p:nvSpPr>
            <p:spPr>
              <a:xfrm>
                <a:off x="6860880" y="37335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6860880" y="335232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7186320" y="449532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7183440" y="4267080"/>
                <a:ext cx="0" cy="685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7467480" y="297180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6858000" y="297180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7036200" y="4876560"/>
                <a:ext cx="161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Write data po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6479640" y="25905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7165440" y="25905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4879440" y="342864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3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4879440" y="312372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4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4879440" y="281916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5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4879440" y="251424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6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4879440" y="373356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2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4879440" y="403812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1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4879440" y="434304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0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4879440" y="220932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7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5715000" y="4191120"/>
                <a:ext cx="1295280" cy="38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638680" y="3276720"/>
                <a:ext cx="1067040" cy="685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638680" y="2971800"/>
                <a:ext cx="914400" cy="609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715000" y="2438280"/>
                <a:ext cx="762120" cy="30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2" name=""/>
            <p:cNvSpPr/>
            <p:nvPr/>
          </p:nvSpPr>
          <p:spPr>
            <a:xfrm>
              <a:off x="4267080" y="1065240"/>
              <a:ext cx="4724640" cy="10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nsity-Time Implem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can mask vector and only execute elements with non-zero mas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3" name=""/>
          <p:cNvGrpSpPr/>
          <p:nvPr/>
        </p:nvGrpSpPr>
        <p:grpSpPr>
          <a:xfrm>
            <a:off x="-380880" y="1065240"/>
            <a:ext cx="4952880" cy="4986720"/>
            <a:chOff x="-380880" y="1065240"/>
            <a:chExt cx="4952880" cy="4986720"/>
          </a:xfrm>
        </p:grpSpPr>
        <p:grpSp>
          <p:nvGrpSpPr>
            <p:cNvPr id="2034" name=""/>
            <p:cNvGrpSpPr/>
            <p:nvPr/>
          </p:nvGrpSpPr>
          <p:grpSpPr>
            <a:xfrm>
              <a:off x="536040" y="2209320"/>
              <a:ext cx="3060720" cy="3842640"/>
              <a:chOff x="536040" y="2209320"/>
              <a:chExt cx="3060720" cy="3842640"/>
            </a:xfrm>
          </p:grpSpPr>
          <p:sp>
            <p:nvSpPr>
              <p:cNvPr id="2035" name=""/>
              <p:cNvSpPr/>
              <p:nvPr/>
            </p:nvSpPr>
            <p:spPr>
              <a:xfrm>
                <a:off x="1655640" y="4038480"/>
                <a:ext cx="914400" cy="106704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36" name=""/>
              <p:cNvGrpSpPr/>
              <p:nvPr/>
            </p:nvGrpSpPr>
            <p:grpSpPr>
              <a:xfrm>
                <a:off x="1655640" y="4952880"/>
                <a:ext cx="993960" cy="76320"/>
                <a:chOff x="1655640" y="4952880"/>
                <a:chExt cx="993960" cy="76320"/>
              </a:xfrm>
            </p:grpSpPr>
            <p:sp>
              <p:nvSpPr>
                <p:cNvPr id="2037" name=""/>
                <p:cNvSpPr/>
                <p:nvPr/>
              </p:nvSpPr>
              <p:spPr>
                <a:xfrm>
                  <a:off x="1655640" y="495288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2494080" y="495288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2573280" y="499104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0" name=""/>
              <p:cNvGrpSpPr/>
              <p:nvPr/>
            </p:nvGrpSpPr>
            <p:grpSpPr>
              <a:xfrm>
                <a:off x="1655640" y="4191120"/>
                <a:ext cx="993960" cy="75960"/>
                <a:chOff x="1655640" y="4191120"/>
                <a:chExt cx="993960" cy="75960"/>
              </a:xfrm>
            </p:grpSpPr>
            <p:sp>
              <p:nvSpPr>
                <p:cNvPr id="2041" name=""/>
                <p:cNvSpPr/>
                <p:nvPr/>
              </p:nvSpPr>
              <p:spPr>
                <a:xfrm>
                  <a:off x="1655640" y="4191120"/>
                  <a:ext cx="91440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2494080" y="419112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2573280" y="422892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4" name=""/>
              <p:cNvGrpSpPr/>
              <p:nvPr/>
            </p:nvGrpSpPr>
            <p:grpSpPr>
              <a:xfrm>
                <a:off x="1655640" y="4572000"/>
                <a:ext cx="993960" cy="76320"/>
                <a:chOff x="1655640" y="4572000"/>
                <a:chExt cx="993960" cy="76320"/>
              </a:xfrm>
            </p:grpSpPr>
            <p:sp>
              <p:nvSpPr>
                <p:cNvPr id="2045" name=""/>
                <p:cNvSpPr/>
                <p:nvPr/>
              </p:nvSpPr>
              <p:spPr>
                <a:xfrm>
                  <a:off x="1655640" y="457200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2494080" y="45720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2573280" y="461016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8" name=""/>
              <p:cNvSpPr/>
              <p:nvPr/>
            </p:nvSpPr>
            <p:spPr>
              <a:xfrm>
                <a:off x="1810800" y="45716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1810800" y="41907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136240" y="53337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133720" y="5105520"/>
                <a:ext cx="0" cy="685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417760" y="380988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808280" y="380988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1429920" y="34286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2115720" y="34286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429920" y="312372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115720" y="312372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1429920" y="28191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115720" y="28191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1429920" y="25142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115720" y="25142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612000" y="342864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3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612000" y="312372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4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612000" y="281916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5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12000" y="251424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6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612000" y="419076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2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612000" y="457164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1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612000" y="533376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0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1447920" y="5486400"/>
                <a:ext cx="152280" cy="304920"/>
              </a:xfrm>
              <a:custGeom>
                <a:avLst/>
                <a:gdLst/>
                <a:ahLst/>
                <a:rect l="l" t="t" r="r" b="b"/>
                <a:pathLst>
                  <a:path w="240" h="192">
                    <a:moveTo>
                      <a:pt x="0" y="0"/>
                    </a:moveTo>
                    <a:lnTo>
                      <a:pt x="240" y="0"/>
                    </a:lnTo>
                    <a:lnTo>
                      <a:pt x="240" y="19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1986480" y="5714640"/>
                <a:ext cx="161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Write data po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536040" y="5714640"/>
                <a:ext cx="140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Write Enab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1429920" y="220932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2115720" y="220932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612000" y="220932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7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5" name=""/>
            <p:cNvSpPr/>
            <p:nvPr/>
          </p:nvSpPr>
          <p:spPr>
            <a:xfrm>
              <a:off x="-380880" y="1065240"/>
              <a:ext cx="4952880" cy="10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imple Implem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xecute all N operations, turn off result writeback according to ma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ress/Expand Ope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380520" y="680040"/>
            <a:ext cx="81536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ress packs non-masked elements from one vector register contiguously at start of destination vector regis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pulation count of mask vector gives packed vector leng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and performs inverse op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8" name=""/>
          <p:cNvGrpSpPr/>
          <p:nvPr/>
        </p:nvGrpSpPr>
        <p:grpSpPr>
          <a:xfrm>
            <a:off x="1985040" y="2744280"/>
            <a:ext cx="1717200" cy="2470680"/>
            <a:chOff x="1985040" y="2744280"/>
            <a:chExt cx="1717200" cy="2470680"/>
          </a:xfrm>
        </p:grpSpPr>
        <p:grpSp>
          <p:nvGrpSpPr>
            <p:cNvPr id="2079" name=""/>
            <p:cNvGrpSpPr/>
            <p:nvPr/>
          </p:nvGrpSpPr>
          <p:grpSpPr>
            <a:xfrm>
              <a:off x="1985040" y="2744280"/>
              <a:ext cx="828360" cy="2470680"/>
              <a:chOff x="1985040" y="2744280"/>
              <a:chExt cx="828360" cy="2470680"/>
            </a:xfrm>
          </p:grpSpPr>
          <p:sp>
            <p:nvSpPr>
              <p:cNvPr id="2080" name=""/>
              <p:cNvSpPr/>
              <p:nvPr/>
            </p:nvSpPr>
            <p:spPr>
              <a:xfrm>
                <a:off x="1985040" y="396324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3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1985040" y="365832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4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1985040" y="335340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5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1985040" y="304884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6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1985040" y="426780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2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1985040" y="457272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1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1985040" y="487764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0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1985040" y="274428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7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8" name=""/>
            <p:cNvGrpSpPr/>
            <p:nvPr/>
          </p:nvGrpSpPr>
          <p:grpSpPr>
            <a:xfrm>
              <a:off x="2819520" y="2744280"/>
              <a:ext cx="882720" cy="2470680"/>
              <a:chOff x="2819520" y="2744280"/>
              <a:chExt cx="882720" cy="2470680"/>
            </a:xfrm>
          </p:grpSpPr>
          <p:grpSp>
            <p:nvGrpSpPr>
              <p:cNvPr id="2089" name=""/>
              <p:cNvGrpSpPr/>
              <p:nvPr/>
            </p:nvGrpSpPr>
            <p:grpSpPr>
              <a:xfrm>
                <a:off x="3128400" y="2744280"/>
                <a:ext cx="573840" cy="2470680"/>
                <a:chOff x="3128400" y="2744280"/>
                <a:chExt cx="573840" cy="2470680"/>
              </a:xfrm>
            </p:grpSpPr>
            <p:sp>
              <p:nvSpPr>
                <p:cNvPr id="2090" name=""/>
                <p:cNvSpPr/>
                <p:nvPr/>
              </p:nvSpPr>
              <p:spPr>
                <a:xfrm>
                  <a:off x="3128400" y="396324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3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3128400" y="365832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4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>
                  <a:off x="3128400" y="335340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5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3128400" y="304884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6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3128400" y="274428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7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3128400" y="487764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0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3128400" y="457272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1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3128400" y="426780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2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8" name=""/>
              <p:cNvSpPr/>
              <p:nvPr/>
            </p:nvSpPr>
            <p:spPr>
              <a:xfrm>
                <a:off x="2819520" y="4724280"/>
                <a:ext cx="304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819520" y="3809880"/>
                <a:ext cx="304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819520" y="3504960"/>
                <a:ext cx="304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819520" y="2895480"/>
                <a:ext cx="304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02" name=""/>
          <p:cNvGrpSpPr/>
          <p:nvPr/>
        </p:nvGrpSpPr>
        <p:grpSpPr>
          <a:xfrm>
            <a:off x="4649040" y="2744280"/>
            <a:ext cx="2507760" cy="2987640"/>
            <a:chOff x="4649040" y="2744280"/>
            <a:chExt cx="2507760" cy="2987640"/>
          </a:xfrm>
        </p:grpSpPr>
        <p:grpSp>
          <p:nvGrpSpPr>
            <p:cNvPr id="2103" name=""/>
            <p:cNvGrpSpPr/>
            <p:nvPr/>
          </p:nvGrpSpPr>
          <p:grpSpPr>
            <a:xfrm>
              <a:off x="6328440" y="2744280"/>
              <a:ext cx="828360" cy="2471040"/>
              <a:chOff x="6328440" y="2744280"/>
              <a:chExt cx="828360" cy="2471040"/>
            </a:xfrm>
          </p:grpSpPr>
          <p:sp>
            <p:nvSpPr>
              <p:cNvPr id="2104" name=""/>
              <p:cNvSpPr/>
              <p:nvPr/>
            </p:nvSpPr>
            <p:spPr>
              <a:xfrm>
                <a:off x="6328440" y="396360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3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6328440" y="365868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4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6328440" y="335412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5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6328440" y="304920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6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6328440" y="426852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2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6328440" y="457308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1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6328440" y="487800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0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6328440" y="274428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7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2" name=""/>
            <p:cNvGrpSpPr/>
            <p:nvPr/>
          </p:nvGrpSpPr>
          <p:grpSpPr>
            <a:xfrm>
              <a:off x="4649040" y="2744280"/>
              <a:ext cx="1675440" cy="2987640"/>
              <a:chOff x="4649040" y="2744280"/>
              <a:chExt cx="1675440" cy="2987640"/>
            </a:xfrm>
          </p:grpSpPr>
          <p:grpSp>
            <p:nvGrpSpPr>
              <p:cNvPr id="2113" name=""/>
              <p:cNvGrpSpPr/>
              <p:nvPr/>
            </p:nvGrpSpPr>
            <p:grpSpPr>
              <a:xfrm>
                <a:off x="4724280" y="2744280"/>
                <a:ext cx="1600200" cy="2471040"/>
                <a:chOff x="4724280" y="2744280"/>
                <a:chExt cx="1600200" cy="2471040"/>
              </a:xfrm>
            </p:grpSpPr>
            <p:sp>
              <p:nvSpPr>
                <p:cNvPr id="2114" name=""/>
                <p:cNvSpPr/>
                <p:nvPr/>
              </p:nvSpPr>
              <p:spPr>
                <a:xfrm flipV="1">
                  <a:off x="4800600" y="2895840"/>
                  <a:ext cx="609480" cy="12189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 flipV="1">
                  <a:off x="4800600" y="3505320"/>
                  <a:ext cx="609480" cy="9144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 flipV="1">
                  <a:off x="4724280" y="3810240"/>
                  <a:ext cx="685800" cy="9144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 flipV="1">
                  <a:off x="4800600" y="4724640"/>
                  <a:ext cx="609480" cy="3045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18" name=""/>
                <p:cNvGrpSpPr/>
                <p:nvPr/>
              </p:nvGrpSpPr>
              <p:grpSpPr>
                <a:xfrm>
                  <a:off x="5414400" y="2744280"/>
                  <a:ext cx="910080" cy="2471040"/>
                  <a:chOff x="5414400" y="2744280"/>
                  <a:chExt cx="910080" cy="2471040"/>
                </a:xfrm>
              </p:grpSpPr>
              <p:grpSp>
                <p:nvGrpSpPr>
                  <p:cNvPr id="2119" name=""/>
                  <p:cNvGrpSpPr/>
                  <p:nvPr/>
                </p:nvGrpSpPr>
                <p:grpSpPr>
                  <a:xfrm>
                    <a:off x="5414400" y="2744280"/>
                    <a:ext cx="573840" cy="2471040"/>
                    <a:chOff x="5414400" y="2744280"/>
                    <a:chExt cx="573840" cy="2471040"/>
                  </a:xfrm>
                </p:grpSpPr>
                <p:sp>
                  <p:nvSpPr>
                    <p:cNvPr id="2120" name=""/>
                    <p:cNvSpPr/>
                    <p:nvPr/>
                  </p:nvSpPr>
                  <p:spPr>
                    <a:xfrm>
                      <a:off x="5414400" y="396360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[3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1" name=""/>
                    <p:cNvSpPr/>
                    <p:nvPr/>
                  </p:nvSpPr>
                  <p:spPr>
                    <a:xfrm>
                      <a:off x="5414400" y="365868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[4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2" name=""/>
                    <p:cNvSpPr/>
                    <p:nvPr/>
                  </p:nvSpPr>
                  <p:spPr>
                    <a:xfrm>
                      <a:off x="5414400" y="335412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[5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3" name=""/>
                    <p:cNvSpPr/>
                    <p:nvPr/>
                  </p:nvSpPr>
                  <p:spPr>
                    <a:xfrm>
                      <a:off x="5414400" y="304920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[6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4" name=""/>
                    <p:cNvSpPr/>
                    <p:nvPr/>
                  </p:nvSpPr>
                  <p:spPr>
                    <a:xfrm>
                      <a:off x="5414400" y="274428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[7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5" name=""/>
                    <p:cNvSpPr/>
                    <p:nvPr/>
                  </p:nvSpPr>
                  <p:spPr>
                    <a:xfrm>
                      <a:off x="5414400" y="487800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[0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6" name=""/>
                    <p:cNvSpPr/>
                    <p:nvPr/>
                  </p:nvSpPr>
                  <p:spPr>
                    <a:xfrm>
                      <a:off x="5414400" y="457308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[1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7" name=""/>
                    <p:cNvSpPr/>
                    <p:nvPr/>
                  </p:nvSpPr>
                  <p:spPr>
                    <a:xfrm>
                      <a:off x="5414400" y="426852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[2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28" name=""/>
                  <p:cNvSpPr/>
                  <p:nvPr/>
                </p:nvSpPr>
                <p:spPr>
                  <a:xfrm flipH="1">
                    <a:off x="6019920" y="472464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9" name=""/>
                  <p:cNvSpPr/>
                  <p:nvPr/>
                </p:nvSpPr>
                <p:spPr>
                  <a:xfrm flipH="1">
                    <a:off x="6019920" y="381024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0" name=""/>
                  <p:cNvSpPr/>
                  <p:nvPr/>
                </p:nvSpPr>
                <p:spPr>
                  <a:xfrm flipH="1">
                    <a:off x="6019920" y="350532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1" name=""/>
                  <p:cNvSpPr/>
                  <p:nvPr/>
                </p:nvSpPr>
                <p:spPr>
                  <a:xfrm flipH="1">
                    <a:off x="6019920" y="289584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132" name=""/>
              <p:cNvSpPr/>
              <p:nvPr/>
            </p:nvSpPr>
            <p:spPr>
              <a:xfrm>
                <a:off x="4649040" y="5333040"/>
                <a:ext cx="1099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Expan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33" name=""/>
          <p:cNvGrpSpPr/>
          <p:nvPr/>
        </p:nvGrpSpPr>
        <p:grpSpPr>
          <a:xfrm>
            <a:off x="3048480" y="2667960"/>
            <a:ext cx="1720800" cy="3063600"/>
            <a:chOff x="3048480" y="2667960"/>
            <a:chExt cx="1720800" cy="3063600"/>
          </a:xfrm>
        </p:grpSpPr>
        <p:sp>
          <p:nvSpPr>
            <p:cNvPr id="2134" name=""/>
            <p:cNvSpPr/>
            <p:nvPr/>
          </p:nvSpPr>
          <p:spPr>
            <a:xfrm>
              <a:off x="4195440" y="396324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4195440" y="487764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195440" y="457272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195440" y="426816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733920" y="4724280"/>
              <a:ext cx="457200" cy="304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733920" y="3809880"/>
              <a:ext cx="457200" cy="9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733920" y="3504960"/>
              <a:ext cx="457200" cy="9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733920" y="2895480"/>
              <a:ext cx="457200" cy="1295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048480" y="5332680"/>
              <a:ext cx="142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Comp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195440" y="266796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195440" y="358236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4195440" y="327744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4195440" y="297252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7" name=""/>
          <p:cNvSpPr/>
          <p:nvPr/>
        </p:nvSpPr>
        <p:spPr>
          <a:xfrm>
            <a:off x="685800" y="586620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d for density-time conditionals and also for general selec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Red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190440" y="1202400"/>
            <a:ext cx="8763120" cy="51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Loop-carried dependence on reduction vari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= 0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A[i];  # Loop-carried dependence on s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: Re-associate operations if possible, use binary tree to perform re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Rearrange a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[0:VL-1] = 0                 # Vector of VL partial su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i=0; i&lt;N; i+=VL)            # Stripmine VL-sized chun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[0:VL-1] += A[i:i+VL-1]; # Vector s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Now have VL partial sums in one vector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L = VL/2;                    # Halve vector leng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[0:VL-1] += sum[VL:2*VL-1] # Halve no. of parti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while (VL&gt;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percomputer Applic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371600"/>
            <a:ext cx="82296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ical application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itary research (nuclear weapons, cryptograph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tific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ther forec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il expl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strial design (car crash simu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involve huge computations on large data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 70s-80s, Supercomputer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Vector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odern Vector Super: NEC SX-6 (200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151920" y="835920"/>
            <a:ext cx="6629400" cy="56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OS Techn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 MHz CPU, fits on single chi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DRAM main memory (up to 64GB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ar un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-way superscalar with out-of-order and speculative exec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4KB I-cache and 64KB data cac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ctor un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foreground VRegs + 64 background VRegs (256x64-bit elements/VReg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multiply unit, 1 divide unit, 1 add/shift unit, 1 logical unit, 1 mask un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lanes (8 GFLOPS peak, 16 FLOPS/cyc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load &amp; store unit (32x8 byte accesses/cyc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 GB/s memory bandwidth per process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P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CPUs connected to memory through crossb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6 GB/s shared memory bandwidth (4096 interleaved bank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2" name="" descr=""/>
          <p:cNvPicPr/>
          <p:nvPr/>
        </p:nvPicPr>
        <p:blipFill>
          <a:blip r:embed="rId1"/>
          <a:stretch/>
        </p:blipFill>
        <p:spPr>
          <a:xfrm>
            <a:off x="6858000" y="685800"/>
            <a:ext cx="190980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media Exten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304560" y="1263600"/>
            <a:ext cx="8631000" cy="463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short vectors added to existing ISAs for micr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64-bit registers split into 2x32b or 4x16b or 8x8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er designs have 128-bit registers (Altivec, SSE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ed instruction se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vector length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strided load/store or scatter/ga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-stride loads must be aligned to 64/128-bit bounda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ed vector register length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s superscalar dispatch to keep multiply/add/load units bus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 unrolling to hide latencies increases register press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nd towards fuller vector support in microprocess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ctor Supercomput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pitomized by Cray-1, 1976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alar Unit + Vector Ext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/Store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 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ired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ly Pipelined Functional Un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leaved Memory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Data Ca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Virtual Mem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ay-1 (1976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cray1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4867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ay-1 (1976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901800"/>
            <a:ext cx="1753920" cy="481464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587600"/>
            <a:ext cx="182880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banks of 64-bit 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-bit SEC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MW/sec data load/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0MW/sec 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ffer ref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55720" y="5702400"/>
            <a:ext cx="2478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Instruction Buf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960640" y="5143680"/>
            <a:ext cx="432000" cy="482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553716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12920" y="5460840"/>
            <a:ext cx="27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89240" y="538488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65560" y="530856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70120" y="5092560"/>
            <a:ext cx="889200" cy="3556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5168880"/>
            <a:ext cx="888840" cy="3556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17840" y="5245200"/>
            <a:ext cx="889200" cy="3556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41520" y="5321160"/>
            <a:ext cx="889200" cy="3556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14160" y="5332320"/>
            <a:ext cx="954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-bitx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3440" y="561348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03440" y="546084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03440" y="5308560"/>
            <a:ext cx="736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03440" y="5156280"/>
            <a:ext cx="889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920" y="5321160"/>
            <a:ext cx="838440" cy="20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00520" y="526896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8920" y="5702400"/>
            <a:ext cx="812880" cy="203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00160" y="564984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999120" y="5268960"/>
            <a:ext cx="812520" cy="302040"/>
            <a:chOff x="6999120" y="5268960"/>
            <a:chExt cx="812520" cy="302040"/>
          </a:xfrm>
        </p:grpSpPr>
        <p:sp>
          <p:nvSpPr>
            <p:cNvPr id="78" name=""/>
            <p:cNvSpPr/>
            <p:nvPr/>
          </p:nvSpPr>
          <p:spPr>
            <a:xfrm>
              <a:off x="6999120" y="5321520"/>
              <a:ext cx="812520" cy="203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200360" y="5268960"/>
              <a:ext cx="478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 flipV="1">
            <a:off x="4560840" y="5295600"/>
            <a:ext cx="203400" cy="25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37160" y="539748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55920" y="5537160"/>
            <a:ext cx="27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32240" y="546084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08560" y="539748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84520" y="5308560"/>
            <a:ext cx="27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18040" y="5397480"/>
            <a:ext cx="370080" cy="370080"/>
          </a:xfrm>
          <a:custGeom>
            <a:avLst/>
            <a:gdLst/>
            <a:ahLst/>
            <a:rect l="l" t="t" r="r" b="b"/>
            <a:pathLst>
              <a:path w="241" h="241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37360" y="539748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19360" y="2884320"/>
            <a:ext cx="812880" cy="5842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503440" y="3176640"/>
            <a:ext cx="1015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32240" y="303516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331880" y="3328920"/>
            <a:ext cx="863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19800" y="2882880"/>
            <a:ext cx="486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503080" y="2719440"/>
            <a:ext cx="26924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98520" y="2425680"/>
            <a:ext cx="13248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 (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 + j k m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79400" y="2836800"/>
            <a:ext cx="943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Re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19360" y="4332240"/>
            <a:ext cx="812880" cy="5842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503440" y="4624560"/>
            <a:ext cx="1015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57800" y="4471920"/>
            <a:ext cx="812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331880" y="4776840"/>
            <a:ext cx="863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19800" y="4330800"/>
            <a:ext cx="486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503080" y="4167360"/>
            <a:ext cx="26924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98520" y="3873600"/>
            <a:ext cx="13248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 (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 + j k m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67520" y="4297320"/>
            <a:ext cx="967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Re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189400" y="2319480"/>
            <a:ext cx="901800" cy="1307880"/>
            <a:chOff x="5189400" y="2319480"/>
            <a:chExt cx="901800" cy="1307880"/>
          </a:xfrm>
        </p:grpSpPr>
        <p:sp>
          <p:nvSpPr>
            <p:cNvPr id="105" name=""/>
            <p:cNvSpPr/>
            <p:nvPr/>
          </p:nvSpPr>
          <p:spPr>
            <a:xfrm>
              <a:off x="5195880" y="2351160"/>
              <a:ext cx="888840" cy="1193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89400" y="24908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89400" y="26431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89400" y="27957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89400" y="29480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89400" y="31003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89400" y="32529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89400" y="34052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61200" y="231948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61200" y="247176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61200" y="262404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61200" y="277668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61200" y="292896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61200" y="308124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61200" y="323388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61200" y="338616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189400" y="3767040"/>
            <a:ext cx="901800" cy="1308240"/>
            <a:chOff x="5189400" y="3767040"/>
            <a:chExt cx="901800" cy="1308240"/>
          </a:xfrm>
        </p:grpSpPr>
        <p:sp>
          <p:nvSpPr>
            <p:cNvPr id="122" name=""/>
            <p:cNvSpPr/>
            <p:nvPr/>
          </p:nvSpPr>
          <p:spPr>
            <a:xfrm>
              <a:off x="5195880" y="3799080"/>
              <a:ext cx="888840" cy="1193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9400" y="39387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400" y="40910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89400" y="42433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89400" y="43959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9400" y="45482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9400" y="47005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9400" y="48531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60840" y="376704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60840" y="391968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60840" y="407196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60840" y="422424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60840" y="437688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60840" y="452916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60840" y="468144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60840" y="483408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624200" y="2730600"/>
            <a:ext cx="3290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26360" y="3035160"/>
            <a:ext cx="376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j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24200" y="4178160"/>
            <a:ext cx="3384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27080" y="4483080"/>
            <a:ext cx="396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j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05560" y="1969920"/>
            <a:ext cx="965160" cy="88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42280" y="1968480"/>
            <a:ext cx="803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P 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41560" y="2273400"/>
            <a:ext cx="765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P M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41200" y="2577960"/>
            <a:ext cx="943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P Rec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05560" y="226224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05560" y="256716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405560" y="2959200"/>
            <a:ext cx="965160" cy="1216440"/>
            <a:chOff x="7405560" y="2959200"/>
            <a:chExt cx="965160" cy="1216440"/>
          </a:xfrm>
        </p:grpSpPr>
        <p:sp>
          <p:nvSpPr>
            <p:cNvPr id="149" name=""/>
            <p:cNvSpPr/>
            <p:nvPr/>
          </p:nvSpPr>
          <p:spPr>
            <a:xfrm>
              <a:off x="7405560" y="2960640"/>
              <a:ext cx="965160" cy="1194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41920" y="2959200"/>
              <a:ext cx="7941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 A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1200" y="3264120"/>
              <a:ext cx="923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 Log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40480" y="3568680"/>
              <a:ext cx="84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 Shi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5560" y="3252960"/>
              <a:ext cx="965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05560" y="3557520"/>
              <a:ext cx="965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41560" y="3873600"/>
              <a:ext cx="862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p C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05560" y="3862440"/>
              <a:ext cx="965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084720" y="2273400"/>
            <a:ext cx="1297080" cy="306360"/>
          </a:xfrm>
          <a:custGeom>
            <a:avLst/>
            <a:gdLst/>
            <a:ahLst/>
            <a:rect l="l" t="t" r="r" b="b"/>
            <a:pathLst>
              <a:path w="817" h="193">
                <a:moveTo>
                  <a:pt x="0" y="192"/>
                </a:moveTo>
                <a:lnTo>
                  <a:pt x="288" y="192"/>
                </a:lnTo>
                <a:lnTo>
                  <a:pt x="288" y="0"/>
                </a:lnTo>
                <a:lnTo>
                  <a:pt x="8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41920" y="2577960"/>
            <a:ext cx="839880" cy="839880"/>
          </a:xfrm>
          <a:custGeom>
            <a:avLst/>
            <a:gdLst/>
            <a:ahLst/>
            <a:rect l="l" t="t" r="r" b="b"/>
            <a:pathLst>
              <a:path w="529" h="529">
                <a:moveTo>
                  <a:pt x="0" y="0"/>
                </a:moveTo>
                <a:lnTo>
                  <a:pt x="0" y="528"/>
                </a:lnTo>
                <a:lnTo>
                  <a:pt x="528" y="52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84720" y="2425680"/>
            <a:ext cx="1297080" cy="458640"/>
          </a:xfrm>
          <a:custGeom>
            <a:avLst/>
            <a:gdLst/>
            <a:ahLst/>
            <a:rect l="l" t="t" r="r" b="b"/>
            <a:pathLst>
              <a:path w="817" h="289">
                <a:moveTo>
                  <a:pt x="0" y="288"/>
                </a:moveTo>
                <a:lnTo>
                  <a:pt x="384" y="288"/>
                </a:lnTo>
                <a:lnTo>
                  <a:pt x="384" y="0"/>
                </a:lnTo>
                <a:lnTo>
                  <a:pt x="8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94560" y="2882880"/>
            <a:ext cx="687240" cy="687240"/>
          </a:xfrm>
          <a:custGeom>
            <a:avLst/>
            <a:gdLst/>
            <a:ahLst/>
            <a:rect l="l" t="t" r="r" b="b"/>
            <a:pathLst>
              <a:path w="433" h="433">
                <a:moveTo>
                  <a:pt x="0" y="0"/>
                </a:moveTo>
                <a:lnTo>
                  <a:pt x="0" y="432"/>
                </a:lnTo>
                <a:lnTo>
                  <a:pt x="432" y="43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84720" y="2577960"/>
            <a:ext cx="1297080" cy="611280"/>
          </a:xfrm>
          <a:custGeom>
            <a:avLst/>
            <a:gdLst/>
            <a:ahLst/>
            <a:rect l="l" t="t" r="r" b="b"/>
            <a:pathLst>
              <a:path w="817" h="385">
                <a:moveTo>
                  <a:pt x="816" y="0"/>
                </a:moveTo>
                <a:lnTo>
                  <a:pt x="480" y="0"/>
                </a:lnTo>
                <a:lnTo>
                  <a:pt x="480" y="384"/>
                </a:lnTo>
                <a:lnTo>
                  <a:pt x="0" y="38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46840" y="3187800"/>
            <a:ext cx="534960" cy="534960"/>
          </a:xfrm>
          <a:custGeom>
            <a:avLst/>
            <a:gdLst/>
            <a:ahLst/>
            <a:rect l="l" t="t" r="r" b="b"/>
            <a:pathLst>
              <a:path w="337" h="337">
                <a:moveTo>
                  <a:pt x="336" y="336"/>
                </a:moveTo>
                <a:lnTo>
                  <a:pt x="0" y="336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24400" y="2273400"/>
            <a:ext cx="3290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24400" y="2882880"/>
            <a:ext cx="3290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25480" y="2577960"/>
            <a:ext cx="3582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05560" y="4332240"/>
            <a:ext cx="965160" cy="58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42280" y="4330800"/>
            <a:ext cx="990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 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41560" y="4635360"/>
            <a:ext cx="952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 M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05560" y="462456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10280" y="4395960"/>
            <a:ext cx="1270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10280" y="4624560"/>
            <a:ext cx="1270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084360" y="4853160"/>
            <a:ext cx="132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29320" y="4102200"/>
            <a:ext cx="3384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29320" y="4559400"/>
            <a:ext cx="3384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30400" y="4330800"/>
            <a:ext cx="367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08640" y="6172200"/>
            <a:ext cx="7533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emory bank cyc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 ns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cessor cyc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5 ns (80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84320" y="901800"/>
            <a:ext cx="3200400" cy="1225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84320" y="104472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84320" y="120168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84320" y="1357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84320" y="151452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84320" y="167148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84320" y="182736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84320" y="198432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475600" y="868320"/>
            <a:ext cx="335520" cy="1307880"/>
            <a:chOff x="5475600" y="868320"/>
            <a:chExt cx="335520" cy="1307880"/>
          </a:xfrm>
        </p:grpSpPr>
        <p:sp>
          <p:nvSpPr>
            <p:cNvPr id="186" name=""/>
            <p:cNvSpPr/>
            <p:nvPr/>
          </p:nvSpPr>
          <p:spPr>
            <a:xfrm>
              <a:off x="5475600" y="86832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75600" y="102060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75600" y="117324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75600" y="132552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75600" y="147780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75600" y="163044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75600" y="178272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75600" y="193500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 flipH="1">
            <a:off x="2514240" y="1512720"/>
            <a:ext cx="376200" cy="50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846840" y="1130040"/>
            <a:ext cx="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084360" y="113040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4720" y="143496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41920" y="17398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84720" y="17398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694560" y="143496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63560" y="1434960"/>
            <a:ext cx="3582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162480" y="1130400"/>
            <a:ext cx="3290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62480" y="825480"/>
            <a:ext cx="3290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388280" y="901800"/>
            <a:ext cx="974520" cy="302040"/>
            <a:chOff x="7388280" y="901800"/>
            <a:chExt cx="974520" cy="302040"/>
          </a:xfrm>
        </p:grpSpPr>
        <p:sp>
          <p:nvSpPr>
            <p:cNvPr id="205" name=""/>
            <p:cNvSpPr/>
            <p:nvPr/>
          </p:nvSpPr>
          <p:spPr>
            <a:xfrm>
              <a:off x="7388280" y="954360"/>
              <a:ext cx="974520" cy="203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453080" y="901800"/>
              <a:ext cx="84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. Ma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7379280" y="1282680"/>
            <a:ext cx="992160" cy="302040"/>
            <a:chOff x="7379280" y="1282680"/>
            <a:chExt cx="992160" cy="302040"/>
          </a:xfrm>
        </p:grpSpPr>
        <p:sp>
          <p:nvSpPr>
            <p:cNvPr id="208" name=""/>
            <p:cNvSpPr/>
            <p:nvPr/>
          </p:nvSpPr>
          <p:spPr>
            <a:xfrm>
              <a:off x="7395120" y="1335240"/>
              <a:ext cx="956520" cy="203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79280" y="1282680"/>
              <a:ext cx="9921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. Leng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122640" y="1172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 Element Vector 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6668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Programming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28600" y="3123360"/>
            <a:ext cx="8686800" cy="1677240"/>
            <a:chOff x="228600" y="3123360"/>
            <a:chExt cx="8686800" cy="1677240"/>
          </a:xfrm>
        </p:grpSpPr>
        <p:sp>
          <p:nvSpPr>
            <p:cNvPr id="213" name=""/>
            <p:cNvSpPr/>
            <p:nvPr/>
          </p:nvSpPr>
          <p:spPr>
            <a:xfrm>
              <a:off x="3809880" y="4191120"/>
              <a:ext cx="4114800" cy="75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09880" y="3276720"/>
              <a:ext cx="4114800" cy="75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3505320"/>
              <a:ext cx="4114800" cy="75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3809880" y="4191120"/>
              <a:ext cx="3429000" cy="75960"/>
              <a:chOff x="3809880" y="4191120"/>
              <a:chExt cx="3429000" cy="75960"/>
            </a:xfrm>
          </p:grpSpPr>
          <p:sp>
            <p:nvSpPr>
              <p:cNvPr id="217" name=""/>
              <p:cNvSpPr/>
              <p:nvPr/>
            </p:nvSpPr>
            <p:spPr>
              <a:xfrm>
                <a:off x="3809880" y="4191120"/>
                <a:ext cx="685800" cy="759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495680" y="4191120"/>
                <a:ext cx="685800" cy="759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81480" y="4191120"/>
                <a:ext cx="685800" cy="759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867280" y="4191120"/>
                <a:ext cx="685800" cy="759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553080" y="4191120"/>
                <a:ext cx="685800" cy="759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7238880" y="4191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9880" y="35053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95680" y="35053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81480" y="35053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67280" y="35053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53080" y="35053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238880" y="35053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09880" y="32767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95680" y="32767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81480" y="32767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67280" y="32767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53080" y="32767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38880" y="32767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4038480" y="3352680"/>
              <a:ext cx="304920" cy="838440"/>
              <a:chOff x="4038480" y="3352680"/>
              <a:chExt cx="304920" cy="838440"/>
            </a:xfrm>
          </p:grpSpPr>
          <p:sp>
            <p:nvSpPr>
              <p:cNvPr id="236" name=""/>
              <p:cNvSpPr/>
              <p:nvPr/>
            </p:nvSpPr>
            <p:spPr>
              <a:xfrm>
                <a:off x="4038480" y="3733920"/>
                <a:ext cx="293760" cy="3045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038480" y="3581280"/>
                <a:ext cx="7632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4267080" y="3352680"/>
                <a:ext cx="7632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191120" y="403848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724280" y="3352680"/>
              <a:ext cx="304920" cy="838440"/>
              <a:chOff x="4724280" y="3352680"/>
              <a:chExt cx="304920" cy="838440"/>
            </a:xfrm>
          </p:grpSpPr>
          <p:sp>
            <p:nvSpPr>
              <p:cNvPr id="241" name=""/>
              <p:cNvSpPr/>
              <p:nvPr/>
            </p:nvSpPr>
            <p:spPr>
              <a:xfrm>
                <a:off x="4724280" y="3733920"/>
                <a:ext cx="293760" cy="3045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724280" y="3581280"/>
                <a:ext cx="7632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4952880" y="3352680"/>
                <a:ext cx="7632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876920" y="403848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5410080" y="3352680"/>
              <a:ext cx="304920" cy="838440"/>
              <a:chOff x="5410080" y="3352680"/>
              <a:chExt cx="304920" cy="838440"/>
            </a:xfrm>
          </p:grpSpPr>
          <p:sp>
            <p:nvSpPr>
              <p:cNvPr id="246" name=""/>
              <p:cNvSpPr/>
              <p:nvPr/>
            </p:nvSpPr>
            <p:spPr>
              <a:xfrm>
                <a:off x="5410080" y="3733920"/>
                <a:ext cx="293760" cy="3045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410080" y="3581280"/>
                <a:ext cx="7632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638680" y="3352680"/>
                <a:ext cx="7632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562720" y="403848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6095880" y="3352680"/>
              <a:ext cx="304920" cy="838440"/>
              <a:chOff x="6095880" y="3352680"/>
              <a:chExt cx="304920" cy="838440"/>
            </a:xfrm>
          </p:grpSpPr>
          <p:sp>
            <p:nvSpPr>
              <p:cNvPr id="251" name=""/>
              <p:cNvSpPr/>
              <p:nvPr/>
            </p:nvSpPr>
            <p:spPr>
              <a:xfrm>
                <a:off x="6095880" y="3733920"/>
                <a:ext cx="293760" cy="3045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095880" y="3581280"/>
                <a:ext cx="7632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6324480" y="3352680"/>
                <a:ext cx="7632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248520" y="403848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6781680" y="3352680"/>
              <a:ext cx="304920" cy="838440"/>
              <a:chOff x="6781680" y="3352680"/>
              <a:chExt cx="304920" cy="838440"/>
            </a:xfrm>
          </p:grpSpPr>
          <p:sp>
            <p:nvSpPr>
              <p:cNvPr id="256" name=""/>
              <p:cNvSpPr/>
              <p:nvPr/>
            </p:nvSpPr>
            <p:spPr>
              <a:xfrm>
                <a:off x="6781680" y="3733920"/>
                <a:ext cx="293760" cy="3045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781680" y="3581280"/>
                <a:ext cx="7632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7010280" y="3352680"/>
                <a:ext cx="7632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934320" y="403848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7467480" y="3352680"/>
              <a:ext cx="304920" cy="838440"/>
              <a:chOff x="7467480" y="3352680"/>
              <a:chExt cx="304920" cy="838440"/>
            </a:xfrm>
          </p:grpSpPr>
          <p:sp>
            <p:nvSpPr>
              <p:cNvPr id="261" name=""/>
              <p:cNvSpPr/>
              <p:nvPr/>
            </p:nvSpPr>
            <p:spPr>
              <a:xfrm>
                <a:off x="7467480" y="3733920"/>
                <a:ext cx="293760" cy="3045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467480" y="3581280"/>
                <a:ext cx="7632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7696080" y="3352680"/>
                <a:ext cx="7632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620120" y="403848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3963600" y="434232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0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649400" y="434232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1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5960" y="4342320"/>
              <a:ext cx="10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VLR-1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7200" y="3272400"/>
              <a:ext cx="274320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ector Arithmetic Instruc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DV v3, v1, v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54120" y="4037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54120" y="33519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54120" y="3123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8600" y="3200400"/>
              <a:ext cx="8686800" cy="160020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28600" y="837720"/>
            <a:ext cx="8686800" cy="2210400"/>
            <a:chOff x="228600" y="837720"/>
            <a:chExt cx="8686800" cy="2210400"/>
          </a:xfrm>
        </p:grpSpPr>
        <p:grpSp>
          <p:nvGrpSpPr>
            <p:cNvPr id="274" name=""/>
            <p:cNvGrpSpPr/>
            <p:nvPr/>
          </p:nvGrpSpPr>
          <p:grpSpPr>
            <a:xfrm>
              <a:off x="1219320" y="1219320"/>
              <a:ext cx="680760" cy="990000"/>
              <a:chOff x="1219320" y="1219320"/>
              <a:chExt cx="680760" cy="990000"/>
            </a:xfrm>
          </p:grpSpPr>
          <p:sp>
            <p:nvSpPr>
              <p:cNvPr id="275" name=""/>
              <p:cNvSpPr/>
              <p:nvPr/>
            </p:nvSpPr>
            <p:spPr>
              <a:xfrm>
                <a:off x="12193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2193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2193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2193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2193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2193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2193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2193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2193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2193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2193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2193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2193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2193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2193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2193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460080" y="837720"/>
              <a:ext cx="177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Scalar Regis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74080" y="19803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1440" y="106596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03840" y="837720"/>
              <a:ext cx="179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Vector Regis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439720" y="1980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87080" y="106596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2819520" y="1219320"/>
              <a:ext cx="680760" cy="990000"/>
              <a:chOff x="2819520" y="1219320"/>
              <a:chExt cx="680760" cy="990000"/>
            </a:xfrm>
          </p:grpSpPr>
          <p:sp>
            <p:nvSpPr>
              <p:cNvPr id="298" name=""/>
              <p:cNvSpPr/>
              <p:nvPr/>
            </p:nvSpPr>
            <p:spPr>
              <a:xfrm>
                <a:off x="28195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195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8195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8195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8195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8195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195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195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8195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8195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8195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195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8195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195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8195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8195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2914200" y="213264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0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3505320" y="1219320"/>
              <a:ext cx="680760" cy="990000"/>
              <a:chOff x="3505320" y="1219320"/>
              <a:chExt cx="680760" cy="990000"/>
            </a:xfrm>
          </p:grpSpPr>
          <p:sp>
            <p:nvSpPr>
              <p:cNvPr id="316" name=""/>
              <p:cNvSpPr/>
              <p:nvPr/>
            </p:nvSpPr>
            <p:spPr>
              <a:xfrm>
                <a:off x="35053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5053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5053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5053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5053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5053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053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5053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5053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5053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5053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5053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5053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5053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3600000" y="213264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1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4191120" y="1219320"/>
              <a:ext cx="680760" cy="990000"/>
              <a:chOff x="4191120" y="1219320"/>
              <a:chExt cx="680760" cy="990000"/>
            </a:xfrm>
          </p:grpSpPr>
          <p:sp>
            <p:nvSpPr>
              <p:cNvPr id="334" name=""/>
              <p:cNvSpPr/>
              <p:nvPr/>
            </p:nvSpPr>
            <p:spPr>
              <a:xfrm>
                <a:off x="41911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1911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1911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911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1911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1911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1911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911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1911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1911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1911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1911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1911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1911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1911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1911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4285800" y="213264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2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4876920" y="1219320"/>
              <a:ext cx="680760" cy="990000"/>
              <a:chOff x="4876920" y="1219320"/>
              <a:chExt cx="680760" cy="990000"/>
            </a:xfrm>
          </p:grpSpPr>
          <p:sp>
            <p:nvSpPr>
              <p:cNvPr id="352" name=""/>
              <p:cNvSpPr/>
              <p:nvPr/>
            </p:nvSpPr>
            <p:spPr>
              <a:xfrm>
                <a:off x="48769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8769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8769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8769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8769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8769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8769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8769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8769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8769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8769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8769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8769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8769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8769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8769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5124600" y="21337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5562720" y="1219320"/>
              <a:ext cx="680760" cy="990000"/>
              <a:chOff x="5562720" y="1219320"/>
              <a:chExt cx="680760" cy="990000"/>
            </a:xfrm>
          </p:grpSpPr>
          <p:sp>
            <p:nvSpPr>
              <p:cNvPr id="370" name=""/>
              <p:cNvSpPr/>
              <p:nvPr/>
            </p:nvSpPr>
            <p:spPr>
              <a:xfrm>
                <a:off x="55627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5627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5627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5627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5627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5627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5627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5627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5627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5627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5627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5627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5627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5627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5627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5627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5810400" y="21337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6248520" y="1219320"/>
              <a:ext cx="680760" cy="990000"/>
              <a:chOff x="6248520" y="1219320"/>
              <a:chExt cx="680760" cy="990000"/>
            </a:xfrm>
          </p:grpSpPr>
          <p:sp>
            <p:nvSpPr>
              <p:cNvPr id="388" name=""/>
              <p:cNvSpPr/>
              <p:nvPr/>
            </p:nvSpPr>
            <p:spPr>
              <a:xfrm>
                <a:off x="62485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2485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2485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2485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2485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2485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2485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2485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2485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2485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2485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2485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2485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485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2485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2485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6496200" y="21337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934320" y="1219320"/>
              <a:ext cx="680760" cy="990000"/>
              <a:chOff x="6934320" y="1219320"/>
              <a:chExt cx="680760" cy="990000"/>
            </a:xfrm>
          </p:grpSpPr>
          <p:sp>
            <p:nvSpPr>
              <p:cNvPr id="406" name=""/>
              <p:cNvSpPr/>
              <p:nvPr/>
            </p:nvSpPr>
            <p:spPr>
              <a:xfrm>
                <a:off x="69343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9343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9343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9343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9343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9343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9343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9343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9343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9343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9343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9343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9343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9343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9343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9343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7182000" y="21337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7620120" y="1219320"/>
              <a:ext cx="680760" cy="990000"/>
              <a:chOff x="7620120" y="1219320"/>
              <a:chExt cx="680760" cy="990000"/>
            </a:xfrm>
          </p:grpSpPr>
          <p:sp>
            <p:nvSpPr>
              <p:cNvPr id="424" name=""/>
              <p:cNvSpPr/>
              <p:nvPr/>
            </p:nvSpPr>
            <p:spPr>
              <a:xfrm>
                <a:off x="76201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6201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6201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6201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6201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201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6201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6201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6201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6201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201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6201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6201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6201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6201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6201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7085880" y="2132640"/>
              <a:ext cx="165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VLRMAX-1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24480" y="2743200"/>
              <a:ext cx="1143000" cy="237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L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8600" y="838080"/>
              <a:ext cx="8686800" cy="221004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91240" y="2666520"/>
              <a:ext cx="240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Vector Length Regis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228600" y="4872600"/>
            <a:ext cx="8686800" cy="1850040"/>
            <a:chOff x="228600" y="4872600"/>
            <a:chExt cx="8686800" cy="1850040"/>
          </a:xfrm>
        </p:grpSpPr>
        <p:sp>
          <p:nvSpPr>
            <p:cNvPr id="445" name=""/>
            <p:cNvSpPr/>
            <p:nvPr/>
          </p:nvSpPr>
          <p:spPr>
            <a:xfrm>
              <a:off x="4419720" y="5334120"/>
              <a:ext cx="4114800" cy="75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419720" y="5334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105520" y="5334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791320" y="5334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477120" y="5334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62920" y="5334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848720" y="5334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9907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6765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623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0481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7339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4197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055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7913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4771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1629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487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1371600" y="5409720"/>
              <a:ext cx="3429000" cy="68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2743200" y="5409720"/>
              <a:ext cx="2666880" cy="68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4114800" y="5409720"/>
              <a:ext cx="2057400" cy="68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5410080" y="5409720"/>
              <a:ext cx="1371600" cy="68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6781680" y="5409720"/>
              <a:ext cx="685800" cy="68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8153280" y="5409720"/>
              <a:ext cx="0" cy="68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63600" y="5104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0880" y="4872600"/>
              <a:ext cx="2667240" cy="10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ector Load and Store Instruc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V v1, r1, 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990720" y="6171840"/>
              <a:ext cx="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34240" y="6323760"/>
              <a:ext cx="11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ase, 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62320" y="6248520"/>
              <a:ext cx="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733920" y="6248520"/>
              <a:ext cx="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362320" y="6324480"/>
              <a:ext cx="137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438280" y="632376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ride, 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28600" y="4876920"/>
              <a:ext cx="8686800" cy="182880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88920" y="6171480"/>
              <a:ext cx="10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49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235120" y="4952160"/>
              <a:ext cx="186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Vector Regis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Code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352680" y="1600200"/>
            <a:ext cx="2743200" cy="4038480"/>
            <a:chOff x="3352680" y="1600200"/>
            <a:chExt cx="2743200" cy="4038480"/>
          </a:xfrm>
        </p:grpSpPr>
        <p:sp>
          <p:nvSpPr>
            <p:cNvPr id="483" name=""/>
            <p:cNvSpPr/>
            <p:nvPr/>
          </p:nvSpPr>
          <p:spPr>
            <a:xfrm>
              <a:off x="3352680" y="1600200"/>
              <a:ext cx="2743200" cy="4038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354120" y="1650240"/>
              <a:ext cx="2649600" cy="39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# Scala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I R4, 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oop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.D F0, 0(R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.D F2, 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.D F4, F2, 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.D F4, 0(R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ADDIU R1,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ADDIU R2,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ADDIU R3,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SUBIU R4,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BNEZ R4, lo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6021720" y="1600200"/>
            <a:ext cx="2786760" cy="4038480"/>
            <a:chOff x="6021720" y="1600200"/>
            <a:chExt cx="2786760" cy="4038480"/>
          </a:xfrm>
        </p:grpSpPr>
        <p:sp>
          <p:nvSpPr>
            <p:cNvPr id="486" name=""/>
            <p:cNvSpPr/>
            <p:nvPr/>
          </p:nvSpPr>
          <p:spPr>
            <a:xfrm>
              <a:off x="6095880" y="1600200"/>
              <a:ext cx="2667240" cy="4038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21720" y="1664280"/>
              <a:ext cx="2786760" cy="19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# Vecto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I VLR, 64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V V1, R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V V2, 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V.D V3, V1, V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V V3, R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380880" y="1600200"/>
            <a:ext cx="3063240" cy="4038480"/>
            <a:chOff x="380880" y="1600200"/>
            <a:chExt cx="3063240" cy="4038480"/>
          </a:xfrm>
        </p:grpSpPr>
        <p:sp>
          <p:nvSpPr>
            <p:cNvPr id="489" name=""/>
            <p:cNvSpPr/>
            <p:nvPr/>
          </p:nvSpPr>
          <p:spPr>
            <a:xfrm>
              <a:off x="380880" y="1600200"/>
              <a:ext cx="2971800" cy="4038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3040" y="1747080"/>
              <a:ext cx="3061080" cy="9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# C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or (i=0; i&lt;64; i++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[i] = A[i] + B[i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Instruction Set Advanta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58160"/>
            <a:ext cx="8305920" cy="426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short instruction encodes N op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ve, tells hardware that these N oper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the same functional un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disjoint regis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registers in the same pattern as previous instru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a contiguous block of memory (unit-stride load/stor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memory in a known pattern (strided load/store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run same object code on more parallel pipelines 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3-29T11:45:20Z</dcterms:created>
  <dc:creator>Krste</dc:creator>
  <dc:description/>
  <dc:language>en-US</dc:language>
  <cp:lastModifiedBy>Krste Asanovic</cp:lastModifiedBy>
  <cp:lastPrinted>1998-02-10T18:55:42Z</cp:lastPrinted>
  <dcterms:modified xsi:type="dcterms:W3CDTF">2006-02-26T02:17:20Z</dcterms:modified>
  <cp:revision>419</cp:revision>
  <dc:subject>6.823 Spring 2001, Lecture 15</dc:subject>
  <dc:title>Vector Computers</dc:title>
</cp:coreProperties>
</file>