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23760" y="2340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62320" y="2340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23760" y="914832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162320" y="914832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fld id="{6BDCDF18-A502-42AF-B73B-E035709FEC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3240" y="9147240"/>
            <a:ext cx="1365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D02002-1937-4A9F-862E-6C2A3876F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527120" y="921960"/>
            <a:ext cx="4262400" cy="319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and New Testament by Klei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t skipping as grad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Queue called waiting line, System called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640-9AC6-4B49-8133-9166D93B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F2F-64AC-4A0D-B3DE-AC16BB4F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886-D2FC-4142-9310-F5CDD0E8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864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516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864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516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1A5-DEFA-47DA-B776-E7A198F5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094-2483-47AB-88E4-F8CC8D53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DFC4-226C-4DBA-90E3-E79124D5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8DE-3432-467B-9CC5-54ACF4AF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7BE-27AC-4D8D-BF83-6F2BA812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67412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4EA-B324-4BD7-898E-C2AFABC5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1E0-8F6C-42B4-8F08-6F7FDE2D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E7D-897D-42BE-90EB-F7356278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494-2046-4B08-B287-10D2CFFA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ba0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D2CA-2388-4530-BF3A-FA37209840A8}" type="datetime">
              <a:rPr b="1" lang="en-US" sz="1400" spc="-1" strike="noStrike">
                <a:solidFill>
                  <a:srgbClr val="fbba03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ba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96E1-8EC5-4398-B82E-29B1AD01984C}" type="slidenum">
              <a:rPr b="1" lang="en-US" sz="1400" spc="-1" strike="noStrike">
                <a:solidFill>
                  <a:srgbClr val="fbba0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219320"/>
            <a:ext cx="765180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8077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18 – Storag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quared Coefficient of Variance (C</a:t>
            </a:r>
            <a:r>
              <a:rPr b="1" lang="en-US" sz="3200" spc="-1" strike="noStrike" baseline="30000">
                <a:solidFill>
                  <a:srgbClr val="0332b7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Variance / WA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= sqrt(Variance)/WAM = StDev/W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less meas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ing to characterize random events, but need distribution of random events with tractable m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popular such distribution is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exponential distributi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re C 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using constant to characterize variability about the me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riance of C over tim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istory of events has no impact on probability of an event occurring n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memoryles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important assumption to predict behavio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uppose not; then have to worry about the exact arrival times of requests relative to each othe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ke math not tractable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135-7342-479B-BA53-FB15BCD3AA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63F0E-95B5-4ABC-BD24-C5E3C0C74F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isson Distrib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widely used exponential distribution is Pois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d by probability mass fun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(k) =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x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k!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a = Rate of events x Elapsed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interarrival times exponentially distributed &amp; use arrival rate from above for rate of events, number of arrivals in time interv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Poisson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7BD-7F05-4129-BE28-FE9F60DDD2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B604D-3595-4351-BD41-FAB06B98CF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new task must wait for server to complete a task assuming server bus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ing it’s a Poisso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residual service tim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½ x Arithmetic mean x (1 +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stribution is not random &amp; all values = averag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ndard deviation is 0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 is 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half average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stribution is random &amp; Poiss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 is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weighted arithmetic 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017-D502-4D26-9D4E-B37341F704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D07DC-005D-49AE-834B-FEED3E265F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asks in queue (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head of new task must be completed before task can be servic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ask takes on average Tim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 at server takes average residual service time to comple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ce server is bus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utiliz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ected time for service is Server utiliza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Server utilization x Average residual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ing definitions for 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residual service time, &amp; rearrang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8EA-2CE8-4899-8972-A5269D22C3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8FE16-4C19-435D-AF6D-159DA099D3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 vs. Length of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rrival rate x Tim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’s La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ed to the components of the black box since they must also be in equilibr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000"/>
            </a:b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Server utilization/(1-Server utiliz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ival rat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Server uti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Server utilizatio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(1-Server utilization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 no. requests in queue slide 6? (50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(0.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(1-0.5) = 0.25/0.5 = 0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 requests on average in 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1B2-C9F7-45B8-87BE-E51C9C86A76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9B2E1-9FCF-496C-BB84-CA747E1CA6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/M/1 Queuing Mode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is in equilibr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 between 2 successive requests arriving,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618ffd"/>
                </a:solidFill>
                <a:latin typeface="Arial"/>
              </a:rPr>
              <a:t>interarrival times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e exponentially 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sources of requests is unlimited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“infinite population mode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can start next job immedi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queue, no limit to length of queue, and FIFO discipline, so all tasks in line must be comple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one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M/M/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(book also derives M/M/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ly random request arrival (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ly random service time (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nding for Markov, mathematician who defined and analyzed the memoryless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535-0ABC-4516-A878-929460E1A9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F7BDC-9F96-4C20-9BBF-5C62B921C3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talking during Pizza last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Update Meeting Wednesday 4/19, 10 to 12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5 Soda. Meeting signup onl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day 4/24 Quiz 2 5-8 PM in roo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ainly Ch 4 to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 4/26 Bad Career Advice / Bad Talk Advice ? / Goodbye to Computer Architecture / Your Cal Cultural His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resentations Monday 5/1 (all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osters 5/3 Wednesday (11-1 in So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Papers due Friday 5/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Archana, who will post papers on class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797-EB7C-4183-99EC-B4C38E0AFA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BEC4B-4368-4443-AAAF-D43E54795CD9}" type="datetime1">
              <a:rPr lang="en-US"/>
              <a:t>07/31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disk I/Os / sec, requests are exponentially distributed, and average service time is 2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al rate/sec = 40,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0.02 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Arrival rat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40 x 0.02 = 0.8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0 ms x 0.8/(1-0.8) = 20 x 4 = 8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response time for a disk request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uing time and disk servic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80+20 ms = 10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D96-7287-487A-8C66-70C6374B46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ED44D-161F-4CC6-B31A-6C7B48C7A9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ow much better with 2X faster disk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service time i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0 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al rate/sec = 40,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0.01 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Arrival rat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40 x 0.01 = 0.4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0 ms x 0.4/(1-0.4) = 10 x 2/3 = 6.7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response time for a disk request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uing time and disk servic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.7+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s = 16.7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X faster response time with 2X faster disk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5E5-8D41-48B4-BB2E-B20E3D33FD4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F9865-A9FF-4D5A-8D94-5BB616E9F6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alue of Queueing Theory in practi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quickly do not try to utilize resource 100% but how far should back off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designers to decide impact of faster hardware on utilization and hence on res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surprisingly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FB1-B15F-4EA6-967E-21DFFE7DEBF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AECA8-AF39-4F48-9FAD-6A2FD2F5B8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s: Arial Density now 30%/yr vs. 100%/yr in 2000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C: price performance as normalizing configuration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ting to ensure no foul p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 with restricted response time is normal mea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ent errors in syste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ilure in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ten fail slowl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systems: problems in maintenance, operation as well as hardware,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B3C-9FC3-483B-8EE4-AF7C092201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ADCCA-D7DF-454B-8506-9E72272BE107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 cutting Issues: </a:t>
            </a:r>
            <a:br>
              <a:rPr sz="2800"/>
            </a:b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Buses </a:t>
            </a:r>
            <a:r>
              <a:rPr b="1" lang="en-US" sz="2800" spc="-1" strike="noStrike">
                <a:solidFill>
                  <a:srgbClr val="0332b7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 point-to-point links and switches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762120"/>
          <a:ext cx="8458200" cy="3165480"/>
        </p:xfrm>
        <a:graphic>
          <a:graphicData uri="http://schemas.openxmlformats.org/drawingml/2006/table">
            <a:tbl>
              <a:tblPr/>
              <a:tblGrid>
                <a:gridCol w="2716200"/>
                <a:gridCol w="854280"/>
                <a:gridCol w="1001520"/>
                <a:gridCol w="1897200"/>
                <a:gridCol w="893880"/>
                <a:gridCol w="1095120"/>
              </a:tblGrid>
              <a:tr h="103284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ck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arallel) 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ial 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arallel) SC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MHz (DD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ial Attach SC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/ 66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I Exp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57200" y="434340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bits and BW is per direc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X for both directions (not show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use fewer wires, commonly increase BW  via versions with 2X-12X the number of wires and B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6D9-9FDA-4514-A055-115AE0B0A4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E851E-CA4E-4486-A839-AAB2D2C152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Storage Example: Internet Archiv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of making a historical record of the Interne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Archive began in 199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back Machine interface perform time travel to see what the website at a URL looked like in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tains over a petabyte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), and is growing by 20 terabytes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) of new data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ddition to storing the historical record, the same hardware is used to crawl the Web every few months to get snapshots of the Inter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AD8-70F3-4050-8877-BB98A510F9C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77D26-F5DB-4F8A-AB55-27FDBA88C9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Internet Archive Clust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6476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U storage node PetaBox GB2000 from Capricorn Technolog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s 4 500 GB Parallel ATA (PATA) disk drives, 512 MB of DDR266 DRAM, one 10/100/1000 Ethernet interface, and a 1 GHz C3 Processor from VIA (80x86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 dissipate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0 wat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GB2000s in a standard VME rack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0 TB of raw storage capac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nodes are connected with a 48-port 10/100 or 10/100/1000 Ethernet switc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ck dissipates about 3 K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etaByte = 12 ra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0120" y="1523880"/>
            <a:ext cx="122220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F21-6B9C-4E2C-932E-0F1E30B0E4B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9B34A-F6C7-41FD-B539-AB8835FA26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Cos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a processor, 512 MB of DDR266 DRAM, ATA disk controller, power supply, fans, and enclosure = $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00 RPM Parallel ATA drives holds 500 GB = $375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-port 10/100/1000 Ethernet switch and all cables for a rack = $30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$84,500 for a 80-TB rack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 Disks ar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60% of th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B76-EBB7-4198-BAE7-A79870E2E8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A93BF-3B7B-4AD4-AF4A-71D0FA5B3A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00 RPM Parallel ATA drives holds 500 GB, has an average time seek of 8.5 ms, transfers at 50 MB/second from the disk. The PATA link speed is 133 MB/seco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ance of the VIA processor is 1000 MIP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ng system uses 50,000 CPU instructions for a disk I/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protocol stacks uses 100,000 CPU instructions to transmit a data block between the cluster and the external worl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A controller overhead is  0.1 ms to perform a disk I/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I/O size is 16 KB for accesses to the historical record via the Wayback interface, and 50 KB when collecting a new snapsh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ks are limit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75 I/Os/s per disk, 300/s per node, 12000/s per rack, or about 200 to 600 Mbytes / sec Bandwidth per 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 needs to support 1.6 to 3.8 Gbits/second over 40 Gbit/sec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A5A-8D3F-41B9-8C88-9519517482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902F4-E217-4449-B12D-3CE85A2782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/memory/enclosure MTTF is 1,0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Disk MTTF is 125,000 hours (x 16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controller MTTF is 5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ernet Switch MTTF is 500,000 hours (x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supply MTTF is 2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n MTTF is 2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cable MTTF is 1,0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TTF for the system is 531 hours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 week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% of time failures are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 of time failures are fans or power suppl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5B7-46BD-41B9-9077-8B0973F194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CBFCD-8E33-4EEF-B408-EDFDA516E2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ID Paper Discuss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main motivation for RAID in pap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prediction of processor performance and disk capacity h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the performance figures of merit to compare RAID lev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RAID groups sizes were in the paper? Are they realistic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would RAID 2 (ECC) have lower predicted MTTF than RAID 3 (Parity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AEE-BF5A-484F-9829-B41761F695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373D5-42A7-4D8B-8D9D-C8D550716974}" type="datetime1">
              <a:rPr lang="en-US"/>
              <a:t>07/31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ID Paper Discuss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propose balance performance and capacity of RAID 1 to RAID 5? What do you think of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some of the open issues?  Which were signific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trospect, what do you think were important contrib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id the authors get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trospec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D in Hardware vs. RAID in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d MTTF vs. in the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ization of disks in an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C ($10B sales in 2005) and R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invented RAI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09B-DDD6-4E2D-B5F4-A386EECB9DC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B1D26-6F33-4223-A518-F90B7E00C97A}" type="datetime1">
              <a:rPr lang="en-US"/>
              <a:t>07/31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 = rate x Time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ean number customers = arrival rate x mean service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ciation for relationship of latency and utiliz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sters for storage as well as 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 paper: Its reliability, not performance, that matters for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57400" y="1219320"/>
            <a:ext cx="4559400" cy="1285920"/>
            <a:chOff x="2057400" y="1219320"/>
            <a:chExt cx="4559400" cy="1285920"/>
          </a:xfrm>
        </p:grpSpPr>
        <p:sp>
          <p:nvSpPr>
            <p:cNvPr id="140" name=""/>
            <p:cNvSpPr/>
            <p:nvPr/>
          </p:nvSpPr>
          <p:spPr>
            <a:xfrm>
              <a:off x="3270240" y="145728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7400" y="182556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9840" y="207324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05320" y="197820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108680" y="19652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956040" y="19652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25840" y="123516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220032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6920" y="190188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82680" y="207324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7080" y="220032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34800" y="207324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22003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15000" y="197820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89040" y="161928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67000" y="156852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23600" y="121932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35E-CC63-44F5-B671-27804196F7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5CBC2-8EB0-4802-A8D6-EC1094AE3FD4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roduction to Queueing Theo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76964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terested in long term, steady state than in startup =&gt; Arrivals = Depar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Little’s Law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ean number tasks in system = arrival rate x mean re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2320" indent="-18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d by many, Little was first to pro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s to any system in equilibrium, as long as black box not creating or destroying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20960" y="1892160"/>
            <a:ext cx="1301760" cy="959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5476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1612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1400" y="2016000"/>
            <a:ext cx="103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i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63560" y="201600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892-1190-45BA-ADDB-B82D883B45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C3CA4-67D6-49E0-861B-44BB4476B7CD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riving Little’s La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apsed time that observe a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(overlapping) tasks during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um of elapsed times for each tas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ean number tasks in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Mean respons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Arrival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ng RHS of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get Little’s La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ean number tasks in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Arrival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Mean respons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124080"/>
            <a:ext cx="533520" cy="1447920"/>
          </a:xfrm>
          <a:custGeom>
            <a:avLst/>
            <a:gdLst/>
            <a:ahLst/>
            <a:rect l="l" t="t" r="r" b="b"/>
            <a:pathLst>
              <a:path w="1632" h="896">
                <a:moveTo>
                  <a:pt x="1632" y="896"/>
                </a:moveTo>
                <a:cubicBezTo>
                  <a:pt x="1576" y="576"/>
                  <a:pt x="1520" y="256"/>
                  <a:pt x="1248" y="128"/>
                </a:cubicBezTo>
                <a:cubicBezTo>
                  <a:pt x="976" y="0"/>
                  <a:pt x="488" y="64"/>
                  <a:pt x="0" y="128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4038480"/>
            <a:ext cx="1676160" cy="1143000"/>
          </a:xfrm>
          <a:custGeom>
            <a:avLst/>
            <a:gdLst/>
            <a:ahLst/>
            <a:rect l="l" t="t" r="r" b="b"/>
            <a:pathLst>
              <a:path w="2208" h="720">
                <a:moveTo>
                  <a:pt x="2208" y="720"/>
                </a:moveTo>
                <a:cubicBezTo>
                  <a:pt x="1888" y="708"/>
                  <a:pt x="1568" y="696"/>
                  <a:pt x="1200" y="576"/>
                </a:cubicBezTo>
                <a:cubicBezTo>
                  <a:pt x="832" y="456"/>
                  <a:pt x="416" y="228"/>
                  <a:pt x="0" y="0"/>
                </a:cubicBezTo>
              </a:path>
            </a:pathLst>
          </a:custGeom>
          <a:noFill/>
          <a:ln w="38160">
            <a:solidFill>
              <a:srgbClr val="0332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3276720"/>
            <a:ext cx="4267080" cy="1295280"/>
          </a:xfrm>
          <a:custGeom>
            <a:avLst/>
            <a:gdLst/>
            <a:ahLst/>
            <a:rect l="l" t="t" r="r" b="b"/>
            <a:pathLst>
              <a:path w="2688" h="816">
                <a:moveTo>
                  <a:pt x="0" y="816"/>
                </a:moveTo>
                <a:cubicBezTo>
                  <a:pt x="760" y="740"/>
                  <a:pt x="1520" y="664"/>
                  <a:pt x="1968" y="528"/>
                </a:cubicBezTo>
                <a:cubicBezTo>
                  <a:pt x="2416" y="392"/>
                  <a:pt x="2552" y="196"/>
                  <a:pt x="2688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FCF3-5B99-4838-8EE8-2F07F71808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09835-4F50-4EFA-8FC9-C02A9793B1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8880" y="132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 Little Queuing Theory: Not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2228400"/>
            <a:ext cx="8915400" cy="409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ation:</a:t>
            </a:r>
            <a:br>
              <a:rPr sz="28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 to service a task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verage service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1 /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raditionally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µ)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/task in queue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/task in system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=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+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Arrival r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g no. of arriving tasks/sec (traditionally </a:t>
            </a:r>
            <a:r>
              <a:rPr b="1" lang="el-GR" sz="2400" spc="-1" strike="noStrike">
                <a:solidFill>
                  <a:srgbClr val="fc0128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number of tasks in service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length of queue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number of tasks in serv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= 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+ 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 = Arrival rate x Time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ean number tasks = arrival rate x mean service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46320" y="1228680"/>
            <a:ext cx="4559400" cy="1285920"/>
            <a:chOff x="2146320" y="1228680"/>
            <a:chExt cx="4559400" cy="1285920"/>
          </a:xfrm>
        </p:grpSpPr>
        <p:sp>
          <p:nvSpPr>
            <p:cNvPr id="70" name=""/>
            <p:cNvSpPr/>
            <p:nvPr/>
          </p:nvSpPr>
          <p:spPr>
            <a:xfrm>
              <a:off x="3359160" y="14666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46320" y="18349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28760" y="208260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94240" y="19875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197600" y="19746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044960" y="19746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14760" y="12445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4400" y="22096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65840" y="19112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71600" y="208260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56000" y="22096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23720" y="208260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75320" y="22096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03920" y="19875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77960" y="162864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55920" y="157788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12520" y="122868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695-EF8F-45CB-B512-8BF7FD88B7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E59B0-0317-44EC-87D0-16495B7896CB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rver Utiliz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single server, service rate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rver utiliz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between 0 and 1, since system is in equilibrium (arrivals = departures); often called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raffic intens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aditionally </a:t>
            </a:r>
            <a:r>
              <a:rPr b="1" lang="el-GR" sz="2400" spc="-1" strike="noStrike">
                <a:solidFill>
                  <a:srgbClr val="fc0128"/>
                </a:solidFill>
                <a:latin typeface="Arial"/>
                <a:ea typeface="Arial"/>
              </a:rPr>
              <a:t>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rver utilizatio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mean number tasks in service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Arrival rate x Time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disk utilization if get 50 I/O requests per second for disk and average disk service time is 10 ms (0.01 sec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50/sec x 0.01 sec = 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server is busy on average 50% of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91E-660D-4698-8912-F04E26D2D1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F5348-DE0B-4068-83A1-CBEEF959C2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 vs. Length of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ssume First In First Out (FIFO)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of time in queu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 mean number of tasks in queu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x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“Mean time to complete service of task when new task arrives if server is bus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task can arrive at any instant; how predict last par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edict performance, need to know sometime about distribution of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2C9-A75D-4AE1-8115-5A4ABD37E0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E3D8D-13F2-4F9C-9E5C-2465775353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istribution of Random Variabl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able is random if it takes one of a specified set of values with a specified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know exactly next value, but may know probability of all possible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Requests can be modeled by a random variable because OS normally switching between several processes generating independent I/O requ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given probabilistic nature of disks in seek and rotational del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characterize distribution of values of a random variable with discrete values using a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hist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s range between the min &amp; max values into 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bu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grams then plot the number in each bucket as colum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 for discrete values e.g., number of I/O requ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bout if not discrete? Very fine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DC0-BF85-4896-A24D-8B0142D84F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9B2CE-89E7-413D-B4F5-935BC8EF18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haracterizing distribution of a random variabl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mean time and a measure of 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ean, us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eighted arithmetic mean (WAM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frequency of task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 = time for task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eighted arithmetic mea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+ . . .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variance, instead of standard deviation, use Variance (square of standard deviation) for W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Vari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– WA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ime is miliseconds, Variance units are square millisecond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 a unitless measure of varia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AB1-2B3F-4487-A539-1154B21532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7ACC6-D632-4541-99DB-8600A99D6B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9T00:18:59Z</dcterms:created>
  <dc:creator>David E. Culler</dc:creator>
  <dc:description/>
  <cp:keywords/>
  <dc:language>en-US</dc:language>
  <cp:lastModifiedBy>EECS</cp:lastModifiedBy>
  <cp:lastPrinted>1999-02-05T18:32:54Z</cp:lastPrinted>
  <dcterms:modified xsi:type="dcterms:W3CDTF">2006-04-16T15:33:09Z</dcterms:modified>
  <cp:revision>162</cp:revision>
  <dc:subject/>
  <dc:title>Perspective on Parallel Programm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cs.berkeley.edu/~culler/cs258-s99/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David E. Culler UC Berkeley
CS258 Parallel Computer Architecture
Lecture 5</vt:lpwstr>
  </property>
  <property fmtid="{D5CDD505-2E9C-101B-9397-08002B2CF9AE}" pid="13" name="OutputDir">
    <vt:lpwstr>U:\public_html\cs258-s99\slid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