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EF16EA9-AD07-49AB-BD5B-A3557B81BA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697C61-54B2-4A1A-AA40-39CF8B338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2323762-3150-45B8-9880-65E3CB0501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: 120X BW, 4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g betwee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int is because a lot of time between 32b Fast page mode and 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021CCA5-672F-4381-8948-51416D815A3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: 1000X BW, 13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0E9AD6B-F29E-4507-B5EC-F1031D7A18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or: 2250X, 22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C005582-9AAE-4E5E-AFF2-D52C557D51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: 33X BW, 6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B9E-C1F2-4227-AB9D-F0EA305D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7EA-41CE-4CBE-8C8D-05E5E282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AC2-1335-404B-988E-B6B12AAB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439-C6CF-4034-86DF-3434AE6E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3B6-E1C7-4B99-A12F-60763261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296-A294-4EC8-A20A-B5F76828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599-0FFD-4B88-B900-5335D3DC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74E-312B-48E9-BA0D-4B25CE19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EB2-6EE6-4136-85A9-9FCF6811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3AA-0CFF-41A7-8E9C-1D61D4E4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B46-8AD9-4CDD-8E52-8C963CC7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8CD-FA72-4449-B408-66D9A9F7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830A-6FD6-4977-8A9A-077CA5E4FCF5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5521-79A3-422B-B5FC-D0D2B722EBF0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2 - Introduction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3760" y="312480"/>
            <a:ext cx="79596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1120" y="1044720"/>
            <a:ext cx="4952880" cy="55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Memory Mod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is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3600, 5400, 7200, 10000, 15000 RP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5120" y="56386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BW = best-c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-423720" y="816120"/>
          <a:ext cx="4832280" cy="58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23720" y="816120"/>
                    <a:ext cx="48322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9A4-8EE5-403C-834C-0BE03EC740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6E29D-831C-40AF-AC30-DF826534CC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200" y="75960"/>
            <a:ext cx="88567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LAN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733920" cy="3381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802.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of Standard: 197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Mbits/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pe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300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me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xial c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143000"/>
            <a:ext cx="4419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802.3a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of Standard: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000 Mbits/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00X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p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19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 5 copper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40" y="4299120"/>
            <a:ext cx="183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axial C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1400" y="5359320"/>
            <a:ext cx="2227320" cy="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3040" y="5135400"/>
            <a:ext cx="163800" cy="387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186920" y="5135400"/>
            <a:ext cx="14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186920" y="5560920"/>
            <a:ext cx="14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045040"/>
            <a:ext cx="1508040" cy="525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560920"/>
            <a:ext cx="1508040" cy="507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4865760"/>
            <a:ext cx="1082520" cy="16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5627520"/>
            <a:ext cx="1082520" cy="16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89360" y="5290920"/>
            <a:ext cx="345960" cy="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5149800"/>
            <a:ext cx="158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3880" y="4903920"/>
            <a:ext cx="96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41240" y="4635360"/>
            <a:ext cx="234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ided outer 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20800" y="5032440"/>
            <a:ext cx="35748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04920" y="4865760"/>
            <a:ext cx="435240" cy="1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701720" y="4518000"/>
            <a:ext cx="42552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99600" y="4389480"/>
            <a:ext cx="165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stic Cov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76920" y="4137120"/>
            <a:ext cx="4267080" cy="1752840"/>
            <a:chOff x="4876920" y="4137120"/>
            <a:chExt cx="4267080" cy="1752840"/>
          </a:xfrm>
        </p:grpSpPr>
        <p:sp>
          <p:nvSpPr>
            <p:cNvPr id="105" name=""/>
            <p:cNvSpPr/>
            <p:nvPr/>
          </p:nvSpPr>
          <p:spPr>
            <a:xfrm>
              <a:off x="5252400" y="5191200"/>
              <a:ext cx="3618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per, 1mm thick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wisted to avoid antenna eff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184360" y="4429080"/>
              <a:ext cx="2864160" cy="679680"/>
              <a:chOff x="5184360" y="4429080"/>
              <a:chExt cx="2864160" cy="679680"/>
            </a:xfrm>
          </p:grpSpPr>
          <p:sp>
            <p:nvSpPr>
              <p:cNvPr id="107" name=""/>
              <p:cNvSpPr/>
              <p:nvPr/>
            </p:nvSpPr>
            <p:spPr>
              <a:xfrm>
                <a:off x="5184360" y="4429080"/>
                <a:ext cx="1441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wisted Pair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49800" y="4840560"/>
                <a:ext cx="3096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049800" y="4815000"/>
                <a:ext cx="3096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84960" y="4818240"/>
                <a:ext cx="14112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84960" y="5086440"/>
                <a:ext cx="14112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41920" y="4840560"/>
                <a:ext cx="33372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541920" y="4815000"/>
                <a:ext cx="33372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78520" y="4818240"/>
                <a:ext cx="1620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78520" y="5086440"/>
                <a:ext cx="1620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56360" y="4840560"/>
                <a:ext cx="3114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7056360" y="4815000"/>
                <a:ext cx="3114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2960" y="4818240"/>
                <a:ext cx="16344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2960" y="5086440"/>
                <a:ext cx="16344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72240" y="4840560"/>
                <a:ext cx="3114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7572240" y="4815000"/>
                <a:ext cx="3114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08840" y="4818240"/>
                <a:ext cx="13968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08840" y="5086440"/>
                <a:ext cx="13968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876920" y="413712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"Cat 5" is 4 twisted pairs in bund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242-70B7-47FE-AA08-59A92C38F3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92865-912E-4E7A-9D05-EA3A1EE87F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4840" y="286920"/>
            <a:ext cx="795996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131480"/>
            <a:ext cx="4952880" cy="60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Ether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10Mb, 100Mb, 1000Mb, 10000 Mb/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16x,100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Memory Modul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is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3600, 5400, 7200, 10000, 15000 RP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44280" y="582444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BW = best-c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-369720" y="814320"/>
          <a:ext cx="4690800" cy="56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9720" y="814320"/>
                    <a:ext cx="4690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187-24EC-4999-9A39-A533DB5699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75450-B5A2-44A4-B559-4DACCDFA0E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391680"/>
            <a:ext cx="90378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CPU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 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495680" cy="44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tel 8028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2.5 MH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MIPS (pea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320 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4,000 xtors, 47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data bus, 68 p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crocode interpreter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FPU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o cache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43040" y="1045800"/>
            <a:ext cx="4800600" cy="62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1 Intel Pentium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00 MIPS (pea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25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15 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,000,000 xtors, 217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data bus, 423 p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way superscalar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translate to RISC, Superpipelined (22 stag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-of-Order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-chip 8KB Data cache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6KB Instr. Trace  cach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56KB L2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4854600"/>
            <a:ext cx="87768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25760" y="4435560"/>
            <a:ext cx="1816200" cy="2066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496-3FCD-4BEA-9EF4-E3ACEA35A380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7D54E-9386-4AAE-9574-00CA2C5AF3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39760"/>
            <a:ext cx="95742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1120" y="1100160"/>
            <a:ext cx="4952880" cy="60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cess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‘286, ‘386, ‘486, Pentium, Pentium Pro, Pentium 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21x,225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Ethernet: 10Mb, 100Mb, 1000Mb, 10000 Mb/s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16x,100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Memory Module: 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Disk : 3600, 5400, 7200, 10000, 15000 RPM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-154080" y="1052640"/>
          <a:ext cx="4605480" cy="55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4080" y="1052640"/>
                    <a:ext cx="460548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0" y="1469880"/>
            <a:ext cx="3198960" cy="1924200"/>
            <a:chOff x="0" y="1469880"/>
            <a:chExt cx="3198960" cy="1924200"/>
          </a:xfrm>
        </p:grpSpPr>
        <p:sp>
          <p:nvSpPr>
            <p:cNvPr id="140" name=""/>
            <p:cNvSpPr/>
            <p:nvPr/>
          </p:nvSpPr>
          <p:spPr>
            <a:xfrm>
              <a:off x="0" y="1469880"/>
              <a:ext cx="174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PU high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low</a:t>
              </a:r>
              <a:br>
                <a:rPr sz="1800"/>
              </a:b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(“Memory Wall”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8280" y="1744560"/>
              <a:ext cx="1930680" cy="3142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90680" y="2071800"/>
              <a:ext cx="841320" cy="13222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F72-DD9A-4E87-9FCA-24455AA97A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5CAB5-172A-4983-8242-211BB9BAB1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Rule of Thumb for Latency Lagging B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time that bandwidth doubles, latency improves by no more than a factor of 1.2 to 1.4</a:t>
            </a:r>
            <a:r>
              <a:rPr b="0" lang="en-US" sz="2800" spc="-1" strike="noStrike">
                <a:solidFill>
                  <a:srgbClr val="002b8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d capacity improves faster than bandwidt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d alternatively: </a:t>
            </a:r>
            <a:br>
              <a:rPr sz="24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ndwidth improves by more than the square of the improvement in La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3E8-C8B6-49EE-976F-8C7150404B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0CE64-CAFB-46A1-A628-D39855C5FF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88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Reading assignment: Pipeline baiscs Appendix A (handout) A for Wed 1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73F-52D9-4B70-A2CC-D3A1A21195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1C3ED-964B-431D-BDEB-A650BF80C1F3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puters in the New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loses market share in own backyard,”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Tom Krazit, CNET News.com, 1/18/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's share of the U.S. retail PC market fell by 11 percentage points, from 64.4 percent in the fourth quarter of 2004 to 53.3 percent. … Current Analysis' market share numbers measure U.S. retail sales only, and therefore exclude figures from Dell, which uses its Web site to sell directly to consumers. 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D chips were found in 52.5 percent of desktop PCs sold in U.S. retail stores during that period.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dvantages of AMD Opteron/Athlon vs. Intel Pentium 4 as we’ll see in this cour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FC5-D7C2-416C-9339-85AD201591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63418-991D-4E18-A678-F967BFE01E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66760" y="147240"/>
            <a:ext cx="70452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187280"/>
            <a:ext cx="88390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Moore’s Law helps BW more than laten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aster transistors, more transistors,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ore pins help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Transis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130 vs.   42 M x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0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Transis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064 vs. 256 M x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000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Pin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8  vs. 423 pins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6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Pi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 vs.   66 pins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maller, faster transistors but communicate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 (relatively) longer lines: limits lat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 siz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 to 3 vs. 0.18 micr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X,17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Die Siz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  vs. 204 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tio sqr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Die Siz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7  vs. 217 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tio sqr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63B-FA02-497C-97F4-CCC979CBAC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8E5D6-F7E7-48D9-8300-20D1AFDB9F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1040" y="14724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046160"/>
            <a:ext cx="8991720" cy="48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2. Distance limits latenc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ze of DRAM bl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ng bit and word lin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ost of DRAM access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eed of light and computers on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&amp; 2. explains linear latency vs. square B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ndwidth easier to sell (“bigger=better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.g., 10 Gbits/s Ethernet (“10 Gig”) v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 latency Eth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400 MB/s DIMM (“PC4400”) vs. 50 ns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Even if just marketing, customers now tra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nce bandwidth sells, more resources thrown at bandwidth, which further tips the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2EA-FE9D-4916-A082-F3E0DAE537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57C86-5668-45C2-AC0A-5144766EA1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l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&gt;&gt; instruction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skill sets are differ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Quantitative principles of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approach to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interfaces that really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tracking and anticip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 252 to learn new skills, transition to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the crossroads from sequential to 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vation requires innovation in many fields, including compute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is interesting and timely CS 252 project opportunity given CS is at the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4C6-5273-4CF6-835B-89F71E9BC3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839EF-39F0-4570-9B57-F7696FE7B0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174320"/>
            <a:ext cx="8153280" cy="51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tency helps BW, but not vice vers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inning disk faster improves both bandwidth and rotational lat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600 RP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15000 RPM = 4.2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rotational latency: 8.3 m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0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ngs being equal, also helps BW by 4.2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wer DRAM latency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ore access/second (higher bandwidt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igher linear density helps disk BW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and capacity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, but not disk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9,550 B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533,000 B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X in B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-36360" y="15192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6A5-36DC-47E8-ABE8-909D0BA936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FEC5E-ABB2-4007-BF8E-718F579AB3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63120" y="1163520"/>
            <a:ext cx="8153640" cy="53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 Bandwidth hurts la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Queues help Bandwidth, hurt Latency (Queuing Theor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dding chips to widen a memory module increases Bandwidth but higher fan-out on address lines may increase Latenc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6. Operating System overhead hurts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tency more than Bandwid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ng messages amortize overhead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head bigger part of short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11040" y="15192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43F-F17F-482A-8F36-61CEF1EA6D0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2040B-FCB6-455C-B4D7-4496F63811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800" y="325080"/>
            <a:ext cx="73598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Summary of Technology Tren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0920"/>
            <a:ext cx="8458200" cy="57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For disk, LAN, memory, and microprocessor, bandwidth improves by square of latency impr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time that bandwidth doubles, latency improves by no more than 1.2X to 1.4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g probably even larger in real systems, as bandwidth gains multiplied by replica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processors in a cluster or even  in a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disks in a disk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memory modules in a large mem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ultaneous communication in switched L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W and SW developers should innovate assuming Latency Lags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everything improves at the same rate, then nothing really chang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n rates vary, require real innov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A14-AB74-4D09-B449-134DCD8542F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FC42A-DE23-4F23-B4A2-633C307DB9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1E5-3D52-4699-A389-D0A2D79A1A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91FBE-E990-45E3-81AE-FD693C684E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power ( 1 /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MOS chips, traditional dominant energy consumption has been in switching transistors, called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dynam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1360" y="2203560"/>
                <a:ext cx="80564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</m:t>
                    </m:r>
                    <m:r>
                      <m:rPr>
                        <m:lit/>
                        <m:nor/>
                      </m:rPr>
                      <m:t xml:space="preserve">dynamic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pacitiveLoa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FrequencySwitch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03440" y="265428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obile devices, energy better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92240" y="3036960"/>
                <a:ext cx="4934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rPr>
                        <m:lit/>
                        <m:nor/>
                      </m:rPr>
                      <m:t xml:space="preserve">dynami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apacitiveLoa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708120" y="344484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6000"/>
          </a:bodyPr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fixed task, slowing clock rate (frequency switched) reduces power, but not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ive load a function of number of transistors connected to output and technology, which determines capacitance of wires and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pping voltage helps both, so went from 5V to 1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ave energy &amp; dynamic power, most CPUs now turn off clock of inactive modules (e.g. Fl. Pt. 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581-2EC9-49A5-91EF-6FE5093425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47424-880E-4723-B26F-A4FCAE8FD6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of  quantifying power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8400" y="1193400"/>
            <a:ext cx="7932960" cy="14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15% reduction in voltage results in a 15% reduction in frequency. What is impact on dynamic pow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95360" y="2565360"/>
                <a:ext cx="829944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apacitiveLoad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tag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requencySwitched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CapacitiveLoad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oltage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requencySwitche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Old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Old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1F8-F4E6-4285-AF09-DF8E8C6E07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D0C82-F3C8-4138-90FD-6A142C034E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power (2 /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leakage current flows even when a transistor is off, now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static pow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ortant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3440" y="275580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6000"/>
          </a:bodyPr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kage current increases in processors with smaller transistor s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e number of transistors increases power even if they are turne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6, goal for leakage is 25% of total power consumption; high performance designs at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low power systems even gate voltage to inactive modules to control loss due to lea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98600" y="2063880"/>
                <a:ext cx="40276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</m:t>
                    </m:r>
                    <m:r>
                      <m:rPr>
                        <m:lit/>
                        <m:nor/>
                      </m:rPr>
                      <m:t xml:space="preserve">stati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rrent</m:t>
                    </m:r>
                    <m:r>
                      <m:rPr>
                        <m:lit/>
                        <m:nor/>
                      </m:rPr>
                      <m:t xml:space="preserve">static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2E0-8376-4440-B333-2088D9D606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EF470-D016-4279-A66E-13E42FE16A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F3C-D7FB-4A97-88AB-5624AF48E7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05792-0674-4622-AEC2-04CB9D75D0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dependability (1/3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74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ecide when a system is operating properl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 providers now offer Service Level Agreements (SLA) to guarantee that their networking or power service would be depend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alternate between 2 states of service with respect to an SL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ervice accomplish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 the service is delivered as specified in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ervice interru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 the delivered service is different from the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Fail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ransition from state 1 to stat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Resto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ransition from state 2 to stat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66D-DA27-486E-BEB3-D105552E7B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46597-A7E4-4491-81A7-07C60BC519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7699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dependability (2/3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136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reli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measure of continuous service accomplishment (or time to failure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 metr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ean Time To Fail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TT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easures Reli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Failures In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F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1/MTTF, the rate of failur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ly reported as failures per billion hours of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ean Time To Repai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TT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easures Service Interru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Mean Time Between Fail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MTB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MTTF+MTT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avail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ice as alternate between the 2 states of accomplishment and interruption (number between 0 and 1, e.g. 0.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availability = MTTF / ( MTTF + MTT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338-DDB3-4C6A-857D-267EC54A9B9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B8445-2E70-4777-85A1-4DC787B18C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56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: Computer Architecture bring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092240"/>
            <a:ext cx="79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ields often borrow ideas fro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rinciples of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dvantag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of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the Common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or Performance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well-defined interfaces that are carefully implemented and thoroughly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17E-5D01-4475-9C87-415571B91F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F0E13-88F3-4492-ABF0-1A5E64607C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calculating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56756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odules have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exponentially distributed lif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ge of  module does not affect probability of failure), overall failure rate is the sum of failure rates of the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FIT and MTTF for 10 disks (1M hour MTTF per disk), 1 disk controller (0.5M hour MTTF), and 1 power supply (0.2M hour MTTF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01600" y="3898800"/>
                <a:ext cx="222120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ilureRate</m:t>
                        </m:r>
                        <m:r>
                          <m:t xml:space="preserve">=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TTF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0FA-FD29-4397-AD68-47E25D40329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F422F-2893-4F7B-9B72-3A796CFCF2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calculating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56756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odules have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exponentially distributed lif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ge of  module does not affect probability of failure), overall failure rate is the sum of failure rates of the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FIT and MTTF for 10 disks (1M hour MTTF per disk), 1 disk controller (0.5M hour MTTF), and 1 power supply (0.2M hour MTTF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90440" y="3726000"/>
                <a:ext cx="7048800" cy="26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ilureRat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F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TTF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ou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70D-6B3E-4712-B49D-A7B1296B46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49450-4BD9-4A05-9920-8F16118A6DB8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E69-6DFB-491F-96D2-36BD462BB0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0F5CE-F2CC-407C-B593-3995E0E794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80880" y="4444920"/>
            <a:ext cx="8381880" cy="1267560"/>
            <a:chOff x="380880" y="4444920"/>
            <a:chExt cx="8381880" cy="1267560"/>
          </a:xfrm>
        </p:grpSpPr>
        <p:sp>
          <p:nvSpPr>
            <p:cNvPr id="189" name=""/>
            <p:cNvSpPr/>
            <p:nvPr/>
          </p:nvSpPr>
          <p:spPr>
            <a:xfrm>
              <a:off x="2361960" y="5130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44449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        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Y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0040" y="479520"/>
            <a:ext cx="472752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ition: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150920"/>
            <a:ext cx="83818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920" y="2587680"/>
            <a:ext cx="8381880" cy="709560"/>
            <a:chOff x="304920" y="2587680"/>
            <a:chExt cx="8381880" cy="709560"/>
          </a:xfrm>
        </p:grpSpPr>
        <p:sp>
          <p:nvSpPr>
            <p:cNvPr id="194" name=""/>
            <p:cNvSpPr/>
            <p:nvPr/>
          </p:nvSpPr>
          <p:spPr>
            <a:xfrm>
              <a:off x="403848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 =           1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Arial"/>
              </a:rPr>
              <a:t>X is n times faster than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78C-3830-4200-849E-015B14FA0B1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69412-A3B9-4BFF-87AE-0C1127C32CAE}" type="datetime1">
              <a:rPr lang="en-US"/>
              <a:t>07/30/26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: What to meas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614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rely on benchmarks vs. real work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predictability, collections of benchmark applications, called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benchmark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CP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pular desktop benchmark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only, split between integer and floating point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nt2000 has 12 integer, SPECfp2000 has 14 integer pg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CPU2006 to be announced Spring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SF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FS file server) and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We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bServer) added as server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ransaction Processing Counc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er performance and cost-performance for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TP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lex query for Online Transaction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 models ad hoc decis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  a transactional web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pp application server and web services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4AF-CCFF-4A34-8615-0C75471C6F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A85AE-3F21-45D4-AF53-1C89D9600C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1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average of execution time of all pg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y vary by 4X in speed, so some would be more important  than others in arithmetic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add a weights per program, but how pick weigh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companies want different weights for their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rmalize execution times to reference computer, yielding a ratio proportional to performance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reference compu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computer being 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4720" y="481500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D93-0E72-4CC6-9674-84F5672D82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52FB4-C09F-458E-9D40-179E6FEA22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2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rogram SPECRatio on Computer A is 1.25 times bigger than Computer B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17720" y="1913040"/>
                <a:ext cx="70801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981000" y="536724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5D7-2DCC-4C53-880B-881D173722D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D7B07-FF2C-48FB-B97D-5FFF93E309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3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2160" y="1193760"/>
            <a:ext cx="84978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ratios, proper mean is geometric me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ECRatio unitless, so arithmetic mean meaningl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03320" y="2278080"/>
                <a:ext cx="7080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907920" y="3800520"/>
            <a:ext cx="7815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of geometric mea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eometric mean of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two points make geometric mean of ratios attractive to summariz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23D-9662-416E-9011-7C99DCAD9B0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FBA08-FC47-40F3-90B4-8BF6A6FC42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4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960" y="1293480"/>
            <a:ext cx="849816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a single mean well summarize performance of programs in benchmark su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cide if mean a good predictor by characterizing variability of distribution using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geometric mean, geometric standard deviation is multiplicative rather than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imply take the logarithm of SPECRatios, compute the standard mean and standard deviation, and then take the exponent to convert b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66800" y="46083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A10-3E70-47AB-AD94-26AA063C4B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B1D15-91C9-423B-AC71-52FF07D509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5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37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is more informative if know distribution has a standard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bell-shaped 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ose data are symmetric around me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log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ere logarithms of data--not data itself--are normally distributed (symmetric) on a logarithmic sc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lognormal distribution, we expect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Excel provides functions EXP(), LN(), and STDEV() that make calculating geometric mean and multiplicative standard deviation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079960" y="3841920"/>
          <a:ext cx="32958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84192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98880" y="4227480"/>
                <a:ext cx="358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550-FA67-4874-B1F3-1DAF87C39E3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3E3C2-ADF0-4A1F-8BDE-377318BDB9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27A-55E0-4793-92E6-A95C3E82C4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FB37E-6C32-4C7F-9B4F-BC809CF6E4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452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Itanium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92E-B512-4BA2-9343-0DF2D15A229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10748-9478-4CC1-8020-DC4B2DEE4E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AMD Ath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71440" y="1484280"/>
          <a:ext cx="7972560" cy="49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484280"/>
                    <a:ext cx="797256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C60-0AE7-408A-AA6D-691EADB9CD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5F6E6-9095-4232-BD87-3B08DA3BA9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s on Itanium 2 and Athl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of 1.98 for Itanium 2 is much higher-- vs. 1.40--so results will differ more widely from the mean, and therefore are likely less predic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ing within one standard devi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f 14 benchmarks (71%) for Itanium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of 14 benchmarks (78%) for Ath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results are quite compatible with a lognormal distribution (expect 68%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CD2-8691-48DF-B91D-A998BACC1B8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FD103-55DA-49DB-9398-B2D8D69BC2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extrapolating technology part of architect’s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Bandwidth in disks, DRAM, network, and processors to improve by at least as much as the square of the improvement in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ynamic and stat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nce x Voltag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frequency, Energy vs.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(MTTF, FIT), Availability (99.9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ppendix A, record bugs onlin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0E2-79C8-4D44-B4BC-3F46886F7DE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3AA15-9740-4FB3-B335-C475EE0C1C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1640" y="1231920"/>
            <a:ext cx="2266920" cy="2101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64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ore’s Law: 2X transistors / “year”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1120" y="5603400"/>
            <a:ext cx="873288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mming More Components onto Integrated Circuit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rdon Moore, Electronics, 196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on transistors / cost-effective integrated circuit double every N months (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≤ N ≤ 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44840" y="2760840"/>
            <a:ext cx="2739960" cy="271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7520" y="3586320"/>
            <a:ext cx="219384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854600" y="1144440"/>
          <a:ext cx="4289400" cy="292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4600" y="1144440"/>
                    <a:ext cx="42894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898-D005-440E-8515-DECBFBBEF3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B6251-3BFF-43C9-97E5-BA00FC0C5332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3760" y="330120"/>
            <a:ext cx="69120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32b7"/>
                </a:solidFill>
                <a:latin typeface="Arial"/>
              </a:rPr>
              <a:t>Tracking Technology Performance Trends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150920"/>
            <a:ext cx="8076960" cy="52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ll down into 4 technolog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~1980 Archaic (Nostalgic) v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2000 Modern (Newfangl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Milestones in each techn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for Bandwidth vs. Latency improvements in performance over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number of events per uni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M bits / second over network, M bytes / second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elapsed time for a single ev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ne-way network delay in microsecond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disk access time in milli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39B-B679-4220-A1DA-1594CA3C96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2B7B3-F1C1-4E05-A6A3-24C7E6C9A7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26520"/>
            <a:ext cx="89694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isks: Archaic(Nostalgic) v. Modern(Newfangled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3040" y="1143000"/>
            <a:ext cx="4800600" cy="54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gate 373453,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00 RP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.4 GByt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50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ks/Inch: 64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8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ts/Inch: 533,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6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2.5” plat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 3.5” form fac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6 MBytes/s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4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 5.7 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: 8 MBy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1143000"/>
            <a:ext cx="3848040" cy="54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DC Wren I, 198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00 R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3 GBytes capa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ks/Inch: 8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ts/Inch: 95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5.25” plat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6 MByte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48.3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: n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F02-2344-4A28-A7DF-1F325778D73C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2BD45-9FEE-466A-B00E-290F0DA32F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000" y="293400"/>
            <a:ext cx="86137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for 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1120" y="1099800"/>
            <a:ext cx="4952880" cy="60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  <a:ea typeface="Times New Roman"/>
              </a:rPr>
              <a:t>Di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3600, 5400, 7200, 10000, 15000 RP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4280" y="57261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W = best-c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399960" y="752400"/>
          <a:ext cx="4714920" cy="570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9960" y="752400"/>
                    <a:ext cx="47149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688-8EDB-44B8-AE14-EC3CB0E69B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B0554-4500-47E7-BD80-B878C33951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080" y="445680"/>
            <a:ext cx="92156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Memor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 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00160"/>
            <a:ext cx="423396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synchronou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6 Mbits/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,000 xtors, 35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data bus per module, 16 pins/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 Mbyte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225 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o block transf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43360" y="1055520"/>
            <a:ext cx="548640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Data Rate Synch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locked) D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.00 Mbits/ch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00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,000,000 xtors, 204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data bus 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M, 66 pins/ch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0 Mbytes/se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1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52 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transfers (page m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746-1891-4411-B514-73F3283D3B43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C2A71-DFD3-46E1-B367-5F2815391D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1T16:30:27Z</dcterms:modified>
  <cp:revision>91</cp:revision>
  <dc:subject/>
  <dc:title>EECS 252 Graduate Computer Architecture   Lec 01 - Introduction  </dc:title>
</cp:coreProperties>
</file>