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5948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70146F-AD38-4969-A520-F617D0AEC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from NEC article “A hardware overview of SX-6 and SX-7 supercompu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362320" y="571680"/>
            <a:ext cx="4419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07360" y="38160"/>
            <a:ext cx="1847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 252 Feb. 27,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cture 12, Slide </a:t>
            </a:r>
            <a:fld id="{B8485600-1D07-4467-83A3-93AF802A66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rste@mit.ed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9440" y="1219320"/>
            <a:ext cx="8037360" cy="116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ECS 252 Graduate Computer Architecture</a:t>
            </a:r>
            <a:br>
              <a:rPr sz="28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. 12: Vector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203720"/>
            <a:ext cx="8175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ste Asano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Courier New"/>
                <a:hlinkClick r:id="rId1"/>
              </a:rPr>
              <a:t>krste@mit.ed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nd Artificial Intelligence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rithmetic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1543320"/>
            <a:ext cx="5562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eep pipeline (=&gt; fast clock) to execute elemen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s control of deep pipeline because elements in vector are independent (=&gt; no hazards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2971800"/>
            <a:ext cx="914400" cy="228600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477120" y="3886200"/>
            <a:ext cx="993240" cy="76320"/>
            <a:chOff x="6477120" y="3886200"/>
            <a:chExt cx="993240" cy="76320"/>
          </a:xfrm>
        </p:grpSpPr>
        <p:sp>
          <p:nvSpPr>
            <p:cNvPr id="497" name=""/>
            <p:cNvSpPr/>
            <p:nvPr/>
          </p:nvSpPr>
          <p:spPr>
            <a:xfrm>
              <a:off x="6477120" y="3886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3886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4400" y="3924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477120" y="3124080"/>
            <a:ext cx="993240" cy="76320"/>
            <a:chOff x="6477120" y="3124080"/>
            <a:chExt cx="993240" cy="76320"/>
          </a:xfrm>
        </p:grpSpPr>
        <p:sp>
          <p:nvSpPr>
            <p:cNvPr id="501" name=""/>
            <p:cNvSpPr/>
            <p:nvPr/>
          </p:nvSpPr>
          <p:spPr>
            <a:xfrm>
              <a:off x="6477120" y="3124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15200" y="3124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94400" y="3162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77120" y="3505320"/>
            <a:ext cx="993240" cy="75960"/>
            <a:chOff x="6477120" y="3505320"/>
            <a:chExt cx="993240" cy="75960"/>
          </a:xfrm>
        </p:grpSpPr>
        <p:sp>
          <p:nvSpPr>
            <p:cNvPr id="505" name=""/>
            <p:cNvSpPr/>
            <p:nvPr/>
          </p:nvSpPr>
          <p:spPr>
            <a:xfrm>
              <a:off x="6477120" y="3505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15200" y="3505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94400" y="3543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23888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2666880"/>
            <a:ext cx="761760" cy="2743200"/>
          </a:xfrm>
          <a:custGeom>
            <a:avLst/>
            <a:gdLst/>
            <a:ahLst/>
            <a:rect l="l" t="t" r="r" b="b"/>
            <a:pathLst>
              <a:path w="482" h="1584">
                <a:moveTo>
                  <a:pt x="0" y="1490"/>
                </a:moveTo>
                <a:lnTo>
                  <a:pt x="2" y="1584"/>
                </a:lnTo>
                <a:lnTo>
                  <a:pt x="482" y="1584"/>
                </a:lnTo>
                <a:lnTo>
                  <a:pt x="48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93432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6748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5400" y="56379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3 &lt;- v1 *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477120" y="5029200"/>
            <a:ext cx="993240" cy="76320"/>
            <a:chOff x="6477120" y="5029200"/>
            <a:chExt cx="993240" cy="76320"/>
          </a:xfrm>
        </p:grpSpPr>
        <p:sp>
          <p:nvSpPr>
            <p:cNvPr id="516" name=""/>
            <p:cNvSpPr/>
            <p:nvPr/>
          </p:nvSpPr>
          <p:spPr>
            <a:xfrm>
              <a:off x="6477120" y="5029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15200" y="5029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5067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77120" y="4267080"/>
            <a:ext cx="993240" cy="76320"/>
            <a:chOff x="6477120" y="4267080"/>
            <a:chExt cx="993240" cy="76320"/>
          </a:xfrm>
        </p:grpSpPr>
        <p:sp>
          <p:nvSpPr>
            <p:cNvPr id="520" name=""/>
            <p:cNvSpPr/>
            <p:nvPr/>
          </p:nvSpPr>
          <p:spPr>
            <a:xfrm>
              <a:off x="6477120" y="4267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15200" y="4267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4400" y="4305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477120" y="4648320"/>
            <a:ext cx="993240" cy="75960"/>
            <a:chOff x="6477120" y="4648320"/>
            <a:chExt cx="993240" cy="75960"/>
          </a:xfrm>
        </p:grpSpPr>
        <p:sp>
          <p:nvSpPr>
            <p:cNvPr id="524" name=""/>
            <p:cNvSpPr/>
            <p:nvPr/>
          </p:nvSpPr>
          <p:spPr>
            <a:xfrm>
              <a:off x="6477120" y="4648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4648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94400" y="4686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733920" y="396252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2840" y="449568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 stage multiply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715000" y="434304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3808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80880" y="2602800"/>
            <a:ext cx="8534520" cy="3721320"/>
            <a:chOff x="380880" y="2602800"/>
            <a:chExt cx="8534520" cy="3721320"/>
          </a:xfrm>
        </p:grpSpPr>
        <p:grpSp>
          <p:nvGrpSpPr>
            <p:cNvPr id="532" name=""/>
            <p:cNvGrpSpPr/>
            <p:nvPr/>
          </p:nvGrpSpPr>
          <p:grpSpPr>
            <a:xfrm>
              <a:off x="380880" y="3213360"/>
              <a:ext cx="7327800" cy="3008160"/>
              <a:chOff x="380880" y="3213360"/>
              <a:chExt cx="7327800" cy="3008160"/>
            </a:xfrm>
          </p:grpSpPr>
          <p:sp>
            <p:nvSpPr>
              <p:cNvPr id="533" name=""/>
              <p:cNvSpPr/>
              <p:nvPr/>
            </p:nvSpPr>
            <p:spPr>
              <a:xfrm>
                <a:off x="3808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44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01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58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096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73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30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7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384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01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959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16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72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30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87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5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3587400" y="4051440"/>
                <a:ext cx="993960" cy="76320"/>
                <a:chOff x="3587400" y="4051440"/>
                <a:chExt cx="993960" cy="763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587400" y="405144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25840" y="405144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505040" y="408960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 flipV="1">
                <a:off x="615600" y="4127400"/>
                <a:ext cx="3353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1149120" y="4127400"/>
                <a:ext cx="28195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1530000" y="4127400"/>
                <a:ext cx="2438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987200" y="4127400"/>
                <a:ext cx="19814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2444400" y="4127400"/>
                <a:ext cx="15242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901600" y="4127400"/>
                <a:ext cx="1067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3358800" y="4127400"/>
                <a:ext cx="6098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816000" y="4127400"/>
                <a:ext cx="152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3968640" y="412740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3968640" y="4127400"/>
                <a:ext cx="761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3968640" y="4127400"/>
                <a:ext cx="1218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3968640" y="4127400"/>
                <a:ext cx="16761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3968640" y="4127400"/>
                <a:ext cx="2133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3968640" y="4127400"/>
                <a:ext cx="2590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3968640" y="4127400"/>
                <a:ext cx="3047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>
                <a:off x="3968640" y="4127400"/>
                <a:ext cx="3504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68640" y="321336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7696080" y="367056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672">
                  <a:moveTo>
                    <a:pt x="0" y="0"/>
                  </a:moveTo>
                  <a:lnTo>
                    <a:pt x="144" y="672"/>
                  </a:lnTo>
                  <a:lnTo>
                    <a:pt x="450" y="672"/>
                  </a:lnTo>
                  <a:lnTo>
                    <a:pt x="576" y="0"/>
                  </a:lnTo>
                  <a:lnTo>
                    <a:pt x="336" y="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3280" y="405144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43800" y="3365640"/>
              <a:ext cx="536400" cy="76320"/>
              <a:chOff x="7543800" y="3365640"/>
              <a:chExt cx="536400" cy="76320"/>
            </a:xfrm>
          </p:grpSpPr>
          <p:sp>
            <p:nvSpPr>
              <p:cNvPr id="573" name=""/>
              <p:cNvSpPr/>
              <p:nvPr/>
            </p:nvSpPr>
            <p:spPr>
              <a:xfrm>
                <a:off x="75438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963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0391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229600" y="3365640"/>
              <a:ext cx="536400" cy="76320"/>
              <a:chOff x="8229600" y="3365640"/>
              <a:chExt cx="536400" cy="76320"/>
            </a:xfrm>
          </p:grpSpPr>
          <p:sp>
            <p:nvSpPr>
              <p:cNvPr id="577" name=""/>
              <p:cNvSpPr/>
              <p:nvPr/>
            </p:nvSpPr>
            <p:spPr>
              <a:xfrm>
                <a:off x="82296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6821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249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 flipH="1">
              <a:off x="7848000" y="34419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58200" y="344196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3593520"/>
              <a:ext cx="39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924680" y="4280040"/>
              <a:ext cx="536400" cy="76320"/>
              <a:chOff x="7924680" y="4280040"/>
              <a:chExt cx="536400" cy="76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2800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77200" y="42800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20040" y="43182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238880" y="321336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76" y="576"/>
                  </a:moveTo>
                  <a:lnTo>
                    <a:pt x="0" y="576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2468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5820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1160" y="2602800"/>
              <a:ext cx="73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76960" y="26028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r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4356360"/>
              <a:ext cx="457200" cy="121896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288" y="0"/>
                  </a:move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74680" y="2755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6960" y="595584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 Ban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3365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ddress 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80800" y="1234800"/>
            <a:ext cx="85856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y-1, 16 banks, 4 cycle bank busy time, 12 cycle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nk busy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ycles between accesses to same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3600" y="837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C,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62120" y="1295280"/>
            <a:ext cx="2743200" cy="4833000"/>
            <a:chOff x="762120" y="1295280"/>
            <a:chExt cx="2743200" cy="4833000"/>
          </a:xfrm>
        </p:grpSpPr>
        <p:grpSp>
          <p:nvGrpSpPr>
            <p:cNvPr id="600" name=""/>
            <p:cNvGrpSpPr/>
            <p:nvPr/>
          </p:nvGrpSpPr>
          <p:grpSpPr>
            <a:xfrm>
              <a:off x="1049040" y="2971440"/>
              <a:ext cx="1259640" cy="3156840"/>
              <a:chOff x="1049040" y="2971440"/>
              <a:chExt cx="1259640" cy="3156840"/>
            </a:xfrm>
          </p:grpSpPr>
          <p:sp>
            <p:nvSpPr>
              <p:cNvPr id="601" name=""/>
              <p:cNvSpPr/>
              <p:nvPr/>
            </p:nvSpPr>
            <p:spPr>
              <a:xfrm>
                <a:off x="127476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1274760" y="5410440"/>
                <a:ext cx="993960" cy="75960"/>
                <a:chOff x="1274760" y="5410440"/>
                <a:chExt cx="993960" cy="75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127476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11320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19240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274760" y="4648320"/>
                <a:ext cx="993960" cy="76320"/>
                <a:chOff x="1274760" y="4648320"/>
                <a:chExt cx="993960" cy="763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27476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11320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19240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274760" y="5029200"/>
                <a:ext cx="993960" cy="76320"/>
                <a:chOff x="1274760" y="5029200"/>
                <a:chExt cx="993960" cy="763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7476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11320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19240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142992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2992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2992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73196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0368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42740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490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348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490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7348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490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7348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490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348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1828440" y="1295280"/>
              <a:ext cx="1600200" cy="167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one pipelined functional u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203280" y="1295280"/>
            <a:ext cx="5334120" cy="4833000"/>
            <a:chOff x="3203280" y="1295280"/>
            <a:chExt cx="5334120" cy="4833000"/>
          </a:xfrm>
        </p:grpSpPr>
        <p:grpSp>
          <p:nvGrpSpPr>
            <p:cNvPr id="631" name=""/>
            <p:cNvGrpSpPr/>
            <p:nvPr/>
          </p:nvGrpSpPr>
          <p:grpSpPr>
            <a:xfrm>
              <a:off x="3203280" y="2971440"/>
              <a:ext cx="1372320" cy="3156840"/>
              <a:chOff x="3203280" y="2971440"/>
              <a:chExt cx="1372320" cy="3156840"/>
            </a:xfrm>
          </p:grpSpPr>
          <p:sp>
            <p:nvSpPr>
              <p:cNvPr id="632" name=""/>
              <p:cNvSpPr/>
              <p:nvPr/>
            </p:nvSpPr>
            <p:spPr>
              <a:xfrm>
                <a:off x="34844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3484440" y="5410440"/>
                <a:ext cx="993960" cy="75960"/>
                <a:chOff x="3484440" y="5410440"/>
                <a:chExt cx="993960" cy="759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4844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3228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4020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484440" y="4648320"/>
                <a:ext cx="993960" cy="76320"/>
                <a:chOff x="3484440" y="4648320"/>
                <a:chExt cx="993960" cy="763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844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3228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020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484440" y="5029200"/>
                <a:ext cx="993960" cy="76320"/>
                <a:chOff x="3484440" y="5029200"/>
                <a:chExt cx="993960" cy="763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4844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3228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4020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36396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396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396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416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465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370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32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890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032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90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032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90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32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890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574880" y="2971440"/>
              <a:ext cx="1372320" cy="3156840"/>
              <a:chOff x="4574880" y="2971440"/>
              <a:chExt cx="1372320" cy="3156840"/>
            </a:xfrm>
          </p:grpSpPr>
          <p:sp>
            <p:nvSpPr>
              <p:cNvPr id="660" name=""/>
              <p:cNvSpPr/>
              <p:nvPr/>
            </p:nvSpPr>
            <p:spPr>
              <a:xfrm>
                <a:off x="48560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4856040" y="5410440"/>
                <a:ext cx="993960" cy="75960"/>
                <a:chOff x="4856040" y="5410440"/>
                <a:chExt cx="993960" cy="759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8560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944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7736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56040" y="4648320"/>
                <a:ext cx="993960" cy="76320"/>
                <a:chOff x="4856040" y="4648320"/>
                <a:chExt cx="993960" cy="763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8560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944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7736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856040" y="5029200"/>
                <a:ext cx="993960" cy="76320"/>
                <a:chOff x="4856040" y="5029200"/>
                <a:chExt cx="993960" cy="763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48560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944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736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50112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112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0112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3132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181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086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4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606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74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606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74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606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74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606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70160" y="2971440"/>
              <a:ext cx="1372320" cy="3156840"/>
              <a:chOff x="5870160" y="2971440"/>
              <a:chExt cx="1372320" cy="3156840"/>
            </a:xfrm>
          </p:grpSpPr>
          <p:sp>
            <p:nvSpPr>
              <p:cNvPr id="688" name=""/>
              <p:cNvSpPr/>
              <p:nvPr/>
            </p:nvSpPr>
            <p:spPr>
              <a:xfrm>
                <a:off x="615132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6151320" y="5410440"/>
                <a:ext cx="993960" cy="75960"/>
                <a:chOff x="6151320" y="5410440"/>
                <a:chExt cx="993960" cy="759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15132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98976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06896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6151320" y="4648320"/>
                <a:ext cx="993960" cy="76320"/>
                <a:chOff x="6151320" y="4648320"/>
                <a:chExt cx="993960" cy="763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15132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98976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06896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151320" y="5029200"/>
                <a:ext cx="993960" cy="76320"/>
                <a:chOff x="6151320" y="5029200"/>
                <a:chExt cx="993960" cy="763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5132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98976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06896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630648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5104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0648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0852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134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039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701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559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701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559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01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559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701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559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65440" y="2971440"/>
              <a:ext cx="1371960" cy="3156840"/>
              <a:chOff x="7165440" y="2971440"/>
              <a:chExt cx="1371960" cy="3156840"/>
            </a:xfrm>
          </p:grpSpPr>
          <p:sp>
            <p:nvSpPr>
              <p:cNvPr id="716" name=""/>
              <p:cNvSpPr/>
              <p:nvPr/>
            </p:nvSpPr>
            <p:spPr>
              <a:xfrm>
                <a:off x="7446600" y="449604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7446600" y="5410440"/>
                <a:ext cx="993240" cy="75960"/>
                <a:chOff x="7446600" y="5410440"/>
                <a:chExt cx="993240" cy="759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7446600" y="541044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284680" y="541044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363880" y="54482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7446600" y="4648320"/>
                <a:ext cx="993240" cy="76320"/>
                <a:chOff x="7446600" y="4648320"/>
                <a:chExt cx="993240" cy="763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446600" y="464832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284680" y="464832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363880" y="468648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7446600" y="5029200"/>
                <a:ext cx="993240" cy="76320"/>
                <a:chOff x="7446600" y="5029200"/>
                <a:chExt cx="993240" cy="763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446600" y="50292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284680" y="50292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363880" y="50673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760176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4596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0176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90380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0872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992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544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850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544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50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544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850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16544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850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4343400" y="1295280"/>
              <a:ext cx="144792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65760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four pipelined functional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Unit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828800" y="5181480"/>
            <a:ext cx="993240" cy="76320"/>
            <a:chOff x="1828800" y="5181480"/>
            <a:chExt cx="993240" cy="76320"/>
          </a:xfrm>
        </p:grpSpPr>
        <p:sp>
          <p:nvSpPr>
            <p:cNvPr id="748" name=""/>
            <p:cNvSpPr/>
            <p:nvPr/>
          </p:nvSpPr>
          <p:spPr>
            <a:xfrm>
              <a:off x="1828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66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6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828800" y="4419720"/>
            <a:ext cx="993240" cy="75960"/>
            <a:chOff x="1828800" y="4419720"/>
            <a:chExt cx="993240" cy="75960"/>
          </a:xfrm>
        </p:grpSpPr>
        <p:sp>
          <p:nvSpPr>
            <p:cNvPr id="752" name=""/>
            <p:cNvSpPr/>
            <p:nvPr/>
          </p:nvSpPr>
          <p:spPr>
            <a:xfrm>
              <a:off x="1828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66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46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828800" y="4800600"/>
            <a:ext cx="993240" cy="76320"/>
            <a:chOff x="1828800" y="4800600"/>
            <a:chExt cx="993240" cy="76320"/>
          </a:xfrm>
        </p:grpSpPr>
        <p:sp>
          <p:nvSpPr>
            <p:cNvPr id="756" name=""/>
            <p:cNvSpPr/>
            <p:nvPr/>
          </p:nvSpPr>
          <p:spPr>
            <a:xfrm>
              <a:off x="1828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66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6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590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828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828800" y="1752480"/>
            <a:ext cx="993240" cy="76320"/>
            <a:chOff x="1828800" y="1752480"/>
            <a:chExt cx="993240" cy="76320"/>
          </a:xfrm>
        </p:grpSpPr>
        <p:sp>
          <p:nvSpPr>
            <p:cNvPr id="763" name=""/>
            <p:cNvSpPr/>
            <p:nvPr/>
          </p:nvSpPr>
          <p:spPr>
            <a:xfrm flipV="1">
              <a:off x="1828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666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46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828800" y="2514600"/>
            <a:ext cx="993240" cy="76320"/>
            <a:chOff x="1828800" y="2514600"/>
            <a:chExt cx="993240" cy="76320"/>
          </a:xfrm>
        </p:grpSpPr>
        <p:sp>
          <p:nvSpPr>
            <p:cNvPr id="767" name=""/>
            <p:cNvSpPr/>
            <p:nvPr/>
          </p:nvSpPr>
          <p:spPr>
            <a:xfrm flipV="1">
              <a:off x="1828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666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6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1828800" y="2133360"/>
            <a:ext cx="993240" cy="75960"/>
            <a:chOff x="1828800" y="2133360"/>
            <a:chExt cx="993240" cy="75960"/>
          </a:xfrm>
        </p:grpSpPr>
        <p:sp>
          <p:nvSpPr>
            <p:cNvPr id="771" name=""/>
            <p:cNvSpPr/>
            <p:nvPr/>
          </p:nvSpPr>
          <p:spPr>
            <a:xfrm flipV="1">
              <a:off x="1828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666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46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V="1">
            <a:off x="2590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23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286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73392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733920" y="5181480"/>
            <a:ext cx="993240" cy="76320"/>
            <a:chOff x="3733920" y="5181480"/>
            <a:chExt cx="993240" cy="76320"/>
          </a:xfrm>
        </p:grpSpPr>
        <p:sp>
          <p:nvSpPr>
            <p:cNvPr id="783" name=""/>
            <p:cNvSpPr/>
            <p:nvPr/>
          </p:nvSpPr>
          <p:spPr>
            <a:xfrm>
              <a:off x="373392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7200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5120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733920" y="4419720"/>
            <a:ext cx="993240" cy="75960"/>
            <a:chOff x="3733920" y="4419720"/>
            <a:chExt cx="993240" cy="75960"/>
          </a:xfrm>
        </p:grpSpPr>
        <p:sp>
          <p:nvSpPr>
            <p:cNvPr id="787" name=""/>
            <p:cNvSpPr/>
            <p:nvPr/>
          </p:nvSpPr>
          <p:spPr>
            <a:xfrm>
              <a:off x="373392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200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5120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733920" y="4800600"/>
            <a:ext cx="993240" cy="76320"/>
            <a:chOff x="3733920" y="4800600"/>
            <a:chExt cx="993240" cy="76320"/>
          </a:xfrm>
        </p:grpSpPr>
        <p:sp>
          <p:nvSpPr>
            <p:cNvPr id="791" name=""/>
            <p:cNvSpPr/>
            <p:nvPr/>
          </p:nvSpPr>
          <p:spPr>
            <a:xfrm>
              <a:off x="373392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7200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5120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44956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73392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3733920" y="1752480"/>
            <a:ext cx="993240" cy="76320"/>
            <a:chOff x="3733920" y="1752480"/>
            <a:chExt cx="993240" cy="76320"/>
          </a:xfrm>
        </p:grpSpPr>
        <p:sp>
          <p:nvSpPr>
            <p:cNvPr id="798" name=""/>
            <p:cNvSpPr/>
            <p:nvPr/>
          </p:nvSpPr>
          <p:spPr>
            <a:xfrm flipV="1">
              <a:off x="373392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457200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5120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733920" y="2514600"/>
            <a:ext cx="993240" cy="76320"/>
            <a:chOff x="3733920" y="2514600"/>
            <a:chExt cx="993240" cy="76320"/>
          </a:xfrm>
        </p:grpSpPr>
        <p:sp>
          <p:nvSpPr>
            <p:cNvPr id="802" name=""/>
            <p:cNvSpPr/>
            <p:nvPr/>
          </p:nvSpPr>
          <p:spPr>
            <a:xfrm flipV="1">
              <a:off x="373392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57200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5120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733920" y="2133360"/>
            <a:ext cx="993240" cy="75960"/>
            <a:chOff x="3733920" y="2133360"/>
            <a:chExt cx="993240" cy="75960"/>
          </a:xfrm>
        </p:grpSpPr>
        <p:sp>
          <p:nvSpPr>
            <p:cNvPr id="806" name=""/>
            <p:cNvSpPr/>
            <p:nvPr/>
          </p:nvSpPr>
          <p:spPr>
            <a:xfrm flipV="1">
              <a:off x="373392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57200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5120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44956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19112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5053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638680" y="5181480"/>
            <a:ext cx="993960" cy="76320"/>
            <a:chOff x="5638680" y="5181480"/>
            <a:chExt cx="993960" cy="76320"/>
          </a:xfrm>
        </p:grpSpPr>
        <p:sp>
          <p:nvSpPr>
            <p:cNvPr id="818" name=""/>
            <p:cNvSpPr/>
            <p:nvPr/>
          </p:nvSpPr>
          <p:spPr>
            <a:xfrm>
              <a:off x="563868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77120" y="5181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56320" y="5219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638680" y="4419720"/>
            <a:ext cx="993960" cy="75960"/>
            <a:chOff x="5638680" y="4419720"/>
            <a:chExt cx="993960" cy="75960"/>
          </a:xfrm>
        </p:grpSpPr>
        <p:sp>
          <p:nvSpPr>
            <p:cNvPr id="822" name=""/>
            <p:cNvSpPr/>
            <p:nvPr/>
          </p:nvSpPr>
          <p:spPr>
            <a:xfrm>
              <a:off x="5638680" y="441972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7120" y="44197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56320" y="4457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638680" y="4800600"/>
            <a:ext cx="993960" cy="76320"/>
            <a:chOff x="5638680" y="4800600"/>
            <a:chExt cx="993960" cy="76320"/>
          </a:xfrm>
        </p:grpSpPr>
        <p:sp>
          <p:nvSpPr>
            <p:cNvPr id="826" name=""/>
            <p:cNvSpPr/>
            <p:nvPr/>
          </p:nvSpPr>
          <p:spPr>
            <a:xfrm>
              <a:off x="5638680" y="4800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77120" y="4800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56320" y="4838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4008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63868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638680" y="1752480"/>
            <a:ext cx="993960" cy="76320"/>
            <a:chOff x="5638680" y="1752480"/>
            <a:chExt cx="993960" cy="76320"/>
          </a:xfrm>
        </p:grpSpPr>
        <p:sp>
          <p:nvSpPr>
            <p:cNvPr id="833" name=""/>
            <p:cNvSpPr/>
            <p:nvPr/>
          </p:nvSpPr>
          <p:spPr>
            <a:xfrm flipV="1">
              <a:off x="5638680" y="1752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6477120" y="1752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6320" y="1790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638680" y="2514600"/>
            <a:ext cx="993960" cy="76320"/>
            <a:chOff x="5638680" y="2514600"/>
            <a:chExt cx="993960" cy="76320"/>
          </a:xfrm>
        </p:grpSpPr>
        <p:sp>
          <p:nvSpPr>
            <p:cNvPr id="837" name=""/>
            <p:cNvSpPr/>
            <p:nvPr/>
          </p:nvSpPr>
          <p:spPr>
            <a:xfrm flipV="1">
              <a:off x="5638680" y="2514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6477120" y="2514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56320" y="2552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638680" y="2133360"/>
            <a:ext cx="993960" cy="75960"/>
            <a:chOff x="5638680" y="2133360"/>
            <a:chExt cx="993960" cy="75960"/>
          </a:xfrm>
        </p:grpSpPr>
        <p:sp>
          <p:nvSpPr>
            <p:cNvPr id="841" name=""/>
            <p:cNvSpPr/>
            <p:nvPr/>
          </p:nvSpPr>
          <p:spPr>
            <a:xfrm flipV="1">
              <a:off x="5638680" y="213300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477120" y="21330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56320" y="2171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 flipV="1">
            <a:off x="64008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7913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9588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09588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4100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543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7543800" y="5181480"/>
            <a:ext cx="993240" cy="76320"/>
            <a:chOff x="7543800" y="5181480"/>
            <a:chExt cx="993240" cy="76320"/>
          </a:xfrm>
        </p:grpSpPr>
        <p:sp>
          <p:nvSpPr>
            <p:cNvPr id="853" name=""/>
            <p:cNvSpPr/>
            <p:nvPr/>
          </p:nvSpPr>
          <p:spPr>
            <a:xfrm>
              <a:off x="7543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81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61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543800" y="4419720"/>
            <a:ext cx="993240" cy="75960"/>
            <a:chOff x="7543800" y="4419720"/>
            <a:chExt cx="993240" cy="75960"/>
          </a:xfrm>
        </p:grpSpPr>
        <p:sp>
          <p:nvSpPr>
            <p:cNvPr id="857" name=""/>
            <p:cNvSpPr/>
            <p:nvPr/>
          </p:nvSpPr>
          <p:spPr>
            <a:xfrm>
              <a:off x="7543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1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61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543800" y="4800600"/>
            <a:ext cx="993240" cy="76320"/>
            <a:chOff x="7543800" y="4800600"/>
            <a:chExt cx="993240" cy="76320"/>
          </a:xfrm>
        </p:grpSpPr>
        <p:sp>
          <p:nvSpPr>
            <p:cNvPr id="861" name=""/>
            <p:cNvSpPr/>
            <p:nvPr/>
          </p:nvSpPr>
          <p:spPr>
            <a:xfrm>
              <a:off x="7543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81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461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8305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96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543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543800" y="1752480"/>
            <a:ext cx="993240" cy="76320"/>
            <a:chOff x="7543800" y="1752480"/>
            <a:chExt cx="993240" cy="76320"/>
          </a:xfrm>
        </p:grpSpPr>
        <p:sp>
          <p:nvSpPr>
            <p:cNvPr id="868" name=""/>
            <p:cNvSpPr/>
            <p:nvPr/>
          </p:nvSpPr>
          <p:spPr>
            <a:xfrm flipV="1">
              <a:off x="7543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381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461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543800" y="2514600"/>
            <a:ext cx="993240" cy="76320"/>
            <a:chOff x="7543800" y="2514600"/>
            <a:chExt cx="993240" cy="76320"/>
          </a:xfrm>
        </p:grpSpPr>
        <p:sp>
          <p:nvSpPr>
            <p:cNvPr id="872" name=""/>
            <p:cNvSpPr/>
            <p:nvPr/>
          </p:nvSpPr>
          <p:spPr>
            <a:xfrm flipV="1">
              <a:off x="7543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8381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61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7543800" y="2133360"/>
            <a:ext cx="993240" cy="75960"/>
            <a:chOff x="7543800" y="2133360"/>
            <a:chExt cx="993240" cy="75960"/>
          </a:xfrm>
        </p:grpSpPr>
        <p:sp>
          <p:nvSpPr>
            <p:cNvPr id="876" name=""/>
            <p:cNvSpPr/>
            <p:nvPr/>
          </p:nvSpPr>
          <p:spPr>
            <a:xfrm flipV="1">
              <a:off x="7543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8381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61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 flipV="1">
            <a:off x="8305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7696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238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8001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7315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67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53000" y="1295280"/>
            <a:ext cx="3047400" cy="4436640"/>
            <a:chOff x="153000" y="1295280"/>
            <a:chExt cx="3047400" cy="4436640"/>
          </a:xfrm>
        </p:grpSpPr>
        <p:sp>
          <p:nvSpPr>
            <p:cNvPr id="887" name=""/>
            <p:cNvSpPr/>
            <p:nvPr/>
          </p:nvSpPr>
          <p:spPr>
            <a:xfrm>
              <a:off x="1371600" y="1295280"/>
              <a:ext cx="1828800" cy="4343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4343400"/>
                <a:gd name="textAreaBottom" fmla="*/ 4254120 h 4343400"/>
              </a:gdLst>
              <a:ahLst/>
              <a:rect l="textAreaLeft" t="textAreaTop" r="textAreaRight" b="textAreaBottom"/>
              <a:pathLst>
                <a:path w="21600" h="51294">
                  <a:moveTo>
                    <a:pt x="3600" y="0"/>
                  </a:moveTo>
                  <a:arcTo wR="3600" hR="3600" stAng="16200000" swAng="-5400000"/>
                  <a:lnTo>
                    <a:pt x="0" y="47694"/>
                  </a:lnTo>
                  <a:arcTo wR="3600" hR="3600" stAng="10800000" swAng="-5400000"/>
                  <a:lnTo>
                    <a:pt x="18000" y="51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914040" y="5257800"/>
              <a:ext cx="453960" cy="241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3000" y="53330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523880" y="989640"/>
            <a:ext cx="7391520" cy="1829880"/>
            <a:chOff x="1523880" y="989640"/>
            <a:chExt cx="7391520" cy="1829880"/>
          </a:xfrm>
        </p:grpSpPr>
        <p:sp>
          <p:nvSpPr>
            <p:cNvPr id="891" name=""/>
            <p:cNvSpPr/>
            <p:nvPr/>
          </p:nvSpPr>
          <p:spPr>
            <a:xfrm>
              <a:off x="1523880" y="1447920"/>
              <a:ext cx="7391520" cy="1371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562720" y="1218960"/>
              <a:ext cx="380880" cy="228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67280" y="9896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18ffd"/>
                  </a:solidFill>
                  <a:latin typeface="Arial"/>
                </a:rPr>
                <a:t>Functional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-360" y="27136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1027080" y="3386160"/>
            <a:ext cx="496800" cy="16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47920" y="6019920"/>
            <a:ext cx="7315200" cy="53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76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0, 4, 8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8128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1, 5, 9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8640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2, 6, 10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91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3, 7, 11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0 Vector Microprocessor (199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0die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5138640" cy="517680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858000" y="2971800"/>
            <a:ext cx="457200" cy="320040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315200" y="3200400"/>
            <a:ext cx="762120" cy="38088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077680" y="2894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04920" y="2894400"/>
            <a:ext cx="7119000" cy="1999440"/>
            <a:chOff x="304920" y="2894400"/>
            <a:chExt cx="7119000" cy="1999440"/>
          </a:xfrm>
        </p:grpSpPr>
        <p:sp>
          <p:nvSpPr>
            <p:cNvPr id="907" name=""/>
            <p:cNvSpPr/>
            <p:nvPr/>
          </p:nvSpPr>
          <p:spPr>
            <a:xfrm>
              <a:off x="304920" y="2894400"/>
              <a:ext cx="243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 register elements striped over 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3129840" y="3809160"/>
              <a:ext cx="4294080" cy="1084680"/>
              <a:chOff x="3129840" y="3809160"/>
              <a:chExt cx="4294080" cy="1084680"/>
            </a:xfrm>
          </p:grpSpPr>
          <p:sp>
            <p:nvSpPr>
              <p:cNvPr id="909" name=""/>
              <p:cNvSpPr/>
              <p:nvPr/>
            </p:nvSpPr>
            <p:spPr>
              <a:xfrm>
                <a:off x="32014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0148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1298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1312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6540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5400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820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838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1922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220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1202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1220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71924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4904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6472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64904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82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11236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110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12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924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222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204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222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325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25392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3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5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590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8888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874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7888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2209680" y="358128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ersus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139760"/>
            <a:ext cx="8001000" cy="16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memory-memory instructions hold all vector operands in main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vector machines, CDC Star-100 (‘73) and TI ASC (‘71), were memory-memory mach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y-1 (’76) was first vector register mach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0880" y="3200400"/>
            <a:ext cx="3200400" cy="2167200"/>
            <a:chOff x="380880" y="3200400"/>
            <a:chExt cx="3200400" cy="2167200"/>
          </a:xfrm>
        </p:grpSpPr>
        <p:sp>
          <p:nvSpPr>
            <p:cNvPr id="945" name=""/>
            <p:cNvSpPr/>
            <p:nvPr/>
          </p:nvSpPr>
          <p:spPr>
            <a:xfrm>
              <a:off x="459360" y="3673080"/>
              <a:ext cx="30610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[i] = A[i] -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0880" y="3275640"/>
              <a:ext cx="286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ample Sourc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0880" y="3200400"/>
              <a:ext cx="3200400" cy="213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81280" y="2858040"/>
            <a:ext cx="5334120" cy="1372680"/>
            <a:chOff x="3581280" y="2858040"/>
            <a:chExt cx="5334120" cy="1372680"/>
          </a:xfrm>
        </p:grpSpPr>
        <p:grpSp>
          <p:nvGrpSpPr>
            <p:cNvPr id="949" name=""/>
            <p:cNvGrpSpPr/>
            <p:nvPr/>
          </p:nvGrpSpPr>
          <p:grpSpPr>
            <a:xfrm>
              <a:off x="5027400" y="2858040"/>
              <a:ext cx="3888000" cy="1372680"/>
              <a:chOff x="5027400" y="2858040"/>
              <a:chExt cx="3888000" cy="1372680"/>
            </a:xfrm>
          </p:grpSpPr>
          <p:sp>
            <p:nvSpPr>
              <p:cNvPr id="950" name=""/>
              <p:cNvSpPr/>
              <p:nvPr/>
            </p:nvSpPr>
            <p:spPr>
              <a:xfrm>
                <a:off x="5869080" y="3314880"/>
                <a:ext cx="182664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C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D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027400" y="2858040"/>
                <a:ext cx="378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Memory-Memory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29200" y="2859120"/>
                <a:ext cx="3886200" cy="1371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V="1">
              <a:off x="3581280" y="3544560"/>
              <a:ext cx="144792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581280" y="4230720"/>
            <a:ext cx="5334120" cy="2515680"/>
            <a:chOff x="3581280" y="4230720"/>
            <a:chExt cx="5334120" cy="2515680"/>
          </a:xfrm>
        </p:grpSpPr>
        <p:grpSp>
          <p:nvGrpSpPr>
            <p:cNvPr id="955" name=""/>
            <p:cNvGrpSpPr/>
            <p:nvPr/>
          </p:nvGrpSpPr>
          <p:grpSpPr>
            <a:xfrm>
              <a:off x="5027760" y="4266360"/>
              <a:ext cx="3887640" cy="2480040"/>
              <a:chOff x="5027760" y="4266360"/>
              <a:chExt cx="3887640" cy="2480040"/>
            </a:xfrm>
          </p:grpSpPr>
          <p:sp>
            <p:nvSpPr>
              <p:cNvPr id="956" name=""/>
              <p:cNvSpPr/>
              <p:nvPr/>
            </p:nvSpPr>
            <p:spPr>
              <a:xfrm>
                <a:off x="5792760" y="4720320"/>
                <a:ext cx="2238120" cy="20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1,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2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V3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3,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V4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4,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027760" y="4266360"/>
                <a:ext cx="276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Register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029200" y="4267080"/>
                <a:ext cx="3886200" cy="2438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3581280" y="4230720"/>
              <a:ext cx="144792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s.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1369080"/>
            <a:ext cx="8381880" cy="52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memory-memory architectures (VMMA) require greater main memory bandwidth, wh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ll operands must be read in and out of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make if difficult to overlap execution of multiple vector operations, wh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Must check dependencies on memory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incur greater startup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r code was faster on CDC Star-100 for vectors &lt; 100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ray-1, vector/scalar breakeven point was around 2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art from CDC follow-ons (Cyber-205, ETA-10) all major vector machines since Cray-1 have had vector register archite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(we ignore vector memory-memory from now 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6680" y="213372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66680" y="323856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Code Vector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287800" y="683640"/>
            <a:ext cx="43869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=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-34920" y="1446840"/>
            <a:ext cx="3194640" cy="5258880"/>
            <a:chOff x="-34920" y="1446840"/>
            <a:chExt cx="3194640" cy="5258880"/>
          </a:xfrm>
        </p:grpSpPr>
        <p:grpSp>
          <p:nvGrpSpPr>
            <p:cNvPr id="967" name=""/>
            <p:cNvGrpSpPr/>
            <p:nvPr/>
          </p:nvGrpSpPr>
          <p:grpSpPr>
            <a:xfrm>
              <a:off x="1045440" y="1977840"/>
              <a:ext cx="1660320" cy="2270160"/>
              <a:chOff x="1045440" y="1977840"/>
              <a:chExt cx="1660320" cy="2270160"/>
            </a:xfrm>
          </p:grpSpPr>
          <p:sp>
            <p:nvSpPr>
              <p:cNvPr id="968" name=""/>
              <p:cNvSpPr/>
              <p:nvPr/>
            </p:nvSpPr>
            <p:spPr>
              <a:xfrm>
                <a:off x="1045440" y="19778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959840" y="24350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25600" y="312084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376280" y="380664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28480" y="2438280"/>
                <a:ext cx="22860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885320" y="2895480"/>
                <a:ext cx="30492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809720" y="35812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1064520" y="4340160"/>
              <a:ext cx="1660320" cy="2269800"/>
              <a:chOff x="1064520" y="4340160"/>
              <a:chExt cx="1660320" cy="2269800"/>
            </a:xfrm>
          </p:grpSpPr>
          <p:sp>
            <p:nvSpPr>
              <p:cNvPr id="976" name=""/>
              <p:cNvSpPr/>
              <p:nvPr/>
            </p:nvSpPr>
            <p:spPr>
              <a:xfrm>
                <a:off x="1064520" y="434016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978920" y="479700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44680" y="548280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395360" y="616860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47560" y="4800240"/>
                <a:ext cx="228600" cy="68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1904400" y="5257440"/>
                <a:ext cx="30492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828800" y="5943240"/>
                <a:ext cx="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838080" y="1905120"/>
              <a:ext cx="1981440" cy="2361960"/>
            </a:xfrm>
            <a:custGeom>
              <a:avLst/>
              <a:gdLst>
                <a:gd name="textAreaLeft" fmla="*/ 96480 w 1981440"/>
                <a:gd name="textAreaRight" fmla="*/ 1884960 w 1981440"/>
                <a:gd name="textAreaTop" fmla="*/ 96480 h 2361960"/>
                <a:gd name="textAreaBottom" fmla="*/ 2265480 h 2361960"/>
              </a:gdLst>
              <a:ahLst/>
              <a:rect l="textAreaLeft" t="textAreaTop" r="textAreaRight" b="textAreaBottom"/>
              <a:pathLst>
                <a:path w="21600" h="25747">
                  <a:moveTo>
                    <a:pt x="3600" y="0"/>
                  </a:moveTo>
                  <a:arcTo wR="3600" hR="3600" stAng="16200000" swAng="-5400000"/>
                  <a:lnTo>
                    <a:pt x="0" y="22147"/>
                  </a:lnTo>
                  <a:arcTo wR="3600" hR="3600" stAng="10800000" swAng="-5400000"/>
                  <a:lnTo>
                    <a:pt x="18000" y="25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2120" y="4343400"/>
              <a:ext cx="2057400" cy="23623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2362320"/>
                <a:gd name="textAreaBottom" fmla="*/ 2261880 h 2362320"/>
              </a:gdLst>
              <a:ahLst/>
              <a:rect l="textAreaLeft" t="textAreaTop" r="textAreaRight" b="textAreaBottom"/>
              <a:pathLst>
                <a:path w="21600" h="24801">
                  <a:moveTo>
                    <a:pt x="3600" y="0"/>
                  </a:moveTo>
                  <a:arcTo wR="3600" hR="3600" stAng="16200000" swAng="-5400000"/>
                  <a:lnTo>
                    <a:pt x="0" y="21201"/>
                  </a:lnTo>
                  <a:arcTo wR="3600" hR="3600" stAng="10800000" swAng="-5400000"/>
                  <a:lnTo>
                    <a:pt x="18000" y="24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34920" y="2513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34920" y="48758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1920" y="1446840"/>
              <a:ext cx="30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calar Sequential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590920" y="53031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is a massive compile-time reordering of operation sequ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extensive loop depend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3048120" y="1370520"/>
            <a:ext cx="6089760" cy="3827880"/>
            <a:chOff x="3048120" y="1370520"/>
            <a:chExt cx="6089760" cy="3827880"/>
          </a:xfrm>
        </p:grpSpPr>
        <p:sp>
          <p:nvSpPr>
            <p:cNvPr id="990" name=""/>
            <p:cNvSpPr/>
            <p:nvPr/>
          </p:nvSpPr>
          <p:spPr>
            <a:xfrm>
              <a:off x="3733920" y="2438280"/>
              <a:ext cx="5029200" cy="60984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33920" y="1806480"/>
              <a:ext cx="5029200" cy="57960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124080"/>
              <a:ext cx="5029200" cy="5335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3920" y="3809880"/>
              <a:ext cx="5029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24480" y="4800240"/>
              <a:ext cx="19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8896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0336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6912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1944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72000" y="2362320"/>
              <a:ext cx="22860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02884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5288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9372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0812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7424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2456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400800" y="2362320"/>
              <a:ext cx="30492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93396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5800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6252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4360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252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76760" y="137052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ized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077320" y="4267080"/>
              <a:ext cx="152280" cy="60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24382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2831760" y="28843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77320" y="281952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ripm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4920" y="605160"/>
            <a:ext cx="86104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Vector registers have finite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Break loops into pieces that fit into vector register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Stripmin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06760" y="1759320"/>
            <a:ext cx="61243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I R1, N, 63   # N mod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  # Do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1, 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LL R2, R1, 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Multiply by 8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A, RA, R2 # Bump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2, 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B, RB, R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3, V1,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3,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C, RC,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UBU N, N, R1 # Subtrac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 R1,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# Reset ful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GTZ N, loop   # Any mor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800" y="2131920"/>
            <a:ext cx="3617280" cy="4497480"/>
            <a:chOff x="1800" y="2131920"/>
            <a:chExt cx="3617280" cy="4497480"/>
          </a:xfrm>
        </p:grpSpPr>
        <p:sp>
          <p:nvSpPr>
            <p:cNvPr id="1022" name=""/>
            <p:cNvSpPr/>
            <p:nvPr/>
          </p:nvSpPr>
          <p:spPr>
            <a:xfrm>
              <a:off x="1800" y="2131920"/>
              <a:ext cx="338112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[i] = A[i]+B[i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30040" y="2894760"/>
              <a:ext cx="3389040" cy="3734640"/>
              <a:chOff x="230040" y="2894760"/>
              <a:chExt cx="3389040" cy="3734640"/>
            </a:xfrm>
          </p:grpSpPr>
          <p:sp>
            <p:nvSpPr>
              <p:cNvPr id="1024" name=""/>
              <p:cNvSpPr/>
              <p:nvPr/>
            </p:nvSpPr>
            <p:spPr>
              <a:xfrm>
                <a:off x="3049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21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60020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49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21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0020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49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21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60020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9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21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020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457200" y="4343400"/>
                <a:ext cx="1143000" cy="456840"/>
                <a:chOff x="457200" y="4343400"/>
                <a:chExt cx="1143000" cy="45684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1143000" y="44197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914400" y="43434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457200" y="46479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447560" y="45720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457200" y="5715000"/>
                <a:ext cx="1143000" cy="456840"/>
                <a:chOff x="457200" y="5715000"/>
                <a:chExt cx="1143000" cy="4568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1143000" y="57913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4400" y="57150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457200" y="60195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447560" y="59436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457200" y="3352680"/>
                <a:ext cx="1143000" cy="456840"/>
                <a:chOff x="457200" y="3352680"/>
                <a:chExt cx="1143000" cy="45684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143000" y="342900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914400" y="335268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457200" y="365724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447560" y="358128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2300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72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2532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28800" y="396252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81440" y="4342320"/>
                <a:ext cx="163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4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28800" y="3276720"/>
                <a:ext cx="228600" cy="6094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981800" y="3351960"/>
                <a:ext cx="149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main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685800" y="3324240"/>
            <a:ext cx="3276360" cy="1628640"/>
            <a:chOff x="685800" y="3324240"/>
            <a:chExt cx="3276360" cy="1628640"/>
          </a:xfrm>
        </p:grpSpPr>
        <p:grpSp>
          <p:nvGrpSpPr>
            <p:cNvPr id="1059" name=""/>
            <p:cNvGrpSpPr/>
            <p:nvPr/>
          </p:nvGrpSpPr>
          <p:grpSpPr>
            <a:xfrm>
              <a:off x="1523880" y="3733920"/>
              <a:ext cx="2438280" cy="1218960"/>
              <a:chOff x="1523880" y="3733920"/>
              <a:chExt cx="2438280" cy="12189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3657240" y="3733920"/>
                <a:ext cx="304920" cy="304560"/>
                <a:chOff x="3657240" y="3733920"/>
                <a:chExt cx="304920" cy="3045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6572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335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1523880" y="37339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3657240" y="4038480"/>
                <a:ext cx="304920" cy="304560"/>
                <a:chOff x="3657240" y="4038480"/>
                <a:chExt cx="304920" cy="3045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572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7335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657240" y="4343400"/>
                <a:ext cx="304920" cy="304560"/>
                <a:chOff x="3657240" y="4343400"/>
                <a:chExt cx="304920" cy="3045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6572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7335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3657240" y="4648320"/>
                <a:ext cx="304920" cy="304560"/>
                <a:chOff x="3657240" y="4648320"/>
                <a:chExt cx="304920" cy="3045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6572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7335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3352680" y="3733920"/>
                <a:ext cx="304560" cy="304560"/>
                <a:chOff x="3352680" y="3733920"/>
                <a:chExt cx="304560" cy="30456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33526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4286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3352680" y="4038480"/>
                <a:ext cx="304560" cy="304560"/>
                <a:chOff x="3352680" y="4038480"/>
                <a:chExt cx="304560" cy="3045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33526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4286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352680" y="4343400"/>
                <a:ext cx="304560" cy="304560"/>
                <a:chOff x="3352680" y="4343400"/>
                <a:chExt cx="304560" cy="30456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3526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4286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352680" y="4648320"/>
                <a:ext cx="304560" cy="304560"/>
                <a:chOff x="3352680" y="4648320"/>
                <a:chExt cx="304560" cy="30456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3526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4286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3047760" y="3733920"/>
                <a:ext cx="304920" cy="304560"/>
                <a:chOff x="3047760" y="3733920"/>
                <a:chExt cx="304920" cy="30456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30477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1240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3047760" y="4038480"/>
                <a:ext cx="304920" cy="304560"/>
                <a:chOff x="3047760" y="4038480"/>
                <a:chExt cx="304920" cy="3045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30477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1240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3047760" y="4343400"/>
                <a:ext cx="304920" cy="304560"/>
                <a:chOff x="3047760" y="4343400"/>
                <a:chExt cx="304920" cy="30456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0477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1240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047760" y="4648320"/>
                <a:ext cx="304920" cy="304560"/>
                <a:chOff x="3047760" y="4648320"/>
                <a:chExt cx="304920" cy="30456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0477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1240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2742840" y="3733920"/>
                <a:ext cx="304920" cy="304560"/>
                <a:chOff x="2742840" y="3733920"/>
                <a:chExt cx="304920" cy="30456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27428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8191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742840" y="4038480"/>
                <a:ext cx="304920" cy="304560"/>
                <a:chOff x="2742840" y="4038480"/>
                <a:chExt cx="304920" cy="3045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7428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8191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2742840" y="4343400"/>
                <a:ext cx="304920" cy="304560"/>
                <a:chOff x="2742840" y="4343400"/>
                <a:chExt cx="304920" cy="3045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27428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8191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742840" y="4648320"/>
                <a:ext cx="304920" cy="304560"/>
                <a:chOff x="2742840" y="4648320"/>
                <a:chExt cx="304920" cy="3045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7428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8191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2438280" y="3733920"/>
                <a:ext cx="304560" cy="304560"/>
                <a:chOff x="2438280" y="3733920"/>
                <a:chExt cx="304560" cy="30456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24382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5142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438280" y="4038480"/>
                <a:ext cx="304560" cy="304560"/>
                <a:chOff x="2438280" y="4038480"/>
                <a:chExt cx="304560" cy="3045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4382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5142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2438280" y="4343400"/>
                <a:ext cx="304560" cy="304560"/>
                <a:chOff x="2438280" y="4343400"/>
                <a:chExt cx="304560" cy="30456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24382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5142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2438280" y="4648320"/>
                <a:ext cx="304560" cy="304560"/>
                <a:chOff x="2438280" y="4648320"/>
                <a:chExt cx="304560" cy="30456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24382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5142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133360" y="3733920"/>
                <a:ext cx="304920" cy="304560"/>
                <a:chOff x="2133360" y="3733920"/>
                <a:chExt cx="304920" cy="30456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1333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2096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133360" y="4038480"/>
                <a:ext cx="304920" cy="304560"/>
                <a:chOff x="2133360" y="4038480"/>
                <a:chExt cx="304920" cy="30456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1333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2096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2133360" y="4343400"/>
                <a:ext cx="304920" cy="304560"/>
                <a:chOff x="2133360" y="4343400"/>
                <a:chExt cx="304920" cy="30456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21333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2096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2133360" y="4648320"/>
                <a:ext cx="304920" cy="304560"/>
                <a:chOff x="2133360" y="4648320"/>
                <a:chExt cx="304920" cy="30456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21333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2096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828440" y="3733920"/>
                <a:ext cx="304920" cy="304560"/>
                <a:chOff x="1828440" y="3733920"/>
                <a:chExt cx="304920" cy="30456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8284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9047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1828440" y="4038480"/>
                <a:ext cx="304920" cy="304560"/>
                <a:chOff x="1828440" y="4038480"/>
                <a:chExt cx="304920" cy="304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8284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9047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828440" y="4343400"/>
                <a:ext cx="304920" cy="304560"/>
                <a:chOff x="1828440" y="4343400"/>
                <a:chExt cx="304920" cy="3045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18284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9047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828440" y="4648320"/>
                <a:ext cx="304920" cy="304560"/>
                <a:chOff x="1828440" y="4648320"/>
                <a:chExt cx="304920" cy="30456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8284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9047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523880" y="3733920"/>
                <a:ext cx="304560" cy="304560"/>
                <a:chOff x="1523880" y="3733920"/>
                <a:chExt cx="304560" cy="3045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5238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98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3880" y="4038480"/>
                <a:ext cx="304560" cy="304560"/>
                <a:chOff x="1523880" y="4038480"/>
                <a:chExt cx="304560" cy="3045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38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998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1523880" y="4343400"/>
                <a:ext cx="304560" cy="304560"/>
                <a:chOff x="1523880" y="4343400"/>
                <a:chExt cx="304560" cy="30456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5238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5998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1523880" y="4648320"/>
                <a:ext cx="304560" cy="304560"/>
                <a:chOff x="1523880" y="4648320"/>
                <a:chExt cx="304560" cy="30456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5238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5998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7" name=""/>
            <p:cNvSpPr/>
            <p:nvPr/>
          </p:nvSpPr>
          <p:spPr>
            <a:xfrm>
              <a:off x="685800" y="332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Parallel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88200"/>
            <a:ext cx="798192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overlap execution of multiple 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machine has 32 elements per vector register and 8 la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685800" y="2154240"/>
            <a:ext cx="3276360" cy="1579680"/>
            <a:chOff x="685800" y="2154240"/>
            <a:chExt cx="3276360" cy="1579680"/>
          </a:xfrm>
        </p:grpSpPr>
        <p:grpSp>
          <p:nvGrpSpPr>
            <p:cNvPr id="1161" name=""/>
            <p:cNvGrpSpPr/>
            <p:nvPr/>
          </p:nvGrpSpPr>
          <p:grpSpPr>
            <a:xfrm>
              <a:off x="1523880" y="2514600"/>
              <a:ext cx="2438280" cy="1219320"/>
              <a:chOff x="1523880" y="2514600"/>
              <a:chExt cx="2438280" cy="121932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3657240" y="2514600"/>
                <a:ext cx="304920" cy="304920"/>
                <a:chOff x="3657240" y="2514600"/>
                <a:chExt cx="304920" cy="3049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6572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7335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1523880" y="25146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3657240" y="2819520"/>
                <a:ext cx="304920" cy="304560"/>
                <a:chOff x="3657240" y="2819520"/>
                <a:chExt cx="304920" cy="30456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6572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7335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57240" y="3124080"/>
                <a:ext cx="304920" cy="304920"/>
                <a:chOff x="3657240" y="3124080"/>
                <a:chExt cx="304920" cy="3049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572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335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3657240" y="3429000"/>
                <a:ext cx="304920" cy="304920"/>
                <a:chOff x="3657240" y="3429000"/>
                <a:chExt cx="304920" cy="3049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36572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7335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3352680" y="2514600"/>
                <a:ext cx="304560" cy="304920"/>
                <a:chOff x="3352680" y="2514600"/>
                <a:chExt cx="304560" cy="30492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3526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4286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3352680" y="2819520"/>
                <a:ext cx="304560" cy="304560"/>
                <a:chOff x="3352680" y="2819520"/>
                <a:chExt cx="304560" cy="30456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33526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4286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3352680" y="3124080"/>
                <a:ext cx="304560" cy="304920"/>
                <a:chOff x="3352680" y="3124080"/>
                <a:chExt cx="304560" cy="3049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33526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4286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3352680" y="3429000"/>
                <a:ext cx="304560" cy="304920"/>
                <a:chOff x="3352680" y="3429000"/>
                <a:chExt cx="304560" cy="3049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33526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4286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047760" y="2514600"/>
                <a:ext cx="304920" cy="304920"/>
                <a:chOff x="3047760" y="2514600"/>
                <a:chExt cx="304920" cy="30492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0477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1240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3047760" y="2819520"/>
                <a:ext cx="304920" cy="304560"/>
                <a:chOff x="3047760" y="2819520"/>
                <a:chExt cx="304920" cy="3045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30477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1240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047760" y="3124080"/>
                <a:ext cx="304920" cy="304920"/>
                <a:chOff x="3047760" y="3124080"/>
                <a:chExt cx="304920" cy="3049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477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1240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3047760" y="3429000"/>
                <a:ext cx="304920" cy="304920"/>
                <a:chOff x="3047760" y="3429000"/>
                <a:chExt cx="304920" cy="3049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30477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1240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2742840" y="2514600"/>
                <a:ext cx="304920" cy="304920"/>
                <a:chOff x="2742840" y="2514600"/>
                <a:chExt cx="304920" cy="3049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7428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191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2742840" y="2819520"/>
                <a:ext cx="304920" cy="304560"/>
                <a:chOff x="2742840" y="2819520"/>
                <a:chExt cx="304920" cy="30456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27428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8191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742840" y="3124080"/>
                <a:ext cx="304920" cy="304920"/>
                <a:chOff x="2742840" y="3124080"/>
                <a:chExt cx="304920" cy="3049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7428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191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2742840" y="3429000"/>
                <a:ext cx="304920" cy="304920"/>
                <a:chOff x="2742840" y="3429000"/>
                <a:chExt cx="304920" cy="3049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27428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8191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2438280" y="2514600"/>
                <a:ext cx="304560" cy="304920"/>
                <a:chOff x="2438280" y="2514600"/>
                <a:chExt cx="304560" cy="3049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24382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5142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2438280" y="2819520"/>
                <a:ext cx="304560" cy="304560"/>
                <a:chOff x="2438280" y="2819520"/>
                <a:chExt cx="304560" cy="30456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24382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5142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2438280" y="3124080"/>
                <a:ext cx="304560" cy="304920"/>
                <a:chOff x="2438280" y="3124080"/>
                <a:chExt cx="304560" cy="3049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4382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142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2438280" y="3429000"/>
                <a:ext cx="304560" cy="304920"/>
                <a:chOff x="2438280" y="3429000"/>
                <a:chExt cx="304560" cy="3049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4382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5142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2133360" y="2514600"/>
                <a:ext cx="304920" cy="304920"/>
                <a:chOff x="2133360" y="2514600"/>
                <a:chExt cx="304920" cy="3049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21333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2096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133360" y="2819520"/>
                <a:ext cx="304920" cy="304560"/>
                <a:chOff x="2133360" y="2819520"/>
                <a:chExt cx="304920" cy="3045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1333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096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2133360" y="3124080"/>
                <a:ext cx="304920" cy="304920"/>
                <a:chOff x="2133360" y="3124080"/>
                <a:chExt cx="304920" cy="3049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21333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2096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2133360" y="3429000"/>
                <a:ext cx="304920" cy="304920"/>
                <a:chOff x="2133360" y="3429000"/>
                <a:chExt cx="304920" cy="3049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21333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2096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1828440" y="2514600"/>
                <a:ext cx="304920" cy="304920"/>
                <a:chOff x="1828440" y="2514600"/>
                <a:chExt cx="304920" cy="3049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18284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9047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1828440" y="2819520"/>
                <a:ext cx="304920" cy="304560"/>
                <a:chOff x="1828440" y="2819520"/>
                <a:chExt cx="304920" cy="3045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18284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9047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1828440" y="3124080"/>
                <a:ext cx="304920" cy="304920"/>
                <a:chOff x="1828440" y="3124080"/>
                <a:chExt cx="304920" cy="3049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18284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9047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28440" y="3429000"/>
                <a:ext cx="304920" cy="304920"/>
                <a:chOff x="1828440" y="3429000"/>
                <a:chExt cx="304920" cy="3049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18284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9047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523880" y="2514600"/>
                <a:ext cx="304560" cy="304920"/>
                <a:chOff x="1523880" y="2514600"/>
                <a:chExt cx="304560" cy="3049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5238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5998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1523880" y="2819520"/>
                <a:ext cx="304560" cy="304560"/>
                <a:chOff x="1523880" y="2819520"/>
                <a:chExt cx="304560" cy="304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15238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5998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1523880" y="3124080"/>
                <a:ext cx="304560" cy="304920"/>
                <a:chOff x="1523880" y="3124080"/>
                <a:chExt cx="304560" cy="3049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15238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15998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1523880" y="3429000"/>
                <a:ext cx="304560" cy="304920"/>
                <a:chOff x="1523880" y="3429000"/>
                <a:chExt cx="304560" cy="3049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15238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5998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9" name=""/>
            <p:cNvSpPr/>
            <p:nvPr/>
          </p:nvSpPr>
          <p:spPr>
            <a:xfrm>
              <a:off x="685800" y="215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3200400" y="2409840"/>
            <a:ext cx="3200400" cy="1628640"/>
            <a:chOff x="3200400" y="2409840"/>
            <a:chExt cx="3200400" cy="1628640"/>
          </a:xfrm>
        </p:grpSpPr>
        <p:grpSp>
          <p:nvGrpSpPr>
            <p:cNvPr id="1261" name=""/>
            <p:cNvGrpSpPr/>
            <p:nvPr/>
          </p:nvGrpSpPr>
          <p:grpSpPr>
            <a:xfrm>
              <a:off x="3962520" y="2819520"/>
              <a:ext cx="2438280" cy="1218960"/>
              <a:chOff x="3962520" y="2819520"/>
              <a:chExt cx="2438280" cy="121896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3962520" y="2819520"/>
                <a:ext cx="304920" cy="304560"/>
                <a:chOff x="3962520" y="2819520"/>
                <a:chExt cx="304920" cy="30456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39625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0388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5" name=""/>
              <p:cNvSpPr/>
              <p:nvPr/>
            </p:nvSpPr>
            <p:spPr>
              <a:xfrm>
                <a:off x="3962520" y="28195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3962520" y="3124080"/>
                <a:ext cx="304920" cy="304560"/>
                <a:chOff x="3962520" y="3124080"/>
                <a:chExt cx="304920" cy="3045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9625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0388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962520" y="3429000"/>
                <a:ext cx="304920" cy="304560"/>
                <a:chOff x="3962520" y="3429000"/>
                <a:chExt cx="304920" cy="3045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9625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0388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62520" y="3733920"/>
                <a:ext cx="304920" cy="304560"/>
                <a:chOff x="3962520" y="3733920"/>
                <a:chExt cx="304920" cy="30456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625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0388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267440" y="2819520"/>
                <a:ext cx="304560" cy="304560"/>
                <a:chOff x="4267440" y="2819520"/>
                <a:chExt cx="304560" cy="3045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2674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3434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267440" y="3124080"/>
                <a:ext cx="304560" cy="304560"/>
                <a:chOff x="4267440" y="3124080"/>
                <a:chExt cx="304560" cy="30456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2674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3434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4267440" y="3429000"/>
                <a:ext cx="304560" cy="304560"/>
                <a:chOff x="4267440" y="3429000"/>
                <a:chExt cx="304560" cy="3045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42674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3434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4267440" y="3733920"/>
                <a:ext cx="304560" cy="304560"/>
                <a:chOff x="4267440" y="3733920"/>
                <a:chExt cx="304560" cy="30456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42674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3434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4572000" y="2819520"/>
                <a:ext cx="304920" cy="304560"/>
                <a:chOff x="4572000" y="2819520"/>
                <a:chExt cx="304920" cy="3045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5720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6483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4572000" y="3124080"/>
                <a:ext cx="304920" cy="304560"/>
                <a:chOff x="4572000" y="3124080"/>
                <a:chExt cx="304920" cy="30456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45720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6483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4572000" y="3429000"/>
                <a:ext cx="304920" cy="304560"/>
                <a:chOff x="4572000" y="3429000"/>
                <a:chExt cx="304920" cy="3045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720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6483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4572000" y="3733920"/>
                <a:ext cx="304920" cy="304560"/>
                <a:chOff x="4572000" y="3733920"/>
                <a:chExt cx="304920" cy="30456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45720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6483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4876920" y="2819520"/>
                <a:ext cx="304920" cy="304560"/>
                <a:chOff x="4876920" y="2819520"/>
                <a:chExt cx="304920" cy="30456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48769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9532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4876920" y="3124080"/>
                <a:ext cx="304920" cy="304560"/>
                <a:chOff x="4876920" y="3124080"/>
                <a:chExt cx="304920" cy="30456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48769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9532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4876920" y="3429000"/>
                <a:ext cx="304920" cy="304560"/>
                <a:chOff x="4876920" y="3429000"/>
                <a:chExt cx="304920" cy="304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48769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9532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876920" y="3733920"/>
                <a:ext cx="304920" cy="304560"/>
                <a:chOff x="4876920" y="3733920"/>
                <a:chExt cx="304920" cy="304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8769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9532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5181840" y="2819520"/>
                <a:ext cx="304560" cy="304560"/>
                <a:chOff x="5181840" y="2819520"/>
                <a:chExt cx="304560" cy="30456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18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52578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5181840" y="3124080"/>
                <a:ext cx="304560" cy="304560"/>
                <a:chOff x="5181840" y="3124080"/>
                <a:chExt cx="304560" cy="3045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1818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2578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5181840" y="3429000"/>
                <a:ext cx="304560" cy="304560"/>
                <a:chOff x="5181840" y="3429000"/>
                <a:chExt cx="304560" cy="30456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18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2578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5181840" y="3733920"/>
                <a:ext cx="304560" cy="304560"/>
                <a:chOff x="5181840" y="3733920"/>
                <a:chExt cx="304560" cy="30456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5181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52578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5486400" y="2819520"/>
                <a:ext cx="304920" cy="304560"/>
                <a:chOff x="5486400" y="2819520"/>
                <a:chExt cx="304920" cy="30456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54864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5627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5486400" y="3124080"/>
                <a:ext cx="304920" cy="304560"/>
                <a:chOff x="5486400" y="3124080"/>
                <a:chExt cx="304920" cy="304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54864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5627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486400" y="3429000"/>
                <a:ext cx="304920" cy="304560"/>
                <a:chOff x="5486400" y="3429000"/>
                <a:chExt cx="304920" cy="3045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54864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5627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5486400" y="3733920"/>
                <a:ext cx="304920" cy="304560"/>
                <a:chOff x="5486400" y="3733920"/>
                <a:chExt cx="304920" cy="3045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54864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5627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791320" y="2819520"/>
                <a:ext cx="304920" cy="304560"/>
                <a:chOff x="5791320" y="2819520"/>
                <a:chExt cx="304920" cy="3045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57913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58676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5791320" y="3124080"/>
                <a:ext cx="304920" cy="304560"/>
                <a:chOff x="5791320" y="3124080"/>
                <a:chExt cx="304920" cy="3045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57913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8676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5791320" y="3429000"/>
                <a:ext cx="304920" cy="304560"/>
                <a:chOff x="5791320" y="3429000"/>
                <a:chExt cx="304920" cy="3045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57913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8676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5791320" y="3733920"/>
                <a:ext cx="304920" cy="304560"/>
                <a:chOff x="5791320" y="3733920"/>
                <a:chExt cx="304920" cy="3045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57913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8676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6096240" y="2819520"/>
                <a:ext cx="304560" cy="304560"/>
                <a:chOff x="6096240" y="2819520"/>
                <a:chExt cx="304560" cy="3045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60962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1722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6096240" y="3124080"/>
                <a:ext cx="304560" cy="304560"/>
                <a:chOff x="6096240" y="3124080"/>
                <a:chExt cx="304560" cy="3045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60962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1722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096240" y="3429000"/>
                <a:ext cx="304560" cy="304560"/>
                <a:chOff x="6096240" y="3429000"/>
                <a:chExt cx="304560" cy="304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0962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1722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6096240" y="3733920"/>
                <a:ext cx="304560" cy="304560"/>
                <a:chOff x="6096240" y="3733920"/>
                <a:chExt cx="304560" cy="3045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6096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1722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9" name=""/>
            <p:cNvSpPr/>
            <p:nvPr/>
          </p:nvSpPr>
          <p:spPr>
            <a:xfrm>
              <a:off x="3200400" y="24098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200400" y="3629160"/>
            <a:ext cx="3200400" cy="1628640"/>
            <a:chOff x="3200400" y="3629160"/>
            <a:chExt cx="3200400" cy="1628640"/>
          </a:xfrm>
        </p:grpSpPr>
        <p:grpSp>
          <p:nvGrpSpPr>
            <p:cNvPr id="1361" name=""/>
            <p:cNvGrpSpPr/>
            <p:nvPr/>
          </p:nvGrpSpPr>
          <p:grpSpPr>
            <a:xfrm>
              <a:off x="3962520" y="4038480"/>
              <a:ext cx="2438280" cy="1219320"/>
              <a:chOff x="3962520" y="4038480"/>
              <a:chExt cx="2438280" cy="121932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3962520" y="4038480"/>
                <a:ext cx="304920" cy="304920"/>
                <a:chOff x="3962520" y="4038480"/>
                <a:chExt cx="304920" cy="30492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39625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0388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5" name=""/>
              <p:cNvSpPr/>
              <p:nvPr/>
            </p:nvSpPr>
            <p:spPr>
              <a:xfrm>
                <a:off x="3962520" y="40384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3962520" y="4343400"/>
                <a:ext cx="304920" cy="304920"/>
                <a:chOff x="3962520" y="4343400"/>
                <a:chExt cx="304920" cy="3049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39625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0388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3962520" y="4648320"/>
                <a:ext cx="304920" cy="304560"/>
                <a:chOff x="3962520" y="4648320"/>
                <a:chExt cx="304920" cy="3045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9625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40388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3962520" y="4952880"/>
                <a:ext cx="304920" cy="304920"/>
                <a:chOff x="3962520" y="4952880"/>
                <a:chExt cx="304920" cy="30492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39625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0388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267440" y="4038480"/>
                <a:ext cx="304560" cy="304920"/>
                <a:chOff x="4267440" y="4038480"/>
                <a:chExt cx="304560" cy="30492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2674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3434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4267440" y="4343400"/>
                <a:ext cx="304560" cy="304920"/>
                <a:chOff x="4267440" y="4343400"/>
                <a:chExt cx="304560" cy="30492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42674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3434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4267440" y="4648320"/>
                <a:ext cx="304560" cy="304560"/>
                <a:chOff x="4267440" y="4648320"/>
                <a:chExt cx="304560" cy="30456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42674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3434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4267440" y="4952880"/>
                <a:ext cx="304560" cy="304920"/>
                <a:chOff x="4267440" y="4952880"/>
                <a:chExt cx="304560" cy="304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42674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3434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572000" y="4038480"/>
                <a:ext cx="304920" cy="304920"/>
                <a:chOff x="4572000" y="4038480"/>
                <a:chExt cx="304920" cy="30492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45720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6483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4572000" y="4343400"/>
                <a:ext cx="304920" cy="304920"/>
                <a:chOff x="4572000" y="4343400"/>
                <a:chExt cx="304920" cy="30492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45720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6483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4572000" y="4648320"/>
                <a:ext cx="304920" cy="304560"/>
                <a:chOff x="4572000" y="4648320"/>
                <a:chExt cx="304920" cy="30456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45720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6483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4572000" y="4952880"/>
                <a:ext cx="304920" cy="304920"/>
                <a:chOff x="4572000" y="4952880"/>
                <a:chExt cx="304920" cy="304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45720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483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4876920" y="4038480"/>
                <a:ext cx="304920" cy="304920"/>
                <a:chOff x="4876920" y="4038480"/>
                <a:chExt cx="304920" cy="30492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48769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9532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4876920" y="4343400"/>
                <a:ext cx="304920" cy="304920"/>
                <a:chOff x="4876920" y="4343400"/>
                <a:chExt cx="304920" cy="30492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48769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9532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4876920" y="4648320"/>
                <a:ext cx="304920" cy="304560"/>
                <a:chOff x="4876920" y="4648320"/>
                <a:chExt cx="304920" cy="30456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48769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532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4876920" y="4952880"/>
                <a:ext cx="304920" cy="304920"/>
                <a:chOff x="4876920" y="4952880"/>
                <a:chExt cx="304920" cy="3049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48769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9532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5181840" y="4038480"/>
                <a:ext cx="304560" cy="304920"/>
                <a:chOff x="5181840" y="4038480"/>
                <a:chExt cx="304560" cy="30492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5181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2578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181840" y="4343400"/>
                <a:ext cx="304560" cy="304920"/>
                <a:chOff x="5181840" y="4343400"/>
                <a:chExt cx="304560" cy="30492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181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578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5181840" y="4648320"/>
                <a:ext cx="304560" cy="304560"/>
                <a:chOff x="5181840" y="4648320"/>
                <a:chExt cx="304560" cy="304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5181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2578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5181840" y="4952880"/>
                <a:ext cx="304560" cy="304920"/>
                <a:chOff x="5181840" y="4952880"/>
                <a:chExt cx="304560" cy="30492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5181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2578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5486400" y="4038480"/>
                <a:ext cx="304920" cy="304920"/>
                <a:chOff x="5486400" y="4038480"/>
                <a:chExt cx="304920" cy="30492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54864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5627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5486400" y="4343400"/>
                <a:ext cx="304920" cy="304920"/>
                <a:chOff x="5486400" y="4343400"/>
                <a:chExt cx="304920" cy="3049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54864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5627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5486400" y="4648320"/>
                <a:ext cx="304920" cy="304560"/>
                <a:chOff x="5486400" y="4648320"/>
                <a:chExt cx="304920" cy="30456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54864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5627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5486400" y="4952880"/>
                <a:ext cx="304920" cy="304920"/>
                <a:chOff x="5486400" y="4952880"/>
                <a:chExt cx="304920" cy="3049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54864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5627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5791320" y="4038480"/>
                <a:ext cx="304920" cy="304920"/>
                <a:chOff x="5791320" y="4038480"/>
                <a:chExt cx="304920" cy="30492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57913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8676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5791320" y="4343400"/>
                <a:ext cx="304920" cy="304920"/>
                <a:chOff x="5791320" y="4343400"/>
                <a:chExt cx="304920" cy="30492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57913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8676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5791320" y="4648320"/>
                <a:ext cx="304920" cy="304560"/>
                <a:chOff x="5791320" y="4648320"/>
                <a:chExt cx="304920" cy="30456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7913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8676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5791320" y="4952880"/>
                <a:ext cx="304920" cy="304920"/>
                <a:chOff x="5791320" y="4952880"/>
                <a:chExt cx="304920" cy="30492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7913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676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096240" y="4038480"/>
                <a:ext cx="304560" cy="304920"/>
                <a:chOff x="6096240" y="4038480"/>
                <a:chExt cx="304560" cy="30492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6096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1722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096240" y="4343400"/>
                <a:ext cx="304560" cy="304920"/>
                <a:chOff x="6096240" y="4343400"/>
                <a:chExt cx="304560" cy="30492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6096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1722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6096240" y="4648320"/>
                <a:ext cx="304560" cy="304560"/>
                <a:chOff x="6096240" y="4648320"/>
                <a:chExt cx="304560" cy="3045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6096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1722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6096240" y="4952880"/>
                <a:ext cx="304560" cy="304920"/>
                <a:chOff x="6096240" y="4952880"/>
                <a:chExt cx="304560" cy="30492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6096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1722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9" name=""/>
            <p:cNvSpPr/>
            <p:nvPr/>
          </p:nvSpPr>
          <p:spPr>
            <a:xfrm>
              <a:off x="3200400" y="362916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5638680" y="2791080"/>
            <a:ext cx="3200400" cy="1552320"/>
            <a:chOff x="5638680" y="2791080"/>
            <a:chExt cx="3200400" cy="1552320"/>
          </a:xfrm>
        </p:grpSpPr>
        <p:grpSp>
          <p:nvGrpSpPr>
            <p:cNvPr id="1461" name=""/>
            <p:cNvGrpSpPr/>
            <p:nvPr/>
          </p:nvGrpSpPr>
          <p:grpSpPr>
            <a:xfrm>
              <a:off x="6400800" y="3124080"/>
              <a:ext cx="2438280" cy="1219320"/>
              <a:chOff x="6400800" y="3124080"/>
              <a:chExt cx="2438280" cy="1219320"/>
            </a:xfrm>
          </p:grpSpPr>
          <p:sp>
            <p:nvSpPr>
              <p:cNvPr id="1462" name=""/>
              <p:cNvSpPr/>
              <p:nvPr/>
            </p:nvSpPr>
            <p:spPr>
              <a:xfrm>
                <a:off x="6400800" y="31240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6400800" y="3124080"/>
                <a:ext cx="304560" cy="304920"/>
                <a:chOff x="6400800" y="3124080"/>
                <a:chExt cx="304560" cy="3049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640080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47676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6400800" y="3429000"/>
                <a:ext cx="304560" cy="304920"/>
                <a:chOff x="6400800" y="3429000"/>
                <a:chExt cx="304560" cy="3049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640080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47676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6400800" y="3733920"/>
                <a:ext cx="304560" cy="304560"/>
                <a:chOff x="6400800" y="3733920"/>
                <a:chExt cx="304560" cy="30456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40080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47676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400800" y="4038480"/>
                <a:ext cx="304560" cy="304920"/>
                <a:chOff x="6400800" y="4038480"/>
                <a:chExt cx="304560" cy="3049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640080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47676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6705360" y="3124080"/>
                <a:ext cx="304560" cy="304920"/>
                <a:chOff x="6705360" y="3124080"/>
                <a:chExt cx="304560" cy="3049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67053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7813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6705360" y="3429000"/>
                <a:ext cx="304560" cy="304920"/>
                <a:chOff x="6705360" y="3429000"/>
                <a:chExt cx="304560" cy="30492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67053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7813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6705360" y="3733920"/>
                <a:ext cx="304560" cy="304560"/>
                <a:chOff x="6705360" y="3733920"/>
                <a:chExt cx="304560" cy="3045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67053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7813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6705360" y="4038480"/>
                <a:ext cx="304560" cy="304920"/>
                <a:chOff x="6705360" y="4038480"/>
                <a:chExt cx="304560" cy="3049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67053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7813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7010280" y="3124080"/>
                <a:ext cx="304200" cy="304920"/>
                <a:chOff x="7010280" y="3124080"/>
                <a:chExt cx="304200" cy="3049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70102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0862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7010280" y="3429000"/>
                <a:ext cx="304200" cy="304920"/>
                <a:chOff x="7010280" y="3429000"/>
                <a:chExt cx="304200" cy="3049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70102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862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7010280" y="3733920"/>
                <a:ext cx="304200" cy="304560"/>
                <a:chOff x="7010280" y="3733920"/>
                <a:chExt cx="304200" cy="30456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70102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0862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7010280" y="4038480"/>
                <a:ext cx="304200" cy="304920"/>
                <a:chOff x="7010280" y="4038480"/>
                <a:chExt cx="304200" cy="3049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70102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862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7314840" y="3124080"/>
                <a:ext cx="304560" cy="304920"/>
                <a:chOff x="7314840" y="3124080"/>
                <a:chExt cx="304560" cy="3049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73148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3908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7314840" y="3429000"/>
                <a:ext cx="304560" cy="304920"/>
                <a:chOff x="7314840" y="3429000"/>
                <a:chExt cx="304560" cy="3049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73148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3908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7314840" y="3733920"/>
                <a:ext cx="304560" cy="304560"/>
                <a:chOff x="7314840" y="3733920"/>
                <a:chExt cx="304560" cy="30456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7314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3908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14840" y="4038480"/>
                <a:ext cx="304560" cy="304920"/>
                <a:chOff x="7314840" y="4038480"/>
                <a:chExt cx="304560" cy="3049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14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08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7619760" y="3124080"/>
                <a:ext cx="304560" cy="304920"/>
                <a:chOff x="7619760" y="3124080"/>
                <a:chExt cx="304560" cy="3049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76197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6957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619760" y="3429000"/>
                <a:ext cx="304560" cy="304920"/>
                <a:chOff x="7619760" y="3429000"/>
                <a:chExt cx="304560" cy="3049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6197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6957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7619760" y="3733920"/>
                <a:ext cx="304560" cy="304560"/>
                <a:chOff x="7619760" y="3733920"/>
                <a:chExt cx="304560" cy="30456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76197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6957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7619760" y="4038480"/>
                <a:ext cx="304560" cy="304920"/>
                <a:chOff x="7619760" y="4038480"/>
                <a:chExt cx="304560" cy="3049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76197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6957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7924680" y="3124080"/>
                <a:ext cx="304200" cy="304920"/>
                <a:chOff x="7924680" y="3124080"/>
                <a:chExt cx="304200" cy="3049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79246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006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7924680" y="3429000"/>
                <a:ext cx="304200" cy="304920"/>
                <a:chOff x="7924680" y="3429000"/>
                <a:chExt cx="304200" cy="3049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79246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006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7924680" y="3733920"/>
                <a:ext cx="304200" cy="304560"/>
                <a:chOff x="7924680" y="3733920"/>
                <a:chExt cx="304200" cy="30456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79246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006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2" name=""/>
              <p:cNvGrpSpPr/>
              <p:nvPr/>
            </p:nvGrpSpPr>
            <p:grpSpPr>
              <a:xfrm>
                <a:off x="7924680" y="4038480"/>
                <a:ext cx="304200" cy="304920"/>
                <a:chOff x="7924680" y="4038480"/>
                <a:chExt cx="304200" cy="3049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79246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006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8229240" y="3124080"/>
                <a:ext cx="304560" cy="304920"/>
                <a:chOff x="8229240" y="3124080"/>
                <a:chExt cx="304560" cy="3049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82292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3052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8229240" y="3429000"/>
                <a:ext cx="304560" cy="304920"/>
                <a:chOff x="8229240" y="3429000"/>
                <a:chExt cx="304560" cy="3049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82292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3052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8229240" y="3733920"/>
                <a:ext cx="304560" cy="304560"/>
                <a:chOff x="8229240" y="3733920"/>
                <a:chExt cx="304560" cy="30456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8229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3052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8229240" y="4038480"/>
                <a:ext cx="304560" cy="304920"/>
                <a:chOff x="8229240" y="4038480"/>
                <a:chExt cx="304560" cy="3049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8229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3052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8534160" y="3124080"/>
                <a:ext cx="304560" cy="304920"/>
                <a:chOff x="8534160" y="3124080"/>
                <a:chExt cx="304560" cy="30492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85341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6101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8534160" y="3429000"/>
                <a:ext cx="304560" cy="304920"/>
                <a:chOff x="8534160" y="3429000"/>
                <a:chExt cx="304560" cy="3049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85341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6101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8534160" y="3733920"/>
                <a:ext cx="304560" cy="304560"/>
                <a:chOff x="8534160" y="3733920"/>
                <a:chExt cx="304560" cy="30456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85341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6101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8534160" y="4038480"/>
                <a:ext cx="304560" cy="304920"/>
                <a:chOff x="8534160" y="4038480"/>
                <a:chExt cx="304560" cy="30492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85341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6101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9" name=""/>
            <p:cNvSpPr/>
            <p:nvPr/>
          </p:nvSpPr>
          <p:spPr>
            <a:xfrm>
              <a:off x="5638680" y="279108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5638680" y="4010040"/>
            <a:ext cx="3200400" cy="1552680"/>
            <a:chOff x="5638680" y="4010040"/>
            <a:chExt cx="3200400" cy="1552680"/>
          </a:xfrm>
        </p:grpSpPr>
        <p:grpSp>
          <p:nvGrpSpPr>
            <p:cNvPr id="1561" name=""/>
            <p:cNvGrpSpPr/>
            <p:nvPr/>
          </p:nvGrpSpPr>
          <p:grpSpPr>
            <a:xfrm>
              <a:off x="6400800" y="4343400"/>
              <a:ext cx="2438280" cy="1219320"/>
              <a:chOff x="6400800" y="4343400"/>
              <a:chExt cx="2438280" cy="12193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400800" y="43434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6400800" y="4343400"/>
                <a:ext cx="304560" cy="304920"/>
                <a:chOff x="6400800" y="4343400"/>
                <a:chExt cx="304560" cy="30492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640080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47676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6400800" y="4648320"/>
                <a:ext cx="304560" cy="304560"/>
                <a:chOff x="6400800" y="4648320"/>
                <a:chExt cx="304560" cy="30456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640080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47676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6400800" y="4952880"/>
                <a:ext cx="304560" cy="304920"/>
                <a:chOff x="6400800" y="4952880"/>
                <a:chExt cx="304560" cy="30492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640080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47676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6400800" y="5257800"/>
                <a:ext cx="304560" cy="304920"/>
                <a:chOff x="6400800" y="5257800"/>
                <a:chExt cx="304560" cy="30492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640080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47676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6705360" y="4343400"/>
                <a:ext cx="304560" cy="304920"/>
                <a:chOff x="6705360" y="4343400"/>
                <a:chExt cx="304560" cy="30492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67053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7813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6705360" y="4648320"/>
                <a:ext cx="304560" cy="304560"/>
                <a:chOff x="6705360" y="4648320"/>
                <a:chExt cx="304560" cy="30456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67053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7813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6705360" y="4952880"/>
                <a:ext cx="304560" cy="304920"/>
                <a:chOff x="6705360" y="4952880"/>
                <a:chExt cx="304560" cy="3049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67053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7813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705360" y="5257800"/>
                <a:ext cx="304560" cy="304920"/>
                <a:chOff x="6705360" y="5257800"/>
                <a:chExt cx="304560" cy="30492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67053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7813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7010280" y="4343400"/>
                <a:ext cx="304200" cy="304920"/>
                <a:chOff x="7010280" y="4343400"/>
                <a:chExt cx="304200" cy="30492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70102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0862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7010280" y="4648320"/>
                <a:ext cx="304200" cy="304560"/>
                <a:chOff x="7010280" y="4648320"/>
                <a:chExt cx="304200" cy="30456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70102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0862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7010280" y="4952880"/>
                <a:ext cx="304200" cy="304920"/>
                <a:chOff x="7010280" y="4952880"/>
                <a:chExt cx="304200" cy="3049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70102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0862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7010280" y="5257800"/>
                <a:ext cx="304200" cy="304920"/>
                <a:chOff x="7010280" y="5257800"/>
                <a:chExt cx="304200" cy="30492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70102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0862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7314840" y="4343400"/>
                <a:ext cx="304560" cy="304920"/>
                <a:chOff x="7314840" y="4343400"/>
                <a:chExt cx="304560" cy="3049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7314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3908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7314840" y="4648320"/>
                <a:ext cx="304560" cy="304560"/>
                <a:chOff x="7314840" y="4648320"/>
                <a:chExt cx="304560" cy="3045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7314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3908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7314840" y="4952880"/>
                <a:ext cx="304560" cy="304920"/>
                <a:chOff x="7314840" y="4952880"/>
                <a:chExt cx="304560" cy="30492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7314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3908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7314840" y="5257800"/>
                <a:ext cx="304560" cy="304920"/>
                <a:chOff x="7314840" y="5257800"/>
                <a:chExt cx="304560" cy="3049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73148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3908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7619760" y="4343400"/>
                <a:ext cx="304560" cy="304920"/>
                <a:chOff x="7619760" y="4343400"/>
                <a:chExt cx="304560" cy="30492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76197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6957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7619760" y="4648320"/>
                <a:ext cx="304560" cy="304560"/>
                <a:chOff x="7619760" y="4648320"/>
                <a:chExt cx="304560" cy="30456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76197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957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7619760" y="4952880"/>
                <a:ext cx="304560" cy="304920"/>
                <a:chOff x="7619760" y="4952880"/>
                <a:chExt cx="304560" cy="30492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76197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6957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7619760" y="5257800"/>
                <a:ext cx="304560" cy="304920"/>
                <a:chOff x="7619760" y="5257800"/>
                <a:chExt cx="304560" cy="30492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76197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6957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7924680" y="4343400"/>
                <a:ext cx="304200" cy="304920"/>
                <a:chOff x="7924680" y="4343400"/>
                <a:chExt cx="304200" cy="30492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79246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0006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7924680" y="4648320"/>
                <a:ext cx="304200" cy="304560"/>
                <a:chOff x="7924680" y="4648320"/>
                <a:chExt cx="304200" cy="30456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79246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0006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924680" y="4952880"/>
                <a:ext cx="304200" cy="304920"/>
                <a:chOff x="7924680" y="4952880"/>
                <a:chExt cx="304200" cy="3049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79246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0006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7924680" y="5257800"/>
                <a:ext cx="304200" cy="304920"/>
                <a:chOff x="7924680" y="5257800"/>
                <a:chExt cx="304200" cy="3049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79246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0006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8229240" y="4343400"/>
                <a:ext cx="304560" cy="304920"/>
                <a:chOff x="8229240" y="4343400"/>
                <a:chExt cx="304560" cy="3049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8229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3052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8229240" y="4648320"/>
                <a:ext cx="304560" cy="304560"/>
                <a:chOff x="8229240" y="4648320"/>
                <a:chExt cx="304560" cy="30456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8229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3052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8229240" y="4952880"/>
                <a:ext cx="304560" cy="304920"/>
                <a:chOff x="8229240" y="4952880"/>
                <a:chExt cx="304560" cy="30492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8229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3052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8229240" y="5257800"/>
                <a:ext cx="304560" cy="304920"/>
                <a:chOff x="8229240" y="5257800"/>
                <a:chExt cx="304560" cy="30492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82292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83052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8534160" y="4343400"/>
                <a:ext cx="304560" cy="304920"/>
                <a:chOff x="8534160" y="4343400"/>
                <a:chExt cx="304560" cy="30492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85341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6101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8534160" y="4648320"/>
                <a:ext cx="304560" cy="304560"/>
                <a:chOff x="8534160" y="4648320"/>
                <a:chExt cx="304560" cy="30456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85341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6101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8534160" y="4952880"/>
                <a:ext cx="304560" cy="304920"/>
                <a:chOff x="8534160" y="4952880"/>
                <a:chExt cx="304560" cy="3049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85341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86101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8534160" y="5257800"/>
                <a:ext cx="304560" cy="304920"/>
                <a:chOff x="8534160" y="5257800"/>
                <a:chExt cx="304560" cy="3049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85341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6101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9" name=""/>
            <p:cNvSpPr/>
            <p:nvPr/>
          </p:nvSpPr>
          <p:spPr>
            <a:xfrm>
              <a:off x="5638680" y="40100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2058120" y="1980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342680" y="198036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010280" y="1980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860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0040" y="3123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38080" y="5079960"/>
            <a:ext cx="1447920" cy="1160280"/>
          </a:xfrm>
          <a:prstGeom prst="rightArrow">
            <a:avLst>
              <a:gd name="adj1" fmla="val 50000"/>
              <a:gd name="adj2" fmla="val 3119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ion 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19240" y="6323760"/>
            <a:ext cx="84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24 operations/cycle while issuing 1 short instruction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a supercomput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st machine in world at given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vice to turn a compute-bound problem into an I/O bound probl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costing $30M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designed by Seymour C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6600 (Cray, 1964) regarded as first super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066320" y="988200"/>
            <a:ext cx="575316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version of register bypa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d with Cray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2895480" y="2209680"/>
            <a:ext cx="1548000" cy="3733920"/>
            <a:chOff x="2895480" y="2209680"/>
            <a:chExt cx="1548000" cy="3733920"/>
          </a:xfrm>
        </p:grpSpPr>
        <p:sp>
          <p:nvSpPr>
            <p:cNvPr id="1670" name=""/>
            <p:cNvSpPr/>
            <p:nvPr/>
          </p:nvSpPr>
          <p:spPr>
            <a:xfrm>
              <a:off x="2895480" y="5486400"/>
              <a:ext cx="121932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62520" y="2209680"/>
              <a:ext cx="48096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1800" y="4496400"/>
              <a:ext cx="1133640" cy="70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581280" y="3504960"/>
              <a:ext cx="639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3505320" y="5181120"/>
              <a:ext cx="1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886200" y="2209680"/>
            <a:ext cx="2514600" cy="3810240"/>
            <a:chOff x="3886200" y="2209680"/>
            <a:chExt cx="2514600" cy="3810240"/>
          </a:xfrm>
        </p:grpSpPr>
        <p:grpSp>
          <p:nvGrpSpPr>
            <p:cNvPr id="1676" name=""/>
            <p:cNvGrpSpPr/>
            <p:nvPr/>
          </p:nvGrpSpPr>
          <p:grpSpPr>
            <a:xfrm>
              <a:off x="4952880" y="4572000"/>
              <a:ext cx="1143000" cy="1447920"/>
              <a:chOff x="4952880" y="4572000"/>
              <a:chExt cx="1143000" cy="144792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5288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5715000"/>
                <a:ext cx="993960" cy="76320"/>
                <a:chOff x="4952880" y="5715000"/>
                <a:chExt cx="993960" cy="76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4952880" y="5715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91320" y="5715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870520" y="575316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4952880" y="4952880"/>
                <a:ext cx="993960" cy="76320"/>
                <a:chOff x="4952880" y="4952880"/>
                <a:chExt cx="993960" cy="763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495288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79132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870520" y="499104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4952880" y="5334120"/>
                <a:ext cx="993960" cy="75960"/>
                <a:chOff x="4952880" y="5334120"/>
                <a:chExt cx="993960" cy="759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4952880" y="5334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791320" y="5334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870520" y="537192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0" name=""/>
              <p:cNvSpPr/>
              <p:nvPr/>
            </p:nvSpPr>
            <p:spPr>
              <a:xfrm>
                <a:off x="571500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105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41008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986000" y="5028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l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3886200" y="4038480"/>
              <a:ext cx="1219320" cy="5335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008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1500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943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6095880" y="3504960"/>
              <a:ext cx="763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267800" y="3961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6095880" y="2209680"/>
            <a:ext cx="2133720" cy="3810240"/>
            <a:chOff x="6095880" y="2209680"/>
            <a:chExt cx="2133720" cy="3810240"/>
          </a:xfrm>
        </p:grpSpPr>
        <p:grpSp>
          <p:nvGrpSpPr>
            <p:cNvPr id="1701" name=""/>
            <p:cNvGrpSpPr/>
            <p:nvPr/>
          </p:nvGrpSpPr>
          <p:grpSpPr>
            <a:xfrm>
              <a:off x="6629400" y="4572000"/>
              <a:ext cx="1143000" cy="1447920"/>
              <a:chOff x="6629400" y="4572000"/>
              <a:chExt cx="1143000" cy="1447920"/>
            </a:xfrm>
          </p:grpSpPr>
          <p:sp>
            <p:nvSpPr>
              <p:cNvPr id="1702" name=""/>
              <p:cNvSpPr/>
              <p:nvPr/>
            </p:nvSpPr>
            <p:spPr>
              <a:xfrm>
                <a:off x="662940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3" name=""/>
              <p:cNvGrpSpPr/>
              <p:nvPr/>
            </p:nvGrpSpPr>
            <p:grpSpPr>
              <a:xfrm>
                <a:off x="6629400" y="5715000"/>
                <a:ext cx="993240" cy="76320"/>
                <a:chOff x="6629400" y="5715000"/>
                <a:chExt cx="993240" cy="763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6629400" y="57150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7467480" y="57150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546680" y="575316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6629400" y="4952880"/>
                <a:ext cx="993240" cy="76320"/>
                <a:chOff x="6629400" y="4952880"/>
                <a:chExt cx="993240" cy="763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6629400" y="49528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467480" y="49528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546680" y="499104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6629400" y="5334120"/>
                <a:ext cx="993240" cy="75960"/>
                <a:chOff x="6629400" y="5334120"/>
                <a:chExt cx="993240" cy="7596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6629400" y="53341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7467480" y="53341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7546680" y="53719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7391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78168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8660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82400" y="502812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9" name=""/>
            <p:cNvSpPr/>
            <p:nvPr/>
          </p:nvSpPr>
          <p:spPr>
            <a:xfrm>
              <a:off x="7086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724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5880" y="4191120"/>
              <a:ext cx="685800" cy="3808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9152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7772400" y="3504960"/>
              <a:ext cx="2286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48880" y="403776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534960" y="2659680"/>
            <a:ext cx="246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  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V v3,v1,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v5, v3,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76520" y="2971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676520" y="34290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 Advant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04920" y="3884760"/>
            <a:ext cx="8534160" cy="2230200"/>
            <a:chOff x="304920" y="3884760"/>
            <a:chExt cx="8534160" cy="2230200"/>
          </a:xfrm>
        </p:grpSpPr>
        <p:sp>
          <p:nvSpPr>
            <p:cNvPr id="1730" name=""/>
            <p:cNvSpPr/>
            <p:nvPr/>
          </p:nvSpPr>
          <p:spPr>
            <a:xfrm>
              <a:off x="304920" y="388476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 chaining, can start dependent instruction as soon as first result app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1295280" y="4952880"/>
              <a:ext cx="3276720" cy="1162080"/>
              <a:chOff x="1295280" y="4952880"/>
              <a:chExt cx="3276720" cy="1162080"/>
            </a:xfrm>
          </p:grpSpPr>
          <p:sp>
            <p:nvSpPr>
              <p:cNvPr id="1732" name=""/>
              <p:cNvSpPr/>
              <p:nvPr/>
            </p:nvSpPr>
            <p:spPr>
              <a:xfrm>
                <a:off x="1295280" y="4952880"/>
                <a:ext cx="2438640" cy="381240"/>
              </a:xfrm>
              <a:prstGeom prst="rect">
                <a:avLst/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752480" y="5334120"/>
                <a:ext cx="2438640" cy="380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M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133720" y="5715000"/>
                <a:ext cx="2438280" cy="39996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5" name=""/>
          <p:cNvGrpSpPr/>
          <p:nvPr/>
        </p:nvGrpSpPr>
        <p:grpSpPr>
          <a:xfrm>
            <a:off x="304920" y="1294200"/>
            <a:ext cx="8534160" cy="2153880"/>
            <a:chOff x="304920" y="1294200"/>
            <a:chExt cx="8534160" cy="2153880"/>
          </a:xfrm>
        </p:grpSpPr>
        <p:grpSp>
          <p:nvGrpSpPr>
            <p:cNvPr id="1736" name=""/>
            <p:cNvGrpSpPr/>
            <p:nvPr/>
          </p:nvGrpSpPr>
          <p:grpSpPr>
            <a:xfrm>
              <a:off x="990720" y="2286000"/>
              <a:ext cx="7315200" cy="1162080"/>
              <a:chOff x="990720" y="2286000"/>
              <a:chExt cx="7315200" cy="1162080"/>
            </a:xfrm>
          </p:grpSpPr>
          <p:grpSp>
            <p:nvGrpSpPr>
              <p:cNvPr id="1737" name=""/>
              <p:cNvGrpSpPr/>
              <p:nvPr/>
            </p:nvGrpSpPr>
            <p:grpSpPr>
              <a:xfrm>
                <a:off x="990720" y="2286000"/>
                <a:ext cx="7315200" cy="1162080"/>
                <a:chOff x="990720" y="2286000"/>
                <a:chExt cx="7315200" cy="116208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990720" y="2286000"/>
                  <a:ext cx="2438280" cy="380880"/>
                </a:xfrm>
                <a:prstGeom prst="rect">
                  <a:avLst/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o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429000" y="2666880"/>
                  <a:ext cx="2438280" cy="3812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Mu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867280" y="3048120"/>
                  <a:ext cx="2438640" cy="399960"/>
                </a:xfrm>
                <a:prstGeom prst="rect">
                  <a:avLst/>
                </a:prstGeom>
                <a:solidFill>
                  <a:srgbClr val="fc012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1747440" y="3000960"/>
                <a:ext cx="1300680" cy="398880"/>
                <a:chOff x="1747440" y="3000960"/>
                <a:chExt cx="1300680" cy="39888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2514600" y="320040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747440" y="3000960"/>
                  <a:ext cx="77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4" name=""/>
            <p:cNvSpPr/>
            <p:nvPr/>
          </p:nvSpPr>
          <p:spPr>
            <a:xfrm>
              <a:off x="304920" y="129420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out chaining, must wait for last element of result to be written before starting dependent 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ar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682920"/>
            <a:ext cx="7924680" cy="13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mponents of vector startup pen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unit latency (time through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time or recovery time (time before another vector instruction can start down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685800" y="2819520"/>
            <a:ext cx="1904760" cy="380880"/>
            <a:chOff x="685800" y="2819520"/>
            <a:chExt cx="1904760" cy="380880"/>
          </a:xfrm>
        </p:grpSpPr>
        <p:sp>
          <p:nvSpPr>
            <p:cNvPr id="1748" name=""/>
            <p:cNvSpPr/>
            <p:nvPr/>
          </p:nvSpPr>
          <p:spPr>
            <a:xfrm>
              <a:off x="685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6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4475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28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09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1066680" y="3200400"/>
            <a:ext cx="1904760" cy="380880"/>
            <a:chOff x="1066680" y="3200400"/>
            <a:chExt cx="1904760" cy="380880"/>
          </a:xfrm>
        </p:grpSpPr>
        <p:sp>
          <p:nvSpPr>
            <p:cNvPr id="1754" name=""/>
            <p:cNvSpPr/>
            <p:nvPr/>
          </p:nvSpPr>
          <p:spPr>
            <a:xfrm>
              <a:off x="1066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47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284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09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590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1447920" y="3581280"/>
            <a:ext cx="1904760" cy="380880"/>
            <a:chOff x="1447920" y="3581280"/>
            <a:chExt cx="1904760" cy="380880"/>
          </a:xfrm>
        </p:grpSpPr>
        <p:sp>
          <p:nvSpPr>
            <p:cNvPr id="1760" name=""/>
            <p:cNvSpPr/>
            <p:nvPr/>
          </p:nvSpPr>
          <p:spPr>
            <a:xfrm>
              <a:off x="1447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28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09680" y="3581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590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971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1828800" y="3962520"/>
            <a:ext cx="1904760" cy="380880"/>
            <a:chOff x="1828800" y="3962520"/>
            <a:chExt cx="1904760" cy="380880"/>
          </a:xfrm>
        </p:grpSpPr>
        <p:sp>
          <p:nvSpPr>
            <p:cNvPr id="1766" name=""/>
            <p:cNvSpPr/>
            <p:nvPr/>
          </p:nvSpPr>
          <p:spPr>
            <a:xfrm>
              <a:off x="1828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09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90560" y="3962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971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52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2209680" y="4343400"/>
            <a:ext cx="1904760" cy="380880"/>
            <a:chOff x="2209680" y="4343400"/>
            <a:chExt cx="1904760" cy="380880"/>
          </a:xfrm>
        </p:grpSpPr>
        <p:sp>
          <p:nvSpPr>
            <p:cNvPr id="1772" name=""/>
            <p:cNvSpPr/>
            <p:nvPr/>
          </p:nvSpPr>
          <p:spPr>
            <a:xfrm>
              <a:off x="2209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590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971440" y="434340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52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733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2590920" y="4724280"/>
            <a:ext cx="1904760" cy="380880"/>
            <a:chOff x="2590920" y="4724280"/>
            <a:chExt cx="1904760" cy="380880"/>
          </a:xfrm>
        </p:grpSpPr>
        <p:sp>
          <p:nvSpPr>
            <p:cNvPr id="1778" name=""/>
            <p:cNvSpPr/>
            <p:nvPr/>
          </p:nvSpPr>
          <p:spPr>
            <a:xfrm>
              <a:off x="2590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971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352680" y="472428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733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14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971800" y="5105520"/>
            <a:ext cx="1904760" cy="380880"/>
            <a:chOff x="2971800" y="5105520"/>
            <a:chExt cx="1904760" cy="380880"/>
          </a:xfrm>
        </p:grpSpPr>
        <p:sp>
          <p:nvSpPr>
            <p:cNvPr id="1784" name=""/>
            <p:cNvSpPr/>
            <p:nvPr/>
          </p:nvSpPr>
          <p:spPr>
            <a:xfrm>
              <a:off x="2971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52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33560" y="5105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14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95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352680" y="5486400"/>
            <a:ext cx="1904760" cy="380880"/>
            <a:chOff x="3352680" y="5486400"/>
            <a:chExt cx="1904760" cy="380880"/>
          </a:xfrm>
        </p:grpSpPr>
        <p:sp>
          <p:nvSpPr>
            <p:cNvPr id="1790" name=""/>
            <p:cNvSpPr/>
            <p:nvPr/>
          </p:nvSpPr>
          <p:spPr>
            <a:xfrm>
              <a:off x="3352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733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114440" y="5486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95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876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3733920" y="5867280"/>
            <a:ext cx="1904760" cy="380880"/>
            <a:chOff x="3733920" y="5867280"/>
            <a:chExt cx="1904760" cy="380880"/>
          </a:xfrm>
        </p:grpSpPr>
        <p:sp>
          <p:nvSpPr>
            <p:cNvPr id="1796" name=""/>
            <p:cNvSpPr/>
            <p:nvPr/>
          </p:nvSpPr>
          <p:spPr>
            <a:xfrm>
              <a:off x="3733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114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495680" y="5867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876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57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4114800" y="6248520"/>
            <a:ext cx="1904760" cy="380880"/>
            <a:chOff x="4114800" y="6248520"/>
            <a:chExt cx="1904760" cy="380880"/>
          </a:xfrm>
        </p:grpSpPr>
        <p:sp>
          <p:nvSpPr>
            <p:cNvPr id="1802" name=""/>
            <p:cNvSpPr/>
            <p:nvPr/>
          </p:nvSpPr>
          <p:spPr>
            <a:xfrm>
              <a:off x="4114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495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76560" y="6248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57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638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6858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5909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8580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19400" y="2133360"/>
            <a:ext cx="247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Unit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828800" y="4419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5268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288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33640" y="57909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400800" y="2819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00800" y="3962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00800" y="5410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400800" y="655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23888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238880" y="3962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38880" y="5410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026400" y="320004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First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33600" y="579096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econd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32640" y="44953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 Time and Short V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914400" y="1371600"/>
            <a:ext cx="304920" cy="304920"/>
            <a:chOff x="914400" y="1371600"/>
            <a:chExt cx="304920" cy="304920"/>
          </a:xfrm>
        </p:grpSpPr>
        <p:sp>
          <p:nvSpPr>
            <p:cNvPr id="1827" name=""/>
            <p:cNvSpPr/>
            <p:nvPr/>
          </p:nvSpPr>
          <p:spPr>
            <a:xfrm>
              <a:off x="914400" y="13716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90720" y="1447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1219320" y="1371600"/>
            <a:ext cx="304560" cy="304920"/>
            <a:chOff x="1219320" y="1371600"/>
            <a:chExt cx="304560" cy="304920"/>
          </a:xfrm>
        </p:grpSpPr>
        <p:sp>
          <p:nvSpPr>
            <p:cNvPr id="1830" name=""/>
            <p:cNvSpPr/>
            <p:nvPr/>
          </p:nvSpPr>
          <p:spPr>
            <a:xfrm>
              <a:off x="1219320" y="13716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95280" y="14479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914400" y="1676520"/>
            <a:ext cx="304920" cy="304560"/>
            <a:chOff x="914400" y="1676520"/>
            <a:chExt cx="304920" cy="304560"/>
          </a:xfrm>
        </p:grpSpPr>
        <p:sp>
          <p:nvSpPr>
            <p:cNvPr id="1833" name=""/>
            <p:cNvSpPr/>
            <p:nvPr/>
          </p:nvSpPr>
          <p:spPr>
            <a:xfrm>
              <a:off x="914400" y="16765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90720" y="1752480"/>
              <a:ext cx="15228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1219320" y="1676520"/>
            <a:ext cx="304560" cy="304560"/>
            <a:chOff x="1219320" y="1676520"/>
            <a:chExt cx="304560" cy="304560"/>
          </a:xfrm>
        </p:grpSpPr>
        <p:sp>
          <p:nvSpPr>
            <p:cNvPr id="1836" name=""/>
            <p:cNvSpPr/>
            <p:nvPr/>
          </p:nvSpPr>
          <p:spPr>
            <a:xfrm>
              <a:off x="1219320" y="16765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95280" y="1752480"/>
              <a:ext cx="15192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914400" y="1981080"/>
            <a:ext cx="304920" cy="304920"/>
            <a:chOff x="914400" y="1981080"/>
            <a:chExt cx="304920" cy="304920"/>
          </a:xfrm>
        </p:grpSpPr>
        <p:sp>
          <p:nvSpPr>
            <p:cNvPr id="1839" name=""/>
            <p:cNvSpPr/>
            <p:nvPr/>
          </p:nvSpPr>
          <p:spPr>
            <a:xfrm>
              <a:off x="914400" y="198108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90720" y="2057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219320" y="1981080"/>
            <a:ext cx="304560" cy="304920"/>
            <a:chOff x="1219320" y="1981080"/>
            <a:chExt cx="304560" cy="304920"/>
          </a:xfrm>
        </p:grpSpPr>
        <p:sp>
          <p:nvSpPr>
            <p:cNvPr id="1842" name=""/>
            <p:cNvSpPr/>
            <p:nvPr/>
          </p:nvSpPr>
          <p:spPr>
            <a:xfrm>
              <a:off x="1219320" y="198108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95280" y="205740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914400" y="2286000"/>
            <a:ext cx="304920" cy="304920"/>
            <a:chOff x="914400" y="2286000"/>
            <a:chExt cx="304920" cy="304920"/>
          </a:xfrm>
        </p:grpSpPr>
        <p:sp>
          <p:nvSpPr>
            <p:cNvPr id="1845" name=""/>
            <p:cNvSpPr/>
            <p:nvPr/>
          </p:nvSpPr>
          <p:spPr>
            <a:xfrm>
              <a:off x="914400" y="22860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90720" y="23623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219320" y="2286000"/>
            <a:ext cx="304560" cy="304920"/>
            <a:chOff x="1219320" y="2286000"/>
            <a:chExt cx="304560" cy="304920"/>
          </a:xfrm>
        </p:grpSpPr>
        <p:sp>
          <p:nvSpPr>
            <p:cNvPr id="1848" name=""/>
            <p:cNvSpPr/>
            <p:nvPr/>
          </p:nvSpPr>
          <p:spPr>
            <a:xfrm>
              <a:off x="1219320" y="22860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295280" y="23623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914400" y="1143000"/>
            <a:ext cx="609480" cy="144792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0" y="0"/>
                </a:moveTo>
                <a:lnTo>
                  <a:pt x="0" y="912"/>
                </a:lnTo>
                <a:lnTo>
                  <a:pt x="384" y="912"/>
                </a:lnTo>
                <a:lnTo>
                  <a:pt x="384" y="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914400" y="2590920"/>
            <a:ext cx="304920" cy="304560"/>
            <a:chOff x="914400" y="2590920"/>
            <a:chExt cx="304920" cy="304560"/>
          </a:xfrm>
        </p:grpSpPr>
        <p:sp>
          <p:nvSpPr>
            <p:cNvPr id="1852" name=""/>
            <p:cNvSpPr/>
            <p:nvPr/>
          </p:nvSpPr>
          <p:spPr>
            <a:xfrm>
              <a:off x="914400" y="25909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990720" y="26668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1219320" y="2590920"/>
            <a:ext cx="304560" cy="304560"/>
            <a:chOff x="1219320" y="2590920"/>
            <a:chExt cx="304560" cy="304560"/>
          </a:xfrm>
        </p:grpSpPr>
        <p:sp>
          <p:nvSpPr>
            <p:cNvPr id="1855" name=""/>
            <p:cNvSpPr/>
            <p:nvPr/>
          </p:nvSpPr>
          <p:spPr>
            <a:xfrm>
              <a:off x="1219320" y="25909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95280" y="26668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914400" y="2895480"/>
            <a:ext cx="304920" cy="304920"/>
            <a:chOff x="914400" y="2895480"/>
            <a:chExt cx="304920" cy="304920"/>
          </a:xfrm>
        </p:grpSpPr>
        <p:sp>
          <p:nvSpPr>
            <p:cNvPr id="1858" name=""/>
            <p:cNvSpPr/>
            <p:nvPr/>
          </p:nvSpPr>
          <p:spPr>
            <a:xfrm>
              <a:off x="914400" y="289548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90720" y="297180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1219320" y="2895480"/>
            <a:ext cx="304560" cy="304920"/>
            <a:chOff x="1219320" y="2895480"/>
            <a:chExt cx="304560" cy="304920"/>
          </a:xfrm>
        </p:grpSpPr>
        <p:sp>
          <p:nvSpPr>
            <p:cNvPr id="1861" name=""/>
            <p:cNvSpPr/>
            <p:nvPr/>
          </p:nvSpPr>
          <p:spPr>
            <a:xfrm>
              <a:off x="1219320" y="289548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95280" y="297180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914400" y="3200400"/>
            <a:ext cx="304920" cy="304920"/>
            <a:chOff x="914400" y="3200400"/>
            <a:chExt cx="304920" cy="304920"/>
          </a:xfrm>
        </p:grpSpPr>
        <p:sp>
          <p:nvSpPr>
            <p:cNvPr id="1864" name=""/>
            <p:cNvSpPr/>
            <p:nvPr/>
          </p:nvSpPr>
          <p:spPr>
            <a:xfrm>
              <a:off x="914400" y="320040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90720" y="327672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1219320" y="3200400"/>
            <a:ext cx="304560" cy="304920"/>
            <a:chOff x="1219320" y="3200400"/>
            <a:chExt cx="304560" cy="304920"/>
          </a:xfrm>
        </p:grpSpPr>
        <p:sp>
          <p:nvSpPr>
            <p:cNvPr id="1867" name=""/>
            <p:cNvSpPr/>
            <p:nvPr/>
          </p:nvSpPr>
          <p:spPr>
            <a:xfrm>
              <a:off x="1219320" y="320040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5280" y="327672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914400" y="3505320"/>
            <a:ext cx="304920" cy="304560"/>
            <a:chOff x="914400" y="3505320"/>
            <a:chExt cx="304920" cy="304560"/>
          </a:xfrm>
        </p:grpSpPr>
        <p:sp>
          <p:nvSpPr>
            <p:cNvPr id="1870" name=""/>
            <p:cNvSpPr/>
            <p:nvPr/>
          </p:nvSpPr>
          <p:spPr>
            <a:xfrm>
              <a:off x="914400" y="35053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90720" y="35812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1219320" y="3505320"/>
            <a:ext cx="304560" cy="304560"/>
            <a:chOff x="1219320" y="3505320"/>
            <a:chExt cx="304560" cy="304560"/>
          </a:xfrm>
        </p:grpSpPr>
        <p:sp>
          <p:nvSpPr>
            <p:cNvPr id="1873" name=""/>
            <p:cNvSpPr/>
            <p:nvPr/>
          </p:nvSpPr>
          <p:spPr>
            <a:xfrm>
              <a:off x="1219320" y="35053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95280" y="35812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914400" y="3809880"/>
            <a:ext cx="304920" cy="304560"/>
            <a:chOff x="914400" y="3809880"/>
            <a:chExt cx="304920" cy="304560"/>
          </a:xfrm>
        </p:grpSpPr>
        <p:sp>
          <p:nvSpPr>
            <p:cNvPr id="1876" name=""/>
            <p:cNvSpPr/>
            <p:nvPr/>
          </p:nvSpPr>
          <p:spPr>
            <a:xfrm>
              <a:off x="914400" y="3809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990720" y="3885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219320" y="3809880"/>
            <a:ext cx="304560" cy="304560"/>
            <a:chOff x="1219320" y="3809880"/>
            <a:chExt cx="304560" cy="304560"/>
          </a:xfrm>
        </p:grpSpPr>
        <p:sp>
          <p:nvSpPr>
            <p:cNvPr id="1879" name=""/>
            <p:cNvSpPr/>
            <p:nvPr/>
          </p:nvSpPr>
          <p:spPr>
            <a:xfrm>
              <a:off x="1219320" y="3809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95280" y="3885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1219320" y="4114800"/>
            <a:ext cx="304560" cy="304560"/>
            <a:chOff x="1219320" y="4114800"/>
            <a:chExt cx="304560" cy="304560"/>
          </a:xfrm>
        </p:grpSpPr>
        <p:sp>
          <p:nvSpPr>
            <p:cNvPr id="1882" name=""/>
            <p:cNvSpPr/>
            <p:nvPr/>
          </p:nvSpPr>
          <p:spPr>
            <a:xfrm>
              <a:off x="1219320" y="4114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95280" y="4190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914400" y="4114800"/>
            <a:ext cx="304920" cy="304560"/>
            <a:chOff x="914400" y="4114800"/>
            <a:chExt cx="304920" cy="304560"/>
          </a:xfrm>
        </p:grpSpPr>
        <p:sp>
          <p:nvSpPr>
            <p:cNvPr id="1885" name=""/>
            <p:cNvSpPr/>
            <p:nvPr/>
          </p:nvSpPr>
          <p:spPr>
            <a:xfrm>
              <a:off x="914400" y="4114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90720" y="4190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1219320" y="4419720"/>
            <a:ext cx="304560" cy="304560"/>
            <a:chOff x="1219320" y="4419720"/>
            <a:chExt cx="304560" cy="304560"/>
          </a:xfrm>
        </p:grpSpPr>
        <p:sp>
          <p:nvSpPr>
            <p:cNvPr id="1888" name=""/>
            <p:cNvSpPr/>
            <p:nvPr/>
          </p:nvSpPr>
          <p:spPr>
            <a:xfrm>
              <a:off x="1219320" y="44197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95280" y="44956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914400" y="4419720"/>
            <a:ext cx="304920" cy="304560"/>
            <a:chOff x="914400" y="4419720"/>
            <a:chExt cx="304920" cy="304560"/>
          </a:xfrm>
        </p:grpSpPr>
        <p:sp>
          <p:nvSpPr>
            <p:cNvPr id="1891" name=""/>
            <p:cNvSpPr/>
            <p:nvPr/>
          </p:nvSpPr>
          <p:spPr>
            <a:xfrm>
              <a:off x="914400" y="44197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90720" y="44956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914400" y="4724280"/>
            <a:ext cx="304920" cy="304560"/>
            <a:chOff x="914400" y="4724280"/>
            <a:chExt cx="304920" cy="304560"/>
          </a:xfrm>
        </p:grpSpPr>
        <p:sp>
          <p:nvSpPr>
            <p:cNvPr id="1894" name=""/>
            <p:cNvSpPr/>
            <p:nvPr/>
          </p:nvSpPr>
          <p:spPr>
            <a:xfrm>
              <a:off x="914400" y="47242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990720" y="48002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1219320" y="4724280"/>
            <a:ext cx="304560" cy="304560"/>
            <a:chOff x="1219320" y="4724280"/>
            <a:chExt cx="304560" cy="304560"/>
          </a:xfrm>
        </p:grpSpPr>
        <p:sp>
          <p:nvSpPr>
            <p:cNvPr id="1897" name=""/>
            <p:cNvSpPr/>
            <p:nvPr/>
          </p:nvSpPr>
          <p:spPr>
            <a:xfrm>
              <a:off x="1219320" y="47242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295280" y="48002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1219320" y="5029200"/>
            <a:ext cx="304560" cy="304560"/>
            <a:chOff x="1219320" y="5029200"/>
            <a:chExt cx="304560" cy="304560"/>
          </a:xfrm>
        </p:grpSpPr>
        <p:sp>
          <p:nvSpPr>
            <p:cNvPr id="1900" name=""/>
            <p:cNvSpPr/>
            <p:nvPr/>
          </p:nvSpPr>
          <p:spPr>
            <a:xfrm>
              <a:off x="1219320" y="50292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295280" y="51051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914400" y="5029200"/>
            <a:ext cx="304920" cy="304560"/>
            <a:chOff x="914400" y="5029200"/>
            <a:chExt cx="304920" cy="304560"/>
          </a:xfrm>
        </p:grpSpPr>
        <p:sp>
          <p:nvSpPr>
            <p:cNvPr id="1903" name=""/>
            <p:cNvSpPr/>
            <p:nvPr/>
          </p:nvSpPr>
          <p:spPr>
            <a:xfrm>
              <a:off x="914400" y="50292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90720" y="51051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1219320" y="5334120"/>
            <a:ext cx="304560" cy="304560"/>
            <a:chOff x="1219320" y="5334120"/>
            <a:chExt cx="304560" cy="304560"/>
          </a:xfrm>
        </p:grpSpPr>
        <p:sp>
          <p:nvSpPr>
            <p:cNvPr id="1906" name=""/>
            <p:cNvSpPr/>
            <p:nvPr/>
          </p:nvSpPr>
          <p:spPr>
            <a:xfrm>
              <a:off x="1219320" y="53341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95280" y="54100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914400" y="5334120"/>
            <a:ext cx="304920" cy="304560"/>
            <a:chOff x="914400" y="5334120"/>
            <a:chExt cx="304920" cy="304560"/>
          </a:xfrm>
        </p:grpSpPr>
        <p:sp>
          <p:nvSpPr>
            <p:cNvPr id="1909" name=""/>
            <p:cNvSpPr/>
            <p:nvPr/>
          </p:nvSpPr>
          <p:spPr>
            <a:xfrm>
              <a:off x="914400" y="53341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90720" y="54100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914400" y="3809880"/>
            <a:ext cx="609480" cy="2133720"/>
          </a:xfrm>
          <a:custGeom>
            <a:avLst/>
            <a:gdLst/>
            <a:ahLst/>
            <a:rect l="l" t="t" r="r" b="b"/>
            <a:pathLst>
              <a:path w="384" h="1344">
                <a:moveTo>
                  <a:pt x="0" y="1296"/>
                </a:moveTo>
                <a:lnTo>
                  <a:pt x="0" y="0"/>
                </a:lnTo>
                <a:lnTo>
                  <a:pt x="384" y="0"/>
                </a:lnTo>
                <a:lnTo>
                  <a:pt x="384" y="13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09680" y="5486400"/>
            <a:ext cx="2819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ray C90, Two 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 cycle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ximum efficiency 94% with 128 elemen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75248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832760" y="304776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cycles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4690440" y="2209680"/>
            <a:ext cx="4301280" cy="2007000"/>
            <a:chOff x="4690440" y="2209680"/>
            <a:chExt cx="4301280" cy="2007000"/>
          </a:xfrm>
        </p:grpSpPr>
        <p:grpSp>
          <p:nvGrpSpPr>
            <p:cNvPr id="1918" name=""/>
            <p:cNvGrpSpPr/>
            <p:nvPr/>
          </p:nvGrpSpPr>
          <p:grpSpPr>
            <a:xfrm>
              <a:off x="6400800" y="2209680"/>
              <a:ext cx="2438280" cy="609480"/>
              <a:chOff x="6400800" y="2209680"/>
              <a:chExt cx="2438280" cy="60948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6400800" y="2209680"/>
                <a:ext cx="304920" cy="304560"/>
                <a:chOff x="6400800" y="2209680"/>
                <a:chExt cx="304920" cy="30456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64008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4771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6705720" y="2209680"/>
                <a:ext cx="304560" cy="304560"/>
                <a:chOff x="6705720" y="2209680"/>
                <a:chExt cx="304560" cy="3045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67057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7816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7620120" y="2209680"/>
                <a:ext cx="304560" cy="304560"/>
                <a:chOff x="7620120" y="2209680"/>
                <a:chExt cx="304560" cy="3045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76201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76960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7924680" y="2209680"/>
                <a:ext cx="304920" cy="304560"/>
                <a:chOff x="7924680" y="2209680"/>
                <a:chExt cx="304920" cy="30456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79246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0010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7010280" y="2209680"/>
                <a:ext cx="304920" cy="304560"/>
                <a:chOff x="7010280" y="2209680"/>
                <a:chExt cx="304920" cy="3045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70102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0866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7315200" y="2209680"/>
                <a:ext cx="304920" cy="304560"/>
                <a:chOff x="7315200" y="2209680"/>
                <a:chExt cx="304920" cy="30456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73152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3915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8229600" y="2209680"/>
                <a:ext cx="304920" cy="304560"/>
                <a:chOff x="8229600" y="2209680"/>
                <a:chExt cx="304920" cy="3045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82296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83059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8534520" y="2209680"/>
                <a:ext cx="304560" cy="304560"/>
                <a:chOff x="8534520" y="2209680"/>
                <a:chExt cx="304560" cy="30456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85345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86104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>
                <a:off x="6400800" y="2209680"/>
                <a:ext cx="2438280" cy="304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4" name=""/>
              <p:cNvGrpSpPr/>
              <p:nvPr/>
            </p:nvGrpSpPr>
            <p:grpSpPr>
              <a:xfrm>
                <a:off x="6400800" y="2514240"/>
                <a:ext cx="304920" cy="304560"/>
                <a:chOff x="6400800" y="2514240"/>
                <a:chExt cx="304920" cy="30456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64008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4771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6705720" y="2514240"/>
                <a:ext cx="304560" cy="304560"/>
                <a:chOff x="6705720" y="2514240"/>
                <a:chExt cx="304560" cy="30456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67057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7816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7010280" y="2514240"/>
                <a:ext cx="304920" cy="304560"/>
                <a:chOff x="7010280" y="2514240"/>
                <a:chExt cx="304920" cy="30456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70102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0866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7315200" y="2514240"/>
                <a:ext cx="304920" cy="304560"/>
                <a:chOff x="7315200" y="2514240"/>
                <a:chExt cx="304920" cy="3045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73152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3915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7620120" y="2514240"/>
                <a:ext cx="304560" cy="304560"/>
                <a:chOff x="7620120" y="2514240"/>
                <a:chExt cx="304560" cy="30456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76201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76960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7924680" y="2514240"/>
                <a:ext cx="304920" cy="304560"/>
                <a:chOff x="7924680" y="2514240"/>
                <a:chExt cx="304920" cy="3045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79246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80010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8229600" y="2514240"/>
                <a:ext cx="304920" cy="304560"/>
                <a:chOff x="8229600" y="2514240"/>
                <a:chExt cx="304920" cy="30456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82296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83059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8534520" y="2514240"/>
                <a:ext cx="304560" cy="304560"/>
                <a:chOff x="8534520" y="2514240"/>
                <a:chExt cx="304560" cy="3045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85345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86104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"/>
              <p:cNvSpPr/>
              <p:nvPr/>
            </p:nvSpPr>
            <p:spPr>
              <a:xfrm>
                <a:off x="6400800" y="2514240"/>
                <a:ext cx="2438280" cy="304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9" name=""/>
            <p:cNvSpPr/>
            <p:nvPr/>
          </p:nvSpPr>
          <p:spPr>
            <a:xfrm>
              <a:off x="5791320" y="3047760"/>
              <a:ext cx="320040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0, Eight la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100% efficiency with 8 element ve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690440" y="2361960"/>
              <a:ext cx="145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72200" y="2514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1219320" y="6095880"/>
            <a:ext cx="304560" cy="304560"/>
            <a:chOff x="1219320" y="6095880"/>
            <a:chExt cx="304560" cy="304560"/>
          </a:xfrm>
        </p:grpSpPr>
        <p:sp>
          <p:nvSpPr>
            <p:cNvPr id="1973" name=""/>
            <p:cNvSpPr/>
            <p:nvPr/>
          </p:nvSpPr>
          <p:spPr>
            <a:xfrm>
              <a:off x="1219320" y="6095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95280" y="6171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914400" y="6095880"/>
            <a:ext cx="304920" cy="304560"/>
            <a:chOff x="914400" y="6095880"/>
            <a:chExt cx="304920" cy="304560"/>
          </a:xfrm>
        </p:grpSpPr>
        <p:sp>
          <p:nvSpPr>
            <p:cNvPr id="1976" name=""/>
            <p:cNvSpPr/>
            <p:nvPr/>
          </p:nvSpPr>
          <p:spPr>
            <a:xfrm>
              <a:off x="914400" y="6095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990720" y="6171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219320" y="6400800"/>
            <a:ext cx="304560" cy="304560"/>
            <a:chOff x="1219320" y="6400800"/>
            <a:chExt cx="304560" cy="304560"/>
          </a:xfrm>
        </p:grpSpPr>
        <p:sp>
          <p:nvSpPr>
            <p:cNvPr id="1979" name=""/>
            <p:cNvSpPr/>
            <p:nvPr/>
          </p:nvSpPr>
          <p:spPr>
            <a:xfrm>
              <a:off x="1219320" y="6400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95280" y="6476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914400" y="6400800"/>
            <a:ext cx="304920" cy="304560"/>
            <a:chOff x="914400" y="6400800"/>
            <a:chExt cx="304920" cy="304560"/>
          </a:xfrm>
        </p:grpSpPr>
        <p:sp>
          <p:nvSpPr>
            <p:cNvPr id="1982" name=""/>
            <p:cNvSpPr/>
            <p:nvPr/>
          </p:nvSpPr>
          <p:spPr>
            <a:xfrm>
              <a:off x="914400" y="6400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90720" y="6476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914400" y="5943600"/>
            <a:ext cx="6094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0" y="480"/>
                </a:lnTo>
                <a:lnTo>
                  <a:pt x="384" y="480"/>
                </a:lnTo>
                <a:lnTo>
                  <a:pt x="384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600200" y="6705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752480" y="380988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832040" y="48765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cycles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533520" y="1642680"/>
            <a:ext cx="8229600" cy="39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vectorize loops with indirect acces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 + C[D[i]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ed load instru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D, rD       # Load indices in D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I vC, rC, vD  # Load indirect from rC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B, rB       # Load B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A, vB, vC # Do a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A, rA       # Stor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235080" y="1347120"/>
            <a:ext cx="8686800" cy="45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tte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B[i]]++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following a correct transl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 vB, rB       # Load indices in B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I vA, rA, vB  # Gather initial A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V vA, vA, 1  # Inc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VI vA, rA, vB  # Scatter incremented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nditional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57200" y="1035720"/>
            <a:ext cx="830268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Want to vectorize loops with conditional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[i]&gt;0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Add vect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version of predicate registers, 1 bit per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ctor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operation becomes NOP at elements where mask bit is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VM             # Turn on all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A       # Load entire A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GTVS.D vA, F0  # Set bits in mask register where A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Load B vector into A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 vA, r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Store A back to memory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ked Vector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4267080" y="1065240"/>
            <a:ext cx="4724640" cy="4148640"/>
            <a:chOff x="4267080" y="1065240"/>
            <a:chExt cx="4724640" cy="4148640"/>
          </a:xfrm>
        </p:grpSpPr>
        <p:grpSp>
          <p:nvGrpSpPr>
            <p:cNvPr id="1997" name=""/>
            <p:cNvGrpSpPr/>
            <p:nvPr/>
          </p:nvGrpSpPr>
          <p:grpSpPr>
            <a:xfrm>
              <a:off x="4879440" y="2209320"/>
              <a:ext cx="3767040" cy="3004560"/>
              <a:chOff x="4879440" y="2209320"/>
              <a:chExt cx="3767040" cy="3004560"/>
            </a:xfrm>
          </p:grpSpPr>
          <p:sp>
            <p:nvSpPr>
              <p:cNvPr id="1998" name=""/>
              <p:cNvSpPr/>
              <p:nvPr/>
            </p:nvSpPr>
            <p:spPr>
              <a:xfrm>
                <a:off x="6705720" y="32004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"/>
              <p:cNvGrpSpPr/>
              <p:nvPr/>
            </p:nvGrpSpPr>
            <p:grpSpPr>
              <a:xfrm>
                <a:off x="6705720" y="4114800"/>
                <a:ext cx="993240" cy="76320"/>
                <a:chOff x="6705720" y="4114800"/>
                <a:chExt cx="993240" cy="763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6705720" y="41148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543800" y="41148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623000" y="41529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3" name=""/>
              <p:cNvGrpSpPr/>
              <p:nvPr/>
            </p:nvGrpSpPr>
            <p:grpSpPr>
              <a:xfrm>
                <a:off x="6705720" y="3352680"/>
                <a:ext cx="993240" cy="76320"/>
                <a:chOff x="6705720" y="3352680"/>
                <a:chExt cx="993240" cy="7632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6705720" y="33526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543800" y="33526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623000" y="33908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6705720" y="3733920"/>
                <a:ext cx="993240" cy="75960"/>
                <a:chOff x="6705720" y="3733920"/>
                <a:chExt cx="993240" cy="7596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705720" y="37339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543800" y="37339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7623000" y="377172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1" name=""/>
              <p:cNvSpPr/>
              <p:nvPr/>
            </p:nvSpPr>
            <p:spPr>
              <a:xfrm>
                <a:off x="6860880" y="3733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860880" y="3352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186320" y="4495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183440" y="426708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46748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85800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036200" y="487656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4796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1654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87944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87944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7944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7944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79440" y="37335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879440" y="40381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879440" y="43430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87944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715000" y="4191120"/>
                <a:ext cx="129528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638680" y="3276720"/>
                <a:ext cx="106704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38680" y="2971800"/>
                <a:ext cx="914400" cy="60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15000" y="2438280"/>
                <a:ext cx="76212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"/>
            <p:cNvSpPr/>
            <p:nvPr/>
          </p:nvSpPr>
          <p:spPr>
            <a:xfrm>
              <a:off x="4267080" y="1065240"/>
              <a:ext cx="47246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nsity-Tim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an mask vector and only execute elements with non-zero ma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-380880" y="1065240"/>
            <a:ext cx="4952880" cy="4986720"/>
            <a:chOff x="-380880" y="1065240"/>
            <a:chExt cx="4952880" cy="4986720"/>
          </a:xfrm>
        </p:grpSpPr>
        <p:grpSp>
          <p:nvGrpSpPr>
            <p:cNvPr id="2034" name=""/>
            <p:cNvGrpSpPr/>
            <p:nvPr/>
          </p:nvGrpSpPr>
          <p:grpSpPr>
            <a:xfrm>
              <a:off x="536040" y="2209320"/>
              <a:ext cx="3060720" cy="3842640"/>
              <a:chOff x="536040" y="2209320"/>
              <a:chExt cx="3060720" cy="3842640"/>
            </a:xfrm>
          </p:grpSpPr>
          <p:sp>
            <p:nvSpPr>
              <p:cNvPr id="2035" name=""/>
              <p:cNvSpPr/>
              <p:nvPr/>
            </p:nvSpPr>
            <p:spPr>
              <a:xfrm>
                <a:off x="1655640" y="4038480"/>
                <a:ext cx="914400" cy="106704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6" name=""/>
              <p:cNvGrpSpPr/>
              <p:nvPr/>
            </p:nvGrpSpPr>
            <p:grpSpPr>
              <a:xfrm>
                <a:off x="1655640" y="4952880"/>
                <a:ext cx="993960" cy="76320"/>
                <a:chOff x="1655640" y="4952880"/>
                <a:chExt cx="993960" cy="7632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165564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49408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573280" y="49910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1655640" y="4191120"/>
                <a:ext cx="993960" cy="75960"/>
                <a:chOff x="1655640" y="4191120"/>
                <a:chExt cx="993960" cy="7596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1655640" y="4191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494080" y="4191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573280" y="422892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1655640" y="4572000"/>
                <a:ext cx="993960" cy="76320"/>
                <a:chOff x="1655640" y="4572000"/>
                <a:chExt cx="993960" cy="7632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1655640" y="4572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494080" y="4572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573280" y="46101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"/>
              <p:cNvSpPr/>
              <p:nvPr/>
            </p:nvSpPr>
            <p:spPr>
              <a:xfrm>
                <a:off x="1810800" y="4571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10800" y="4190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136240" y="5333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133720" y="510552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41776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0828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4299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1157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4299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1157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4299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1157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4299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1157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200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1200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1200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1200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12000" y="4190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12000" y="4571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12000" y="5333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447920" y="5486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240" h="19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986480" y="571464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36040" y="5714640"/>
                <a:ext cx="140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En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299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1157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1200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"/>
            <p:cNvSpPr/>
            <p:nvPr/>
          </p:nvSpPr>
          <p:spPr>
            <a:xfrm>
              <a:off x="-380880" y="1065240"/>
              <a:ext cx="495288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mpl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cute all N operations, turn off result writeback according to m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ss/Expand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80520" y="680040"/>
            <a:ext cx="81536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 packs non-masked elements from one vector register contiguously at start of destination vector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count of mask vector gives packed vector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performs invers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1985040" y="2744280"/>
            <a:ext cx="1717200" cy="2470680"/>
            <a:chOff x="1985040" y="2744280"/>
            <a:chExt cx="1717200" cy="2470680"/>
          </a:xfrm>
        </p:grpSpPr>
        <p:grpSp>
          <p:nvGrpSpPr>
            <p:cNvPr id="2079" name=""/>
            <p:cNvGrpSpPr/>
            <p:nvPr/>
          </p:nvGrpSpPr>
          <p:grpSpPr>
            <a:xfrm>
              <a:off x="1985040" y="2744280"/>
              <a:ext cx="828360" cy="2470680"/>
              <a:chOff x="1985040" y="2744280"/>
              <a:chExt cx="828360" cy="2470680"/>
            </a:xfrm>
          </p:grpSpPr>
          <p:sp>
            <p:nvSpPr>
              <p:cNvPr id="2080" name=""/>
              <p:cNvSpPr/>
              <p:nvPr/>
            </p:nvSpPr>
            <p:spPr>
              <a:xfrm>
                <a:off x="1985040" y="39632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985040" y="36583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985040" y="33534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985040" y="30488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985040" y="42678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985040" y="45727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85040" y="48776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9850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2819520" y="2744280"/>
              <a:ext cx="882720" cy="2470680"/>
              <a:chOff x="2819520" y="2744280"/>
              <a:chExt cx="882720" cy="2470680"/>
            </a:xfrm>
          </p:grpSpPr>
          <p:grpSp>
            <p:nvGrpSpPr>
              <p:cNvPr id="2089" name=""/>
              <p:cNvGrpSpPr/>
              <p:nvPr/>
            </p:nvGrpSpPr>
            <p:grpSpPr>
              <a:xfrm>
                <a:off x="3128400" y="2744280"/>
                <a:ext cx="573840" cy="2470680"/>
                <a:chOff x="3128400" y="2744280"/>
                <a:chExt cx="573840" cy="2470680"/>
              </a:xfrm>
            </p:grpSpPr>
            <p:sp>
              <p:nvSpPr>
                <p:cNvPr id="2090" name=""/>
                <p:cNvSpPr/>
                <p:nvPr/>
              </p:nvSpPr>
              <p:spPr>
                <a:xfrm>
                  <a:off x="3128400" y="39632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3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28400" y="36583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4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3128400" y="33534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5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128400" y="30488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6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128400" y="274428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7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3128400" y="48776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0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3128400" y="45727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1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128400" y="42678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2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"/>
              <p:cNvSpPr/>
              <p:nvPr/>
            </p:nvSpPr>
            <p:spPr>
              <a:xfrm>
                <a:off x="2819520" y="47242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19520" y="38098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19520" y="350496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819520" y="28954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2" name=""/>
          <p:cNvGrpSpPr/>
          <p:nvPr/>
        </p:nvGrpSpPr>
        <p:grpSpPr>
          <a:xfrm>
            <a:off x="4649040" y="2744280"/>
            <a:ext cx="2507760" cy="2987640"/>
            <a:chOff x="4649040" y="2744280"/>
            <a:chExt cx="2507760" cy="2987640"/>
          </a:xfrm>
        </p:grpSpPr>
        <p:grpSp>
          <p:nvGrpSpPr>
            <p:cNvPr id="2103" name=""/>
            <p:cNvGrpSpPr/>
            <p:nvPr/>
          </p:nvGrpSpPr>
          <p:grpSpPr>
            <a:xfrm>
              <a:off x="6328440" y="2744280"/>
              <a:ext cx="828360" cy="2471040"/>
              <a:chOff x="6328440" y="2744280"/>
              <a:chExt cx="828360" cy="2471040"/>
            </a:xfrm>
          </p:grpSpPr>
          <p:sp>
            <p:nvSpPr>
              <p:cNvPr id="2104" name=""/>
              <p:cNvSpPr/>
              <p:nvPr/>
            </p:nvSpPr>
            <p:spPr>
              <a:xfrm>
                <a:off x="6328440" y="39636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328440" y="36586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328440" y="33541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328440" y="30492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328440" y="42685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328440" y="45730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328440" y="48780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3284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2" name=""/>
            <p:cNvGrpSpPr/>
            <p:nvPr/>
          </p:nvGrpSpPr>
          <p:grpSpPr>
            <a:xfrm>
              <a:off x="4649040" y="2744280"/>
              <a:ext cx="1675440" cy="2987640"/>
              <a:chOff x="4649040" y="2744280"/>
              <a:chExt cx="1675440" cy="2987640"/>
            </a:xfrm>
          </p:grpSpPr>
          <p:grpSp>
            <p:nvGrpSpPr>
              <p:cNvPr id="2113" name=""/>
              <p:cNvGrpSpPr/>
              <p:nvPr/>
            </p:nvGrpSpPr>
            <p:grpSpPr>
              <a:xfrm>
                <a:off x="4724280" y="2744280"/>
                <a:ext cx="1600200" cy="2471040"/>
                <a:chOff x="4724280" y="2744280"/>
                <a:chExt cx="1600200" cy="2471040"/>
              </a:xfrm>
            </p:grpSpPr>
            <p:sp>
              <p:nvSpPr>
                <p:cNvPr id="2114" name=""/>
                <p:cNvSpPr/>
                <p:nvPr/>
              </p:nvSpPr>
              <p:spPr>
                <a:xfrm flipV="1">
                  <a:off x="4800600" y="2895840"/>
                  <a:ext cx="609480" cy="1218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4800600" y="3505320"/>
                  <a:ext cx="60948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4724280" y="3810240"/>
                  <a:ext cx="68580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V="1">
                  <a:off x="4800600" y="4724640"/>
                  <a:ext cx="60948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8" name=""/>
                <p:cNvGrpSpPr/>
                <p:nvPr/>
              </p:nvGrpSpPr>
              <p:grpSpPr>
                <a:xfrm>
                  <a:off x="5414400" y="2744280"/>
                  <a:ext cx="910080" cy="2471040"/>
                  <a:chOff x="5414400" y="2744280"/>
                  <a:chExt cx="910080" cy="2471040"/>
                </a:xfrm>
              </p:grpSpPr>
              <p:grpSp>
                <p:nvGrpSpPr>
                  <p:cNvPr id="2119" name=""/>
                  <p:cNvGrpSpPr/>
                  <p:nvPr/>
                </p:nvGrpSpPr>
                <p:grpSpPr>
                  <a:xfrm>
                    <a:off x="5414400" y="2744280"/>
                    <a:ext cx="573840" cy="2471040"/>
                    <a:chOff x="5414400" y="2744280"/>
                    <a:chExt cx="573840" cy="2471040"/>
                  </a:xfrm>
                </p:grpSpPr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5414400" y="39636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5414400" y="36586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5414400" y="33541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5414400" y="30492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6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5414400" y="27442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7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5414400" y="48780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5414400" y="45730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"/>
                    <p:cNvSpPr/>
                    <p:nvPr/>
                  </p:nvSpPr>
                  <p:spPr>
                    <a:xfrm>
                      <a:off x="5414400" y="42685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8" name=""/>
                  <p:cNvSpPr/>
                  <p:nvPr/>
                </p:nvSpPr>
                <p:spPr>
                  <a:xfrm flipH="1">
                    <a:off x="6019920" y="47246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H="1">
                    <a:off x="6019920" y="38102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H="1">
                    <a:off x="6019920" y="350532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>
                    <a:off x="6019920" y="28958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2" name=""/>
              <p:cNvSpPr/>
              <p:nvPr/>
            </p:nvSpPr>
            <p:spPr>
              <a:xfrm>
                <a:off x="4649040" y="533304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3" name=""/>
          <p:cNvGrpSpPr/>
          <p:nvPr/>
        </p:nvGrpSpPr>
        <p:grpSpPr>
          <a:xfrm>
            <a:off x="3048480" y="2667960"/>
            <a:ext cx="1720800" cy="3063600"/>
            <a:chOff x="3048480" y="2667960"/>
            <a:chExt cx="1720800" cy="3063600"/>
          </a:xfrm>
        </p:grpSpPr>
        <p:sp>
          <p:nvSpPr>
            <p:cNvPr id="2134" name=""/>
            <p:cNvSpPr/>
            <p:nvPr/>
          </p:nvSpPr>
          <p:spPr>
            <a:xfrm>
              <a:off x="4195440" y="39632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195440" y="48776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5440" y="45727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195440" y="42681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4724280"/>
              <a:ext cx="4572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3920" y="380988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3920" y="350496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33920" y="2895480"/>
              <a:ext cx="457200" cy="129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8480" y="53326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mp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195440" y="26679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195440" y="35823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195440" y="32774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195440" y="29725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685800" y="5866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nsity-time conditionals and also for general selec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Red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90440" y="1202400"/>
            <a:ext cx="876312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Loop-carried dependence on reduc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;  # Loop-carried dependence on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Re-associate operations if possible, use binary tree to perform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arrange 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= 0                 # Vector of VL partial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 i&lt;N; i+=VL)            # Stripmine VL-sized chu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A[i:i+VL-1]; # Vect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ow have VL partial sums in one vect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L = VL/2;                    # Halve vector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sum[VL:2*VL-1] # Halve no. of part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VL&gt;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229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applic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search (nuclear weapons, cryptograp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design (car crash sim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volve huge computations on la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70s-80s, Supercomput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Vecto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dern Vector Super: NEC SX-6 (200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51920" y="835920"/>
            <a:ext cx="6629400" cy="56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 MHz CPU, fits on single c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RAM main memory (up to 64G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a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ay superscalar with out-of-order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KB I-cache and 64KB data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foreground VRegs + 64 background VRegs (256x64-bit elements/VRe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ultiply unit, 1 divide unit, 1 add/shift unit, 1 logical unit, 1 mask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lanes (8 GFLOPS peak, 16 FLOP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load &amp; store unit (32x8 byte accesse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GB/s memory bandwidth per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P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CPUs connected to memory through crossb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GB/s shared memory bandwidth (4096 interleaved ban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19098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Exten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304560" y="1263600"/>
            <a:ext cx="8631000" cy="46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hort vectors added to existing ISAs for mic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64-bit registers split into 2x32b or 4x16b or 8x8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r designs have 128-bit registers (Altivec, SSE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struction 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vector length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rided load/store or scatter/ga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-stride loads must be aligned to 64/128-bit bound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vector register leng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uperscalar dispatch to keep multiply/add/load units bu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 unrolling to hide latencies increases register pres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nd towards fuller vector support in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 Supercomput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pitomized by Cray-1, 1976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r Unit + Vector 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ire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Pipelined Functional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d Memory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ata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Virtu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ray1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86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01800"/>
            <a:ext cx="1753920" cy="4814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87600"/>
            <a:ext cx="18288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anks of 64-bit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bit SEC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MW/sec data load/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MW/sec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re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5720" y="57024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Instruction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60640" y="5143680"/>
            <a:ext cx="43200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55371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546084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9240" y="53848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5560" y="53085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0120" y="50925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5168880"/>
            <a:ext cx="8888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7840" y="524520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41520" y="53211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14160" y="5332320"/>
            <a:ext cx="95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-bitx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3440" y="56134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3440" y="54608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3440" y="530856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3440" y="515628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920" y="5321160"/>
            <a:ext cx="838440" cy="2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00520" y="52689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8920" y="5702400"/>
            <a:ext cx="812880" cy="20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0160" y="56498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999120" y="5268960"/>
            <a:ext cx="812520" cy="302040"/>
            <a:chOff x="6999120" y="5268960"/>
            <a:chExt cx="812520" cy="302040"/>
          </a:xfrm>
        </p:grpSpPr>
        <p:sp>
          <p:nvSpPr>
            <p:cNvPr id="78" name=""/>
            <p:cNvSpPr/>
            <p:nvPr/>
          </p:nvSpPr>
          <p:spPr>
            <a:xfrm>
              <a:off x="6999120" y="5321520"/>
              <a:ext cx="812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00360" y="526896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4560840" y="5295600"/>
            <a:ext cx="20340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71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55920" y="55371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2240" y="546084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08560" y="53974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4520" y="53085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18040" y="5397480"/>
            <a:ext cx="370080" cy="3700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373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9360" y="288432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03440" y="317664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32240" y="3035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31880" y="33289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19800" y="288288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03080" y="271944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8520" y="242568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79400" y="2836800"/>
            <a:ext cx="94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9360" y="433224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03440" y="462456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7800" y="447192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31880" y="47768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9800" y="433080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03080" y="416736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98520" y="387360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67520" y="4297320"/>
            <a:ext cx="96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89400" y="2319480"/>
            <a:ext cx="901800" cy="1307880"/>
            <a:chOff x="5189400" y="2319480"/>
            <a:chExt cx="901800" cy="1307880"/>
          </a:xfrm>
        </p:grpSpPr>
        <p:sp>
          <p:nvSpPr>
            <p:cNvPr id="105" name=""/>
            <p:cNvSpPr/>
            <p:nvPr/>
          </p:nvSpPr>
          <p:spPr>
            <a:xfrm>
              <a:off x="5195880" y="235116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9400" y="24908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9400" y="26431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2795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9400" y="2948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9400" y="3100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9400" y="3252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405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1200" y="23194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61200" y="24717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61200" y="26240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61200" y="27766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61200" y="29289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1200" y="3081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61200" y="32338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1200" y="33861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89400" y="3767040"/>
            <a:ext cx="901800" cy="1308240"/>
            <a:chOff x="5189400" y="3767040"/>
            <a:chExt cx="901800" cy="1308240"/>
          </a:xfrm>
        </p:grpSpPr>
        <p:sp>
          <p:nvSpPr>
            <p:cNvPr id="122" name=""/>
            <p:cNvSpPr/>
            <p:nvPr/>
          </p:nvSpPr>
          <p:spPr>
            <a:xfrm>
              <a:off x="5195880" y="379908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9400" y="3938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400" y="4091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9400" y="4243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9400" y="439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4548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9400" y="47005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9400" y="48531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60840" y="37670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60840" y="39196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60840" y="40719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0840" y="42242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0840" y="43768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60840" y="45291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60840" y="46814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0840" y="48340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24200" y="27306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26360" y="3035160"/>
            <a:ext cx="37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24200" y="417816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27080" y="4483080"/>
            <a:ext cx="39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05560" y="1969920"/>
            <a:ext cx="965160" cy="8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42280" y="196848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1560" y="22734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1200" y="2577960"/>
            <a:ext cx="94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Rec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5560" y="226224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5560" y="25671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405560" y="2959200"/>
            <a:ext cx="965160" cy="1216440"/>
            <a:chOff x="7405560" y="2959200"/>
            <a:chExt cx="965160" cy="1216440"/>
          </a:xfrm>
        </p:grpSpPr>
        <p:sp>
          <p:nvSpPr>
            <p:cNvPr id="149" name=""/>
            <p:cNvSpPr/>
            <p:nvPr/>
          </p:nvSpPr>
          <p:spPr>
            <a:xfrm>
              <a:off x="7405560" y="2960640"/>
              <a:ext cx="965160" cy="1194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41920" y="2959200"/>
              <a:ext cx="794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1200" y="3264120"/>
              <a:ext cx="923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40480" y="356868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5560" y="325296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05560" y="355752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41560" y="3873600"/>
              <a:ext cx="862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 C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5560" y="386244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84720" y="2273400"/>
            <a:ext cx="1297080" cy="306360"/>
          </a:xfrm>
          <a:custGeom>
            <a:avLst/>
            <a:gdLst/>
            <a:ahLst/>
            <a:rect l="l" t="t" r="r" b="b"/>
            <a:pathLst>
              <a:path w="817" h="193">
                <a:moveTo>
                  <a:pt x="0" y="192"/>
                </a:moveTo>
                <a:lnTo>
                  <a:pt x="288" y="192"/>
                </a:lnTo>
                <a:lnTo>
                  <a:pt x="288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1920" y="2577960"/>
            <a:ext cx="839880" cy="839880"/>
          </a:xfrm>
          <a:custGeom>
            <a:avLst/>
            <a:gdLst/>
            <a:ahLst/>
            <a:rect l="l" t="t" r="r" b="b"/>
            <a:pathLst>
              <a:path w="529" h="529">
                <a:moveTo>
                  <a:pt x="0" y="0"/>
                </a:moveTo>
                <a:lnTo>
                  <a:pt x="0" y="528"/>
                </a:lnTo>
                <a:lnTo>
                  <a:pt x="528" y="5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2425680"/>
            <a:ext cx="1297080" cy="458640"/>
          </a:xfrm>
          <a:custGeom>
            <a:avLst/>
            <a:gdLst/>
            <a:ahLst/>
            <a:rect l="l" t="t" r="r" b="b"/>
            <a:pathLst>
              <a:path w="817" h="289">
                <a:moveTo>
                  <a:pt x="0" y="288"/>
                </a:moveTo>
                <a:lnTo>
                  <a:pt x="384" y="288"/>
                </a:lnTo>
                <a:lnTo>
                  <a:pt x="384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4560" y="2882880"/>
            <a:ext cx="68724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0" y="0"/>
                </a:moveTo>
                <a:lnTo>
                  <a:pt x="0" y="432"/>
                </a:lnTo>
                <a:lnTo>
                  <a:pt x="432" y="43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577960"/>
            <a:ext cx="1297080" cy="611280"/>
          </a:xfrm>
          <a:custGeom>
            <a:avLst/>
            <a:gdLst/>
            <a:ahLst/>
            <a:rect l="l" t="t" r="r" b="b"/>
            <a:pathLst>
              <a:path w="817" h="385">
                <a:moveTo>
                  <a:pt x="816" y="0"/>
                </a:moveTo>
                <a:lnTo>
                  <a:pt x="480" y="0"/>
                </a:lnTo>
                <a:lnTo>
                  <a:pt x="480" y="384"/>
                </a:lnTo>
                <a:lnTo>
                  <a:pt x="0" y="3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6840" y="318780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0" y="2273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24400" y="28828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5480" y="2577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05560" y="4332240"/>
            <a:ext cx="9651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2280" y="433080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1560" y="4635360"/>
            <a:ext cx="95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05560" y="46245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0280" y="43959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0280" y="46245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84360" y="485316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9320" y="41022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9320" y="45594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30400" y="4330800"/>
            <a:ext cx="367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8640" y="6172200"/>
            <a:ext cx="75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bank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ns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or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5 ns (80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4320" y="901800"/>
            <a:ext cx="3200400" cy="122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84320" y="10447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84320" y="1201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84320" y="1357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84320" y="1514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4320" y="16714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4320" y="1827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84320" y="19843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475600" y="868320"/>
            <a:ext cx="335520" cy="1307880"/>
            <a:chOff x="5475600" y="868320"/>
            <a:chExt cx="335520" cy="1307880"/>
          </a:xfrm>
        </p:grpSpPr>
        <p:sp>
          <p:nvSpPr>
            <p:cNvPr id="186" name=""/>
            <p:cNvSpPr/>
            <p:nvPr/>
          </p:nvSpPr>
          <p:spPr>
            <a:xfrm>
              <a:off x="5475600" y="8683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5600" y="10206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5600" y="1173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5600" y="13255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75600" y="14778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0" y="16304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75600" y="17827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5600" y="19350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H="1">
            <a:off x="2514240" y="1512720"/>
            <a:ext cx="376200" cy="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46840" y="113004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84360" y="11304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1434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41920" y="1739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173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694560" y="14349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3560" y="1434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62480" y="1130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62480" y="8254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88280" y="901800"/>
            <a:ext cx="974520" cy="302040"/>
            <a:chOff x="7388280" y="901800"/>
            <a:chExt cx="974520" cy="302040"/>
          </a:xfrm>
        </p:grpSpPr>
        <p:sp>
          <p:nvSpPr>
            <p:cNvPr id="205" name=""/>
            <p:cNvSpPr/>
            <p:nvPr/>
          </p:nvSpPr>
          <p:spPr>
            <a:xfrm>
              <a:off x="7388280" y="954360"/>
              <a:ext cx="974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3080" y="90180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M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79280" y="1282680"/>
            <a:ext cx="992160" cy="302040"/>
            <a:chOff x="7379280" y="1282680"/>
            <a:chExt cx="992160" cy="302040"/>
          </a:xfrm>
        </p:grpSpPr>
        <p:sp>
          <p:nvSpPr>
            <p:cNvPr id="208" name=""/>
            <p:cNvSpPr/>
            <p:nvPr/>
          </p:nvSpPr>
          <p:spPr>
            <a:xfrm>
              <a:off x="7395120" y="1335240"/>
              <a:ext cx="956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79280" y="1282680"/>
              <a:ext cx="992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122640" y="1172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Element Vector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Programm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123360"/>
            <a:ext cx="8686800" cy="1677240"/>
            <a:chOff x="228600" y="3123360"/>
            <a:chExt cx="8686800" cy="1677240"/>
          </a:xfrm>
        </p:grpSpPr>
        <p:sp>
          <p:nvSpPr>
            <p:cNvPr id="213" name=""/>
            <p:cNvSpPr/>
            <p:nvPr/>
          </p:nvSpPr>
          <p:spPr>
            <a:xfrm>
              <a:off x="3809880" y="4191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9880" y="32767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35053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09880" y="4191120"/>
              <a:ext cx="3429000" cy="75960"/>
              <a:chOff x="3809880" y="4191120"/>
              <a:chExt cx="3429000" cy="75960"/>
            </a:xfrm>
          </p:grpSpPr>
          <p:sp>
            <p:nvSpPr>
              <p:cNvPr id="217" name=""/>
              <p:cNvSpPr/>
              <p:nvPr/>
            </p:nvSpPr>
            <p:spPr>
              <a:xfrm>
                <a:off x="38098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56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530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7238880" y="4191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14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8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2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8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038480" y="3352680"/>
              <a:ext cx="304920" cy="838440"/>
              <a:chOff x="4038480" y="3352680"/>
              <a:chExt cx="304920" cy="83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4038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38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267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91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724280" y="3352680"/>
              <a:ext cx="304920" cy="838440"/>
              <a:chOff x="4724280" y="3352680"/>
              <a:chExt cx="304920" cy="838440"/>
            </a:xfrm>
          </p:grpSpPr>
          <p:sp>
            <p:nvSpPr>
              <p:cNvPr id="241" name=""/>
              <p:cNvSpPr/>
              <p:nvPr/>
            </p:nvSpPr>
            <p:spPr>
              <a:xfrm>
                <a:off x="47242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242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9528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769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10080" y="3352680"/>
              <a:ext cx="304920" cy="838440"/>
              <a:chOff x="5410080" y="3352680"/>
              <a:chExt cx="30492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54100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100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6386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627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095880" y="3352680"/>
              <a:ext cx="304920" cy="838440"/>
              <a:chOff x="6095880" y="3352680"/>
              <a:chExt cx="304920" cy="83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58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58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3244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781680" y="3352680"/>
              <a:ext cx="304920" cy="838440"/>
              <a:chOff x="6781680" y="3352680"/>
              <a:chExt cx="304920" cy="838440"/>
            </a:xfrm>
          </p:grpSpPr>
          <p:sp>
            <p:nvSpPr>
              <p:cNvPr id="256" name=""/>
              <p:cNvSpPr/>
              <p:nvPr/>
            </p:nvSpPr>
            <p:spPr>
              <a:xfrm>
                <a:off x="67816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816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0102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467480" y="3352680"/>
              <a:ext cx="304920" cy="838440"/>
              <a:chOff x="7467480" y="3352680"/>
              <a:chExt cx="304920" cy="8384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67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7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696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0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9636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94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5960" y="4342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3272400"/>
              <a:ext cx="27432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Arithmetic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V v3, v1, 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4120" y="4037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4120" y="3351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4120" y="312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3200400"/>
              <a:ext cx="8686800" cy="16002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8600" y="837720"/>
            <a:ext cx="8686800" cy="2210400"/>
            <a:chOff x="228600" y="837720"/>
            <a:chExt cx="8686800" cy="2210400"/>
          </a:xfrm>
        </p:grpSpPr>
        <p:grpSp>
          <p:nvGrpSpPr>
            <p:cNvPr id="274" name=""/>
            <p:cNvGrpSpPr/>
            <p:nvPr/>
          </p:nvGrpSpPr>
          <p:grpSpPr>
            <a:xfrm>
              <a:off x="1219320" y="1219320"/>
              <a:ext cx="680760" cy="990000"/>
              <a:chOff x="1219320" y="1219320"/>
              <a:chExt cx="680760" cy="990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9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19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9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19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219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19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19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19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19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19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9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19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460080" y="837720"/>
              <a:ext cx="177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cala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4080" y="1980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1440" y="10659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3840" y="83772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9720" y="1980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7080" y="10659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819520" y="1219320"/>
              <a:ext cx="680760" cy="990000"/>
              <a:chOff x="2819520" y="1219320"/>
              <a:chExt cx="680760" cy="990000"/>
            </a:xfrm>
          </p:grpSpPr>
          <p:sp>
            <p:nvSpPr>
              <p:cNvPr id="298" name=""/>
              <p:cNvSpPr/>
              <p:nvPr/>
            </p:nvSpPr>
            <p:spPr>
              <a:xfrm>
                <a:off x="2819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19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19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19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19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9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19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19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19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9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19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19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19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19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29142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505320" y="1219320"/>
              <a:ext cx="680760" cy="990000"/>
              <a:chOff x="3505320" y="1219320"/>
              <a:chExt cx="680760" cy="990000"/>
            </a:xfrm>
          </p:grpSpPr>
          <p:sp>
            <p:nvSpPr>
              <p:cNvPr id="316" name=""/>
              <p:cNvSpPr/>
              <p:nvPr/>
            </p:nvSpPr>
            <p:spPr>
              <a:xfrm>
                <a:off x="3505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05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05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5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5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05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05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05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05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05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05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05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6000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191120" y="1219320"/>
              <a:ext cx="680760" cy="990000"/>
              <a:chOff x="4191120" y="1219320"/>
              <a:chExt cx="680760" cy="9900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91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91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91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91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91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91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91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91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91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1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91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91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91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191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91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2858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876920" y="1219320"/>
              <a:ext cx="680760" cy="990000"/>
              <a:chOff x="4876920" y="1219320"/>
              <a:chExt cx="680760" cy="990000"/>
            </a:xfrm>
          </p:grpSpPr>
          <p:sp>
            <p:nvSpPr>
              <p:cNvPr id="352" name=""/>
              <p:cNvSpPr/>
              <p:nvPr/>
            </p:nvSpPr>
            <p:spPr>
              <a:xfrm>
                <a:off x="48769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769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769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769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769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769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769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769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8769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769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769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769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769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769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769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769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51246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562720" y="1219320"/>
              <a:ext cx="680760" cy="990000"/>
              <a:chOff x="5562720" y="1219320"/>
              <a:chExt cx="680760" cy="990000"/>
            </a:xfrm>
          </p:grpSpPr>
          <p:sp>
            <p:nvSpPr>
              <p:cNvPr id="370" name=""/>
              <p:cNvSpPr/>
              <p:nvPr/>
            </p:nvSpPr>
            <p:spPr>
              <a:xfrm>
                <a:off x="55627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627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627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627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627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627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627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27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627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627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627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627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627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627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58104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248520" y="1219320"/>
              <a:ext cx="680760" cy="990000"/>
              <a:chOff x="6248520" y="1219320"/>
              <a:chExt cx="680760" cy="990000"/>
            </a:xfrm>
          </p:grpSpPr>
          <p:sp>
            <p:nvSpPr>
              <p:cNvPr id="388" name=""/>
              <p:cNvSpPr/>
              <p:nvPr/>
            </p:nvSpPr>
            <p:spPr>
              <a:xfrm>
                <a:off x="6248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48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48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48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48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48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48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48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48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48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48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48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48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48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48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4962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34320" y="1219320"/>
              <a:ext cx="680760" cy="990000"/>
              <a:chOff x="6934320" y="1219320"/>
              <a:chExt cx="680760" cy="9900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34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34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34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34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34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34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34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34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34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34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34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34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34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71820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0120" y="1219320"/>
              <a:ext cx="680760" cy="990000"/>
              <a:chOff x="7620120" y="1219320"/>
              <a:chExt cx="680760" cy="990000"/>
            </a:xfrm>
          </p:grpSpPr>
          <p:sp>
            <p:nvSpPr>
              <p:cNvPr id="424" name=""/>
              <p:cNvSpPr/>
              <p:nvPr/>
            </p:nvSpPr>
            <p:spPr>
              <a:xfrm>
                <a:off x="7620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20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20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20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20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20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20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20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20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20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0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20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20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0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0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0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7085880" y="213264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MAX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2743200"/>
              <a:ext cx="1143000" cy="237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600" y="838080"/>
              <a:ext cx="8686800" cy="2210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91240" y="2666520"/>
              <a:ext cx="240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Length Regi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28600" y="4872600"/>
            <a:ext cx="8686800" cy="1850040"/>
            <a:chOff x="228600" y="4872600"/>
            <a:chExt cx="8686800" cy="1850040"/>
          </a:xfrm>
        </p:grpSpPr>
        <p:sp>
          <p:nvSpPr>
            <p:cNvPr id="445" name=""/>
            <p:cNvSpPr/>
            <p:nvPr/>
          </p:nvSpPr>
          <p:spPr>
            <a:xfrm>
              <a:off x="4419720" y="5334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19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913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771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629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48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0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76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2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33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19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1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77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62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48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371600" y="5409720"/>
              <a:ext cx="34290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743200" y="5409720"/>
              <a:ext cx="266688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114800" y="5409720"/>
              <a:ext cx="20574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410080" y="5409720"/>
              <a:ext cx="13716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781680" y="5409720"/>
              <a:ext cx="6858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153280" y="5409720"/>
              <a:ext cx="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3600" y="5104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880" y="4872600"/>
              <a:ext cx="266724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Load and Store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V v1, r1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990720" y="617184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4240" y="632376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e,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339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2320" y="6324480"/>
              <a:ext cx="137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632376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ide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8600" y="4876920"/>
              <a:ext cx="8686800" cy="18288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8920" y="6171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35120" y="495216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d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352680" y="1600200"/>
            <a:ext cx="2743200" cy="4038480"/>
            <a:chOff x="3352680" y="1600200"/>
            <a:chExt cx="2743200" cy="4038480"/>
          </a:xfrm>
        </p:grpSpPr>
        <p:sp>
          <p:nvSpPr>
            <p:cNvPr id="483" name=""/>
            <p:cNvSpPr/>
            <p:nvPr/>
          </p:nvSpPr>
          <p:spPr>
            <a:xfrm>
              <a:off x="3352680" y="1600200"/>
              <a:ext cx="27432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54120" y="1650240"/>
              <a:ext cx="2649600" cy="39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Scala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R4, 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op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0, 0(R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2, 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.D F4, F2, 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.D F4, 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1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2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3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SUBIU R4,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Z R4, lo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021720" y="1600200"/>
            <a:ext cx="2786760" cy="4038480"/>
            <a:chOff x="6021720" y="1600200"/>
            <a:chExt cx="2786760" cy="4038480"/>
          </a:xfrm>
        </p:grpSpPr>
        <p:sp>
          <p:nvSpPr>
            <p:cNvPr id="486" name=""/>
            <p:cNvSpPr/>
            <p:nvPr/>
          </p:nvSpPr>
          <p:spPr>
            <a:xfrm>
              <a:off x="6095880" y="1600200"/>
              <a:ext cx="266724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720" y="1664280"/>
              <a:ext cx="278676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Vecto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VLR, 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1, 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2, 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V.D V3, V1, 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V V3, 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1600200"/>
            <a:ext cx="3063240" cy="4038480"/>
            <a:chOff x="380880" y="1600200"/>
            <a:chExt cx="3063240" cy="4038480"/>
          </a:xfrm>
        </p:grpSpPr>
        <p:sp>
          <p:nvSpPr>
            <p:cNvPr id="489" name=""/>
            <p:cNvSpPr/>
            <p:nvPr/>
          </p:nvSpPr>
          <p:spPr>
            <a:xfrm>
              <a:off x="380880" y="1600200"/>
              <a:ext cx="29718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3040" y="1747080"/>
              <a:ext cx="306108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C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64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Set 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58160"/>
            <a:ext cx="8305920" cy="42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hort instruction encodes N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ve, tells hardware that these N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same functional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disjoint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registers in the same pattern as previous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a contiguous block of memory (unit-stride load/sto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memory in a known pattern (strided load/stor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run same object code on more parallel pipelines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29T11:45:20Z</dcterms:created>
  <dc:creator>Krste</dc:creator>
  <dc:description/>
  <dc:language>en-US</dc:language>
  <cp:lastModifiedBy>Krste Asanovic</cp:lastModifiedBy>
  <cp:lastPrinted>1998-02-10T18:55:42Z</cp:lastPrinted>
  <dcterms:modified xsi:type="dcterms:W3CDTF">2006-02-26T02:17:20Z</dcterms:modified>
  <cp:revision>419</cp:revision>
  <dc:subject>6.823 Spring 2001, Lecture 15</dc:subject>
  <dc:title>Vector Computers</dc:title>
</cp:coreProperties>
</file>