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C83-FF44-4C06-8222-B8CF581A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B95-60CB-48EA-885D-D8DCF215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5FD-545C-42BB-A43D-25C758DF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D99-8748-4060-A93A-B46501E6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0CF-66DB-4820-A959-BB223C1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1A8-703A-43D5-BF13-F253838B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72F-970B-4822-9F0A-2E40B68B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7FE-9331-4B76-BA98-B20385C5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50C-5ACD-4105-BD7A-70CB6BF4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2F1-C0A3-4D5E-91D9-0808877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56C-62AA-4C66-AECC-7D8B10DF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E46-AF56-4B22-8D36-EE6334F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6AC8-138C-4496-941E-B643E3D57874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5E5C-F348-4F73-A173-7D1B5F5EA018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0.png"/><Relationship Id="rId47" Type="http://schemas.openxmlformats.org/officeDocument/2006/relationships/image" Target="../media/image11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0.png"/><Relationship Id="rId60" Type="http://schemas.openxmlformats.org/officeDocument/2006/relationships/image" Target="../media/image12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9 – Limits to ILP  and Simultaneous Multithreading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501920"/>
          <a:ext cx="8915400" cy="52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1920"/>
                    <a:ext cx="89154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from Infinite window 2048, 512, 128, 3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34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9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3320" y="289548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8 -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20D-7F92-4721-9B9B-7D94C2761A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D8DBF-0AAF-458B-B275-9A03D0960258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s. 8K Tournament vs. 512 2-bit vs. profile vs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F27-DDA0-447C-9ACA-319F8D6617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A93E7-F6F7-4F92-A8E1-32822DB3A7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9480" y="1244520"/>
          <a:ext cx="82044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4520"/>
                    <a:ext cx="82044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4772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Branch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0800" y="971280"/>
            <a:ext cx="3886200" cy="20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from Infinite window to examine to 2048 and maximum issue of 64 instructions per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2400" y="64674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0000" y="64674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HT (5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4480" y="646740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4440" y="646740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6840" y="6505560"/>
            <a:ext cx="165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0081"/>
                </a:solidFill>
                <a:latin typeface="Arial"/>
              </a:rPr>
              <a:t>No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3480" y="10144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5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1480" y="309096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27F-F41A-43B7-9B45-94FC7785D0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BADDD-AE8C-4801-90E4-D1216EE6E058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isprediction R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066680"/>
          <a:ext cx="914400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382-4684-4A70-A435-EABEFE3472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298E3-EA33-4AD5-8A77-080F0D6EA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1143000"/>
          <a:ext cx="8229600" cy="511956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. 256, 128, 64, 32, no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 Branch Predi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E69-694E-4259-858F-BB17F2B0128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ADA5B-019C-4AA9-9504-A032189ED2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68280" y="1157400"/>
          <a:ext cx="8178840" cy="53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157400"/>
                    <a:ext cx="817884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820000" cy="1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naming Register Impact (N int + N fp) 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0680" y="1619280"/>
            <a:ext cx="361944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656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4160" y="638964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780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1480" y="6389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500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144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000" y="34290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5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2600" y="112860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1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900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DA8-C7B6-47FC-8199-356A9D3E1E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D831F-2ABB-4FBC-AE24-C26AD80D0014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5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256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. Stack v. Inspect v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F8A-71A7-469B-9AC4-5CD909DB41E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C7B5F-D922-4113-8BB4-D92E6D5717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5040" y="927000"/>
            <a:ext cx="8496360" cy="5384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emory Address Alias Imp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36576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, 256 renaming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18760" y="609768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6960" y="6097680"/>
            <a:ext cx="279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Global/Stack perf;</a:t>
            </a: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eap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760" y="609768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4880" y="6097680"/>
            <a:ext cx="126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spec.</a:t>
            </a:r>
            <a:br>
              <a:rPr sz="2400"/>
            </a:b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ss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1800" y="1795320"/>
            <a:ext cx="153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4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9800" y="326232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4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A9C-47F5-4087-A87C-C9D2EBCA6E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48D49-E19A-4EF4-83E9-70C5A50CFEAB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1430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 (no restric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s. 256, 128, 64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64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1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disambig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E7B-1AFC-46B1-A3E7-41B11068CE5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A8430-4ED7-41FE-9D5B-074A4E433E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160" y="993600"/>
            <a:ext cx="8623080" cy="552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28200"/>
            <a:ext cx="88963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7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0579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disambiguation (HW), 1K Selective Prediction, 16 entry return, 64 registers, issue as many a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48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50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124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7200" y="63514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952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152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456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2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560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7480" y="37386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20048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8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8800" y="360756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10D-3CE2-4E99-A280-B00A4B3D9F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85165-57DD-4E1D-96F9-8769D120F1ED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A42-30E6-4BE4-A62D-06D486F92B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ECE8D-DFB2-4B75-B6F2-B39D9BB08A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ework Assignment due Fri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Friday Reading Assignment: “Simultaneous Multithreading: A Platform for Next-generation Processors,” Susan J. Eggers et 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What performance advantages claimed? For what workload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mpare to Wall’s ILP limit clai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958-B1A2-48B0-9D62-43EA92E560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DF724-5A43-49D6-98EB-663CC81FAA0C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38B-3083-4B75-BF10-49B45C0814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B4FCB-649A-42F6-A9AC-782827976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9246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to Exceed ILP Limits of this study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not laws of physics; just practical limits for today, and perhaps overcome via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and ISA advances could chang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and WAW hazards through memory: eliminated WAW and WAR hazards through register renaming, but not in memory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conflicts via allocation of stack frames as a called procedure reuses the memory addresses of a previous frame on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E7D-E0E5-4583-BFDC-389624A354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B7340-18E9-41E5-84D3-68FAC58B5AED}" type="datetime1">
              <a:rPr lang="en-US"/>
              <a:t>07/30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v. SW to increase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disambiguation: HW 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ul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best when dynamic branch prediction better than compile tim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easier for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doesn’t need bookkeeping code or compensatio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complicate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: SW can look ahead to schedule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ndependence: does not require new compiler, recompilation to run 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A13-580F-44E4-8A39-0B68ED3730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7FDDD-45EA-44D8-8E61-B485B671D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Performance beyond single thread ILP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can be much higher natural parallelism in some appl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, Database or Scientific cod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Level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cess with own instructions an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 may be a process part of a parallel program of multiple processes, or it may be an independen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has all the state (instructions, data, PC, register state, and so on) necessary to allow it to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ata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erform identical operations on data, and lots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98A-E082-4525-9866-36AD364107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30CF6-027D-4A04-89B7-C3AC63D562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ad Level Parallelism (TLP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P exploits implicit parallel operations within a loop or straight-line code se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explicitly represented by the use of multiple threads of execution that are inherent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Use multiple instruction streams to impro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of computers that run many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time of multi-threaded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could be more cost-effective to exploit than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40F-3BA2-43BD-842A-EDEC25575B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050F-5A1B-4F74-BF20-71D7AAD2D7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Approach: Mulithreaded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threading: multiple threads to share the functional units of 1 processor via overl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r must duplicate independent state of each thread e.g., a separate copy of register file, a separate PC, and for running independent programs, a separate page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shared through the virtual memory mechanisms, which already support multipl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 for fast thread switch; much faster than full process swit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s to 1000s of c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wit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instruction per thread (fin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thread is stalled, perhaps for a cache miss, another thread can be executed (coars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6FC-DEF6-4EFF-A3AD-529C9F017B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E962C-A87D-4E97-A376-E47FE9136E10}" type="datetime1">
              <a:rPr lang="en-US"/>
              <a:t>07/30/26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in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between threads on each instruction, causing the execution of multiples threads to be interlea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done in a round-robin fashion, skipping any stalled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be able to switch threads every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is it can hide both short and long stalls, since instructions from other threads executed when one thread sta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it slows down execution of individual threads, since a thread ready to execute without stalls will be delayed by instructions from other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on Sun’s Niagara (will see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1C4-C57D-4EE3-9B1B-AB5367BC50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D6D7-F360-403A-B450-6B8C01504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urs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threads only on costly stalls, such as L2 cache mi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ves need to have very fast thread-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slow down thread, since instructions from other threads issued only when the thread encounters a costly st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hard to overcome throughput losses from shorter stalls, due to pipeline start-up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CPU issues instructions from 1 thread, when a stall occurs, the pipeline must be emptied or froz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ad must fill pipeline before instructions can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 start-up overhead, coarse-grained multithreading is better for reducing penalty of high cost stalls, where pipeline refill &lt;&lt; stal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IBM AS/4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AA9-38B6-4493-8183-D0494BB64C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9D64C-1B92-44A5-B5F6-DC1B268D8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2520" y="-360"/>
            <a:ext cx="94870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 most apps, most execution units lie id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880920"/>
            <a:ext cx="5918040" cy="597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5097600"/>
            <a:ext cx="1817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From: Tullsen, Eggers, and Lev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Simultaneous Multithreading: Maximizing On-chip Parallelism, ISCA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90720"/>
            <a:ext cx="18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53de8"/>
                </a:solidFill>
                <a:latin typeface="Arial"/>
              </a:rPr>
              <a:t>For an 8-way superscal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92A-828E-4D45-98FA-E2896977E9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B53D7-15C0-4BB2-8F19-5B096AF12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o both ILP and TLP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and ILP exploit two different kinds of parallel structure in a progr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a processor oriented at ILP to exploit T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units are often idle in data path designed for ILP because of either stalls or dependences in the co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he TLP be used as a source of independent instructions that might keep the processor busy during stall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LP be used to employ the functional units that would otherwise lie idle when insufficient ILP exist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DB3-7003-4AE0-BB00-F9D1E44C0B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A5C8-DBB1-4992-BF1C-F1569CE5C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-threading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3480" y="167940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085760" y="137160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920" y="13716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137160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3840" y="1371600"/>
            <a:ext cx="43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300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296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6840" y="137160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137160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760" y="136044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402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thread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960" y="6389640"/>
            <a:ext cx="853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M = Load/Store, FX = Fixed Point, FP = Floating Point, BR = Branch, CC = 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174132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703840" y="143352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3000" y="14335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1433520"/>
            <a:ext cx="41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920" y="143352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143352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1040" y="14335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4920" y="1433520"/>
            <a:ext cx="4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1120" y="14335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142236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066680"/>
            <a:ext cx="4194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hreads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8080" y="701640"/>
            <a:ext cx="0" cy="5600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threading (SMT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(SMT): insight that dynamically scheduled processor already has many HW mechanisms to support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et of virtual registers that can be used to hold the register sets of independent th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 provides unique register identifiers, so instructions from multiple threads can be mixed in datapath without confusing sources and destinations acros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 completion allows the threads to execute out of order, and get better utilization of the H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dding a per thread renaming table and keeping separat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commitment can be supported by logically keeping a separate reorder buffer for each 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25280" y="6019200"/>
            <a:ext cx="27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Micrprocessor Report, December 6, 199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“Compaq Chooses SMT for Alph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954-F257-4B63-A61E-88E93C0E23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AE214-6E30-4B91-97FF-D1FFE65DF98E}" type="datetime1">
              <a:rPr lang="en-US"/>
              <a:t>07/30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5920" y="330120"/>
            <a:ext cx="6516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threaded Categor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1447920"/>
            <a:ext cx="1143000" cy="3581280"/>
            <a:chOff x="990720" y="1447920"/>
            <a:chExt cx="1143000" cy="3581280"/>
          </a:xfrm>
        </p:grpSpPr>
        <p:sp>
          <p:nvSpPr>
            <p:cNvPr id="185" name=""/>
            <p:cNvSpPr/>
            <p:nvPr/>
          </p:nvSpPr>
          <p:spPr>
            <a:xfrm>
              <a:off x="9907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6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5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6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5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512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5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5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564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5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07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64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56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72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64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56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64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5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64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56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64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56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5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5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1447920"/>
            <a:ext cx="1143000" cy="3581280"/>
            <a:chOff x="2514600" y="1447920"/>
            <a:chExt cx="1143000" cy="3581280"/>
          </a:xfrm>
        </p:grpSpPr>
        <p:sp>
          <p:nvSpPr>
            <p:cNvPr id="234" name=""/>
            <p:cNvSpPr/>
            <p:nvPr/>
          </p:nvSpPr>
          <p:spPr>
            <a:xfrm>
              <a:off x="2514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5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175248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752480"/>
              <a:ext cx="22860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62320"/>
              <a:ext cx="2286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362320"/>
              <a:ext cx="2286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666880"/>
              <a:ext cx="22860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276720"/>
              <a:ext cx="22860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276720"/>
              <a:ext cx="22860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327672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41911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419112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41911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191120"/>
              <a:ext cx="22860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480" y="1447920"/>
            <a:ext cx="1143000" cy="3581280"/>
            <a:chOff x="4038480" y="1447920"/>
            <a:chExt cx="1143000" cy="3581280"/>
          </a:xfrm>
        </p:grpSpPr>
        <p:sp>
          <p:nvSpPr>
            <p:cNvPr id="283" name=""/>
            <p:cNvSpPr/>
            <p:nvPr/>
          </p:nvSpPr>
          <p:spPr>
            <a:xfrm>
              <a:off x="4038480" y="2666880"/>
              <a:ext cx="228600" cy="228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040" y="2666880"/>
              <a:ext cx="228600" cy="228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8480" y="29718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040" y="297180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7960" y="2971800"/>
              <a:ext cx="228600" cy="228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8480" y="3276720"/>
              <a:ext cx="228600" cy="2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3276720"/>
              <a:ext cx="228600" cy="228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7960" y="3276720"/>
              <a:ext cx="228600" cy="228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04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04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04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495680"/>
              <a:ext cx="22860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040" y="4495680"/>
              <a:ext cx="228600" cy="228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79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800600"/>
              <a:ext cx="228600" cy="228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04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79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0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79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79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0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79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28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0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79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38680" y="1295280"/>
            <a:ext cx="1143000" cy="3962520"/>
            <a:chOff x="5638680" y="1295280"/>
            <a:chExt cx="1143000" cy="3962520"/>
          </a:xfrm>
        </p:grpSpPr>
        <p:sp>
          <p:nvSpPr>
            <p:cNvPr id="332" name=""/>
            <p:cNvSpPr/>
            <p:nvPr/>
          </p:nvSpPr>
          <p:spPr>
            <a:xfrm>
              <a:off x="563868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971800"/>
              <a:ext cx="228600" cy="228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971800"/>
              <a:ext cx="228600" cy="228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86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276720"/>
              <a:ext cx="228600" cy="2286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581280"/>
              <a:ext cx="228600" cy="228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436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3886200"/>
              <a:ext cx="228600" cy="2286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386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4495680"/>
              <a:ext cx="228600" cy="228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4800600"/>
              <a:ext cx="2286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3080" y="4800600"/>
              <a:ext cx="228600" cy="228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520" y="1447920"/>
              <a:ext cx="228600" cy="228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447920"/>
              <a:ext cx="228600" cy="228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520" y="1752480"/>
              <a:ext cx="228600" cy="228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752480"/>
              <a:ext cx="228600" cy="228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2057400"/>
              <a:ext cx="228600" cy="228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86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2362320"/>
              <a:ext cx="228600" cy="228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53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0360" y="12952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666880"/>
            <a:ext cx="228600" cy="2286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3280" y="2666880"/>
            <a:ext cx="228600" cy="2286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8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48720" y="3276720"/>
            <a:ext cx="228600" cy="228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5812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581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581280"/>
            <a:ext cx="22860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48720" y="3886200"/>
            <a:ext cx="22860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3886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4191120"/>
            <a:ext cx="22860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4191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4956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4495680"/>
            <a:ext cx="22860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4495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800600"/>
            <a:ext cx="22860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4800600"/>
            <a:ext cx="22860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1447920"/>
            <a:ext cx="22860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1447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7524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752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1752480"/>
            <a:ext cx="22860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1752480"/>
            <a:ext cx="228600" cy="2286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2057400"/>
            <a:ext cx="228600" cy="2286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057400"/>
            <a:ext cx="228600" cy="228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2362320"/>
            <a:ext cx="228600" cy="228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2362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26800" y="1135440"/>
            <a:ext cx="667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(processor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7720" y="107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er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54480" y="1076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43280" y="1076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76960" y="1055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7560" y="847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867280"/>
            <a:ext cx="228600" cy="2286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5867280"/>
            <a:ext cx="228600" cy="228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867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4880" y="539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2100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72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672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9780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1120" y="57913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l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2FC-C3A0-41B3-8CE5-D2E70FD6629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614F3-1560-4C7A-B3DA-49EAA78164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Challenges in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SMT makes sense only with fine-grained implementation, impact of fine-grained scheduling on single thread perform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eferred thread approach sacrifices neither throughput nor single-thread performance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ortunately, with a preferred thread, the processor is likely to sacrifice some throughput, when preferred thread st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egister file needed to hold multiple contex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ffecting clock cycle time, especially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issue - more candidate instructions need to be consid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mpletion - choosing which instructions to commit may be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that cache and TLB conflicts generated by SMT do not degrad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AAE-3114-4CD4-9208-BA84B31C83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0215C-253D-49B7-9898-4E5E85947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79200" y="10800"/>
            <a:ext cx="9555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792840" y="744480"/>
            <a:ext cx="1973160" cy="2073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49400" y="2916360"/>
            <a:ext cx="8638920" cy="3263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239760" y="835200"/>
            <a:ext cx="6367320" cy="2799720"/>
            <a:chOff x="239760" y="835200"/>
            <a:chExt cx="6367320" cy="2799720"/>
          </a:xfrm>
        </p:grpSpPr>
        <p:sp>
          <p:nvSpPr>
            <p:cNvPr id="454" name=""/>
            <p:cNvSpPr/>
            <p:nvPr/>
          </p:nvSpPr>
          <p:spPr>
            <a:xfrm>
              <a:off x="239760" y="835200"/>
              <a:ext cx="636732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ngle-threaded predecessor to Power 5.  8 execution units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-of-order engine, each m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ssue an instruction each cyc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6280" y="2766600"/>
              <a:ext cx="1200240" cy="868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12600"/>
            <a:ext cx="8640720" cy="326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25440" y="3279600"/>
            <a:ext cx="8475840" cy="34592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442880" y="2376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9280" y="328140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560" y="434988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0800" y="489744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1480" y="5086080"/>
            <a:ext cx="285840" cy="46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78800" y="5371920"/>
            <a:ext cx="903240" cy="20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58240" y="4510080"/>
            <a:ext cx="7254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0960" y="4000680"/>
            <a:ext cx="0" cy="46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638680"/>
            <a:ext cx="29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fetch (PC),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initial de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971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ommits (architected register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0760" y="10800"/>
            <a:ext cx="75106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data flow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9600" y="1185840"/>
            <a:ext cx="9036000" cy="3478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69960" y="486108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only 2 threads? With 4, one of the shared resources (physical registers, cache, memory bandwidth) would be prone to bottlene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7440" y="11160"/>
            <a:ext cx="839016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thread performance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571920" y="1081080"/>
            <a:ext cx="4508280" cy="5776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114800" y="2160720"/>
            <a:ext cx="1463760" cy="66348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17920" y="2595240"/>
            <a:ext cx="2171520" cy="105084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143000"/>
            <a:ext cx="2895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priority of each thread controllable in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368316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alanced operation, both threads run slower than if they “owned” the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hanges in  Power 5 to support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associativity of L1 instruction cache and the instruction address translation buff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er thread load and store que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ize of the L2 (1.92 vs. 1.44 MB) and L3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parate instruction prefetch and buffering per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number of virtual registers from 152 to 2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size of several issue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wer5 core is about 24% larger than the Power4 core because of the addition of SM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F4C-CA43-4C6F-85C3-B48F76184E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46C58-D910-4546-9765-9221EB58B1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studies of 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s (vectorized Fortran FP vs. integer C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ILP is available using existing mechanisms with increasing HW budge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need to invent new HW/SW mechanisms to keep on processor performance cur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MX, SSE (Streaming SIMD Extensions): 64 bit i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SSE2: 128 bit, including 2 64-bit Fl. Pt. per c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ola AltaVec: 128 bit ints and F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sparc Multimedia o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B8B-6FD1-4A94-BA36-9AC0E941D2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22F09-D5FE-444D-8EB4-C43EB7B16B11}" type="datetime1">
              <a:rPr lang="en-US"/>
              <a:t>07/30/26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itial Performance of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Extreme SMT yields 1.01 speedup for SPECint_rate benchmark and 1.07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4 is dual threaded SM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Rate requires that each SPEC benchmark be run against a vendor-selected number of copies of the same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n Pentium 4 each of 26 SPEC benchmarks paired with every other (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s) speed-ups from 0.90 to 1.58; average was 1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, 8 processor server 1.23 faster for SPECint_rate with SMT, 1.16 faster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 running 2 copies of each app speedup between 0.89 and 1.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gained s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.Pt. apps had most cache conflicts and least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D9D-AB46-40D6-AB24-8670218C6B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C7BD3-FAE0-41B1-9E07-AE0E985F0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drawingml/2006/table">
            <a:tbl>
              <a:tblPr/>
              <a:tblGrid>
                <a:gridCol w="1380960"/>
                <a:gridCol w="2621160"/>
                <a:gridCol w="1193760"/>
                <a:gridCol w="893880"/>
                <a:gridCol w="811080"/>
                <a:gridCol w="947880"/>
                <a:gridCol w="838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 / Issue /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 Rate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-tor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entium 4 Ex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deeply pipelined; S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int. 1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M    122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D Athlon 64 FX-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3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M 115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Power5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CPU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SMT;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PU cores/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 300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W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Itaniu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ally schedul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IW-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/5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2 M 4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57200" y="304920"/>
            <a:ext cx="7292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ead to Head IL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2B8-3247-4512-A79D-05C4A73FF6AA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EAB59-67EB-46CD-ABC0-D9346C5EA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int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990720"/>
          <a:ext cx="10515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515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C24-9124-4FC0-9C9D-DE87799CB66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4F7E1-A03E-4A26-916C-04BE40708C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fp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609480"/>
          <a:ext cx="838188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844-DF7D-4708-A479-4F1A63FC581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2A7E6-4543-45EE-A32F-C6ED98385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rmalized Performance: Efficienc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685800"/>
          <a:ext cx="746784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477120" y="1219320"/>
          <a:ext cx="243828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293760"/>
                <a:gridCol w="358560"/>
                <a:gridCol w="360360"/>
                <a:gridCol w="358920"/>
              </a:tblGrid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u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043-6944-4F1B-A052-034E36B127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D555A-1D59-4BD2-8AAF-82A203BC6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 Silver Bullet for ILP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vious over all leader 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D Athlon leads on SPECInt performance followed by the Pentium 4, Itanium 2, and Power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and Power5, which perform similarly on SPECFP, clearly dominate the Athlon and Pentium 4 on SPECF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is the most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 both for Fl. Pt. and integer code for all but one efficiency measure (SPECFP/Wat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on and Pentium 4 both make good use of transistors and area in terms of efficienc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5 is the most effective user of energy on SPECFP and essentially tied on SPEC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EE5-8CD3-49DB-A5DE-0FF584B493B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7DF89-638E-46F4-A201-3816EEA17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ing issue rates above today’s 3-6 instructions per clock, say to 6 to 12 instructions, probably requires a processor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3 or 4 data memory access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2 or 3 branch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and access more than 20 registers per cycle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12 to 24 instructions per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lexities of implementing these capabilities is likely to mean sacrifices in the maximum clock r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,  widest issue processor is the Itanium 2, but it also has the slowest clock rate, despite the fact that it consumes the most pow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EF2-1FC5-4160-BDED-EC72917264B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D998B-482E-47DD-A68F-F67578DA15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techniques for increasing performance increase power consump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ey question is whether a technique is </a:t>
            </a:r>
            <a:r>
              <a:rPr b="1" i="1" lang="en-US" sz="2000" spc="-1" strike="noStrike">
                <a:solidFill>
                  <a:srgbClr val="114ffb"/>
                </a:solidFill>
                <a:latin typeface="Arial"/>
              </a:rPr>
              <a:t>energy 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oes it increase power consumption faster than it increases performanc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ssue processors techniques all are energy ineffici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ing multiple instructions incurs some overhead in logic that grows faster than the issue rate g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ing gap between peak issue rates and sustain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transistors switching = f(peak issue rate), and performance = f( sustained rate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gap between peak and sustained performan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ing energy per unit of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EF9-F8D9-4FCB-8005-73A23D10A2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815C4-7AD6-4590-953C-445E54094A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nium architecture do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 a significant breakthrough in scaling ILP or in avoiding the problems of complexity and power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pursuing more ILP, architects are increasingly focusing on TLP implemented with single-chip multiprocess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0, IBM announced the 1st commercial single-chip, general-purpose multiprocessor, the Power4, which contains 2 Power3 processors and an integrated L2 cac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Sun Microsystems, AMD, and Intel have switch to a focus on single-chip multiprocessors rather than more aggressive uniprocesso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balance of ILP and TLP is unclear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right choice for server market, which can exploit more TLP, may differ from desktop, where single-thread performance may continue to be a primary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A06-F384-47EC-B7F2-0D5C44A62F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47363-C633-4B66-A1E0-5AE7C9BB9B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power efficiency, compilers, dependencies …) seem to limit to 3 to 6 issue for practical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ly parallel (Data level parallelism or Thread level parallelism) is next step to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 grain vs. Fine grained multi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big stall vs.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if fine grained multithreading based on OOO superscalar micro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 replicating registers, reuse renam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/EPIC/VLIW is not a breakthrough in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ILP and TLP decided in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2EF-0AA8-4F2C-9930-588B338BA4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354D3-48F6-46EB-B124-FE509100AA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vercoming Limi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iler technology + significantly new and different hardware techniques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ble to overcome limitations assumed i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unlikely such advances when coupled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with realistic hard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overcome these limits in near fu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4EC-C91C-4B2B-AF26-EAAB3DD126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3D712-048A-406F-8417-E292D31290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67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W Model here; MIPS compil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for ideal/perfect machine to sta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Register renam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infinite virtual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ll register WAW &amp; WAR hazards ar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ranch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perfect; no mispredic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Jump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ll jumps perfectly predicted (returns, case statement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&amp;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 control dependencies; perfect speculation &amp; an unbounded buffer of instruction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mory-address alias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ddresses known &amp; a load can be moved before a store provided addresses not equal; 1&amp;4 eliminates all but 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: perfect caches; 1 cycle latency for all instructions (FP *,/); unlimited instructions issued/clock cycl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E34-AF5E-4C89-A9F0-ABDA2A288A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284D9-E45D-4921-873D-FBD0F9BB4F7C}" type="datetime1">
              <a:rPr lang="en-US"/>
              <a:t>07/30/26</a:t>
            </a:fld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219320"/>
          <a:ext cx="7696080" cy="5054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446-879B-48E6-BAB9-373086847B2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5E3BA-B0A5-4C88-9FB7-0F3A1E1F1A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Upper Limit to ILP: Ideal Machine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359000"/>
            <a:ext cx="8331120" cy="549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13280" y="2424240"/>
            <a:ext cx="233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18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480" y="187164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75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693800" y="3641400"/>
            <a:ext cx="449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Per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6B1-4D29-4A87-95B2-FE2624B08D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EDEFE-9E2B-4485-807B-24232618D2EC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, 2K, 512, 128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F3E-D34C-4964-84DD-29DDCC0E550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FD29B-40EB-493C-AE6D-E54EE4A109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4T14:25:54Z</dcterms:modified>
  <cp:revision>84</cp:revision>
  <dc:subject/>
  <dc:title>EECS 252 Graduate Computer Architecture   Lec XX - TOPIC  </dc:title>
</cp:coreProperties>
</file>