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23760" y="2340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62320" y="2340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23760" y="914832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162320" y="914832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fld id="{91E66B72-4A11-4738-A21A-07AAC633EC7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3240" y="9147240"/>
            <a:ext cx="1365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9763D6-3C61-4765-BD20-EF8CC550A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Img"/>
          </p:nvPr>
        </p:nvSpPr>
        <p:spPr>
          <a:xfrm>
            <a:off x="1527120" y="921960"/>
            <a:ext cx="4262400" cy="319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and New Testament by Klei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t skipping as grad stu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Queue called waiting line, System called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744-1D27-458A-90E0-86D5F95C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7998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307-C57D-45C2-877B-E56761BC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63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986-06EB-461C-94E6-63415609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864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516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864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516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E933-4EB8-498A-A023-2E7AE954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B4A7-EDA1-48C5-BCA8-8F635517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28BD-8802-4F64-83E9-9661F969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C579-865A-43BF-BB6D-C53866A9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9AAB-7C8B-4DEF-941D-5622C4ED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457200"/>
            <a:ext cx="767412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938C-AE57-433F-A8C9-C1399DAE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99D-DDCF-4954-B172-2E0343E6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63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F06-99AC-43D9-A1D5-7923E8A6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FCF8-8DA4-49B6-B00B-72E529C6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bba0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B2A5-1985-403E-9CEC-4C9843299CB4}" type="datetime">
              <a:rPr b="1" lang="en-US" sz="1400" spc="-1" strike="noStrike">
                <a:solidFill>
                  <a:srgbClr val="fbba0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bba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88B8-3185-4962-8497-202AA36157BF}" type="slidenum">
              <a:rPr b="1" lang="en-US" sz="1400" spc="-1" strike="noStrike">
                <a:solidFill>
                  <a:srgbClr val="fbba0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219320"/>
            <a:ext cx="765180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133720"/>
            <a:ext cx="8077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18 – Storag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3560" y="4289400"/>
            <a:ext cx="766296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vlsi.cs.berkeley.edu/cs252-s0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quared Coefficient of Variance (C</a:t>
            </a:r>
            <a:r>
              <a:rPr b="1" lang="en-US" sz="3200" spc="-1" strike="noStrike" baseline="30000">
                <a:solidFill>
                  <a:srgbClr val="0332b7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Variance / WA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= sqrt(Variance)/WAM = StDev/W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tless meas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ing to characterize random events, but need distribution of random events with tractable m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popular such distribution is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exponential distributio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re C =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using constant to characterize variability about the me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ariance of C over tim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istory of events has no impact on probability of an event occurring no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memoryles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important assumption to predict behavio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uppose not; then have to worry about the exact arrival times of requests relative to each othe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ke math not tractable!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699-EDFB-41FE-8AC3-27910A197D5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A51B9-8B4C-4693-A8FE-6861BE7FB4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isson Distribu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widely used exponential distribution is Pois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d by probability mass fun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(k) =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x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/ k!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a = Rate of events x Elapsed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interarrival times exponentially distributed &amp; use arrival rate from above for rate of events, number of arrivals in time interv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Poisson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5FC1-63D0-47B0-8BB4-877135FCED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D3C2D-ADBE-491F-A4F5-95424EAB83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new task must wait for server to complete a task assuming server bus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ing it’s a Poisson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rage residual service tim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½ x Arithmetic mean x (1 +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distribution is not random &amp; all values = averag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ndard deviation is 0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 is 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verage residual service tim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half average servic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distribution is random &amp; Poiss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 is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verage residual service tim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weighted arithmetic m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8210-698C-4523-9227-071A3F43E0F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9C6F5-C92E-40DE-99AB-67B89E5C13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-2743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asks in queue (Lengt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head of new task must be completed before task can be servic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ask takes on average Tim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 at server takes average residual service time to comple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ce server is busy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 utiliz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pected time for service is Server utilizat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verage residual servic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Lengt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Server utilization x Average residual servic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ing definitions for Lengt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residual service time, &amp; rearrang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548-DAE9-44BA-8FB0-3C920F1E28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7B379-6617-44D4-B9EF-0228911074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 vs. Length of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Arrival rate x Tim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’s La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ed to the components of the black box since they must also be in equilibri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000"/>
            </a:b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Server utilization/(1-Server utiliz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ival rat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Server util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Server utilizatio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(1-Server utilization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 no. requests in queue slide 6? (50%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(0.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/ (1-0.5) = 0.25/0.5 = 0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5 requests on average in 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F7F-B0AD-4FFE-8EB1-2D989ED30F2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9B5E6-DB36-4F54-8FF7-AD142BC33C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/M/1 Queuing Model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is in equilibri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 between 2 successive requests arriving,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618ffd"/>
                </a:solidFill>
                <a:latin typeface="Arial"/>
              </a:rPr>
              <a:t>interarrival times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e exponentially distrib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sources of requests is unlimited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“infinite population mode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can start next job immedia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queue, no limit to length of queue, and FIFO discipline, so all tasks in line must be comple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one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M/M/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(book also derives M/M/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ially random request arrival (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ially random service time (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nding for Markov, mathematician who defined and analyzed the memoryless pro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DD1-5330-4E88-A549-4D065C51E19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C35E4-2192-470D-BD70-682F2F2222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talking during Pizza last 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Update Meeting Wednesday 4/19, 10 to 12: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5 Soda. Meeting signup onli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day 4/24 Quiz 2 5-8 PM in roo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ainly Ch 4 to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 4/26 Bad Career Advice / Bad Talk Advice ? / Goodbye to Computer Architecture / Your Cal Cultural His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Presentations Monday 5/1 (all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Posters 5/3 Wednesday (11-1 in So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Papers due Friday 5/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Archana, who will post papers on class web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D9D5-68C5-4707-B827-19F84D36A15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2890F-663C-469B-B459-6DFF71A8D819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disk I/Os / sec, requests are exponentially distributed, and average service time is 2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ival rate/sec = 40,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0.02 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utilization = Arrival rat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40 x 0.02 = 0.8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time spent in the queu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20 ms x 0.8/(1-0.8) = 20 x 4 = 8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response time for a disk request, inclu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euing time and disk service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80+20 ms = 10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F5FE-A454-4B5B-B897-F7AFCAC8A7E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3A5B5-877F-4A5F-9444-3A7DD94938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ow much better with 2X faster disk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service time i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0 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ival rate/sec = 40,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0.01 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utilization = Arrival rat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40 x 0.01 = 0.4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4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time spent in the queu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0 ms x 0.4/(1-0.4) = 10 x 2/3 = 6.7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response time for a disk request, inclu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euing time and disk service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6.7+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s = 16.7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6X faster response time with 2X faster disk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B6A-83DA-4F06-921D-01C1D3A267A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C5F7F-373D-4EFB-BDB7-48201A9B2B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alue of Queueing Theory in practi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 quickly do not try to utilize resource 100% but how far should back off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designers to decide impact of faster hardware on utilization and hence on respons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surprisingly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24B-CF29-4776-8784-D7E574EDF60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1988F-F53F-4EF4-89B6-B191244E7C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323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s: Arial Density now 30%/yr vs. 100%/yr in 2000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PC: price performance as normalizing configuration fe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ting to ensure no foul pl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 with restricted response time is normal meas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ent errors in syste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ilure in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ten fail slowl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systems: problems in maintenance, operation as well as hardware,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9520" y="4876920"/>
            <a:ext cx="8826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A83C-6AF9-4960-83E0-693409C8034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C1864-3707-4E61-A3AA-886988737519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ross cutting Issues: </a:t>
            </a:r>
            <a:br>
              <a:rPr sz="2800"/>
            </a:b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Buses </a:t>
            </a:r>
            <a:r>
              <a:rPr b="1" lang="en-US" sz="2800" spc="-1" strike="noStrike">
                <a:solidFill>
                  <a:srgbClr val="0332b7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 point-to-point links and switches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762120"/>
          <a:ext cx="8458200" cy="3165480"/>
        </p:xfrm>
        <a:graphic>
          <a:graphicData uri="http://schemas.openxmlformats.org/drawingml/2006/table">
            <a:tbl>
              <a:tblPr/>
              <a:tblGrid>
                <a:gridCol w="2716200"/>
                <a:gridCol w="854280"/>
                <a:gridCol w="1001520"/>
                <a:gridCol w="1897200"/>
                <a:gridCol w="893880"/>
                <a:gridCol w="1095120"/>
              </a:tblGrid>
              <a:tr h="103284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ck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arallel) 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ial 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arallel) SC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MHz (DD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ial Attach SC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2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/ 66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I Exp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457200" y="434340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406800" indent="-406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bits and BW is per direct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X for both directions (not shown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406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use fewer wires, commonly increase BW  via versions with 2X-12X the number of wires and B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406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504-278A-4B23-868E-150B5729F9C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C2F44-8C16-42EB-8A49-7630E219E1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Storage Example: Internet Archiv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 of making a historical record of the Interne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Archive began in 199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back Machine interface perform time travel to see what the website at a URL looked like in the p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ontains over a petabyte (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tes), and is growing by 20 terabytes (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tes) of new data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ddition to storing the historical record, the same hardware is used to crawl the Web every few months to get snapshots of the Inter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39A-8DA4-441C-886A-385A7EA77A9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59B21-F4B2-4203-965A-50EED97D3F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Internet Archive Cluste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6476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U storage node PetaBox GB2000 from Capricorn Technologi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s 4 500 GB Parallel ATA (PATA) disk drives, 512 MB of DDR266 DRAM, one 10/100/1000 Ethernet interface, and a 1 GHz C3 Processor from VIA (80x86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 dissipate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80 wat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GB2000s in a standard VME rack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80 TB of raw storage capacit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nodes are connected with a 48-port 10/100 or 10/100/1000 Ethernet switc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ck dissipates about 3 KW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PetaByte = 12 ra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0120" y="1523880"/>
            <a:ext cx="1222200" cy="41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1BE-7481-4F1F-8471-119AA5AE7E8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69DCE-0A4A-4CC5-8341-AA0CB054B2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stimated Cos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a processor, 512 MB of DDR266 DRAM, ATA disk controller, power supply, fans, and enclosure = $5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200 RPM Parallel ATA drives holds 500 GB = $375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-port 10/100/1000 Ethernet switch and all cables for a rack = $30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$84,500 for a 80-TB rack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0 Disks ar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60% of th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C1E-8F0A-4273-945A-7CC60890875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4E366-64D9-4B54-B7F8-834FB74354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stimated Performan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1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00 RPM Parallel ATA drives holds 500 GB, has an average time seek of 8.5 ms, transfers at 50 MB/second from the disk. The PATA link speed is 133 MB/seco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ance of the VIA processor is 1000 MIP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ng system uses 50,000 CPU instructions for a disk I/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protocol stacks uses 100,000 CPU instructions to transmit a data block between the cluster and the external worl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A controller overhead is  0.1 ms to perform a disk I/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I/O size is 16 KB for accesses to the historical record via the Wayback interface, and 50 KB when collecting a new snapsh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7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ks are limit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75 I/Os/s per disk, 300/s per node, 12000/s per rack, or about 200 to 600 Mbytes / sec Bandwidth per r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7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 needs to support 1.6 to 3.8 Gbits/second over 40 Gbit/sec li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 algn="just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481-6B9C-4C30-9C5B-536BA4A0095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36751-E252-4DAE-A882-6D5C64FEC0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stimated Reliabi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/memory/enclosure MTTF is 1,0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A Disk MTTF is 125,000 hours (x 16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A controller MTTF is 5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hernet Switch MTTF is 500,000 hours (x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supply MTTF is 2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n MTTF is 2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A cable MTTF is 1,0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TTF for the system is 531 hours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 week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% of time failures are d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% of time failures are fans or power suppl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E24-4ABD-4CB8-B88F-D25526A56DB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2AEFB-EE27-4F0F-A6C2-4F4EE1C245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ID Paper Discuss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main motivation for RAID in pap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d prediction of processor performance and disk capacity ho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the performance figures of merit to compare RAID lev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RAID groups sizes were in the paper? Are they realistic?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would RAID 2 (ECC) have lower predicted MTTF than RAID 3 (Parity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81AE-7A89-4A98-A16C-FD9D10409CF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7DBE1-8AA1-45F0-934D-DE0B34FBA918}" type="datetime1">
              <a:rPr lang="en-US"/>
              <a:t>07/30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ID Paper Discuss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propose balance performance and capacity of RAID 1 to RAID 5? What do you think of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some of the open issues?  Which were signific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etrospect, what do you think were important contribu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id the authors get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etrospec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ID in Hardware vs. RAID in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d MTTF vs. in the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ization of disks in an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C ($10B sales in 2005) and R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invented RAI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77D-B343-4EC9-B070-C89786499F8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00135-F359-4C1A-A4F4-CEA058CA0E19}" type="datetime1">
              <a:rPr lang="en-US"/>
              <a:t>07/30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640" y="323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25905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tle’s Law: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 = rate x Time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ean number customers = arrival rate x mean service ti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ciation for relationship of latency and utiliza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usters for storage as well as com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D paper: Its reliability, not performance, that matters for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9520" y="4876920"/>
            <a:ext cx="8826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057400" y="1219320"/>
            <a:ext cx="4559400" cy="1285920"/>
            <a:chOff x="2057400" y="1219320"/>
            <a:chExt cx="4559400" cy="1285920"/>
          </a:xfrm>
        </p:grpSpPr>
        <p:sp>
          <p:nvSpPr>
            <p:cNvPr id="140" name=""/>
            <p:cNvSpPr/>
            <p:nvPr/>
          </p:nvSpPr>
          <p:spPr>
            <a:xfrm>
              <a:off x="3270240" y="145728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7400" y="182556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39840" y="207324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05320" y="197820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108680" y="19652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956040" y="19652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25840" y="123516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5480" y="220032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6920" y="190188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82680" y="207324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67080" y="220032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34800" y="207324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22003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15000" y="197820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89040" y="161928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67000" y="156852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23600" y="121932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699-F165-4B26-9CC8-398663E387A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C12C0-AA4F-44C1-96D3-69BC98263E19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troduction to Queueing Theo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3047760"/>
            <a:ext cx="76964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-234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interested in long term, steady state than in startup =&gt; Arrivals = Depar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Little’s Law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ean number tasks in system = arrival rate x mean repons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2320" indent="-18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ed by many, Little was first to pro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s to any system in equilibrium, as long as black box not creating or destroying ta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20960" y="1892160"/>
            <a:ext cx="1301760" cy="959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54760" y="249552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16120" y="249552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1400" y="2016000"/>
            <a:ext cx="103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i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63560" y="2016000"/>
            <a:ext cx="138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F126-D508-4A5F-B50F-072772B67D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44394-59D9-4F1B-A000-C344F45CB707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riving Little’s La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lapsed time that observe a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umber of (overlapping) tasks during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um of elapsed times for each tas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Mean number tasks in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Mean respons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Arrival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ng RHS of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q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get Little’s Law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Mean number tasks in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Arrival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Mean respons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124080"/>
            <a:ext cx="533520" cy="1447920"/>
          </a:xfrm>
          <a:custGeom>
            <a:avLst/>
            <a:gdLst/>
            <a:ahLst/>
            <a:rect l="l" t="t" r="r" b="b"/>
            <a:pathLst>
              <a:path w="1632" h="896">
                <a:moveTo>
                  <a:pt x="1632" y="896"/>
                </a:moveTo>
                <a:cubicBezTo>
                  <a:pt x="1576" y="576"/>
                  <a:pt x="1520" y="256"/>
                  <a:pt x="1248" y="128"/>
                </a:cubicBezTo>
                <a:cubicBezTo>
                  <a:pt x="976" y="0"/>
                  <a:pt x="488" y="64"/>
                  <a:pt x="0" y="128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4038480"/>
            <a:ext cx="1676160" cy="1143000"/>
          </a:xfrm>
          <a:custGeom>
            <a:avLst/>
            <a:gdLst/>
            <a:ahLst/>
            <a:rect l="l" t="t" r="r" b="b"/>
            <a:pathLst>
              <a:path w="2208" h="720">
                <a:moveTo>
                  <a:pt x="2208" y="720"/>
                </a:moveTo>
                <a:cubicBezTo>
                  <a:pt x="1888" y="708"/>
                  <a:pt x="1568" y="696"/>
                  <a:pt x="1200" y="576"/>
                </a:cubicBezTo>
                <a:cubicBezTo>
                  <a:pt x="832" y="456"/>
                  <a:pt x="416" y="228"/>
                  <a:pt x="0" y="0"/>
                </a:cubicBezTo>
              </a:path>
            </a:pathLst>
          </a:custGeom>
          <a:noFill/>
          <a:ln w="38160">
            <a:solidFill>
              <a:srgbClr val="0332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3276720"/>
            <a:ext cx="4267080" cy="1295280"/>
          </a:xfrm>
          <a:custGeom>
            <a:avLst/>
            <a:gdLst/>
            <a:ahLst/>
            <a:rect l="l" t="t" r="r" b="b"/>
            <a:pathLst>
              <a:path w="2688" h="816">
                <a:moveTo>
                  <a:pt x="0" y="816"/>
                </a:moveTo>
                <a:cubicBezTo>
                  <a:pt x="760" y="740"/>
                  <a:pt x="1520" y="664"/>
                  <a:pt x="1968" y="528"/>
                </a:cubicBezTo>
                <a:cubicBezTo>
                  <a:pt x="2416" y="392"/>
                  <a:pt x="2552" y="196"/>
                  <a:pt x="2688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AF72-FB24-4E4F-A058-2306FF1912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0CCC6-7502-4755-AF67-4665BE1835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8880" y="132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 Little Queuing Theory: Not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2228400"/>
            <a:ext cx="8915400" cy="409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ation:</a:t>
            </a:r>
            <a:br>
              <a:rPr sz="28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time to service a task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verage service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1 /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raditionally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µ)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time/task in queue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time/task in system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=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+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Arrival r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g no. of arriving tasks/sec (traditionally </a:t>
            </a:r>
            <a:r>
              <a:rPr b="1" lang="el-GR" sz="2400" spc="-1" strike="noStrike">
                <a:solidFill>
                  <a:srgbClr val="fc0128"/>
                </a:solidFill>
                <a:latin typeface="Arial"/>
                <a:ea typeface="Arial"/>
              </a:rPr>
              <a:t>λ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number of tasks in service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length of queue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number of tasks in servi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= 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+ 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tle’s Law: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 = Arrival rate x Time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ean number tasks = arrival rate x mean service tim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146320" y="1228680"/>
            <a:ext cx="4559400" cy="1285920"/>
            <a:chOff x="2146320" y="1228680"/>
            <a:chExt cx="4559400" cy="1285920"/>
          </a:xfrm>
        </p:grpSpPr>
        <p:sp>
          <p:nvSpPr>
            <p:cNvPr id="70" name=""/>
            <p:cNvSpPr/>
            <p:nvPr/>
          </p:nvSpPr>
          <p:spPr>
            <a:xfrm>
              <a:off x="3359160" y="146664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46320" y="183492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28760" y="208260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94240" y="198756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197600" y="19746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044960" y="19746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14760" y="124452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4400" y="22096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65840" y="191124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71600" y="208260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56000" y="22096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23720" y="208260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75320" y="22096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03920" y="198756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77960" y="162864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55920" y="157788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12520" y="122868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1198-6C05-4C24-9B12-739E39B4A2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C1C88-05F3-4E7C-B631-B3CAC5A97E7A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erver Utiliz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single server, service rate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/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rver utiliz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be between 0 and 1, since system is in equilibrium (arrivals = departures); often called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raffic intens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aditionally </a:t>
            </a:r>
            <a:r>
              <a:rPr b="1" lang="el-GR" sz="2400" spc="-1" strike="noStrike">
                <a:solidFill>
                  <a:srgbClr val="fc0128"/>
                </a:solidFill>
                <a:latin typeface="Arial"/>
                <a:ea typeface="Arial"/>
              </a:rPr>
              <a:t>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rver utilization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mean number tasks in service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Arrival rate x Time</a:t>
            </a:r>
            <a:r>
              <a:rPr b="1" lang="en-US" sz="2400" spc="-1" strike="noStrike" baseline="-25000">
                <a:solidFill>
                  <a:srgbClr val="fc0128"/>
                </a:solidFill>
                <a:latin typeface="Arial"/>
              </a:rPr>
              <a:t>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disk utilization if get 50 I/O requests per second for disk and average disk service time is 10 ms (0.01 sec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utilization = 50/sec x 0.01 sec = 0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server is busy on average 50% of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9B5-AF08-4FF4-BB28-2D2100AAAB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6B7E4-7008-4607-9334-81E91B5B2C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 vs. Length of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ssume First In First Out (FIFO)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 of time in queue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o mean number of tasks in queue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x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400"/>
            </a:b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“Mean time to complete service of task when new task arrives if server is busy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task can arrive at any instant; how predict last par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edict performance, need to know sometime about distribution of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4CE-D6AD-40B0-ACD7-55CD3EF9A5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16D4D-9BF4-4DBA-8E74-722CCB7D31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istribution of Random Variabl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ariable is random if it takes one of a specified set of values with a specified 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know exactly next value, but may know probability of all possible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Requests can be modeled by a random variable because OS normally switching between several processes generating independent I/O requ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given probabilistic nature of disks in seek and rotational del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characterize distribution of values of a random variable with discrete values using a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hist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s range between the min &amp; max values into </a:t>
            </a:r>
            <a:r>
              <a:rPr b="0" i="1" lang="en-US" sz="1800" spc="-1" strike="noStrike">
                <a:solidFill>
                  <a:srgbClr val="fc0128"/>
                </a:solidFill>
                <a:latin typeface="Arial"/>
              </a:rPr>
              <a:t>bu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grams then plot the number in each bucket as colum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 for discrete values e.g., number of I/O reque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bout if not discrete? Very fine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1387-F08D-4C3A-B36E-A0F382E403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58174-CAD5-43C6-8ADF-1545798AAB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haracterizing distribution of a random variable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mean time and a measure of var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ean, us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eighted arithmetic mean (WAM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frequency of task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 = time for task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eighted arithmetic mean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+ . . .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variance, instead of standard deviation, use Variance (square of standard deviation) for WA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Vari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 . .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– WA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ime is miliseconds, Variance units are square millisecond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 a unitless measure of varian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0D0-65EF-48B5-8038-7EC1B752E6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7E25F-EFA9-4CB0-AE5C-2FF433B600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9T00:18:59Z</dcterms:created>
  <dc:creator>David E. Culler</dc:creator>
  <dc:description/>
  <cp:keywords/>
  <dc:language>en-US</dc:language>
  <cp:lastModifiedBy>EECS</cp:lastModifiedBy>
  <cp:lastPrinted>1999-02-05T18:32:54Z</cp:lastPrinted>
  <dcterms:modified xsi:type="dcterms:W3CDTF">2006-04-16T15:33:09Z</dcterms:modified>
  <cp:revision>162</cp:revision>
  <dc:subject/>
  <dc:title>Perspective on Parallel Programm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cs.berkeley.edu/~culler/cs258-s99/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>David E. Culler UC Berkeley
CS258 Parallel Computer Architecture
Lecture 5</vt:lpwstr>
  </property>
  <property fmtid="{D5CDD505-2E9C-101B-9397-08002B2CF9AE}" pid="13" name="OutputDir">
    <vt:lpwstr>U:\public_html\cs258-s99\slid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