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FA7477E-8B86-4B2B-9503-1E9B146085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27520" y="9148680"/>
            <a:ext cx="146340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59E115-BEC8-45A5-9009-6ABD14EDA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actutally didn’t interlecok: MPU without Interlocked Pipelined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416232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5C3AE6A-FCC6-467E-BC85-4D4B649A66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2376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2376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416232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1273320" y="619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n delayed-branch scheduling come from 1) restrictions on the instructions that can be moved/copied into the delay slot and 2) limited ability to predict at compile time whether a branch is likely to be taken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 and C, the use of $1 prevents the add instruction from being moved to the delay s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 the sub may need to be copied because it could be reached by another path.  B is preferred when the branch is taken with high probability (such as loop b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DFD-1B35-4A89-A657-D0204265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6A1-9F03-4EF0-8763-FA2DEA34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567-FD8F-40EE-B2F8-E57A0683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C44-D317-4C12-8CBE-EFF12DD1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058-DCA4-4DA4-87C2-5F506314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F23-A65B-4DB0-8EFF-427C6432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4C16-599F-42E8-A25B-05FA0B0F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370-E315-4C48-8958-1D8FD714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023-E3E4-4D9E-8585-25AE9543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9A1-FD81-4977-AA15-FF9AE539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DF9-3BD5-43C7-8D1A-BDDA78EB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716-BB77-40F8-AE23-87A6F821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FBE7-BD30-4114-A64C-967C3C9C8866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5D46-673B-446D-AAAA-16E4BAFBD368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3 – Performance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+ Pipeline Review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5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37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is more informative if know distribution has a standard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bell-shaped 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ose data are symmetric around me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log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ere logarithms of data--not data itself--are normally distributed (symmetric) on a logarithmic sc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lognormal distribution, we expect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Excel provides functions EXP(), LN(), and STDEV() that make calculating geometric mean and multiplicative standard deviation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79960" y="3841920"/>
          <a:ext cx="32958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960" y="3841920"/>
                    <a:ext cx="3295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898880" y="4227480"/>
                <a:ext cx="3581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stde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td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322-39CD-4C01-B278-4D37591F97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0ED02-5AF6-4703-B62F-E4C74F38E2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131840" y="1459080"/>
          <a:ext cx="8040600" cy="49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459080"/>
                    <a:ext cx="80406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452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</a:t>
            </a: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Itanium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48040" y="2362320"/>
            <a:ext cx="2755800" cy="3013560"/>
            <a:chOff x="3848040" y="2362320"/>
            <a:chExt cx="2755800" cy="3013560"/>
          </a:xfrm>
        </p:grpSpPr>
        <p:sp>
          <p:nvSpPr>
            <p:cNvPr id="93" name=""/>
            <p:cNvSpPr/>
            <p:nvPr/>
          </p:nvSpPr>
          <p:spPr>
            <a:xfrm>
              <a:off x="3921120" y="5038560"/>
              <a:ext cx="174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Outside 1 StD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848040" y="2362320"/>
              <a:ext cx="2755800" cy="2857320"/>
              <a:chOff x="3848040" y="2362320"/>
              <a:chExt cx="2755800" cy="28573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848040" y="3568680"/>
                <a:ext cx="2755800" cy="1650960"/>
                <a:chOff x="3848040" y="3568680"/>
                <a:chExt cx="2755800" cy="16509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848040" y="5105520"/>
                  <a:ext cx="177840" cy="7596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5626080" y="5130720"/>
                  <a:ext cx="977760" cy="8892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127400" y="3568680"/>
                  <a:ext cx="152640" cy="154944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4444920" y="2362320"/>
                <a:ext cx="76320" cy="276840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EDE-B4BA-4EB6-A011-4F8B451E46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E99E2-3D39-4FEE-A0C2-D17D548A76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423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</a:t>
            </a: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AMD Ath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95480" y="1484280"/>
          <a:ext cx="8061120" cy="49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1484280"/>
                    <a:ext cx="806112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2293920" y="4597560"/>
            <a:ext cx="3941280" cy="778320"/>
            <a:chOff x="2293920" y="4597560"/>
            <a:chExt cx="3941280" cy="778320"/>
          </a:xfrm>
        </p:grpSpPr>
        <p:sp>
          <p:nvSpPr>
            <p:cNvPr id="105" name=""/>
            <p:cNvSpPr/>
            <p:nvPr/>
          </p:nvSpPr>
          <p:spPr>
            <a:xfrm>
              <a:off x="3921120" y="5038560"/>
              <a:ext cx="174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Outside 1 StD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27400" y="4597560"/>
              <a:ext cx="228600" cy="5079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625720" y="5207040"/>
              <a:ext cx="609480" cy="12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4673520"/>
              <a:ext cx="1681200" cy="577800"/>
            </a:xfrm>
            <a:custGeom>
              <a:avLst/>
              <a:gdLst/>
              <a:ahLst/>
              <a:rect l="l" t="t" r="r" b="b"/>
              <a:pathLst>
                <a:path w="1083" h="364">
                  <a:moveTo>
                    <a:pt x="1083" y="312"/>
                  </a:moveTo>
                  <a:cubicBezTo>
                    <a:pt x="696" y="338"/>
                    <a:pt x="310" y="364"/>
                    <a:pt x="155" y="312"/>
                  </a:cubicBezTo>
                  <a:cubicBezTo>
                    <a:pt x="0" y="260"/>
                    <a:pt x="77" y="130"/>
                    <a:pt x="155" y="0"/>
                  </a:cubicBezTo>
                </a:path>
              </a:pathLst>
            </a:custGeom>
            <a:noFill/>
            <a:ln w="12600">
              <a:solidFill>
                <a:srgbClr val="fc0128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060-6E02-4355-A425-FC0206F22BF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9D157-816B-4C47-9310-79E8CB9B30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602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s on Itanium 2 and Athl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8631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of 1.98 for Itanium 2 is much higher-- vs. 1.40--so results will differ more widely from the mean, and therefore are likely less predic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Ratios falling within one standard devi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of 14 benchmarks (71%) for Itanium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of 14 benchmarks (78%) for Athl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results are quite compatible with a lognormal distribution (expect 68% for 1 StDe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3AD-6E70-47B9-9FC2-77B24CFB51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96D56-8CB0-4C1A-9DC4-4E776B6B88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allacies and Pitfalls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ommonly held miscon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discussing a fallacy, we try to give a counterexampl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itfal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easily made mistak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ten generalizations of principles true in limited con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w Fallacies and Pitfalls to help you avoid these err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y: Benchmarks remain valid indefini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 benchmark becomes popular, tremendous pressure to improve performance by targeted optimizations or by aggressive interpretation of the rules for running the benchmark: “benchmarksmanship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 benchmarks from the 5 SPEC releases. 70% were dropped from the next release since no longer usefu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itfall: A single point of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of thumb for fault tolerant systems: make sure that every component was redundant so that no single component failure could bring down the whole system (e.g, power supp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358-8648-4F64-9C27-A6ACD26D6E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EBAF5-0F7B-4B77-A5C2-DE371DF258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allacies and Pitfalls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191440" cy="53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y - Rated MTTF of disks is 1,200,000 hours or</a:t>
            </a:r>
            <a:br>
              <a:rPr sz="2400"/>
            </a:b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332b7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 140 years, so disks practically never f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disk lifetime is 5 year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lace a disk every 5 years; on average, 28 replacements wouldn't f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etter unit: % that fail (1.2M MTTF = 833 FI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 over lifetime: if had 1000 disks for 5 yea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000*(5*365*24)*833 /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6,485,000 /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3.7% (37/1000) fail over 5 yr lifetime (1.2M hr MTT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is is under pristine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 vibration, narrow temperature rang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 power fail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world: 3% to 6% of SCSI drives fail per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00 - 6800 FIT or 150,000 - 300,000 hour MTT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Gray &amp; van Ingen 0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% to 7% of ATA drives fail per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00 - 8000 FIT or 125,000 - 300,000 hour MTT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Gray &amp; van Ingen 0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6DB-7C7E-4D51-9096-8D5E697AA2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72D48-4D21-4586-8318-30694967FD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28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Reading assignment: Memory Hierarchy Basics Appendix C (handout) for Mon 1/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Wed 2/1: Great ISA debate (3 papers) + Prerequisite Qui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AE1-3BE9-4E4F-8D09-171267A031B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9070D-52A8-47F3-9FD2-2CE8D5D7091A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E63-C371-4F2F-AD2F-C87EFF95F41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12205-934E-4B71-AD5F-E689DD2CDF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 "Typical" RISC IS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3040" y="1467000"/>
            <a:ext cx="7981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-bit fixed format instruction (3 forma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 32-bit GPR (R0 contains zero, DP take pai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address, reg-reg arithmetic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address mode for load/store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+ dis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ndi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branch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ed bran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01400" y="5207040"/>
            <a:ext cx="6398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e: SPARC, MIPS, HP PA-Risc, DEC Alpha, IBM PowerP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DC 6600, CDC 7600, Cray-1, Cray-2, Cray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B68-1F4C-4017-8966-20775B4309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1A175-5F52-484B-A92D-1EDDB200442D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MIPS (­ MIP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08240" y="306072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9640" y="314964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373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7576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74920" y="3060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89320" y="3060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03720" y="306072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1720" y="28065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091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0456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47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661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803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240" y="3149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15760" y="3149640"/>
            <a:ext cx="40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82240" y="307332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08240" y="538488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9640" y="547380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732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7576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74920" y="5384880"/>
            <a:ext cx="48513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1720" y="513072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8032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08240" y="191772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9640" y="200664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373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7576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49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893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03720" y="191772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01720" y="16635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91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0456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947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661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03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240" y="2006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22960" y="2006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38320" y="5397480"/>
            <a:ext cx="784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037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81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3840" y="2006640"/>
            <a:ext cx="40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61120" y="2006640"/>
            <a:ext cx="566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6000" y="1244520"/>
            <a:ext cx="2108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-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35040" y="16383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06440" y="16383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23520" y="16509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94920" y="16509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0800" y="2495520"/>
            <a:ext cx="2414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-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08240" y="416556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9640" y="425448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373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7576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4920" y="416556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89320" y="416556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03720" y="416556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01720" y="39117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091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0456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947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661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803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240" y="425448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34600" y="4254480"/>
            <a:ext cx="103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2/O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82240" y="417816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7920" y="3591000"/>
            <a:ext cx="94284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72280" y="4753080"/>
            <a:ext cx="136188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ump /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914-EE6B-4F64-82F3-4285A4B8F6A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41AAC-7E4D-46C6-ABC6-C914DBAAD58C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l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193400"/>
            <a:ext cx="801216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ing and extrapolating technology part of architect’s respon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Bandwidth in disks, DRAM, network, and processors to improve by at least as much as the square of the improvement in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Cost (vs. Pri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(Are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+ Learning curve, volume, commodity, marg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ynamic and stat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ance x Voltag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frequency, Energy vs.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(MTTF vs. FIT), Availability (MTTF/(MTTF+MTT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AC1-42EF-495D-BB9F-0E389071E5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81A4D-67F4-486B-AE9B-5A18BB2905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25600" y="1515960"/>
            <a:ext cx="1952640" cy="31464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path vs Contro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3880" y="5037120"/>
            <a:ext cx="7667640" cy="16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path: Storage, FU, interconnect sufficient to perform the desired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s are Control P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s are sign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: State machine to orchestrate operation on the data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d on desired function and sign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03240" y="116208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Data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66880" y="1887480"/>
            <a:ext cx="1085760" cy="106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36640" y="3230640"/>
            <a:ext cx="57312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49360" y="3230640"/>
            <a:ext cx="57312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68320" y="3808440"/>
            <a:ext cx="976320" cy="496800"/>
          </a:xfrm>
          <a:custGeom>
            <a:avLst/>
            <a:gdLst>
              <a:gd name="textAreaLeft" fmla="*/ 214560 w 976320"/>
              <a:gd name="textAreaRight" fmla="*/ 761760 w 976320"/>
              <a:gd name="textAreaTop" fmla="*/ 109080 h 496800"/>
              <a:gd name="textAreaBottom" fmla="*/ 3877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23920" y="1731960"/>
            <a:ext cx="1090800" cy="2743200"/>
            <a:chOff x="2023920" y="1731960"/>
            <a:chExt cx="1090800" cy="2743200"/>
          </a:xfrm>
        </p:grpSpPr>
        <p:sp>
          <p:nvSpPr>
            <p:cNvPr id="199" name=""/>
            <p:cNvSpPr/>
            <p:nvPr/>
          </p:nvSpPr>
          <p:spPr>
            <a:xfrm>
              <a:off x="2030400" y="292572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5600" y="293508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23920" y="345924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89120" y="346860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00320" y="1731960"/>
              <a:ext cx="914400" cy="2743200"/>
            </a:xfrm>
            <a:custGeom>
              <a:avLst/>
              <a:gdLst/>
              <a:ahLst/>
              <a:rect l="l" t="t" r="r" b="b"/>
              <a:pathLst>
                <a:path w="576" h="1728">
                  <a:moveTo>
                    <a:pt x="30" y="1621"/>
                  </a:moveTo>
                  <a:lnTo>
                    <a:pt x="39" y="1728"/>
                  </a:lnTo>
                  <a:lnTo>
                    <a:pt x="576" y="1728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20" y="73"/>
                  </a:lnTo>
                </a:path>
              </a:pathLst>
            </a:custGeom>
            <a:noFill/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361120" y="1519200"/>
            <a:ext cx="1890720" cy="32702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99440" y="116532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2836800" y="2681280"/>
            <a:ext cx="299088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898720" y="3363840"/>
            <a:ext cx="2913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511360" y="4106880"/>
            <a:ext cx="3300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765760" y="1743120"/>
            <a:ext cx="1100160" cy="2695680"/>
            <a:chOff x="5765760" y="1743120"/>
            <a:chExt cx="1100160" cy="2695680"/>
          </a:xfrm>
        </p:grpSpPr>
        <p:sp>
          <p:nvSpPr>
            <p:cNvPr id="210" name=""/>
            <p:cNvSpPr/>
            <p:nvPr/>
          </p:nvSpPr>
          <p:spPr>
            <a:xfrm>
              <a:off x="5765760" y="2441520"/>
              <a:ext cx="914400" cy="18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96000" y="1743120"/>
              <a:ext cx="836640" cy="49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08600" y="2793960"/>
              <a:ext cx="836640" cy="1644840"/>
            </a:xfrm>
            <a:custGeom>
              <a:avLst/>
              <a:gdLst>
                <a:gd name="textAreaLeft" fmla="*/ 40680 w 836640"/>
                <a:gd name="textAreaRight" fmla="*/ 795960 w 836640"/>
                <a:gd name="textAreaTop" fmla="*/ 40680 h 1644840"/>
                <a:gd name="textAreaBottom" fmla="*/ 1604160 h 1644840"/>
              </a:gdLst>
              <a:ahLst/>
              <a:rect l="textAreaLeft" t="textAreaTop" r="textAreaRight" b="textAreaBottom"/>
              <a:pathLst>
                <a:path w="21600" h="42457">
                  <a:moveTo>
                    <a:pt x="3600" y="0"/>
                  </a:moveTo>
                  <a:arcTo wR="3600" hR="3600" stAng="16200000" swAng="-5400000"/>
                  <a:lnTo>
                    <a:pt x="0" y="38857"/>
                  </a:lnTo>
                  <a:arcTo wR="3600" hR="3600" stAng="10800000" swAng="-5400000"/>
                  <a:lnTo>
                    <a:pt x="18000" y="424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183360" y="2216160"/>
              <a:ext cx="1584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99200" y="260352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83360" y="1968480"/>
              <a:ext cx="682560" cy="696960"/>
            </a:xfrm>
            <a:custGeom>
              <a:avLst/>
              <a:gdLst/>
              <a:ahLst/>
              <a:rect l="l" t="t" r="r" b="b"/>
              <a:pathLst>
                <a:path w="430" h="439">
                  <a:moveTo>
                    <a:pt x="0" y="439"/>
                  </a:moveTo>
                  <a:lnTo>
                    <a:pt x="430" y="439"/>
                  </a:lnTo>
                  <a:lnTo>
                    <a:pt x="430" y="0"/>
                  </a:lnTo>
                  <a:lnTo>
                    <a:pt x="27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601440" y="414180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trol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697120" y="2076480"/>
            <a:ext cx="3130560" cy="1844640"/>
            <a:chOff x="2697120" y="2076480"/>
            <a:chExt cx="3130560" cy="1844640"/>
          </a:xfrm>
        </p:grpSpPr>
        <p:sp>
          <p:nvSpPr>
            <p:cNvPr id="218" name=""/>
            <p:cNvSpPr/>
            <p:nvPr/>
          </p:nvSpPr>
          <p:spPr>
            <a:xfrm flipV="1">
              <a:off x="2697120" y="2076480"/>
              <a:ext cx="3130560" cy="1844640"/>
            </a:xfrm>
            <a:prstGeom prst="line">
              <a:avLst/>
            </a:prstGeom>
            <a:ln w="3816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5240" y="21891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sig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5D0-F8D0-4BFC-AC70-D2B35773A06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F546F-3C3C-4BED-A0D6-FA661DFB4D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pproaching an IS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40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 Set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s set of operations, instruction format, hardware supported data types, named storage, addressing modes, sequenc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ing of each instruction is described by RTL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ed regis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technology constraints assemble adequate data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hitected storage mapped to actual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units to do all the required ope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additional storage (eg. MAR, MBR, …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onnect to move information among regs and F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 each instruction to sequence of RT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te sequences into symbolic controller state transition diagram (ST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symbolic STD to control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control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CEC3-0DCD-458A-92BD-5EF6166B14E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3B3C9-7914-40C1-A878-BFC55861AB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0120" y="4267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6800" y="18540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, Page A-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6600" y="1136520"/>
            <a:ext cx="2052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29528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7880" y="1290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74000" y="132228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92600" y="1290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61080" y="129060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70520" y="1290600"/>
            <a:ext cx="142704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45400" y="3808440"/>
            <a:ext cx="203040" cy="92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4640" y="3352320"/>
            <a:ext cx="449640" cy="1095480"/>
            <a:chOff x="5714640" y="3352320"/>
            <a:chExt cx="449640" cy="1095480"/>
          </a:xfrm>
        </p:grpSpPr>
        <p:grpSp>
          <p:nvGrpSpPr>
            <p:cNvPr id="233" name=""/>
            <p:cNvGrpSpPr/>
            <p:nvPr/>
          </p:nvGrpSpPr>
          <p:grpSpPr>
            <a:xfrm>
              <a:off x="5714640" y="3352320"/>
              <a:ext cx="449640" cy="1095480"/>
              <a:chOff x="5714640" y="3352320"/>
              <a:chExt cx="449640" cy="10954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5403600" y="3687120"/>
                <a:ext cx="1095480" cy="425520"/>
              </a:xfrm>
              <a:custGeom>
                <a:avLst/>
                <a:gdLst>
                  <a:gd name="textAreaLeft" fmla="*/ 240840 w 1095480"/>
                  <a:gd name="textAreaRight" fmla="*/ 854640 w 109548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5400000">
                <a:off x="5651280" y="3748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5400000">
                <a:off x="5647320" y="3732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rot="5400000">
              <a:off x="5660640" y="3758760"/>
              <a:ext cx="32868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010280" y="2081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93800" y="33764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89840" y="2630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22560" y="3100320"/>
            <a:ext cx="59076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75440" y="330048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75440" y="3909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2971800"/>
            <a:ext cx="674640" cy="68580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04240" y="3681360"/>
            <a:ext cx="53316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05920" y="4191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49560" y="4660920"/>
            <a:ext cx="447840" cy="67608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312920" y="2309760"/>
            <a:ext cx="914400" cy="992160"/>
            <a:chOff x="1312920" y="2309760"/>
            <a:chExt cx="914400" cy="992160"/>
          </a:xfrm>
        </p:grpSpPr>
        <p:sp>
          <p:nvSpPr>
            <p:cNvPr id="249" name=""/>
            <p:cNvSpPr/>
            <p:nvPr/>
          </p:nvSpPr>
          <p:spPr>
            <a:xfrm>
              <a:off x="1312920" y="2842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1531080" y="2527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1699200" y="2610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1608840" y="2607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1708560" y="2621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971800" y="122076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1219320"/>
            <a:ext cx="0" cy="5333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32480" y="1236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07480" y="122076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2743200"/>
            <a:ext cx="3048120" cy="685800"/>
          </a:xfrm>
          <a:custGeom>
            <a:avLst/>
            <a:gdLst/>
            <a:ahLst/>
            <a:rect l="l" t="t" r="r" b="b"/>
            <a:pathLst>
              <a:path w="1920" h="432">
                <a:moveTo>
                  <a:pt x="0" y="0"/>
                </a:moveTo>
                <a:lnTo>
                  <a:pt x="1584" y="0"/>
                </a:lnTo>
                <a:lnTo>
                  <a:pt x="1584" y="432"/>
                </a:lnTo>
                <a:lnTo>
                  <a:pt x="1920" y="4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63840" y="3801960"/>
            <a:ext cx="231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3809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98960" y="3271680"/>
            <a:ext cx="758520" cy="16732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200400" y="4103280"/>
            <a:ext cx="704880" cy="1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36576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2819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86400" y="4191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981080"/>
            <a:ext cx="7086600" cy="181296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886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97800" y="2498760"/>
            <a:ext cx="30456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2198520"/>
            <a:ext cx="2276640" cy="544680"/>
          </a:xfrm>
          <a:custGeom>
            <a:avLst/>
            <a:gdLst/>
            <a:ahLst/>
            <a:rect l="l" t="t" r="r" b="b"/>
            <a:pathLst>
              <a:path w="1440" h="336">
                <a:moveTo>
                  <a:pt x="0" y="336"/>
                </a:moveTo>
                <a:lnTo>
                  <a:pt x="0" y="0"/>
                </a:lnTo>
                <a:lnTo>
                  <a:pt x="14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4114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4302000"/>
            <a:ext cx="838080" cy="6508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lnTo>
                  <a:pt x="384" y="384"/>
                </a:lnTo>
                <a:lnTo>
                  <a:pt x="384" y="0"/>
                </a:lnTo>
                <a:lnTo>
                  <a:pt x="52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38098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3048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2438280"/>
            <a:ext cx="53316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05720" y="3886200"/>
            <a:ext cx="160020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4341960"/>
            <a:ext cx="5486400" cy="1220760"/>
          </a:xfrm>
          <a:custGeom>
            <a:avLst/>
            <a:gdLst/>
            <a:ahLst/>
            <a:rect l="l" t="t" r="r" b="b"/>
            <a:pathLst>
              <a:path w="3456" h="769">
                <a:moveTo>
                  <a:pt x="3306" y="97"/>
                </a:moveTo>
                <a:lnTo>
                  <a:pt x="3456" y="97"/>
                </a:lnTo>
                <a:lnTo>
                  <a:pt x="3456" y="769"/>
                </a:lnTo>
                <a:lnTo>
                  <a:pt x="0" y="769"/>
                </a:lnTo>
                <a:lnTo>
                  <a:pt x="0" y="1"/>
                </a:lnTo>
                <a:lnTo>
                  <a:pt x="39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4114800"/>
            <a:ext cx="2133720" cy="457200"/>
          </a:xfrm>
          <a:custGeom>
            <a:avLst/>
            <a:gdLst/>
            <a:ahLst/>
            <a:rect l="l" t="t" r="r" b="b"/>
            <a:pathLst>
              <a:path w="1344" h="288">
                <a:moveTo>
                  <a:pt x="0" y="0"/>
                </a:moveTo>
                <a:lnTo>
                  <a:pt x="0" y="288"/>
                </a:lnTo>
                <a:lnTo>
                  <a:pt x="134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8800" y="2437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43040" y="3228840"/>
            <a:ext cx="304560" cy="1228680"/>
            <a:chOff x="743040" y="3228840"/>
            <a:chExt cx="304560" cy="1228680"/>
          </a:xfrm>
        </p:grpSpPr>
        <p:sp>
          <p:nvSpPr>
            <p:cNvPr id="283" name=""/>
            <p:cNvSpPr/>
            <p:nvPr/>
          </p:nvSpPr>
          <p:spPr>
            <a:xfrm>
              <a:off x="743040" y="3228840"/>
              <a:ext cx="30456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5280" y="4228920"/>
              <a:ext cx="27756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771840" y="19800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34760" y="55616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76760" y="270972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15080" y="407844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69000" y="3844800"/>
            <a:ext cx="7488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60800" y="352728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68720" y="407340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641680" y="3460680"/>
            <a:ext cx="276480" cy="685800"/>
            <a:chOff x="2641680" y="3460680"/>
            <a:chExt cx="276480" cy="685800"/>
          </a:xfrm>
        </p:grpSpPr>
        <p:grpSp>
          <p:nvGrpSpPr>
            <p:cNvPr id="293" name=""/>
            <p:cNvGrpSpPr/>
            <p:nvPr/>
          </p:nvGrpSpPr>
          <p:grpSpPr>
            <a:xfrm>
              <a:off x="2679840" y="3460680"/>
              <a:ext cx="203040" cy="685800"/>
              <a:chOff x="2679840" y="3460680"/>
              <a:chExt cx="203040" cy="685800"/>
            </a:xfrm>
          </p:grpSpPr>
          <p:sp>
            <p:nvSpPr>
              <p:cNvPr id="294" name=""/>
              <p:cNvSpPr/>
              <p:nvPr/>
            </p:nvSpPr>
            <p:spPr>
              <a:xfrm>
                <a:off x="2679840" y="3460680"/>
                <a:ext cx="203040" cy="6858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702520" y="3994200"/>
                <a:ext cx="165960" cy="1522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rot="5400000">
              <a:off x="2533680" y="3665160"/>
              <a:ext cx="4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392280" y="388548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67080" y="30474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67800" y="33552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360" y="49237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6720" y="4878360"/>
            <a:ext cx="1887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IR &lt;= mem[PC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9080" y="5716440"/>
            <a:ext cx="441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op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IRop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BA4-36BB-4323-9C6C-1C869088D19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D8B5A-AC25-4703-909C-1D78292B94F5}" type="datetime1">
              <a:rPr lang="en-US"/>
              <a:t>07/30/2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3, Page A-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63640" y="113364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313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314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15040" y="2468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35440" y="2938320"/>
            <a:ext cx="59040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00640" y="313848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78440" y="2833560"/>
            <a:ext cx="750960" cy="66204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49640" y="3114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4920" y="34956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40560" y="2657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11960" y="3419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2760" y="1819440"/>
            <a:ext cx="7086600" cy="181260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23000" y="2336760"/>
            <a:ext cx="30492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78440" y="3952800"/>
            <a:ext cx="213372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16120" y="1895400"/>
            <a:ext cx="5488200" cy="3643200"/>
            <a:chOff x="2616120" y="1895400"/>
            <a:chExt cx="5488200" cy="3643200"/>
          </a:xfrm>
        </p:grpSpPr>
        <p:grpSp>
          <p:nvGrpSpPr>
            <p:cNvPr id="352" name=""/>
            <p:cNvGrpSpPr/>
            <p:nvPr/>
          </p:nvGrpSpPr>
          <p:grpSpPr>
            <a:xfrm>
              <a:off x="2616120" y="1895400"/>
              <a:ext cx="304920" cy="3643200"/>
              <a:chOff x="2616120" y="1895400"/>
              <a:chExt cx="304920" cy="3643200"/>
            </a:xfrm>
          </p:grpSpPr>
          <p:sp>
            <p:nvSpPr>
              <p:cNvPr id="353" name=""/>
              <p:cNvSpPr/>
              <p:nvPr/>
            </p:nvSpPr>
            <p:spPr>
              <a:xfrm>
                <a:off x="2616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F/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16120" y="523368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522680" y="1895400"/>
              <a:ext cx="306360" cy="3643200"/>
              <a:chOff x="4522680" y="1895400"/>
              <a:chExt cx="306360" cy="3643200"/>
            </a:xfrm>
          </p:grpSpPr>
          <p:sp>
            <p:nvSpPr>
              <p:cNvPr id="356" name=""/>
              <p:cNvSpPr/>
              <p:nvPr/>
            </p:nvSpPr>
            <p:spPr>
              <a:xfrm>
                <a:off x="4524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D/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22680" y="5224320"/>
                <a:ext cx="304560" cy="3042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799400" y="1895400"/>
              <a:ext cx="304920" cy="3643200"/>
              <a:chOff x="7799400" y="1895400"/>
              <a:chExt cx="304920" cy="3643200"/>
            </a:xfrm>
          </p:grpSpPr>
          <p:sp>
            <p:nvSpPr>
              <p:cNvPr id="359" name=""/>
              <p:cNvSpPr/>
              <p:nvPr/>
            </p:nvSpPr>
            <p:spPr>
              <a:xfrm>
                <a:off x="779940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EM/W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799400" y="5233680"/>
                <a:ext cx="304920" cy="3045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323040" y="1895400"/>
              <a:ext cx="304920" cy="3643200"/>
              <a:chOff x="6323040" y="1895400"/>
              <a:chExt cx="304920" cy="3643200"/>
            </a:xfrm>
          </p:grpSpPr>
          <p:sp>
            <p:nvSpPr>
              <p:cNvPr id="362" name=""/>
              <p:cNvSpPr/>
              <p:nvPr/>
            </p:nvSpPr>
            <p:spPr>
              <a:xfrm>
                <a:off x="632304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X/ME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23040" y="522432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4292640" y="486720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26160" y="4181400"/>
            <a:ext cx="45720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21040" y="204804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49640" y="4867200"/>
            <a:ext cx="137160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58920" y="2048040"/>
            <a:ext cx="457200" cy="53316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336"/>
                </a:moveTo>
                <a:lnTo>
                  <a:pt x="144" y="336"/>
                </a:lnTo>
                <a:lnTo>
                  <a:pt x="144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372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826160" y="20480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54960" y="20480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54760" y="2048040"/>
            <a:ext cx="228600" cy="1218960"/>
          </a:xfrm>
          <a:custGeom>
            <a:avLst/>
            <a:gdLst/>
            <a:ahLst/>
            <a:rect l="l" t="t" r="r" b="b"/>
            <a:pathLst>
              <a:path w="96" h="768">
                <a:moveTo>
                  <a:pt x="0" y="0"/>
                </a:moveTo>
                <a:lnTo>
                  <a:pt x="0" y="768"/>
                </a:lnTo>
                <a:lnTo>
                  <a:pt x="96" y="7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91960" y="200088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0280" y="391968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35600" y="345276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18040" y="201132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7040" y="20070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396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35840" y="1919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2560" y="4495680"/>
            <a:ext cx="2009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IR &lt;= mem[PC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6600" y="5257800"/>
            <a:ext cx="2027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A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B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0640" y="5867280"/>
            <a:ext cx="216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slt &lt;= A op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IRop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2560" y="6521400"/>
            <a:ext cx="1905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&lt;= 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8160" y="6172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WB &lt;= rs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F20-170C-4E5D-8897-A022E32C6DE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A230F-D0B0-4BB6-8F58-9C3D5263D96A}" type="datetime1">
              <a:rPr lang="en-US"/>
              <a:t>07/30/26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. Set Processor Controll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1760" y="6248160"/>
            <a:ext cx="7683480" cy="33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4600" y="1473120"/>
            <a:ext cx="1780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R &lt;= mem[PC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34040" y="2692440"/>
            <a:ext cx="179928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A &lt;= 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B &lt;= 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38480" y="3835440"/>
            <a:ext cx="1559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 &lt;= A o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IRop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05800" y="54864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 &lt;= W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3400" y="46483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WB &lt;=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1447920"/>
            <a:ext cx="19810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22480" y="16113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e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99880" y="267804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Fetch-D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29000" y="2590920"/>
            <a:ext cx="19810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8120" y="3733920"/>
            <a:ext cx="175248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00400" y="4648320"/>
            <a:ext cx="1295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00400" y="5410080"/>
            <a:ext cx="17524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37720" y="3429000"/>
            <a:ext cx="3505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666520" y="342900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0" y="3260880"/>
            <a:ext cx="2895480" cy="1235160"/>
            <a:chOff x="0" y="3260880"/>
            <a:chExt cx="2895480" cy="1235160"/>
          </a:xfrm>
        </p:grpSpPr>
        <p:grpSp>
          <p:nvGrpSpPr>
            <p:cNvPr id="428" name=""/>
            <p:cNvGrpSpPr/>
            <p:nvPr/>
          </p:nvGrpSpPr>
          <p:grpSpPr>
            <a:xfrm>
              <a:off x="1523880" y="3733920"/>
              <a:ext cx="1371600" cy="533160"/>
              <a:chOff x="1523880" y="3733920"/>
              <a:chExt cx="1371600" cy="533160"/>
            </a:xfrm>
          </p:grpSpPr>
          <p:sp>
            <p:nvSpPr>
              <p:cNvPr id="429" name=""/>
              <p:cNvSpPr/>
              <p:nvPr/>
            </p:nvSpPr>
            <p:spPr>
              <a:xfrm>
                <a:off x="1538640" y="3835440"/>
                <a:ext cx="13467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PC &lt;=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jad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3880" y="3733920"/>
                <a:ext cx="1371600" cy="53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760" y="3835440"/>
              <a:ext cx="1479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if bop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PC &lt;= PC+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i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3733920"/>
              <a:ext cx="1371600" cy="76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8240" y="333684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63560" y="326088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795480" y="34894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267080" y="3429000"/>
            <a:ext cx="2667240" cy="2438280"/>
            <a:chOff x="4267080" y="3429000"/>
            <a:chExt cx="2667240" cy="2438280"/>
          </a:xfrm>
        </p:grpSpPr>
        <p:grpSp>
          <p:nvGrpSpPr>
            <p:cNvPr id="437" name=""/>
            <p:cNvGrpSpPr/>
            <p:nvPr/>
          </p:nvGrpSpPr>
          <p:grpSpPr>
            <a:xfrm>
              <a:off x="4893840" y="3708360"/>
              <a:ext cx="1887840" cy="533520"/>
              <a:chOff x="4893840" y="3708360"/>
              <a:chExt cx="1887840" cy="533520"/>
            </a:xfrm>
          </p:grpSpPr>
          <p:sp>
            <p:nvSpPr>
              <p:cNvPr id="438" name=""/>
              <p:cNvSpPr/>
              <p:nvPr/>
            </p:nvSpPr>
            <p:spPr>
              <a:xfrm>
                <a:off x="4893840" y="3809880"/>
                <a:ext cx="18356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r &lt;= A op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Rop</a:t>
                </a: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952880" y="3708360"/>
                <a:ext cx="1828800" cy="533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5186880" y="5486400"/>
              <a:ext cx="1692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Reg[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rd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] &lt;= W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34480" y="464832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WB &lt;= 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1480" y="4648320"/>
              <a:ext cx="12956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81480" y="5410080"/>
              <a:ext cx="1752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7080" y="3429000"/>
              <a:ext cx="14479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67280" y="42670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67280" y="510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4290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419720" y="3336840"/>
            <a:ext cx="4495680" cy="2530440"/>
            <a:chOff x="4419720" y="3336840"/>
            <a:chExt cx="4495680" cy="2530440"/>
          </a:xfrm>
        </p:grpSpPr>
        <p:grpSp>
          <p:nvGrpSpPr>
            <p:cNvPr id="449" name=""/>
            <p:cNvGrpSpPr/>
            <p:nvPr/>
          </p:nvGrpSpPr>
          <p:grpSpPr>
            <a:xfrm>
              <a:off x="6934320" y="3657600"/>
              <a:ext cx="1752480" cy="533520"/>
              <a:chOff x="6934320" y="3657600"/>
              <a:chExt cx="1752480" cy="533520"/>
            </a:xfrm>
          </p:grpSpPr>
          <p:sp>
            <p:nvSpPr>
              <p:cNvPr id="450" name=""/>
              <p:cNvSpPr/>
              <p:nvPr/>
            </p:nvSpPr>
            <p:spPr>
              <a:xfrm>
                <a:off x="7016040" y="3759120"/>
                <a:ext cx="1479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r &lt;= A +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934320" y="3657600"/>
                <a:ext cx="1752480" cy="533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7010280" y="4648320"/>
              <a:ext cx="146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WB &lt;= Mem[r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86600" y="457200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68320" y="5486400"/>
              <a:ext cx="1692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Reg[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rd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] &lt;= W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62920" y="5410080"/>
              <a:ext cx="17524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19720" y="3429000"/>
              <a:ext cx="3504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72400" y="4191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72400" y="50292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34680" y="33368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8520120" y="2955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6000" y="27432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28600" y="28796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5C87-E70E-4A6A-B645-7AF751F1A0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9167B-45DD-4782-8767-E3BD61ADEC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3, Page A-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63640" y="113364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473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474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15040" y="2468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35440" y="2938320"/>
            <a:ext cx="59040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00640" y="313848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78440" y="2833560"/>
            <a:ext cx="750960" cy="66204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49640" y="3114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44920" y="34956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40560" y="2657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511960" y="3419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82760" y="1819440"/>
            <a:ext cx="7086600" cy="181260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23000" y="2336760"/>
            <a:ext cx="30492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78440" y="3952800"/>
            <a:ext cx="213372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616120" y="1895400"/>
            <a:ext cx="5488200" cy="3643200"/>
            <a:chOff x="2616120" y="1895400"/>
            <a:chExt cx="5488200" cy="3643200"/>
          </a:xfrm>
        </p:grpSpPr>
        <p:grpSp>
          <p:nvGrpSpPr>
            <p:cNvPr id="512" name=""/>
            <p:cNvGrpSpPr/>
            <p:nvPr/>
          </p:nvGrpSpPr>
          <p:grpSpPr>
            <a:xfrm>
              <a:off x="2616120" y="1895400"/>
              <a:ext cx="304920" cy="3643200"/>
              <a:chOff x="2616120" y="1895400"/>
              <a:chExt cx="304920" cy="3643200"/>
            </a:xfrm>
          </p:grpSpPr>
          <p:sp>
            <p:nvSpPr>
              <p:cNvPr id="513" name=""/>
              <p:cNvSpPr/>
              <p:nvPr/>
            </p:nvSpPr>
            <p:spPr>
              <a:xfrm>
                <a:off x="2616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F/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616120" y="523368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4522680" y="1895400"/>
              <a:ext cx="306360" cy="3643200"/>
              <a:chOff x="4522680" y="1895400"/>
              <a:chExt cx="306360" cy="3643200"/>
            </a:xfrm>
          </p:grpSpPr>
          <p:sp>
            <p:nvSpPr>
              <p:cNvPr id="516" name=""/>
              <p:cNvSpPr/>
              <p:nvPr/>
            </p:nvSpPr>
            <p:spPr>
              <a:xfrm>
                <a:off x="4524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D/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22680" y="5224320"/>
                <a:ext cx="304560" cy="3042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7799400" y="1895400"/>
              <a:ext cx="304920" cy="3643200"/>
              <a:chOff x="7799400" y="1895400"/>
              <a:chExt cx="304920" cy="3643200"/>
            </a:xfrm>
          </p:grpSpPr>
          <p:sp>
            <p:nvSpPr>
              <p:cNvPr id="519" name=""/>
              <p:cNvSpPr/>
              <p:nvPr/>
            </p:nvSpPr>
            <p:spPr>
              <a:xfrm>
                <a:off x="779940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EM/W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799400" y="5233680"/>
                <a:ext cx="304920" cy="3045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6323040" y="1895400"/>
              <a:ext cx="304920" cy="3643200"/>
              <a:chOff x="6323040" y="1895400"/>
              <a:chExt cx="304920" cy="3643200"/>
            </a:xfrm>
          </p:grpSpPr>
          <p:sp>
            <p:nvSpPr>
              <p:cNvPr id="522" name=""/>
              <p:cNvSpPr/>
              <p:nvPr/>
            </p:nvSpPr>
            <p:spPr>
              <a:xfrm>
                <a:off x="632304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X/ME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323040" y="522432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4292640" y="486720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26160" y="4181400"/>
            <a:ext cx="45720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21040" y="204804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49640" y="4867200"/>
            <a:ext cx="137160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58920" y="2048040"/>
            <a:ext cx="457200" cy="53316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336"/>
                </a:moveTo>
                <a:lnTo>
                  <a:pt x="144" y="336"/>
                </a:lnTo>
                <a:lnTo>
                  <a:pt x="144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532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826160" y="20480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54960" y="20480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760" y="2048040"/>
            <a:ext cx="228600" cy="1218960"/>
          </a:xfrm>
          <a:custGeom>
            <a:avLst/>
            <a:gdLst/>
            <a:ahLst/>
            <a:rect l="l" t="t" r="r" b="b"/>
            <a:pathLst>
              <a:path w="96" h="768">
                <a:moveTo>
                  <a:pt x="0" y="0"/>
                </a:moveTo>
                <a:lnTo>
                  <a:pt x="0" y="768"/>
                </a:lnTo>
                <a:lnTo>
                  <a:pt x="96" y="7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91960" y="200088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40280" y="391968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35600" y="345276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18040" y="201132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027040" y="20070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8520" y="5921280"/>
            <a:ext cx="7486560" cy="75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a stationar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ocal decode for each instruction phase / pipeline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557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35840" y="1919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431-9311-4888-8945-13AAF646EBD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0355B-3FCA-42C8-ACC8-D5178933B94E}" type="datetime1">
              <a:rPr lang="en-US"/>
              <a:t>07/30/26</a:t>
            </a:fld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720" y="128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isualizing Pipelin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, Page A-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38920" y="2209680"/>
            <a:ext cx="34920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228600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14600" y="1279440"/>
            <a:ext cx="237492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57480" y="1314360"/>
            <a:ext cx="14475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95280" y="1676520"/>
            <a:ext cx="6850800" cy="4572000"/>
            <a:chOff x="1295280" y="1676520"/>
            <a:chExt cx="6850800" cy="4572000"/>
          </a:xfrm>
        </p:grpSpPr>
        <p:sp>
          <p:nvSpPr>
            <p:cNvPr id="569" name=""/>
            <p:cNvSpPr/>
            <p:nvPr/>
          </p:nvSpPr>
          <p:spPr>
            <a:xfrm>
              <a:off x="1295280" y="1676520"/>
              <a:ext cx="657864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1752480" y="2286000"/>
              <a:ext cx="3863160" cy="699840"/>
              <a:chOff x="1752480" y="2286000"/>
              <a:chExt cx="3863160" cy="69984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2684880" y="2450880"/>
                <a:ext cx="448920" cy="370080"/>
                <a:chOff x="2684880" y="2450880"/>
                <a:chExt cx="448920" cy="370080"/>
              </a:xfrm>
            </p:grpSpPr>
            <p:grpSp>
              <p:nvGrpSpPr>
                <p:cNvPr id="572" name=""/>
                <p:cNvGrpSpPr/>
                <p:nvPr/>
              </p:nvGrpSpPr>
              <p:grpSpPr>
                <a:xfrm>
                  <a:off x="2684880" y="2450880"/>
                  <a:ext cx="448920" cy="370080"/>
                  <a:chOff x="2684880" y="2450880"/>
                  <a:chExt cx="448920" cy="37008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2909520" y="24508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684880" y="24508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5" name=""/>
                <p:cNvSpPr/>
                <p:nvPr/>
              </p:nvSpPr>
              <p:spPr>
                <a:xfrm>
                  <a:off x="2701080" y="2489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3135960" y="25257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35960" y="27460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8" name=""/>
              <p:cNvGrpSpPr/>
              <p:nvPr/>
            </p:nvGrpSpPr>
            <p:grpSpPr>
              <a:xfrm>
                <a:off x="3542040" y="2341440"/>
                <a:ext cx="404280" cy="588960"/>
                <a:chOff x="3542040" y="2341440"/>
                <a:chExt cx="404280" cy="588960"/>
              </a:xfrm>
            </p:grpSpPr>
            <p:sp>
              <p:nvSpPr>
                <p:cNvPr id="579" name=""/>
                <p:cNvSpPr/>
                <p:nvPr/>
              </p:nvSpPr>
              <p:spPr>
                <a:xfrm rot="16200000">
                  <a:off x="3462120" y="24462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5400000">
                  <a:off x="3548160" y="25344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5400000">
                  <a:off x="3561480" y="25578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16200000">
                  <a:off x="3593880" y="24786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3950640" y="26366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10320" y="263664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4253040" y="2452680"/>
                <a:ext cx="592200" cy="368280"/>
                <a:chOff x="4253040" y="2452680"/>
                <a:chExt cx="592200" cy="3682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3279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253040" y="2491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4267440" y="26366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217960" y="27478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57120" y="25257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1752480" y="2452680"/>
                <a:ext cx="557280" cy="368280"/>
                <a:chOff x="1752480" y="2452680"/>
                <a:chExt cx="557280" cy="3682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18061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752480" y="2491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2398320" y="2286000"/>
                <a:ext cx="2634480" cy="699840"/>
                <a:chOff x="2398320" y="2286000"/>
                <a:chExt cx="2634480" cy="69984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3246480" y="22860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94208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39832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094280" y="22899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5163120" y="2438280"/>
                <a:ext cx="452520" cy="369720"/>
                <a:chOff x="5163120" y="2438280"/>
                <a:chExt cx="452520" cy="36972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5163120" y="2438280"/>
                  <a:ext cx="452520" cy="369720"/>
                  <a:chOff x="5163120" y="2438280"/>
                  <a:chExt cx="452520" cy="3697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flipH="1">
                    <a:off x="5163120" y="24382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5162760" y="24382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 flipH="1">
                  <a:off x="5182920" y="2476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4" name=""/>
            <p:cNvGrpSpPr/>
            <p:nvPr/>
          </p:nvGrpSpPr>
          <p:grpSpPr>
            <a:xfrm>
              <a:off x="2606760" y="3200400"/>
              <a:ext cx="3862800" cy="699840"/>
              <a:chOff x="2606760" y="3200400"/>
              <a:chExt cx="3862800" cy="69984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3539160" y="3365280"/>
                <a:ext cx="448920" cy="370080"/>
                <a:chOff x="3539160" y="3365280"/>
                <a:chExt cx="448920" cy="37008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3539160" y="3365280"/>
                  <a:ext cx="448920" cy="370080"/>
                  <a:chOff x="3539160" y="3365280"/>
                  <a:chExt cx="448920" cy="37008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3763800" y="33652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3539160" y="33652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9" name=""/>
                <p:cNvSpPr/>
                <p:nvPr/>
              </p:nvSpPr>
              <p:spPr>
                <a:xfrm>
                  <a:off x="3555360" y="3403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3990240" y="34401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990240" y="36604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"/>
              <p:cNvGrpSpPr/>
              <p:nvPr/>
            </p:nvGrpSpPr>
            <p:grpSpPr>
              <a:xfrm>
                <a:off x="4395960" y="3255840"/>
                <a:ext cx="404280" cy="588960"/>
                <a:chOff x="4395960" y="3255840"/>
                <a:chExt cx="404280" cy="588960"/>
              </a:xfrm>
            </p:grpSpPr>
            <p:sp>
              <p:nvSpPr>
                <p:cNvPr id="613" name=""/>
                <p:cNvSpPr/>
                <p:nvPr/>
              </p:nvSpPr>
              <p:spPr>
                <a:xfrm rot="16200000">
                  <a:off x="4316040" y="33606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rot="5400000">
                  <a:off x="4402080" y="34488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rot="5400000">
                  <a:off x="4415400" y="34722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16200000">
                  <a:off x="4447800" y="33930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4804560" y="35510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664240" y="355104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9" name=""/>
              <p:cNvGrpSpPr/>
              <p:nvPr/>
            </p:nvGrpSpPr>
            <p:grpSpPr>
              <a:xfrm>
                <a:off x="5106960" y="3367080"/>
                <a:ext cx="592200" cy="368280"/>
                <a:chOff x="5106960" y="3367080"/>
                <a:chExt cx="592200" cy="36828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181840" y="336708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106960" y="3405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5121720" y="35510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072240" y="36622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011400" y="34401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2606760" y="3367080"/>
                <a:ext cx="557280" cy="368280"/>
                <a:chOff x="2606760" y="3367080"/>
                <a:chExt cx="557280" cy="3682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2660400" y="33670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606760" y="3405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252600" y="3200400"/>
                <a:ext cx="2634480" cy="699840"/>
                <a:chOff x="3252600" y="3200400"/>
                <a:chExt cx="2634480" cy="69984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100760" y="32004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79636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25260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948560" y="32043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6017040" y="3352680"/>
                <a:ext cx="452520" cy="369720"/>
                <a:chOff x="6017040" y="3352680"/>
                <a:chExt cx="452520" cy="36972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6017040" y="3352680"/>
                  <a:ext cx="452520" cy="369720"/>
                  <a:chOff x="6017040" y="3352680"/>
                  <a:chExt cx="452520" cy="3697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flipH="1">
                    <a:off x="6017040" y="33526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>
                    <a:off x="6016680" y="33526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7" name=""/>
                <p:cNvSpPr/>
                <p:nvPr/>
              </p:nvSpPr>
              <p:spPr>
                <a:xfrm flipH="1">
                  <a:off x="6036840" y="3391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8" name=""/>
            <p:cNvGrpSpPr/>
            <p:nvPr/>
          </p:nvGrpSpPr>
          <p:grpSpPr>
            <a:xfrm>
              <a:off x="3444840" y="4038480"/>
              <a:ext cx="3862800" cy="699840"/>
              <a:chOff x="3444840" y="4038480"/>
              <a:chExt cx="3862800" cy="69984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4377240" y="4203360"/>
                <a:ext cx="448920" cy="370080"/>
                <a:chOff x="4377240" y="4203360"/>
                <a:chExt cx="448920" cy="37008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4377240" y="4203360"/>
                  <a:ext cx="448920" cy="370080"/>
                  <a:chOff x="4377240" y="4203360"/>
                  <a:chExt cx="448920" cy="37008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4601880" y="420336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377240" y="420336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3" name=""/>
                <p:cNvSpPr/>
                <p:nvPr/>
              </p:nvSpPr>
              <p:spPr>
                <a:xfrm>
                  <a:off x="4393440" y="4241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>
                <a:off x="4828320" y="427824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28320" y="44985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6" name=""/>
              <p:cNvGrpSpPr/>
              <p:nvPr/>
            </p:nvGrpSpPr>
            <p:grpSpPr>
              <a:xfrm>
                <a:off x="5234040" y="4093920"/>
                <a:ext cx="404280" cy="588960"/>
                <a:chOff x="5234040" y="4093920"/>
                <a:chExt cx="404280" cy="588960"/>
              </a:xfrm>
            </p:grpSpPr>
            <p:sp>
              <p:nvSpPr>
                <p:cNvPr id="647" name=""/>
                <p:cNvSpPr/>
                <p:nvPr/>
              </p:nvSpPr>
              <p:spPr>
                <a:xfrm rot="16200000">
                  <a:off x="5154120" y="419868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rot="5400000">
                  <a:off x="5240160" y="428688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5400000">
                  <a:off x="5253480" y="431028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5285880" y="4231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5642640" y="438912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02320" y="438912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3" name=""/>
              <p:cNvGrpSpPr/>
              <p:nvPr/>
            </p:nvGrpSpPr>
            <p:grpSpPr>
              <a:xfrm>
                <a:off x="5945040" y="4205160"/>
                <a:ext cx="592200" cy="368280"/>
                <a:chOff x="5945040" y="4205160"/>
                <a:chExt cx="592200" cy="36828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019920" y="420516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945040" y="4243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5959800" y="438912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910320" y="450036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49480" y="427824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9" name=""/>
              <p:cNvGrpSpPr/>
              <p:nvPr/>
            </p:nvGrpSpPr>
            <p:grpSpPr>
              <a:xfrm>
                <a:off x="3444840" y="4205160"/>
                <a:ext cx="557280" cy="368280"/>
                <a:chOff x="3444840" y="4205160"/>
                <a:chExt cx="557280" cy="3682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3498480" y="420516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444840" y="4243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4090680" y="4038480"/>
                <a:ext cx="2634480" cy="699840"/>
                <a:chOff x="4090680" y="4038480"/>
                <a:chExt cx="2634480" cy="69984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4938840" y="403848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63444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09068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786640" y="404244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6855120" y="4190760"/>
                <a:ext cx="452520" cy="369720"/>
                <a:chOff x="6855120" y="4190760"/>
                <a:chExt cx="452520" cy="369720"/>
              </a:xfrm>
            </p:grpSpPr>
            <p:grpSp>
              <p:nvGrpSpPr>
                <p:cNvPr id="668" name=""/>
                <p:cNvGrpSpPr/>
                <p:nvPr/>
              </p:nvGrpSpPr>
              <p:grpSpPr>
                <a:xfrm>
                  <a:off x="6855120" y="4190760"/>
                  <a:ext cx="452520" cy="369720"/>
                  <a:chOff x="6855120" y="4190760"/>
                  <a:chExt cx="452520" cy="36972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flipH="1">
                    <a:off x="6855120" y="419076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flipH="1">
                    <a:off x="6854760" y="419076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1" name=""/>
                <p:cNvSpPr/>
                <p:nvPr/>
              </p:nvSpPr>
              <p:spPr>
                <a:xfrm flipH="1">
                  <a:off x="6874920" y="4229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2" name=""/>
            <p:cNvGrpSpPr/>
            <p:nvPr/>
          </p:nvGrpSpPr>
          <p:grpSpPr>
            <a:xfrm>
              <a:off x="4282920" y="4876920"/>
              <a:ext cx="3863160" cy="699840"/>
              <a:chOff x="4282920" y="4876920"/>
              <a:chExt cx="3863160" cy="69984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5215320" y="5041800"/>
                <a:ext cx="448920" cy="370080"/>
                <a:chOff x="5215320" y="5041800"/>
                <a:chExt cx="448920" cy="37008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5215320" y="5041800"/>
                  <a:ext cx="448920" cy="370080"/>
                  <a:chOff x="5215320" y="5041800"/>
                  <a:chExt cx="448920" cy="37008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5439960" y="504180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215320" y="504180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7" name=""/>
                <p:cNvSpPr/>
                <p:nvPr/>
              </p:nvSpPr>
              <p:spPr>
                <a:xfrm>
                  <a:off x="5231520" y="508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>
                <a:off x="5666400" y="51166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666400" y="533700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6072480" y="4932360"/>
                <a:ext cx="404280" cy="588960"/>
                <a:chOff x="6072480" y="4932360"/>
                <a:chExt cx="404280" cy="588960"/>
              </a:xfrm>
            </p:grpSpPr>
            <p:sp>
              <p:nvSpPr>
                <p:cNvPr id="681" name=""/>
                <p:cNvSpPr/>
                <p:nvPr/>
              </p:nvSpPr>
              <p:spPr>
                <a:xfrm rot="16200000">
                  <a:off x="5992560" y="503712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5400000">
                  <a:off x="6078600" y="512532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rot="5400000">
                  <a:off x="6091920" y="514872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rot="16200000">
                  <a:off x="6124320" y="50695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6481080" y="522756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340760" y="522756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6783480" y="5043600"/>
                <a:ext cx="592200" cy="368280"/>
                <a:chOff x="6783480" y="5043600"/>
                <a:chExt cx="592200" cy="36828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8583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783480" y="50821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>
                <a:off x="6797880" y="522756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748400" y="533880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687560" y="511668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3" name=""/>
              <p:cNvGrpSpPr/>
              <p:nvPr/>
            </p:nvGrpSpPr>
            <p:grpSpPr>
              <a:xfrm>
                <a:off x="4282920" y="5043600"/>
                <a:ext cx="557280" cy="368280"/>
                <a:chOff x="4282920" y="5043600"/>
                <a:chExt cx="557280" cy="3682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43365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282920" y="50821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4928760" y="4876920"/>
                <a:ext cx="2634480" cy="699840"/>
                <a:chOff x="4928760" y="4876920"/>
                <a:chExt cx="2634480" cy="6998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5776920" y="487692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47252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92876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624720" y="488088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7693560" y="5029200"/>
                <a:ext cx="452520" cy="369720"/>
                <a:chOff x="7693560" y="5029200"/>
                <a:chExt cx="452520" cy="369720"/>
              </a:xfrm>
            </p:grpSpPr>
            <p:grpSp>
              <p:nvGrpSpPr>
                <p:cNvPr id="702" name=""/>
                <p:cNvGrpSpPr/>
                <p:nvPr/>
              </p:nvGrpSpPr>
              <p:grpSpPr>
                <a:xfrm>
                  <a:off x="7693560" y="5029200"/>
                  <a:ext cx="452520" cy="369720"/>
                  <a:chOff x="7693560" y="5029200"/>
                  <a:chExt cx="452520" cy="36972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flipH="1">
                    <a:off x="7693560" y="502920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H="1">
                    <a:off x="7693200" y="502920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5" name=""/>
                <p:cNvSpPr/>
                <p:nvPr/>
              </p:nvSpPr>
              <p:spPr>
                <a:xfrm flipH="1">
                  <a:off x="7713360" y="50677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6" name=""/>
            <p:cNvSpPr/>
            <p:nvPr/>
          </p:nvSpPr>
          <p:spPr>
            <a:xfrm>
              <a:off x="2438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6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14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67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528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05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3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002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807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9688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61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1120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844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68304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305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33E-65D4-46EA-A06D-F891F5F9CCC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6FDA5-7C99-45E0-A086-00804A0C9A42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ing is not quite that easy!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44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pipelining: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Haza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vent next instruction from executing during its designated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tructura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HW cannot support this combination of instructions (single person to fold and put clothes awa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Data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nstruction depends on result of prior instruction still in the pipeline (missing soc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ontro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aused by delay between the fetching of instructions and decisions about changes in control flow (branches and jump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E9ED-0A89-464E-AFA5-1B37B740413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69182-5544-4638-AE6B-26410D47560B}" type="datetime1">
              <a:rPr lang="en-US"/>
              <a:t>07/30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ne Memory Port/Structural Hazard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4, Page A-14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1280" y="2590920"/>
            <a:ext cx="3672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20968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18520" y="1523880"/>
            <a:ext cx="24048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5080" y="2590920"/>
            <a:ext cx="91296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720" y="33368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35480" y="41306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44840" y="488160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3000" y="56624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219320" y="198108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610000" y="2603520"/>
            <a:ext cx="447480" cy="369720"/>
            <a:chOff x="2610000" y="2603520"/>
            <a:chExt cx="447480" cy="369720"/>
          </a:xfrm>
        </p:grpSpPr>
        <p:grpSp>
          <p:nvGrpSpPr>
            <p:cNvPr id="734" name=""/>
            <p:cNvGrpSpPr/>
            <p:nvPr/>
          </p:nvGrpSpPr>
          <p:grpSpPr>
            <a:xfrm>
              <a:off x="2610000" y="2603520"/>
              <a:ext cx="447480" cy="369720"/>
              <a:chOff x="2610000" y="2603520"/>
              <a:chExt cx="447480" cy="369720"/>
            </a:xfrm>
          </p:grpSpPr>
          <p:sp>
            <p:nvSpPr>
              <p:cNvPr id="735" name=""/>
              <p:cNvSpPr/>
              <p:nvPr/>
            </p:nvSpPr>
            <p:spPr>
              <a:xfrm>
                <a:off x="2833920" y="260352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610000" y="260352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2625480" y="26420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060720" y="26780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60720" y="28987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466800" y="2494080"/>
            <a:ext cx="403200" cy="588960"/>
            <a:chOff x="3466800" y="2494080"/>
            <a:chExt cx="403200" cy="588960"/>
          </a:xfrm>
        </p:grpSpPr>
        <p:sp>
          <p:nvSpPr>
            <p:cNvPr id="741" name=""/>
            <p:cNvSpPr/>
            <p:nvPr/>
          </p:nvSpPr>
          <p:spPr>
            <a:xfrm rot="16200000">
              <a:off x="3386160" y="259920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5400000">
              <a:off x="3472560" y="268740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5400000">
              <a:off x="3485520" y="271044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6200000">
              <a:off x="3517560" y="263124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3875040" y="278928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734000" y="278928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53040" y="2604960"/>
            <a:ext cx="450720" cy="36828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77440" y="264420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191120" y="2789280"/>
            <a:ext cx="674640" cy="29376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141640" y="29005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267804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676520" y="2604960"/>
            <a:ext cx="557280" cy="368280"/>
            <a:chOff x="1676520" y="2604960"/>
            <a:chExt cx="557280" cy="368280"/>
          </a:xfrm>
        </p:grpSpPr>
        <p:sp>
          <p:nvSpPr>
            <p:cNvPr id="753" name=""/>
            <p:cNvSpPr/>
            <p:nvPr/>
          </p:nvSpPr>
          <p:spPr>
            <a:xfrm>
              <a:off x="1730160" y="260496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76520" y="264348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322360" y="2438280"/>
            <a:ext cx="2635200" cy="700200"/>
            <a:chOff x="2322360" y="2438280"/>
            <a:chExt cx="2635200" cy="700200"/>
          </a:xfrm>
        </p:grpSpPr>
        <p:sp>
          <p:nvSpPr>
            <p:cNvPr id="756" name=""/>
            <p:cNvSpPr/>
            <p:nvPr/>
          </p:nvSpPr>
          <p:spPr>
            <a:xfrm>
              <a:off x="317052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684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32236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18680" y="244224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5087520" y="2590920"/>
            <a:ext cx="452520" cy="369720"/>
            <a:chOff x="5087520" y="2590920"/>
            <a:chExt cx="452520" cy="369720"/>
          </a:xfrm>
        </p:grpSpPr>
        <p:grpSp>
          <p:nvGrpSpPr>
            <p:cNvPr id="761" name=""/>
            <p:cNvGrpSpPr/>
            <p:nvPr/>
          </p:nvGrpSpPr>
          <p:grpSpPr>
            <a:xfrm>
              <a:off x="5087520" y="2590920"/>
              <a:ext cx="452520" cy="369720"/>
              <a:chOff x="5087520" y="2590920"/>
              <a:chExt cx="452520" cy="36972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5087520" y="2590920"/>
                <a:ext cx="22608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087160" y="2590920"/>
                <a:ext cx="45252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 flipH="1">
              <a:off x="5107320" y="26294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530440" y="3200400"/>
            <a:ext cx="3862800" cy="699840"/>
            <a:chOff x="2530440" y="3200400"/>
            <a:chExt cx="3862800" cy="699840"/>
          </a:xfrm>
        </p:grpSpPr>
        <p:grpSp>
          <p:nvGrpSpPr>
            <p:cNvPr id="766" name=""/>
            <p:cNvGrpSpPr/>
            <p:nvPr/>
          </p:nvGrpSpPr>
          <p:grpSpPr>
            <a:xfrm>
              <a:off x="3462840" y="3365280"/>
              <a:ext cx="448920" cy="370080"/>
              <a:chOff x="3462840" y="3365280"/>
              <a:chExt cx="448920" cy="370080"/>
            </a:xfrm>
          </p:grpSpPr>
          <p:grpSp>
            <p:nvGrpSpPr>
              <p:cNvPr id="767" name=""/>
              <p:cNvGrpSpPr/>
              <p:nvPr/>
            </p:nvGrpSpPr>
            <p:grpSpPr>
              <a:xfrm>
                <a:off x="3462840" y="3365280"/>
                <a:ext cx="448920" cy="370080"/>
                <a:chOff x="3462840" y="3365280"/>
                <a:chExt cx="448920" cy="37008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3687480" y="336528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462840" y="336528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" name=""/>
              <p:cNvSpPr/>
              <p:nvPr/>
            </p:nvSpPr>
            <p:spPr>
              <a:xfrm>
                <a:off x="3479040" y="34038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3913920" y="34401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13920" y="36604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4319640" y="3255840"/>
              <a:ext cx="404280" cy="588960"/>
              <a:chOff x="4319640" y="3255840"/>
              <a:chExt cx="404280" cy="588960"/>
            </a:xfrm>
          </p:grpSpPr>
          <p:sp>
            <p:nvSpPr>
              <p:cNvPr id="774" name=""/>
              <p:cNvSpPr/>
              <p:nvPr/>
            </p:nvSpPr>
            <p:spPr>
              <a:xfrm rot="16200000">
                <a:off x="4239720" y="336060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5400000">
                <a:off x="4325760" y="344880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5400000">
                <a:off x="4339080" y="347220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6200000">
                <a:off x="4371480" y="33930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4728240" y="355104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87920" y="355104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5030640" y="3367080"/>
              <a:ext cx="592200" cy="368280"/>
              <a:chOff x="5030640" y="3367080"/>
              <a:chExt cx="592200" cy="368280"/>
            </a:xfrm>
          </p:grpSpPr>
          <p:sp>
            <p:nvSpPr>
              <p:cNvPr id="781" name=""/>
              <p:cNvSpPr/>
              <p:nvPr/>
            </p:nvSpPr>
            <p:spPr>
              <a:xfrm>
                <a:off x="5105520" y="336708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030640" y="34056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5045400" y="355104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95920" y="366228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35080" y="344016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2530440" y="3367080"/>
              <a:ext cx="557280" cy="368280"/>
              <a:chOff x="2530440" y="3367080"/>
              <a:chExt cx="557280" cy="368280"/>
            </a:xfrm>
          </p:grpSpPr>
          <p:sp>
            <p:nvSpPr>
              <p:cNvPr id="787" name=""/>
              <p:cNvSpPr/>
              <p:nvPr/>
            </p:nvSpPr>
            <p:spPr>
              <a:xfrm>
                <a:off x="2584080" y="336708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530440" y="34056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176280" y="3200400"/>
              <a:ext cx="2634480" cy="699840"/>
              <a:chOff x="3176280" y="3200400"/>
              <a:chExt cx="2634480" cy="699840"/>
            </a:xfrm>
          </p:grpSpPr>
          <p:sp>
            <p:nvSpPr>
              <p:cNvPr id="790" name=""/>
              <p:cNvSpPr/>
              <p:nvPr/>
            </p:nvSpPr>
            <p:spPr>
              <a:xfrm>
                <a:off x="4024440" y="320040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720040" y="32004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176280" y="32004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872240" y="320436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940720" y="3352680"/>
              <a:ext cx="452520" cy="369720"/>
              <a:chOff x="5940720" y="3352680"/>
              <a:chExt cx="452520" cy="36972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5940720" y="3352680"/>
                <a:ext cx="452520" cy="369720"/>
                <a:chOff x="5940720" y="3352680"/>
                <a:chExt cx="452520" cy="369720"/>
              </a:xfrm>
            </p:grpSpPr>
            <p:sp>
              <p:nvSpPr>
                <p:cNvPr id="796" name=""/>
                <p:cNvSpPr/>
                <p:nvPr/>
              </p:nvSpPr>
              <p:spPr>
                <a:xfrm flipH="1">
                  <a:off x="5940720" y="335268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>
                  <a:off x="5940360" y="335268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" name=""/>
              <p:cNvSpPr/>
              <p:nvPr/>
            </p:nvSpPr>
            <p:spPr>
              <a:xfrm flipH="1">
                <a:off x="5960520" y="33912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9" name=""/>
          <p:cNvGrpSpPr/>
          <p:nvPr/>
        </p:nvGrpSpPr>
        <p:grpSpPr>
          <a:xfrm>
            <a:off x="3368520" y="3962520"/>
            <a:ext cx="3863160" cy="699840"/>
            <a:chOff x="3368520" y="3962520"/>
            <a:chExt cx="3863160" cy="699840"/>
          </a:xfrm>
        </p:grpSpPr>
        <p:grpSp>
          <p:nvGrpSpPr>
            <p:cNvPr id="800" name=""/>
            <p:cNvGrpSpPr/>
            <p:nvPr/>
          </p:nvGrpSpPr>
          <p:grpSpPr>
            <a:xfrm>
              <a:off x="4300920" y="4127400"/>
              <a:ext cx="448920" cy="370080"/>
              <a:chOff x="4300920" y="4127400"/>
              <a:chExt cx="448920" cy="370080"/>
            </a:xfrm>
          </p:grpSpPr>
          <p:grpSp>
            <p:nvGrpSpPr>
              <p:cNvPr id="801" name=""/>
              <p:cNvGrpSpPr/>
              <p:nvPr/>
            </p:nvGrpSpPr>
            <p:grpSpPr>
              <a:xfrm>
                <a:off x="4300920" y="4127400"/>
                <a:ext cx="448920" cy="370080"/>
                <a:chOff x="4300920" y="4127400"/>
                <a:chExt cx="448920" cy="37008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4525560" y="412740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300920" y="412740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4317120" y="4165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4752000" y="42022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752000" y="44226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5158080" y="4017960"/>
              <a:ext cx="404280" cy="588960"/>
              <a:chOff x="5158080" y="4017960"/>
              <a:chExt cx="404280" cy="588960"/>
            </a:xfrm>
          </p:grpSpPr>
          <p:sp>
            <p:nvSpPr>
              <p:cNvPr id="808" name=""/>
              <p:cNvSpPr/>
              <p:nvPr/>
            </p:nvSpPr>
            <p:spPr>
              <a:xfrm rot="16200000">
                <a:off x="5078160" y="412272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5400000">
                <a:off x="5164200" y="421092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5400000">
                <a:off x="5177520" y="423432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6200000">
                <a:off x="5209920" y="41551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5566680" y="431316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26360" y="4313160"/>
              <a:ext cx="49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5869080" y="4129200"/>
              <a:ext cx="592200" cy="368280"/>
              <a:chOff x="5869080" y="4129200"/>
              <a:chExt cx="592200" cy="368280"/>
            </a:xfrm>
          </p:grpSpPr>
          <p:sp>
            <p:nvSpPr>
              <p:cNvPr id="815" name=""/>
              <p:cNvSpPr/>
              <p:nvPr/>
            </p:nvSpPr>
            <p:spPr>
              <a:xfrm>
                <a:off x="5943960" y="4129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69080" y="41677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5883480" y="431316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34000" y="44244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773160" y="420228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3368520" y="4129200"/>
              <a:ext cx="557280" cy="368280"/>
              <a:chOff x="3368520" y="4129200"/>
              <a:chExt cx="557280" cy="368280"/>
            </a:xfrm>
          </p:grpSpPr>
          <p:sp>
            <p:nvSpPr>
              <p:cNvPr id="821" name=""/>
              <p:cNvSpPr/>
              <p:nvPr/>
            </p:nvSpPr>
            <p:spPr>
              <a:xfrm>
                <a:off x="3422160" y="4129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368520" y="416772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4014360" y="3962520"/>
              <a:ext cx="2634480" cy="699840"/>
              <a:chOff x="4014360" y="3962520"/>
              <a:chExt cx="2634480" cy="699840"/>
            </a:xfrm>
          </p:grpSpPr>
          <p:sp>
            <p:nvSpPr>
              <p:cNvPr id="824" name=""/>
              <p:cNvSpPr/>
              <p:nvPr/>
            </p:nvSpPr>
            <p:spPr>
              <a:xfrm>
                <a:off x="4862520" y="396252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58120" y="3962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14360" y="3962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710320" y="396648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6779160" y="4114800"/>
              <a:ext cx="452520" cy="369720"/>
              <a:chOff x="6779160" y="4114800"/>
              <a:chExt cx="452520" cy="36972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6779160" y="4114800"/>
                <a:ext cx="452520" cy="369720"/>
                <a:chOff x="6779160" y="4114800"/>
                <a:chExt cx="452520" cy="369720"/>
              </a:xfrm>
            </p:grpSpPr>
            <p:sp>
              <p:nvSpPr>
                <p:cNvPr id="830" name=""/>
                <p:cNvSpPr/>
                <p:nvPr/>
              </p:nvSpPr>
              <p:spPr>
                <a:xfrm flipH="1">
                  <a:off x="6779160" y="411480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>
                  <a:off x="6778800" y="411480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"/>
              <p:cNvSpPr/>
              <p:nvPr/>
            </p:nvSpPr>
            <p:spPr>
              <a:xfrm flipH="1">
                <a:off x="6798960" y="41533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"/>
          <p:cNvGrpSpPr/>
          <p:nvPr/>
        </p:nvGrpSpPr>
        <p:grpSpPr>
          <a:xfrm>
            <a:off x="5140440" y="4889520"/>
            <a:ext cx="447480" cy="369720"/>
            <a:chOff x="5140440" y="4889520"/>
            <a:chExt cx="447480" cy="369720"/>
          </a:xfrm>
        </p:grpSpPr>
        <p:grpSp>
          <p:nvGrpSpPr>
            <p:cNvPr id="834" name=""/>
            <p:cNvGrpSpPr/>
            <p:nvPr/>
          </p:nvGrpSpPr>
          <p:grpSpPr>
            <a:xfrm>
              <a:off x="5140440" y="4889520"/>
              <a:ext cx="447480" cy="369720"/>
              <a:chOff x="5140440" y="4889520"/>
              <a:chExt cx="447480" cy="369720"/>
            </a:xfrm>
          </p:grpSpPr>
          <p:sp>
            <p:nvSpPr>
              <p:cNvPr id="835" name=""/>
              <p:cNvSpPr/>
              <p:nvPr/>
            </p:nvSpPr>
            <p:spPr>
              <a:xfrm>
                <a:off x="5364360" y="488952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140440" y="488952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5155920" y="49280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5591160" y="49640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91160" y="51847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997240" y="4780080"/>
            <a:ext cx="403200" cy="588960"/>
            <a:chOff x="5997240" y="4780080"/>
            <a:chExt cx="403200" cy="588960"/>
          </a:xfrm>
        </p:grpSpPr>
        <p:sp>
          <p:nvSpPr>
            <p:cNvPr id="841" name=""/>
            <p:cNvSpPr/>
            <p:nvPr/>
          </p:nvSpPr>
          <p:spPr>
            <a:xfrm rot="16200000">
              <a:off x="5916600" y="488520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5400000">
              <a:off x="6003000" y="497340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5400000">
              <a:off x="6015960" y="499644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6200000">
              <a:off x="6048000" y="491724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6405480" y="507528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264440" y="507528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6708240" y="4890960"/>
            <a:ext cx="592200" cy="368280"/>
            <a:chOff x="6708240" y="4890960"/>
            <a:chExt cx="592200" cy="368280"/>
          </a:xfrm>
        </p:grpSpPr>
        <p:sp>
          <p:nvSpPr>
            <p:cNvPr id="848" name=""/>
            <p:cNvSpPr/>
            <p:nvPr/>
          </p:nvSpPr>
          <p:spPr>
            <a:xfrm>
              <a:off x="6782760" y="489096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708240" y="4929480"/>
              <a:ext cx="59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DM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6721560" y="5075280"/>
            <a:ext cx="674640" cy="29376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72080" y="51865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11600" y="496404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260960" y="4890960"/>
            <a:ext cx="450720" cy="36828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206960" y="493020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Ife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4853160" y="4724280"/>
            <a:ext cx="2634840" cy="700200"/>
            <a:chOff x="4853160" y="4724280"/>
            <a:chExt cx="2634840" cy="700200"/>
          </a:xfrm>
        </p:grpSpPr>
        <p:sp>
          <p:nvSpPr>
            <p:cNvPr id="856" name=""/>
            <p:cNvSpPr/>
            <p:nvPr/>
          </p:nvSpPr>
          <p:spPr>
            <a:xfrm>
              <a:off x="570132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39728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5316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49120" y="472824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7617960" y="4876920"/>
            <a:ext cx="452520" cy="369720"/>
            <a:chOff x="7617960" y="4876920"/>
            <a:chExt cx="452520" cy="369720"/>
          </a:xfrm>
        </p:grpSpPr>
        <p:grpSp>
          <p:nvGrpSpPr>
            <p:cNvPr id="861" name=""/>
            <p:cNvGrpSpPr/>
            <p:nvPr/>
          </p:nvGrpSpPr>
          <p:grpSpPr>
            <a:xfrm>
              <a:off x="7617960" y="4876920"/>
              <a:ext cx="452520" cy="369720"/>
              <a:chOff x="7617960" y="4876920"/>
              <a:chExt cx="452520" cy="369720"/>
            </a:xfrm>
          </p:grpSpPr>
          <p:sp>
            <p:nvSpPr>
              <p:cNvPr id="862" name=""/>
              <p:cNvSpPr/>
              <p:nvPr/>
            </p:nvSpPr>
            <p:spPr>
              <a:xfrm flipH="1">
                <a:off x="7617960" y="4876920"/>
                <a:ext cx="22608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617600" y="4876920"/>
                <a:ext cx="45252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 flipH="1">
              <a:off x="7637760" y="49154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150480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32056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1856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352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7686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0672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8542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056200" y="5504040"/>
            <a:ext cx="3862800" cy="699840"/>
            <a:chOff x="5056200" y="5504040"/>
            <a:chExt cx="3862800" cy="699840"/>
          </a:xfrm>
        </p:grpSpPr>
        <p:grpSp>
          <p:nvGrpSpPr>
            <p:cNvPr id="873" name=""/>
            <p:cNvGrpSpPr/>
            <p:nvPr/>
          </p:nvGrpSpPr>
          <p:grpSpPr>
            <a:xfrm>
              <a:off x="5988600" y="5668920"/>
              <a:ext cx="448920" cy="370080"/>
              <a:chOff x="5988600" y="5668920"/>
              <a:chExt cx="448920" cy="370080"/>
            </a:xfrm>
          </p:grpSpPr>
          <p:grpSp>
            <p:nvGrpSpPr>
              <p:cNvPr id="874" name=""/>
              <p:cNvGrpSpPr/>
              <p:nvPr/>
            </p:nvGrpSpPr>
            <p:grpSpPr>
              <a:xfrm>
                <a:off x="5988600" y="5668920"/>
                <a:ext cx="448920" cy="370080"/>
                <a:chOff x="5988600" y="5668920"/>
                <a:chExt cx="448920" cy="37008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6213240" y="566892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988600" y="566892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7" name=""/>
              <p:cNvSpPr/>
              <p:nvPr/>
            </p:nvSpPr>
            <p:spPr>
              <a:xfrm>
                <a:off x="6004800" y="57074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6439680" y="57438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39680" y="596412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6845400" y="5559480"/>
              <a:ext cx="404280" cy="588960"/>
              <a:chOff x="6845400" y="5559480"/>
              <a:chExt cx="404280" cy="588960"/>
            </a:xfrm>
          </p:grpSpPr>
          <p:sp>
            <p:nvSpPr>
              <p:cNvPr id="881" name=""/>
              <p:cNvSpPr/>
              <p:nvPr/>
            </p:nvSpPr>
            <p:spPr>
              <a:xfrm rot="16200000">
                <a:off x="6765480" y="566424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400000">
                <a:off x="6851520" y="575244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5400000">
                <a:off x="6864840" y="577584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6200000">
                <a:off x="6897240" y="569664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7254000" y="585468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113680" y="585468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7556400" y="5670720"/>
              <a:ext cx="592200" cy="368280"/>
              <a:chOff x="7556400" y="5670720"/>
              <a:chExt cx="592200" cy="368280"/>
            </a:xfrm>
          </p:grpSpPr>
          <p:sp>
            <p:nvSpPr>
              <p:cNvPr id="888" name=""/>
              <p:cNvSpPr/>
              <p:nvPr/>
            </p:nvSpPr>
            <p:spPr>
              <a:xfrm>
                <a:off x="7631280" y="567072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556400" y="570924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7571160" y="585468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521680" y="596592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60840" y="574380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5056200" y="5670720"/>
              <a:ext cx="557280" cy="368280"/>
              <a:chOff x="5056200" y="5670720"/>
              <a:chExt cx="557280" cy="368280"/>
            </a:xfrm>
          </p:grpSpPr>
          <p:sp>
            <p:nvSpPr>
              <p:cNvPr id="894" name=""/>
              <p:cNvSpPr/>
              <p:nvPr/>
            </p:nvSpPr>
            <p:spPr>
              <a:xfrm>
                <a:off x="5109840" y="567072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056200" y="57092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5702040" y="5504040"/>
              <a:ext cx="2634480" cy="699840"/>
              <a:chOff x="5702040" y="5504040"/>
              <a:chExt cx="2634480" cy="699840"/>
            </a:xfrm>
          </p:grpSpPr>
          <p:sp>
            <p:nvSpPr>
              <p:cNvPr id="897" name=""/>
              <p:cNvSpPr/>
              <p:nvPr/>
            </p:nvSpPr>
            <p:spPr>
              <a:xfrm>
                <a:off x="6550200" y="550404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245800" y="550404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702040" y="550404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398000" y="550800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8466480" y="5656320"/>
              <a:ext cx="452520" cy="369720"/>
              <a:chOff x="8466480" y="5656320"/>
              <a:chExt cx="452520" cy="369720"/>
            </a:xfrm>
          </p:grpSpPr>
          <p:grpSp>
            <p:nvGrpSpPr>
              <p:cNvPr id="902" name=""/>
              <p:cNvGrpSpPr/>
              <p:nvPr/>
            </p:nvGrpSpPr>
            <p:grpSpPr>
              <a:xfrm>
                <a:off x="8466480" y="5656320"/>
                <a:ext cx="452520" cy="369720"/>
                <a:chOff x="8466480" y="5656320"/>
                <a:chExt cx="452520" cy="369720"/>
              </a:xfrm>
            </p:grpSpPr>
            <p:sp>
              <p:nvSpPr>
                <p:cNvPr id="903" name=""/>
                <p:cNvSpPr/>
                <p:nvPr/>
              </p:nvSpPr>
              <p:spPr>
                <a:xfrm flipH="1">
                  <a:off x="8466480" y="565632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8466120" y="565632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5" name=""/>
              <p:cNvSpPr/>
              <p:nvPr/>
            </p:nvSpPr>
            <p:spPr>
              <a:xfrm flipH="1">
                <a:off x="8486280" y="56948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6" name=""/>
          <p:cNvSpPr/>
          <p:nvPr/>
        </p:nvSpPr>
        <p:spPr>
          <a:xfrm>
            <a:off x="236232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87692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03848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2940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73084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46748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214-02E5-4C45-A7A6-6345D3A454C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5FC47-E044-45DD-B1F5-45A963AB7059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ne Memory Port/Structural Hazard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imilar to Figure A.5, Page A-15)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51280" y="2209680"/>
            <a:ext cx="3672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5800" y="182880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18520" y="1143000"/>
            <a:ext cx="24048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85080" y="2209680"/>
            <a:ext cx="91296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4720" y="29559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35480" y="37497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45200" y="4500720"/>
            <a:ext cx="109584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83000" y="52815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19320" y="160020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2610000" y="2222640"/>
            <a:ext cx="447480" cy="369720"/>
            <a:chOff x="2610000" y="2222640"/>
            <a:chExt cx="447480" cy="369720"/>
          </a:xfrm>
        </p:grpSpPr>
        <p:grpSp>
          <p:nvGrpSpPr>
            <p:cNvPr id="924" name=""/>
            <p:cNvGrpSpPr/>
            <p:nvPr/>
          </p:nvGrpSpPr>
          <p:grpSpPr>
            <a:xfrm>
              <a:off x="2610000" y="2222640"/>
              <a:ext cx="447480" cy="369720"/>
              <a:chOff x="2610000" y="2222640"/>
              <a:chExt cx="447480" cy="369720"/>
            </a:xfrm>
          </p:grpSpPr>
          <p:sp>
            <p:nvSpPr>
              <p:cNvPr id="925" name=""/>
              <p:cNvSpPr/>
              <p:nvPr/>
            </p:nvSpPr>
            <p:spPr>
              <a:xfrm>
                <a:off x="2833920" y="222264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610000" y="222264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2625480" y="226116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060720" y="229716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60720" y="25178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466800" y="2112840"/>
            <a:ext cx="403200" cy="588960"/>
            <a:chOff x="3466800" y="2112840"/>
            <a:chExt cx="403200" cy="588960"/>
          </a:xfrm>
        </p:grpSpPr>
        <p:sp>
          <p:nvSpPr>
            <p:cNvPr id="931" name=""/>
            <p:cNvSpPr/>
            <p:nvPr/>
          </p:nvSpPr>
          <p:spPr>
            <a:xfrm rot="16200000">
              <a:off x="3386160" y="221796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5400000">
              <a:off x="3472560" y="230616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5400000">
              <a:off x="3485520" y="232920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16200000">
              <a:off x="3517560" y="225000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3875040" y="240840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734000" y="240840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253040" y="2224080"/>
            <a:ext cx="45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177440" y="226296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191120" y="2408400"/>
            <a:ext cx="674640" cy="29340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41640" y="251928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081160" y="229716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676520" y="2224080"/>
            <a:ext cx="557280" cy="368280"/>
            <a:chOff x="1676520" y="2224080"/>
            <a:chExt cx="557280" cy="368280"/>
          </a:xfrm>
        </p:grpSpPr>
        <p:sp>
          <p:nvSpPr>
            <p:cNvPr id="943" name=""/>
            <p:cNvSpPr/>
            <p:nvPr/>
          </p:nvSpPr>
          <p:spPr>
            <a:xfrm>
              <a:off x="1730160" y="222408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676520" y="226260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322360" y="2057400"/>
            <a:ext cx="2635200" cy="700200"/>
            <a:chOff x="2322360" y="2057400"/>
            <a:chExt cx="2635200" cy="700200"/>
          </a:xfrm>
        </p:grpSpPr>
        <p:sp>
          <p:nvSpPr>
            <p:cNvPr id="946" name=""/>
            <p:cNvSpPr/>
            <p:nvPr/>
          </p:nvSpPr>
          <p:spPr>
            <a:xfrm>
              <a:off x="317052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6684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2236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18680" y="206136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87520" y="2209680"/>
            <a:ext cx="452520" cy="370080"/>
            <a:chOff x="5087520" y="2209680"/>
            <a:chExt cx="452520" cy="370080"/>
          </a:xfrm>
        </p:grpSpPr>
        <p:grpSp>
          <p:nvGrpSpPr>
            <p:cNvPr id="951" name=""/>
            <p:cNvGrpSpPr/>
            <p:nvPr/>
          </p:nvGrpSpPr>
          <p:grpSpPr>
            <a:xfrm>
              <a:off x="5087520" y="2209680"/>
              <a:ext cx="452520" cy="370080"/>
              <a:chOff x="5087520" y="2209680"/>
              <a:chExt cx="452520" cy="370080"/>
            </a:xfrm>
          </p:grpSpPr>
          <p:sp>
            <p:nvSpPr>
              <p:cNvPr id="952" name=""/>
              <p:cNvSpPr/>
              <p:nvPr/>
            </p:nvSpPr>
            <p:spPr>
              <a:xfrm flipH="1">
                <a:off x="5087520" y="2209680"/>
                <a:ext cx="226080" cy="36576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5087160" y="2209680"/>
                <a:ext cx="452520" cy="37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 flipH="1">
              <a:off x="5107320" y="224820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2530440" y="2819520"/>
            <a:ext cx="3862800" cy="699840"/>
            <a:chOff x="2530440" y="2819520"/>
            <a:chExt cx="3862800" cy="699840"/>
          </a:xfrm>
        </p:grpSpPr>
        <p:grpSp>
          <p:nvGrpSpPr>
            <p:cNvPr id="956" name=""/>
            <p:cNvGrpSpPr/>
            <p:nvPr/>
          </p:nvGrpSpPr>
          <p:grpSpPr>
            <a:xfrm>
              <a:off x="3462840" y="2984400"/>
              <a:ext cx="448920" cy="370080"/>
              <a:chOff x="3462840" y="2984400"/>
              <a:chExt cx="448920" cy="370080"/>
            </a:xfrm>
          </p:grpSpPr>
          <p:grpSp>
            <p:nvGrpSpPr>
              <p:cNvPr id="957" name=""/>
              <p:cNvGrpSpPr/>
              <p:nvPr/>
            </p:nvGrpSpPr>
            <p:grpSpPr>
              <a:xfrm>
                <a:off x="3462840" y="2984400"/>
                <a:ext cx="448920" cy="370080"/>
                <a:chOff x="3462840" y="2984400"/>
                <a:chExt cx="448920" cy="37008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3687480" y="298440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3462840" y="298440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0" name=""/>
              <p:cNvSpPr/>
              <p:nvPr/>
            </p:nvSpPr>
            <p:spPr>
              <a:xfrm>
                <a:off x="3479040" y="3022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3913920" y="30592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913920" y="32796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4319640" y="2874960"/>
              <a:ext cx="404280" cy="588960"/>
              <a:chOff x="4319640" y="2874960"/>
              <a:chExt cx="404280" cy="588960"/>
            </a:xfrm>
          </p:grpSpPr>
          <p:sp>
            <p:nvSpPr>
              <p:cNvPr id="964" name=""/>
              <p:cNvSpPr/>
              <p:nvPr/>
            </p:nvSpPr>
            <p:spPr>
              <a:xfrm rot="16200000">
                <a:off x="4239720" y="297972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5400000">
                <a:off x="4325760" y="306792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5400000">
                <a:off x="4339080" y="309132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6200000">
                <a:off x="4371480" y="30121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4728240" y="317016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587920" y="317016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5030640" y="2986200"/>
              <a:ext cx="592200" cy="368280"/>
              <a:chOff x="5030640" y="2986200"/>
              <a:chExt cx="592200" cy="368280"/>
            </a:xfrm>
          </p:grpSpPr>
          <p:sp>
            <p:nvSpPr>
              <p:cNvPr id="971" name=""/>
              <p:cNvSpPr/>
              <p:nvPr/>
            </p:nvSpPr>
            <p:spPr>
              <a:xfrm>
                <a:off x="5105520" y="298620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030640" y="30247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5045400" y="317016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95920" y="32814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935080" y="305928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2530440" y="2986200"/>
              <a:ext cx="557280" cy="368280"/>
              <a:chOff x="2530440" y="2986200"/>
              <a:chExt cx="557280" cy="368280"/>
            </a:xfrm>
          </p:grpSpPr>
          <p:sp>
            <p:nvSpPr>
              <p:cNvPr id="977" name=""/>
              <p:cNvSpPr/>
              <p:nvPr/>
            </p:nvSpPr>
            <p:spPr>
              <a:xfrm>
                <a:off x="2584080" y="2986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530440" y="302472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3176280" y="2819520"/>
              <a:ext cx="2634480" cy="699840"/>
              <a:chOff x="3176280" y="2819520"/>
              <a:chExt cx="2634480" cy="699840"/>
            </a:xfrm>
          </p:grpSpPr>
          <p:sp>
            <p:nvSpPr>
              <p:cNvPr id="980" name=""/>
              <p:cNvSpPr/>
              <p:nvPr/>
            </p:nvSpPr>
            <p:spPr>
              <a:xfrm>
                <a:off x="4024440" y="281952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720040" y="2819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176280" y="2819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872240" y="282348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5940720" y="2971800"/>
              <a:ext cx="452520" cy="369720"/>
              <a:chOff x="5940720" y="2971800"/>
              <a:chExt cx="452520" cy="36972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5940720" y="2971800"/>
                <a:ext cx="452520" cy="369720"/>
                <a:chOff x="5940720" y="2971800"/>
                <a:chExt cx="452520" cy="369720"/>
              </a:xfrm>
            </p:grpSpPr>
            <p:sp>
              <p:nvSpPr>
                <p:cNvPr id="986" name=""/>
                <p:cNvSpPr/>
                <p:nvPr/>
              </p:nvSpPr>
              <p:spPr>
                <a:xfrm flipH="1">
                  <a:off x="5940720" y="297180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>
                  <a:off x="5940360" y="297180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"/>
              <p:cNvSpPr/>
              <p:nvPr/>
            </p:nvSpPr>
            <p:spPr>
              <a:xfrm flipH="1">
                <a:off x="5960520" y="30103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9" name=""/>
          <p:cNvGrpSpPr/>
          <p:nvPr/>
        </p:nvGrpSpPr>
        <p:grpSpPr>
          <a:xfrm>
            <a:off x="3368520" y="3581280"/>
            <a:ext cx="3863880" cy="699840"/>
            <a:chOff x="3368520" y="3581280"/>
            <a:chExt cx="3863880" cy="699840"/>
          </a:xfrm>
        </p:grpSpPr>
        <p:grpSp>
          <p:nvGrpSpPr>
            <p:cNvPr id="990" name=""/>
            <p:cNvGrpSpPr/>
            <p:nvPr/>
          </p:nvGrpSpPr>
          <p:grpSpPr>
            <a:xfrm>
              <a:off x="4302000" y="3746160"/>
              <a:ext cx="447840" cy="370080"/>
              <a:chOff x="4302000" y="3746160"/>
              <a:chExt cx="447840" cy="37008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4302000" y="3746160"/>
                <a:ext cx="447840" cy="370080"/>
                <a:chOff x="4302000" y="3746160"/>
                <a:chExt cx="447840" cy="37008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4525920" y="3746160"/>
                  <a:ext cx="22356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302000" y="3746160"/>
                  <a:ext cx="44784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4317480" y="37846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4753080" y="382104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53080" y="40413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7" name=""/>
            <p:cNvGrpSpPr/>
            <p:nvPr/>
          </p:nvGrpSpPr>
          <p:grpSpPr>
            <a:xfrm>
              <a:off x="5159160" y="3636720"/>
              <a:ext cx="403200" cy="588960"/>
              <a:chOff x="5159160" y="3636720"/>
              <a:chExt cx="403200" cy="588960"/>
            </a:xfrm>
          </p:grpSpPr>
          <p:sp>
            <p:nvSpPr>
              <p:cNvPr id="998" name=""/>
              <p:cNvSpPr/>
              <p:nvPr/>
            </p:nvSpPr>
            <p:spPr>
              <a:xfrm rot="16200000">
                <a:off x="5078520" y="3741840"/>
                <a:ext cx="588960" cy="37836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160 h 378360"/>
                  <a:gd name="textAreaBottom" fmla="*/ 29520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5400000">
                <a:off x="5164920" y="3830040"/>
                <a:ext cx="190080" cy="201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5400000">
                <a:off x="5177880" y="3853080"/>
                <a:ext cx="167040" cy="1558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6200000">
                <a:off x="5209920" y="377388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>
              <a:off x="5567400" y="3931920"/>
              <a:ext cx="49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26360" y="3931920"/>
              <a:ext cx="4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5869800" y="3747960"/>
              <a:ext cx="592200" cy="368280"/>
              <a:chOff x="5869800" y="3747960"/>
              <a:chExt cx="592200" cy="368280"/>
            </a:xfrm>
          </p:grpSpPr>
          <p:sp>
            <p:nvSpPr>
              <p:cNvPr id="1005" name=""/>
              <p:cNvSpPr/>
              <p:nvPr/>
            </p:nvSpPr>
            <p:spPr>
              <a:xfrm>
                <a:off x="5944320" y="374796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869800" y="378648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5883120" y="3931920"/>
              <a:ext cx="67500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33640" y="404316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773520" y="3821040"/>
              <a:ext cx="52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68520" y="3747960"/>
              <a:ext cx="557280" cy="368280"/>
              <a:chOff x="3368520" y="3747960"/>
              <a:chExt cx="557280" cy="368280"/>
            </a:xfrm>
          </p:grpSpPr>
          <p:sp>
            <p:nvSpPr>
              <p:cNvPr id="1011" name=""/>
              <p:cNvSpPr/>
              <p:nvPr/>
            </p:nvSpPr>
            <p:spPr>
              <a:xfrm>
                <a:off x="3422160" y="374796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368520" y="378648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4014720" y="3581280"/>
              <a:ext cx="2634840" cy="699840"/>
              <a:chOff x="4014720" y="3581280"/>
              <a:chExt cx="2634840" cy="699840"/>
            </a:xfrm>
          </p:grpSpPr>
          <p:sp>
            <p:nvSpPr>
              <p:cNvPr id="1014" name=""/>
              <p:cNvSpPr/>
              <p:nvPr/>
            </p:nvSpPr>
            <p:spPr>
              <a:xfrm>
                <a:off x="486288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55884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01472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710680" y="358524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6779880" y="3733560"/>
              <a:ext cx="452520" cy="369720"/>
              <a:chOff x="6779880" y="3733560"/>
              <a:chExt cx="452520" cy="369720"/>
            </a:xfrm>
          </p:grpSpPr>
          <p:grpSp>
            <p:nvGrpSpPr>
              <p:cNvPr id="1019" name=""/>
              <p:cNvGrpSpPr/>
              <p:nvPr/>
            </p:nvGrpSpPr>
            <p:grpSpPr>
              <a:xfrm>
                <a:off x="6779880" y="3733560"/>
                <a:ext cx="452520" cy="369720"/>
                <a:chOff x="6779880" y="3733560"/>
                <a:chExt cx="452520" cy="369720"/>
              </a:xfrm>
            </p:grpSpPr>
            <p:sp>
              <p:nvSpPr>
                <p:cNvPr id="1020" name=""/>
                <p:cNvSpPr/>
                <p:nvPr/>
              </p:nvSpPr>
              <p:spPr>
                <a:xfrm flipH="1">
                  <a:off x="6779880" y="373356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>
                  <a:off x="6779520" y="373356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2" name=""/>
              <p:cNvSpPr/>
              <p:nvPr/>
            </p:nvSpPr>
            <p:spPr>
              <a:xfrm flipH="1">
                <a:off x="6799680" y="37720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3" name=""/>
          <p:cNvSpPr/>
          <p:nvPr/>
        </p:nvSpPr>
        <p:spPr>
          <a:xfrm>
            <a:off x="150480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32056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1856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0352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7686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60672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8542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5056200" y="5122800"/>
            <a:ext cx="3862800" cy="699840"/>
            <a:chOff x="5056200" y="5122800"/>
            <a:chExt cx="3862800" cy="699840"/>
          </a:xfrm>
        </p:grpSpPr>
        <p:grpSp>
          <p:nvGrpSpPr>
            <p:cNvPr id="1031" name=""/>
            <p:cNvGrpSpPr/>
            <p:nvPr/>
          </p:nvGrpSpPr>
          <p:grpSpPr>
            <a:xfrm>
              <a:off x="5988600" y="5287680"/>
              <a:ext cx="448920" cy="370080"/>
              <a:chOff x="5988600" y="5287680"/>
              <a:chExt cx="448920" cy="37008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5988600" y="5287680"/>
                <a:ext cx="448920" cy="370080"/>
                <a:chOff x="5988600" y="5287680"/>
                <a:chExt cx="448920" cy="37008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213240" y="528768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5988600" y="528768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04800" y="53262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6439680" y="53625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39680" y="55828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6845400" y="5178240"/>
              <a:ext cx="404280" cy="588960"/>
              <a:chOff x="6845400" y="5178240"/>
              <a:chExt cx="404280" cy="588960"/>
            </a:xfrm>
          </p:grpSpPr>
          <p:sp>
            <p:nvSpPr>
              <p:cNvPr id="1039" name=""/>
              <p:cNvSpPr/>
              <p:nvPr/>
            </p:nvSpPr>
            <p:spPr>
              <a:xfrm rot="16200000">
                <a:off x="6765480" y="528300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5400000">
                <a:off x="6851520" y="537120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5400000">
                <a:off x="6864840" y="539460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897240" y="53154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7254000" y="547344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113680" y="547344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7556400" y="5289480"/>
              <a:ext cx="592200" cy="368280"/>
              <a:chOff x="7556400" y="5289480"/>
              <a:chExt cx="592200" cy="368280"/>
            </a:xfrm>
          </p:grpSpPr>
          <p:sp>
            <p:nvSpPr>
              <p:cNvPr id="1046" name=""/>
              <p:cNvSpPr/>
              <p:nvPr/>
            </p:nvSpPr>
            <p:spPr>
              <a:xfrm>
                <a:off x="7631280" y="528948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556400" y="53280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8" name=""/>
            <p:cNvSpPr/>
            <p:nvPr/>
          </p:nvSpPr>
          <p:spPr>
            <a:xfrm>
              <a:off x="7571160" y="547344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21680" y="558468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60840" y="536256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5056200" y="5289480"/>
              <a:ext cx="557280" cy="368280"/>
              <a:chOff x="5056200" y="5289480"/>
              <a:chExt cx="557280" cy="368280"/>
            </a:xfrm>
          </p:grpSpPr>
          <p:sp>
            <p:nvSpPr>
              <p:cNvPr id="1052" name=""/>
              <p:cNvSpPr/>
              <p:nvPr/>
            </p:nvSpPr>
            <p:spPr>
              <a:xfrm>
                <a:off x="5109840" y="528948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056200" y="53280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5702040" y="5122800"/>
              <a:ext cx="2634480" cy="699840"/>
              <a:chOff x="5702040" y="5122800"/>
              <a:chExt cx="2634480" cy="699840"/>
            </a:xfrm>
          </p:grpSpPr>
          <p:sp>
            <p:nvSpPr>
              <p:cNvPr id="1055" name=""/>
              <p:cNvSpPr/>
              <p:nvPr/>
            </p:nvSpPr>
            <p:spPr>
              <a:xfrm>
                <a:off x="6550200" y="512280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245800" y="51228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702040" y="51228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398000" y="512676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8466480" y="5275080"/>
              <a:ext cx="452520" cy="369720"/>
              <a:chOff x="8466480" y="5275080"/>
              <a:chExt cx="452520" cy="36972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8466480" y="5275080"/>
                <a:ext cx="452520" cy="369720"/>
                <a:chOff x="8466480" y="5275080"/>
                <a:chExt cx="452520" cy="369720"/>
              </a:xfrm>
            </p:grpSpPr>
            <p:sp>
              <p:nvSpPr>
                <p:cNvPr id="1061" name=""/>
                <p:cNvSpPr/>
                <p:nvPr/>
              </p:nvSpPr>
              <p:spPr>
                <a:xfrm flipH="1">
                  <a:off x="8466480" y="527508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H="1">
                  <a:off x="8466120" y="527508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"/>
              <p:cNvSpPr/>
              <p:nvPr/>
            </p:nvSpPr>
            <p:spPr>
              <a:xfrm flipH="1">
                <a:off x="8486280" y="53136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4" name=""/>
          <p:cNvSpPr/>
          <p:nvPr/>
        </p:nvSpPr>
        <p:spPr>
          <a:xfrm>
            <a:off x="236232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7692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03848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20040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62940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73084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46748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4038480" y="4343400"/>
            <a:ext cx="4343400" cy="700200"/>
            <a:chOff x="4038480" y="4343400"/>
            <a:chExt cx="4343400" cy="700200"/>
          </a:xfrm>
        </p:grpSpPr>
        <p:sp>
          <p:nvSpPr>
            <p:cNvPr id="1072" name=""/>
            <p:cNvSpPr/>
            <p:nvPr/>
          </p:nvSpPr>
          <p:spPr>
            <a:xfrm>
              <a:off x="4038480" y="4419720"/>
              <a:ext cx="762120" cy="609480"/>
            </a:xfrm>
            <a:prstGeom prst="cloudCallout">
              <a:avLst>
                <a:gd name="adj1" fmla="val 21875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7150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6294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438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7692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4843440" y="4343400"/>
              <a:ext cx="2634840" cy="700200"/>
              <a:chOff x="4843440" y="4343400"/>
              <a:chExt cx="2634840" cy="700200"/>
            </a:xfrm>
          </p:grpSpPr>
          <p:sp>
            <p:nvSpPr>
              <p:cNvPr id="1078" name=""/>
              <p:cNvSpPr/>
              <p:nvPr/>
            </p:nvSpPr>
            <p:spPr>
              <a:xfrm>
                <a:off x="569160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38756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84344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539400" y="4347360"/>
                <a:ext cx="89280" cy="690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2" name=""/>
          <p:cNvSpPr/>
          <p:nvPr/>
        </p:nvSpPr>
        <p:spPr>
          <a:xfrm>
            <a:off x="973440" y="625968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ow do you “bubble” the pip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0AD-43B5-4AFB-A460-B06ECC52CBF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39772-393F-4142-BF56-88BCA64AA547}" type="datetime1">
              <a:rPr lang="en-US"/>
              <a:t>07/30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4F1-C888-4E8A-8AE9-3E5D370D0A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72775-6E98-4C49-92EF-3FA01FF854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ed Up Equation for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609480" y="3048120"/>
                <a:ext cx="8269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deal CPI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al CPI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609480" y="5105520"/>
                <a:ext cx="7101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685800" y="2209680"/>
                <a:ext cx="72914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pelin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Ideal CP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verage Stall cycles per I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7" name=""/>
          <p:cNvSpPr/>
          <p:nvPr/>
        </p:nvSpPr>
        <p:spPr>
          <a:xfrm>
            <a:off x="510480" y="4266000"/>
            <a:ext cx="50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For simple RISC pipeline, CPI =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470-F502-4E0D-A7B3-5AEE9571A8B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E679F-14E0-4D12-A21C-5106E199B69F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Dual-port vs. Single-por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61440" y="1371600"/>
            <a:ext cx="8782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A: Dual ported memory (“Harvard Architecture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B: Single ported memory, but its pipelined implementation has a 1.05 times faster clock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l CPI = 1 for bo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s are 40% of instructions exec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1 + 0) x 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Pipeline Dep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1 + 0.4 x 1) x 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 1.0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(Pipeline Depth/1.4) x  1.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0.75 x Pipeline Dep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0.75 x Pipeline Depth) = 1.3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A is 1.33 times fas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D3E-6D7E-4279-984B-53C24857461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AD896-4701-49AC-B147-D7475461D349}" type="datetime1">
              <a:rPr lang="en-US"/>
              <a:t>07/30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"/>
          <p:cNvGrpSpPr/>
          <p:nvPr/>
        </p:nvGrpSpPr>
        <p:grpSpPr>
          <a:xfrm>
            <a:off x="103680" y="2143080"/>
            <a:ext cx="9024120" cy="4047480"/>
            <a:chOff x="103680" y="2143080"/>
            <a:chExt cx="9024120" cy="4047480"/>
          </a:xfrm>
        </p:grpSpPr>
        <p:grpSp>
          <p:nvGrpSpPr>
            <p:cNvPr id="1091" name=""/>
            <p:cNvGrpSpPr/>
            <p:nvPr/>
          </p:nvGrpSpPr>
          <p:grpSpPr>
            <a:xfrm>
              <a:off x="103680" y="2143080"/>
              <a:ext cx="3393000" cy="3962520"/>
              <a:chOff x="103680" y="2143080"/>
              <a:chExt cx="3393000" cy="3962520"/>
            </a:xfrm>
          </p:grpSpPr>
          <p:sp>
            <p:nvSpPr>
              <p:cNvPr id="1092" name=""/>
              <p:cNvSpPr/>
              <p:nvPr/>
            </p:nvSpPr>
            <p:spPr>
              <a:xfrm>
                <a:off x="2046240" y="2143080"/>
                <a:ext cx="1143000" cy="396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03680" y="2219400"/>
                <a:ext cx="367200" cy="344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92200" y="2238480"/>
                <a:ext cx="0" cy="37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48800" y="2295360"/>
                <a:ext cx="237600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dd 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2,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48800" y="317196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sub r4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48800" y="401004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nd r6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48800" y="4867200"/>
                <a:ext cx="255888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or   r8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4920" y="5638680"/>
                <a:ext cx="274176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xor r10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3070080" y="2163600"/>
              <a:ext cx="6057720" cy="4026960"/>
              <a:chOff x="3070080" y="2163600"/>
              <a:chExt cx="6057720" cy="4026960"/>
            </a:xfrm>
          </p:grpSpPr>
          <p:grpSp>
            <p:nvGrpSpPr>
              <p:cNvPr id="1101" name=""/>
              <p:cNvGrpSpPr/>
              <p:nvPr/>
            </p:nvGrpSpPr>
            <p:grpSpPr>
              <a:xfrm>
                <a:off x="4465800" y="3839760"/>
                <a:ext cx="3258000" cy="699840"/>
                <a:chOff x="4465800" y="3839760"/>
                <a:chExt cx="3258000" cy="699840"/>
              </a:xfrm>
            </p:grpSpPr>
            <p:grpSp>
              <p:nvGrpSpPr>
                <p:cNvPr id="1102" name=""/>
                <p:cNvGrpSpPr/>
                <p:nvPr/>
              </p:nvGrpSpPr>
              <p:grpSpPr>
                <a:xfrm>
                  <a:off x="5258520" y="4004640"/>
                  <a:ext cx="420120" cy="370080"/>
                  <a:chOff x="5258520" y="4004640"/>
                  <a:chExt cx="420120" cy="370080"/>
                </a:xfrm>
              </p:grpSpPr>
              <p:grpSp>
                <p:nvGrpSpPr>
                  <p:cNvPr id="1103" name=""/>
                  <p:cNvGrpSpPr/>
                  <p:nvPr/>
                </p:nvGrpSpPr>
                <p:grpSpPr>
                  <a:xfrm>
                    <a:off x="5279760" y="4004640"/>
                    <a:ext cx="370800" cy="370080"/>
                    <a:chOff x="5279760" y="4004640"/>
                    <a:chExt cx="370800" cy="370080"/>
                  </a:xfrm>
                </p:grpSpPr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5465160" y="400464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5279760" y="400464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6" name=""/>
                  <p:cNvSpPr/>
                  <p:nvPr/>
                </p:nvSpPr>
                <p:spPr>
                  <a:xfrm>
                    <a:off x="5258520" y="40431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7" name=""/>
                <p:cNvSpPr/>
                <p:nvPr/>
              </p:nvSpPr>
              <p:spPr>
                <a:xfrm>
                  <a:off x="5651640" y="407952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651640" y="4299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9" name=""/>
                <p:cNvGrpSpPr/>
                <p:nvPr/>
              </p:nvGrpSpPr>
              <p:grpSpPr>
                <a:xfrm>
                  <a:off x="5986080" y="3895200"/>
                  <a:ext cx="345960" cy="588960"/>
                  <a:chOff x="5986080" y="3895200"/>
                  <a:chExt cx="345960" cy="58896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 rot="16200000">
                    <a:off x="5868720" y="403272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rot="5400000">
                    <a:off x="5974560" y="410580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rot="5400000">
                    <a:off x="5987160" y="412488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 rot="16200000">
                    <a:off x="5991120" y="40323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4" name=""/>
                <p:cNvSpPr/>
                <p:nvPr/>
              </p:nvSpPr>
              <p:spPr>
                <a:xfrm>
                  <a:off x="6322680" y="419040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7031160" y="419040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6" name=""/>
                <p:cNvGrpSpPr/>
                <p:nvPr/>
              </p:nvGrpSpPr>
              <p:grpSpPr>
                <a:xfrm>
                  <a:off x="6522120" y="4006440"/>
                  <a:ext cx="592200" cy="368280"/>
                  <a:chOff x="6522120" y="4006440"/>
                  <a:chExt cx="592200" cy="36828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6633720" y="400644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522120" y="404496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9" name=""/>
                <p:cNvSpPr/>
                <p:nvPr/>
              </p:nvSpPr>
              <p:spPr>
                <a:xfrm>
                  <a:off x="6584040" y="419040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894920" y="430164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844880" y="407952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2" name=""/>
                <p:cNvGrpSpPr/>
                <p:nvPr/>
              </p:nvGrpSpPr>
              <p:grpSpPr>
                <a:xfrm>
                  <a:off x="4465800" y="4006440"/>
                  <a:ext cx="557280" cy="368280"/>
                  <a:chOff x="4465800" y="4006440"/>
                  <a:chExt cx="557280" cy="36828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555080" y="400644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465800" y="404496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5" name=""/>
                <p:cNvGrpSpPr/>
                <p:nvPr/>
              </p:nvGrpSpPr>
              <p:grpSpPr>
                <a:xfrm>
                  <a:off x="5043960" y="3839760"/>
                  <a:ext cx="2171160" cy="699840"/>
                  <a:chOff x="5043960" y="3839760"/>
                  <a:chExt cx="2171160" cy="69984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>
                    <a:off x="5742720" y="383976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7140240" y="38397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043960" y="38397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6441480" y="384372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7303680" y="3992040"/>
                  <a:ext cx="420120" cy="369720"/>
                  <a:chOff x="7303680" y="3992040"/>
                  <a:chExt cx="420120" cy="369720"/>
                </a:xfrm>
              </p:grpSpPr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7332840" y="3992040"/>
                    <a:ext cx="373320" cy="369720"/>
                    <a:chOff x="7332840" y="3992040"/>
                    <a:chExt cx="373320" cy="369720"/>
                  </a:xfrm>
                </p:grpSpPr>
                <p:sp>
                  <p:nvSpPr>
                    <p:cNvPr id="1132" name=""/>
                    <p:cNvSpPr/>
                    <p:nvPr/>
                  </p:nvSpPr>
                  <p:spPr>
                    <a:xfrm flipH="1">
                      <a:off x="7332840" y="3992040"/>
                      <a:ext cx="18648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 flipH="1">
                      <a:off x="7332480" y="3992040"/>
                      <a:ext cx="37332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34" name=""/>
                  <p:cNvSpPr/>
                  <p:nvPr/>
                </p:nvSpPr>
                <p:spPr>
                  <a:xfrm flipH="1">
                    <a:off x="7303320" y="40305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35" name=""/>
              <p:cNvGrpSpPr/>
              <p:nvPr/>
            </p:nvGrpSpPr>
            <p:grpSpPr>
              <a:xfrm>
                <a:off x="3762720" y="2989080"/>
                <a:ext cx="3259440" cy="699840"/>
                <a:chOff x="3762720" y="2989080"/>
                <a:chExt cx="3259440" cy="699840"/>
              </a:xfrm>
            </p:grpSpPr>
            <p:grpSp>
              <p:nvGrpSpPr>
                <p:cNvPr id="1136" name=""/>
                <p:cNvGrpSpPr/>
                <p:nvPr/>
              </p:nvGrpSpPr>
              <p:grpSpPr>
                <a:xfrm>
                  <a:off x="4555080" y="3153960"/>
                  <a:ext cx="420120" cy="370080"/>
                  <a:chOff x="4555080" y="3153960"/>
                  <a:chExt cx="420120" cy="370080"/>
                </a:xfrm>
              </p:grpSpPr>
              <p:grpSp>
                <p:nvGrpSpPr>
                  <p:cNvPr id="1137" name=""/>
                  <p:cNvGrpSpPr/>
                  <p:nvPr/>
                </p:nvGrpSpPr>
                <p:grpSpPr>
                  <a:xfrm>
                    <a:off x="4576320" y="3153960"/>
                    <a:ext cx="370800" cy="370080"/>
                    <a:chOff x="4576320" y="3153960"/>
                    <a:chExt cx="370800" cy="370080"/>
                  </a:xfrm>
                </p:grpSpPr>
                <p:sp>
                  <p:nvSpPr>
                    <p:cNvPr id="1138" name=""/>
                    <p:cNvSpPr/>
                    <p:nvPr/>
                  </p:nvSpPr>
                  <p:spPr>
                    <a:xfrm>
                      <a:off x="4761720" y="315396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>
                      <a:off x="4576320" y="315396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40" name=""/>
                  <p:cNvSpPr/>
                  <p:nvPr/>
                </p:nvSpPr>
                <p:spPr>
                  <a:xfrm>
                    <a:off x="4555080" y="31924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1" name=""/>
                <p:cNvSpPr/>
                <p:nvPr/>
              </p:nvSpPr>
              <p:spPr>
                <a:xfrm>
                  <a:off x="4948560" y="3228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948560" y="3449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3" name=""/>
                <p:cNvGrpSpPr/>
                <p:nvPr/>
              </p:nvGrpSpPr>
              <p:grpSpPr>
                <a:xfrm>
                  <a:off x="5283000" y="3044520"/>
                  <a:ext cx="345960" cy="588960"/>
                  <a:chOff x="5283000" y="3044520"/>
                  <a:chExt cx="345960" cy="588960"/>
                </a:xfrm>
              </p:grpSpPr>
              <p:sp>
                <p:nvSpPr>
                  <p:cNvPr id="1144" name=""/>
                  <p:cNvSpPr/>
                  <p:nvPr/>
                </p:nvSpPr>
                <p:spPr>
                  <a:xfrm rot="16200000">
                    <a:off x="5165640" y="318204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rot="5400000">
                    <a:off x="5271480" y="325512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 rot="5400000">
                    <a:off x="5284080" y="327420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rot="16200000">
                    <a:off x="5288040" y="318312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8" name=""/>
                <p:cNvSpPr/>
                <p:nvPr/>
              </p:nvSpPr>
              <p:spPr>
                <a:xfrm>
                  <a:off x="5619600" y="333972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6327720" y="33397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0" name=""/>
                <p:cNvGrpSpPr/>
                <p:nvPr/>
              </p:nvGrpSpPr>
              <p:grpSpPr>
                <a:xfrm>
                  <a:off x="5819040" y="3155760"/>
                  <a:ext cx="592200" cy="368280"/>
                  <a:chOff x="5819040" y="3155760"/>
                  <a:chExt cx="592200" cy="36828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5930640" y="315576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819040" y="319428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3" name=""/>
                <p:cNvSpPr/>
                <p:nvPr/>
              </p:nvSpPr>
              <p:spPr>
                <a:xfrm>
                  <a:off x="5880600" y="333972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191840" y="345096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141800" y="322884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6" name=""/>
                <p:cNvGrpSpPr/>
                <p:nvPr/>
              </p:nvGrpSpPr>
              <p:grpSpPr>
                <a:xfrm>
                  <a:off x="3762720" y="3155760"/>
                  <a:ext cx="557280" cy="368280"/>
                  <a:chOff x="3762720" y="3155760"/>
                  <a:chExt cx="557280" cy="36828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3852000" y="315576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3762720" y="319428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4340880" y="2989080"/>
                  <a:ext cx="2170800" cy="699840"/>
                  <a:chOff x="4340880" y="2989080"/>
                  <a:chExt cx="2170800" cy="6998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5039640" y="298908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6436800" y="29890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4340880" y="29890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738040" y="299304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4" name=""/>
                <p:cNvGrpSpPr/>
                <p:nvPr/>
              </p:nvGrpSpPr>
              <p:grpSpPr>
                <a:xfrm>
                  <a:off x="6602040" y="3141360"/>
                  <a:ext cx="420120" cy="369720"/>
                  <a:chOff x="6602040" y="3141360"/>
                  <a:chExt cx="420120" cy="369720"/>
                </a:xfrm>
              </p:grpSpPr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6632640" y="3141360"/>
                    <a:ext cx="373680" cy="369720"/>
                    <a:chOff x="6632640" y="3141360"/>
                    <a:chExt cx="373680" cy="36972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flipH="1">
                      <a:off x="6632280" y="314136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>
                      <a:off x="6632640" y="314136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8" name=""/>
                  <p:cNvSpPr/>
                  <p:nvPr/>
                </p:nvSpPr>
                <p:spPr>
                  <a:xfrm flipH="1">
                    <a:off x="6601680" y="31798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9" name=""/>
              <p:cNvGrpSpPr/>
              <p:nvPr/>
            </p:nvGrpSpPr>
            <p:grpSpPr>
              <a:xfrm>
                <a:off x="3070080" y="2163600"/>
                <a:ext cx="3257640" cy="699840"/>
                <a:chOff x="3070080" y="2163600"/>
                <a:chExt cx="3257640" cy="699840"/>
              </a:xfrm>
            </p:grpSpPr>
            <p:grpSp>
              <p:nvGrpSpPr>
                <p:cNvPr id="1170" name=""/>
                <p:cNvGrpSpPr/>
                <p:nvPr/>
              </p:nvGrpSpPr>
              <p:grpSpPr>
                <a:xfrm>
                  <a:off x="3862440" y="2328480"/>
                  <a:ext cx="420120" cy="370080"/>
                  <a:chOff x="3862440" y="2328480"/>
                  <a:chExt cx="420120" cy="370080"/>
                </a:xfrm>
              </p:grpSpPr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3885480" y="2328480"/>
                    <a:ext cx="370440" cy="370080"/>
                    <a:chOff x="3885480" y="2328480"/>
                    <a:chExt cx="370440" cy="37008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4070880" y="23284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3885480" y="23284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74" name=""/>
                  <p:cNvSpPr/>
                  <p:nvPr/>
                </p:nvSpPr>
                <p:spPr>
                  <a:xfrm>
                    <a:off x="3862440" y="23670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5" name=""/>
                <p:cNvSpPr/>
                <p:nvPr/>
              </p:nvSpPr>
              <p:spPr>
                <a:xfrm>
                  <a:off x="4257360" y="24033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257360" y="26236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7" name=""/>
                <p:cNvGrpSpPr/>
                <p:nvPr/>
              </p:nvGrpSpPr>
              <p:grpSpPr>
                <a:xfrm>
                  <a:off x="4591800" y="2219040"/>
                  <a:ext cx="345960" cy="588960"/>
                  <a:chOff x="4591800" y="2219040"/>
                  <a:chExt cx="345960" cy="5889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 rot="16200000">
                    <a:off x="4474440" y="23565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 rot="5400000">
                    <a:off x="4580280" y="24296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 rot="5400000">
                    <a:off x="4592880" y="24487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 rot="16200000">
                    <a:off x="4596840" y="23576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2" name=""/>
                <p:cNvSpPr/>
                <p:nvPr/>
              </p:nvSpPr>
              <p:spPr>
                <a:xfrm>
                  <a:off x="4928400" y="25142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5636880" y="25142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4" name=""/>
                <p:cNvGrpSpPr/>
                <p:nvPr/>
              </p:nvGrpSpPr>
              <p:grpSpPr>
                <a:xfrm>
                  <a:off x="5126400" y="2330280"/>
                  <a:ext cx="592200" cy="368280"/>
                  <a:chOff x="5126400" y="2330280"/>
                  <a:chExt cx="592200" cy="36828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5239440" y="23302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5126400" y="23688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7" name=""/>
                <p:cNvSpPr/>
                <p:nvPr/>
              </p:nvSpPr>
              <p:spPr>
                <a:xfrm>
                  <a:off x="5189760" y="25142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3501000" y="26254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450600" y="24033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0" name=""/>
                <p:cNvGrpSpPr/>
                <p:nvPr/>
              </p:nvGrpSpPr>
              <p:grpSpPr>
                <a:xfrm>
                  <a:off x="3070080" y="2330280"/>
                  <a:ext cx="557280" cy="368280"/>
                  <a:chOff x="3070080" y="2330280"/>
                  <a:chExt cx="557280" cy="368280"/>
                </a:xfrm>
              </p:grpSpPr>
              <p:sp>
                <p:nvSpPr>
                  <p:cNvPr id="1191" name=""/>
                  <p:cNvSpPr/>
                  <p:nvPr/>
                </p:nvSpPr>
                <p:spPr>
                  <a:xfrm>
                    <a:off x="3161880" y="233028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3070080" y="23688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3" name=""/>
                <p:cNvGrpSpPr/>
                <p:nvPr/>
              </p:nvGrpSpPr>
              <p:grpSpPr>
                <a:xfrm>
                  <a:off x="3649680" y="2163600"/>
                  <a:ext cx="2171160" cy="699840"/>
                  <a:chOff x="3649680" y="2163600"/>
                  <a:chExt cx="2171160" cy="69984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4348440" y="21636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5745960" y="21636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649680" y="21636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5047200" y="216756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8" name=""/>
                <p:cNvGrpSpPr/>
                <p:nvPr/>
              </p:nvGrpSpPr>
              <p:grpSpPr>
                <a:xfrm>
                  <a:off x="5907600" y="2315880"/>
                  <a:ext cx="420120" cy="369720"/>
                  <a:chOff x="5907600" y="2315880"/>
                  <a:chExt cx="420120" cy="369720"/>
                </a:xfrm>
              </p:grpSpPr>
              <p:grpSp>
                <p:nvGrpSpPr>
                  <p:cNvPr id="1199" name=""/>
                  <p:cNvGrpSpPr/>
                  <p:nvPr/>
                </p:nvGrpSpPr>
                <p:grpSpPr>
                  <a:xfrm>
                    <a:off x="5934960" y="2315880"/>
                    <a:ext cx="373680" cy="369720"/>
                    <a:chOff x="5934960" y="2315880"/>
                    <a:chExt cx="373680" cy="369720"/>
                  </a:xfrm>
                </p:grpSpPr>
                <p:sp>
                  <p:nvSpPr>
                    <p:cNvPr id="1200" name=""/>
                    <p:cNvSpPr/>
                    <p:nvPr/>
                  </p:nvSpPr>
                  <p:spPr>
                    <a:xfrm flipH="1">
                      <a:off x="5934600" y="23158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1" name=""/>
                    <p:cNvSpPr/>
                    <p:nvPr/>
                  </p:nvSpPr>
                  <p:spPr>
                    <a:xfrm flipH="1">
                      <a:off x="5934960" y="23158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2" name=""/>
                  <p:cNvSpPr/>
                  <p:nvPr/>
                </p:nvSpPr>
                <p:spPr>
                  <a:xfrm flipH="1">
                    <a:off x="5907240" y="23544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3" name=""/>
              <p:cNvGrpSpPr/>
              <p:nvPr/>
            </p:nvGrpSpPr>
            <p:grpSpPr>
              <a:xfrm>
                <a:off x="5168520" y="4678200"/>
                <a:ext cx="3256200" cy="699840"/>
                <a:chOff x="5168520" y="4678200"/>
                <a:chExt cx="3256200" cy="699840"/>
              </a:xfrm>
            </p:grpSpPr>
            <p:grpSp>
              <p:nvGrpSpPr>
                <p:cNvPr id="1204" name=""/>
                <p:cNvGrpSpPr/>
                <p:nvPr/>
              </p:nvGrpSpPr>
              <p:grpSpPr>
                <a:xfrm>
                  <a:off x="5955840" y="4843080"/>
                  <a:ext cx="420120" cy="370080"/>
                  <a:chOff x="5955840" y="4843080"/>
                  <a:chExt cx="420120" cy="370080"/>
                </a:xfrm>
              </p:grpSpPr>
              <p:grpSp>
                <p:nvGrpSpPr>
                  <p:cNvPr id="1205" name=""/>
                  <p:cNvGrpSpPr/>
                  <p:nvPr/>
                </p:nvGrpSpPr>
                <p:grpSpPr>
                  <a:xfrm>
                    <a:off x="5982120" y="4843080"/>
                    <a:ext cx="370440" cy="370080"/>
                    <a:chOff x="5982120" y="4843080"/>
                    <a:chExt cx="370440" cy="370080"/>
                  </a:xfrm>
                </p:grpSpPr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6167520" y="48430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5982120" y="48430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8" name=""/>
                  <p:cNvSpPr/>
                  <p:nvPr/>
                </p:nvSpPr>
                <p:spPr>
                  <a:xfrm>
                    <a:off x="5955840" y="48816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9" name=""/>
                <p:cNvSpPr/>
                <p:nvPr/>
              </p:nvSpPr>
              <p:spPr>
                <a:xfrm>
                  <a:off x="6354360" y="49179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6354360" y="51382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6688800" y="4733640"/>
                  <a:ext cx="345960" cy="588960"/>
                  <a:chOff x="6688800" y="4733640"/>
                  <a:chExt cx="345960" cy="58896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 rot="16200000">
                    <a:off x="6571440" y="48711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 rot="5400000">
                    <a:off x="6677280" y="49442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 rot="5400000">
                    <a:off x="6689880" y="49633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 rot="16200000">
                    <a:off x="6693840" y="48722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6" name=""/>
                <p:cNvSpPr/>
                <p:nvPr/>
              </p:nvSpPr>
              <p:spPr>
                <a:xfrm>
                  <a:off x="7025400" y="50288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733880" y="50288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8" name=""/>
                <p:cNvGrpSpPr/>
                <p:nvPr/>
              </p:nvGrpSpPr>
              <p:grpSpPr>
                <a:xfrm>
                  <a:off x="7223400" y="4844880"/>
                  <a:ext cx="592200" cy="368280"/>
                  <a:chOff x="7223400" y="4844880"/>
                  <a:chExt cx="592200" cy="368280"/>
                </a:xfrm>
              </p:grpSpPr>
              <p:sp>
                <p:nvSpPr>
                  <p:cNvPr id="1219" name=""/>
                  <p:cNvSpPr/>
                  <p:nvPr/>
                </p:nvSpPr>
                <p:spPr>
                  <a:xfrm>
                    <a:off x="7336440" y="48448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7223400" y="48834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1" name=""/>
                <p:cNvSpPr/>
                <p:nvPr/>
              </p:nvSpPr>
              <p:spPr>
                <a:xfrm>
                  <a:off x="7286400" y="50288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597640" y="51400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547600" y="49179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4" name=""/>
                <p:cNvGrpSpPr/>
                <p:nvPr/>
              </p:nvGrpSpPr>
              <p:grpSpPr>
                <a:xfrm>
                  <a:off x="5168520" y="4844880"/>
                  <a:ext cx="557280" cy="368280"/>
                  <a:chOff x="5168520" y="4844880"/>
                  <a:chExt cx="557280" cy="368280"/>
                </a:xfrm>
              </p:grpSpPr>
              <p:sp>
                <p:nvSpPr>
                  <p:cNvPr id="1225" name=""/>
                  <p:cNvSpPr/>
                  <p:nvPr/>
                </p:nvSpPr>
                <p:spPr>
                  <a:xfrm>
                    <a:off x="5257800" y="484488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5168520" y="48834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7" name=""/>
                <p:cNvGrpSpPr/>
                <p:nvPr/>
              </p:nvGrpSpPr>
              <p:grpSpPr>
                <a:xfrm>
                  <a:off x="5746680" y="4678200"/>
                  <a:ext cx="2171160" cy="699840"/>
                  <a:chOff x="5746680" y="4678200"/>
                  <a:chExt cx="2171160" cy="699840"/>
                </a:xfrm>
              </p:grpSpPr>
              <p:sp>
                <p:nvSpPr>
                  <p:cNvPr id="1228" name=""/>
                  <p:cNvSpPr/>
                  <p:nvPr/>
                </p:nvSpPr>
                <p:spPr>
                  <a:xfrm>
                    <a:off x="6445440" y="46782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7842960" y="46782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746680" y="46782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7144200" y="468216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2" name=""/>
                <p:cNvGrpSpPr/>
                <p:nvPr/>
              </p:nvGrpSpPr>
              <p:grpSpPr>
                <a:xfrm>
                  <a:off x="8004600" y="4830480"/>
                  <a:ext cx="420120" cy="369720"/>
                  <a:chOff x="8004600" y="4830480"/>
                  <a:chExt cx="420120" cy="369720"/>
                </a:xfrm>
              </p:grpSpPr>
              <p:grpSp>
                <p:nvGrpSpPr>
                  <p:cNvPr id="1233" name=""/>
                  <p:cNvGrpSpPr/>
                  <p:nvPr/>
                </p:nvGrpSpPr>
                <p:grpSpPr>
                  <a:xfrm>
                    <a:off x="8031960" y="4830480"/>
                    <a:ext cx="373680" cy="369720"/>
                    <a:chOff x="8031960" y="4830480"/>
                    <a:chExt cx="373680" cy="369720"/>
                  </a:xfrm>
                </p:grpSpPr>
                <p:sp>
                  <p:nvSpPr>
                    <p:cNvPr id="1234" name=""/>
                    <p:cNvSpPr/>
                    <p:nvPr/>
                  </p:nvSpPr>
                  <p:spPr>
                    <a:xfrm flipH="1">
                      <a:off x="8031600" y="48304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 flipH="1">
                      <a:off x="8031960" y="48304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6" name=""/>
                  <p:cNvSpPr/>
                  <p:nvPr/>
                </p:nvSpPr>
                <p:spPr>
                  <a:xfrm flipH="1">
                    <a:off x="8004240" y="48690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37" name=""/>
              <p:cNvGrpSpPr/>
              <p:nvPr/>
            </p:nvGrpSpPr>
            <p:grpSpPr>
              <a:xfrm>
                <a:off x="5871600" y="5490720"/>
                <a:ext cx="3256200" cy="699840"/>
                <a:chOff x="5871600" y="5490720"/>
                <a:chExt cx="3256200" cy="699840"/>
              </a:xfrm>
            </p:grpSpPr>
            <p:grpSp>
              <p:nvGrpSpPr>
                <p:cNvPr id="1238" name=""/>
                <p:cNvGrpSpPr/>
                <p:nvPr/>
              </p:nvGrpSpPr>
              <p:grpSpPr>
                <a:xfrm>
                  <a:off x="6661440" y="5655600"/>
                  <a:ext cx="420120" cy="370080"/>
                  <a:chOff x="6661440" y="5655600"/>
                  <a:chExt cx="420120" cy="370080"/>
                </a:xfrm>
              </p:grpSpPr>
              <p:grpSp>
                <p:nvGrpSpPr>
                  <p:cNvPr id="1239" name=""/>
                  <p:cNvGrpSpPr/>
                  <p:nvPr/>
                </p:nvGrpSpPr>
                <p:grpSpPr>
                  <a:xfrm>
                    <a:off x="6685200" y="5655600"/>
                    <a:ext cx="370440" cy="370080"/>
                    <a:chOff x="6685200" y="5655600"/>
                    <a:chExt cx="370440" cy="370080"/>
                  </a:xfrm>
                </p:grpSpPr>
                <p:sp>
                  <p:nvSpPr>
                    <p:cNvPr id="1240" name=""/>
                    <p:cNvSpPr/>
                    <p:nvPr/>
                  </p:nvSpPr>
                  <p:spPr>
                    <a:xfrm>
                      <a:off x="6870600" y="565560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1" name=""/>
                    <p:cNvSpPr/>
                    <p:nvPr/>
                  </p:nvSpPr>
                  <p:spPr>
                    <a:xfrm>
                      <a:off x="6685200" y="565560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42" name=""/>
                  <p:cNvSpPr/>
                  <p:nvPr/>
                </p:nvSpPr>
                <p:spPr>
                  <a:xfrm>
                    <a:off x="6661440" y="56941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3" name=""/>
                <p:cNvSpPr/>
                <p:nvPr/>
              </p:nvSpPr>
              <p:spPr>
                <a:xfrm>
                  <a:off x="7057440" y="57304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7057440" y="595080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5" name=""/>
                <p:cNvGrpSpPr/>
                <p:nvPr/>
              </p:nvGrpSpPr>
              <p:grpSpPr>
                <a:xfrm>
                  <a:off x="7391880" y="5546160"/>
                  <a:ext cx="345960" cy="588960"/>
                  <a:chOff x="7391880" y="5546160"/>
                  <a:chExt cx="345960" cy="588960"/>
                </a:xfrm>
              </p:grpSpPr>
              <p:sp>
                <p:nvSpPr>
                  <p:cNvPr id="1246" name=""/>
                  <p:cNvSpPr/>
                  <p:nvPr/>
                </p:nvSpPr>
                <p:spPr>
                  <a:xfrm rot="16200000">
                    <a:off x="7274520" y="568368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rot="5400000">
                    <a:off x="7380360" y="575676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rot="5400000">
                    <a:off x="7392960" y="577584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 rot="16200000">
                    <a:off x="7396920" y="56847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0" name=""/>
                <p:cNvSpPr/>
                <p:nvPr/>
              </p:nvSpPr>
              <p:spPr>
                <a:xfrm>
                  <a:off x="7728480" y="584136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436960" y="584136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2" name=""/>
                <p:cNvGrpSpPr/>
                <p:nvPr/>
              </p:nvGrpSpPr>
              <p:grpSpPr>
                <a:xfrm>
                  <a:off x="7926480" y="5657400"/>
                  <a:ext cx="592200" cy="368280"/>
                  <a:chOff x="7926480" y="5657400"/>
                  <a:chExt cx="592200" cy="36828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>
                    <a:off x="8039520" y="565740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7926480" y="569592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5" name=""/>
                <p:cNvSpPr/>
                <p:nvPr/>
              </p:nvSpPr>
              <p:spPr>
                <a:xfrm>
                  <a:off x="7989480" y="584136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6300720" y="595260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6250680" y="573048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8" name=""/>
                <p:cNvGrpSpPr/>
                <p:nvPr/>
              </p:nvGrpSpPr>
              <p:grpSpPr>
                <a:xfrm>
                  <a:off x="5871600" y="5657400"/>
                  <a:ext cx="557280" cy="368280"/>
                  <a:chOff x="5871600" y="5657400"/>
                  <a:chExt cx="557280" cy="368280"/>
                </a:xfrm>
              </p:grpSpPr>
              <p:sp>
                <p:nvSpPr>
                  <p:cNvPr id="1259" name=""/>
                  <p:cNvSpPr/>
                  <p:nvPr/>
                </p:nvSpPr>
                <p:spPr>
                  <a:xfrm>
                    <a:off x="5960880" y="565740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5871600" y="569592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1" name=""/>
                <p:cNvGrpSpPr/>
                <p:nvPr/>
              </p:nvGrpSpPr>
              <p:grpSpPr>
                <a:xfrm>
                  <a:off x="6449760" y="5490720"/>
                  <a:ext cx="2171160" cy="699840"/>
                  <a:chOff x="6449760" y="5490720"/>
                  <a:chExt cx="2171160" cy="699840"/>
                </a:xfrm>
              </p:grpSpPr>
              <p:sp>
                <p:nvSpPr>
                  <p:cNvPr id="1262" name=""/>
                  <p:cNvSpPr/>
                  <p:nvPr/>
                </p:nvSpPr>
                <p:spPr>
                  <a:xfrm>
                    <a:off x="7148520" y="549072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8546040" y="54907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6449760" y="54907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7847280" y="549468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6" name=""/>
                <p:cNvGrpSpPr/>
                <p:nvPr/>
              </p:nvGrpSpPr>
              <p:grpSpPr>
                <a:xfrm>
                  <a:off x="8707680" y="5643000"/>
                  <a:ext cx="420120" cy="369720"/>
                  <a:chOff x="8707680" y="5643000"/>
                  <a:chExt cx="420120" cy="369720"/>
                </a:xfrm>
              </p:grpSpPr>
              <p:grpSp>
                <p:nvGrpSpPr>
                  <p:cNvPr id="1267" name=""/>
                  <p:cNvGrpSpPr/>
                  <p:nvPr/>
                </p:nvGrpSpPr>
                <p:grpSpPr>
                  <a:xfrm>
                    <a:off x="8735040" y="5643000"/>
                    <a:ext cx="373680" cy="369720"/>
                    <a:chOff x="8735040" y="5643000"/>
                    <a:chExt cx="373680" cy="369720"/>
                  </a:xfrm>
                </p:grpSpPr>
                <p:sp>
                  <p:nvSpPr>
                    <p:cNvPr id="1268" name=""/>
                    <p:cNvSpPr/>
                    <p:nvPr/>
                  </p:nvSpPr>
                  <p:spPr>
                    <a:xfrm flipH="1">
                      <a:off x="8734680" y="564300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9" name=""/>
                    <p:cNvSpPr/>
                    <p:nvPr/>
                  </p:nvSpPr>
                  <p:spPr>
                    <a:xfrm flipH="1">
                      <a:off x="8735040" y="564300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70" name=""/>
                  <p:cNvSpPr/>
                  <p:nvPr/>
                </p:nvSpPr>
                <p:spPr>
                  <a:xfrm flipH="1">
                    <a:off x="8707320" y="56815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066320" y="73080"/>
            <a:ext cx="7162920" cy="8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 Hazard on R1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A.6, Page A-17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66680" y="1600200"/>
            <a:ext cx="7594560" cy="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042200" y="1143000"/>
            <a:ext cx="240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3148920" y="1752480"/>
            <a:ext cx="3205080" cy="369720"/>
            <a:chOff x="3148920" y="1752480"/>
            <a:chExt cx="3205080" cy="369720"/>
          </a:xfrm>
        </p:grpSpPr>
        <p:sp>
          <p:nvSpPr>
            <p:cNvPr id="1275" name=""/>
            <p:cNvSpPr/>
            <p:nvPr/>
          </p:nvSpPr>
          <p:spPr>
            <a:xfrm>
              <a:off x="3148920" y="1758960"/>
              <a:ext cx="39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612960" y="1758960"/>
              <a:ext cx="80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D/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89840" y="1752480"/>
              <a:ext cx="461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97880" y="17557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800" y="1754280"/>
              <a:ext cx="55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 flipH="1">
            <a:off x="4800600" y="2514600"/>
            <a:ext cx="1371600" cy="6094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5486040" y="2514600"/>
            <a:ext cx="685800" cy="15238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248520" y="2514600"/>
            <a:ext cx="609480" cy="3124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6172200" y="2495520"/>
            <a:ext cx="23760" cy="23814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99A-D974-4774-AE04-7CE2A835123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4F666-793C-40AF-B802-0EC961044A20}" type="datetime1">
              <a:rPr lang="en-US"/>
              <a:t>07/30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ad After Write (RAW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ies to read operand before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i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a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(in compiler nomenclature).  This hazard results from an actual need for communic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286000" y="2895480"/>
            <a:ext cx="33526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: add 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r2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: sub r4,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 flipV="1">
            <a:off x="1828080" y="3047400"/>
            <a:ext cx="824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34" y="100"/>
                </a:moveTo>
                <a:arcTo wR="10800" hR="10800" stAng="-5868132" swAng="11596748"/>
                <a:lnTo>
                  <a:pt x="10800" y="10800"/>
                </a:lnTo>
                <a:close/>
              </a:path>
              <a:path fill="none" w="21600" h="21600">
                <a:moveTo>
                  <a:pt x="9334" y="100"/>
                </a:moveTo>
                <a:arcTo wR="10800" hR="10800" stAng="-5868132" swAng="11596748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896-1555-4016-8EF0-DDA09F122CB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D39B0-53FE-4A3F-950C-1BAA0DDF14E5}" type="datetime1">
              <a:rPr lang="en-US"/>
              <a:t>07/30/26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After Read (WA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rites operand </a:t>
            </a: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s i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an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nti-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by compiler writer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sults from reuse of the name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’t happen in MIPS 5 stage pipeline becaus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structions take 5 stages,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s are always in stage 2, 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are always in stage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2133360" y="2362320"/>
            <a:ext cx="3810240" cy="1186200"/>
            <a:chOff x="2133360" y="2362320"/>
            <a:chExt cx="3810240" cy="1186200"/>
          </a:xfrm>
        </p:grpSpPr>
        <p:sp>
          <p:nvSpPr>
            <p:cNvPr id="1290" name=""/>
            <p:cNvSpPr/>
            <p:nvPr/>
          </p:nvSpPr>
          <p:spPr>
            <a:xfrm>
              <a:off x="2590920" y="236232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: sub r4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: 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 flipV="1">
              <a:off x="2133000" y="2513880"/>
              <a:ext cx="824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34" y="100"/>
                  </a:moveTo>
                  <a:arcTo wR="10800" hR="10800" stAng="-5868132" swAng="11596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9334" y="100"/>
                  </a:moveTo>
                  <a:arcTo wR="10800" hR="10800" stAng="-5868132" swAng="11596748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156-C048-49D0-AED6-FF7BD1620E3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1E83C-17CB-4897-9DCA-640F77EE0574}" type="datetime1">
              <a:rPr lang="en-US"/>
              <a:t>07/30/26</a:t>
            </a:fld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248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After Write (WAW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rites operand </a:t>
            </a: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it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an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utput 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by compiler wri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so results from the reuse of name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’t happen in MIPS 5 stage pipeline becaus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structions take 5 stages, 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are always in stage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ee WAR and WAW in more complicated pi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2133360" y="2286000"/>
            <a:ext cx="3810240" cy="1186200"/>
            <a:chOff x="2133360" y="2286000"/>
            <a:chExt cx="3810240" cy="1186200"/>
          </a:xfrm>
        </p:grpSpPr>
        <p:sp>
          <p:nvSpPr>
            <p:cNvPr id="1296" name=""/>
            <p:cNvSpPr/>
            <p:nvPr/>
          </p:nvSpPr>
          <p:spPr>
            <a:xfrm>
              <a:off x="2590920" y="228600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: sub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4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: 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 flipV="1">
              <a:off x="2133000" y="2437920"/>
              <a:ext cx="824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34" y="100"/>
                  </a:moveTo>
                  <a:arcTo wR="10800" hR="10800" stAng="-5868132" swAng="11596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9334" y="100"/>
                  </a:moveTo>
                  <a:arcTo wR="10800" hR="10800" stAng="-5868132" swAng="11596748"/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DED-1374-47BC-977D-CC7389FFFC2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BB0E3-15ED-42CE-9738-58A944D3210A}" type="datetime1">
              <a:rPr lang="en-US"/>
              <a:t>07/30/26</a:t>
            </a:fld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2590920" y="1676520"/>
            <a:ext cx="6311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718720" y="1295280"/>
            <a:ext cx="217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726840" y="139320"/>
            <a:ext cx="7810200" cy="9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rwarding to Avoid Data Hazard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7, Page A-1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16640" y="1736640"/>
            <a:ext cx="3299040" cy="4197600"/>
            <a:chOff x="116640" y="1736640"/>
            <a:chExt cx="3299040" cy="4197600"/>
          </a:xfrm>
        </p:grpSpPr>
        <p:sp>
          <p:nvSpPr>
            <p:cNvPr id="1302" name=""/>
            <p:cNvSpPr/>
            <p:nvPr/>
          </p:nvSpPr>
          <p:spPr>
            <a:xfrm>
              <a:off x="116640" y="17398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5440" y="1736640"/>
              <a:ext cx="0" cy="419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846440" y="1814400"/>
              <a:ext cx="1215720" cy="392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74280" y="202716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74280" y="286560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ub r4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74280" y="379872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nd r6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3640" y="4638600"/>
              <a:ext cx="255888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r   r8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3920" y="5456160"/>
              <a:ext cx="27417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or r10,</a:t>
              </a:r>
              <a:r>
                <a:rPr b="1" lang="en-US" sz="2400" spc="-1" strike="noStrike">
                  <a:solidFill>
                    <a:srgbClr val="00ae00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2919240" y="1922400"/>
            <a:ext cx="6057360" cy="4026960"/>
            <a:chOff x="2919240" y="1922400"/>
            <a:chExt cx="6057360" cy="4026960"/>
          </a:xfrm>
        </p:grpSpPr>
        <p:grpSp>
          <p:nvGrpSpPr>
            <p:cNvPr id="1311" name=""/>
            <p:cNvGrpSpPr/>
            <p:nvPr/>
          </p:nvGrpSpPr>
          <p:grpSpPr>
            <a:xfrm>
              <a:off x="2919240" y="1922400"/>
              <a:ext cx="6057360" cy="4026960"/>
              <a:chOff x="2919240" y="1922400"/>
              <a:chExt cx="6057360" cy="4026960"/>
            </a:xfrm>
          </p:grpSpPr>
          <p:grpSp>
            <p:nvGrpSpPr>
              <p:cNvPr id="1312" name=""/>
              <p:cNvGrpSpPr/>
              <p:nvPr/>
            </p:nvGrpSpPr>
            <p:grpSpPr>
              <a:xfrm>
                <a:off x="4314600" y="3598560"/>
                <a:ext cx="3257640" cy="699840"/>
                <a:chOff x="4314600" y="3598560"/>
                <a:chExt cx="3257640" cy="699840"/>
              </a:xfrm>
            </p:grpSpPr>
            <p:grpSp>
              <p:nvGrpSpPr>
                <p:cNvPr id="1313" name=""/>
                <p:cNvGrpSpPr/>
                <p:nvPr/>
              </p:nvGrpSpPr>
              <p:grpSpPr>
                <a:xfrm>
                  <a:off x="5107320" y="3763440"/>
                  <a:ext cx="420120" cy="370080"/>
                  <a:chOff x="5107320" y="3763440"/>
                  <a:chExt cx="420120" cy="370080"/>
                </a:xfrm>
              </p:grpSpPr>
              <p:grpSp>
                <p:nvGrpSpPr>
                  <p:cNvPr id="1314" name=""/>
                  <p:cNvGrpSpPr/>
                  <p:nvPr/>
                </p:nvGrpSpPr>
                <p:grpSpPr>
                  <a:xfrm>
                    <a:off x="5128560" y="3763440"/>
                    <a:ext cx="370800" cy="370080"/>
                    <a:chOff x="5128560" y="3763440"/>
                    <a:chExt cx="370800" cy="370080"/>
                  </a:xfrm>
                </p:grpSpPr>
                <p:sp>
                  <p:nvSpPr>
                    <p:cNvPr id="1315" name=""/>
                    <p:cNvSpPr/>
                    <p:nvPr/>
                  </p:nvSpPr>
                  <p:spPr>
                    <a:xfrm>
                      <a:off x="5313960" y="376344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6" name=""/>
                    <p:cNvSpPr/>
                    <p:nvPr/>
                  </p:nvSpPr>
                  <p:spPr>
                    <a:xfrm>
                      <a:off x="5128560" y="376344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17" name=""/>
                  <p:cNvSpPr/>
                  <p:nvPr/>
                </p:nvSpPr>
                <p:spPr>
                  <a:xfrm>
                    <a:off x="5107320" y="38019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8" name=""/>
                <p:cNvSpPr/>
                <p:nvPr/>
              </p:nvSpPr>
              <p:spPr>
                <a:xfrm>
                  <a:off x="5500440" y="383832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500440" y="40586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0" name=""/>
                <p:cNvGrpSpPr/>
                <p:nvPr/>
              </p:nvGrpSpPr>
              <p:grpSpPr>
                <a:xfrm>
                  <a:off x="5834880" y="3654000"/>
                  <a:ext cx="345960" cy="588960"/>
                  <a:chOff x="5834880" y="3654000"/>
                  <a:chExt cx="345960" cy="58896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 rot="16200000">
                    <a:off x="5717520" y="379152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rot="5400000">
                    <a:off x="5823360" y="386460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rot="5400000">
                    <a:off x="5835960" y="388368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 rot="16200000">
                    <a:off x="5839920" y="37911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5" name=""/>
                <p:cNvSpPr/>
                <p:nvPr/>
              </p:nvSpPr>
              <p:spPr>
                <a:xfrm>
                  <a:off x="6171480" y="394920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6879600" y="394920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7" name=""/>
                <p:cNvGrpSpPr/>
                <p:nvPr/>
              </p:nvGrpSpPr>
              <p:grpSpPr>
                <a:xfrm>
                  <a:off x="6370920" y="3765240"/>
                  <a:ext cx="592200" cy="368280"/>
                  <a:chOff x="6370920" y="3765240"/>
                  <a:chExt cx="592200" cy="36828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6482520" y="376524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6370920" y="380376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0" name=""/>
                <p:cNvSpPr/>
                <p:nvPr/>
              </p:nvSpPr>
              <p:spPr>
                <a:xfrm>
                  <a:off x="6432480" y="394920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4743720" y="406044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4693680" y="383832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3" name=""/>
                <p:cNvGrpSpPr/>
                <p:nvPr/>
              </p:nvGrpSpPr>
              <p:grpSpPr>
                <a:xfrm>
                  <a:off x="4314600" y="3765240"/>
                  <a:ext cx="557280" cy="368280"/>
                  <a:chOff x="4314600" y="3765240"/>
                  <a:chExt cx="557280" cy="36828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>
                    <a:off x="4403880" y="376524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4314600" y="380376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4892760" y="3598560"/>
                  <a:ext cx="2171160" cy="699840"/>
                  <a:chOff x="4892760" y="3598560"/>
                  <a:chExt cx="2171160" cy="699840"/>
                </a:xfrm>
              </p:grpSpPr>
              <p:sp>
                <p:nvSpPr>
                  <p:cNvPr id="1337" name=""/>
                  <p:cNvSpPr/>
                  <p:nvPr/>
                </p:nvSpPr>
                <p:spPr>
                  <a:xfrm>
                    <a:off x="5591520" y="359856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6989040" y="35985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892760" y="35985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6290280" y="360252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1" name=""/>
                <p:cNvGrpSpPr/>
                <p:nvPr/>
              </p:nvGrpSpPr>
              <p:grpSpPr>
                <a:xfrm>
                  <a:off x="7152120" y="3750840"/>
                  <a:ext cx="420120" cy="369720"/>
                  <a:chOff x="7152120" y="3750840"/>
                  <a:chExt cx="420120" cy="369720"/>
                </a:xfrm>
              </p:grpSpPr>
              <p:grpSp>
                <p:nvGrpSpPr>
                  <p:cNvPr id="1342" name=""/>
                  <p:cNvGrpSpPr/>
                  <p:nvPr/>
                </p:nvGrpSpPr>
                <p:grpSpPr>
                  <a:xfrm>
                    <a:off x="7181280" y="3750840"/>
                    <a:ext cx="373320" cy="369720"/>
                    <a:chOff x="7181280" y="3750840"/>
                    <a:chExt cx="373320" cy="369720"/>
                  </a:xfrm>
                </p:grpSpPr>
                <p:sp>
                  <p:nvSpPr>
                    <p:cNvPr id="1343" name=""/>
                    <p:cNvSpPr/>
                    <p:nvPr/>
                  </p:nvSpPr>
                  <p:spPr>
                    <a:xfrm flipH="1">
                      <a:off x="7181280" y="3750840"/>
                      <a:ext cx="18648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4" name=""/>
                    <p:cNvSpPr/>
                    <p:nvPr/>
                  </p:nvSpPr>
                  <p:spPr>
                    <a:xfrm flipH="1">
                      <a:off x="7180920" y="3750840"/>
                      <a:ext cx="37332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45" name=""/>
                  <p:cNvSpPr/>
                  <p:nvPr/>
                </p:nvSpPr>
                <p:spPr>
                  <a:xfrm flipH="1">
                    <a:off x="7151760" y="37893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46" name=""/>
              <p:cNvGrpSpPr/>
              <p:nvPr/>
            </p:nvGrpSpPr>
            <p:grpSpPr>
              <a:xfrm>
                <a:off x="3611880" y="2747880"/>
                <a:ext cx="3259440" cy="699840"/>
                <a:chOff x="3611880" y="2747880"/>
                <a:chExt cx="3259440" cy="699840"/>
              </a:xfrm>
            </p:grpSpPr>
            <p:grpSp>
              <p:nvGrpSpPr>
                <p:cNvPr id="1347" name=""/>
                <p:cNvGrpSpPr/>
                <p:nvPr/>
              </p:nvGrpSpPr>
              <p:grpSpPr>
                <a:xfrm>
                  <a:off x="4404240" y="2912760"/>
                  <a:ext cx="420120" cy="370080"/>
                  <a:chOff x="4404240" y="2912760"/>
                  <a:chExt cx="420120" cy="370080"/>
                </a:xfrm>
              </p:grpSpPr>
              <p:grpSp>
                <p:nvGrpSpPr>
                  <p:cNvPr id="1348" name=""/>
                  <p:cNvGrpSpPr/>
                  <p:nvPr/>
                </p:nvGrpSpPr>
                <p:grpSpPr>
                  <a:xfrm>
                    <a:off x="4425480" y="2912760"/>
                    <a:ext cx="370800" cy="370080"/>
                    <a:chOff x="4425480" y="2912760"/>
                    <a:chExt cx="370800" cy="370080"/>
                  </a:xfrm>
                </p:grpSpPr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4610880" y="291276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4425480" y="291276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1" name=""/>
                  <p:cNvSpPr/>
                  <p:nvPr/>
                </p:nvSpPr>
                <p:spPr>
                  <a:xfrm>
                    <a:off x="4404240" y="29512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2" name=""/>
                <p:cNvSpPr/>
                <p:nvPr/>
              </p:nvSpPr>
              <p:spPr>
                <a:xfrm>
                  <a:off x="4797720" y="29876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4797720" y="32079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4" name=""/>
                <p:cNvGrpSpPr/>
                <p:nvPr/>
              </p:nvGrpSpPr>
              <p:grpSpPr>
                <a:xfrm>
                  <a:off x="5132160" y="2803320"/>
                  <a:ext cx="345960" cy="588960"/>
                  <a:chOff x="5132160" y="2803320"/>
                  <a:chExt cx="345960" cy="588960"/>
                </a:xfrm>
              </p:grpSpPr>
              <p:sp>
                <p:nvSpPr>
                  <p:cNvPr id="1355" name=""/>
                  <p:cNvSpPr/>
                  <p:nvPr/>
                </p:nvSpPr>
                <p:spPr>
                  <a:xfrm rot="16200000">
                    <a:off x="5014800" y="294084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 rot="5400000">
                    <a:off x="5120640" y="301392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rot="5400000">
                    <a:off x="5133240" y="303300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 rot="16200000">
                    <a:off x="5137200" y="294192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9" name=""/>
                <p:cNvSpPr/>
                <p:nvPr/>
              </p:nvSpPr>
              <p:spPr>
                <a:xfrm>
                  <a:off x="5468760" y="309852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6176880" y="30985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1" name=""/>
                <p:cNvGrpSpPr/>
                <p:nvPr/>
              </p:nvGrpSpPr>
              <p:grpSpPr>
                <a:xfrm>
                  <a:off x="5668200" y="2914560"/>
                  <a:ext cx="592200" cy="368280"/>
                  <a:chOff x="5668200" y="2914560"/>
                  <a:chExt cx="592200" cy="368280"/>
                </a:xfrm>
              </p:grpSpPr>
              <p:sp>
                <p:nvSpPr>
                  <p:cNvPr id="1362" name=""/>
                  <p:cNvSpPr/>
                  <p:nvPr/>
                </p:nvSpPr>
                <p:spPr>
                  <a:xfrm>
                    <a:off x="5779800" y="291456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5668200" y="295308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4" name=""/>
                <p:cNvSpPr/>
                <p:nvPr/>
              </p:nvSpPr>
              <p:spPr>
                <a:xfrm>
                  <a:off x="5729760" y="309852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041000" y="320976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3990960" y="298764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7" name=""/>
                <p:cNvGrpSpPr/>
                <p:nvPr/>
              </p:nvGrpSpPr>
              <p:grpSpPr>
                <a:xfrm>
                  <a:off x="3611880" y="2914560"/>
                  <a:ext cx="557280" cy="368280"/>
                  <a:chOff x="3611880" y="2914560"/>
                  <a:chExt cx="557280" cy="368280"/>
                </a:xfrm>
              </p:grpSpPr>
              <p:sp>
                <p:nvSpPr>
                  <p:cNvPr id="1368" name=""/>
                  <p:cNvSpPr/>
                  <p:nvPr/>
                </p:nvSpPr>
                <p:spPr>
                  <a:xfrm>
                    <a:off x="3701160" y="291456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>
                    <a:off x="3611880" y="295308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0" name=""/>
                <p:cNvGrpSpPr/>
                <p:nvPr/>
              </p:nvGrpSpPr>
              <p:grpSpPr>
                <a:xfrm>
                  <a:off x="4190040" y="2747880"/>
                  <a:ext cx="2170800" cy="699840"/>
                  <a:chOff x="4190040" y="2747880"/>
                  <a:chExt cx="2170800" cy="699840"/>
                </a:xfrm>
              </p:grpSpPr>
              <p:sp>
                <p:nvSpPr>
                  <p:cNvPr id="1371" name=""/>
                  <p:cNvSpPr/>
                  <p:nvPr/>
                </p:nvSpPr>
                <p:spPr>
                  <a:xfrm>
                    <a:off x="4888800" y="274788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6285960" y="27478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4190040" y="27478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5587200" y="275184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5" name=""/>
                <p:cNvGrpSpPr/>
                <p:nvPr/>
              </p:nvGrpSpPr>
              <p:grpSpPr>
                <a:xfrm>
                  <a:off x="6451200" y="2900160"/>
                  <a:ext cx="420120" cy="369720"/>
                  <a:chOff x="6451200" y="2900160"/>
                  <a:chExt cx="420120" cy="369720"/>
                </a:xfrm>
              </p:grpSpPr>
              <p:grpSp>
                <p:nvGrpSpPr>
                  <p:cNvPr id="1376" name=""/>
                  <p:cNvGrpSpPr/>
                  <p:nvPr/>
                </p:nvGrpSpPr>
                <p:grpSpPr>
                  <a:xfrm>
                    <a:off x="6481800" y="2900160"/>
                    <a:ext cx="373680" cy="369720"/>
                    <a:chOff x="6481800" y="2900160"/>
                    <a:chExt cx="373680" cy="369720"/>
                  </a:xfrm>
                </p:grpSpPr>
                <p:sp>
                  <p:nvSpPr>
                    <p:cNvPr id="1377" name=""/>
                    <p:cNvSpPr/>
                    <p:nvPr/>
                  </p:nvSpPr>
                  <p:spPr>
                    <a:xfrm flipH="1">
                      <a:off x="6481440" y="290016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8" name=""/>
                    <p:cNvSpPr/>
                    <p:nvPr/>
                  </p:nvSpPr>
                  <p:spPr>
                    <a:xfrm flipH="1">
                      <a:off x="6481800" y="290016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9" name=""/>
                  <p:cNvSpPr/>
                  <p:nvPr/>
                </p:nvSpPr>
                <p:spPr>
                  <a:xfrm flipH="1">
                    <a:off x="6450840" y="29386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80" name=""/>
              <p:cNvGrpSpPr/>
              <p:nvPr/>
            </p:nvGrpSpPr>
            <p:grpSpPr>
              <a:xfrm>
                <a:off x="2919240" y="1922400"/>
                <a:ext cx="3257280" cy="699840"/>
                <a:chOff x="2919240" y="1922400"/>
                <a:chExt cx="3257280" cy="699840"/>
              </a:xfrm>
            </p:grpSpPr>
            <p:grpSp>
              <p:nvGrpSpPr>
                <p:cNvPr id="1381" name=""/>
                <p:cNvGrpSpPr/>
                <p:nvPr/>
              </p:nvGrpSpPr>
              <p:grpSpPr>
                <a:xfrm>
                  <a:off x="3711240" y="2087280"/>
                  <a:ext cx="420120" cy="370080"/>
                  <a:chOff x="3711240" y="2087280"/>
                  <a:chExt cx="420120" cy="370080"/>
                </a:xfrm>
              </p:grpSpPr>
              <p:grpSp>
                <p:nvGrpSpPr>
                  <p:cNvPr id="1382" name=""/>
                  <p:cNvGrpSpPr/>
                  <p:nvPr/>
                </p:nvGrpSpPr>
                <p:grpSpPr>
                  <a:xfrm>
                    <a:off x="3734280" y="2087280"/>
                    <a:ext cx="370440" cy="370080"/>
                    <a:chOff x="3734280" y="2087280"/>
                    <a:chExt cx="370440" cy="370080"/>
                  </a:xfrm>
                </p:grpSpPr>
                <p:sp>
                  <p:nvSpPr>
                    <p:cNvPr id="1383" name=""/>
                    <p:cNvSpPr/>
                    <p:nvPr/>
                  </p:nvSpPr>
                  <p:spPr>
                    <a:xfrm>
                      <a:off x="3919680" y="20872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4" name=""/>
                    <p:cNvSpPr/>
                    <p:nvPr/>
                  </p:nvSpPr>
                  <p:spPr>
                    <a:xfrm>
                      <a:off x="3734280" y="20872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85" name=""/>
                  <p:cNvSpPr/>
                  <p:nvPr/>
                </p:nvSpPr>
                <p:spPr>
                  <a:xfrm>
                    <a:off x="3711240" y="21258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6" name=""/>
                <p:cNvSpPr/>
                <p:nvPr/>
              </p:nvSpPr>
              <p:spPr>
                <a:xfrm>
                  <a:off x="4106520" y="2162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106520" y="23824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8" name=""/>
                <p:cNvGrpSpPr/>
                <p:nvPr/>
              </p:nvGrpSpPr>
              <p:grpSpPr>
                <a:xfrm>
                  <a:off x="4440600" y="1977840"/>
                  <a:ext cx="345960" cy="588960"/>
                  <a:chOff x="4440600" y="1977840"/>
                  <a:chExt cx="345960" cy="588960"/>
                </a:xfrm>
              </p:grpSpPr>
              <p:sp>
                <p:nvSpPr>
                  <p:cNvPr id="1389" name=""/>
                  <p:cNvSpPr/>
                  <p:nvPr/>
                </p:nvSpPr>
                <p:spPr>
                  <a:xfrm rot="16200000">
                    <a:off x="4323240" y="21153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rot="5400000">
                    <a:off x="4429080" y="21884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rot="5400000">
                    <a:off x="4441680" y="22075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 rot="16200000">
                    <a:off x="4445640" y="21164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3" name=""/>
                <p:cNvSpPr/>
                <p:nvPr/>
              </p:nvSpPr>
              <p:spPr>
                <a:xfrm>
                  <a:off x="4777560" y="22730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485680" y="22730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5" name=""/>
                <p:cNvGrpSpPr/>
                <p:nvPr/>
              </p:nvGrpSpPr>
              <p:grpSpPr>
                <a:xfrm>
                  <a:off x="4975200" y="2089080"/>
                  <a:ext cx="592200" cy="368280"/>
                  <a:chOff x="4975200" y="2089080"/>
                  <a:chExt cx="592200" cy="368280"/>
                </a:xfrm>
              </p:grpSpPr>
              <p:sp>
                <p:nvSpPr>
                  <p:cNvPr id="1396" name=""/>
                  <p:cNvSpPr/>
                  <p:nvPr/>
                </p:nvSpPr>
                <p:spPr>
                  <a:xfrm>
                    <a:off x="5088240" y="20890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4975200" y="21276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8" name=""/>
                <p:cNvSpPr/>
                <p:nvPr/>
              </p:nvSpPr>
              <p:spPr>
                <a:xfrm>
                  <a:off x="5038560" y="22730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349800" y="23842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3299760" y="216216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1" name=""/>
                <p:cNvGrpSpPr/>
                <p:nvPr/>
              </p:nvGrpSpPr>
              <p:grpSpPr>
                <a:xfrm>
                  <a:off x="2919240" y="2089080"/>
                  <a:ext cx="557280" cy="368280"/>
                  <a:chOff x="2919240" y="2089080"/>
                  <a:chExt cx="557280" cy="368280"/>
                </a:xfrm>
              </p:grpSpPr>
              <p:sp>
                <p:nvSpPr>
                  <p:cNvPr id="1402" name=""/>
                  <p:cNvSpPr/>
                  <p:nvPr/>
                </p:nvSpPr>
                <p:spPr>
                  <a:xfrm>
                    <a:off x="3011040" y="208908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2919240" y="21276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4" name=""/>
                <p:cNvGrpSpPr/>
                <p:nvPr/>
              </p:nvGrpSpPr>
              <p:grpSpPr>
                <a:xfrm>
                  <a:off x="3498840" y="1922400"/>
                  <a:ext cx="2170800" cy="699840"/>
                  <a:chOff x="3498840" y="1922400"/>
                  <a:chExt cx="2170800" cy="699840"/>
                </a:xfrm>
              </p:grpSpPr>
              <p:sp>
                <p:nvSpPr>
                  <p:cNvPr id="1405" name=""/>
                  <p:cNvSpPr/>
                  <p:nvPr/>
                </p:nvSpPr>
                <p:spPr>
                  <a:xfrm>
                    <a:off x="4197600" y="19224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5594760" y="19224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3498840" y="19224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4896000" y="192636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9" name=""/>
                <p:cNvGrpSpPr/>
                <p:nvPr/>
              </p:nvGrpSpPr>
              <p:grpSpPr>
                <a:xfrm>
                  <a:off x="5756400" y="2074680"/>
                  <a:ext cx="420120" cy="369720"/>
                  <a:chOff x="5756400" y="2074680"/>
                  <a:chExt cx="420120" cy="369720"/>
                </a:xfrm>
              </p:grpSpPr>
              <p:grpSp>
                <p:nvGrpSpPr>
                  <p:cNvPr id="1410" name=""/>
                  <p:cNvGrpSpPr/>
                  <p:nvPr/>
                </p:nvGrpSpPr>
                <p:grpSpPr>
                  <a:xfrm>
                    <a:off x="5783760" y="2074680"/>
                    <a:ext cx="373680" cy="369720"/>
                    <a:chOff x="5783760" y="2074680"/>
                    <a:chExt cx="373680" cy="369720"/>
                  </a:xfrm>
                </p:grpSpPr>
                <p:sp>
                  <p:nvSpPr>
                    <p:cNvPr id="1411" name=""/>
                    <p:cNvSpPr/>
                    <p:nvPr/>
                  </p:nvSpPr>
                  <p:spPr>
                    <a:xfrm flipH="1">
                      <a:off x="5783400" y="20746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2" name=""/>
                    <p:cNvSpPr/>
                    <p:nvPr/>
                  </p:nvSpPr>
                  <p:spPr>
                    <a:xfrm flipH="1">
                      <a:off x="5783760" y="20746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3" name=""/>
                  <p:cNvSpPr/>
                  <p:nvPr/>
                </p:nvSpPr>
                <p:spPr>
                  <a:xfrm flipH="1">
                    <a:off x="5756040" y="21132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4" name=""/>
              <p:cNvGrpSpPr/>
              <p:nvPr/>
            </p:nvGrpSpPr>
            <p:grpSpPr>
              <a:xfrm>
                <a:off x="5017680" y="4437000"/>
                <a:ext cx="3255840" cy="699840"/>
                <a:chOff x="5017680" y="4437000"/>
                <a:chExt cx="3255840" cy="699840"/>
              </a:xfrm>
            </p:grpSpPr>
            <p:grpSp>
              <p:nvGrpSpPr>
                <p:cNvPr id="1415" name=""/>
                <p:cNvGrpSpPr/>
                <p:nvPr/>
              </p:nvGrpSpPr>
              <p:grpSpPr>
                <a:xfrm>
                  <a:off x="5806800" y="4601880"/>
                  <a:ext cx="420120" cy="370080"/>
                  <a:chOff x="5806800" y="4601880"/>
                  <a:chExt cx="420120" cy="370080"/>
                </a:xfrm>
              </p:grpSpPr>
              <p:grpSp>
                <p:nvGrpSpPr>
                  <p:cNvPr id="1416" name=""/>
                  <p:cNvGrpSpPr/>
                  <p:nvPr/>
                </p:nvGrpSpPr>
                <p:grpSpPr>
                  <a:xfrm>
                    <a:off x="5831280" y="4601880"/>
                    <a:ext cx="370800" cy="370080"/>
                    <a:chOff x="5831280" y="4601880"/>
                    <a:chExt cx="370800" cy="370080"/>
                  </a:xfrm>
                </p:grpSpPr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6016680" y="460188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8" name=""/>
                    <p:cNvSpPr/>
                    <p:nvPr/>
                  </p:nvSpPr>
                  <p:spPr>
                    <a:xfrm>
                      <a:off x="5831280" y="460188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9" name=""/>
                  <p:cNvSpPr/>
                  <p:nvPr/>
                </p:nvSpPr>
                <p:spPr>
                  <a:xfrm>
                    <a:off x="5806800" y="46404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0" name=""/>
                <p:cNvSpPr/>
                <p:nvPr/>
              </p:nvSpPr>
              <p:spPr>
                <a:xfrm>
                  <a:off x="6203160" y="46767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203160" y="48970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2" name=""/>
                <p:cNvGrpSpPr/>
                <p:nvPr/>
              </p:nvGrpSpPr>
              <p:grpSpPr>
                <a:xfrm>
                  <a:off x="6537600" y="4492440"/>
                  <a:ext cx="345960" cy="588960"/>
                  <a:chOff x="6537600" y="4492440"/>
                  <a:chExt cx="345960" cy="588960"/>
                </a:xfrm>
              </p:grpSpPr>
              <p:sp>
                <p:nvSpPr>
                  <p:cNvPr id="1423" name=""/>
                  <p:cNvSpPr/>
                  <p:nvPr/>
                </p:nvSpPr>
                <p:spPr>
                  <a:xfrm rot="16200000">
                    <a:off x="6420240" y="46299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 rot="5400000">
                    <a:off x="6526080" y="47030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 rot="5400000">
                    <a:off x="6538680" y="47221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 rot="16200000">
                    <a:off x="6542640" y="46310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7" name=""/>
                <p:cNvSpPr/>
                <p:nvPr/>
              </p:nvSpPr>
              <p:spPr>
                <a:xfrm>
                  <a:off x="6874200" y="47876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582680" y="47876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9" name=""/>
                <p:cNvGrpSpPr/>
                <p:nvPr/>
              </p:nvGrpSpPr>
              <p:grpSpPr>
                <a:xfrm>
                  <a:off x="7072200" y="4603680"/>
                  <a:ext cx="592200" cy="368280"/>
                  <a:chOff x="7072200" y="4603680"/>
                  <a:chExt cx="592200" cy="36828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>
                    <a:off x="7185240" y="46036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7072200" y="46422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2" name=""/>
                <p:cNvSpPr/>
                <p:nvPr/>
              </p:nvSpPr>
              <p:spPr>
                <a:xfrm>
                  <a:off x="7135560" y="47876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5446800" y="48988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396760" y="46767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5" name=""/>
                <p:cNvGrpSpPr/>
                <p:nvPr/>
              </p:nvGrpSpPr>
              <p:grpSpPr>
                <a:xfrm>
                  <a:off x="5017680" y="4603680"/>
                  <a:ext cx="557280" cy="368280"/>
                  <a:chOff x="5017680" y="4603680"/>
                  <a:chExt cx="557280" cy="368280"/>
                </a:xfrm>
              </p:grpSpPr>
              <p:sp>
                <p:nvSpPr>
                  <p:cNvPr id="1436" name=""/>
                  <p:cNvSpPr/>
                  <p:nvPr/>
                </p:nvSpPr>
                <p:spPr>
                  <a:xfrm>
                    <a:off x="5106960" y="460368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5017680" y="46422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5595480" y="4437000"/>
                  <a:ext cx="2170800" cy="699840"/>
                  <a:chOff x="5595480" y="4437000"/>
                  <a:chExt cx="2170800" cy="69984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6294240" y="44370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7691400" y="44370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5595480" y="44370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6992640" y="444096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3" name=""/>
                <p:cNvGrpSpPr/>
                <p:nvPr/>
              </p:nvGrpSpPr>
              <p:grpSpPr>
                <a:xfrm>
                  <a:off x="7853400" y="4589280"/>
                  <a:ext cx="420120" cy="369720"/>
                  <a:chOff x="7853400" y="4589280"/>
                  <a:chExt cx="420120" cy="369720"/>
                </a:xfrm>
              </p:grpSpPr>
              <p:grpSp>
                <p:nvGrpSpPr>
                  <p:cNvPr id="1444" name=""/>
                  <p:cNvGrpSpPr/>
                  <p:nvPr/>
                </p:nvGrpSpPr>
                <p:grpSpPr>
                  <a:xfrm>
                    <a:off x="7880760" y="4589280"/>
                    <a:ext cx="373680" cy="369720"/>
                    <a:chOff x="7880760" y="4589280"/>
                    <a:chExt cx="373680" cy="369720"/>
                  </a:xfrm>
                </p:grpSpPr>
                <p:sp>
                  <p:nvSpPr>
                    <p:cNvPr id="1445" name=""/>
                    <p:cNvSpPr/>
                    <p:nvPr/>
                  </p:nvSpPr>
                  <p:spPr>
                    <a:xfrm flipH="1">
                      <a:off x="7880400" y="45892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6" name=""/>
                    <p:cNvSpPr/>
                    <p:nvPr/>
                  </p:nvSpPr>
                  <p:spPr>
                    <a:xfrm flipH="1">
                      <a:off x="7880760" y="45892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47" name=""/>
                  <p:cNvSpPr/>
                  <p:nvPr/>
                </p:nvSpPr>
                <p:spPr>
                  <a:xfrm flipH="1">
                    <a:off x="7853040" y="46278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48" name=""/>
              <p:cNvGrpSpPr/>
              <p:nvPr/>
            </p:nvGrpSpPr>
            <p:grpSpPr>
              <a:xfrm>
                <a:off x="5720760" y="5249520"/>
                <a:ext cx="3255840" cy="699840"/>
                <a:chOff x="5720760" y="5249520"/>
                <a:chExt cx="3255840" cy="699840"/>
              </a:xfrm>
            </p:grpSpPr>
            <p:grpSp>
              <p:nvGrpSpPr>
                <p:cNvPr id="1449" name=""/>
                <p:cNvGrpSpPr/>
                <p:nvPr/>
              </p:nvGrpSpPr>
              <p:grpSpPr>
                <a:xfrm>
                  <a:off x="6510600" y="5414400"/>
                  <a:ext cx="420120" cy="370080"/>
                  <a:chOff x="6510600" y="5414400"/>
                  <a:chExt cx="420120" cy="370080"/>
                </a:xfrm>
              </p:grpSpPr>
              <p:grpSp>
                <p:nvGrpSpPr>
                  <p:cNvPr id="1450" name=""/>
                  <p:cNvGrpSpPr/>
                  <p:nvPr/>
                </p:nvGrpSpPr>
                <p:grpSpPr>
                  <a:xfrm>
                    <a:off x="6534360" y="5414400"/>
                    <a:ext cx="370440" cy="370080"/>
                    <a:chOff x="6534360" y="5414400"/>
                    <a:chExt cx="370440" cy="370080"/>
                  </a:xfrm>
                </p:grpSpPr>
                <p:sp>
                  <p:nvSpPr>
                    <p:cNvPr id="1451" name=""/>
                    <p:cNvSpPr/>
                    <p:nvPr/>
                  </p:nvSpPr>
                  <p:spPr>
                    <a:xfrm>
                      <a:off x="6719760" y="541440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2" name=""/>
                    <p:cNvSpPr/>
                    <p:nvPr/>
                  </p:nvSpPr>
                  <p:spPr>
                    <a:xfrm>
                      <a:off x="6534360" y="541440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3" name=""/>
                  <p:cNvSpPr/>
                  <p:nvPr/>
                </p:nvSpPr>
                <p:spPr>
                  <a:xfrm>
                    <a:off x="6510600" y="54529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4" name=""/>
                <p:cNvSpPr/>
                <p:nvPr/>
              </p:nvSpPr>
              <p:spPr>
                <a:xfrm>
                  <a:off x="6906240" y="54892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906240" y="570960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6" name=""/>
                <p:cNvGrpSpPr/>
                <p:nvPr/>
              </p:nvGrpSpPr>
              <p:grpSpPr>
                <a:xfrm>
                  <a:off x="7240680" y="5304960"/>
                  <a:ext cx="345960" cy="588960"/>
                  <a:chOff x="7240680" y="5304960"/>
                  <a:chExt cx="345960" cy="58896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 rot="16200000">
                    <a:off x="7123320" y="544248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 rot="5400000">
                    <a:off x="7229160" y="551556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 rot="5400000">
                    <a:off x="7241760" y="553464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rot="16200000">
                    <a:off x="7245720" y="54435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1" name=""/>
                <p:cNvSpPr/>
                <p:nvPr/>
              </p:nvSpPr>
              <p:spPr>
                <a:xfrm>
                  <a:off x="7577280" y="560016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8285760" y="560016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3" name=""/>
                <p:cNvGrpSpPr/>
                <p:nvPr/>
              </p:nvGrpSpPr>
              <p:grpSpPr>
                <a:xfrm>
                  <a:off x="7775280" y="5416200"/>
                  <a:ext cx="592200" cy="368280"/>
                  <a:chOff x="7775280" y="5416200"/>
                  <a:chExt cx="592200" cy="368280"/>
                </a:xfrm>
              </p:grpSpPr>
              <p:sp>
                <p:nvSpPr>
                  <p:cNvPr id="1464" name=""/>
                  <p:cNvSpPr/>
                  <p:nvPr/>
                </p:nvSpPr>
                <p:spPr>
                  <a:xfrm>
                    <a:off x="7888320" y="541620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7775280" y="545472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6" name=""/>
                <p:cNvSpPr/>
                <p:nvPr/>
              </p:nvSpPr>
              <p:spPr>
                <a:xfrm>
                  <a:off x="7838640" y="560016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149880" y="571140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099840" y="548928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9" name=""/>
                <p:cNvGrpSpPr/>
                <p:nvPr/>
              </p:nvGrpSpPr>
              <p:grpSpPr>
                <a:xfrm>
                  <a:off x="5720760" y="5416200"/>
                  <a:ext cx="557280" cy="368280"/>
                  <a:chOff x="5720760" y="5416200"/>
                  <a:chExt cx="557280" cy="36828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5810040" y="541620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5720760" y="545472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2" name=""/>
                <p:cNvGrpSpPr/>
                <p:nvPr/>
              </p:nvGrpSpPr>
              <p:grpSpPr>
                <a:xfrm>
                  <a:off x="6298560" y="5249520"/>
                  <a:ext cx="2170800" cy="699840"/>
                  <a:chOff x="6298560" y="5249520"/>
                  <a:chExt cx="2170800" cy="699840"/>
                </a:xfrm>
              </p:grpSpPr>
              <p:sp>
                <p:nvSpPr>
                  <p:cNvPr id="1473" name=""/>
                  <p:cNvSpPr/>
                  <p:nvPr/>
                </p:nvSpPr>
                <p:spPr>
                  <a:xfrm>
                    <a:off x="6997320" y="524952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8394480" y="52495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6298560" y="52495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7695720" y="525348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7" name=""/>
                <p:cNvGrpSpPr/>
                <p:nvPr/>
              </p:nvGrpSpPr>
              <p:grpSpPr>
                <a:xfrm>
                  <a:off x="8556480" y="5401800"/>
                  <a:ext cx="420120" cy="369720"/>
                  <a:chOff x="8556480" y="5401800"/>
                  <a:chExt cx="420120" cy="369720"/>
                </a:xfrm>
              </p:grpSpPr>
              <p:grpSp>
                <p:nvGrpSpPr>
                  <p:cNvPr id="1478" name=""/>
                  <p:cNvGrpSpPr/>
                  <p:nvPr/>
                </p:nvGrpSpPr>
                <p:grpSpPr>
                  <a:xfrm>
                    <a:off x="8583840" y="5401800"/>
                    <a:ext cx="373680" cy="369720"/>
                    <a:chOff x="8583840" y="5401800"/>
                    <a:chExt cx="373680" cy="369720"/>
                  </a:xfrm>
                </p:grpSpPr>
                <p:sp>
                  <p:nvSpPr>
                    <p:cNvPr id="1479" name=""/>
                    <p:cNvSpPr/>
                    <p:nvPr/>
                  </p:nvSpPr>
                  <p:spPr>
                    <a:xfrm flipH="1">
                      <a:off x="8583480" y="540180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 flipH="1">
                      <a:off x="8583840" y="540180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81" name=""/>
                  <p:cNvSpPr/>
                  <p:nvPr/>
                </p:nvSpPr>
                <p:spPr>
                  <a:xfrm flipH="1">
                    <a:off x="8556120" y="54403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482" name=""/>
            <p:cNvSpPr/>
            <p:nvPr/>
          </p:nvSpPr>
          <p:spPr>
            <a:xfrm>
              <a:off x="4944960" y="2271600"/>
              <a:ext cx="187200" cy="7174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641560" y="2252520"/>
              <a:ext cx="240840" cy="15238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36040" y="2226960"/>
              <a:ext cx="80280" cy="243864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098-E064-4637-A44B-281A13C7156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60FC3-A301-4B9F-A31E-FCED1CA1A539}" type="datetime1">
              <a:rPr lang="en-US"/>
              <a:t>07/30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292880" cy="7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W Change for Forward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3, Page A-37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74600" y="1143000"/>
            <a:ext cx="7664400" cy="4511520"/>
          </a:xfrm>
          <a:prstGeom prst="rect">
            <a:avLst/>
          </a:prstGeom>
          <a:noFill/>
          <a:ln w="0">
            <a:solidFill>
              <a:srgbClr val="ff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03260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/W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76688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/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51008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/M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576760" y="2819520"/>
            <a:ext cx="91440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"/>
          <p:cNvGrpSpPr/>
          <p:nvPr/>
        </p:nvGrpSpPr>
        <p:grpSpPr>
          <a:xfrm>
            <a:off x="3409920" y="2340000"/>
            <a:ext cx="635040" cy="1469520"/>
            <a:chOff x="3409920" y="2340000"/>
            <a:chExt cx="635040" cy="1469520"/>
          </a:xfrm>
        </p:grpSpPr>
        <p:sp>
          <p:nvSpPr>
            <p:cNvPr id="1492" name=""/>
            <p:cNvSpPr/>
            <p:nvPr/>
          </p:nvSpPr>
          <p:spPr>
            <a:xfrm>
              <a:off x="3409920" y="2340000"/>
              <a:ext cx="635040" cy="1469520"/>
            </a:xfrm>
            <a:custGeom>
              <a:avLst/>
              <a:gdLst/>
              <a:ahLst/>
              <a:rect l="l" t="t" r="r" b="b"/>
              <a:pathLst>
                <a:path w="468" h="816">
                  <a:moveTo>
                    <a:pt x="0" y="0"/>
                  </a:moveTo>
                  <a:lnTo>
                    <a:pt x="468" y="252"/>
                  </a:lnTo>
                  <a:lnTo>
                    <a:pt x="468" y="588"/>
                  </a:lnTo>
                  <a:lnTo>
                    <a:pt x="0" y="816"/>
                  </a:lnTo>
                  <a:lnTo>
                    <a:pt x="0" y="576"/>
                  </a:lnTo>
                  <a:lnTo>
                    <a:pt x="168" y="420"/>
                  </a:lnTo>
                  <a:lnTo>
                    <a:pt x="0" y="25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5400000">
              <a:off x="3531240" y="29210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2749680" y="2133720"/>
            <a:ext cx="380880" cy="76176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61760"/>
              <a:gd name="textAreaBottom" fmla="*/ 743400 h 761760"/>
            </a:gdLst>
            <a:ahLst/>
            <a:rect l="textAreaLeft" t="textAreaTop" r="textAreaRight" b="textAreaBottom"/>
            <a:pathLst>
              <a:path w="21600" h="43180">
                <a:moveTo>
                  <a:pt x="3600" y="0"/>
                </a:moveTo>
                <a:arcTo wR="3600" hR="3600" stAng="16200000" swAng="-5400000"/>
                <a:lnTo>
                  <a:pt x="0" y="39580"/>
                </a:lnTo>
                <a:arcTo wR="3600" hR="3600" stAng="10800000" swAng="-5400000"/>
                <a:lnTo>
                  <a:pt x="18000" y="431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749680" y="3321000"/>
            <a:ext cx="380880" cy="7621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62120"/>
              <a:gd name="textAreaBottom" fmla="*/ 743760 h 76212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130560" y="2514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13056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10800000">
            <a:off x="615600" y="2285640"/>
            <a:ext cx="68580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301760" y="2743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30176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139840" y="27432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139840" y="34290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74840" y="16761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xt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301760" y="1828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139840" y="1828800"/>
            <a:ext cx="60984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lnTo>
                  <a:pt x="144" y="0"/>
                </a:lnTo>
                <a:lnTo>
                  <a:pt x="144" y="480"/>
                </a:lnTo>
                <a:lnTo>
                  <a:pt x="384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36880" y="40003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378080" y="4191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139840" y="3575160"/>
            <a:ext cx="609840" cy="615960"/>
          </a:xfrm>
          <a:custGeom>
            <a:avLst/>
            <a:gdLst/>
            <a:ahLst/>
            <a:rect l="l" t="t" r="r" b="b"/>
            <a:pathLst>
              <a:path w="384" h="388">
                <a:moveTo>
                  <a:pt x="0" y="388"/>
                </a:moveTo>
                <a:lnTo>
                  <a:pt x="76" y="384"/>
                </a:lnTo>
                <a:lnTo>
                  <a:pt x="76" y="0"/>
                </a:lnTo>
                <a:lnTo>
                  <a:pt x="384" y="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368440" y="3429000"/>
            <a:ext cx="2133720" cy="762120"/>
          </a:xfrm>
          <a:custGeom>
            <a:avLst/>
            <a:gdLst/>
            <a:ahLst/>
            <a:rect l="l" t="t" r="r" b="b"/>
            <a:pathLst>
              <a:path w="1344" h="624">
                <a:moveTo>
                  <a:pt x="0" y="0"/>
                </a:moveTo>
                <a:lnTo>
                  <a:pt x="0" y="624"/>
                </a:lnTo>
                <a:lnTo>
                  <a:pt x="1344" y="6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883040" y="419112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044960" y="3124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883040" y="312408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491160" y="36576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195880" y="312408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0"/>
                </a:moveTo>
                <a:lnTo>
                  <a:pt x="0" y="1008"/>
                </a:lnTo>
                <a:lnTo>
                  <a:pt x="1152" y="10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159520" y="309240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327400" y="339084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432560" y="4705200"/>
            <a:ext cx="1035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7413480" y="3651120"/>
            <a:ext cx="1041480" cy="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2448000" y="1219320"/>
            <a:ext cx="5613480" cy="4266720"/>
            <a:chOff x="2448000" y="1219320"/>
            <a:chExt cx="5613480" cy="4266720"/>
          </a:xfrm>
        </p:grpSpPr>
        <p:sp>
          <p:nvSpPr>
            <p:cNvPr id="1520" name=""/>
            <p:cNvSpPr/>
            <p:nvPr/>
          </p:nvSpPr>
          <p:spPr>
            <a:xfrm>
              <a:off x="2570400" y="3962160"/>
              <a:ext cx="2633400" cy="1066680"/>
            </a:xfrm>
            <a:custGeom>
              <a:avLst/>
              <a:gdLst/>
              <a:ahLst/>
              <a:rect l="l" t="t" r="r" b="b"/>
              <a:pathLst>
                <a:path w="1659" h="672">
                  <a:moveTo>
                    <a:pt x="1659" y="480"/>
                  </a:moveTo>
                  <a:lnTo>
                    <a:pt x="1659" y="672"/>
                  </a:lnTo>
                  <a:lnTo>
                    <a:pt x="0" y="666"/>
                  </a:lnTo>
                  <a:lnTo>
                    <a:pt x="0" y="0"/>
                  </a:lnTo>
                  <a:lnTo>
                    <a:pt x="114" y="0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172120" y="4680000"/>
              <a:ext cx="76320" cy="75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460600" y="1219320"/>
              <a:ext cx="5562720" cy="2438280"/>
            </a:xfrm>
            <a:custGeom>
              <a:avLst/>
              <a:gdLst/>
              <a:ahLst/>
              <a:rect l="l" t="t" r="r" b="b"/>
              <a:pathLst>
                <a:path w="3504" h="1536">
                  <a:moveTo>
                    <a:pt x="3504" y="1536"/>
                  </a:moveTo>
                  <a:lnTo>
                    <a:pt x="3504" y="0"/>
                  </a:lnTo>
                  <a:lnTo>
                    <a:pt x="0" y="0"/>
                  </a:lnTo>
                  <a:lnTo>
                    <a:pt x="3" y="798"/>
                  </a:lnTo>
                  <a:lnTo>
                    <a:pt x="186" y="795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511360" y="3854160"/>
              <a:ext cx="5365800" cy="1517400"/>
            </a:xfrm>
            <a:custGeom>
              <a:avLst/>
              <a:gdLst/>
              <a:ahLst/>
              <a:rect l="l" t="t" r="r" b="b"/>
              <a:pathLst>
                <a:path w="3380" h="956">
                  <a:moveTo>
                    <a:pt x="3088" y="540"/>
                  </a:moveTo>
                  <a:lnTo>
                    <a:pt x="3380" y="540"/>
                  </a:lnTo>
                  <a:lnTo>
                    <a:pt x="3380" y="956"/>
                  </a:lnTo>
                  <a:lnTo>
                    <a:pt x="0" y="956"/>
                  </a:lnTo>
                  <a:lnTo>
                    <a:pt x="0" y="0"/>
                  </a:lnTo>
                  <a:lnTo>
                    <a:pt x="152" y="0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448000" y="3657600"/>
              <a:ext cx="5575320" cy="1828440"/>
            </a:xfrm>
            <a:custGeom>
              <a:avLst/>
              <a:gdLst/>
              <a:ahLst/>
              <a:rect l="l" t="t" r="r" b="b"/>
              <a:pathLst>
                <a:path w="3512" h="1152">
                  <a:moveTo>
                    <a:pt x="3128" y="0"/>
                  </a:moveTo>
                  <a:lnTo>
                    <a:pt x="3512" y="0"/>
                  </a:lnTo>
                  <a:lnTo>
                    <a:pt x="3512" y="1152"/>
                  </a:lnTo>
                  <a:lnTo>
                    <a:pt x="0" y="1152"/>
                  </a:lnTo>
                  <a:lnTo>
                    <a:pt x="2" y="33"/>
                  </a:lnTo>
                  <a:lnTo>
                    <a:pt x="191" y="36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579760" y="1523880"/>
              <a:ext cx="2624040" cy="1599840"/>
            </a:xfrm>
            <a:custGeom>
              <a:avLst/>
              <a:gdLst/>
              <a:ahLst/>
              <a:rect l="l" t="t" r="r" b="b"/>
              <a:pathLst>
                <a:path w="1653" h="1008">
                  <a:moveTo>
                    <a:pt x="1653" y="1008"/>
                  </a:moveTo>
                  <a:lnTo>
                    <a:pt x="1653" y="0"/>
                  </a:lnTo>
                  <a:lnTo>
                    <a:pt x="0" y="0"/>
                  </a:lnTo>
                  <a:lnTo>
                    <a:pt x="0" y="432"/>
                  </a:lnTo>
                  <a:lnTo>
                    <a:pt x="117" y="432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536920" y="1371600"/>
              <a:ext cx="5334120" cy="3352320"/>
            </a:xfrm>
            <a:custGeom>
              <a:avLst/>
              <a:gdLst/>
              <a:ahLst/>
              <a:rect l="l" t="t" r="r" b="b"/>
              <a:pathLst>
                <a:path w="3360" h="2112">
                  <a:moveTo>
                    <a:pt x="3360" y="2112"/>
                  </a:moveTo>
                  <a:lnTo>
                    <a:pt x="3360" y="0"/>
                  </a:lnTo>
                  <a:lnTo>
                    <a:pt x="0" y="0"/>
                  </a:lnTo>
                  <a:lnTo>
                    <a:pt x="0" y="624"/>
                  </a:lnTo>
                  <a:lnTo>
                    <a:pt x="144" y="624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826400" y="46670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985160" y="36194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9" name=""/>
          <p:cNvSpPr/>
          <p:nvPr/>
        </p:nvSpPr>
        <p:spPr>
          <a:xfrm>
            <a:off x="8396280" y="3352680"/>
            <a:ext cx="380880" cy="1600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1600200"/>
              <a:gd name="textAreaBottom" fmla="*/ 1581840 h 1600200"/>
            </a:gdLst>
            <a:ahLst/>
            <a:rect l="textAreaLeft" t="textAreaTop" r="textAreaRight" b="textAreaBottom"/>
            <a:pathLst>
              <a:path w="21600" h="90683">
                <a:moveTo>
                  <a:pt x="3600" y="0"/>
                </a:moveTo>
                <a:arcTo wR="3600" hR="3600" stAng="16200000" swAng="-5400000"/>
                <a:lnTo>
                  <a:pt x="0" y="87083"/>
                </a:lnTo>
                <a:arcTo wR="3600" hR="3600" stAng="10800000" swAng="-5400000"/>
                <a:lnTo>
                  <a:pt x="18000" y="90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52280" y="3048120"/>
            <a:ext cx="8763120" cy="2590560"/>
          </a:xfrm>
          <a:custGeom>
            <a:avLst/>
            <a:gdLst/>
            <a:ahLst/>
            <a:rect l="l" t="t" r="r" b="b"/>
            <a:pathLst>
              <a:path w="5520" h="1632">
                <a:moveTo>
                  <a:pt x="5424" y="720"/>
                </a:moveTo>
                <a:lnTo>
                  <a:pt x="5520" y="720"/>
                </a:lnTo>
                <a:lnTo>
                  <a:pt x="5520" y="1632"/>
                </a:lnTo>
                <a:lnTo>
                  <a:pt x="0" y="1632"/>
                </a:ln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814680" y="6107040"/>
            <a:ext cx="57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circuit detects and resolves this hazar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8A9-957D-43CB-9767-957CE240D70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B6879-E3E5-4CC1-B67F-FA603BA980F3}" type="datetime1">
              <a:rPr lang="en-US"/>
              <a:t>07/30/26</a:t>
            </a:fld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/>
          <p:nvPr/>
        </p:nvSpPr>
        <p:spPr>
          <a:xfrm>
            <a:off x="2590920" y="1676520"/>
            <a:ext cx="6311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718720" y="1295280"/>
            <a:ext cx="217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726840" y="139320"/>
            <a:ext cx="7810200" cy="9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Forwarding to Avoid LW-SW Data Hazard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A.8, Page A-20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116640" y="1736640"/>
            <a:ext cx="3299040" cy="4197600"/>
            <a:chOff x="116640" y="1736640"/>
            <a:chExt cx="3299040" cy="4197600"/>
          </a:xfrm>
        </p:grpSpPr>
        <p:sp>
          <p:nvSpPr>
            <p:cNvPr id="1536" name=""/>
            <p:cNvSpPr/>
            <p:nvPr/>
          </p:nvSpPr>
          <p:spPr>
            <a:xfrm>
              <a:off x="116640" y="17398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95440" y="1736640"/>
              <a:ext cx="0" cy="419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46440" y="1814400"/>
              <a:ext cx="1215720" cy="392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4280" y="202716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4280" y="286560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lw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4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 0(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4280" y="379872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w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4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12(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83640" y="4638600"/>
              <a:ext cx="255888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r   r8,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6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3920" y="5456160"/>
              <a:ext cx="27417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or r10,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9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2919240" y="1922400"/>
            <a:ext cx="6057720" cy="4026960"/>
            <a:chOff x="2919240" y="1922400"/>
            <a:chExt cx="6057720" cy="4026960"/>
          </a:xfrm>
        </p:grpSpPr>
        <p:grpSp>
          <p:nvGrpSpPr>
            <p:cNvPr id="1545" name=""/>
            <p:cNvGrpSpPr/>
            <p:nvPr/>
          </p:nvGrpSpPr>
          <p:grpSpPr>
            <a:xfrm>
              <a:off x="4314960" y="3598560"/>
              <a:ext cx="3258000" cy="699840"/>
              <a:chOff x="4314960" y="3598560"/>
              <a:chExt cx="3258000" cy="699840"/>
            </a:xfrm>
          </p:grpSpPr>
          <p:grpSp>
            <p:nvGrpSpPr>
              <p:cNvPr id="1546" name=""/>
              <p:cNvGrpSpPr/>
              <p:nvPr/>
            </p:nvGrpSpPr>
            <p:grpSpPr>
              <a:xfrm>
                <a:off x="5107680" y="3763440"/>
                <a:ext cx="420120" cy="370080"/>
                <a:chOff x="5107680" y="3763440"/>
                <a:chExt cx="420120" cy="370080"/>
              </a:xfrm>
            </p:grpSpPr>
            <p:grpSp>
              <p:nvGrpSpPr>
                <p:cNvPr id="1547" name=""/>
                <p:cNvGrpSpPr/>
                <p:nvPr/>
              </p:nvGrpSpPr>
              <p:grpSpPr>
                <a:xfrm>
                  <a:off x="5128920" y="3763440"/>
                  <a:ext cx="370800" cy="370080"/>
                  <a:chOff x="5128920" y="3763440"/>
                  <a:chExt cx="370800" cy="370080"/>
                </a:xfrm>
              </p:grpSpPr>
              <p:sp>
                <p:nvSpPr>
                  <p:cNvPr id="1548" name=""/>
                  <p:cNvSpPr/>
                  <p:nvPr/>
                </p:nvSpPr>
                <p:spPr>
                  <a:xfrm>
                    <a:off x="5314320" y="376344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5128920" y="376344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0" name=""/>
                <p:cNvSpPr/>
                <p:nvPr/>
              </p:nvSpPr>
              <p:spPr>
                <a:xfrm>
                  <a:off x="5107680" y="3801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1" name=""/>
              <p:cNvSpPr/>
              <p:nvPr/>
            </p:nvSpPr>
            <p:spPr>
              <a:xfrm>
                <a:off x="5500800" y="383832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500800" y="40586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3" name=""/>
              <p:cNvGrpSpPr/>
              <p:nvPr/>
            </p:nvGrpSpPr>
            <p:grpSpPr>
              <a:xfrm>
                <a:off x="5835240" y="3654000"/>
                <a:ext cx="345960" cy="588960"/>
                <a:chOff x="5835240" y="3654000"/>
                <a:chExt cx="345960" cy="588960"/>
              </a:xfrm>
            </p:grpSpPr>
            <p:sp>
              <p:nvSpPr>
                <p:cNvPr id="1554" name=""/>
                <p:cNvSpPr/>
                <p:nvPr/>
              </p:nvSpPr>
              <p:spPr>
                <a:xfrm rot="16200000">
                  <a:off x="5717880" y="379152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rot="5400000">
                  <a:off x="5823720" y="386460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rot="5400000">
                  <a:off x="5836320" y="388368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rot="16200000">
                  <a:off x="5840280" y="37911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8" name=""/>
              <p:cNvSpPr/>
              <p:nvPr/>
            </p:nvSpPr>
            <p:spPr>
              <a:xfrm>
                <a:off x="6171840" y="394920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880320" y="394920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0" name=""/>
              <p:cNvGrpSpPr/>
              <p:nvPr/>
            </p:nvGrpSpPr>
            <p:grpSpPr>
              <a:xfrm>
                <a:off x="6371280" y="3765240"/>
                <a:ext cx="592200" cy="368280"/>
                <a:chOff x="6371280" y="3765240"/>
                <a:chExt cx="592200" cy="36828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6482880" y="3765240"/>
                  <a:ext cx="371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371280" y="38037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3" name=""/>
              <p:cNvSpPr/>
              <p:nvPr/>
            </p:nvSpPr>
            <p:spPr>
              <a:xfrm>
                <a:off x="6433200" y="394920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744080" y="406044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694040" y="383832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6" name=""/>
              <p:cNvGrpSpPr/>
              <p:nvPr/>
            </p:nvGrpSpPr>
            <p:grpSpPr>
              <a:xfrm>
                <a:off x="4314960" y="3765240"/>
                <a:ext cx="557280" cy="368280"/>
                <a:chOff x="4314960" y="3765240"/>
                <a:chExt cx="557280" cy="3682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404240" y="376524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4314960" y="38037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4893120" y="3598560"/>
                <a:ext cx="2171160" cy="699840"/>
                <a:chOff x="4893120" y="3598560"/>
                <a:chExt cx="2171160" cy="69984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5591880" y="359856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989400" y="359856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4893120" y="359856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290640" y="360252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7152840" y="3750840"/>
                <a:ext cx="420120" cy="369720"/>
                <a:chOff x="7152840" y="3750840"/>
                <a:chExt cx="420120" cy="369720"/>
              </a:xfrm>
            </p:grpSpPr>
            <p:grpSp>
              <p:nvGrpSpPr>
                <p:cNvPr id="1575" name=""/>
                <p:cNvGrpSpPr/>
                <p:nvPr/>
              </p:nvGrpSpPr>
              <p:grpSpPr>
                <a:xfrm>
                  <a:off x="7182000" y="3750840"/>
                  <a:ext cx="373320" cy="369720"/>
                  <a:chOff x="7182000" y="3750840"/>
                  <a:chExt cx="373320" cy="36972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 flipH="1">
                    <a:off x="7182000" y="3750840"/>
                    <a:ext cx="1864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H="1">
                    <a:off x="7181640" y="3750840"/>
                    <a:ext cx="3733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8" name=""/>
                <p:cNvSpPr/>
                <p:nvPr/>
              </p:nvSpPr>
              <p:spPr>
                <a:xfrm flipH="1">
                  <a:off x="7152480" y="37893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9" name=""/>
            <p:cNvGrpSpPr/>
            <p:nvPr/>
          </p:nvGrpSpPr>
          <p:grpSpPr>
            <a:xfrm>
              <a:off x="3611880" y="2747880"/>
              <a:ext cx="3259440" cy="699840"/>
              <a:chOff x="3611880" y="2747880"/>
              <a:chExt cx="3259440" cy="699840"/>
            </a:xfrm>
          </p:grpSpPr>
          <p:grpSp>
            <p:nvGrpSpPr>
              <p:cNvPr id="1580" name=""/>
              <p:cNvGrpSpPr/>
              <p:nvPr/>
            </p:nvGrpSpPr>
            <p:grpSpPr>
              <a:xfrm>
                <a:off x="4404240" y="2912760"/>
                <a:ext cx="420120" cy="370080"/>
                <a:chOff x="4404240" y="2912760"/>
                <a:chExt cx="420120" cy="370080"/>
              </a:xfrm>
            </p:grpSpPr>
            <p:grpSp>
              <p:nvGrpSpPr>
                <p:cNvPr id="1581" name=""/>
                <p:cNvGrpSpPr/>
                <p:nvPr/>
              </p:nvGrpSpPr>
              <p:grpSpPr>
                <a:xfrm>
                  <a:off x="4425480" y="2912760"/>
                  <a:ext cx="370800" cy="370080"/>
                  <a:chOff x="4425480" y="2912760"/>
                  <a:chExt cx="370800" cy="370080"/>
                </a:xfrm>
              </p:grpSpPr>
              <p:sp>
                <p:nvSpPr>
                  <p:cNvPr id="1582" name=""/>
                  <p:cNvSpPr/>
                  <p:nvPr/>
                </p:nvSpPr>
                <p:spPr>
                  <a:xfrm>
                    <a:off x="4610880" y="291276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4425480" y="291276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4" name=""/>
                <p:cNvSpPr/>
                <p:nvPr/>
              </p:nvSpPr>
              <p:spPr>
                <a:xfrm>
                  <a:off x="4404240" y="2951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5" name=""/>
              <p:cNvSpPr/>
              <p:nvPr/>
            </p:nvSpPr>
            <p:spPr>
              <a:xfrm>
                <a:off x="4797720" y="29876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797720" y="32079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7" name=""/>
              <p:cNvGrpSpPr/>
              <p:nvPr/>
            </p:nvGrpSpPr>
            <p:grpSpPr>
              <a:xfrm>
                <a:off x="5132160" y="2803320"/>
                <a:ext cx="345960" cy="588960"/>
                <a:chOff x="5132160" y="2803320"/>
                <a:chExt cx="345960" cy="588960"/>
              </a:xfrm>
            </p:grpSpPr>
            <p:sp>
              <p:nvSpPr>
                <p:cNvPr id="1588" name=""/>
                <p:cNvSpPr/>
                <p:nvPr/>
              </p:nvSpPr>
              <p:spPr>
                <a:xfrm rot="16200000">
                  <a:off x="5014800" y="294084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rot="5400000">
                  <a:off x="5120640" y="301392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rot="5400000">
                  <a:off x="5133240" y="303300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rot="16200000">
                  <a:off x="5137200" y="29419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2" name=""/>
              <p:cNvSpPr/>
              <p:nvPr/>
            </p:nvSpPr>
            <p:spPr>
              <a:xfrm>
                <a:off x="5468760" y="309852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176880" y="309852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4" name=""/>
              <p:cNvGrpSpPr/>
              <p:nvPr/>
            </p:nvGrpSpPr>
            <p:grpSpPr>
              <a:xfrm>
                <a:off x="5668200" y="2914560"/>
                <a:ext cx="592200" cy="368280"/>
                <a:chOff x="5668200" y="2914560"/>
                <a:chExt cx="592200" cy="36828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5779800" y="2914560"/>
                  <a:ext cx="371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5668200" y="29530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7" name=""/>
              <p:cNvSpPr/>
              <p:nvPr/>
            </p:nvSpPr>
            <p:spPr>
              <a:xfrm>
                <a:off x="5729760" y="309852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041000" y="320976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990960" y="298764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0" name=""/>
              <p:cNvGrpSpPr/>
              <p:nvPr/>
            </p:nvGrpSpPr>
            <p:grpSpPr>
              <a:xfrm>
                <a:off x="3611880" y="2914560"/>
                <a:ext cx="557280" cy="368280"/>
                <a:chOff x="3611880" y="2914560"/>
                <a:chExt cx="557280" cy="36828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3701160" y="2914560"/>
                  <a:ext cx="3726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611880" y="29530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3" name=""/>
              <p:cNvGrpSpPr/>
              <p:nvPr/>
            </p:nvGrpSpPr>
            <p:grpSpPr>
              <a:xfrm>
                <a:off x="4190040" y="2747880"/>
                <a:ext cx="2170800" cy="699840"/>
                <a:chOff x="4190040" y="2747880"/>
                <a:chExt cx="2170800" cy="69984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4888800" y="274788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6285960" y="274788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4190040" y="274788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5587200" y="2751840"/>
                  <a:ext cx="734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6451200" y="2900160"/>
                <a:ext cx="420120" cy="369720"/>
                <a:chOff x="6451200" y="2900160"/>
                <a:chExt cx="420120" cy="369720"/>
              </a:xfrm>
            </p:grpSpPr>
            <p:grpSp>
              <p:nvGrpSpPr>
                <p:cNvPr id="1609" name=""/>
                <p:cNvGrpSpPr/>
                <p:nvPr/>
              </p:nvGrpSpPr>
              <p:grpSpPr>
                <a:xfrm>
                  <a:off x="6481800" y="2900160"/>
                  <a:ext cx="373680" cy="369720"/>
                  <a:chOff x="6481800" y="2900160"/>
                  <a:chExt cx="373680" cy="369720"/>
                </a:xfrm>
              </p:grpSpPr>
              <p:sp>
                <p:nvSpPr>
                  <p:cNvPr id="1610" name=""/>
                  <p:cNvSpPr/>
                  <p:nvPr/>
                </p:nvSpPr>
                <p:spPr>
                  <a:xfrm flipH="1">
                    <a:off x="6481440" y="290016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 flipH="1">
                    <a:off x="6481800" y="290016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2" name=""/>
                <p:cNvSpPr/>
                <p:nvPr/>
              </p:nvSpPr>
              <p:spPr>
                <a:xfrm flipH="1">
                  <a:off x="6450840" y="29386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3" name=""/>
            <p:cNvGrpSpPr/>
            <p:nvPr/>
          </p:nvGrpSpPr>
          <p:grpSpPr>
            <a:xfrm>
              <a:off x="2919240" y="1922400"/>
              <a:ext cx="3257640" cy="699840"/>
              <a:chOff x="2919240" y="1922400"/>
              <a:chExt cx="3257640" cy="699840"/>
            </a:xfrm>
          </p:grpSpPr>
          <p:grpSp>
            <p:nvGrpSpPr>
              <p:cNvPr id="1614" name=""/>
              <p:cNvGrpSpPr/>
              <p:nvPr/>
            </p:nvGrpSpPr>
            <p:grpSpPr>
              <a:xfrm>
                <a:off x="3711600" y="2087280"/>
                <a:ext cx="420120" cy="370080"/>
                <a:chOff x="3711600" y="2087280"/>
                <a:chExt cx="420120" cy="370080"/>
              </a:xfrm>
            </p:grpSpPr>
            <p:grpSp>
              <p:nvGrpSpPr>
                <p:cNvPr id="1615" name=""/>
                <p:cNvGrpSpPr/>
                <p:nvPr/>
              </p:nvGrpSpPr>
              <p:grpSpPr>
                <a:xfrm>
                  <a:off x="3734640" y="2087280"/>
                  <a:ext cx="370440" cy="370080"/>
                  <a:chOff x="3734640" y="2087280"/>
                  <a:chExt cx="370440" cy="370080"/>
                </a:xfrm>
              </p:grpSpPr>
              <p:sp>
                <p:nvSpPr>
                  <p:cNvPr id="1616" name=""/>
                  <p:cNvSpPr/>
                  <p:nvPr/>
                </p:nvSpPr>
                <p:spPr>
                  <a:xfrm>
                    <a:off x="3920040" y="2087280"/>
                    <a:ext cx="18504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3734640" y="2087280"/>
                    <a:ext cx="3704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8" name=""/>
                <p:cNvSpPr/>
                <p:nvPr/>
              </p:nvSpPr>
              <p:spPr>
                <a:xfrm>
                  <a:off x="3711600" y="2125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9" name=""/>
              <p:cNvSpPr/>
              <p:nvPr/>
            </p:nvSpPr>
            <p:spPr>
              <a:xfrm>
                <a:off x="4106520" y="21621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106520" y="23824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1" name=""/>
              <p:cNvGrpSpPr/>
              <p:nvPr/>
            </p:nvGrpSpPr>
            <p:grpSpPr>
              <a:xfrm>
                <a:off x="4440960" y="1977840"/>
                <a:ext cx="345960" cy="588960"/>
                <a:chOff x="4440960" y="1977840"/>
                <a:chExt cx="345960" cy="588960"/>
              </a:xfrm>
            </p:grpSpPr>
            <p:sp>
              <p:nvSpPr>
                <p:cNvPr id="1622" name=""/>
                <p:cNvSpPr/>
                <p:nvPr/>
              </p:nvSpPr>
              <p:spPr>
                <a:xfrm rot="16200000">
                  <a:off x="4323600" y="211536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rot="5400000">
                  <a:off x="4429440" y="218844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rot="5400000">
                  <a:off x="4442040" y="220752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rot="16200000">
                  <a:off x="4446000" y="21164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6" name=""/>
              <p:cNvSpPr/>
              <p:nvPr/>
            </p:nvSpPr>
            <p:spPr>
              <a:xfrm>
                <a:off x="4777560" y="22730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486040" y="227304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8" name=""/>
              <p:cNvGrpSpPr/>
              <p:nvPr/>
            </p:nvGrpSpPr>
            <p:grpSpPr>
              <a:xfrm>
                <a:off x="4975560" y="2089080"/>
                <a:ext cx="592200" cy="368280"/>
                <a:chOff x="4975560" y="2089080"/>
                <a:chExt cx="592200" cy="36828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5088600" y="208908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4975560" y="2127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1" name=""/>
              <p:cNvSpPr/>
              <p:nvPr/>
            </p:nvSpPr>
            <p:spPr>
              <a:xfrm>
                <a:off x="5038920" y="227304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350160" y="238428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299760" y="216216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4" name=""/>
              <p:cNvGrpSpPr/>
              <p:nvPr/>
            </p:nvGrpSpPr>
            <p:grpSpPr>
              <a:xfrm>
                <a:off x="2919240" y="2089080"/>
                <a:ext cx="557280" cy="368280"/>
                <a:chOff x="2919240" y="2089080"/>
                <a:chExt cx="557280" cy="36828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3011040" y="208908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2919240" y="2127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7" name=""/>
              <p:cNvGrpSpPr/>
              <p:nvPr/>
            </p:nvGrpSpPr>
            <p:grpSpPr>
              <a:xfrm>
                <a:off x="3498840" y="1922400"/>
                <a:ext cx="2171160" cy="699840"/>
                <a:chOff x="3498840" y="1922400"/>
                <a:chExt cx="2171160" cy="69984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4197600" y="192240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595120" y="19224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498840" y="19224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4896360" y="192636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2" name=""/>
              <p:cNvGrpSpPr/>
              <p:nvPr/>
            </p:nvGrpSpPr>
            <p:grpSpPr>
              <a:xfrm>
                <a:off x="5756760" y="2074680"/>
                <a:ext cx="420120" cy="369720"/>
                <a:chOff x="5756760" y="2074680"/>
                <a:chExt cx="420120" cy="369720"/>
              </a:xfrm>
            </p:grpSpPr>
            <p:grpSp>
              <p:nvGrpSpPr>
                <p:cNvPr id="1643" name=""/>
                <p:cNvGrpSpPr/>
                <p:nvPr/>
              </p:nvGrpSpPr>
              <p:grpSpPr>
                <a:xfrm>
                  <a:off x="5784120" y="2074680"/>
                  <a:ext cx="373680" cy="369720"/>
                  <a:chOff x="5784120" y="2074680"/>
                  <a:chExt cx="373680" cy="369720"/>
                </a:xfrm>
              </p:grpSpPr>
              <p:sp>
                <p:nvSpPr>
                  <p:cNvPr id="1644" name=""/>
                  <p:cNvSpPr/>
                  <p:nvPr/>
                </p:nvSpPr>
                <p:spPr>
                  <a:xfrm flipH="1">
                    <a:off x="5783760" y="207468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 flipH="1">
                    <a:off x="5784120" y="207468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6" name=""/>
                <p:cNvSpPr/>
                <p:nvPr/>
              </p:nvSpPr>
              <p:spPr>
                <a:xfrm flipH="1">
                  <a:off x="5756400" y="2113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7" name=""/>
            <p:cNvGrpSpPr/>
            <p:nvPr/>
          </p:nvGrpSpPr>
          <p:grpSpPr>
            <a:xfrm>
              <a:off x="5017680" y="4437000"/>
              <a:ext cx="3256200" cy="699840"/>
              <a:chOff x="5017680" y="4437000"/>
              <a:chExt cx="3256200" cy="699840"/>
            </a:xfrm>
          </p:grpSpPr>
          <p:grpSp>
            <p:nvGrpSpPr>
              <p:cNvPr id="1648" name=""/>
              <p:cNvGrpSpPr/>
              <p:nvPr/>
            </p:nvGrpSpPr>
            <p:grpSpPr>
              <a:xfrm>
                <a:off x="5806800" y="4601880"/>
                <a:ext cx="420120" cy="370080"/>
                <a:chOff x="5806800" y="4601880"/>
                <a:chExt cx="420120" cy="370080"/>
              </a:xfrm>
            </p:grpSpPr>
            <p:grpSp>
              <p:nvGrpSpPr>
                <p:cNvPr id="1649" name=""/>
                <p:cNvGrpSpPr/>
                <p:nvPr/>
              </p:nvGrpSpPr>
              <p:grpSpPr>
                <a:xfrm>
                  <a:off x="5831280" y="4601880"/>
                  <a:ext cx="370800" cy="370080"/>
                  <a:chOff x="5831280" y="4601880"/>
                  <a:chExt cx="370800" cy="370080"/>
                </a:xfrm>
              </p:grpSpPr>
              <p:sp>
                <p:nvSpPr>
                  <p:cNvPr id="1650" name=""/>
                  <p:cNvSpPr/>
                  <p:nvPr/>
                </p:nvSpPr>
                <p:spPr>
                  <a:xfrm>
                    <a:off x="6016680" y="460188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5831280" y="460188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2" name=""/>
                <p:cNvSpPr/>
                <p:nvPr/>
              </p:nvSpPr>
              <p:spPr>
                <a:xfrm>
                  <a:off x="5806800" y="4640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3" name=""/>
              <p:cNvSpPr/>
              <p:nvPr/>
            </p:nvSpPr>
            <p:spPr>
              <a:xfrm>
                <a:off x="6203520" y="46767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203520" y="48970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5" name=""/>
              <p:cNvGrpSpPr/>
              <p:nvPr/>
            </p:nvGrpSpPr>
            <p:grpSpPr>
              <a:xfrm>
                <a:off x="6537960" y="4492440"/>
                <a:ext cx="345960" cy="588960"/>
                <a:chOff x="6537960" y="4492440"/>
                <a:chExt cx="345960" cy="588960"/>
              </a:xfrm>
            </p:grpSpPr>
            <p:sp>
              <p:nvSpPr>
                <p:cNvPr id="1656" name=""/>
                <p:cNvSpPr/>
                <p:nvPr/>
              </p:nvSpPr>
              <p:spPr>
                <a:xfrm rot="16200000">
                  <a:off x="6420600" y="462996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rot="5400000">
                  <a:off x="6526440" y="470304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rot="5400000">
                  <a:off x="6539040" y="472212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rot="16200000">
                  <a:off x="6543000" y="46310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0" name=""/>
              <p:cNvSpPr/>
              <p:nvPr/>
            </p:nvSpPr>
            <p:spPr>
              <a:xfrm>
                <a:off x="6874560" y="4787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583040" y="478764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2" name=""/>
              <p:cNvGrpSpPr/>
              <p:nvPr/>
            </p:nvGrpSpPr>
            <p:grpSpPr>
              <a:xfrm>
                <a:off x="7072560" y="4603680"/>
                <a:ext cx="592200" cy="368280"/>
                <a:chOff x="7072560" y="4603680"/>
                <a:chExt cx="592200" cy="368280"/>
              </a:xfrm>
            </p:grpSpPr>
            <p:sp>
              <p:nvSpPr>
                <p:cNvPr id="1663" name=""/>
                <p:cNvSpPr/>
                <p:nvPr/>
              </p:nvSpPr>
              <p:spPr>
                <a:xfrm>
                  <a:off x="7185600" y="460368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7072560" y="4642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5" name=""/>
              <p:cNvSpPr/>
              <p:nvPr/>
            </p:nvSpPr>
            <p:spPr>
              <a:xfrm>
                <a:off x="7135560" y="478764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446800" y="489888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396760" y="467676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8" name=""/>
              <p:cNvGrpSpPr/>
              <p:nvPr/>
            </p:nvGrpSpPr>
            <p:grpSpPr>
              <a:xfrm>
                <a:off x="5017680" y="4603680"/>
                <a:ext cx="557280" cy="368280"/>
                <a:chOff x="5017680" y="4603680"/>
                <a:chExt cx="557280" cy="36828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5106960" y="4603680"/>
                  <a:ext cx="3726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5017680" y="4642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1" name=""/>
              <p:cNvGrpSpPr/>
              <p:nvPr/>
            </p:nvGrpSpPr>
            <p:grpSpPr>
              <a:xfrm>
                <a:off x="5595840" y="4437000"/>
                <a:ext cx="2171160" cy="699840"/>
                <a:chOff x="5595840" y="4437000"/>
                <a:chExt cx="2171160" cy="699840"/>
              </a:xfrm>
            </p:grpSpPr>
            <p:sp>
              <p:nvSpPr>
                <p:cNvPr id="1672" name=""/>
                <p:cNvSpPr/>
                <p:nvPr/>
              </p:nvSpPr>
              <p:spPr>
                <a:xfrm>
                  <a:off x="6294600" y="443700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7692120" y="44370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5595840" y="44370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6993360" y="444096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6" name=""/>
              <p:cNvGrpSpPr/>
              <p:nvPr/>
            </p:nvGrpSpPr>
            <p:grpSpPr>
              <a:xfrm>
                <a:off x="7853760" y="4589280"/>
                <a:ext cx="420120" cy="369720"/>
                <a:chOff x="7853760" y="4589280"/>
                <a:chExt cx="420120" cy="369720"/>
              </a:xfrm>
            </p:grpSpPr>
            <p:grpSp>
              <p:nvGrpSpPr>
                <p:cNvPr id="1677" name=""/>
                <p:cNvGrpSpPr/>
                <p:nvPr/>
              </p:nvGrpSpPr>
              <p:grpSpPr>
                <a:xfrm>
                  <a:off x="7881120" y="4589280"/>
                  <a:ext cx="373680" cy="369720"/>
                  <a:chOff x="7881120" y="4589280"/>
                  <a:chExt cx="373680" cy="369720"/>
                </a:xfrm>
              </p:grpSpPr>
              <p:sp>
                <p:nvSpPr>
                  <p:cNvPr id="1678" name=""/>
                  <p:cNvSpPr/>
                  <p:nvPr/>
                </p:nvSpPr>
                <p:spPr>
                  <a:xfrm flipH="1">
                    <a:off x="7880760" y="458928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 flipH="1">
                    <a:off x="7881120" y="458928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0" name=""/>
                <p:cNvSpPr/>
                <p:nvPr/>
              </p:nvSpPr>
              <p:spPr>
                <a:xfrm flipH="1">
                  <a:off x="7853400" y="4627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1" name=""/>
            <p:cNvGrpSpPr/>
            <p:nvPr/>
          </p:nvGrpSpPr>
          <p:grpSpPr>
            <a:xfrm>
              <a:off x="5720760" y="5249520"/>
              <a:ext cx="3256200" cy="699840"/>
              <a:chOff x="5720760" y="5249520"/>
              <a:chExt cx="3256200" cy="699840"/>
            </a:xfrm>
          </p:grpSpPr>
          <p:grpSp>
            <p:nvGrpSpPr>
              <p:cNvPr id="1682" name=""/>
              <p:cNvGrpSpPr/>
              <p:nvPr/>
            </p:nvGrpSpPr>
            <p:grpSpPr>
              <a:xfrm>
                <a:off x="6510600" y="5414400"/>
                <a:ext cx="420120" cy="370080"/>
                <a:chOff x="6510600" y="5414400"/>
                <a:chExt cx="420120" cy="370080"/>
              </a:xfrm>
            </p:grpSpPr>
            <p:grpSp>
              <p:nvGrpSpPr>
                <p:cNvPr id="1683" name=""/>
                <p:cNvGrpSpPr/>
                <p:nvPr/>
              </p:nvGrpSpPr>
              <p:grpSpPr>
                <a:xfrm>
                  <a:off x="6534360" y="5414400"/>
                  <a:ext cx="370440" cy="370080"/>
                  <a:chOff x="6534360" y="5414400"/>
                  <a:chExt cx="370440" cy="370080"/>
                </a:xfrm>
              </p:grpSpPr>
              <p:sp>
                <p:nvSpPr>
                  <p:cNvPr id="1684" name=""/>
                  <p:cNvSpPr/>
                  <p:nvPr/>
                </p:nvSpPr>
                <p:spPr>
                  <a:xfrm>
                    <a:off x="6719760" y="5414400"/>
                    <a:ext cx="18504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6534360" y="5414400"/>
                    <a:ext cx="3704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6" name=""/>
                <p:cNvSpPr/>
                <p:nvPr/>
              </p:nvSpPr>
              <p:spPr>
                <a:xfrm>
                  <a:off x="6510600" y="54529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7" name=""/>
              <p:cNvSpPr/>
              <p:nvPr/>
            </p:nvSpPr>
            <p:spPr>
              <a:xfrm>
                <a:off x="6906600" y="54892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906600" y="570960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9" name=""/>
              <p:cNvGrpSpPr/>
              <p:nvPr/>
            </p:nvGrpSpPr>
            <p:grpSpPr>
              <a:xfrm>
                <a:off x="7241040" y="5304960"/>
                <a:ext cx="345960" cy="588960"/>
                <a:chOff x="7241040" y="5304960"/>
                <a:chExt cx="345960" cy="588960"/>
              </a:xfrm>
            </p:grpSpPr>
            <p:sp>
              <p:nvSpPr>
                <p:cNvPr id="1690" name=""/>
                <p:cNvSpPr/>
                <p:nvPr/>
              </p:nvSpPr>
              <p:spPr>
                <a:xfrm rot="16200000">
                  <a:off x="7123680" y="544248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rot="5400000">
                  <a:off x="7229520" y="551556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rot="5400000">
                  <a:off x="7242120" y="553464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rot="16200000">
                  <a:off x="7246080" y="54435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4" name=""/>
              <p:cNvSpPr/>
              <p:nvPr/>
            </p:nvSpPr>
            <p:spPr>
              <a:xfrm>
                <a:off x="7577640" y="560016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8286120" y="560016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6" name=""/>
              <p:cNvGrpSpPr/>
              <p:nvPr/>
            </p:nvGrpSpPr>
            <p:grpSpPr>
              <a:xfrm>
                <a:off x="7775640" y="5416200"/>
                <a:ext cx="592200" cy="368280"/>
                <a:chOff x="7775640" y="5416200"/>
                <a:chExt cx="592200" cy="368280"/>
              </a:xfrm>
            </p:grpSpPr>
            <p:sp>
              <p:nvSpPr>
                <p:cNvPr id="1697" name=""/>
                <p:cNvSpPr/>
                <p:nvPr/>
              </p:nvSpPr>
              <p:spPr>
                <a:xfrm>
                  <a:off x="7888680" y="541620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7775640" y="54547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9" name=""/>
              <p:cNvSpPr/>
              <p:nvPr/>
            </p:nvSpPr>
            <p:spPr>
              <a:xfrm>
                <a:off x="7838640" y="560016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149880" y="571140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099840" y="548928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2" name=""/>
              <p:cNvGrpSpPr/>
              <p:nvPr/>
            </p:nvGrpSpPr>
            <p:grpSpPr>
              <a:xfrm>
                <a:off x="5720760" y="5416200"/>
                <a:ext cx="557280" cy="368280"/>
                <a:chOff x="5720760" y="5416200"/>
                <a:chExt cx="557280" cy="368280"/>
              </a:xfrm>
            </p:grpSpPr>
            <p:sp>
              <p:nvSpPr>
                <p:cNvPr id="1703" name=""/>
                <p:cNvSpPr/>
                <p:nvPr/>
              </p:nvSpPr>
              <p:spPr>
                <a:xfrm>
                  <a:off x="5810040" y="541620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5720760" y="54547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5" name=""/>
              <p:cNvGrpSpPr/>
              <p:nvPr/>
            </p:nvGrpSpPr>
            <p:grpSpPr>
              <a:xfrm>
                <a:off x="6298920" y="5249520"/>
                <a:ext cx="2171160" cy="699840"/>
                <a:chOff x="6298920" y="5249520"/>
                <a:chExt cx="2171160" cy="699840"/>
              </a:xfrm>
            </p:grpSpPr>
            <p:sp>
              <p:nvSpPr>
                <p:cNvPr id="1706" name=""/>
                <p:cNvSpPr/>
                <p:nvPr/>
              </p:nvSpPr>
              <p:spPr>
                <a:xfrm>
                  <a:off x="6997680" y="524952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8395200" y="524952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6298920" y="524952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696440" y="525348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0" name=""/>
              <p:cNvGrpSpPr/>
              <p:nvPr/>
            </p:nvGrpSpPr>
            <p:grpSpPr>
              <a:xfrm>
                <a:off x="8556840" y="5401800"/>
                <a:ext cx="420120" cy="369720"/>
                <a:chOff x="8556840" y="5401800"/>
                <a:chExt cx="420120" cy="369720"/>
              </a:xfrm>
            </p:grpSpPr>
            <p:grpSp>
              <p:nvGrpSpPr>
                <p:cNvPr id="1711" name=""/>
                <p:cNvGrpSpPr/>
                <p:nvPr/>
              </p:nvGrpSpPr>
              <p:grpSpPr>
                <a:xfrm>
                  <a:off x="8584200" y="5401800"/>
                  <a:ext cx="373680" cy="369720"/>
                  <a:chOff x="8584200" y="5401800"/>
                  <a:chExt cx="373680" cy="369720"/>
                </a:xfrm>
              </p:grpSpPr>
              <p:sp>
                <p:nvSpPr>
                  <p:cNvPr id="1712" name=""/>
                  <p:cNvSpPr/>
                  <p:nvPr/>
                </p:nvSpPr>
                <p:spPr>
                  <a:xfrm flipH="1">
                    <a:off x="8583840" y="540180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 flipH="1">
                    <a:off x="8584200" y="540180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4" name=""/>
                <p:cNvSpPr/>
                <p:nvPr/>
              </p:nvSpPr>
              <p:spPr>
                <a:xfrm flipH="1">
                  <a:off x="8556480" y="544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15" name=""/>
          <p:cNvSpPr/>
          <p:nvPr/>
        </p:nvSpPr>
        <p:spPr>
          <a:xfrm>
            <a:off x="4944960" y="2271600"/>
            <a:ext cx="187560" cy="7178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338880" y="3095640"/>
            <a:ext cx="106200" cy="8287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638680" y="2257560"/>
            <a:ext cx="166680" cy="15699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037200" y="2576520"/>
            <a:ext cx="768240" cy="154944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E13-9BA2-4AD7-B869-9868AF6ED6F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49A65-27ED-4D43-820A-31BE0FD5B4B2}" type="datetime1">
              <a:rPr lang="en-US"/>
              <a:t>07/30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"/>
          <p:cNvSpPr/>
          <p:nvPr/>
        </p:nvSpPr>
        <p:spPr>
          <a:xfrm>
            <a:off x="1054080" y="2349360"/>
            <a:ext cx="748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861840" y="1936800"/>
            <a:ext cx="240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103680" y="2760840"/>
            <a:ext cx="3165840" cy="3735000"/>
            <a:chOff x="103680" y="2760840"/>
            <a:chExt cx="3165840" cy="3735000"/>
          </a:xfrm>
        </p:grpSpPr>
        <p:sp>
          <p:nvSpPr>
            <p:cNvPr id="1722" name=""/>
            <p:cNvSpPr/>
            <p:nvPr/>
          </p:nvSpPr>
          <p:spPr>
            <a:xfrm>
              <a:off x="103680" y="2798640"/>
              <a:ext cx="367200" cy="34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2200" y="2817720"/>
              <a:ext cx="0" cy="36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4" name=""/>
            <p:cNvGrpSpPr/>
            <p:nvPr/>
          </p:nvGrpSpPr>
          <p:grpSpPr>
            <a:xfrm>
              <a:off x="710640" y="2760840"/>
              <a:ext cx="2558880" cy="3735000"/>
              <a:chOff x="710640" y="2760840"/>
              <a:chExt cx="2558880" cy="3735000"/>
            </a:xfrm>
          </p:grpSpPr>
          <p:sp>
            <p:nvSpPr>
              <p:cNvPr id="1725" name=""/>
              <p:cNvSpPr/>
              <p:nvPr/>
            </p:nvSpPr>
            <p:spPr>
              <a:xfrm>
                <a:off x="710640" y="276084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lw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, 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(r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10640" y="373248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sub r4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10640" y="468468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nd r6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10640" y="5675400"/>
                <a:ext cx="255888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or   r8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811080" y="-360"/>
            <a:ext cx="7715520" cy="10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 Hazard Even with Forward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9, Page A-21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2982600" y="2651040"/>
            <a:ext cx="6030000" cy="3519360"/>
            <a:chOff x="2982600" y="2651040"/>
            <a:chExt cx="6030000" cy="3519360"/>
          </a:xfrm>
        </p:grpSpPr>
        <p:grpSp>
          <p:nvGrpSpPr>
            <p:cNvPr id="1731" name=""/>
            <p:cNvGrpSpPr/>
            <p:nvPr/>
          </p:nvGrpSpPr>
          <p:grpSpPr>
            <a:xfrm>
              <a:off x="2982600" y="2651040"/>
              <a:ext cx="3650760" cy="699840"/>
              <a:chOff x="2982600" y="2651040"/>
              <a:chExt cx="3650760" cy="699840"/>
            </a:xfrm>
          </p:grpSpPr>
          <p:grpSp>
            <p:nvGrpSpPr>
              <p:cNvPr id="1732" name=""/>
              <p:cNvGrpSpPr/>
              <p:nvPr/>
            </p:nvGrpSpPr>
            <p:grpSpPr>
              <a:xfrm>
                <a:off x="3876480" y="2815920"/>
                <a:ext cx="422640" cy="370080"/>
                <a:chOff x="3876480" y="2815920"/>
                <a:chExt cx="422640" cy="370080"/>
              </a:xfrm>
            </p:grpSpPr>
            <p:grpSp>
              <p:nvGrpSpPr>
                <p:cNvPr id="1733" name=""/>
                <p:cNvGrpSpPr/>
                <p:nvPr/>
              </p:nvGrpSpPr>
              <p:grpSpPr>
                <a:xfrm>
                  <a:off x="3876480" y="2815920"/>
                  <a:ext cx="422280" cy="370080"/>
                  <a:chOff x="3876480" y="2815920"/>
                  <a:chExt cx="422280" cy="370080"/>
                </a:xfrm>
              </p:grpSpPr>
              <p:sp>
                <p:nvSpPr>
                  <p:cNvPr id="1734" name=""/>
                  <p:cNvSpPr/>
                  <p:nvPr/>
                </p:nvSpPr>
                <p:spPr>
                  <a:xfrm>
                    <a:off x="4087800" y="281592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3876480" y="281592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6" name=""/>
                <p:cNvSpPr/>
                <p:nvPr/>
              </p:nvSpPr>
              <p:spPr>
                <a:xfrm>
                  <a:off x="3879000" y="28544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7" name=""/>
              <p:cNvSpPr/>
              <p:nvPr/>
            </p:nvSpPr>
            <p:spPr>
              <a:xfrm>
                <a:off x="4300920" y="289080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300920" y="311112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9" name=""/>
              <p:cNvGrpSpPr/>
              <p:nvPr/>
            </p:nvGrpSpPr>
            <p:grpSpPr>
              <a:xfrm>
                <a:off x="4682520" y="2706480"/>
                <a:ext cx="380160" cy="588960"/>
                <a:chOff x="4682520" y="2706480"/>
                <a:chExt cx="380160" cy="588960"/>
              </a:xfrm>
            </p:grpSpPr>
            <p:sp>
              <p:nvSpPr>
                <p:cNvPr id="1740" name=""/>
                <p:cNvSpPr/>
                <p:nvPr/>
              </p:nvSpPr>
              <p:spPr>
                <a:xfrm rot="16200000">
                  <a:off x="4589640" y="282240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 rot="5400000">
                  <a:off x="4682520" y="290556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rot="5400000">
                  <a:off x="4695840" y="292752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rot="16200000">
                  <a:off x="4717800" y="28418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4" name=""/>
              <p:cNvSpPr/>
              <p:nvPr/>
            </p:nvSpPr>
            <p:spPr>
              <a:xfrm>
                <a:off x="5067000" y="300168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875560" y="3001680"/>
                <a:ext cx="46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6" name=""/>
              <p:cNvGrpSpPr/>
              <p:nvPr/>
            </p:nvGrpSpPr>
            <p:grpSpPr>
              <a:xfrm>
                <a:off x="5334840" y="2817720"/>
                <a:ext cx="592200" cy="368280"/>
                <a:chOff x="5334840" y="2817720"/>
                <a:chExt cx="592200" cy="36828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5421960" y="281772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5334840" y="285624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9" name=""/>
              <p:cNvSpPr/>
              <p:nvPr/>
            </p:nvSpPr>
            <p:spPr>
              <a:xfrm>
                <a:off x="5365080" y="300168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437280" y="311292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380040" y="289080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2" name=""/>
              <p:cNvGrpSpPr/>
              <p:nvPr/>
            </p:nvGrpSpPr>
            <p:grpSpPr>
              <a:xfrm>
                <a:off x="2982600" y="2817720"/>
                <a:ext cx="557280" cy="368280"/>
                <a:chOff x="2982600" y="2817720"/>
                <a:chExt cx="557280" cy="36828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049200" y="281772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982600" y="285624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5" name=""/>
              <p:cNvGrpSpPr/>
              <p:nvPr/>
            </p:nvGrpSpPr>
            <p:grpSpPr>
              <a:xfrm>
                <a:off x="3606840" y="2651040"/>
                <a:ext cx="2478240" cy="699840"/>
                <a:chOff x="3606840" y="2651040"/>
                <a:chExt cx="2478240" cy="699840"/>
              </a:xfrm>
            </p:grpSpPr>
            <p:sp>
              <p:nvSpPr>
                <p:cNvPr id="1756" name=""/>
                <p:cNvSpPr/>
                <p:nvPr/>
              </p:nvSpPr>
              <p:spPr>
                <a:xfrm>
                  <a:off x="440460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599976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360684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202000" y="265500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0" name=""/>
              <p:cNvGrpSpPr/>
              <p:nvPr/>
            </p:nvGrpSpPr>
            <p:grpSpPr>
              <a:xfrm>
                <a:off x="6202440" y="2803320"/>
                <a:ext cx="430920" cy="369720"/>
                <a:chOff x="6202440" y="2803320"/>
                <a:chExt cx="430920" cy="369720"/>
              </a:xfrm>
            </p:grpSpPr>
            <p:grpSp>
              <p:nvGrpSpPr>
                <p:cNvPr id="1761" name=""/>
                <p:cNvGrpSpPr/>
                <p:nvPr/>
              </p:nvGrpSpPr>
              <p:grpSpPr>
                <a:xfrm>
                  <a:off x="6207480" y="2803320"/>
                  <a:ext cx="425880" cy="369720"/>
                  <a:chOff x="6207480" y="2803320"/>
                  <a:chExt cx="425880" cy="369720"/>
                </a:xfrm>
              </p:grpSpPr>
              <p:sp>
                <p:nvSpPr>
                  <p:cNvPr id="1762" name=""/>
                  <p:cNvSpPr/>
                  <p:nvPr/>
                </p:nvSpPr>
                <p:spPr>
                  <a:xfrm flipH="1">
                    <a:off x="6207120" y="280332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 flipH="1">
                    <a:off x="6207120" y="280332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4" name=""/>
                <p:cNvSpPr/>
                <p:nvPr/>
              </p:nvSpPr>
              <p:spPr>
                <a:xfrm flipH="1">
                  <a:off x="6202080" y="28418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5" name=""/>
            <p:cNvGrpSpPr/>
            <p:nvPr/>
          </p:nvGrpSpPr>
          <p:grpSpPr>
            <a:xfrm>
              <a:off x="3801600" y="3581280"/>
              <a:ext cx="3650400" cy="699840"/>
              <a:chOff x="3801600" y="3581280"/>
              <a:chExt cx="3650400" cy="699840"/>
            </a:xfrm>
          </p:grpSpPr>
          <p:grpSp>
            <p:nvGrpSpPr>
              <p:cNvPr id="1766" name=""/>
              <p:cNvGrpSpPr/>
              <p:nvPr/>
            </p:nvGrpSpPr>
            <p:grpSpPr>
              <a:xfrm>
                <a:off x="4695480" y="3746160"/>
                <a:ext cx="422640" cy="370080"/>
                <a:chOff x="4695480" y="3746160"/>
                <a:chExt cx="422640" cy="370080"/>
              </a:xfrm>
            </p:grpSpPr>
            <p:grpSp>
              <p:nvGrpSpPr>
                <p:cNvPr id="1767" name=""/>
                <p:cNvGrpSpPr/>
                <p:nvPr/>
              </p:nvGrpSpPr>
              <p:grpSpPr>
                <a:xfrm>
                  <a:off x="4695480" y="3746160"/>
                  <a:ext cx="422280" cy="370080"/>
                  <a:chOff x="4695480" y="3746160"/>
                  <a:chExt cx="422280" cy="370080"/>
                </a:xfrm>
              </p:grpSpPr>
              <p:sp>
                <p:nvSpPr>
                  <p:cNvPr id="1768" name=""/>
                  <p:cNvSpPr/>
                  <p:nvPr/>
                </p:nvSpPr>
                <p:spPr>
                  <a:xfrm>
                    <a:off x="4906800" y="374616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4695480" y="374616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0" name=""/>
                <p:cNvSpPr/>
                <p:nvPr/>
              </p:nvSpPr>
              <p:spPr>
                <a:xfrm>
                  <a:off x="4698000" y="37846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1" name=""/>
              <p:cNvSpPr/>
              <p:nvPr/>
            </p:nvSpPr>
            <p:spPr>
              <a:xfrm>
                <a:off x="5119560" y="382104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119560" y="404136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3" name=""/>
              <p:cNvGrpSpPr/>
              <p:nvPr/>
            </p:nvGrpSpPr>
            <p:grpSpPr>
              <a:xfrm>
                <a:off x="5501520" y="3636720"/>
                <a:ext cx="380160" cy="588960"/>
                <a:chOff x="5501520" y="3636720"/>
                <a:chExt cx="380160" cy="588960"/>
              </a:xfrm>
            </p:grpSpPr>
            <p:sp>
              <p:nvSpPr>
                <p:cNvPr id="1774" name=""/>
                <p:cNvSpPr/>
                <p:nvPr/>
              </p:nvSpPr>
              <p:spPr>
                <a:xfrm rot="16200000">
                  <a:off x="5408640" y="375264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rot="5400000">
                  <a:off x="5501520" y="383580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rot="5400000">
                  <a:off x="5514840" y="385776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rot="16200000">
                  <a:off x="5537520" y="3772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5885640" y="39319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694200" y="393192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0" name=""/>
              <p:cNvGrpSpPr/>
              <p:nvPr/>
            </p:nvGrpSpPr>
            <p:grpSpPr>
              <a:xfrm>
                <a:off x="6153480" y="3747960"/>
                <a:ext cx="592200" cy="368280"/>
                <a:chOff x="6153480" y="3747960"/>
                <a:chExt cx="592200" cy="36828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6240600" y="374796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6153480" y="37864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3" name=""/>
              <p:cNvSpPr/>
              <p:nvPr/>
            </p:nvSpPr>
            <p:spPr>
              <a:xfrm>
                <a:off x="6183720" y="393192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55920" y="404316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199040" y="382104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6" name=""/>
              <p:cNvGrpSpPr/>
              <p:nvPr/>
            </p:nvGrpSpPr>
            <p:grpSpPr>
              <a:xfrm>
                <a:off x="3801600" y="3747960"/>
                <a:ext cx="557280" cy="368280"/>
                <a:chOff x="3801600" y="3747960"/>
                <a:chExt cx="557280" cy="36828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3868200" y="374796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3801600" y="37864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4425840" y="3581280"/>
                <a:ext cx="2477880" cy="699840"/>
                <a:chOff x="4425840" y="3581280"/>
                <a:chExt cx="2477880" cy="69984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522324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681840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442584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6021000" y="358524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7021080" y="3733560"/>
                <a:ext cx="430920" cy="369720"/>
                <a:chOff x="7021080" y="3733560"/>
                <a:chExt cx="430920" cy="3697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7026120" y="3733560"/>
                  <a:ext cx="425880" cy="369720"/>
                  <a:chOff x="7026120" y="3733560"/>
                  <a:chExt cx="425880" cy="3697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 flipH="1">
                    <a:off x="7025760" y="373356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 flipH="1">
                    <a:off x="7025760" y="373356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 flipH="1">
                  <a:off x="7020720" y="37720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9" name=""/>
            <p:cNvGrpSpPr/>
            <p:nvPr/>
          </p:nvGrpSpPr>
          <p:grpSpPr>
            <a:xfrm>
              <a:off x="4593240" y="4497480"/>
              <a:ext cx="3649680" cy="699840"/>
              <a:chOff x="4593240" y="4497480"/>
              <a:chExt cx="3649680" cy="699840"/>
            </a:xfrm>
          </p:grpSpPr>
          <p:grpSp>
            <p:nvGrpSpPr>
              <p:cNvPr id="1800" name=""/>
              <p:cNvGrpSpPr/>
              <p:nvPr/>
            </p:nvGrpSpPr>
            <p:grpSpPr>
              <a:xfrm>
                <a:off x="5487120" y="4662360"/>
                <a:ext cx="422640" cy="370080"/>
                <a:chOff x="5487120" y="4662360"/>
                <a:chExt cx="422640" cy="370080"/>
              </a:xfrm>
            </p:grpSpPr>
            <p:grpSp>
              <p:nvGrpSpPr>
                <p:cNvPr id="1801" name=""/>
                <p:cNvGrpSpPr/>
                <p:nvPr/>
              </p:nvGrpSpPr>
              <p:grpSpPr>
                <a:xfrm>
                  <a:off x="5487120" y="4662360"/>
                  <a:ext cx="422280" cy="370080"/>
                  <a:chOff x="5487120" y="4662360"/>
                  <a:chExt cx="422280" cy="370080"/>
                </a:xfrm>
              </p:grpSpPr>
              <p:sp>
                <p:nvSpPr>
                  <p:cNvPr id="1802" name=""/>
                  <p:cNvSpPr/>
                  <p:nvPr/>
                </p:nvSpPr>
                <p:spPr>
                  <a:xfrm>
                    <a:off x="5698440" y="466236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5487120" y="466236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4" name=""/>
                <p:cNvSpPr/>
                <p:nvPr/>
              </p:nvSpPr>
              <p:spPr>
                <a:xfrm>
                  <a:off x="5489640" y="4700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5911200" y="4737240"/>
                <a:ext cx="4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911200" y="4957560"/>
                <a:ext cx="4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7" name=""/>
              <p:cNvGrpSpPr/>
              <p:nvPr/>
            </p:nvGrpSpPr>
            <p:grpSpPr>
              <a:xfrm>
                <a:off x="6292800" y="4552920"/>
                <a:ext cx="380160" cy="588960"/>
                <a:chOff x="6292800" y="4552920"/>
                <a:chExt cx="380160" cy="588960"/>
              </a:xfrm>
            </p:grpSpPr>
            <p:sp>
              <p:nvSpPr>
                <p:cNvPr id="1808" name=""/>
                <p:cNvSpPr/>
                <p:nvPr/>
              </p:nvSpPr>
              <p:spPr>
                <a:xfrm rot="16200000">
                  <a:off x="6199920" y="466884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 rot="5400000">
                  <a:off x="6292800" y="475200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rot="5400000">
                  <a:off x="6306120" y="477396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rot="16200000">
                  <a:off x="6328800" y="46717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2" name=""/>
              <p:cNvSpPr/>
              <p:nvPr/>
            </p:nvSpPr>
            <p:spPr>
              <a:xfrm>
                <a:off x="6676920" y="4848120"/>
                <a:ext cx="46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485120" y="484812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4" name=""/>
              <p:cNvGrpSpPr/>
              <p:nvPr/>
            </p:nvGrpSpPr>
            <p:grpSpPr>
              <a:xfrm>
                <a:off x="6945480" y="4664160"/>
                <a:ext cx="592200" cy="368280"/>
                <a:chOff x="6945480" y="4664160"/>
                <a:chExt cx="592200" cy="368280"/>
              </a:xfrm>
            </p:grpSpPr>
            <p:sp>
              <p:nvSpPr>
                <p:cNvPr id="1815" name=""/>
                <p:cNvSpPr/>
                <p:nvPr/>
              </p:nvSpPr>
              <p:spPr>
                <a:xfrm>
                  <a:off x="7031520" y="466416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6945480" y="4702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7" name=""/>
              <p:cNvSpPr/>
              <p:nvPr/>
            </p:nvSpPr>
            <p:spPr>
              <a:xfrm>
                <a:off x="6975000" y="4848120"/>
                <a:ext cx="63396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47920" y="4959360"/>
                <a:ext cx="438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990680" y="4737240"/>
                <a:ext cx="49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0" name=""/>
              <p:cNvGrpSpPr/>
              <p:nvPr/>
            </p:nvGrpSpPr>
            <p:grpSpPr>
              <a:xfrm>
                <a:off x="4593240" y="4664160"/>
                <a:ext cx="557280" cy="368280"/>
                <a:chOff x="4593240" y="4664160"/>
                <a:chExt cx="557280" cy="36828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4660200" y="466416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4593240" y="4702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3" name=""/>
              <p:cNvGrpSpPr/>
              <p:nvPr/>
            </p:nvGrpSpPr>
            <p:grpSpPr>
              <a:xfrm>
                <a:off x="5217840" y="4497480"/>
                <a:ext cx="2476800" cy="699840"/>
                <a:chOff x="5217840" y="4497480"/>
                <a:chExt cx="2476800" cy="699840"/>
              </a:xfrm>
            </p:grpSpPr>
            <p:sp>
              <p:nvSpPr>
                <p:cNvPr id="1824" name=""/>
                <p:cNvSpPr/>
                <p:nvPr/>
              </p:nvSpPr>
              <p:spPr>
                <a:xfrm>
                  <a:off x="6015240" y="4497480"/>
                  <a:ext cx="849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609320" y="44974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5217840" y="44974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6812280" y="4501440"/>
                  <a:ext cx="838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7814520" y="4649760"/>
                <a:ext cx="428400" cy="369720"/>
                <a:chOff x="7814520" y="4649760"/>
                <a:chExt cx="428400" cy="369720"/>
              </a:xfrm>
            </p:grpSpPr>
            <p:grpSp>
              <p:nvGrpSpPr>
                <p:cNvPr id="1829" name=""/>
                <p:cNvGrpSpPr/>
                <p:nvPr/>
              </p:nvGrpSpPr>
              <p:grpSpPr>
                <a:xfrm>
                  <a:off x="7817400" y="4649760"/>
                  <a:ext cx="425520" cy="369720"/>
                  <a:chOff x="7817400" y="4649760"/>
                  <a:chExt cx="425520" cy="369720"/>
                </a:xfrm>
              </p:grpSpPr>
              <p:sp>
                <p:nvSpPr>
                  <p:cNvPr id="1830" name=""/>
                  <p:cNvSpPr/>
                  <p:nvPr/>
                </p:nvSpPr>
                <p:spPr>
                  <a:xfrm flipH="1">
                    <a:off x="7817760" y="4649760"/>
                    <a:ext cx="21240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 flipH="1">
                    <a:off x="7817400" y="4649760"/>
                    <a:ext cx="425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2" name=""/>
                <p:cNvSpPr/>
                <p:nvPr/>
              </p:nvSpPr>
              <p:spPr>
                <a:xfrm flipH="1">
                  <a:off x="7814160" y="4688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33" name=""/>
            <p:cNvGrpSpPr/>
            <p:nvPr/>
          </p:nvGrpSpPr>
          <p:grpSpPr>
            <a:xfrm>
              <a:off x="5362200" y="5470560"/>
              <a:ext cx="3650400" cy="699840"/>
              <a:chOff x="5362200" y="5470560"/>
              <a:chExt cx="3650400" cy="699840"/>
            </a:xfrm>
          </p:grpSpPr>
          <p:grpSp>
            <p:nvGrpSpPr>
              <p:cNvPr id="1834" name=""/>
              <p:cNvGrpSpPr/>
              <p:nvPr/>
            </p:nvGrpSpPr>
            <p:grpSpPr>
              <a:xfrm>
                <a:off x="6256080" y="5635440"/>
                <a:ext cx="422640" cy="370080"/>
                <a:chOff x="6256080" y="5635440"/>
                <a:chExt cx="422640" cy="370080"/>
              </a:xfrm>
            </p:grpSpPr>
            <p:grpSp>
              <p:nvGrpSpPr>
                <p:cNvPr id="1835" name=""/>
                <p:cNvGrpSpPr/>
                <p:nvPr/>
              </p:nvGrpSpPr>
              <p:grpSpPr>
                <a:xfrm>
                  <a:off x="6256080" y="5635440"/>
                  <a:ext cx="422280" cy="370080"/>
                  <a:chOff x="6256080" y="5635440"/>
                  <a:chExt cx="422280" cy="370080"/>
                </a:xfrm>
              </p:grpSpPr>
              <p:sp>
                <p:nvSpPr>
                  <p:cNvPr id="1836" name=""/>
                  <p:cNvSpPr/>
                  <p:nvPr/>
                </p:nvSpPr>
                <p:spPr>
                  <a:xfrm>
                    <a:off x="6467400" y="563544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6256080" y="563544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8" name=""/>
                <p:cNvSpPr/>
                <p:nvPr/>
              </p:nvSpPr>
              <p:spPr>
                <a:xfrm>
                  <a:off x="6258600" y="5673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9" name=""/>
              <p:cNvSpPr/>
              <p:nvPr/>
            </p:nvSpPr>
            <p:spPr>
              <a:xfrm>
                <a:off x="6680160" y="571032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680160" y="593064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1" name=""/>
              <p:cNvGrpSpPr/>
              <p:nvPr/>
            </p:nvGrpSpPr>
            <p:grpSpPr>
              <a:xfrm>
                <a:off x="7062120" y="5526000"/>
                <a:ext cx="380160" cy="588960"/>
                <a:chOff x="7062120" y="5526000"/>
                <a:chExt cx="380160" cy="588960"/>
              </a:xfrm>
            </p:grpSpPr>
            <p:sp>
              <p:nvSpPr>
                <p:cNvPr id="1842" name=""/>
                <p:cNvSpPr/>
                <p:nvPr/>
              </p:nvSpPr>
              <p:spPr>
                <a:xfrm rot="16200000">
                  <a:off x="6969240" y="564192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rot="5400000">
                  <a:off x="7062120" y="572508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rot="5400000">
                  <a:off x="7075440" y="574704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rot="16200000">
                  <a:off x="7097400" y="56613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6" name=""/>
              <p:cNvSpPr/>
              <p:nvPr/>
            </p:nvSpPr>
            <p:spPr>
              <a:xfrm>
                <a:off x="7446240" y="582120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254800" y="582120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8" name=""/>
              <p:cNvGrpSpPr/>
              <p:nvPr/>
            </p:nvGrpSpPr>
            <p:grpSpPr>
              <a:xfrm>
                <a:off x="7714080" y="5637240"/>
                <a:ext cx="592200" cy="368280"/>
                <a:chOff x="7714080" y="5637240"/>
                <a:chExt cx="592200" cy="368280"/>
              </a:xfrm>
            </p:grpSpPr>
            <p:sp>
              <p:nvSpPr>
                <p:cNvPr id="1849" name=""/>
                <p:cNvSpPr/>
                <p:nvPr/>
              </p:nvSpPr>
              <p:spPr>
                <a:xfrm>
                  <a:off x="7801200" y="563724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7714080" y="56757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1" name=""/>
              <p:cNvSpPr/>
              <p:nvPr/>
            </p:nvSpPr>
            <p:spPr>
              <a:xfrm>
                <a:off x="7744320" y="582120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816520" y="593244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759640" y="571032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4" name=""/>
              <p:cNvGrpSpPr/>
              <p:nvPr/>
            </p:nvGrpSpPr>
            <p:grpSpPr>
              <a:xfrm>
                <a:off x="5362200" y="5637240"/>
                <a:ext cx="557280" cy="368280"/>
                <a:chOff x="5362200" y="5637240"/>
                <a:chExt cx="557280" cy="368280"/>
              </a:xfrm>
            </p:grpSpPr>
            <p:sp>
              <p:nvSpPr>
                <p:cNvPr id="1855" name=""/>
                <p:cNvSpPr/>
                <p:nvPr/>
              </p:nvSpPr>
              <p:spPr>
                <a:xfrm>
                  <a:off x="5428800" y="563724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5362200" y="56757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5986440" y="5470560"/>
                <a:ext cx="2477880" cy="699840"/>
                <a:chOff x="5986440" y="5470560"/>
                <a:chExt cx="2477880" cy="69984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678384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837900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98644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7581600" y="547452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2" name=""/>
              <p:cNvGrpSpPr/>
              <p:nvPr/>
            </p:nvGrpSpPr>
            <p:grpSpPr>
              <a:xfrm>
                <a:off x="8581680" y="5622840"/>
                <a:ext cx="430920" cy="369720"/>
                <a:chOff x="8581680" y="5622840"/>
                <a:chExt cx="430920" cy="369720"/>
              </a:xfrm>
            </p:grpSpPr>
            <p:grpSp>
              <p:nvGrpSpPr>
                <p:cNvPr id="1863" name=""/>
                <p:cNvGrpSpPr/>
                <p:nvPr/>
              </p:nvGrpSpPr>
              <p:grpSpPr>
                <a:xfrm>
                  <a:off x="8586720" y="5622840"/>
                  <a:ext cx="425880" cy="369720"/>
                  <a:chOff x="8586720" y="5622840"/>
                  <a:chExt cx="425880" cy="369720"/>
                </a:xfrm>
              </p:grpSpPr>
              <p:sp>
                <p:nvSpPr>
                  <p:cNvPr id="1864" name=""/>
                  <p:cNvSpPr/>
                  <p:nvPr/>
                </p:nvSpPr>
                <p:spPr>
                  <a:xfrm flipH="1">
                    <a:off x="8586360" y="562284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 flipH="1">
                    <a:off x="8586360" y="562284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6" name=""/>
                <p:cNvSpPr/>
                <p:nvPr/>
              </p:nvSpPr>
              <p:spPr>
                <a:xfrm flipH="1">
                  <a:off x="8581320" y="56613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67" name=""/>
          <p:cNvSpPr/>
          <p:nvPr/>
        </p:nvSpPr>
        <p:spPr>
          <a:xfrm flipH="1">
            <a:off x="5486400" y="2971800"/>
            <a:ext cx="533520" cy="838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019920" y="2971800"/>
            <a:ext cx="304560" cy="17524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400800" y="2971800"/>
            <a:ext cx="76320" cy="2743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29BC-7A7B-406F-874B-9A7DB0C69E3A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9C158-FB11-499C-BA7A-409FA5097210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80880" y="4444920"/>
            <a:ext cx="8381880" cy="1267560"/>
            <a:chOff x="380880" y="4444920"/>
            <a:chExt cx="8381880" cy="1267560"/>
          </a:xfrm>
        </p:grpSpPr>
        <p:sp>
          <p:nvSpPr>
            <p:cNvPr id="58" name=""/>
            <p:cNvSpPr/>
            <p:nvPr/>
          </p:nvSpPr>
          <p:spPr>
            <a:xfrm>
              <a:off x="2361960" y="513072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4444920"/>
              <a:ext cx="83818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        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Y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0040" y="479520"/>
            <a:ext cx="472752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ition: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150920"/>
            <a:ext cx="83818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s in units of things per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ger is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are primarily concerned with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920" y="2587680"/>
            <a:ext cx="8381880" cy="709560"/>
            <a:chOff x="304920" y="2587680"/>
            <a:chExt cx="8381880" cy="709560"/>
          </a:xfrm>
        </p:grpSpPr>
        <p:sp>
          <p:nvSpPr>
            <p:cNvPr id="63" name=""/>
            <p:cNvSpPr/>
            <p:nvPr/>
          </p:nvSpPr>
          <p:spPr>
            <a:xfrm>
              <a:off x="4038480" y="2984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2587680"/>
              <a:ext cx="8381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lvl="1" marL="685800" indent="-1904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 =           1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57200" y="3606840"/>
            <a:ext cx="838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lvl="1" marL="685800" indent="-190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Arial"/>
              </a:rPr>
              <a:t>X is n times faster than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513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7CE-F9EA-498D-89D1-F4596F0DF7D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77B16-C4FE-4031-A691-F034506A4875}" type="datetime1">
              <a:rPr lang="en-US"/>
              <a:t>07/30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762120" y="235080"/>
            <a:ext cx="777240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ata Hazard Even with Forwarding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imilar to Figure A.10, Page A-21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456200" y="1749600"/>
            <a:ext cx="201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806400" y="5432400"/>
            <a:ext cx="1776960" cy="11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r8,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81520" y="2178000"/>
            <a:ext cx="34596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58880" y="2168640"/>
            <a:ext cx="0" cy="436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336680" y="2124000"/>
            <a:ext cx="706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806040" y="2577960"/>
            <a:ext cx="170964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,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807840" y="3568680"/>
            <a:ext cx="18424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 r4,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07840" y="4502160"/>
            <a:ext cx="18424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r6,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2733120" y="2475000"/>
            <a:ext cx="3651120" cy="699840"/>
            <a:chOff x="2733120" y="2475000"/>
            <a:chExt cx="3651120" cy="699840"/>
          </a:xfrm>
        </p:grpSpPr>
        <p:grpSp>
          <p:nvGrpSpPr>
            <p:cNvPr id="1880" name=""/>
            <p:cNvGrpSpPr/>
            <p:nvPr/>
          </p:nvGrpSpPr>
          <p:grpSpPr>
            <a:xfrm>
              <a:off x="3627000" y="2639880"/>
              <a:ext cx="422640" cy="370080"/>
              <a:chOff x="3627000" y="2639880"/>
              <a:chExt cx="422640" cy="370080"/>
            </a:xfrm>
          </p:grpSpPr>
          <p:grpSp>
            <p:nvGrpSpPr>
              <p:cNvPr id="1881" name=""/>
              <p:cNvGrpSpPr/>
              <p:nvPr/>
            </p:nvGrpSpPr>
            <p:grpSpPr>
              <a:xfrm>
                <a:off x="3627000" y="2639880"/>
                <a:ext cx="422280" cy="370080"/>
                <a:chOff x="3627000" y="2639880"/>
                <a:chExt cx="422280" cy="370080"/>
              </a:xfrm>
            </p:grpSpPr>
            <p:sp>
              <p:nvSpPr>
                <p:cNvPr id="1882" name=""/>
                <p:cNvSpPr/>
                <p:nvPr/>
              </p:nvSpPr>
              <p:spPr>
                <a:xfrm>
                  <a:off x="3838320" y="2639880"/>
                  <a:ext cx="21096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3627000" y="2639880"/>
                  <a:ext cx="42228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4" name=""/>
              <p:cNvSpPr/>
              <p:nvPr/>
            </p:nvSpPr>
            <p:spPr>
              <a:xfrm>
                <a:off x="3629520" y="26784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5" name=""/>
            <p:cNvSpPr/>
            <p:nvPr/>
          </p:nvSpPr>
          <p:spPr>
            <a:xfrm>
              <a:off x="4051440" y="271476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051440" y="293508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7" name=""/>
            <p:cNvGrpSpPr/>
            <p:nvPr/>
          </p:nvGrpSpPr>
          <p:grpSpPr>
            <a:xfrm>
              <a:off x="4433400" y="2530440"/>
              <a:ext cx="380160" cy="588960"/>
              <a:chOff x="4433400" y="2530440"/>
              <a:chExt cx="380160" cy="588960"/>
            </a:xfrm>
          </p:grpSpPr>
          <p:sp>
            <p:nvSpPr>
              <p:cNvPr id="1888" name=""/>
              <p:cNvSpPr/>
              <p:nvPr/>
            </p:nvSpPr>
            <p:spPr>
              <a:xfrm rot="16200000">
                <a:off x="4340520" y="2646360"/>
                <a:ext cx="588960" cy="35676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78480 h 356760"/>
                  <a:gd name="textAreaBottom" fmla="*/ 278280 h 356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rot="5400000">
                <a:off x="4433400" y="2729520"/>
                <a:ext cx="19008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rot="5400000">
                <a:off x="4446720" y="2751480"/>
                <a:ext cx="167040" cy="1468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rot="16200000">
                <a:off x="4468680" y="26658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2" name=""/>
            <p:cNvSpPr/>
            <p:nvPr/>
          </p:nvSpPr>
          <p:spPr>
            <a:xfrm>
              <a:off x="4817520" y="282564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626440" y="2825640"/>
              <a:ext cx="46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5085360" y="2641680"/>
              <a:ext cx="592200" cy="368280"/>
              <a:chOff x="5085360" y="2641680"/>
              <a:chExt cx="592200" cy="368280"/>
            </a:xfrm>
          </p:grpSpPr>
          <p:sp>
            <p:nvSpPr>
              <p:cNvPr id="1895" name=""/>
              <p:cNvSpPr/>
              <p:nvPr/>
            </p:nvSpPr>
            <p:spPr>
              <a:xfrm>
                <a:off x="5172480" y="2641680"/>
                <a:ext cx="424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085360" y="26802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5115600" y="2825640"/>
              <a:ext cx="63432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187800" y="2936880"/>
              <a:ext cx="43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130560" y="2714760"/>
              <a:ext cx="494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0" name=""/>
            <p:cNvGrpSpPr/>
            <p:nvPr/>
          </p:nvGrpSpPr>
          <p:grpSpPr>
            <a:xfrm>
              <a:off x="2733120" y="2641680"/>
              <a:ext cx="557280" cy="368280"/>
              <a:chOff x="2733120" y="2641680"/>
              <a:chExt cx="557280" cy="368280"/>
            </a:xfrm>
          </p:grpSpPr>
          <p:sp>
            <p:nvSpPr>
              <p:cNvPr id="1901" name=""/>
              <p:cNvSpPr/>
              <p:nvPr/>
            </p:nvSpPr>
            <p:spPr>
              <a:xfrm>
                <a:off x="2799720" y="2641680"/>
                <a:ext cx="4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733120" y="26802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3357720" y="2475000"/>
              <a:ext cx="2478240" cy="699840"/>
              <a:chOff x="3357720" y="2475000"/>
              <a:chExt cx="2478240" cy="699840"/>
            </a:xfrm>
          </p:grpSpPr>
          <p:sp>
            <p:nvSpPr>
              <p:cNvPr id="1904" name=""/>
              <p:cNvSpPr/>
              <p:nvPr/>
            </p:nvSpPr>
            <p:spPr>
              <a:xfrm>
                <a:off x="415548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75064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35772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952880" y="2478960"/>
                <a:ext cx="8424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5953320" y="2627280"/>
              <a:ext cx="430920" cy="369720"/>
              <a:chOff x="5953320" y="2627280"/>
              <a:chExt cx="430920" cy="369720"/>
            </a:xfrm>
          </p:grpSpPr>
          <p:grpSp>
            <p:nvGrpSpPr>
              <p:cNvPr id="1909" name=""/>
              <p:cNvGrpSpPr/>
              <p:nvPr/>
            </p:nvGrpSpPr>
            <p:grpSpPr>
              <a:xfrm>
                <a:off x="5958360" y="2627280"/>
                <a:ext cx="425880" cy="369720"/>
                <a:chOff x="5958360" y="2627280"/>
                <a:chExt cx="425880" cy="369720"/>
              </a:xfrm>
            </p:grpSpPr>
            <p:sp>
              <p:nvSpPr>
                <p:cNvPr id="1910" name=""/>
                <p:cNvSpPr/>
                <p:nvPr/>
              </p:nvSpPr>
              <p:spPr>
                <a:xfrm flipH="1">
                  <a:off x="5958000" y="2627280"/>
                  <a:ext cx="21276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flipH="1">
                  <a:off x="5958000" y="2627280"/>
                  <a:ext cx="42588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2" name=""/>
              <p:cNvSpPr/>
              <p:nvPr/>
            </p:nvSpPr>
            <p:spPr>
              <a:xfrm flipH="1">
                <a:off x="5952960" y="26658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3" name=""/>
          <p:cNvGrpSpPr/>
          <p:nvPr/>
        </p:nvGrpSpPr>
        <p:grpSpPr>
          <a:xfrm>
            <a:off x="3552840" y="3408480"/>
            <a:ext cx="4439520" cy="701640"/>
            <a:chOff x="3552840" y="3408480"/>
            <a:chExt cx="4439520" cy="701640"/>
          </a:xfrm>
        </p:grpSpPr>
        <p:grpSp>
          <p:nvGrpSpPr>
            <p:cNvPr id="1914" name=""/>
            <p:cNvGrpSpPr/>
            <p:nvPr/>
          </p:nvGrpSpPr>
          <p:grpSpPr>
            <a:xfrm>
              <a:off x="4446720" y="3570480"/>
              <a:ext cx="422640" cy="369720"/>
              <a:chOff x="4446720" y="3570480"/>
              <a:chExt cx="422640" cy="369720"/>
            </a:xfrm>
          </p:grpSpPr>
          <p:grpSp>
            <p:nvGrpSpPr>
              <p:cNvPr id="1915" name=""/>
              <p:cNvGrpSpPr/>
              <p:nvPr/>
            </p:nvGrpSpPr>
            <p:grpSpPr>
              <a:xfrm>
                <a:off x="4446720" y="3570480"/>
                <a:ext cx="422280" cy="369720"/>
                <a:chOff x="4446720" y="3570480"/>
                <a:chExt cx="422280" cy="369720"/>
              </a:xfrm>
            </p:grpSpPr>
            <p:sp>
              <p:nvSpPr>
                <p:cNvPr id="1916" name=""/>
                <p:cNvSpPr/>
                <p:nvPr/>
              </p:nvSpPr>
              <p:spPr>
                <a:xfrm>
                  <a:off x="4658040" y="3570480"/>
                  <a:ext cx="21096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4446720" y="3570480"/>
                  <a:ext cx="42228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8" name=""/>
              <p:cNvSpPr/>
              <p:nvPr/>
            </p:nvSpPr>
            <p:spPr>
              <a:xfrm>
                <a:off x="4449240" y="3609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4870440" y="364500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842000" y="387036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006800" y="386712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949560" y="36450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3552840" y="3571920"/>
              <a:ext cx="557280" cy="368280"/>
              <a:chOff x="3552840" y="3571920"/>
              <a:chExt cx="557280" cy="368280"/>
            </a:xfrm>
          </p:grpSpPr>
          <p:sp>
            <p:nvSpPr>
              <p:cNvPr id="1924" name=""/>
              <p:cNvSpPr/>
              <p:nvPr/>
            </p:nvSpPr>
            <p:spPr>
              <a:xfrm>
                <a:off x="3619440" y="357192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552840" y="36104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6" name=""/>
            <p:cNvSpPr/>
            <p:nvPr/>
          </p:nvSpPr>
          <p:spPr>
            <a:xfrm>
              <a:off x="4975200" y="3408480"/>
              <a:ext cx="8568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176720" y="3408480"/>
              <a:ext cx="8568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8" name=""/>
            <p:cNvGrpSpPr/>
            <p:nvPr/>
          </p:nvGrpSpPr>
          <p:grpSpPr>
            <a:xfrm>
              <a:off x="6041520" y="3408480"/>
              <a:ext cx="1950840" cy="699840"/>
              <a:chOff x="6041520" y="3408480"/>
              <a:chExt cx="1950840" cy="699840"/>
            </a:xfrm>
          </p:grpSpPr>
          <p:sp>
            <p:nvSpPr>
              <p:cNvPr id="1929" name=""/>
              <p:cNvSpPr/>
              <p:nvPr/>
            </p:nvSpPr>
            <p:spPr>
              <a:xfrm rot="16200000">
                <a:off x="5949720" y="3578760"/>
                <a:ext cx="588600" cy="357120"/>
              </a:xfrm>
              <a:custGeom>
                <a:avLst/>
                <a:gdLst>
                  <a:gd name="textAreaLeft" fmla="*/ 129240 w 588600"/>
                  <a:gd name="textAreaRight" fmla="*/ 459360 w 588600"/>
                  <a:gd name="textAreaTop" fmla="*/ 78480 h 357120"/>
                  <a:gd name="textAreaBottom" fmla="*/ 278640 h 35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5400000">
                <a:off x="6042240" y="3662640"/>
                <a:ext cx="18864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5400000">
                <a:off x="6056280" y="3684240"/>
                <a:ext cx="166320" cy="14760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16200000">
                <a:off x="6078240" y="359856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426000" y="37591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233840" y="37591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779880" y="3574800"/>
                <a:ext cx="425520" cy="367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693480" y="36133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724440" y="3759120"/>
                <a:ext cx="633240" cy="29304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359480" y="3408480"/>
                <a:ext cx="8568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561000" y="3412800"/>
                <a:ext cx="85680" cy="69012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0" name=""/>
              <p:cNvGrpSpPr/>
              <p:nvPr/>
            </p:nvGrpSpPr>
            <p:grpSpPr>
              <a:xfrm>
                <a:off x="7567200" y="3560400"/>
                <a:ext cx="425160" cy="369720"/>
                <a:chOff x="7567200" y="3560400"/>
                <a:chExt cx="425160" cy="369720"/>
              </a:xfrm>
            </p:grpSpPr>
            <p:sp>
              <p:nvSpPr>
                <p:cNvPr id="1941" name=""/>
                <p:cNvSpPr/>
                <p:nvPr/>
              </p:nvSpPr>
              <p:spPr>
                <a:xfrm flipH="1">
                  <a:off x="7567200" y="3560400"/>
                  <a:ext cx="21240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flipH="1">
                  <a:off x="7566840" y="3560400"/>
                  <a:ext cx="42516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"/>
              <p:cNvSpPr/>
              <p:nvPr/>
            </p:nvSpPr>
            <p:spPr>
              <a:xfrm flipH="1">
                <a:off x="7561800" y="35992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>
              <a:off x="5756400" y="34099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102280" y="3430800"/>
              <a:ext cx="577800" cy="669600"/>
            </a:xfrm>
            <a:prstGeom prst="cloudCallout">
              <a:avLst>
                <a:gd name="adj1" fmla="val 39287"/>
                <a:gd name="adj2" fmla="val 38152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4346640" y="4300560"/>
            <a:ext cx="4439520" cy="712800"/>
            <a:chOff x="4346640" y="4300560"/>
            <a:chExt cx="4439520" cy="712800"/>
          </a:xfrm>
        </p:grpSpPr>
        <p:sp>
          <p:nvSpPr>
            <p:cNvPr id="1947" name=""/>
            <p:cNvSpPr/>
            <p:nvPr/>
          </p:nvSpPr>
          <p:spPr>
            <a:xfrm>
              <a:off x="5664240" y="454824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635800" y="47736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800600" y="477036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743360" y="454824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1" name=""/>
            <p:cNvGrpSpPr/>
            <p:nvPr/>
          </p:nvGrpSpPr>
          <p:grpSpPr>
            <a:xfrm>
              <a:off x="4346640" y="4475160"/>
              <a:ext cx="557280" cy="368280"/>
              <a:chOff x="4346640" y="4475160"/>
              <a:chExt cx="557280" cy="368280"/>
            </a:xfrm>
          </p:grpSpPr>
          <p:sp>
            <p:nvSpPr>
              <p:cNvPr id="1952" name=""/>
              <p:cNvSpPr/>
              <p:nvPr/>
            </p:nvSpPr>
            <p:spPr>
              <a:xfrm>
                <a:off x="4413240" y="447516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346640" y="451368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4" name=""/>
            <p:cNvSpPr/>
            <p:nvPr/>
          </p:nvSpPr>
          <p:spPr>
            <a:xfrm>
              <a:off x="5769000" y="43117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970520" y="43117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6" name=""/>
            <p:cNvGrpSpPr/>
            <p:nvPr/>
          </p:nvGrpSpPr>
          <p:grpSpPr>
            <a:xfrm>
              <a:off x="6835320" y="4311720"/>
              <a:ext cx="1950840" cy="700200"/>
              <a:chOff x="6835320" y="4311720"/>
              <a:chExt cx="1950840" cy="700200"/>
            </a:xfrm>
          </p:grpSpPr>
          <p:sp>
            <p:nvSpPr>
              <p:cNvPr id="1957" name=""/>
              <p:cNvSpPr/>
              <p:nvPr/>
            </p:nvSpPr>
            <p:spPr>
              <a:xfrm rot="16200000">
                <a:off x="6743520" y="4483080"/>
                <a:ext cx="588960" cy="35712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78480 h 357120"/>
                  <a:gd name="textAreaBottom" fmla="*/ 278640 h 35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5400000">
                <a:off x="6836040" y="4566600"/>
                <a:ext cx="18900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5400000">
                <a:off x="6849720" y="4587840"/>
                <a:ext cx="166680" cy="14760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6200000">
                <a:off x="6872040" y="450288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219800" y="46627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8027640" y="46627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573680" y="4478400"/>
                <a:ext cx="425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487280" y="451728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518240" y="4662720"/>
                <a:ext cx="633240" cy="29340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8153280" y="4311720"/>
                <a:ext cx="8568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354800" y="4316400"/>
                <a:ext cx="856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8" name=""/>
              <p:cNvGrpSpPr/>
              <p:nvPr/>
            </p:nvGrpSpPr>
            <p:grpSpPr>
              <a:xfrm>
                <a:off x="8361000" y="4464000"/>
                <a:ext cx="425160" cy="370080"/>
                <a:chOff x="8361000" y="4464000"/>
                <a:chExt cx="425160" cy="370080"/>
              </a:xfrm>
            </p:grpSpPr>
            <p:sp>
              <p:nvSpPr>
                <p:cNvPr id="1969" name=""/>
                <p:cNvSpPr/>
                <p:nvPr/>
              </p:nvSpPr>
              <p:spPr>
                <a:xfrm flipH="1">
                  <a:off x="8361000" y="4464000"/>
                  <a:ext cx="21240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H="1">
                  <a:off x="8360640" y="4464000"/>
                  <a:ext cx="42516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1" name=""/>
              <p:cNvSpPr/>
              <p:nvPr/>
            </p:nvSpPr>
            <p:spPr>
              <a:xfrm flipH="1">
                <a:off x="8355600" y="45032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2" name=""/>
            <p:cNvSpPr/>
            <p:nvPr/>
          </p:nvSpPr>
          <p:spPr>
            <a:xfrm>
              <a:off x="6550200" y="431316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122800" y="4300560"/>
              <a:ext cx="577800" cy="669960"/>
            </a:xfrm>
            <a:prstGeom prst="cloudCallout">
              <a:avLst>
                <a:gd name="adj1" fmla="val 39287"/>
                <a:gd name="adj2" fmla="val 38152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5999040" y="4470480"/>
              <a:ext cx="428400" cy="369720"/>
              <a:chOff x="5999040" y="4470480"/>
              <a:chExt cx="428400" cy="369720"/>
            </a:xfrm>
          </p:grpSpPr>
          <p:sp>
            <p:nvSpPr>
              <p:cNvPr id="1975" name=""/>
              <p:cNvSpPr/>
              <p:nvPr/>
            </p:nvSpPr>
            <p:spPr>
              <a:xfrm>
                <a:off x="5999040" y="4470480"/>
                <a:ext cx="428400" cy="361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6210000" y="4470480"/>
                <a:ext cx="211320" cy="3650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999040" y="4470480"/>
                <a:ext cx="4222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001920" y="4509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9" name=""/>
          <p:cNvSpPr/>
          <p:nvPr/>
        </p:nvSpPr>
        <p:spPr>
          <a:xfrm>
            <a:off x="6450120" y="5402160"/>
            <a:ext cx="1266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421320" y="56275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586480" y="5624640"/>
            <a:ext cx="439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529240" y="540216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5937120" y="5313240"/>
            <a:ext cx="557280" cy="368280"/>
            <a:chOff x="5937120" y="5313240"/>
            <a:chExt cx="557280" cy="368280"/>
          </a:xfrm>
        </p:grpSpPr>
        <p:sp>
          <p:nvSpPr>
            <p:cNvPr id="1984" name=""/>
            <p:cNvSpPr/>
            <p:nvPr/>
          </p:nvSpPr>
          <p:spPr>
            <a:xfrm>
              <a:off x="6003720" y="5313240"/>
              <a:ext cx="425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937120" y="535176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6" name=""/>
          <p:cNvSpPr/>
          <p:nvPr/>
        </p:nvSpPr>
        <p:spPr>
          <a:xfrm>
            <a:off x="6554880" y="5165640"/>
            <a:ext cx="85680" cy="70020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756400" y="5165640"/>
            <a:ext cx="85680" cy="70020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rot="16200000">
            <a:off x="7529400" y="5337360"/>
            <a:ext cx="588960" cy="357120"/>
          </a:xfrm>
          <a:custGeom>
            <a:avLst/>
            <a:gdLst>
              <a:gd name="textAreaLeft" fmla="*/ 129240 w 588960"/>
              <a:gd name="textAreaRight" fmla="*/ 459720 w 588960"/>
              <a:gd name="textAreaTop" fmla="*/ 78480 h 357120"/>
              <a:gd name="textAreaBottom" fmla="*/ 2786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rot="5400000">
            <a:off x="7621920" y="5420520"/>
            <a:ext cx="1890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rot="5400000">
            <a:off x="7635600" y="5441760"/>
            <a:ext cx="166680" cy="1476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lnTo>
                  <a:pt x="192" y="0"/>
                </a:lnTo>
                <a:lnTo>
                  <a:pt x="38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rot="16200000">
            <a:off x="7657920" y="5356800"/>
            <a:ext cx="43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005680" y="551664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8469360" y="55357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8359920" y="5332320"/>
            <a:ext cx="4251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8273520" y="537156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8140680" y="5170320"/>
            <a:ext cx="85680" cy="69084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335720" y="5167440"/>
            <a:ext cx="85680" cy="69984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113440" y="5165640"/>
            <a:ext cx="577800" cy="669960"/>
          </a:xfrm>
          <a:prstGeom prst="cloudCallout">
            <a:avLst>
              <a:gd name="adj1" fmla="val 39287"/>
              <a:gd name="adj2" fmla="val 38152"/>
            </a:avLst>
          </a:prstGeom>
          <a:solidFill>
            <a:srgbClr val="0fef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Bub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9" name=""/>
          <p:cNvGrpSpPr/>
          <p:nvPr/>
        </p:nvGrpSpPr>
        <p:grpSpPr>
          <a:xfrm>
            <a:off x="6784920" y="5324400"/>
            <a:ext cx="428400" cy="370080"/>
            <a:chOff x="6784920" y="5324400"/>
            <a:chExt cx="428400" cy="370080"/>
          </a:xfrm>
        </p:grpSpPr>
        <p:sp>
          <p:nvSpPr>
            <p:cNvPr id="2000" name=""/>
            <p:cNvSpPr/>
            <p:nvPr/>
          </p:nvSpPr>
          <p:spPr>
            <a:xfrm>
              <a:off x="6784920" y="5324400"/>
              <a:ext cx="428400" cy="362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995880" y="5324400"/>
              <a:ext cx="211320" cy="36540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784920" y="5324400"/>
              <a:ext cx="422280" cy="370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787800" y="53636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5832360" y="2803680"/>
            <a:ext cx="228600" cy="838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137280" y="2803680"/>
            <a:ext cx="76320" cy="18288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591920" y="608472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ow is this detec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36C-CD39-4D09-81BB-070FF94BC4A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B36F3-49E7-415D-9C40-64C6813EBA5A}" type="datetime1">
              <a:rPr lang="en-US"/>
              <a:t>07/30/26</a:t>
            </a:fld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1219320" y="1219320"/>
            <a:ext cx="6286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producing fast cod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b 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= e –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ing a, b, c, d ,e, and f in mem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 c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,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,Rb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,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,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,Re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,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oftware Scheduling to Avoid Load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91080" y="2945880"/>
            <a:ext cx="3581280" cy="29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ast co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,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,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,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,Rb,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,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W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,R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,Re,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,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 flipV="1">
            <a:off x="3708360" y="4120920"/>
            <a:ext cx="1727280" cy="67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651120" y="4470480"/>
            <a:ext cx="1860840" cy="60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141920" y="6156360"/>
            <a:ext cx="651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mpiler optimizes for performance.  Hardware checks for safe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0BC-93B6-444C-9931-0B7CB49F887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16B6F-8960-4886-ADB8-FF2DB590449E}" type="datetime1">
              <a:rPr lang="en-US"/>
              <a:t>07/30/26</a:t>
            </a:fld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8B0-7EC3-4617-9FA6-B27EA3E71D2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68242-AB0B-4686-8E56-28F26B7D2E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ntrol Hazard on Branches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Stage Stal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2427120" y="1295280"/>
            <a:ext cx="11430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7" name=""/>
          <p:cNvGrpSpPr/>
          <p:nvPr/>
        </p:nvGrpSpPr>
        <p:grpSpPr>
          <a:xfrm>
            <a:off x="454320" y="1447920"/>
            <a:ext cx="3480480" cy="3797640"/>
            <a:chOff x="454320" y="1447920"/>
            <a:chExt cx="3480480" cy="3797640"/>
          </a:xfrm>
        </p:grpSpPr>
        <p:sp>
          <p:nvSpPr>
            <p:cNvPr id="2018" name=""/>
            <p:cNvSpPr/>
            <p:nvPr/>
          </p:nvSpPr>
          <p:spPr>
            <a:xfrm>
              <a:off x="454680" y="1447920"/>
              <a:ext cx="3107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0: beq r1,r3,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54320" y="2324160"/>
              <a:ext cx="32904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4: and r2,r3,r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54680" y="3162240"/>
              <a:ext cx="310752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8: or 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54680" y="4019400"/>
              <a:ext cx="310752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2: add r8,r1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61520" y="4790880"/>
              <a:ext cx="347328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36: xor r10,r1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3" name=""/>
          <p:cNvSpPr/>
          <p:nvPr/>
        </p:nvSpPr>
        <p:spPr>
          <a:xfrm>
            <a:off x="2286000" y="1819440"/>
            <a:ext cx="1447920" cy="3057480"/>
          </a:xfrm>
          <a:custGeom>
            <a:avLst/>
            <a:gdLst/>
            <a:ahLst/>
            <a:rect l="l" t="t" r="r" b="b"/>
            <a:pathLst>
              <a:path w="960" h="1920">
                <a:moveTo>
                  <a:pt x="0" y="0"/>
                </a:moveTo>
                <a:lnTo>
                  <a:pt x="0" y="192"/>
                </a:lnTo>
                <a:lnTo>
                  <a:pt x="960" y="192"/>
                </a:lnTo>
                <a:lnTo>
                  <a:pt x="960" y="1728"/>
                </a:lnTo>
                <a:lnTo>
                  <a:pt x="48" y="1728"/>
                </a:lnTo>
                <a:lnTo>
                  <a:pt x="48" y="19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4" name=""/>
          <p:cNvGrpSpPr/>
          <p:nvPr/>
        </p:nvGrpSpPr>
        <p:grpSpPr>
          <a:xfrm>
            <a:off x="3809880" y="1295280"/>
            <a:ext cx="5791320" cy="4057200"/>
            <a:chOff x="3809880" y="1295280"/>
            <a:chExt cx="5791320" cy="4057200"/>
          </a:xfrm>
        </p:grpSpPr>
        <p:grpSp>
          <p:nvGrpSpPr>
            <p:cNvPr id="2025" name=""/>
            <p:cNvGrpSpPr/>
            <p:nvPr/>
          </p:nvGrpSpPr>
          <p:grpSpPr>
            <a:xfrm>
              <a:off x="5159160" y="3001680"/>
              <a:ext cx="3113280" cy="699840"/>
              <a:chOff x="5159160" y="3001680"/>
              <a:chExt cx="3113280" cy="699840"/>
            </a:xfrm>
          </p:grpSpPr>
          <p:grpSp>
            <p:nvGrpSpPr>
              <p:cNvPr id="2026" name=""/>
              <p:cNvGrpSpPr/>
              <p:nvPr/>
            </p:nvGrpSpPr>
            <p:grpSpPr>
              <a:xfrm>
                <a:off x="5912280" y="3166560"/>
                <a:ext cx="420120" cy="370080"/>
                <a:chOff x="5912280" y="3166560"/>
                <a:chExt cx="420120" cy="370080"/>
              </a:xfrm>
            </p:grpSpPr>
            <p:grpSp>
              <p:nvGrpSpPr>
                <p:cNvPr id="2027" name=""/>
                <p:cNvGrpSpPr/>
                <p:nvPr/>
              </p:nvGrpSpPr>
              <p:grpSpPr>
                <a:xfrm>
                  <a:off x="5942520" y="3166560"/>
                  <a:ext cx="351360" cy="370080"/>
                  <a:chOff x="5942520" y="3166560"/>
                  <a:chExt cx="351360" cy="370080"/>
                </a:xfrm>
              </p:grpSpPr>
              <p:sp>
                <p:nvSpPr>
                  <p:cNvPr id="2028" name=""/>
                  <p:cNvSpPr/>
                  <p:nvPr/>
                </p:nvSpPr>
                <p:spPr>
                  <a:xfrm>
                    <a:off x="6118200" y="3166560"/>
                    <a:ext cx="1756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5942520" y="3166560"/>
                    <a:ext cx="35136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0" name=""/>
                <p:cNvSpPr/>
                <p:nvPr/>
              </p:nvSpPr>
              <p:spPr>
                <a:xfrm>
                  <a:off x="5912280" y="32050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1" name=""/>
              <p:cNvSpPr/>
              <p:nvPr/>
            </p:nvSpPr>
            <p:spPr>
              <a:xfrm>
                <a:off x="6294960" y="324144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6294960" y="346176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3" name=""/>
              <p:cNvGrpSpPr/>
              <p:nvPr/>
            </p:nvGrpSpPr>
            <p:grpSpPr>
              <a:xfrm>
                <a:off x="6611400" y="3057120"/>
                <a:ext cx="336600" cy="588960"/>
                <a:chOff x="6611400" y="3057120"/>
                <a:chExt cx="336600" cy="588960"/>
              </a:xfrm>
            </p:grpSpPr>
            <p:sp>
              <p:nvSpPr>
                <p:cNvPr id="2034" name=""/>
                <p:cNvSpPr/>
                <p:nvPr/>
              </p:nvSpPr>
              <p:spPr>
                <a:xfrm rot="16200000">
                  <a:off x="6484320" y="320364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 rot="5400000">
                  <a:off x="6595200" y="327240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rot="5400000">
                  <a:off x="6608160" y="329076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rot="16200000">
                  <a:off x="6607080" y="31892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8" name=""/>
              <p:cNvSpPr/>
              <p:nvPr/>
            </p:nvSpPr>
            <p:spPr>
              <a:xfrm>
                <a:off x="6930000" y="335232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600320" y="335232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0" name=""/>
              <p:cNvGrpSpPr/>
              <p:nvPr/>
            </p:nvGrpSpPr>
            <p:grpSpPr>
              <a:xfrm>
                <a:off x="7103880" y="3168360"/>
                <a:ext cx="592200" cy="368280"/>
                <a:chOff x="7103880" y="3168360"/>
                <a:chExt cx="592200" cy="36828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7224120" y="3168360"/>
                  <a:ext cx="3513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7103880" y="32068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3" name=""/>
              <p:cNvSpPr/>
              <p:nvPr/>
            </p:nvSpPr>
            <p:spPr>
              <a:xfrm>
                <a:off x="7177320" y="335232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578920" y="346356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531400" y="32414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6" name=""/>
              <p:cNvGrpSpPr/>
              <p:nvPr/>
            </p:nvGrpSpPr>
            <p:grpSpPr>
              <a:xfrm>
                <a:off x="5159160" y="3168360"/>
                <a:ext cx="557280" cy="368280"/>
                <a:chOff x="5159160" y="3168360"/>
                <a:chExt cx="557280" cy="368280"/>
              </a:xfrm>
            </p:grpSpPr>
            <p:sp>
              <p:nvSpPr>
                <p:cNvPr id="2047" name=""/>
                <p:cNvSpPr/>
                <p:nvPr/>
              </p:nvSpPr>
              <p:spPr>
                <a:xfrm>
                  <a:off x="5256720" y="316836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5159160" y="32068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9" name=""/>
              <p:cNvGrpSpPr/>
              <p:nvPr/>
            </p:nvGrpSpPr>
            <p:grpSpPr>
              <a:xfrm>
                <a:off x="5719680" y="3001680"/>
                <a:ext cx="2054880" cy="699840"/>
                <a:chOff x="5719680" y="3001680"/>
                <a:chExt cx="2054880" cy="699840"/>
              </a:xfrm>
            </p:grpSpPr>
            <p:sp>
              <p:nvSpPr>
                <p:cNvPr id="2050" name=""/>
                <p:cNvSpPr/>
                <p:nvPr/>
              </p:nvSpPr>
              <p:spPr>
                <a:xfrm>
                  <a:off x="6381000" y="300168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7703640" y="300168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5719680" y="300168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7042320" y="300564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4" name=""/>
              <p:cNvGrpSpPr/>
              <p:nvPr/>
            </p:nvGrpSpPr>
            <p:grpSpPr>
              <a:xfrm>
                <a:off x="7852320" y="3153960"/>
                <a:ext cx="420120" cy="369720"/>
                <a:chOff x="7852320" y="3153960"/>
                <a:chExt cx="420120" cy="369720"/>
              </a:xfrm>
            </p:grpSpPr>
            <p:grpSp>
              <p:nvGrpSpPr>
                <p:cNvPr id="2055" name=""/>
                <p:cNvGrpSpPr/>
                <p:nvPr/>
              </p:nvGrpSpPr>
              <p:grpSpPr>
                <a:xfrm>
                  <a:off x="7896960" y="3153960"/>
                  <a:ext cx="353520" cy="369720"/>
                  <a:chOff x="7896960" y="3153960"/>
                  <a:chExt cx="353520" cy="369720"/>
                </a:xfrm>
              </p:grpSpPr>
              <p:sp>
                <p:nvSpPr>
                  <p:cNvPr id="2056" name=""/>
                  <p:cNvSpPr/>
                  <p:nvPr/>
                </p:nvSpPr>
                <p:spPr>
                  <a:xfrm flipH="1">
                    <a:off x="7896600" y="315396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 flipH="1">
                    <a:off x="7896960" y="315396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8" name=""/>
                <p:cNvSpPr/>
                <p:nvPr/>
              </p:nvSpPr>
              <p:spPr>
                <a:xfrm flipH="1">
                  <a:off x="7851960" y="31924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59" name=""/>
            <p:cNvGrpSpPr/>
            <p:nvPr/>
          </p:nvGrpSpPr>
          <p:grpSpPr>
            <a:xfrm>
              <a:off x="4491720" y="2151000"/>
              <a:ext cx="3115440" cy="699840"/>
              <a:chOff x="4491720" y="2151000"/>
              <a:chExt cx="3115440" cy="699840"/>
            </a:xfrm>
          </p:grpSpPr>
          <p:grpSp>
            <p:nvGrpSpPr>
              <p:cNvPr id="2060" name=""/>
              <p:cNvGrpSpPr/>
              <p:nvPr/>
            </p:nvGrpSpPr>
            <p:grpSpPr>
              <a:xfrm>
                <a:off x="5245560" y="2315880"/>
                <a:ext cx="420120" cy="370080"/>
                <a:chOff x="5245560" y="2315880"/>
                <a:chExt cx="420120" cy="370080"/>
              </a:xfrm>
            </p:grpSpPr>
            <p:grpSp>
              <p:nvGrpSpPr>
                <p:cNvPr id="2061" name=""/>
                <p:cNvGrpSpPr/>
                <p:nvPr/>
              </p:nvGrpSpPr>
              <p:grpSpPr>
                <a:xfrm>
                  <a:off x="5277600" y="2315880"/>
                  <a:ext cx="350640" cy="370080"/>
                  <a:chOff x="5277600" y="2315880"/>
                  <a:chExt cx="350640" cy="370080"/>
                </a:xfrm>
              </p:grpSpPr>
              <p:sp>
                <p:nvSpPr>
                  <p:cNvPr id="2062" name=""/>
                  <p:cNvSpPr/>
                  <p:nvPr/>
                </p:nvSpPr>
                <p:spPr>
                  <a:xfrm>
                    <a:off x="5452920" y="231588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5277600" y="2315880"/>
                    <a:ext cx="3506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4" name=""/>
                <p:cNvSpPr/>
                <p:nvPr/>
              </p:nvSpPr>
              <p:spPr>
                <a:xfrm>
                  <a:off x="5245560" y="2354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5" name=""/>
              <p:cNvSpPr/>
              <p:nvPr/>
            </p:nvSpPr>
            <p:spPr>
              <a:xfrm>
                <a:off x="5628600" y="239076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28600" y="261108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7" name=""/>
              <p:cNvGrpSpPr/>
              <p:nvPr/>
            </p:nvGrpSpPr>
            <p:grpSpPr>
              <a:xfrm>
                <a:off x="5945760" y="2206440"/>
                <a:ext cx="330120" cy="588960"/>
                <a:chOff x="5945760" y="2206440"/>
                <a:chExt cx="330120" cy="588960"/>
              </a:xfrm>
            </p:grpSpPr>
            <p:sp>
              <p:nvSpPr>
                <p:cNvPr id="2068" name=""/>
                <p:cNvSpPr/>
                <p:nvPr/>
              </p:nvSpPr>
              <p:spPr>
                <a:xfrm rot="16200000">
                  <a:off x="5818320" y="235296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rot="5400000">
                  <a:off x="5929560" y="2422080"/>
                  <a:ext cx="190080" cy="15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rot="5400000">
                  <a:off x="5942160" y="244008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rot="16200000">
                  <a:off x="5934960" y="23418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2" name=""/>
              <p:cNvSpPr/>
              <p:nvPr/>
            </p:nvSpPr>
            <p:spPr>
              <a:xfrm>
                <a:off x="6264000" y="250164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934320" y="250164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4" name=""/>
              <p:cNvGrpSpPr/>
              <p:nvPr/>
            </p:nvGrpSpPr>
            <p:grpSpPr>
              <a:xfrm>
                <a:off x="6437520" y="2317680"/>
                <a:ext cx="592200" cy="368280"/>
                <a:chOff x="6437520" y="2317680"/>
                <a:chExt cx="592200" cy="368280"/>
              </a:xfrm>
            </p:grpSpPr>
            <p:sp>
              <p:nvSpPr>
                <p:cNvPr id="2075" name=""/>
                <p:cNvSpPr/>
                <p:nvPr/>
              </p:nvSpPr>
              <p:spPr>
                <a:xfrm>
                  <a:off x="6557760" y="2317680"/>
                  <a:ext cx="3513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6437520" y="2356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7" name=""/>
              <p:cNvSpPr/>
              <p:nvPr/>
            </p:nvSpPr>
            <p:spPr>
              <a:xfrm>
                <a:off x="6510960" y="250164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4912920" y="261288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4865400" y="239076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0" name=""/>
              <p:cNvGrpSpPr/>
              <p:nvPr/>
            </p:nvGrpSpPr>
            <p:grpSpPr>
              <a:xfrm>
                <a:off x="4491720" y="2317680"/>
                <a:ext cx="557280" cy="368280"/>
                <a:chOff x="4491720" y="2317680"/>
                <a:chExt cx="557280" cy="368280"/>
              </a:xfrm>
            </p:grpSpPr>
            <p:sp>
              <p:nvSpPr>
                <p:cNvPr id="2081" name=""/>
                <p:cNvSpPr/>
                <p:nvPr/>
              </p:nvSpPr>
              <p:spPr>
                <a:xfrm>
                  <a:off x="4591800" y="231768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491720" y="2356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3" name=""/>
              <p:cNvGrpSpPr/>
              <p:nvPr/>
            </p:nvGrpSpPr>
            <p:grpSpPr>
              <a:xfrm>
                <a:off x="5053680" y="2151000"/>
                <a:ext cx="2054520" cy="699840"/>
                <a:chOff x="5053680" y="2151000"/>
                <a:chExt cx="2054520" cy="699840"/>
              </a:xfrm>
            </p:grpSpPr>
            <p:sp>
              <p:nvSpPr>
                <p:cNvPr id="2084" name=""/>
                <p:cNvSpPr/>
                <p:nvPr/>
              </p:nvSpPr>
              <p:spPr>
                <a:xfrm>
                  <a:off x="5715000" y="215100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7037280" y="215100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5053680" y="215100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6375960" y="215496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8" name=""/>
              <p:cNvGrpSpPr/>
              <p:nvPr/>
            </p:nvGrpSpPr>
            <p:grpSpPr>
              <a:xfrm>
                <a:off x="7187040" y="2303280"/>
                <a:ext cx="420120" cy="369720"/>
                <a:chOff x="7187040" y="2303280"/>
                <a:chExt cx="420120" cy="369720"/>
              </a:xfrm>
            </p:grpSpPr>
            <p:grpSp>
              <p:nvGrpSpPr>
                <p:cNvPr id="2089" name=""/>
                <p:cNvGrpSpPr/>
                <p:nvPr/>
              </p:nvGrpSpPr>
              <p:grpSpPr>
                <a:xfrm>
                  <a:off x="7232400" y="2303280"/>
                  <a:ext cx="353880" cy="369720"/>
                  <a:chOff x="7232400" y="2303280"/>
                  <a:chExt cx="353880" cy="36972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 flipH="1">
                    <a:off x="7232040" y="230328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 flipH="1">
                    <a:off x="7232040" y="2303280"/>
                    <a:ext cx="353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2" name=""/>
                <p:cNvSpPr/>
                <p:nvPr/>
              </p:nvSpPr>
              <p:spPr>
                <a:xfrm flipH="1">
                  <a:off x="7186680" y="2341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93" name=""/>
            <p:cNvGrpSpPr/>
            <p:nvPr/>
          </p:nvGrpSpPr>
          <p:grpSpPr>
            <a:xfrm>
              <a:off x="3837960" y="1325160"/>
              <a:ext cx="3113280" cy="699840"/>
              <a:chOff x="3837960" y="1325160"/>
              <a:chExt cx="3113280" cy="699840"/>
            </a:xfrm>
          </p:grpSpPr>
          <p:grpSp>
            <p:nvGrpSpPr>
              <p:cNvPr id="2094" name=""/>
              <p:cNvGrpSpPr/>
              <p:nvPr/>
            </p:nvGrpSpPr>
            <p:grpSpPr>
              <a:xfrm>
                <a:off x="4590720" y="1490040"/>
                <a:ext cx="420120" cy="370080"/>
                <a:chOff x="4590720" y="1490040"/>
                <a:chExt cx="420120" cy="370080"/>
              </a:xfrm>
            </p:grpSpPr>
            <p:grpSp>
              <p:nvGrpSpPr>
                <p:cNvPr id="2095" name=""/>
                <p:cNvGrpSpPr/>
                <p:nvPr/>
              </p:nvGrpSpPr>
              <p:grpSpPr>
                <a:xfrm>
                  <a:off x="4622760" y="1490040"/>
                  <a:ext cx="351000" cy="370080"/>
                  <a:chOff x="4622760" y="1490040"/>
                  <a:chExt cx="351000" cy="370080"/>
                </a:xfrm>
              </p:grpSpPr>
              <p:sp>
                <p:nvSpPr>
                  <p:cNvPr id="2096" name=""/>
                  <p:cNvSpPr/>
                  <p:nvPr/>
                </p:nvSpPr>
                <p:spPr>
                  <a:xfrm>
                    <a:off x="4798440" y="149004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4622760" y="1490040"/>
                    <a:ext cx="3510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8" name=""/>
                <p:cNvSpPr/>
                <p:nvPr/>
              </p:nvSpPr>
              <p:spPr>
                <a:xfrm>
                  <a:off x="4590720" y="15285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9" name=""/>
              <p:cNvSpPr/>
              <p:nvPr/>
            </p:nvSpPr>
            <p:spPr>
              <a:xfrm>
                <a:off x="4975200" y="156492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4975200" y="178524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1" name=""/>
              <p:cNvGrpSpPr/>
              <p:nvPr/>
            </p:nvGrpSpPr>
            <p:grpSpPr>
              <a:xfrm>
                <a:off x="5291640" y="1380600"/>
                <a:ext cx="333360" cy="588960"/>
                <a:chOff x="5291640" y="1380600"/>
                <a:chExt cx="333360" cy="588960"/>
              </a:xfrm>
            </p:grpSpPr>
            <p:sp>
              <p:nvSpPr>
                <p:cNvPr id="2102" name=""/>
                <p:cNvSpPr/>
                <p:nvPr/>
              </p:nvSpPr>
              <p:spPr>
                <a:xfrm rot="16200000">
                  <a:off x="5164560" y="1526760"/>
                  <a:ext cx="588960" cy="29628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5160 h 296280"/>
                    <a:gd name="textAreaBottom" fmla="*/ 231120 h 296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rot="5400000">
                  <a:off x="5275440" y="159588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rot="5400000">
                  <a:off x="5288040" y="1613880"/>
                  <a:ext cx="167040" cy="1220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rot="16200000">
                  <a:off x="5284080" y="15141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6" name=""/>
              <p:cNvSpPr/>
              <p:nvPr/>
            </p:nvSpPr>
            <p:spPr>
              <a:xfrm>
                <a:off x="5610240" y="167580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280560" y="167580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8" name=""/>
              <p:cNvGrpSpPr/>
              <p:nvPr/>
            </p:nvGrpSpPr>
            <p:grpSpPr>
              <a:xfrm>
                <a:off x="5783040" y="1491840"/>
                <a:ext cx="592200" cy="368280"/>
                <a:chOff x="5783040" y="1491840"/>
                <a:chExt cx="592200" cy="368280"/>
              </a:xfrm>
            </p:grpSpPr>
            <p:sp>
              <p:nvSpPr>
                <p:cNvPr id="2109" name=""/>
                <p:cNvSpPr/>
                <p:nvPr/>
              </p:nvSpPr>
              <p:spPr>
                <a:xfrm>
                  <a:off x="5904360" y="1491840"/>
                  <a:ext cx="3517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783040" y="15303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1" name=""/>
              <p:cNvSpPr/>
              <p:nvPr/>
            </p:nvSpPr>
            <p:spPr>
              <a:xfrm>
                <a:off x="5857560" y="167580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4259160" y="178704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211640" y="156492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4" name=""/>
              <p:cNvGrpSpPr/>
              <p:nvPr/>
            </p:nvGrpSpPr>
            <p:grpSpPr>
              <a:xfrm>
                <a:off x="3837960" y="1491840"/>
                <a:ext cx="557280" cy="368280"/>
                <a:chOff x="3837960" y="1491840"/>
                <a:chExt cx="557280" cy="368280"/>
              </a:xfrm>
            </p:grpSpPr>
            <p:sp>
              <p:nvSpPr>
                <p:cNvPr id="2115" name=""/>
                <p:cNvSpPr/>
                <p:nvPr/>
              </p:nvSpPr>
              <p:spPr>
                <a:xfrm>
                  <a:off x="3937680" y="1491840"/>
                  <a:ext cx="352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3837960" y="15303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4399920" y="1325160"/>
                <a:ext cx="2054880" cy="699840"/>
                <a:chOff x="4399920" y="1325160"/>
                <a:chExt cx="2054880" cy="69984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5061240" y="132516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383880" y="132516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4399920" y="132516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5722560" y="132912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2" name=""/>
              <p:cNvGrpSpPr/>
              <p:nvPr/>
            </p:nvGrpSpPr>
            <p:grpSpPr>
              <a:xfrm>
                <a:off x="6531120" y="1477440"/>
                <a:ext cx="420120" cy="369720"/>
                <a:chOff x="6531120" y="1477440"/>
                <a:chExt cx="420120" cy="369720"/>
              </a:xfrm>
            </p:grpSpPr>
            <p:grpSp>
              <p:nvGrpSpPr>
                <p:cNvPr id="2123" name=""/>
                <p:cNvGrpSpPr/>
                <p:nvPr/>
              </p:nvGrpSpPr>
              <p:grpSpPr>
                <a:xfrm>
                  <a:off x="6574320" y="1477440"/>
                  <a:ext cx="353520" cy="369720"/>
                  <a:chOff x="6574320" y="1477440"/>
                  <a:chExt cx="353520" cy="369720"/>
                </a:xfrm>
              </p:grpSpPr>
              <p:sp>
                <p:nvSpPr>
                  <p:cNvPr id="2124" name=""/>
                  <p:cNvSpPr/>
                  <p:nvPr/>
                </p:nvSpPr>
                <p:spPr>
                  <a:xfrm flipH="1">
                    <a:off x="6573960" y="147744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 flipH="1">
                    <a:off x="6574320" y="147744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6" name=""/>
                <p:cNvSpPr/>
                <p:nvPr/>
              </p:nvSpPr>
              <p:spPr>
                <a:xfrm flipH="1">
                  <a:off x="6530760" y="1515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7" name=""/>
            <p:cNvGrpSpPr/>
            <p:nvPr/>
          </p:nvGrpSpPr>
          <p:grpSpPr>
            <a:xfrm>
              <a:off x="6573240" y="4005000"/>
              <a:ext cx="420120" cy="370080"/>
              <a:chOff x="6573240" y="4005000"/>
              <a:chExt cx="420120" cy="370080"/>
            </a:xfrm>
          </p:grpSpPr>
          <p:grpSp>
            <p:nvGrpSpPr>
              <p:cNvPr id="2128" name=""/>
              <p:cNvGrpSpPr/>
              <p:nvPr/>
            </p:nvGrpSpPr>
            <p:grpSpPr>
              <a:xfrm>
                <a:off x="6607440" y="4005000"/>
                <a:ext cx="351360" cy="370080"/>
                <a:chOff x="6607440" y="4005000"/>
                <a:chExt cx="351360" cy="370080"/>
              </a:xfrm>
            </p:grpSpPr>
            <p:sp>
              <p:nvSpPr>
                <p:cNvPr id="2129" name=""/>
                <p:cNvSpPr/>
                <p:nvPr/>
              </p:nvSpPr>
              <p:spPr>
                <a:xfrm>
                  <a:off x="6783120" y="4005000"/>
                  <a:ext cx="1756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6607440" y="4005000"/>
                  <a:ext cx="35136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1" name=""/>
              <p:cNvSpPr/>
              <p:nvPr/>
            </p:nvSpPr>
            <p:spPr>
              <a:xfrm>
                <a:off x="6573240" y="40435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2" name=""/>
            <p:cNvSpPr/>
            <p:nvPr/>
          </p:nvSpPr>
          <p:spPr>
            <a:xfrm>
              <a:off x="6960240" y="407952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60240" y="430020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4" name=""/>
            <p:cNvGrpSpPr/>
            <p:nvPr/>
          </p:nvGrpSpPr>
          <p:grpSpPr>
            <a:xfrm>
              <a:off x="7277040" y="3895560"/>
              <a:ext cx="333000" cy="588960"/>
              <a:chOff x="7277040" y="3895560"/>
              <a:chExt cx="333000" cy="588960"/>
            </a:xfrm>
          </p:grpSpPr>
          <p:sp>
            <p:nvSpPr>
              <p:cNvPr id="2135" name=""/>
              <p:cNvSpPr/>
              <p:nvPr/>
            </p:nvSpPr>
            <p:spPr>
              <a:xfrm rot="16200000">
                <a:off x="7149240" y="4042440"/>
                <a:ext cx="588960" cy="29520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64800 h 295200"/>
                  <a:gd name="textAreaBottom" fmla="*/ 230400 h 29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5400000">
                <a:off x="7260840" y="4111200"/>
                <a:ext cx="19008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5400000">
                <a:off x="7273440" y="4129200"/>
                <a:ext cx="167040" cy="1216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16200000">
                <a:off x="7269120" y="40309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9" name=""/>
            <p:cNvSpPr/>
            <p:nvPr/>
          </p:nvSpPr>
          <p:spPr>
            <a:xfrm>
              <a:off x="7594920" y="4190760"/>
              <a:ext cx="38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265600" y="419076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1" name=""/>
            <p:cNvGrpSpPr/>
            <p:nvPr/>
          </p:nvGrpSpPr>
          <p:grpSpPr>
            <a:xfrm>
              <a:off x="7767000" y="4006440"/>
              <a:ext cx="592200" cy="368640"/>
              <a:chOff x="7767000" y="4006440"/>
              <a:chExt cx="592200" cy="368640"/>
            </a:xfrm>
          </p:grpSpPr>
          <p:sp>
            <p:nvSpPr>
              <p:cNvPr id="2142" name=""/>
              <p:cNvSpPr/>
              <p:nvPr/>
            </p:nvSpPr>
            <p:spPr>
              <a:xfrm>
                <a:off x="7889400" y="4006440"/>
                <a:ext cx="351360" cy="36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767000" y="404496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4" name=""/>
            <p:cNvSpPr/>
            <p:nvPr/>
          </p:nvSpPr>
          <p:spPr>
            <a:xfrm>
              <a:off x="7842960" y="4190760"/>
              <a:ext cx="52560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244200" y="4302000"/>
              <a:ext cx="36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197400" y="407952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7" name=""/>
            <p:cNvGrpSpPr/>
            <p:nvPr/>
          </p:nvGrpSpPr>
          <p:grpSpPr>
            <a:xfrm>
              <a:off x="5821920" y="4006440"/>
              <a:ext cx="557280" cy="368640"/>
              <a:chOff x="5821920" y="4006440"/>
              <a:chExt cx="557280" cy="368640"/>
            </a:xfrm>
          </p:grpSpPr>
          <p:sp>
            <p:nvSpPr>
              <p:cNvPr id="2148" name=""/>
              <p:cNvSpPr/>
              <p:nvPr/>
            </p:nvSpPr>
            <p:spPr>
              <a:xfrm>
                <a:off x="5923080" y="4006440"/>
                <a:ext cx="353160" cy="36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821920" y="404496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0" name=""/>
            <p:cNvSpPr/>
            <p:nvPr/>
          </p:nvSpPr>
          <p:spPr>
            <a:xfrm>
              <a:off x="7047360" y="383976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368560" y="383976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386400" y="3839760"/>
              <a:ext cx="6984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707600" y="3844800"/>
              <a:ext cx="69840" cy="69048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4" name=""/>
            <p:cNvGrpSpPr/>
            <p:nvPr/>
          </p:nvGrpSpPr>
          <p:grpSpPr>
            <a:xfrm>
              <a:off x="8514720" y="3992400"/>
              <a:ext cx="420120" cy="369720"/>
              <a:chOff x="8514720" y="3992400"/>
              <a:chExt cx="420120" cy="369720"/>
            </a:xfrm>
          </p:grpSpPr>
          <p:grpSp>
            <p:nvGrpSpPr>
              <p:cNvPr id="2155" name=""/>
              <p:cNvGrpSpPr/>
              <p:nvPr/>
            </p:nvGrpSpPr>
            <p:grpSpPr>
              <a:xfrm>
                <a:off x="8556120" y="3992400"/>
                <a:ext cx="354600" cy="369720"/>
                <a:chOff x="8556120" y="3992400"/>
                <a:chExt cx="354600" cy="369720"/>
              </a:xfrm>
            </p:grpSpPr>
            <p:sp>
              <p:nvSpPr>
                <p:cNvPr id="2156" name=""/>
                <p:cNvSpPr/>
                <p:nvPr/>
              </p:nvSpPr>
              <p:spPr>
                <a:xfrm flipH="1">
                  <a:off x="8556120" y="3992400"/>
                  <a:ext cx="17712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>
                  <a:off x="8555760" y="3992400"/>
                  <a:ext cx="35460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8" name=""/>
              <p:cNvSpPr/>
              <p:nvPr/>
            </p:nvSpPr>
            <p:spPr>
              <a:xfrm flipH="1">
                <a:off x="8514360" y="4030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9" name=""/>
            <p:cNvGrpSpPr/>
            <p:nvPr/>
          </p:nvGrpSpPr>
          <p:grpSpPr>
            <a:xfrm>
              <a:off x="6489720" y="4652640"/>
              <a:ext cx="3111480" cy="699840"/>
              <a:chOff x="6489720" y="4652640"/>
              <a:chExt cx="3111480" cy="699840"/>
            </a:xfrm>
          </p:grpSpPr>
          <p:grpSp>
            <p:nvGrpSpPr>
              <p:cNvPr id="2160" name=""/>
              <p:cNvGrpSpPr/>
              <p:nvPr/>
            </p:nvGrpSpPr>
            <p:grpSpPr>
              <a:xfrm>
                <a:off x="7239600" y="4817520"/>
                <a:ext cx="420120" cy="370080"/>
                <a:chOff x="7239600" y="4817520"/>
                <a:chExt cx="420120" cy="370080"/>
              </a:xfrm>
            </p:grpSpPr>
            <p:grpSp>
              <p:nvGrpSpPr>
                <p:cNvPr id="2161" name=""/>
                <p:cNvGrpSpPr/>
                <p:nvPr/>
              </p:nvGrpSpPr>
              <p:grpSpPr>
                <a:xfrm>
                  <a:off x="7273440" y="4817520"/>
                  <a:ext cx="351000" cy="370080"/>
                  <a:chOff x="7273440" y="4817520"/>
                  <a:chExt cx="351000" cy="370080"/>
                </a:xfrm>
              </p:grpSpPr>
              <p:sp>
                <p:nvSpPr>
                  <p:cNvPr id="2162" name=""/>
                  <p:cNvSpPr/>
                  <p:nvPr/>
                </p:nvSpPr>
                <p:spPr>
                  <a:xfrm>
                    <a:off x="7449120" y="481752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7273440" y="4817520"/>
                    <a:ext cx="3510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4" name=""/>
                <p:cNvSpPr/>
                <p:nvPr/>
              </p:nvSpPr>
              <p:spPr>
                <a:xfrm>
                  <a:off x="7239600" y="48560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5" name=""/>
              <p:cNvSpPr/>
              <p:nvPr/>
            </p:nvSpPr>
            <p:spPr>
              <a:xfrm>
                <a:off x="7625160" y="489240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625160" y="511272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7" name=""/>
              <p:cNvGrpSpPr/>
              <p:nvPr/>
            </p:nvGrpSpPr>
            <p:grpSpPr>
              <a:xfrm>
                <a:off x="7942320" y="4708080"/>
                <a:ext cx="330120" cy="588960"/>
                <a:chOff x="7942320" y="4708080"/>
                <a:chExt cx="330120" cy="588960"/>
              </a:xfrm>
            </p:grpSpPr>
            <p:sp>
              <p:nvSpPr>
                <p:cNvPr id="2168" name=""/>
                <p:cNvSpPr/>
                <p:nvPr/>
              </p:nvSpPr>
              <p:spPr>
                <a:xfrm rot="16200000">
                  <a:off x="7814880" y="485460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rot="5400000">
                  <a:off x="7926120" y="4923720"/>
                  <a:ext cx="190080" cy="15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 rot="5400000">
                  <a:off x="7938720" y="494172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rot="16200000">
                  <a:off x="7931520" y="48434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2" name=""/>
              <p:cNvSpPr/>
              <p:nvPr/>
            </p:nvSpPr>
            <p:spPr>
              <a:xfrm>
                <a:off x="8260560" y="500328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8930880" y="500328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4" name=""/>
              <p:cNvGrpSpPr/>
              <p:nvPr/>
            </p:nvGrpSpPr>
            <p:grpSpPr>
              <a:xfrm>
                <a:off x="8432280" y="4819320"/>
                <a:ext cx="592200" cy="368280"/>
                <a:chOff x="8432280" y="4819320"/>
                <a:chExt cx="592200" cy="368280"/>
              </a:xfrm>
            </p:grpSpPr>
            <p:sp>
              <p:nvSpPr>
                <p:cNvPr id="2175" name=""/>
                <p:cNvSpPr/>
                <p:nvPr/>
              </p:nvSpPr>
              <p:spPr>
                <a:xfrm>
                  <a:off x="8554320" y="4819320"/>
                  <a:ext cx="352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8432280" y="485784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7" name=""/>
              <p:cNvSpPr/>
              <p:nvPr/>
            </p:nvSpPr>
            <p:spPr>
              <a:xfrm>
                <a:off x="8507520" y="500328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909480" y="511452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861960" y="489240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0" name=""/>
              <p:cNvGrpSpPr/>
              <p:nvPr/>
            </p:nvGrpSpPr>
            <p:grpSpPr>
              <a:xfrm>
                <a:off x="6489720" y="4819320"/>
                <a:ext cx="557280" cy="368280"/>
                <a:chOff x="6489720" y="4819320"/>
                <a:chExt cx="557280" cy="368280"/>
              </a:xfrm>
            </p:grpSpPr>
            <p:sp>
              <p:nvSpPr>
                <p:cNvPr id="2181" name=""/>
                <p:cNvSpPr/>
                <p:nvPr/>
              </p:nvSpPr>
              <p:spPr>
                <a:xfrm>
                  <a:off x="6587280" y="481932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6489720" y="485784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3" name=""/>
              <p:cNvGrpSpPr/>
              <p:nvPr/>
            </p:nvGrpSpPr>
            <p:grpSpPr>
              <a:xfrm>
                <a:off x="7050240" y="4652640"/>
                <a:ext cx="2054520" cy="699840"/>
                <a:chOff x="7050240" y="4652640"/>
                <a:chExt cx="2054520" cy="699840"/>
              </a:xfrm>
            </p:grpSpPr>
            <p:sp>
              <p:nvSpPr>
                <p:cNvPr id="2184" name=""/>
                <p:cNvSpPr/>
                <p:nvPr/>
              </p:nvSpPr>
              <p:spPr>
                <a:xfrm>
                  <a:off x="7711560" y="465264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9033840" y="465264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7050240" y="465264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8372520" y="465660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8" name=""/>
              <p:cNvGrpSpPr/>
              <p:nvPr/>
            </p:nvGrpSpPr>
            <p:grpSpPr>
              <a:xfrm>
                <a:off x="9181080" y="4804920"/>
                <a:ext cx="420120" cy="369720"/>
                <a:chOff x="9181080" y="4804920"/>
                <a:chExt cx="420120" cy="369720"/>
              </a:xfrm>
            </p:grpSpPr>
            <p:grpSp>
              <p:nvGrpSpPr>
                <p:cNvPr id="2189" name=""/>
                <p:cNvGrpSpPr/>
                <p:nvPr/>
              </p:nvGrpSpPr>
              <p:grpSpPr>
                <a:xfrm>
                  <a:off x="9224280" y="4804920"/>
                  <a:ext cx="353520" cy="369720"/>
                  <a:chOff x="9224280" y="4804920"/>
                  <a:chExt cx="353520" cy="369720"/>
                </a:xfrm>
              </p:grpSpPr>
              <p:sp>
                <p:nvSpPr>
                  <p:cNvPr id="2190" name=""/>
                  <p:cNvSpPr/>
                  <p:nvPr/>
                </p:nvSpPr>
                <p:spPr>
                  <a:xfrm flipH="1">
                    <a:off x="9223920" y="480492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 flipH="1">
                    <a:off x="9224280" y="480492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92" name=""/>
                <p:cNvSpPr/>
                <p:nvPr/>
              </p:nvSpPr>
              <p:spPr>
                <a:xfrm flipH="1">
                  <a:off x="9180720" y="48434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3" name=""/>
            <p:cNvSpPr/>
            <p:nvPr/>
          </p:nvSpPr>
          <p:spPr>
            <a:xfrm>
              <a:off x="6413040" y="4638600"/>
              <a:ext cx="6984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82680" y="1676160"/>
              <a:ext cx="598680" cy="327672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07800" y="3809880"/>
              <a:ext cx="7020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707800" y="3809880"/>
              <a:ext cx="7020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033880" y="297144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386600" y="211752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09880" y="1295280"/>
              <a:ext cx="6984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548640" y="5486400"/>
            <a:ext cx="512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at do you do with the 3 instructions in betwee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How do you do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ere is the “commit”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62E-D502-4A9A-BDE1-5379ADBF7F2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AA068-5C96-4D4B-B39D-05FB2F7DD9E9}" type="datetime1">
              <a:rPr lang="en-US"/>
              <a:t>07/30/26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Branch Stall Impac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PI = 1, 30% branch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ll 3 cycles =&gt; new CPI = 1.9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part solu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branch taken or not sooner, 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taken branch address earl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branch tests if register = 0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Solu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Zero test to ID/RF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r to calculate new PC in ID/RF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cycle penalty for branch versus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928-E583-4C3B-B443-4C382BF47EB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F993B-B394-471E-B13B-ADB533AC8EA2}" type="datetime1">
              <a:rPr lang="en-US"/>
              <a:t>07/30/26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"/>
          <p:cNvSpPr/>
          <p:nvPr/>
        </p:nvSpPr>
        <p:spPr>
          <a:xfrm rot="16200000">
            <a:off x="3206520" y="2377440"/>
            <a:ext cx="771480" cy="434880"/>
          </a:xfrm>
          <a:custGeom>
            <a:avLst/>
            <a:gdLst>
              <a:gd name="textAreaLeft" fmla="*/ 169560 w 771480"/>
              <a:gd name="textAreaRight" fmla="*/ 601920 w 771480"/>
              <a:gd name="textAreaTop" fmla="*/ 95400 h 434880"/>
              <a:gd name="textAreaBottom" fmla="*/ 339480 h 43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rot="5400000">
            <a:off x="3205800" y="24332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438280" y="2328840"/>
            <a:ext cx="914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2616120" y="2209680"/>
            <a:ext cx="304920" cy="3329280"/>
            <a:chOff x="2616120" y="2209680"/>
            <a:chExt cx="304920" cy="3329280"/>
          </a:xfrm>
        </p:grpSpPr>
        <p:sp>
          <p:nvSpPr>
            <p:cNvPr id="2207" name=""/>
            <p:cNvSpPr/>
            <p:nvPr/>
          </p:nvSpPr>
          <p:spPr>
            <a:xfrm>
              <a:off x="2616120" y="2209680"/>
              <a:ext cx="304920" cy="332928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F/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616120" y="5260320"/>
              <a:ext cx="304920" cy="27864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ed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4, page A-3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838080" y="114300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8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2219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2220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3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4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835440" y="3048120"/>
            <a:ext cx="590400" cy="1366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419720" y="3352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038480" y="2590920"/>
            <a:ext cx="381240" cy="30456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82760" y="1819440"/>
            <a:ext cx="3936960" cy="1812600"/>
          </a:xfrm>
          <a:custGeom>
            <a:avLst/>
            <a:gdLst/>
            <a:ahLst/>
            <a:rect l="l" t="t" r="r" b="b"/>
            <a:pathLst>
              <a:path w="2480" h="1142">
                <a:moveTo>
                  <a:pt x="2234" y="288"/>
                </a:moveTo>
                <a:lnTo>
                  <a:pt x="2480" y="288"/>
                </a:lnTo>
                <a:lnTo>
                  <a:pt x="2480" y="0"/>
                </a:lnTo>
                <a:lnTo>
                  <a:pt x="0" y="4"/>
                </a:lnTo>
                <a:lnTo>
                  <a:pt x="2" y="1142"/>
                </a:lnTo>
                <a:lnTo>
                  <a:pt x="171" y="1142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029200" y="3952800"/>
            <a:ext cx="208296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1" name=""/>
          <p:cNvGrpSpPr/>
          <p:nvPr/>
        </p:nvGrpSpPr>
        <p:grpSpPr>
          <a:xfrm>
            <a:off x="7799400" y="1895400"/>
            <a:ext cx="304920" cy="3643560"/>
            <a:chOff x="7799400" y="1895400"/>
            <a:chExt cx="304920" cy="3643560"/>
          </a:xfrm>
        </p:grpSpPr>
        <p:sp>
          <p:nvSpPr>
            <p:cNvPr id="2252" name=""/>
            <p:cNvSpPr/>
            <p:nvPr/>
          </p:nvSpPr>
          <p:spPr>
            <a:xfrm>
              <a:off x="7799400" y="1895400"/>
              <a:ext cx="304920" cy="364356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EM/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799400" y="523404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6323040" y="1895400"/>
            <a:ext cx="304920" cy="3643200"/>
            <a:chOff x="6323040" y="1895400"/>
            <a:chExt cx="304920" cy="3643200"/>
          </a:xfrm>
        </p:grpSpPr>
        <p:sp>
          <p:nvSpPr>
            <p:cNvPr id="2255" name=""/>
            <p:cNvSpPr/>
            <p:nvPr/>
          </p:nvSpPr>
          <p:spPr>
            <a:xfrm>
              <a:off x="6323040" y="1895400"/>
              <a:ext cx="304920" cy="364320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X/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323040" y="522432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7" name=""/>
          <p:cNvSpPr/>
          <p:nvPr/>
        </p:nvSpPr>
        <p:spPr>
          <a:xfrm>
            <a:off x="4292640" y="4867200"/>
            <a:ext cx="35568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4826160" y="4114800"/>
            <a:ext cx="457200" cy="7524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149640" y="4867200"/>
            <a:ext cx="149868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158920" y="2057400"/>
            <a:ext cx="1903320" cy="523800"/>
          </a:xfrm>
          <a:custGeom>
            <a:avLst/>
            <a:gdLst/>
            <a:ahLst/>
            <a:rect l="l" t="t" r="r" b="b"/>
            <a:pathLst>
              <a:path w="1199" h="330">
                <a:moveTo>
                  <a:pt x="0" y="330"/>
                </a:moveTo>
                <a:lnTo>
                  <a:pt x="173" y="330"/>
                </a:lnTo>
                <a:lnTo>
                  <a:pt x="173" y="0"/>
                </a:lnTo>
                <a:lnTo>
                  <a:pt x="1199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2264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9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987800" y="3917880"/>
            <a:ext cx="7488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2895480" y="181800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98520" y="5921280"/>
            <a:ext cx="748656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play of instruction set design and cycl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2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2283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5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038480" y="1981080"/>
            <a:ext cx="209520" cy="552600"/>
          </a:xfrm>
          <a:prstGeom prst="ellipse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14316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rot="5400000">
            <a:off x="3340080" y="2494080"/>
            <a:ext cx="231840" cy="18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lnTo>
                  <a:pt x="192" y="0"/>
                </a:lnTo>
                <a:lnTo>
                  <a:pt x="384" y="288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rot="5400000">
            <a:off x="3112200" y="2456640"/>
            <a:ext cx="233280" cy="209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809880" y="2438280"/>
            <a:ext cx="228600" cy="1526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lnTo>
                  <a:pt x="48" y="96"/>
                </a:lnTo>
                <a:lnTo>
                  <a:pt x="48" y="0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3" name=""/>
          <p:cNvGrpSpPr/>
          <p:nvPr/>
        </p:nvGrpSpPr>
        <p:grpSpPr>
          <a:xfrm>
            <a:off x="4648320" y="1905120"/>
            <a:ext cx="306360" cy="3643200"/>
            <a:chOff x="4648320" y="1905120"/>
            <a:chExt cx="306360" cy="3643200"/>
          </a:xfrm>
        </p:grpSpPr>
        <p:sp>
          <p:nvSpPr>
            <p:cNvPr id="2294" name=""/>
            <p:cNvSpPr/>
            <p:nvPr/>
          </p:nvSpPr>
          <p:spPr>
            <a:xfrm>
              <a:off x="4649760" y="1905120"/>
              <a:ext cx="304920" cy="364320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D/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648320" y="5234040"/>
              <a:ext cx="304560" cy="3042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6" name=""/>
          <p:cNvSpPr/>
          <p:nvPr/>
        </p:nvSpPr>
        <p:spPr>
          <a:xfrm>
            <a:off x="4419720" y="2743200"/>
            <a:ext cx="152280" cy="609480"/>
          </a:xfrm>
          <a:custGeom>
            <a:avLst/>
            <a:gdLst/>
            <a:ahLst/>
            <a:rect l="l" t="t" r="r" b="b"/>
            <a:pathLst>
              <a:path w="96" h="768">
                <a:moveTo>
                  <a:pt x="96" y="768"/>
                </a:move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537080" y="330840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048120" y="2819520"/>
            <a:ext cx="1371600" cy="2666880"/>
          </a:xfrm>
          <a:custGeom>
            <a:avLst/>
            <a:gdLst/>
            <a:ahLst/>
            <a:rect l="l" t="t" r="r" b="b"/>
            <a:pathLst>
              <a:path w="864" h="1680">
                <a:moveTo>
                  <a:pt x="864" y="1296"/>
                </a:moveTo>
                <a:lnTo>
                  <a:pt x="864" y="1680"/>
                </a:lnTo>
                <a:lnTo>
                  <a:pt x="0" y="1680"/>
                </a:ln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FE6-66F0-4648-B316-7BB5C8FD20F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04BE1-4FB3-46CC-B1DC-8BE1D9D5151F}" type="datetime1">
              <a:rPr lang="en-US"/>
              <a:t>07/30/26</a:t>
            </a:fld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ur Branch Hazard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543800" cy="287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: Stall until branch direction is cl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: Predict Branch Not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 successor instructions in sequ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uash” instructions in pipeline if branch actually ta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 of late pipeline state up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% MIPS branches not taken on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+4 already calculated, so use it to get next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: Predict Branch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% MIPS branches taken on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But haven’t calculated branch target address in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 still incurs 1 cycle branch penal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achines: branch target known before outco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A9C-3AAA-4703-BD08-624E5825E61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02CAF-01F8-4431-9FD6-2037D16B8136}" type="datetime1">
              <a:rPr lang="en-US"/>
              <a:t>07/30/26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841320" y="19332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ur Branch Hazard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844200" y="1980720"/>
            <a:ext cx="7543800" cy="33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: Delayed Bran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branch to take place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following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anch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..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anch target if taken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slot delay allows proper decision and branch target address in 5 stag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 uses th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5526360" y="3616200"/>
            <a:ext cx="297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nch delay of length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35360" y="3321000"/>
            <a:ext cx="92088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 flipH="1">
            <a:off x="4622760" y="3778200"/>
            <a:ext cx="9079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6B8-9BD0-4744-BCF0-D524A12BB53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DBB45-2A55-4D16-A411-9B970FAE9DEA}" type="datetime1">
              <a:rPr lang="en-US"/>
              <a:t>07/30/26</a:t>
            </a:fld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Scheduling Branch Delay Slots (Fig A.14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13840" y="5334120"/>
            <a:ext cx="8788680" cy="12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is the best choice, fills delay slot &amp; reduces instruction count (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,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truction may need to be copied, increasing 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 and C, must be okay to execu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en branch f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762120" y="117144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838080" y="115740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2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914400" y="178128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33520" y="779400"/>
            <a:ext cx="2590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rom before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429000" y="779400"/>
            <a:ext cx="251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rom branch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324480" y="779400"/>
            <a:ext cx="23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From fall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666880" y="1628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895480" y="162864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H="1">
            <a:off x="2438280" y="269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505320" y="115740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581280" y="196704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1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657600" y="254304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410080" y="24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638680" y="13860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 flipH="1">
            <a:off x="5409720" y="13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248520" y="115740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324480" y="114300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1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400800" y="176688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8153280" y="16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8381880" y="1614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H="1">
            <a:off x="8077320" y="2681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581280" y="123336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 $4,$5,$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324480" y="252900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 $4,$5,$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1" name=""/>
          <p:cNvGrpSpPr/>
          <p:nvPr/>
        </p:nvGrpSpPr>
        <p:grpSpPr>
          <a:xfrm>
            <a:off x="685800" y="2971800"/>
            <a:ext cx="1143000" cy="439200"/>
            <a:chOff x="685800" y="2971800"/>
            <a:chExt cx="1143000" cy="439200"/>
          </a:xfrm>
        </p:grpSpPr>
        <p:sp>
          <p:nvSpPr>
            <p:cNvPr id="2332" name=""/>
            <p:cNvSpPr/>
            <p:nvPr/>
          </p:nvSpPr>
          <p:spPr>
            <a:xfrm>
              <a:off x="182880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8580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3581280" y="2971800"/>
            <a:ext cx="1143000" cy="439200"/>
            <a:chOff x="3581280" y="2971800"/>
            <a:chExt cx="1143000" cy="439200"/>
          </a:xfrm>
        </p:grpSpPr>
        <p:sp>
          <p:nvSpPr>
            <p:cNvPr id="2335" name=""/>
            <p:cNvSpPr/>
            <p:nvPr/>
          </p:nvSpPr>
          <p:spPr>
            <a:xfrm>
              <a:off x="47242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58128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6324480" y="2971800"/>
            <a:ext cx="1143000" cy="439200"/>
            <a:chOff x="6324480" y="2971800"/>
            <a:chExt cx="1143000" cy="439200"/>
          </a:xfrm>
        </p:grpSpPr>
        <p:sp>
          <p:nvSpPr>
            <p:cNvPr id="2338" name=""/>
            <p:cNvSpPr/>
            <p:nvPr/>
          </p:nvSpPr>
          <p:spPr>
            <a:xfrm>
              <a:off x="74674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2448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762120" y="3338640"/>
            <a:ext cx="2286000" cy="1842480"/>
            <a:chOff x="762120" y="3338640"/>
            <a:chExt cx="2286000" cy="1842480"/>
          </a:xfrm>
        </p:grpSpPr>
        <p:sp>
          <p:nvSpPr>
            <p:cNvPr id="2341" name=""/>
            <p:cNvSpPr/>
            <p:nvPr/>
          </p:nvSpPr>
          <p:spPr>
            <a:xfrm>
              <a:off x="762120" y="3352680"/>
              <a:ext cx="2286000" cy="18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38080" y="333864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2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914400" y="396216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66688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895480" y="380988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2438280" y="4876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3505320" y="3338640"/>
            <a:ext cx="2286000" cy="1828800"/>
            <a:chOff x="3505320" y="3338640"/>
            <a:chExt cx="2286000" cy="1828800"/>
          </a:xfrm>
        </p:grpSpPr>
        <p:sp>
          <p:nvSpPr>
            <p:cNvPr id="2348" name=""/>
            <p:cNvSpPr/>
            <p:nvPr/>
          </p:nvSpPr>
          <p:spPr>
            <a:xfrm>
              <a:off x="3505320" y="3338640"/>
              <a:ext cx="22860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581280" y="414828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1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657600" y="472464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$4,$5,$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410080" y="4634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638680" y="3810240"/>
              <a:ext cx="0" cy="82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4800600" y="381024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4" name=""/>
          <p:cNvGrpSpPr/>
          <p:nvPr/>
        </p:nvGrpSpPr>
        <p:grpSpPr>
          <a:xfrm>
            <a:off x="6248520" y="3338640"/>
            <a:ext cx="2286000" cy="1842480"/>
            <a:chOff x="6248520" y="3338640"/>
            <a:chExt cx="2286000" cy="1842480"/>
          </a:xfrm>
        </p:grpSpPr>
        <p:sp>
          <p:nvSpPr>
            <p:cNvPr id="2355" name=""/>
            <p:cNvSpPr/>
            <p:nvPr/>
          </p:nvSpPr>
          <p:spPr>
            <a:xfrm>
              <a:off x="6248520" y="3352680"/>
              <a:ext cx="2286000" cy="18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324480" y="333864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1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400800" y="396216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$4,$5,$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5328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381880" y="380988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7238520" y="48765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431-1374-4562-8582-9F635D34E33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C31D5-84E0-475B-AA7A-3ECF439DED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layed Branc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effectiveness for single branch delay slo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s about 60% of branch delay slo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80% of instructions executed in branch delay slots useful in compu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50% (60% x 80%) of slots usefully fil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ed Branch downside: As processor go to deeper pipelines and multiple issue, the branch delay grows and need more than one delay sl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ed branching has lost popularity compared to more expensive but more flexible dynamic approa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th in available transistors has made dynamic approaches relatively che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755-1702-4A8F-8865-2E291F5B932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A5E85-5DA8-4DC1-9328-BD419A061962}" type="datetime1">
              <a:rPr lang="en-US"/>
              <a:t>07/30/26</a:t>
            </a:fld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: What to meas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614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rely on benchmarks vs. real workl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predictability, collections of benchmark applications--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benchmark su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- are pop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CP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opular desktop benchmark su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only, split between integer and floating point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nt2000 has 12 integer, SPECfp2000 has 14 integer pg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CPU2006 to be announced Spring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SF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FS file server) and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We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WebServer) added as server benchma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Transaction Processing Counc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er performance and cost-performance for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TP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lex query for Online Transaction Proc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H models ad hoc decis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W  a transactional web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App application server and web services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4E8-9D22-4FAD-ADC1-A4206EBBC9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2F69E-579A-40A8-AB9A-BD9B7A0E4B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valuating Branch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47640" y="2557440"/>
            <a:ext cx="7772400" cy="36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4% unconditional branch, 6% conditional branch- untaken, 10% conditional branch-ta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edul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dup v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dup v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chem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penalt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pipelined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ll pipe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 tak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3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 not tak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ed bran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.4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5" name=""/>
          <p:cNvGraphicFramePr/>
          <p:nvPr/>
        </p:nvGraphicFramePr>
        <p:xfrm>
          <a:off x="1028880" y="1778040"/>
          <a:ext cx="71373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778040"/>
                    <a:ext cx="7137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829-52C7-4A6A-A718-610BC73CE48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D91ED-036C-4D74-A326-20128155EE5D}" type="datetime1">
              <a:rPr lang="en-US"/>
              <a:t>07/30/26</a:t>
            </a:fld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n unusual event happens to an instruction during its execution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divide by zero, undefined op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terru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Hardware signal to switch the processor to a new instruction stream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a sound card interrupts when it needs more audio output samples (an audio “click” happens if it is left wait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It must appear that the exception or interrupt must appear between 2 instructions (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ffect of all instructions up to and including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otalling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ffect of any instruction after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ake pla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rupt (exception) handler either aborts program or restarts at instruction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C5E7-FA19-4CA0-9187-419107963C2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E19E4-3E03-44B0-8F0F-CDD0C5659A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297000" y="-11520"/>
            <a:ext cx="8240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ecise Exceptions in Static Pipelin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2370" name="" descr=""/>
          <p:cNvPicPr/>
          <p:nvPr/>
        </p:nvPicPr>
        <p:blipFill>
          <a:blip r:embed="rId1"/>
          <a:stretch/>
        </p:blipFill>
        <p:spPr>
          <a:xfrm>
            <a:off x="395280" y="1100160"/>
            <a:ext cx="8748720" cy="4305240"/>
          </a:xfrm>
          <a:prstGeom prst="rect">
            <a:avLst/>
          </a:prstGeom>
          <a:ln w="0">
            <a:noFill/>
          </a:ln>
        </p:spPr>
      </p:pic>
      <p:sp>
        <p:nvSpPr>
          <p:cNvPr id="2371" name=""/>
          <p:cNvSpPr/>
          <p:nvPr/>
        </p:nvSpPr>
        <p:spPr>
          <a:xfrm>
            <a:off x="1846440" y="1116000"/>
            <a:ext cx="5287680" cy="573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57360" y="5483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observation: architected state only change in memory and register write st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63520" y="228240"/>
            <a:ext cx="8701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:  Control and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09480" y="1215720"/>
            <a:ext cx="826776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&amp;P: Benchmarks age, disks fail,1 point fail dan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time: Read Appendix A, record bugs onlin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VI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tate Mach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icro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 overlap tasks; easy if tasks ar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 Up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ipeline Depth; if ideal CPI is 1, then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zards limit performance on compute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al: need more HW re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(RAW,WAR,WAW): need forwarding, compiler schedu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: delayed branch, predi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s, Interrupts add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time: Read Appendix C, record bugs onlin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723960" y="3438360"/>
                <a:ext cx="7101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CF4-0D16-4201-9850-FA86E25E54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FB4EE-8CD3-4C26-A538-4BCD278E6D0D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1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hmetic average of execution time of all pgm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y vary by 4X in speed, so some would be more important  than others in arithmetic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add a weights per program, but how pick weigh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companies want different weights for their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Rat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rmalize execution times to reference computer, yielding a ratio proportional to performance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reference compu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computer being 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14720" y="4815000"/>
            <a:ext cx="532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ED5-A856-4867-8383-C56480B3A3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D765E-30A8-4D84-9C0B-64D7E290FD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2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29324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program SPECRatio on Computer A is 1.25 times bigger than Computer B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017720" y="1913040"/>
                <a:ext cx="70801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981000" y="5367240"/>
            <a:ext cx="7815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when comparing 2 computers as a ratio, execution times on the reference computer drop out, so choice of reference computer is irrelev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EF7-60FB-41BB-B6D0-AB4C3285EB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04173-19DD-4BEA-A179-B4787E33BF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3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2160" y="1193760"/>
            <a:ext cx="849780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ratios, proper mean is geometric me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PECRatio unitless, so arithmetic mean meaningl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03320" y="2278080"/>
                <a:ext cx="7080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eometricMean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907920" y="3800520"/>
            <a:ext cx="78152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5000"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points make geometric mean of ratios attractive to summarize perform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mean of the ratios is the same as the ratio of the geometric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of geometric mea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Geometric mean of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erform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ti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oice of reference computer is irrelev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6DE-3D1C-45AF-8AB6-DFDB2706D2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B64A1-BE5F-476B-8E8B-8C60F6FAA1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4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960" y="1293480"/>
            <a:ext cx="8498160" cy="46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a single mean well summarize performance of programs in benchmark sui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decide if mean a good predictor by characterizing variability of distribution using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geometric mean, geometric standard deviation is multiplicative rather than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imply take the logarithm of SPECRatios, compute the standard mean and standard deviation, and then take the exponent to convert b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66800" y="4608360"/>
                <a:ext cx="6477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ometricMe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ometricStDe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De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AA4-1A4B-454D-9042-F1CD37616B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96CDC-2850-48A7-AAA6-E283394C4B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5T15:09:01Z</dcterms:modified>
  <cp:revision>111</cp:revision>
  <dc:subject/>
  <dc:title>EECS 252 Graduate Computer Architecture   Lec 01 - Introduction  </dc:title>
</cp:coreProperties>
</file>