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D4161ED-7847-4228-BD4D-F6160182FB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02231B-9640-4A00-9B12-19D6BAD47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822AD4F-B9C1-4A28-A0BD-E49E819824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550440" y="4560480"/>
            <a:ext cx="63039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1st slide of the “Course Structure and Course Philosophy” section of the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mphasis that for exams, our goal is the test your knowledge. It is not our goal to test how well your perform under time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FEEF07C-0E98-4983-AD36-DB42093076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DD42601-68A9-4E23-B538-B26D8F15A5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1299791-A6CC-4411-B75F-39B4906F85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7CD8B41-A1F3-4A94-8AFA-CFB3E8E783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98DC568-E182-4819-9B3A-F3FDA7A106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11400" y="709560"/>
            <a:ext cx="4840200" cy="36306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57240" y="4576680"/>
            <a:ext cx="5346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1338120" y="4560480"/>
            <a:ext cx="45626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nciple of locality states that programs access a relatively small portion of the address space at  any instant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ind of like in real life, we all have a lot of friends.  But at any given time most of us can  only  keep in touch with a small group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different types of locality: Temporal and Spatial. Temporal locality is the locality in time  which says if an item is referenced, it  will tend to be referenced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like saying if you just talk to one of your friends, it is likely that you will talk to him or her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sense. For example, if you just have lunch with a friend, you may say, let’s go to the ball game this Sunday.  So you will talk to him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locality is the locality in space.  It says if an item is referenced, items whose addresses are close by tend to be referenc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using our analogy.  We can usually divide our friends into groups.  Like friends from high school, friends from work, friends fro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ay you just talk to one of your friends from high school and she may say something like: “So did you hear so and so just won the lotter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will say NO, I better give him a call and find out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is an example of spatial locality.  You just talked to a friend from your high school days.  As a result, you end up talking to another high school friend.  Or at least in this case, you hope he still remember you are his fri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= 10 min. (X: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9203A46-5E7C-4346-BAC4-2D09A9D326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56FEDEE-1A72-4E0E-B0AD-7E3961C8DE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426-EA6B-4FB7-837C-D6E2D413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D87-D17A-4206-A4A3-3AECF59D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586-3C0B-4413-A809-9DBE92CF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B90-B09C-4B6C-966C-E3B7565A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405-DC87-44F4-84D6-3CE1B9D4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1E9-AA50-4658-8BA9-F7D56F38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2F9-1143-403C-8DA3-99F0FADA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0A3-5008-46E2-BA98-112FE51B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B80-347E-46B0-943B-381A703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010-000B-4266-8689-DDD30065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6FD-C674-47E5-893C-44369B3F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BD0-3ABF-4C61-90D9-3FABF9E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020E-DC9A-4181-9A39-FCC20D659A7B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1BAE-A65E-463D-BF91-58FCB136E8FE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t-ram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8800" y="419040"/>
            <a:ext cx="3038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4560" y="1139760"/>
            <a:ext cx="128268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859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438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352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07880" y="109548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4200" y="1095480"/>
            <a:ext cx="4687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4560" y="25876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4560" y="28162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560" y="296856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3840" y="2543040"/>
            <a:ext cx="4446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4920" y="1146240"/>
            <a:ext cx="4330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^32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x 32-bit GPRs (R0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x 32-bit FP regs (paired 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, LO,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1187280"/>
            <a:ext cx="242568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yp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Mode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1880" y="2030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6360" y="3352680"/>
            <a:ext cx="83790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,  AddU,  Sub,   SubU, And,  Or,  Xor, Nor, SLT, SLT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, AddIU, SLTI, SLTIU, AndI, OrI, XorI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L, SRL, SRA, SLLV, SRLV, SR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, LBU, LH, LHU, LW, LWL,L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, SH, SW, SWL, S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, JAL, JR, JA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q, BNE, BLEZ,BGTZ,BLTZ,BGEZ,BLTZAL,BGEZ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54360" y="5540400"/>
            <a:ext cx="422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32-bit instructions on word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FFF-651A-4D6C-99E7-1A227CED27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ACE72-64B7-4A25-A4AB-BDD4BCCFC99E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3200" y="401760"/>
            <a:ext cx="54705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7800" y="1126800"/>
            <a:ext cx="7988400" cy="1917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the attributes of a [computing] system as seen by the programmer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eptual structure and functional behavior, as distinct from the organization of the data flows and controls the logic design, and the physical implementation.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mdahl, Blaauw, and Brooks,  19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57800" y="3098880"/>
            <a:ext cx="3581280" cy="2108160"/>
            <a:chOff x="5257800" y="3098880"/>
            <a:chExt cx="3581280" cy="2108160"/>
          </a:xfrm>
        </p:grpSpPr>
        <p:sp>
          <p:nvSpPr>
            <p:cNvPr id="146" name=""/>
            <p:cNvSpPr/>
            <p:nvPr/>
          </p:nvSpPr>
          <p:spPr>
            <a:xfrm>
              <a:off x="5791320" y="3225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64280" y="3689280"/>
              <a:ext cx="3187440" cy="151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57800" y="322596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458200" y="322596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39080" y="32259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58200" y="467352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2880" y="3098880"/>
              <a:ext cx="1869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3760" y="4756320"/>
              <a:ext cx="36828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8160" y="46800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6240" y="4070520"/>
              <a:ext cx="2923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95880" y="4673520"/>
              <a:ext cx="8384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172200" y="5054400"/>
              <a:ext cx="914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81680" y="414000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62920" y="4368600"/>
              <a:ext cx="7617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6040" y="41464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772400" y="414000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58000" y="4826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019920" y="4825800"/>
              <a:ext cx="228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7480" y="4527720"/>
              <a:ext cx="2156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4673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924680" y="4902120"/>
              <a:ext cx="152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4680" y="50547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77320" y="490212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8153280" y="505476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001000" y="47498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848360" y="474984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848360" y="459720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07680" y="3505320"/>
            <a:ext cx="747144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Organization of Programm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Data Types &amp; Data Struc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ings &amp;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(or Operation Code)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Modes of Addressing and Accessing Data Items and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Exception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6BF-0B8E-486C-B1A8-34C3A4459C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48312-DF78-42AD-A73B-83E7E7307F32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A vs. Computer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218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efinition of computer architectu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instruction set desig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spects of computer design called implement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inuates implementation is uninteresting or less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view is computer architecture &gt;&gt; I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’s job much more than instruction set design; technical hurdles today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llenging than those in instruction se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nstruction set design not where action is, some conclude computer architecture (using old definition) is not where action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isagree on conclu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 that ISA not where action is (ISA in CA:AQA 4/e appendi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CC1-E37C-4CA0-A306-2315BF29C0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6DE19-3AA5-4B74-A16F-34D2D23C27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5560" y="347760"/>
            <a:ext cx="716292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omp. Arch. is an Integrated Approach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320480"/>
            <a:ext cx="830592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eally matters is the functioning of the complete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, runtime system, compiler, operating system, an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etworking, this is called the 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nd to End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not just about transistors, individual instructions, or particular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riginal RISC projects replaced complex instructions with a compiler + simpl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2C3-6968-46A8-B18F-B6BAB353E3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960D8-3BFF-4EE6-844A-377D6373E650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 Architecture is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and Analysi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841760" cy="184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97600" y="1255680"/>
            <a:ext cx="639864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chitecture is an iterative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arching the space  of possibl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all levels of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2463840"/>
            <a:ext cx="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527880" y="2768760"/>
            <a:ext cx="35568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8640" y="2997360"/>
            <a:ext cx="25380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603480" y="3225960"/>
            <a:ext cx="279720" cy="33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3206880"/>
            <a:ext cx="29196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936760" y="2978280"/>
            <a:ext cx="622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50080" y="328284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4480" y="2749680"/>
            <a:ext cx="8254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461360" y="2978280"/>
            <a:ext cx="2412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02560" y="2978280"/>
            <a:ext cx="4446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84480" y="3282840"/>
            <a:ext cx="1652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8280" y="3892680"/>
            <a:ext cx="1206360" cy="1206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3560" y="4273560"/>
            <a:ext cx="749160" cy="749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1640" y="4578480"/>
            <a:ext cx="520920" cy="44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0760" y="3448080"/>
            <a:ext cx="1622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3753000"/>
            <a:ext cx="57168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89600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48960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896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9480" y="5200560"/>
            <a:ext cx="2857320" cy="11448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17960" y="5492880"/>
            <a:ext cx="134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ood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22680" y="5823000"/>
            <a:ext cx="2453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diocr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5080" y="6013440"/>
            <a:ext cx="236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d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3840" y="4133880"/>
            <a:ext cx="1610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st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2E3-1E58-40B5-A071-DD82A3D809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0E96B-E837-4F7B-B750-699E9D2A0BF4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4A3-9E97-4F13-B14C-49B8C226C9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12C31-CB90-4C2C-A1C6-F67B3C9AD8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irst reading assignment: Chapter 1 (handout) for today, Mo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1AD-2EDA-417B-B377-20A00177F9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DC8AB-990D-4092-B12F-B896A8CEEEFC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517320"/>
            <a:ext cx="773748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ypical Class format (after week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8440" y="1311120"/>
            <a:ext cx="8248680" cy="32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ing questions to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Minute Re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inute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 Minute Administrative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-Minute Lecture/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Minute Break (water, stret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5-Minute Discussion based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your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come to class early to answer questions, can stay after on Wednes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3880" y="1565280"/>
            <a:ext cx="0" cy="1652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3230640"/>
            <a:ext cx="3405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88080" y="33228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4520" y="11588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2120" y="3311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20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5480" y="330984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nd in </a:t>
            </a:r>
            <a:br>
              <a:rPr sz="1600"/>
            </a:b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clu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4640" y="1916280"/>
            <a:ext cx="75060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62640" y="1903320"/>
            <a:ext cx="374760" cy="2383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26240" y="2128680"/>
            <a:ext cx="1365120" cy="7272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078760" y="2479680"/>
            <a:ext cx="212760" cy="4017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1000" y="1816200"/>
            <a:ext cx="714240" cy="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1803240"/>
            <a:ext cx="663840" cy="2016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238880" y="1802880"/>
            <a:ext cx="100080" cy="1638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02400" y="1728720"/>
            <a:ext cx="701640" cy="37476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05840" y="1792440"/>
            <a:ext cx="149040" cy="27432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E5A-6C80-4F5C-BF87-DC37605008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8F2FE-08A4-4BB1-B77A-8690793D2585}" type="datetime1">
              <a:rPr lang="en-US"/>
              <a:t>07/30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8120" y="609480"/>
            <a:ext cx="3429000" cy="26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Quizz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8360" y="1096560"/>
            <a:ext cx="8156520" cy="534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causes you to systematize your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pressure of taking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2 Graded quizzes:  dates T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test knowledge vs. speed wr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hrs to take 1.5-hr quiz (5:30-8:30 PM, TBA lo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quizzes can bring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ideas from book to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/Faculty meet over free pizza/drinks at La Val’s after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CA9-7672-4218-8EDE-6B9F89C821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5C33A-3682-4E56-8C18-5AE13A8D85A0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Course Focu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design techniques, machine structures, technology factors, evaluation methods that will determine the form of computers in 21st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45840" y="2922480"/>
            <a:ext cx="1590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24680" y="3011400"/>
            <a:ext cx="1898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62840" y="3278160"/>
            <a:ext cx="1514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6720" y="5227560"/>
            <a:ext cx="14288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6040" y="5506920"/>
            <a:ext cx="1176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65640" y="5397480"/>
            <a:ext cx="1165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880" y="3657600"/>
            <a:ext cx="1704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809880"/>
            <a:ext cx="888840" cy="19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124080" y="5016240"/>
            <a:ext cx="36828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54560" y="3289320"/>
            <a:ext cx="3934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86040" y="3352680"/>
            <a:ext cx="78732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753160" y="4952520"/>
            <a:ext cx="1270080" cy="66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76360" y="3733920"/>
            <a:ext cx="1907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552720" y="388620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1480" y="5264280"/>
            <a:ext cx="3086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 algn="ctr"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ement &amp;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70600" y="2844720"/>
            <a:ext cx="1828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93760" y="3206880"/>
            <a:ext cx="8892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962520"/>
            <a:ext cx="3581640" cy="75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 Archite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rdware/Software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31520" y="46483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553080" y="4724280"/>
            <a:ext cx="609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4F0-61D6-462F-9BBB-5AEAD7FB4F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71B7D-A479-4F32-90EE-4A91E85406A4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F25-98A9-4350-B1EE-337F715444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A15D1-2D4A-48D4-80C9-BA70FB7B24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Your CS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alization and renaiss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, dependability, multi CPU vs. 1 CPU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 of lecture vs.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how well reading is done befor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is to learn how to do good system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a lot from looking at good work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mmit point, you may chose to pursue your own new idea inst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695-E9C7-406F-9EB2-C34CBFEBA7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55DAE-3D7B-4006-8458-A47802DC8D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520" y="264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search Paper 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graduate students, you are now resear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nformation of importance to you will be in research pa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rapidly scan and understand research papers is key to your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: you will read a few papers in this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 1 paragraph summaries and question will be due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supplement to boo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discuss papers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s will be scanned and on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537-F3B2-4ECF-AF8B-047DA662F0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DBBAA-FA7D-4D3B-8CBE-23D188E89CEB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lated Cours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824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2680" y="1987560"/>
            <a:ext cx="1358640" cy="9777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S 2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58920" y="2514600"/>
            <a:ext cx="1701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676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4280" y="25146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2680" y="4197240"/>
            <a:ext cx="13586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3240" y="3102120"/>
            <a:ext cx="288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to build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06560" y="3025800"/>
            <a:ext cx="181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, Analys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0080" y="3025800"/>
            <a:ext cx="273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allel Architectu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nguage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0440" y="5311800"/>
            <a:ext cx="4844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grated Circuit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a computer-organization view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02920" y="1978200"/>
            <a:ext cx="1490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requi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5280" y="3787920"/>
            <a:ext cx="3307320" cy="911880"/>
            <a:chOff x="575280" y="3787920"/>
            <a:chExt cx="3307320" cy="911880"/>
          </a:xfrm>
        </p:grpSpPr>
        <p:sp>
          <p:nvSpPr>
            <p:cNvPr id="272" name=""/>
            <p:cNvSpPr/>
            <p:nvPr/>
          </p:nvSpPr>
          <p:spPr>
            <a:xfrm>
              <a:off x="692280" y="3816360"/>
              <a:ext cx="30351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280" y="3787920"/>
              <a:ext cx="3307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asic knowledg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rganization of a 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s assum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4D9-4CB6-44A0-B689-6B9968E1A1B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E985E-E952-4C9A-9ECD-9D94A6CB6336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ping with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2120" y="1106640"/>
            <a:ext cx="787572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grads must have taken CS1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 Students with too varied backgrou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st, CS grad students took written prelim exams on undergraduate material in hardware, software, and the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st 5 weeks reviewed background, helped 252, 262, 27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lims were dropped =&gt; some unprepared for CS 252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s without CS152 equivalent may have to work hard; Review: Appendix A, B, C; CS 152 home page, mayb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uter Organization and Design (COD) 3/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s 1 to 8 of COD if never took prerequi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ook a class, be sure COD Chapters 2, 6, 7 are famili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loan you a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pend 2 lectures on review of Pipelining and Memory Hierarchy, and in class quiz to be sure everyone is up to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490-5B18-47FE-8421-55925F06D4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D40C5-0BAC-4F35-9A7A-C8F8FD8A1A03}" type="datetime1">
              <a:rPr lang="en-US"/>
              <a:t>07/30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200" y="232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r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283760"/>
            <a:ext cx="8153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Homeworks (work in pairs) and reading write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Examinations (2 Quizz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Research Project (work in pai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 from undergrad to grad stu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eley wants you to succeed, but you need to show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k topic (more on this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 3 times with faculty to see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 oral presentation or poster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report like conference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eks work full time for 2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to do “research in the small” to help make transition from good student to research collea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Class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5E4-47C8-4E9C-A28E-7794141EA1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D1C03-73AD-41B4-B1C6-994BE9E9C090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8360" y="-3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Project opportunity this seme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79000" y="1168560"/>
            <a:ext cx="84265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PGAs as New Research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~ 25 CPUs can fit in Field Programmable Gate Array (FPGA), 1000-CPU system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40 FPGA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-bit simple “soft core” RISC at 100MHz in 2004 (Virtex-I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 generations every 1.5 yrs; 2X CPUs, 2X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research community does logic design (“gate shareware”) to create out-of-the-box, Massively Parallel Processor runs standard binaries of OS, ap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re: Processors, Caches, Coherency, Ethernet Interfaces, Switches, Routers, …  (IBM, Sun have donated process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1000 processor, IBM Power binary-compatible, cache-coherent supercomputer @ 200 MHz; fast enough for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42F-BBC1-44A8-B2A3-93FC802123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9F9E0-EE10-4EA3-BB25-F8D63D218182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goal is to ramp up research in multiprocessing, called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earch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elerator for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tiple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more, read “RAMP: Research Accelerator for Multiple Processors - A Community Vision for a Shared Experimental Parallel HW/SW Platform,” Technical Report UCB//CSD-05-1412, Sept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 ramp.eecs.berkeley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775-8128-407E-933B-C52455E85F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EE58A-1783-4EA9-A743-E67F1EF93A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y RAMP Good for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Research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?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066680"/>
          <a:ext cx="9067680" cy="5757840"/>
        </p:xfrm>
        <a:graphic>
          <a:graphicData uri="http://schemas.openxmlformats.org/drawingml/2006/table">
            <a:tbl>
              <a:tblPr/>
              <a:tblGrid>
                <a:gridCol w="2666880"/>
                <a:gridCol w="1600200"/>
                <a:gridCol w="1447920"/>
                <a:gridCol w="1447920"/>
                <a:gridCol w="190476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0 CP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40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2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.1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/Space</a:t>
                      </a:r>
                      <a:br>
                        <a:rPr sz="18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ilowatts,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 kw, 0.1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kw,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.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lock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2664000" y="1420920"/>
            <a:ext cx="1574640" cy="60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214880" y="1886040"/>
            <a:ext cx="1574640" cy="1768320"/>
            <a:chOff x="4214880" y="1886040"/>
            <a:chExt cx="1574640" cy="1768320"/>
          </a:xfrm>
        </p:grpSpPr>
        <p:sp>
          <p:nvSpPr>
            <p:cNvPr id="286" name=""/>
            <p:cNvSpPr/>
            <p:nvPr/>
          </p:nvSpPr>
          <p:spPr>
            <a:xfrm>
              <a:off x="4255920" y="1886040"/>
              <a:ext cx="1478160" cy="60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14880" y="2992320"/>
              <a:ext cx="1574640" cy="662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708520" y="5459400"/>
            <a:ext cx="1474920" cy="911160"/>
            <a:chOff x="5708520" y="5459400"/>
            <a:chExt cx="1474920" cy="911160"/>
          </a:xfrm>
        </p:grpSpPr>
        <p:sp>
          <p:nvSpPr>
            <p:cNvPr id="289" name=""/>
            <p:cNvSpPr/>
            <p:nvPr/>
          </p:nvSpPr>
          <p:spPr>
            <a:xfrm>
              <a:off x="5708520" y="545940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24360" y="592128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267680" y="5872320"/>
            <a:ext cx="1579320" cy="985680"/>
            <a:chOff x="7267680" y="5872320"/>
            <a:chExt cx="1579320" cy="985680"/>
          </a:xfrm>
        </p:grpSpPr>
        <p:sp>
          <p:nvSpPr>
            <p:cNvPr id="292" name=""/>
            <p:cNvSpPr/>
            <p:nvPr/>
          </p:nvSpPr>
          <p:spPr>
            <a:xfrm>
              <a:off x="7272360" y="5872320"/>
              <a:ext cx="1574640" cy="447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67680" y="6372360"/>
              <a:ext cx="1574640" cy="485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912-35EF-47AC-8591-8D275C362C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D7C5F-0A1C-4FAC-9EB1-0F527919AFE7}" type="datetime1">
              <a:rPr lang="en-US"/>
              <a:t>07/30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76720" y="2325600"/>
            <a:ext cx="5715000" cy="3694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Dec. 2004 (14x17 inch 22-layer P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905120"/>
            <a:ext cx="3047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s, memory, 10GigE co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ct Fl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on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 po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 E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MI/D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K/module w/o FPGAs or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000" y="27936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1 Hardwa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6080" y="6095880"/>
            <a:ext cx="75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BEE2” for Berkeley Emulation Eng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228-6B4E-4F8A-917D-2B8FF14DE94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30277-D766-466E-8BBB-0A899ACE9608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7480" y="397800"/>
            <a:ext cx="8093880" cy="6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ple Module RAMP 1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0720" y="3809880"/>
            <a:ext cx="6026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compute modules (plus power supplies) in 8U rack mount chas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-1000 emulated process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opologie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U single module tray for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: disk emulator + Network Attached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ATXBlade"/>
          <p:cNvPicPr/>
          <p:nvPr/>
        </p:nvPicPr>
        <p:blipFill>
          <a:blip r:embed="rId1"/>
          <a:stretch/>
        </p:blipFill>
        <p:spPr>
          <a:xfrm>
            <a:off x="1371600" y="1447920"/>
            <a:ext cx="3114720" cy="2376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27304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CF7-395C-4FC2-90A4-56DFC47059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16CF7-3204-481F-927D-10C736700186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2837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onventional Wisdom: Power is free, Transistors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ventional Wisdom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Power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wer expensive, Xtors f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n put more on chip than can afford to turn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Sufficiently increasing Instruction Level Parallelism via compilers, innovation (Out-of-order, speculation, VLIW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ILP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w of diminishing returns on more HW for IL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Multiplies are slow, Memory access is f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“Memory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mory slow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es f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200 clock cycles to DRAM memory, 4 clocks for multip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Uniprocessor performance 2X / 1.5 y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Power Wall + ILP Wall + Memory Wall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rick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processor performance now 2X / 5(?) y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change in chip design: multiple “cores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X processors per chip / ~ 2 yea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impler processors are more power 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85760" y="17424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Conventional Wisdom in Comp. Arc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9E1-0D98-451F-8C9E-8A39A28222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B64B0-76D7-4DAD-B5B4-C6E5EBED7F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4360" y="16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ion: Multiprocessing Watering Ho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ttracts many communities to shared artifa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oss-disciplinary intera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lerate innovation in multi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s next Standard Research Platform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, VAX/BSD Unix in 1980s, x86/Linux in 1990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1598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76720" y="2573280"/>
            <a:ext cx="1828800" cy="3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Elephant"/>
              </a:rPr>
              <a:t>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720" y="29718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fil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8720" y="320040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9960" y="3429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rocessor switch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1560" y="365760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ult insertion to check depen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0760" y="2986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enter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1200" y="32148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net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24560" y="297180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flow language/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5400" y="32148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5600" y="3429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44200" y="34290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 to 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0040" y="36720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E36-7B7B-4098-B9CF-576ED6E19E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54FFB-BD2F-4EBD-AAD3-F30FE5C19BCD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pporters </a:t>
            </a:r>
            <a:r>
              <a:rPr b="1" i="1" lang="en-US" sz="2000" spc="-1" strike="noStrike">
                <a:solidFill>
                  <a:srgbClr val="0332b7"/>
                </a:solidFill>
                <a:latin typeface="Arial"/>
              </a:rPr>
              <a:t>(wrote letters to NSF) &amp; 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articipan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 Bell  (Microsof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o Bolsens  (Xilinx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 Jouppi  (HP Lab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Kramer  (NERSC/LB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Mundie  (MS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. Papadopoulos  (Sun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n Rattner  (Intel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Sutherland  (Sun Fel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ck Thacker  (Microsof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s Vissers  (Xilin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38240" y="10890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 Burg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Dally  (Stanfo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l Ebeling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an Eggers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 Keckl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g Morrisett  (Harva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Shenker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 Stoica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hy Yelick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0990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articipants: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rvind  (MIT), Krste Asanovíc (MIT), </a:t>
            </a:r>
            <a:br>
              <a:rPr sz="2000"/>
            </a:b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erek Chiou  (Texas), James Hoe  (CMU), Christos Kozyrakis  (Stanford), Shih-Lien Lu  (Intel), Mark Oskin  (Washington), David Patterson (Berkeley), Jan Rabaey  (Berkeley), and John Wawrzynek (Berkel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9FC-57EC-4705-AB4F-C384C1A544C2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92CB1-B72F-4D26-ACB9-56D42C0FBE48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MP as system-level time machine: preview computer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future to accelerate HW/SW gen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nything, Reproduce everything, Tape out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P new supercomputer overnight and boot in mo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 to check results (as fast in Berkeley as in Boston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ate Massive Multiprocessor, Data Center, or Distributed Comp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rpe Die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researchers (HW &amp; SW) need the cap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GA technology is ready today, and getting better every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 on shoulders vs. toes: standardize on multi-year Berkeley effort on FPGA platform Berkeley Emulation Engine 2 (BEE2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 researchers get opportunity to immediately aid colleagues via gateware (as SW researchers have done in pa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ramp.eecs.berkeley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sion “Multiprocessor Research Watering Hole” accelerate research in multiprocessing via standard research platform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hasten sea change from sequential to parallel compu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1676160" y="114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B39-3E18-4922-8FD6-CE7A2DB719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B745F-7AEB-43E1-BF43-C300D9BA60F0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rojects for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 of guest timing accounting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be able specify performance parameters (clock rate, memory latency, network latency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must accurately account for guest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want to slow down host execution time very mu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disk emulator for use in RA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itates disk, accesses network attached storage fo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ed after guest VM/driver VM from Xen V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cluster using components from opencores.org on BE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urce hardware consort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 emulator of an “Internet in a Box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ulab/Planetlab in a box is closer to re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37A-31A1-415A-98E2-84D1B1D50E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87EF7-4C91-435E-9F09-173CC063D0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ther projec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eate results from research paper to s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are reproduc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still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valuation of Niagara, new 8 core, 4 threads per core chip from S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 your own research project that is related to computer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239-6333-4A5A-B1F4-CC74D737B7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3D5B3-113C-4B72-9FDB-759B76431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480-7A57-41ED-BC48-95F93108C8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BD11A-D70F-42AD-9D8F-84CEC9E9B7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at Computer Architecture brings to T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C5B-4F05-46A2-8166-061598CFBE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9B30C-D345-487B-BC18-747214431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1) Taking Advantage of Parallelis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79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roughput of server computer via multiple processors or multipl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HW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Carry lookahead ad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parallelism to speed up computing sums from linear to logarithmic in number of bits per oper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Multiple memory ban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arched in parallel in set-associative c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Pipeli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verlap instruction execution to reduce the total time to complete an instruction sequ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very instruction depends on immediate predecess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xecuting instructions completely/partially in parallel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 5-stage pipelin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Instruction Fetch (Ifetch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Register Read (Reg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Execute (ALU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Data Memory Access (Dmem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Register Write (Re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CEF-3AE8-42BB-8906-841B614E97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6F0B1-D1C4-40FA-8BC3-42159B0E0B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6880" y="228240"/>
            <a:ext cx="755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Instruction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8920" y="1279440"/>
            <a:ext cx="7607160" cy="4969080"/>
            <a:chOff x="538920" y="1279440"/>
            <a:chExt cx="7607160" cy="4969080"/>
          </a:xfrm>
        </p:grpSpPr>
        <p:sp>
          <p:nvSpPr>
            <p:cNvPr id="336" name=""/>
            <p:cNvSpPr/>
            <p:nvPr/>
          </p:nvSpPr>
          <p:spPr>
            <a:xfrm>
              <a:off x="538920" y="22096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2286000"/>
              <a:ext cx="0" cy="302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14600" y="1279440"/>
              <a:ext cx="23749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ime (clock cyc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57480" y="1314360"/>
              <a:ext cx="14475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350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384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418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452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CE8-C931-40EB-B31C-E3898114A0A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E56DF-1A92-486F-9A66-0E88E90D4E02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pipelining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83720" y="13478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ttempt to use the same hardware to do two different things at o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33200" y="4390920"/>
            <a:ext cx="2926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27400" y="4425840"/>
            <a:ext cx="0" cy="139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32480" y="3808440"/>
            <a:ext cx="230472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9160" y="3979800"/>
            <a:ext cx="100656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86160" y="4146480"/>
            <a:ext cx="45705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619080" y="4353840"/>
            <a:ext cx="2826000" cy="435240"/>
            <a:chOff x="3619080" y="4353840"/>
            <a:chExt cx="2826000" cy="435240"/>
          </a:xfrm>
        </p:grpSpPr>
        <p:grpSp>
          <p:nvGrpSpPr>
            <p:cNvPr id="500" name=""/>
            <p:cNvGrpSpPr/>
            <p:nvPr/>
          </p:nvGrpSpPr>
          <p:grpSpPr>
            <a:xfrm>
              <a:off x="4300200" y="4455000"/>
              <a:ext cx="420120" cy="246240"/>
              <a:chOff x="4300200" y="4455000"/>
              <a:chExt cx="420120" cy="2462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4352040" y="4503240"/>
                <a:ext cx="311760" cy="169920"/>
                <a:chOff x="4352040" y="4503240"/>
                <a:chExt cx="311760" cy="169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4507920" y="450324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352040" y="450324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4300200" y="4455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664520" y="45374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4520" y="463860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946760" y="4353840"/>
              <a:ext cx="310680" cy="435240"/>
              <a:chOff x="4946760" y="4353840"/>
              <a:chExt cx="310680" cy="435240"/>
            </a:xfrm>
          </p:grpSpPr>
          <p:sp>
            <p:nvSpPr>
              <p:cNvPr id="508" name=""/>
              <p:cNvSpPr/>
              <p:nvPr/>
            </p:nvSpPr>
            <p:spPr>
              <a:xfrm rot="16200000">
                <a:off x="4960440" y="4455720"/>
                <a:ext cx="270720" cy="264240"/>
              </a:xfrm>
              <a:custGeom>
                <a:avLst/>
                <a:gdLst>
                  <a:gd name="textAreaLeft" fmla="*/ 59400 w 270720"/>
                  <a:gd name="textAreaRight" fmla="*/ 211320 w 27072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400000">
                <a:off x="4973400" y="45169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5400000">
                <a:off x="4979520" y="453312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6200000">
                <a:off x="4916520" y="44481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23044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2732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349960" y="4455000"/>
              <a:ext cx="592200" cy="246240"/>
              <a:chOff x="5349960" y="4455000"/>
              <a:chExt cx="592200" cy="246240"/>
            </a:xfrm>
          </p:grpSpPr>
          <p:sp>
            <p:nvSpPr>
              <p:cNvPr id="515" name=""/>
              <p:cNvSpPr/>
              <p:nvPr/>
            </p:nvSpPr>
            <p:spPr>
              <a:xfrm>
                <a:off x="5492160" y="450360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49960" y="4455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450400" y="458820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26960" y="46393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84480" y="45374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619080" y="4455000"/>
              <a:ext cx="557280" cy="246240"/>
              <a:chOff x="3619080" y="4455000"/>
              <a:chExt cx="557280" cy="246240"/>
            </a:xfrm>
          </p:grpSpPr>
          <p:sp>
            <p:nvSpPr>
              <p:cNvPr id="521" name=""/>
              <p:cNvSpPr/>
              <p:nvPr/>
            </p:nvSpPr>
            <p:spPr>
              <a:xfrm>
                <a:off x="3740760" y="450360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19080" y="4455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152240" y="4427280"/>
              <a:ext cx="1829880" cy="321480"/>
              <a:chOff x="4152240" y="4427280"/>
              <a:chExt cx="1829880" cy="321480"/>
            </a:xfrm>
          </p:grpSpPr>
          <p:sp>
            <p:nvSpPr>
              <p:cNvPr id="524" name=""/>
              <p:cNvSpPr/>
              <p:nvPr/>
            </p:nvSpPr>
            <p:spPr>
              <a:xfrm>
                <a:off x="474120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912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5224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330160" y="44290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024960" y="4448880"/>
              <a:ext cx="420120" cy="246240"/>
              <a:chOff x="6024960" y="4448880"/>
              <a:chExt cx="420120" cy="2462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82920" y="4497120"/>
                <a:ext cx="314280" cy="169920"/>
                <a:chOff x="6082920" y="4497120"/>
                <a:chExt cx="314280" cy="169920"/>
              </a:xfrm>
            </p:grpSpPr>
            <p:sp>
              <p:nvSpPr>
                <p:cNvPr id="530" name=""/>
                <p:cNvSpPr/>
                <p:nvPr/>
              </p:nvSpPr>
              <p:spPr>
                <a:xfrm flipH="1">
                  <a:off x="6082920" y="4497120"/>
                  <a:ext cx="15696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6082560" y="4497120"/>
                  <a:ext cx="31428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 flipH="1">
                <a:off x="6024600" y="4448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211280" y="4773600"/>
            <a:ext cx="2827440" cy="435240"/>
            <a:chOff x="4211280" y="4773600"/>
            <a:chExt cx="2827440" cy="435240"/>
          </a:xfrm>
        </p:grpSpPr>
        <p:grpSp>
          <p:nvGrpSpPr>
            <p:cNvPr id="534" name=""/>
            <p:cNvGrpSpPr/>
            <p:nvPr/>
          </p:nvGrpSpPr>
          <p:grpSpPr>
            <a:xfrm>
              <a:off x="4893120" y="4874760"/>
              <a:ext cx="420120" cy="246240"/>
              <a:chOff x="4893120" y="4874760"/>
              <a:chExt cx="420120" cy="24624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944600" y="4922640"/>
                <a:ext cx="312120" cy="170280"/>
                <a:chOff x="4944600" y="4922640"/>
                <a:chExt cx="312120" cy="1702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100840" y="4922640"/>
                  <a:ext cx="15588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44600" y="4922640"/>
                  <a:ext cx="31212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4893120" y="4874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5257440" y="49568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7440" y="505872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39680" y="4773600"/>
              <a:ext cx="310680" cy="435240"/>
              <a:chOff x="5539680" y="4773600"/>
              <a:chExt cx="310680" cy="435240"/>
            </a:xfrm>
          </p:grpSpPr>
          <p:sp>
            <p:nvSpPr>
              <p:cNvPr id="542" name=""/>
              <p:cNvSpPr/>
              <p:nvPr/>
            </p:nvSpPr>
            <p:spPr>
              <a:xfrm rot="16200000">
                <a:off x="5552640" y="4875120"/>
                <a:ext cx="271800" cy="264240"/>
              </a:xfrm>
              <a:custGeom>
                <a:avLst/>
                <a:gdLst>
                  <a:gd name="textAreaLeft" fmla="*/ 59760 w 271800"/>
                  <a:gd name="textAreaRight" fmla="*/ 212040 w 27180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400000">
                <a:off x="5566320" y="493668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400000">
                <a:off x="5572440" y="495324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6200000">
                <a:off x="5509440" y="4867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823360" y="500832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0960" y="500832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945040" y="4874760"/>
              <a:ext cx="592200" cy="246240"/>
              <a:chOff x="5945040" y="4874760"/>
              <a:chExt cx="592200" cy="246240"/>
            </a:xfrm>
          </p:grpSpPr>
          <p:sp>
            <p:nvSpPr>
              <p:cNvPr id="549" name=""/>
              <p:cNvSpPr/>
              <p:nvPr/>
            </p:nvSpPr>
            <p:spPr>
              <a:xfrm>
                <a:off x="6086160" y="4923000"/>
                <a:ext cx="31356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5040" y="48747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043680" y="5008320"/>
              <a:ext cx="468720" cy="1353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19160" y="505944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7040" y="49568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211280" y="4874760"/>
              <a:ext cx="557280" cy="246240"/>
              <a:chOff x="4211280" y="4874760"/>
              <a:chExt cx="557280" cy="246240"/>
            </a:xfrm>
          </p:grpSpPr>
          <p:sp>
            <p:nvSpPr>
              <p:cNvPr id="555" name=""/>
              <p:cNvSpPr/>
              <p:nvPr/>
            </p:nvSpPr>
            <p:spPr>
              <a:xfrm>
                <a:off x="4332960" y="4923000"/>
                <a:ext cx="31392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11280" y="48747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744800" y="4846320"/>
              <a:ext cx="1830960" cy="322560"/>
              <a:chOff x="4744800" y="4846320"/>
              <a:chExt cx="1830960" cy="322560"/>
            </a:xfrm>
          </p:grpSpPr>
          <p:sp>
            <p:nvSpPr>
              <p:cNvPr id="558" name=""/>
              <p:cNvSpPr/>
              <p:nvPr/>
            </p:nvSpPr>
            <p:spPr>
              <a:xfrm>
                <a:off x="533412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276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4480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23440" y="4848120"/>
                <a:ext cx="61920" cy="3182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618600" y="4868640"/>
              <a:ext cx="420120" cy="246240"/>
              <a:chOff x="6618600" y="4868640"/>
              <a:chExt cx="420120" cy="24624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6675840" y="4916520"/>
                <a:ext cx="314640" cy="170280"/>
                <a:chOff x="6675840" y="4916520"/>
                <a:chExt cx="314640" cy="170280"/>
              </a:xfrm>
            </p:grpSpPr>
            <p:sp>
              <p:nvSpPr>
                <p:cNvPr id="564" name=""/>
                <p:cNvSpPr/>
                <p:nvPr/>
              </p:nvSpPr>
              <p:spPr>
                <a:xfrm flipH="1">
                  <a:off x="6675480" y="4916520"/>
                  <a:ext cx="15732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6675840" y="4916520"/>
                  <a:ext cx="31464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 flipH="1">
                <a:off x="6618240" y="48686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4793760" y="5158080"/>
            <a:ext cx="2827440" cy="435240"/>
            <a:chOff x="4793760" y="5158080"/>
            <a:chExt cx="2827440" cy="435240"/>
          </a:xfrm>
        </p:grpSpPr>
        <p:grpSp>
          <p:nvGrpSpPr>
            <p:cNvPr id="568" name=""/>
            <p:cNvGrpSpPr/>
            <p:nvPr/>
          </p:nvGrpSpPr>
          <p:grpSpPr>
            <a:xfrm>
              <a:off x="5475600" y="5259240"/>
              <a:ext cx="420120" cy="246240"/>
              <a:chOff x="5475600" y="5259240"/>
              <a:chExt cx="420120" cy="2462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527080" y="5307480"/>
                <a:ext cx="312120" cy="169560"/>
                <a:chOff x="5527080" y="5307480"/>
                <a:chExt cx="312120" cy="169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683320" y="5307480"/>
                  <a:ext cx="15588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27080" y="5307480"/>
                  <a:ext cx="31212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475600" y="5259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839920" y="53420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39920" y="544320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122160" y="5158080"/>
              <a:ext cx="310680" cy="435240"/>
              <a:chOff x="6122160" y="5158080"/>
              <a:chExt cx="310680" cy="435240"/>
            </a:xfrm>
          </p:grpSpPr>
          <p:sp>
            <p:nvSpPr>
              <p:cNvPr id="576" name=""/>
              <p:cNvSpPr/>
              <p:nvPr/>
            </p:nvSpPr>
            <p:spPr>
              <a:xfrm rot="16200000">
                <a:off x="6135840" y="5259600"/>
                <a:ext cx="270360" cy="264240"/>
              </a:xfrm>
              <a:custGeom>
                <a:avLst/>
                <a:gdLst>
                  <a:gd name="textAreaLeft" fmla="*/ 59400 w 270360"/>
                  <a:gd name="textAreaRight" fmla="*/ 210960 w 27036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6149160" y="5321880"/>
                <a:ext cx="8712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6154920" y="533808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6091920" y="5252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405840" y="53931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3440" y="539316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527520" y="5259600"/>
              <a:ext cx="592200" cy="246240"/>
              <a:chOff x="6527520" y="5259600"/>
              <a:chExt cx="592200" cy="246240"/>
            </a:xfrm>
          </p:grpSpPr>
          <p:sp>
            <p:nvSpPr>
              <p:cNvPr id="583" name=""/>
              <p:cNvSpPr/>
              <p:nvPr/>
            </p:nvSpPr>
            <p:spPr>
              <a:xfrm>
                <a:off x="6668640" y="530856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7520" y="5259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626160" y="5393160"/>
              <a:ext cx="468720" cy="13464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1640" y="544428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59520" y="53420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793760" y="5259600"/>
              <a:ext cx="557280" cy="246240"/>
              <a:chOff x="4793760" y="5259600"/>
              <a:chExt cx="55728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4915440" y="530856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93760" y="5259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327280" y="5231880"/>
              <a:ext cx="1830960" cy="321480"/>
              <a:chOff x="5327280" y="5231880"/>
              <a:chExt cx="1830960" cy="321480"/>
            </a:xfrm>
          </p:grpSpPr>
          <p:sp>
            <p:nvSpPr>
              <p:cNvPr id="592" name=""/>
              <p:cNvSpPr/>
              <p:nvPr/>
            </p:nvSpPr>
            <p:spPr>
              <a:xfrm>
                <a:off x="591660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9524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2728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05920" y="52336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201080" y="5253480"/>
              <a:ext cx="420120" cy="246240"/>
              <a:chOff x="7201080" y="5253480"/>
              <a:chExt cx="420120" cy="24624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258320" y="5301720"/>
                <a:ext cx="314640" cy="169560"/>
                <a:chOff x="7258320" y="5301720"/>
                <a:chExt cx="314640" cy="169560"/>
              </a:xfrm>
            </p:grpSpPr>
            <p:sp>
              <p:nvSpPr>
                <p:cNvPr id="598" name=""/>
                <p:cNvSpPr/>
                <p:nvPr/>
              </p:nvSpPr>
              <p:spPr>
                <a:xfrm flipH="1">
                  <a:off x="7257960" y="5301720"/>
                  <a:ext cx="15732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7258320" y="5301720"/>
                  <a:ext cx="31464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 flipH="1">
                <a:off x="7200720" y="52534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376600" y="5546880"/>
            <a:ext cx="2827080" cy="435240"/>
            <a:chOff x="5376600" y="5546880"/>
            <a:chExt cx="2827080" cy="435240"/>
          </a:xfrm>
        </p:grpSpPr>
        <p:grpSp>
          <p:nvGrpSpPr>
            <p:cNvPr id="602" name=""/>
            <p:cNvGrpSpPr/>
            <p:nvPr/>
          </p:nvGrpSpPr>
          <p:grpSpPr>
            <a:xfrm>
              <a:off x="6057720" y="5645880"/>
              <a:ext cx="420120" cy="246240"/>
              <a:chOff x="6057720" y="5645880"/>
              <a:chExt cx="420120" cy="24624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109560" y="5694120"/>
                <a:ext cx="311760" cy="169920"/>
                <a:chOff x="6109560" y="5694120"/>
                <a:chExt cx="311760" cy="1699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265440" y="569412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109560" y="569412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057720" y="5645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6422760" y="572868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22760" y="58298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705000" y="5546880"/>
              <a:ext cx="310680" cy="435240"/>
              <a:chOff x="6705000" y="5546880"/>
              <a:chExt cx="310680" cy="435240"/>
            </a:xfrm>
          </p:grpSpPr>
          <p:sp>
            <p:nvSpPr>
              <p:cNvPr id="610" name=""/>
              <p:cNvSpPr/>
              <p:nvPr/>
            </p:nvSpPr>
            <p:spPr>
              <a:xfrm rot="16200000">
                <a:off x="6718320" y="5646960"/>
                <a:ext cx="271440" cy="264240"/>
              </a:xfrm>
              <a:custGeom>
                <a:avLst/>
                <a:gdLst>
                  <a:gd name="textAreaLeft" fmla="*/ 59760 w 271440"/>
                  <a:gd name="textAreaRight" fmla="*/ 211680 w 27144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5400000">
                <a:off x="6731640" y="57085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5400000">
                <a:off x="6737760" y="572508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6674760" y="56412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988680" y="577944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85920" y="577944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110000" y="5646240"/>
              <a:ext cx="592200" cy="246240"/>
              <a:chOff x="7110000" y="5646240"/>
              <a:chExt cx="592200" cy="246240"/>
            </a:xfrm>
          </p:grpSpPr>
          <p:sp>
            <p:nvSpPr>
              <p:cNvPr id="617" name=""/>
              <p:cNvSpPr/>
              <p:nvPr/>
            </p:nvSpPr>
            <p:spPr>
              <a:xfrm>
                <a:off x="7251120" y="5694840"/>
                <a:ext cx="31356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10000" y="5646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209000" y="577944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84480" y="58309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42360" y="572868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376600" y="5646240"/>
              <a:ext cx="557280" cy="246240"/>
              <a:chOff x="5376600" y="5646240"/>
              <a:chExt cx="557280" cy="246240"/>
            </a:xfrm>
          </p:grpSpPr>
          <p:sp>
            <p:nvSpPr>
              <p:cNvPr id="623" name=""/>
              <p:cNvSpPr/>
              <p:nvPr/>
            </p:nvSpPr>
            <p:spPr>
              <a:xfrm>
                <a:off x="5498280" y="5694840"/>
                <a:ext cx="31392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76600" y="5646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910120" y="5618160"/>
              <a:ext cx="1830960" cy="322200"/>
              <a:chOff x="5910120" y="5618160"/>
              <a:chExt cx="1830960" cy="322200"/>
            </a:xfrm>
          </p:grpSpPr>
          <p:sp>
            <p:nvSpPr>
              <p:cNvPr id="626" name=""/>
              <p:cNvSpPr/>
              <p:nvPr/>
            </p:nvSpPr>
            <p:spPr>
              <a:xfrm>
                <a:off x="649944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7808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1012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88760" y="5619960"/>
                <a:ext cx="61920" cy="317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783560" y="5639760"/>
              <a:ext cx="420120" cy="246240"/>
              <a:chOff x="7783560" y="5639760"/>
              <a:chExt cx="420120" cy="246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7840800" y="5688000"/>
                <a:ext cx="314640" cy="169920"/>
                <a:chOff x="7840800" y="5688000"/>
                <a:chExt cx="314640" cy="169920"/>
              </a:xfrm>
            </p:grpSpPr>
            <p:sp>
              <p:nvSpPr>
                <p:cNvPr id="632" name=""/>
                <p:cNvSpPr/>
                <p:nvPr/>
              </p:nvSpPr>
              <p:spPr>
                <a:xfrm flipH="1">
                  <a:off x="7840440" y="5688000"/>
                  <a:ext cx="15732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7840800" y="5688000"/>
                  <a:ext cx="31464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 flipH="1">
                <a:off x="7783200" y="5639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41799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244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6280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277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1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28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97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1C4-EC9D-4B36-ACE7-AD2BBEC6C0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F5D41-F4E0-41D4-BEB7-965F21192927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055520"/>
          <a:ext cx="914400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5520"/>
                    <a:ext cx="9144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6308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Uniprocessor Performanc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1560" y="5452920"/>
            <a:ext cx="488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: 25%/year 1978 to 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52%/year 1986 t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??%/year 2002 to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4080" y="1413000"/>
            <a:ext cx="34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ennessy and Patterso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uter Architecture: A Quantitative Approa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4th edition, 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4AD-885D-4C74-A879-72AAD908AE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04095-4224-45D9-9BCD-78C43CF03B23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9200" y="501480"/>
            <a:ext cx="7572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2) The Principle of Loca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6200" y="1274400"/>
            <a:ext cx="8248680" cy="25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ciple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ccess a relatively small portion of the address space at any instant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fferent Types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empor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Time): If an item is referenced, it will tend to be referenced again soon (e.g., loops, reu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pati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Space): If an item is referenced, items whose addresses are close by tend to be referenced so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straight-line code, arra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30 years, HW  relied on locality for memory per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80880" y="5211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32560" y="51688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06680" y="521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79720" y="516240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33880" y="516744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57600" y="4778280"/>
            <a:ext cx="1104840" cy="125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28800" y="5427720"/>
            <a:ext cx="4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13200" y="5432400"/>
            <a:ext cx="633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69000" y="4630680"/>
            <a:ext cx="1326240" cy="30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7AE-F227-4E18-A8B2-46EB66F6C79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D3DD0-0B44-4E04-A1E0-8E0274837FA4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97000" y="169920"/>
            <a:ext cx="647208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evels of the Memory Hierarch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160" y="1150920"/>
            <a:ext cx="215424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PU 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s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00 – 500 ps (0.3-0.5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4680" y="2038320"/>
            <a:ext cx="15768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1 and L2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-100s 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1 ns - ~10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$1000s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520" y="3276720"/>
            <a:ext cx="1337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0ns- 200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00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8600" y="4419720"/>
            <a:ext cx="1764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 T Bytes, 10 m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0,000,000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1160" y="461880"/>
            <a:ext cx="206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ces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8400" y="5638680"/>
            <a:ext cx="11332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c-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36840" y="1150920"/>
            <a:ext cx="11462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44760" y="1216080"/>
            <a:ext cx="119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3040" y="196992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1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99480" y="3606840"/>
            <a:ext cx="1076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25760" y="4673520"/>
            <a:ext cx="622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0360" y="5816520"/>
            <a:ext cx="678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1905120"/>
            <a:ext cx="1505160" cy="4125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03520" y="3517920"/>
            <a:ext cx="287028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70000" y="4584600"/>
            <a:ext cx="393696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65440" y="5651640"/>
            <a:ext cx="4698720" cy="50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16016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3166920"/>
            <a:ext cx="0" cy="3319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044960"/>
            <a:ext cx="0" cy="5205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5111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0960" y="1593720"/>
            <a:ext cx="1816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. Ope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70440" y="236232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48840" y="4140360"/>
            <a:ext cx="77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86280" y="5207040"/>
            <a:ext cx="60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06560" y="646200"/>
            <a:ext cx="880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t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Xfer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47280" y="1492200"/>
            <a:ext cx="1451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g./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-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71200" y="2230560"/>
            <a:ext cx="112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-6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54360" y="4013280"/>
            <a:ext cx="1159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K-8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57880" y="5079960"/>
            <a:ext cx="1377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ser/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6120" y="1144440"/>
            <a:ext cx="1488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92520" y="5816520"/>
            <a:ext cx="1492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Low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848720" y="1841400"/>
            <a:ext cx="0" cy="380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27840" y="1606680"/>
            <a:ext cx="750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458200" y="1903320"/>
            <a:ext cx="0" cy="342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89920" y="5435640"/>
            <a:ext cx="83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49800" y="273996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2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2600" y="2651040"/>
            <a:ext cx="195552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2960" y="2324160"/>
            <a:ext cx="0" cy="355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60040" y="3048120"/>
            <a:ext cx="122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4-12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03920" y="319248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4EC-D4C6-4B17-B0CD-F7D9FC4EF5F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D7DFD-E15C-4427-87E0-7CAAABB8FC2D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3) Focus on the Common Cas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945560" cy="51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ense guides compute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s engineering, common sense is valu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king a design trade-off, favor the frequent case over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nstruction fetch and decode unit used more frequently than multiplier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f database server has 50 disks / processor, storage dependability dominates system dependability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t case is often simpler and can be done faster than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verflow is rare when adding 2 numbers, so improve performance by optimizing more common case of no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slow down overflow, but overall performance improved by optimizing for the normal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frequent case and how much performance improved by making case faster =&gt;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mdahl’s L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FFE-4A57-4D9C-B396-0AFB170B0B9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B5DBA-53DD-444A-B773-E4CD0B2B3A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4) Amdahl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33520" y="2743200"/>
                <a:ext cx="815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a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51800" y="41148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est you could ever hope to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09680" y="4648320"/>
                <a:ext cx="461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imu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609480" y="1295280"/>
                <a:ext cx="769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1219320" y="5867280"/>
            <a:ext cx="6997680" cy="368280"/>
            <a:chOff x="1219320" y="5867280"/>
            <a:chExt cx="6997680" cy="368280"/>
          </a:xfrm>
        </p:grpSpPr>
        <p:sp>
          <p:nvSpPr>
            <p:cNvPr id="703" name=""/>
            <p:cNvSpPr/>
            <p:nvPr/>
          </p:nvSpPr>
          <p:spPr>
            <a:xfrm>
              <a:off x="12193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86000" y="5867280"/>
              <a:ext cx="10540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5268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8640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3080" y="5867280"/>
              <a:ext cx="5968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60920" y="608940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B96-33AF-4669-AC42-4D65521A39B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DD540-881E-4630-839D-F6D838079C57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mdahl’s Law 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999560" cy="10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PU 10X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und server, so 60% time waiting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2347920"/>
                <a:ext cx="690588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u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eral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edu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863640" y="5029200"/>
            <a:ext cx="7999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rently, its human nature to be attracted by 10X faster, vs. keeping in perspective its just 1.6X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ECB-A5AA-417C-BDAC-9C8DF08E078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C7B5D-AC00-4DF6-9A64-A908F1B050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) Processor performance equ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838080" y="1676520"/>
            <a:ext cx="7696080" cy="873360"/>
            <a:chOff x="838080" y="1676520"/>
            <a:chExt cx="7696080" cy="873360"/>
          </a:xfrm>
        </p:grpSpPr>
        <p:sp>
          <p:nvSpPr>
            <p:cNvPr id="716" name=""/>
            <p:cNvSpPr/>
            <p:nvPr/>
          </p:nvSpPr>
          <p:spPr>
            <a:xfrm>
              <a:off x="838080" y="1676520"/>
              <a:ext cx="7696080" cy="87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 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 Seconds    =   Instructions  x    Cycles     x   Sec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Program          Instruction      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76440" y="19620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14800" y="1987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03920" y="2012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70560" y="1987560"/>
              <a:ext cx="9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2514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 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. Se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092400" y="240624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51360" y="245736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43600" y="241920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02520" y="2419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68560" y="342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9480" y="410832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9480" y="483876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8560" y="549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87280" y="6165720"/>
            <a:ext cx="688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0400" y="2832120"/>
            <a:ext cx="694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0880"/>
            <a:ext cx="968400" cy="838440"/>
          </a:xfrm>
          <a:custGeom>
            <a:avLst/>
            <a:gdLst/>
            <a:ahLst/>
            <a:rect l="l" t="t" r="r" b="b"/>
            <a:pathLst>
              <a:path w="610" h="528">
                <a:moveTo>
                  <a:pt x="0" y="528"/>
                </a:moveTo>
                <a:lnTo>
                  <a:pt x="305" y="0"/>
                </a:lnTo>
                <a:lnTo>
                  <a:pt x="610" y="528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32800" y="118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inst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98840" y="763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545600" y="1219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ycl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03C-0142-44A9-8C81-4644FB8E744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7072B-5AF2-4F88-B4E4-1BD75E5C4D84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hat’s a Clock Cycle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ays: 10 levels of 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determined by numerous time-of-flight issues + gate del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propagation, wire lengths, 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1371600"/>
            <a:ext cx="3812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1447920"/>
            <a:ext cx="1981080" cy="167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13640" y="1828800"/>
            <a:ext cx="10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9520" y="1828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5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2200" y="1371600"/>
            <a:ext cx="3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8640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09720" y="190512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3505320"/>
            <a:ext cx="5562360" cy="380880"/>
          </a:xfrm>
          <a:custGeom>
            <a:avLst/>
            <a:gdLst/>
            <a:ahLst/>
            <a:rect l="l" t="t" r="r" b="b"/>
            <a:pathLst>
              <a:path w="3504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  <a:lnTo>
                  <a:pt x="1248" y="0"/>
                </a:lnTo>
                <a:lnTo>
                  <a:pt x="1248" y="240"/>
                </a:lnTo>
                <a:lnTo>
                  <a:pt x="2976" y="240"/>
                </a:lnTo>
                <a:lnTo>
                  <a:pt x="2976" y="0"/>
                </a:lnTo>
                <a:lnTo>
                  <a:pt x="35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5909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5530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676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1EE-FE8E-4053-B748-277B8B2BC45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12D11-FFAA-4AA1-B0C2-3598C10125EE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Chapter 1, then Appendix A, record bu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154-853F-4584-B80B-BEB9F2954D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CB292-DB60-4DE6-A14E-E3230AB5A6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a Change in Chip Desig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33640"/>
            <a:ext cx="5997600" cy="12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l 4004 (1971): 4-bit processor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12 transistors, 0.4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 micron PMOS, 11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41308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422800" cy="175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1640" y="5696640"/>
            <a:ext cx="69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b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b4"/>
                </a:solidFill>
                <a:latin typeface="Arial"/>
              </a:rPr>
              <a:t>Processor is the new transistor?</a:t>
            </a:r>
            <a:r>
              <a:rPr b="1" lang="en-US" sz="3200" spc="-1" strike="noStrike">
                <a:solidFill>
                  <a:srgbClr val="0000b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62320"/>
            <a:ext cx="79675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ISC II (1983): 32-bit, 5 stage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peline, 40,760 transistors, 3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 micron NMOS, 60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75160"/>
            <a:ext cx="832788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5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, 0.065 micron CMOS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= 2312 RISC II+FPU+Icache+D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C II shrinks to ~ 0.02 m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65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s via DRAM or 1 transistor SRAM (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www.t-ram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Communication via capacitive coupling at &gt; 1 TB/s 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van Sutherland @ Sun / Berkel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B91-EB91-4FDE-AA36-6EA808FE83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B7EC9-4BBC-4F92-BB64-F291F6378784}" type="datetime1">
              <a:rPr lang="en-US"/>
              <a:t>07/30/2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4160" y="-36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éjà vu all over again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ultiprocessors imminent in 1970s, ‘80s, ‘90s, 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…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today’s processors … are nearing an impasse as technologies approach the speed of light..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avid Mitchell,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The Transputer: The Time Is Now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1989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nsputer was premature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ustom multiprocessors strove to lead uniprocesso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rewarded: 2X seq. perf. / 1.5 yea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We are dedicating all of our future product development to multicore designs. … This is a sea change in computing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ul Otellini, President, Intel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200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fference is all microprocessor companies switch to multiprocessors (AMD, Intel, IBM, Sun; all new Apples 2 CPUs)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penalized: 2X sequential perf. / 5 y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Biggest programming challenge: 1 to 2 CPUs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54800" y="0"/>
            <a:ext cx="1789200" cy="10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3D9-4FC0-4085-A692-5AAB8D5099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06E43-4F0B-4833-9FC7-9F10DA193BB3}" type="datetime1">
              <a:rPr lang="en-US"/>
              <a:t>07/30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Sea Change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s, Programming Languages, Compilers, Operating Systems, Architectures, Libraries, … not ready to supply Thread Level Parallelism or Data Level Parallelism for 1000 CPUs / chip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s not ready for 1000 CPUs /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Instruction Level Parallelism, cannot be solved by just by computer architects and compiler writers alone, but also cannot be solved 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rticipation of computer archit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dition of CS 252 (and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tion of textbook Computer Architecture: A Quantitative Approach) explores shift from Instruction Level Parallelism to Thread Level Parallelism / Data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5E4-E02B-4C90-A1A9-0D20045DD0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B6309-ADB0-4674-8669-29529A59924C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A1F-3676-44DA-BB54-B0F5FCCBDB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1192D-F094-4A01-B730-CFCADEEEEC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79520"/>
            <a:ext cx="8897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: Critical Interfa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01760" y="2635200"/>
            <a:ext cx="66927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0040" y="126360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86200" y="156204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171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1718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4764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733560" y="217188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25527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79064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91120" y="1790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714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14800" y="15620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11640" y="133992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638360"/>
            <a:ext cx="75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05520" y="224784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4764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247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238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232416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480" y="186696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952520" y="201924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028840" y="1790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800240" y="16380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81480" y="14857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885840" y="1409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52320" y="3085920"/>
            <a:ext cx="2362680" cy="1390680"/>
            <a:chOff x="3352320" y="3085920"/>
            <a:chExt cx="2362680" cy="1390680"/>
          </a:xfrm>
        </p:grpSpPr>
        <p:sp>
          <p:nvSpPr>
            <p:cNvPr id="103" name=""/>
            <p:cNvSpPr/>
            <p:nvPr/>
          </p:nvSpPr>
          <p:spPr>
            <a:xfrm>
              <a:off x="4216320" y="3166560"/>
              <a:ext cx="635040" cy="3826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419720" y="3388320"/>
              <a:ext cx="7596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38832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388320"/>
              <a:ext cx="763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326736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43400" y="326736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886200" y="4416120"/>
              <a:ext cx="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569760"/>
              <a:ext cx="0" cy="483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4053240"/>
              <a:ext cx="38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405324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05520" y="4355280"/>
              <a:ext cx="7596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191120" y="4053240"/>
              <a:ext cx="38088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038480" y="411372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885840" y="447660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3569760"/>
              <a:ext cx="5335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085920"/>
              <a:ext cx="380880" cy="54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800" y="3630240"/>
              <a:ext cx="45720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581280" y="3086280"/>
              <a:ext cx="533520" cy="60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232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669840" y="2717640"/>
            <a:ext cx="1703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040" y="1816200"/>
            <a:ext cx="106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400" y="3720960"/>
            <a:ext cx="1142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520" y="4788000"/>
            <a:ext cx="7683480" cy="17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of a good abs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s through many generations (port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 many different ways (gener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nven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unctionality to high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s a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tion at low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F85-431C-44C8-8446-D64EC11974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D7838-14F5-4886-8E6D-E8FD730D75FD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5:15:10Z</dcterms:modified>
  <cp:revision>57</cp:revision>
  <dc:subject/>
  <dc:title>EECS 252 Graduate Computer Architecture   Lec 01 - Introduction  </dc:title>
</cp:coreProperties>
</file>