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2680" y="2196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t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01680" y="2196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2680" y="871488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b">
            <a:noAutofit/>
          </a:bodyPr>
          <a:lstStyle>
            <a:lvl1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3901680" y="871488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8A88FE39-E23B-487A-9E0C-2387FC94178E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93960" y="8713800"/>
            <a:ext cx="1271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DAE95D-180B-422D-908C-42F577056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400040" y="879120"/>
            <a:ext cx="4057920" cy="304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3EDD-F9B5-4D77-8B0B-629D861B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9E5C-793B-4EEF-93E1-45C01D93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D2F-F2BE-498D-9F4D-AB8E7DF3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BB70-C2DF-4B81-81E7-CCD50E47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549D-817D-4DB9-90B4-080A55AC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5FE-DCDF-4CDE-BFCA-308859AF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7FA-AF58-4460-86B4-3B9159A0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CF2-AE4E-4D9E-B5EB-46126F15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A8E-B11A-44AE-8114-ABFB5D15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45C4-6107-4349-A900-DC6B2186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BCA1-5C58-45EE-B558-C842DAC1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4F8-3CA6-4F0C-A1B9-1A2352C0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B5BE-0058-4955-BAD9-9CF8C4C2B76A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39CA-DDB7-45AD-A840-B901A1628D60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8 – Instruction Level Parallelism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3560" y="4289400"/>
            <a:ext cx="7662960" cy="18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vlsi.cs.berkeley.edu/cs252-s0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2944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order Buffer oper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2000" y="1066320"/>
            <a:ext cx="8982000" cy="437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ds instructions in FIFO order, exactly as issu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structions complete, results placed into R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ies operands to other instruction between executio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&amp; commi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re registers like 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 results with ROB buffer number instead of reservation s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mmi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s at head of ROB placed in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a result, easy to und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ed instructio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mispredicted branches </a:t>
            </a:r>
            <a:br>
              <a:rPr sz="2400"/>
            </a:b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or on ex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029200" y="3352680"/>
            <a:ext cx="3733200" cy="3047760"/>
            <a:chOff x="5029200" y="3352680"/>
            <a:chExt cx="3733200" cy="3047760"/>
          </a:xfrm>
        </p:grpSpPr>
        <p:sp>
          <p:nvSpPr>
            <p:cNvPr id="72" name=""/>
            <p:cNvSpPr/>
            <p:nvPr/>
          </p:nvSpPr>
          <p:spPr>
            <a:xfrm>
              <a:off x="6867000" y="3540600"/>
              <a:ext cx="1497960" cy="857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95400" y="3958920"/>
              <a:ext cx="685440" cy="967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7160" y="5872320"/>
              <a:ext cx="945000" cy="19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 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20440" y="5872320"/>
              <a:ext cx="945000" cy="19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 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97960" y="5511600"/>
              <a:ext cx="130788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 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13080" y="5511600"/>
              <a:ext cx="130788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 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29200" y="6364080"/>
              <a:ext cx="3693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733960" y="3363120"/>
              <a:ext cx="0" cy="297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7627320" y="3352680"/>
              <a:ext cx="113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27680" y="3352680"/>
              <a:ext cx="0" cy="18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29840" y="6076440"/>
              <a:ext cx="0" cy="29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75840" y="6107760"/>
              <a:ext cx="0" cy="29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95280" y="4947120"/>
              <a:ext cx="0" cy="5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06800" y="5156280"/>
              <a:ext cx="1757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27680" y="517212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7680" y="4419360"/>
              <a:ext cx="0" cy="71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7529400" y="5156280"/>
              <a:ext cx="1215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97400" y="4552200"/>
              <a:ext cx="1013760" cy="402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 Re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714400" y="49752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mmi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373640" y="4451400"/>
            <a:ext cx="3200400" cy="6760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487E-05B8-4BFE-9F7B-22B7CC9C49E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B6C53-F6AE-4BB5-80E7-C7CBA27C3DE9}" type="datetime1">
              <a:rPr lang="en-US"/>
              <a:t>07/30/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call: 4 Steps of Speculative Tomasulo Algorithm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6080" y="1517760"/>
            <a:ext cx="7823160" cy="434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ss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get instruction from FP Op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reservation station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and reorder buffer sl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ee, issue instr &amp; send operands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&amp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reorder buffer no. for destin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this stage sometimes called “dispatch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operate on operands (E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both operands ready then execute; if not ready, watch CDB for result; when both in reservation station, execute; checks RAW (sometimes called “issue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rite 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finish execution (W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on Common Data Bus to all awaiting FUs </a:t>
            </a:r>
            <a:br>
              <a:rPr sz="1800"/>
            </a:b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&amp; reorder buff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mark reservation station avail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mmit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—update register with reorder res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When instr. at head of reorder buffer &amp; result present, update register with result (or store to memory) and remove instr from reorder buffer. Mispredicted branch flushes reorder buffer (sometimes called “graduation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5F0D-8567-4F96-A15E-EDB0EDB652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23CF4-3980-4930-98F6-47321315C8B2}" type="datetime1">
              <a:rPr lang="en-US"/>
              <a:t>07/30/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867800" cy="54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Page project writeups Due LAST Sun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 Reading Assignment: Chapter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iday Reading Assignment: Dean Tullsen, Susan Eggers, and Hank Levy. “Simultaneous Multithreading: Maximizing OnChip Parallelism.” ISCA 22, June 199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30 minute discussion after one hour lecture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email to TA by Friday, will be posted on Saturday, review before discussion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an Eggers took CS252 here; just elected to National Academy of Engineer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ssumption made about computer organization before add SMT? How compare to Wall’s claims of ILP limits? What changes made to add SMT? What performance advantages claimed? For what workload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3549-0FFB-4937-B286-2ABDA90230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658DB-7F9C-4D66-87B6-EF8DAD4CFA93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97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118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05320" y="990720"/>
            <a:ext cx="3886200" cy="1218600"/>
            <a:chOff x="3505320" y="990720"/>
            <a:chExt cx="3886200" cy="1218600"/>
          </a:xfrm>
        </p:grpSpPr>
        <p:sp>
          <p:nvSpPr>
            <p:cNvPr id="125" name=""/>
            <p:cNvSpPr/>
            <p:nvPr/>
          </p:nvSpPr>
          <p:spPr>
            <a:xfrm>
              <a:off x="3505320" y="9907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05320" y="1295280"/>
              <a:ext cx="38088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6200" y="9907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86200" y="1295280"/>
              <a:ext cx="99072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76920" y="9907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6920" y="1295280"/>
              <a:ext cx="213336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10280" y="9907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10280" y="1295280"/>
              <a:ext cx="38124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5320" y="159984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86200" y="159984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76920" y="159984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10280" y="159984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05320" y="190476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86200" y="190476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76920" y="190476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10280" y="190476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505320" y="220968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2819520"/>
            <a:ext cx="38088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20968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51460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2819520"/>
            <a:ext cx="9907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220968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251460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2819520"/>
            <a:ext cx="21333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 F0,10(R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220968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251460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0280" y="2819520"/>
            <a:ext cx="38124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164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173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AC3A-E0C5-400A-A62D-9B1915A6480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9F6F5-64E3-4D8D-A97D-59B101CC6B48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183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204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211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212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251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260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8D97-1F2B-438A-A392-566F998968C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B68B3-CF22-43EF-836D-0BEE20D0BD90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270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291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298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299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338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347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FF4B-2781-4FF8-8E6D-3C47C871D95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AF765-8E76-41D0-AAAE-0458CCF9C213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357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98440" y="4648320"/>
            <a:ext cx="259092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440" y="4851360"/>
            <a:ext cx="259092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5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(F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8440" y="5054760"/>
            <a:ext cx="259092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378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385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386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425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00800" y="53341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+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00800" y="5587920"/>
            <a:ext cx="1066680" cy="254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00800" y="55627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+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00800" y="57913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56480" y="5334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BB9-458A-4CE6-AD78-B203D549B10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79060-958A-4FBC-9562-5B728F973EA6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444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5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(F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465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472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473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c0128"/>
                    </a:solidFill>
                    <a:latin typeface="Courier New"/>
                  </a:rPr>
                  <a:t>ROB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T 0(R3),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512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00800" y="53341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+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00800" y="5587920"/>
            <a:ext cx="1066680" cy="254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400800" y="55627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+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00800" y="57913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756480" y="5334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577A-B862-4D4F-B7F2-AF934B693E1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11CD8-B288-41F0-80B1-DAC3D08DB673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531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548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555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556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T 0(R3),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595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604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M[10],R(F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97E5-72E7-4863-9321-3399F95D526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016F9-3D37-4C78-AE32-033E976853C1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618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639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646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647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&lt;val2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T 0(R3),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686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695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0BE5-F941-47B1-9B63-55A578101A1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61E22-867D-440D-942C-6EA14C4446E6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Time #1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rage Implicit Parallelism for Performance: Instruction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p unrolling by compiler to increase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prediction to increase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HW exploiting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 when can’t know dependence at compile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ide L1 cache mi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for one machine runs well on an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1372-AFCE-4B43-B537-432E495763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43146-D0FC-470F-A375-094273F86B1A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"/>
          <p:cNvGrpSpPr/>
          <p:nvPr/>
        </p:nvGrpSpPr>
        <p:grpSpPr>
          <a:xfrm>
            <a:off x="3505320" y="990720"/>
            <a:ext cx="3886200" cy="1218600"/>
            <a:chOff x="3505320" y="990720"/>
            <a:chExt cx="3886200" cy="1218600"/>
          </a:xfrm>
        </p:grpSpPr>
        <p:sp>
          <p:nvSpPr>
            <p:cNvPr id="705" name=""/>
            <p:cNvSpPr/>
            <p:nvPr/>
          </p:nvSpPr>
          <p:spPr>
            <a:xfrm>
              <a:off x="3505320" y="9907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05320" y="1295280"/>
              <a:ext cx="38088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86200" y="9907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[1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86200" y="1295280"/>
              <a:ext cx="99072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val2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76920" y="9907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T 0(R3),F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76920" y="1295280"/>
              <a:ext cx="213336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0,F4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010280" y="9907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010280" y="1295280"/>
              <a:ext cx="38124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505320" y="159984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886200" y="159984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[1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76920" y="159984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4,0(R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010280" y="159984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05320" y="190476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86200" y="190476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876920" y="190476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NE F2,&lt;…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10280" y="190476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722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743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505320" y="220968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05320" y="251460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505320" y="2819520"/>
            <a:ext cx="38088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86200" y="220968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51460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86200" y="2819520"/>
            <a:ext cx="9907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220968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D F2,F10,F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876920" y="251460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D F10,F4,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876920" y="2819520"/>
            <a:ext cx="21333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 F0,10(R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010280" y="220968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251460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010280" y="2819520"/>
            <a:ext cx="38124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772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781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4680" y="1536840"/>
            <a:ext cx="7767720" cy="4025880"/>
            <a:chOff x="4680" y="1536840"/>
            <a:chExt cx="7767720" cy="4025880"/>
          </a:xfrm>
        </p:grpSpPr>
        <p:sp>
          <p:nvSpPr>
            <p:cNvPr id="791" name=""/>
            <p:cNvSpPr/>
            <p:nvPr/>
          </p:nvSpPr>
          <p:spPr>
            <a:xfrm>
              <a:off x="6324480" y="3200400"/>
              <a:ext cx="1447920" cy="2362320"/>
            </a:xfrm>
            <a:prstGeom prst="ellipse">
              <a:avLst/>
            </a:prstGeom>
            <a:noFill/>
            <a:ln w="7632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80" y="2741760"/>
              <a:ext cx="332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18ffd"/>
                  </a:solidFill>
                  <a:latin typeface="Comic Sans MS"/>
                </a:rPr>
                <a:t>What abou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18ffd"/>
                  </a:solidFill>
                  <a:latin typeface="Comic Sans MS"/>
                </a:rPr>
                <a:t>hazards?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362320" y="1536840"/>
              <a:ext cx="4038480" cy="2120760"/>
            </a:xfrm>
            <a:custGeom>
              <a:avLst/>
              <a:gdLst/>
              <a:ahLst/>
              <a:rect l="l" t="t" r="r" b="b"/>
              <a:pathLst>
                <a:path w="2544" h="1336">
                  <a:moveTo>
                    <a:pt x="0" y="808"/>
                  </a:moveTo>
                  <a:cubicBezTo>
                    <a:pt x="316" y="444"/>
                    <a:pt x="632" y="80"/>
                    <a:pt x="960" y="40"/>
                  </a:cubicBezTo>
                  <a:cubicBezTo>
                    <a:pt x="1288" y="0"/>
                    <a:pt x="1704" y="352"/>
                    <a:pt x="1968" y="568"/>
                  </a:cubicBezTo>
                  <a:cubicBezTo>
                    <a:pt x="2232" y="784"/>
                    <a:pt x="2388" y="1060"/>
                    <a:pt x="2544" y="1336"/>
                  </a:cubicBezTo>
                </a:path>
              </a:pathLst>
            </a:custGeom>
            <a:noFill/>
            <a:ln w="76320">
              <a:solidFill>
                <a:srgbClr val="618ff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9599-474C-4AF4-B02A-CB2E43E12F3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AAFA7-9431-4C75-B85B-79CB606FA94E}" type="datetime1">
              <a:rPr lang="en-US"/>
              <a:t>07/30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voiding Memory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W and WAR hazards through memory are eliminated with speculation because actual updating of memory occurs in order, when a store is at head of the ROB, and hence, no earlier loads or stores can still be pend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W hazards through memory are maintained by two restriction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owing a load to initiate the second step of its execution if any active ROB entry occupied by a store has a Destination field that matches the value of the A field of the load,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ing the program order for the computation of an effective address of a load with respect to all earlier stor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restrictions ensure that any load that accesses a memory location written to by an earlier store cannot perform the memory access until the store has written th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4166-FE17-4AF0-B0BB-1E367E56B2C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AD333-7200-4FE0-BF1F-1BF53B0156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ceptions and Interrup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360/91 invented “imprecise interrupt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stopped at this PC; its likely close to this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so popular with programm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, what about Virtual Memory? (Not in IBM 36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 for both precise interrupts/exceptions and speculation: in-order completion and in-order co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speculate and are wrong, need to back up and restart execution to point at which we predicted incorrec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exactly same as need to do with precise exce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re handled by not recognizing the exception until instruction that caused it is ready to commit in R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peculated instruction raises an exception, the exception is recorded in the RO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why reorder buffers in all new proces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E0A-F4D0-47EA-B32C-5D42EFC7A2A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53727-AD57-40DA-900C-98388BD600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Getting CPI below 1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647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 if issue only 1 instruction every clock cyc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-issue processors come in 3 flavor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cally-scheduled superscalar processor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ally-scheduled superscalar processors, a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LIW (very long instruction word)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types of superscalar processors issue varying numbers of instructions per cloc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in-order execution if they are statically scheduled, 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-of-order execution if they are dynamically schedul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IW processors, in contrast, issue a fixed number of instructions formatted either as one large instruction or as a fixed instruction packet with the parallelism among instructions explicitly indicated by the instruction (Intel/HP Itaniu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28DF-63C0-4800-B7CA-37986E4B019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2B371-0937-4DC7-AD05-28C89C4C68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LIW: Very Large Instruction Word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“instruction” has explicit coding for multiple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IA-64, grouping called a “packe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ransmeta, grouping called a “molecule” (with “atoms” as op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eoff instruction space for simple dec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ong instruction word has room for many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definition, all the operations the compiler puts in the long instruction word are independent =&gt; execute in parall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2 integer operations, 2 FP ops, 2 Memory refs, 1 bra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to 24 bits per field =&gt; 7*16 or 112 bits to 7*24 or 168 bits w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compiling technique that schedules across several bran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948F-876D-45D2-A670-D1ADA46E603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42835-B9EA-4E39-B525-65EECD023A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call: Unrolled Loop that Minimizes Stalls for Scala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73200" y="1143000"/>
            <a:ext cx="845820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09840" y="1825560"/>
            <a:ext cx="66657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0,0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6,-8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0,-16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4,-24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4,F0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8,F6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2,F10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6,F14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(R1),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8(R1),F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6(R1),F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SUBU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1,R1,#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NEZ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1,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ae00"/>
                </a:solidFill>
                <a:latin typeface="Courier New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1),F1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ae00"/>
                </a:solidFill>
                <a:latin typeface="Courier New"/>
              </a:rPr>
              <a:t>; 8-32 = -2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 clock cycles, or 3.5 per 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24600" y="1882800"/>
            <a:ext cx="2593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.D to ADD.D: 1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.D to S.D: 2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1E9-C6B7-4ECB-A6F0-56ECA5B75E3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820D4-8D3E-4AA7-B732-F058A9B51E9D}" type="datetime1">
              <a:rPr lang="en-US"/>
              <a:t>07/30/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oop Unrolling in VLI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41000" y="1572840"/>
            <a:ext cx="855036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mo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. op/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ference 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ferenc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peration 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op. 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0,0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6,-8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10,-16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14,-24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18,-32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22,-40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4,F0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8,F6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26,-48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12,F10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16,F14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20,F18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24,F22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0(R1),F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8(R1),F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28,F26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16(R1),F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24(R1),F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32(R1),F2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40(R1),F2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SUBUI  R1,R1,#4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0(R1),F2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NEZ R1,LOO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nrolled 7 times to avoid del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7 results in 9 clocks, or 1.3 clocks per iteration (1.8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verage: 2.5 ops per clock, 50%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eed more registers in VLIW (15 vs. 6 in S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90720" y="2438280"/>
            <a:ext cx="3809880" cy="3812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682640" y="3048120"/>
            <a:ext cx="2965680" cy="6793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8600" y="21337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FA5-A8D8-4D9A-9DF3-A083356BA3F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C933B-8283-48AB-8401-0C74C12E6B34}" type="datetime1">
              <a:rPr lang="en-US"/>
              <a:t>07/30/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blems with 1st Generation VLI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 in code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ing enough operations in a straight-line code fragment requires ambitiously unrolling loo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ever VLIW instructions are not full, unused functional units translate to wasted bits in instruction en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ed in lock-step; no hazard detection H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tall in any functional unit pipeline caused entire processor to stall, since all functional units must be kept synchroniz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 might prediction function units, but caches hard to predi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ary code compati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e VLIW =&gt; different numbers of functional units and unit latencies require different versions of the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1EB2-8EA7-4DC9-8891-1B3940C8F42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873FA-0B47-4AC8-A4C2-25A086AD0FB5}" type="datetime1">
              <a:rPr lang="en-US"/>
              <a:t>07/30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tel/HP IA-64 “Explicitly Parallel Instruction Computer (EPIC)”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040" y="1143000"/>
            <a:ext cx="8705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IA-6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instruction set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 64-bit integer regs + 128 82-bit floating point re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separate register files per functional unit as in old VLI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hecks dependenci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terlocks =&gt; binary compatibility over tim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ated execution (select 1 out of 64 1-bit flags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40% fewer mispredic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Itanium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as first implementation (200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ly parallel and deeply pipelined hardware at 800Mh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-wide, 10-stage pipeline at 800Mhz on 0.18 µ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Itanium 2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name of 2nd implementation (200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-wide,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stage pipeline at 1666Mhz on 0.13 µ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s: 32 KB I, 32 KB D, 128 KB L2I, 128 KB L2D, 9216 KB L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5D89-B851-4A3A-9AB8-77F1F031C1E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560FD-A7BD-45FF-8584-33018E961E5D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Increasing Instruction Fetch Bandwidth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04920" y="1193760"/>
            <a:ext cx="3047760" cy="51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ts next instruct address, sends it out </a:t>
            </a:r>
            <a:r>
              <a:rPr b="1" i="1" lang="en-US" sz="2400" spc="-1" strike="noStrike">
                <a:solidFill>
                  <a:srgbClr val="0332b7"/>
                </a:solidFill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coding instruct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 of branch sent to B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match is found, Predicted PC is retur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branch predicted taken, instruction fetch continues at Predicted P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3276720" y="2209680"/>
            <a:ext cx="5835600" cy="494208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3962520" y="129528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Target Buffer (BT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1E6-5D63-4A21-AB9C-87306A3AC4A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46839-8E6C-431E-B78A-C78C5949ED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Time #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rvations stations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nam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larger set of registers + buffering source opera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s registers as bottlene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s WAR, WAW haz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loop unrolling in H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limited to basic block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teger units gets ahead, beyond branch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ps cache misses as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ing Contrib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rena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/store disambig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0/91 descendants are Pentium 4, Power 5, AMD Athlon/Opteron, …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43E3-6EFB-467A-82CC-6B03A2596A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1E69B-0431-41DE-883C-5467A82208B4}" type="datetime1">
              <a:rPr lang="en-US"/>
              <a:t>07/30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F BW: Return Address Predicto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37656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 buffer of return addresses acts as a 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ches most recent return addr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ush a return addres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p an address off stack &amp; predict as new 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3962520" y="2028960"/>
          <a:ext cx="5709960" cy="391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028960"/>
                    <a:ext cx="5709960" cy="39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96F-9625-43B3-9BEF-D27B0BC1A55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DD28D-2EFB-40A7-A9D3-359A7E9EC1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Instruction Fetch Bandwidt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528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tegrated branch predi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ranch predictor is part of instruction fetch unit and is constantly predicting bran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struction prefe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uction fetch units prefetch to deliver multiple instruct. per clock, integrating it with branch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struction memory access and buffe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tching multiple instructions per cyc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require accessing multiple cache blocks (prefetch to hide cost of crossing cache block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buffering, acting as on-demand unit to provide instructions to issue stage as needed and in quantity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8602-7D50-48C5-8D4A-F09C1D61E83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75FAE-301D-46B8-964F-E26217BD5F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33012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culation: Register Renaming vs. ROB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6840" y="1193760"/>
            <a:ext cx="83818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e to ROB is a larger physical set of registers combined with register rena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ed registers replace function of both ROB and reservation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 issue maps names of architectural registers to physical register numbers in extended register s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issue, allocates a new unused register for the destina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which avoids WAW and WAR hazard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ulation recovery easy because a physical register holding an instruction destination does not become the architectural register until the instruction comm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Out-of-Order processors today use extended registers with rena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4B94-1850-4A3D-BDBB-BB1FDB6116A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E0268-008B-46F4-94CC-304CD9A84B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alue Predic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120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mpts to predict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duced by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Loads a value that changes infrequen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prediction is useful only if it significantly increases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of research has been on loads; so-so results, no processor uses value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ed topic is </a:t>
            </a:r>
            <a:r>
              <a:rPr b="1" i="1" lang="en-US" sz="2400" spc="-1" strike="noStrike">
                <a:solidFill>
                  <a:srgbClr val="0332b7"/>
                </a:solidFill>
                <a:latin typeface="Arial"/>
              </a:rPr>
              <a:t>address aliasing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W for load and store or WAW for 2 sto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alias prediction is both more stable and simpler since need not actually predict the address values, only whether such values confli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been used by a few 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0B70-09AC-4BD8-97FA-ECF68A03BD8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50B9A-A5A3-400C-BE9C-A92FF15260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(Mis) Speculation on Pentium 4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689040" y="1152360"/>
          <a:ext cx="7646760" cy="68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152360"/>
                    <a:ext cx="764676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2" name=""/>
          <p:cNvSpPr/>
          <p:nvPr/>
        </p:nvSpPr>
        <p:spPr>
          <a:xfrm>
            <a:off x="2819520" y="6095880"/>
            <a:ext cx="1752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866200" y="609588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410080" y="60199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905120" y="60199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8080" y="990720"/>
            <a:ext cx="7912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of micro-ops not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1F23-1B29-4047-8DAD-3B1308C9890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10CFC-1BBE-4A88-A5B3-0328F2A9B8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spectiv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1406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 in multiple-issue because wanted to improve performance without affecting uniprocessor programming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ing advantage of ILP is conceptually simple, but design problems are amazingly complex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rvative in ideas, just faster clock and big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s of last 5 years (Pentium 4, IBM Power 5, AMD Opteron) have the same basic structure and similar sustained issue rates (3 to 4 instructions per clock) as the 1st dynamically scheduled, multiple-issue processors announced in 199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s 10 to 20X faster, caches 4 to 8X bigger, 2 to 4X as many renaming registers, and 2X as many load-store uni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formance 8 to 16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ak v. delivered performance gap increa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EF0-1002-4266-9DD8-85F77AFFCD6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5DB60-DFC8-484F-8827-C81027D7A2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s and Exceptions either interrupt the current instruction or happen between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y large quantities of state must be saved before interrup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s with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precise excep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vide one single point in the program to restart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instructions before that point have comple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nstructions after or including that point have complet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techniques exist for precise exceptions even in the face of out-of-order executi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enabling factor for out-of-order 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59FB-6312-4E55-B61F-823ABEAB93D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A86CC-A871-4335-98B0-3CB8C64DC1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743040" y="1390320"/>
            <a:ext cx="7867440" cy="50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Page project writeups Due this Sun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s working on the RAMP project should go to 253 Cory or 387 Soda to update their cardkey access for 125 C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MP Blue meeting today at 3:30 in 6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loor Soda Alc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ing Assignment: Chapter 2 today, Chapter 3 following next Wednes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30 minute discussion after one hour lecture (similar to ISA discuss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email to TA by Friday, will be posted on Saturday, review before discussion on Mon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per: “Limits of instruction-level parallelism,” by David Wall, Nov 199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 pages 1-35 (&gt; ½ of paper is figu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your comments, rank in order of importance alias analysis, branch prediction, jump prediction, register renaming, and speculative exec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your comments, mention what are limits to this study of limits of ILP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C41-4D40-4ABC-8582-23A5A03A973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654D3-7F60-425C-B970-0835719BBD60}" type="datetime1">
              <a:rPr lang="en-US"/>
              <a:t>07/30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of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: “Limits of instruction-level parallelism,” by David Wall, Nov 199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paper is a revision; did he think first version painted a pessimistic or optimistic picture of I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defaults in number of instructions issued per clock cycle, instruction window size, execution latency, number of execution uni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id loop unrolling change result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id realistic functional unit execution latencies change result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CB77-6ECD-43D5-92CA-0AB58A3986A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C579E-419E-4122-9631-DEE4BE4853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of ILP [2/2]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 in order of importance alias analysis, branch prediction, jump prediction, register renaming, and speculative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limits to this study of limits of I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s his cautionary note at the end of the memo about resul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 was written in 1993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ideas still too optimistic in 2006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ideas seem tame in 2006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d you learn much from this pap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1751-4F01-4662-A53D-090262FCB93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CA3FF-E4BB-44E8-BFDD-E7EFE98088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ve Tomasulo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Ali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I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instruction bandwid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er Renaming vs. Reorder B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ion about paper “Limits of ILP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87E5-C538-4CA0-B59A-04D94DFDA1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0FE6C-E61A-4F51-86E9-006BD49E4A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culation to greater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52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er ILP: Overcome control dependence by hardware speculating on outcome of branches and executing program as if guesses were corr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Speculatio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fetch, issue, and execute instruc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if branch predictions were always correc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Dynamic schedul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</a:t>
            </a: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fetches and issu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stru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ly a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data flow execution mod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Operations execute as soon as their operands are avail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011E-B594-4F10-89C3-F168757E35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2B561-A29C-487D-8B59-8606BF743F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culation to greater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52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components of HW-based specul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branch prediction to choose which instructions to execu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on to allow execution of instructions before control dependences are resolv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ability to undo effects of incorrectly speculated seque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scheduling to deal with scheduling of different combinations of basic block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76B9-ABAB-49D8-8CDC-E6D827BAA1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EC87C-9997-41A8-83A7-F5B67FB373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dding Speculation to Tomasulo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5312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separate execution from allowing instruction to finish or “commit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dditional step called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struction co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n instruction is no longer speculative, allow it to update the register file or memor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additional set of buffers to hold results of instructions that have finished execution but have not com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reorder buff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RO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s also used to pass results among instructions that may be specul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EE36-4F8B-4B2F-AF49-1FD8495246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95F3E-4730-4C98-838B-5021C6C599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order Buffer (ROB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omasulo’s algorithm, once an instruction writes its result, any subsequently issued instructions will find result in the register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speculation, the register file is not updated until the instruction commi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we know definitively that the instruction should execu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the ROB supplies operands in interval between completion of instruction execution and instruction co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 is a source of operands for instructions, just as reservation stations (RS) provide operands in Tomasulo’s algorith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 extends architectured registers like 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301-36D0-481F-A6D3-651A12C1CC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FD8E4-B1F0-4ADE-834F-6260F65EB5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order Buffer Ent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entry in the ROB contains four field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 typ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ranch (has no destination result), a store (has a memory address destination), or a register operation (ALU operation or load, which has register destin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number (for loads and ALU operations) o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ddress (for stores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he instruction result should be writ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instruction result until the instruction comm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es that instruction has completed execution, and the value is rea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788F-AD47-4652-99E6-57B3705713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E264A-56CE-4139-A53B-DA0FAE9DDD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3:17:21Z</dcterms:created>
  <dc:creator> </dc:creator>
  <dc:description/>
  <cp:keywords/>
  <dc:language>en-US</dc:language>
  <cp:lastModifiedBy>EECS</cp:lastModifiedBy>
  <cp:lastPrinted>1998-07-14T21:04:32Z</cp:lastPrinted>
  <dcterms:modified xsi:type="dcterms:W3CDTF">2006-02-12T22:43:40Z</dcterms:modified>
  <cp:revision>60</cp:revision>
  <dc:subject/>
  <dc:title>EECS 252 Graduate Computer Architecture   Lec XX - TOPIC  </dc:title>
</cp:coreProperties>
</file>