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40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1C6E8-4255-4AE7-8922-5CC4981D9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B7B32-DE58-412B-B83E-EFB848E92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F0CD9-4582-4AAC-A8A5-8D9D5535C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D2A2D-53B4-4DA2-AAB5-E5D069E81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58FCA-7EEC-45C3-BD0A-7EC91F64E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4722C-24A3-4498-B725-CE80B4A71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31E40-A9B9-4FE9-9E4D-B39718E19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6684B-DCCC-4472-BA0A-D434306F0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C9182-BCDD-45B3-BFDB-7BE17859D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BBB5E-298C-401C-A5C2-13B44CC5A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514FB-88F4-4126-98D2-7B4210B56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ED6CB-1F2F-45CC-9A08-2E3C1CA4B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FB1D5-F00C-4617-9B42-7EFCD313DC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54160" y="1041480"/>
            <a:ext cx="8632800" cy="47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54160" y="800280"/>
            <a:ext cx="8632800" cy="52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600200" y="152280"/>
            <a:ext cx="6039000" cy="662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33520" y="228600"/>
            <a:ext cx="8099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54160" y="291960"/>
            <a:ext cx="8632800" cy="62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082960" y="254160"/>
            <a:ext cx="4971960" cy="63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54160" y="2082960"/>
            <a:ext cx="8632800" cy="268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300320" y="76320"/>
            <a:ext cx="6624360" cy="66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739800" y="339840"/>
            <a:ext cx="7718400" cy="628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87520" y="166680"/>
            <a:ext cx="8022960" cy="65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600200" y="85680"/>
            <a:ext cx="6124680" cy="66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54160" y="622440"/>
            <a:ext cx="8632800" cy="56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54160" y="419040"/>
            <a:ext cx="8632800" cy="60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574640" y="50760"/>
            <a:ext cx="6007320" cy="676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803240" y="254160"/>
            <a:ext cx="5537520" cy="63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54160" y="1346040"/>
            <a:ext cx="863280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54160" y="139680"/>
            <a:ext cx="8632800" cy="658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54160" y="139680"/>
            <a:ext cx="8632800" cy="658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54160" y="139680"/>
            <a:ext cx="8632800" cy="658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54160" y="291960"/>
            <a:ext cx="8632800" cy="627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54160" y="368280"/>
            <a:ext cx="8632800" cy="611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609480" y="76320"/>
            <a:ext cx="7947000" cy="671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54160" y="2273400"/>
            <a:ext cx="8632800" cy="23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254160" y="546120"/>
            <a:ext cx="8632800" cy="57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254160" y="1384200"/>
            <a:ext cx="8632800" cy="41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371600" y="152280"/>
            <a:ext cx="6550200" cy="662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9480" y="76320"/>
            <a:ext cx="7896240" cy="674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685800" y="76320"/>
            <a:ext cx="7718400" cy="67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254160" y="1181160"/>
            <a:ext cx="8632800" cy="45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54160" y="609480"/>
            <a:ext cx="8632800" cy="564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146240" y="76320"/>
            <a:ext cx="7007040" cy="669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54160" y="1384200"/>
            <a:ext cx="8632800" cy="41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1828800" y="254160"/>
            <a:ext cx="5483160" cy="63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54160" y="1282680"/>
            <a:ext cx="8632800" cy="43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254160" y="825480"/>
            <a:ext cx="8632800" cy="522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254160" y="584280"/>
            <a:ext cx="8632800" cy="56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54160" y="1117440"/>
            <a:ext cx="8632800" cy="46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54160" y="457200"/>
            <a:ext cx="8632800" cy="594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54160" y="1104840"/>
            <a:ext cx="8632800" cy="46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790640" y="254160"/>
            <a:ext cx="5568840" cy="63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54160" y="457200"/>
            <a:ext cx="8632800" cy="594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3T10:17:48Z</dcterms:created>
  <dc:creator>ramkumar</dc:creator>
  <dc:description/>
  <dc:language>en-US</dc:language>
  <cp:lastModifiedBy>kiran</cp:lastModifiedBy>
  <dcterms:modified xsi:type="dcterms:W3CDTF">2006-09-25T11:31:37Z</dcterms:modified>
  <cp:revision>3</cp:revision>
  <dc:subject/>
  <dc:title>Slide 1</dc:title>
</cp:coreProperties>
</file>