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DFF-150E-47C7-A576-752B498E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5F9-7F8E-4FC8-8868-B8BD0737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53A-D7CA-47F1-BD24-2CDB6099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AA3-4F5B-4BE6-ABF0-388C8A90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C4A-9FD5-4A70-9A63-C8FFB78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F0C-E9AB-4E70-99C0-7A0EE2C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DD5-B313-4AB1-BF9E-0C5B3C0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777-8C25-4FAC-856D-6EA70F8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13C-76D9-419F-81E8-4507989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631-DCEA-4FCB-9E1F-3B68205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DFA-D60C-42CC-A331-B9F93D6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9C8-A3A2-4AD2-989C-3B52502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8D0-9AB5-4FCB-81E0-B999FD0E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16000"/>
            <a:ext cx="86328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2160" y="254160"/>
            <a:ext cx="5375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914400"/>
            <a:ext cx="8632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727280"/>
            <a:ext cx="86328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739880"/>
            <a:ext cx="86328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55Z</dcterms:modified>
  <cp:revision>3</cp:revision>
  <dc:subject/>
  <dc:title>Slide 1</dc:title>
</cp:coreProperties>
</file>