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960-1794-442F-9006-6564A60C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949-44F2-410D-AFAD-1A090B93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A1C-7F91-41A1-9992-4ED66310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3DFA-04E7-4976-9207-5A39A568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4DF-66FC-4BF5-BCC9-35955ABD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7D1-48C3-4C6A-8679-EB3CCD5E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A20C-2BB0-46E6-AC90-DA7093F0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136-917B-4E5B-ACB8-28BF21F0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8B3-DEAB-4F7B-AD0C-AAADD9C0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F24-58CC-4756-A63F-0E918051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C67-5E89-4B55-8211-F9DDE843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EE2-AF59-4246-B2FA-79495A90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57D7-20FD-421F-8BC2-EC129766F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507960"/>
            <a:ext cx="86328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1104840"/>
            <a:ext cx="863280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76320"/>
            <a:ext cx="81248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965160"/>
            <a:ext cx="86328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76320"/>
            <a:ext cx="7540920" cy="67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1092240"/>
            <a:ext cx="86328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" y="76320"/>
            <a:ext cx="80740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4160" y="291960"/>
            <a:ext cx="8632800" cy="62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4160" y="2489040"/>
            <a:ext cx="86328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4160" y="1397160"/>
            <a:ext cx="86328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4160" y="1155600"/>
            <a:ext cx="86328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66880" y="76320"/>
            <a:ext cx="7515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09680" y="88920"/>
            <a:ext cx="835344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76320"/>
            <a:ext cx="677880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317520"/>
            <a:ext cx="863280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190440"/>
            <a:ext cx="863280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190440"/>
            <a:ext cx="86328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8632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86328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7520" y="139680"/>
            <a:ext cx="809928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622440"/>
            <a:ext cx="863280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59:01Z</dcterms:modified>
  <cp:revision>3</cp:revision>
  <dc:subject/>
  <dc:title>Slide 1</dc:title>
</cp:coreProperties>
</file>