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F40-775C-4706-B8F5-9273A73D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861-E14B-442E-9342-466C60A2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35E-0661-4333-B0C7-438A254A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0DD-A6C5-4B28-94C5-C067DCEA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74CE-466C-47D7-A5CD-877C879A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A16-2757-47B8-B5AC-CD44DFDF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CD9-9162-415A-BE58-19162B86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07C3-573D-4B2F-8F97-F85A7E82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538-C146-457F-A381-4FAD2E80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6CB-E453-4C59-8353-217AD377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88D-46CC-432C-BAB9-1D4300A4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E6B6-8C5D-48DC-8F5F-C5699A95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2360-0412-4306-AEAD-21A7E1F24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812880"/>
            <a:ext cx="86328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901800"/>
            <a:ext cx="86328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1333440"/>
            <a:ext cx="86328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67086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152280"/>
            <a:ext cx="8632800" cy="65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136440"/>
            <a:ext cx="777240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12920" y="76320"/>
            <a:ext cx="6535800" cy="66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76320"/>
            <a:ext cx="629892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" y="1117440"/>
            <a:ext cx="86328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254160"/>
            <a:ext cx="863280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36:16Z</dcterms:modified>
  <cp:revision>5</cp:revision>
  <dc:subject/>
  <dc:title>Slide 1</dc:title>
</cp:coreProperties>
</file>