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174D-8DF6-4188-B033-1E24A223D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8730-15FF-4BD2-B381-3F2C6F4B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5B07-D93C-43CB-AB31-46746B542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EA7A-F5DD-4667-B911-CDCF0E6CD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4CDF-B647-464D-B39E-91B1C69B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41BC-7FEE-436C-A587-9C7B8601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86C9-B030-485A-B85D-1A6402E7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4475-4EF4-469F-B1AE-6232EAD4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4280-5540-4A17-8F8A-1E490F11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D9D4-A48E-4A51-BE54-C696F3B3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1CF9-CBC7-4F3E-A4D1-C0833EFC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3F18-CEB9-40AC-9F5A-F0FA2A35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51C5-D408-4A0E-A03A-61E0A573E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146160"/>
            <a:ext cx="8251920" cy="65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4160" y="2082960"/>
            <a:ext cx="863280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4160" y="1028880"/>
            <a:ext cx="863280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4160" y="1359000"/>
            <a:ext cx="863280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85680"/>
            <a:ext cx="769608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4160" y="101520"/>
            <a:ext cx="86328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6328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4160" y="2870280"/>
            <a:ext cx="8632800" cy="112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76320"/>
            <a:ext cx="7108920" cy="66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22640" y="254160"/>
            <a:ext cx="470052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4160" y="1206360"/>
            <a:ext cx="863280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160" y="939960"/>
            <a:ext cx="863280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4160" y="279360"/>
            <a:ext cx="8632800" cy="631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141120"/>
            <a:ext cx="8048520" cy="66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4160" y="254160"/>
            <a:ext cx="8632800" cy="63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0:17:48Z</dcterms:created>
  <dc:creator>ramkumar</dc:creator>
  <dc:description/>
  <dc:language>en-US</dc:language>
  <cp:lastModifiedBy>kiran</cp:lastModifiedBy>
  <dcterms:modified xsi:type="dcterms:W3CDTF">2006-09-25T11:24:32Z</dcterms:modified>
  <cp:revision>3</cp:revision>
  <dc:subject/>
  <dc:title>Slide 1</dc:title>
</cp:coreProperties>
</file>