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0B4-BB63-4D6B-B587-CAA6E708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080-B3E9-416E-93D5-465F500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3C7-313C-4F0D-BABC-0786AEAA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41F-74B6-4F49-9E14-5CB1BA18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308-A961-4CD4-9144-1F34DA2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837-945E-4273-B7CF-7C760EE8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BA4-84D9-480F-8975-3274541B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4B9-314A-46FB-89D9-04CC86F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64C-D225-4705-ACA8-8863E24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D50-D50D-4253-A2A8-7DCAB5F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078-CB02-4D8B-84DD-F083A02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D05-2D7F-4CA4-83C8-6CBBB1F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614A-9FF1-4C37-89C7-6AAB1460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3:23Z</dcterms:modified>
  <cp:revision>3</cp:revision>
  <dc:subject/>
  <dc:title>Slide 1</dc:title>
</cp:coreProperties>
</file>