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051-2FEF-4E59-B120-D904C39A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B0-68EE-44FF-89C6-651C864B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917-4A44-4B06-89B4-49D6B67C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BD1-57F8-4C26-9FEA-65A2AF95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0C7-6AA9-47D9-AE0C-CFFA2B2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55D-0498-48CC-A6E0-7BF41850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26B-4FC4-4D77-8C7F-F91B9C4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4E2-E319-4915-9B0E-07F0446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C6D-0D7C-450E-B0A1-5C453A1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82A-EB44-4832-B464-B4B4F14E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0E3-83EA-444F-989A-C47BD3F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3CA-1C54-4FEA-947D-E018B1A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FFE-E637-46CC-A2D0-56B50517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409760"/>
            <a:ext cx="86328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7640" y="152280"/>
            <a:ext cx="73882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015920"/>
            <a:ext cx="8632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587600"/>
            <a:ext cx="86328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3816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90920"/>
            <a:ext cx="8632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6:17Z</dcterms:modified>
  <cp:revision>4</cp:revision>
  <dc:subject/>
  <dc:title>Slide 1</dc:title>
</cp:coreProperties>
</file>