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E94-54B2-4EB8-BE26-ECB3C58F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78F-2D65-4BBA-A022-B82BC075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557-E104-42A8-9F47-238597EF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526-41B2-43B1-9F26-39E2900E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E7B-4823-4472-AAC3-79AB518B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EA3-1456-4F5B-9632-104F0C75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F33-B2FA-4911-853D-B2E93D3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A56-BC31-4AD5-937F-1E830DA5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FAF-66AF-4C62-9E7B-DB8A84F9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87B-F0B6-4EF7-BF61-3AA26E1C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19E-EB67-4EE4-B893-98D1A13D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D9F-4262-42B9-8F7C-034FD70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1AEC-A57B-4D16-AEBB-ADB480291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359000"/>
            <a:ext cx="8632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320840"/>
            <a:ext cx="8632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673200"/>
            <a:ext cx="86328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83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24080" y="152280"/>
            <a:ext cx="675324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03240" y="254160"/>
            <a:ext cx="5545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81000"/>
            <a:ext cx="7413480" cy="67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68480" y="254160"/>
            <a:ext cx="52196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324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355680"/>
            <a:ext cx="86328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47:15Z</dcterms:modified>
  <cp:revision>4</cp:revision>
  <dc:subject/>
  <dc:title>Slide 1</dc:title>
</cp:coreProperties>
</file>