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8B6-696E-40F1-848A-83DE0049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125-2997-473D-A30B-B06E99B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5D2-FBC2-41B8-ABA4-3F71F5FC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976-4273-4EDD-AA49-31A20C44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229-333B-41D9-9BFD-E856B4C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CC7-389A-4661-89A5-4DA49F64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F22-9B04-4231-98A4-DB9A65C1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613-399B-4015-8876-18542C4A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ED8-BFC5-4B3B-8B1F-273455FB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BDB-1886-4700-BB26-067647F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966-E210-43B0-B90F-2B058B4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6F6-B0FA-4E04-90BC-94631C2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2DAC-83EE-4C61-8D30-EBEE050EA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879560"/>
            <a:ext cx="863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006640"/>
            <a:ext cx="8632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80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45000" y="254160"/>
            <a:ext cx="1859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1816200"/>
            <a:ext cx="8632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108160"/>
            <a:ext cx="8632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134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548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600200"/>
            <a:ext cx="8632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22640"/>
            <a:ext cx="86328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1840" y="254160"/>
            <a:ext cx="5096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2425680"/>
            <a:ext cx="8632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38160"/>
            <a:ext cx="86328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33200"/>
            <a:ext cx="73152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5:08Z</dcterms:modified>
  <cp:revision>3</cp:revision>
  <dc:subject/>
  <dc:title>Slide 1</dc:title>
</cp:coreProperties>
</file>