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6079-6BD7-40C0-A749-6F8425F6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3093-BCBC-4DFA-B8F8-F30B6691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5EE8-0574-4870-969E-4F1AAB6B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979D-C6EC-4779-A706-7CC5A85E7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0AEB-0696-430E-AD1C-8A136893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C915-931E-4C49-AEAD-C346DF37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A2F5-8CF2-49F7-B8E9-9D7E6732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9FAD-864B-49EC-8CA3-2F108596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9A46-ECF4-430E-A2E6-62D7B561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86A1-A73A-4EDD-9A7D-36E54F10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F4F9-82EB-4EAA-94E2-49E09660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A159-7CB6-47C9-B680-83855850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07F4-D819-4DB6-A601-8CB14DD79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46748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0600" y="98280"/>
            <a:ext cx="663408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4160" y="457200"/>
            <a:ext cx="86328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4160" y="749160"/>
            <a:ext cx="86328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629604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5080" y="152280"/>
            <a:ext cx="6443640" cy="66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698400"/>
            <a:ext cx="863280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59000" y="111240"/>
            <a:ext cx="6565680" cy="66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7010280" cy="659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11200" y="152280"/>
            <a:ext cx="6513480" cy="66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76320"/>
            <a:ext cx="701064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76320"/>
            <a:ext cx="705816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1:37:34Z</dcterms:modified>
  <cp:revision>3</cp:revision>
  <dc:subject/>
  <dc:title>Slide 1</dc:title>
</cp:coreProperties>
</file>