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F52-F381-4756-9516-CA992D8F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8B5-1EE3-4880-BBB5-B7A1BBF5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D4E-9F70-4AF8-8BE8-E71EEC8E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617-033A-4173-BD48-5C3239DA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F93-E4C9-466A-A7E3-118FF83D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DCA-0E8B-479A-A43A-E21C45BD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855-FA5F-4159-9802-BDC84516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0B6-0616-4D0D-8444-9E1ABDAA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09D-6FEA-453A-8DD9-63947F54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CB7-592D-4720-8C1E-60C3DBC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F5C-FEBE-44F1-BA1E-CFC925A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346-167E-4727-87EF-9CFE7309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F818-71F4-421A-9C9C-B9AC339E6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82960" y="254160"/>
            <a:ext cx="49719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67728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876240"/>
            <a:ext cx="86328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0440" y="254160"/>
            <a:ext cx="46166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507960"/>
            <a:ext cx="8632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571680"/>
            <a:ext cx="8632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444600"/>
            <a:ext cx="8632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10092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28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254160"/>
            <a:ext cx="32148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5040" y="254160"/>
            <a:ext cx="37400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42:33Z</dcterms:modified>
  <cp:revision>3</cp:revision>
  <dc:subject/>
  <dc:title>Slide 1</dc:title>
</cp:coreProperties>
</file>