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82E1-D1F9-4B09-9E7A-DC13E185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EC9A-B088-445A-B6BD-BB9E1A27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6769-71B2-4745-B9D4-69E3339C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05CB-67D5-4933-96F3-C891CC74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300B-6EC7-464C-929E-53977777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59A6-F770-462E-B82B-6BC261C3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859-B57B-43CB-BF56-7473CA9E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3280-0C6D-47C3-B93F-1BD5DAC3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449D-0AD9-4AA9-913C-9CF00101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08EE-3382-437A-93A6-823F368B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CE5-7306-44CF-A892-AC9F3804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10BC-03F3-4D32-857C-C451445A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8EA3-F976-42E6-833C-DCA82D715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952560"/>
            <a:ext cx="8632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774720"/>
            <a:ext cx="863280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03240" y="254160"/>
            <a:ext cx="55375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70280" y="254160"/>
            <a:ext cx="340020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607068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28880"/>
            <a:ext cx="86328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1:34:22Z</dcterms:modified>
  <cp:revision>3</cp:revision>
  <dc:subject/>
  <dc:title>Slide 1</dc:title>
</cp:coreProperties>
</file>