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DD9-B79C-4C9E-BD18-6B33C369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467-203E-4F74-8B1C-9DD4269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8E4-7099-4E21-87E5-04557797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A13-0146-4AEF-A931-DD2C08DE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302-CEDE-40EC-A691-7438711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63A-1059-41DE-9D16-9D42176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B98-BDDC-4077-B931-33A73CC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A2A-5B57-4A68-B678-D80881ED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6AE-3314-4D6C-90AF-3859DF6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3F0-EB3B-499A-989A-A76D4C04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E3C-436C-46E4-84CF-0ABF8A2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4AB-F4A8-463E-875D-638A8D7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712C-8DAC-4D44-BB23-B2041B5F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15960" y="166680"/>
            <a:ext cx="618012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298600"/>
            <a:ext cx="8632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863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128520"/>
            <a:ext cx="6562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282680"/>
            <a:ext cx="8632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3:17Z</dcterms:modified>
  <cp:revision>3</cp:revision>
  <dc:subject/>
  <dc:title>Slide 1</dc:title>
</cp:coreProperties>
</file>