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D4E-1F19-470A-A373-664E3670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A0A-5BFC-49A3-8092-BC3A32F1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A54-AB77-40D5-A5FC-7F33323B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7A1-05BF-4CF4-91EE-D1C7754B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A20-9557-4BD6-B155-B03F1791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2C3-C516-4A3A-9F85-3B5C8B69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23C-CBA6-4D6B-98E9-3DC2CFF8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722-0C47-4BC1-A22E-27AF05CC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120-18DF-485D-931A-D093D67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5DC-56CC-4876-BAA4-7958D67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229-5C65-4DA5-8DE5-373D2C06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7B4-8235-44FA-A650-3F0590FF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260A-ABDB-4579-97D7-66C8D8A10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2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85680"/>
            <a:ext cx="6107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741384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888840"/>
            <a:ext cx="86328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838080"/>
            <a:ext cx="8632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1511280"/>
            <a:ext cx="8632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838080"/>
            <a:ext cx="86328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851040"/>
            <a:ext cx="86328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546120"/>
            <a:ext cx="86328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736560"/>
            <a:ext cx="8632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9680" y="76320"/>
            <a:ext cx="83534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380880"/>
            <a:ext cx="86328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393840"/>
            <a:ext cx="86328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76320"/>
            <a:ext cx="62960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68480" y="254160"/>
            <a:ext cx="52038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257480"/>
            <a:ext cx="863280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2504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44360"/>
            <a:ext cx="623232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304920"/>
            <a:ext cx="8632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41:08Z</dcterms:modified>
  <cp:revision>3</cp:revision>
  <dc:subject/>
  <dc:title>Slide 1</dc:title>
</cp:coreProperties>
</file>