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C6B-38D1-4463-AB27-B08F1C3B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481-5F29-48FF-B041-FAC6FFD1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904-60FD-43E0-B51B-7FAB80A5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B06-BB68-4D4C-BCF4-7CB9B942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070-72B7-460C-85AA-3DF5AD69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18F-B2AF-4F9D-A455-474F036C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6D5-58FA-4C77-B546-5284E608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118-254B-41A7-B85E-26FB8A98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4F0-288A-4FD0-8FCB-59ED0B65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7A7-7B0B-4D10-83AC-583FCA05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071-BBDB-45AD-9582-F322A009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593-4923-404E-9FC0-3EAA9A2A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BCDD-6CE2-4FA8-94A7-80319F1B7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14480"/>
            <a:ext cx="86328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62040" y="50760"/>
            <a:ext cx="60246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536840"/>
            <a:ext cx="8632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1295280"/>
            <a:ext cx="86328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380880"/>
            <a:ext cx="863280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888840"/>
            <a:ext cx="8632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25600" y="76320"/>
            <a:ext cx="63468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074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62040" y="50760"/>
            <a:ext cx="601668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333440"/>
            <a:ext cx="86328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155600"/>
            <a:ext cx="86328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1257480"/>
            <a:ext cx="86328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177840"/>
            <a:ext cx="863280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160" y="1244520"/>
            <a:ext cx="8632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4160" y="1104840"/>
            <a:ext cx="86328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4160" y="469800"/>
            <a:ext cx="86328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507960"/>
            <a:ext cx="8632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18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1562040"/>
            <a:ext cx="86328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3600" y="123840"/>
            <a:ext cx="7236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1054080"/>
            <a:ext cx="86328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87440" y="160200"/>
            <a:ext cx="646128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762120"/>
            <a:ext cx="863280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65240"/>
            <a:ext cx="86328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8280" y="304920"/>
            <a:ext cx="789624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30320" y="254160"/>
            <a:ext cx="52815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43280" y="254160"/>
            <a:ext cx="5251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0:24Z</dcterms:modified>
  <cp:revision>5</cp:revision>
  <dc:subject/>
  <dc:title>Slide 1</dc:title>
</cp:coreProperties>
</file>