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A96-89FE-40F6-8783-FEB141A6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487-7488-4FE2-892E-5CB1AD4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540-8CCF-415B-BBFD-1A4512B5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AC0-934B-436B-8E94-A8C8A1A3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10B-B148-47CA-AE9A-D634CD78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2C4-CB8F-4DD1-8EDD-79441AC2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BF0-5529-4B84-8405-C68255DB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697-CA8C-4DFE-8D39-019FFF8F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4AD-1912-4FBA-8E71-734C3247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21E-6028-4A2C-BEE4-A16796C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188-EFFA-46B2-848F-17368935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75B-0375-417D-A4C9-39210F2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449E-B4B8-4E17-B6F4-8039BB91B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828800"/>
            <a:ext cx="8632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003320"/>
            <a:ext cx="86328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143000"/>
            <a:ext cx="86328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977760"/>
            <a:ext cx="863280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6328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343080"/>
            <a:ext cx="8632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0640" y="254160"/>
            <a:ext cx="55609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7844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511280"/>
            <a:ext cx="8632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24672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495360"/>
            <a:ext cx="86328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2413080"/>
            <a:ext cx="86328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86328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804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927000"/>
            <a:ext cx="863280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838080"/>
            <a:ext cx="86328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2540160"/>
            <a:ext cx="86328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127080"/>
            <a:ext cx="86328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955880"/>
            <a:ext cx="86328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1955880"/>
            <a:ext cx="86328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2:56Z</dcterms:modified>
  <cp:revision>3</cp:revision>
  <dc:subject/>
  <dc:title>Slide 1</dc:title>
</cp:coreProperties>
</file>