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E2F-C134-4957-B87A-B8FB9ADF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B62-6E79-432B-8098-CC14B36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D5E-8934-4FF6-8F32-EEF56767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07D-545A-4B28-82B7-3972E0E8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393-122A-4ABD-8BE0-44830C21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3D0-CFDE-419D-8D36-2EF3A01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28A-9804-4C0F-B62F-6450E82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C12-BD4A-4561-AA65-052E353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49A-8532-4BBB-B502-3BDECFF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B16-CCDD-4E1A-A4D2-347D253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73C-1D29-419C-A457-BC031962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7CA-EACC-4657-9942-218953E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B8F2-20F2-4A2E-86A0-9E9C3435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2298600"/>
            <a:ext cx="86328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14480"/>
            <a:ext cx="8632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0560" y="76320"/>
            <a:ext cx="766764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231920"/>
            <a:ext cx="8632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2743200"/>
            <a:ext cx="86328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1981080"/>
            <a:ext cx="86328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762120"/>
            <a:ext cx="8632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765440"/>
            <a:ext cx="8632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825480"/>
            <a:ext cx="863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1778040"/>
            <a:ext cx="8632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09440"/>
            <a:ext cx="74134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01680"/>
            <a:ext cx="79470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4240" y="250920"/>
            <a:ext cx="774396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107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25680" y="254160"/>
            <a:ext cx="42991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01520"/>
            <a:ext cx="863280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160" y="2793960"/>
            <a:ext cx="863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625760"/>
            <a:ext cx="863280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723960"/>
            <a:ext cx="8632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160" y="406440"/>
            <a:ext cx="86328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98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0760" y="254160"/>
            <a:ext cx="4918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4990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50232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75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54360" y="254160"/>
            <a:ext cx="54370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88920"/>
            <a:ext cx="86328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7320"/>
            <a:ext cx="82296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434960"/>
            <a:ext cx="86328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533520"/>
            <a:ext cx="86328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1:21Z</dcterms:modified>
  <cp:revision>3</cp:revision>
  <dc:subject/>
  <dc:title>Slide 1</dc:title>
</cp:coreProperties>
</file>