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279-AABD-446D-9A5C-B425AC8C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415-71FA-447E-947D-122DD0E0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C9C-5A2E-4759-9F0F-D358762C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A74-5C98-40AF-83B8-F46DE480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09A-D7AC-4451-99DE-A4B12B6D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486-1024-4E6D-B44E-4E2D8568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8AE-CA6D-432C-BAFC-57B61828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245-BC75-4F90-9ABD-A009CC25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159-3E23-45BF-A723-1AA06834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464-1634-4A00-AA28-AE6E516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98E-FFF2-476D-ADBB-A34A27F8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EB3-82CA-4347-A61C-FB7C1B5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A396-9D63-463A-8D79-6733D62C9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MSC420: Skip 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inga Doboly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sed off notes by Dave 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236680"/>
            <a:ext cx="91440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gue that the expected runtime of search in a skiplist is in O(log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insertion and dele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y to imp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details, see Dave Mount’s notes (linked from web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this cla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ary search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ld degenerate into a linked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L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performance, difficult to impl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lay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overall performance -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mort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we do “better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ed 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runtime: O(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run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ranteed O(log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 to i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e have both for general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tradeoff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ip 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ization of a linked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(logn) runtime of balanced tr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tr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ized data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icient in the expected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BST, the expected case has nothing to do with the order of the keys being inse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ability that it performs badly is very sm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we make linked lists be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are lists crummy? What takes forev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we could skip over many elements at a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7589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with a sorted linked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another layer linking every other e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that layer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of as a hierarchy of sorted linked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4033800"/>
            <a:ext cx="79012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ip list run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igh does this stack 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 0: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 1: n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 2: n/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ight of stack will be lo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search through the skiplist will be O(log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can we maintain this guarantee of efficien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ect vs Random Skip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 just described is a perfect skip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ppens when you add or delete ele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intain perfect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 skip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decide when to promote a node to some i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randomization, with a chance of 50%, to decide when to promote a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dom Skip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, on average, we promote half of the nodes at every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skiplist will maintain this O(logn) property in the expected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so likely that, overall, nodes will have a uniform distribution and not bunch up at the 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02:26:51Z</dcterms:created>
  <dc:creator>King</dc:creator>
  <dc:description/>
  <dc:language>en-US</dc:language>
  <cp:lastModifiedBy>king</cp:lastModifiedBy>
  <dcterms:modified xsi:type="dcterms:W3CDTF">2010-06-22T12:44:38Z</dcterms:modified>
  <cp:revision>6</cp:revision>
  <dc:subject/>
  <dc:title>CMSC420: Skip Lists</dc:title>
</cp:coreProperties>
</file>