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B18-866E-41A2-9BB9-C6530914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D9A-719B-4E9A-8A7E-1B9D6F93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B82-B908-44F0-9E06-618E998E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477-F1D0-4C13-823C-BAB6D6FF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580-8616-48A8-BE28-44673F73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7D7-F90D-4972-9D4D-69BF8DF1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687-8722-4A3A-9BAA-5BCF5957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F98-87AF-4F1E-BD91-DD10216C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F5C-5BC6-4EDA-BD19-70417612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AF9-3C51-4374-BF8A-9F6F0279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648-D2B0-42A5-B535-F7EB2391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1CB-14A7-4507-A341-DADE51EF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4C3B-C2E4-4550-A02B-AE336AA9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SC420: Splay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a Dobol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ff notes by Dave 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ay(3,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36880" y="0"/>
            <a:ext cx="620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splay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: simply call splay(x,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: call to splay(x,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in tree,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the root is the closest value to x after the splay operation; make x the new roo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4270320"/>
            <a:ext cx="7316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splay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ion: call to splay(x,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all splay(x,L’) – generates new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L’ and R with new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4078440"/>
            <a:ext cx="87487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ortized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m operations, runtime is O(mlo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to skip the proof for this today – see Dave Mount’s lecture notes if you’re 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let’s get an intu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why we have g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819760" y="3571920"/>
            <a:ext cx="3324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st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a tree that is completely unbalanced, with height 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search for an element, we automatically reduce the average node depth by ha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nyu.edu/algvis/java/SplayTre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cost: the time that the splay takes (depends on depth of node in t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al cost is high, subsequent calls will reduce the real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real cost is low, then we are happy, regardless of the balance of th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search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L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node in the tree, the heights of its two subtrees differ by at mos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using rotations and book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ay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rtized goo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using rotations but no book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this c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search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runtime for search is O(lo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egenerate into a linked list 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L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are guaranteed to be O(lo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ust do rotations and maintain balance information in th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293364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ay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AVL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otations to maintain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no balance information needs to be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possibl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unbalanced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ay trees have a self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ing nature (desp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toring bal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at is the run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could still be O(n) in the wors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 binary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he total time to perform m insert, delete, and search operations is O(mlog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ll this the amortized cost/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the same as average cas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dversary could only force bad behavior once in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 splay tree run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lo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52880" y="114480"/>
            <a:ext cx="4191120" cy="4190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ore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t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rtized c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relax the rule that we must always be efficient, it is possible to generate more efficient and simpler data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alance information is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balance the tree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balancing acros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 side effect of doing th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ides bal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eration that has the tendency to mix up th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binary trees tend towards O(logn)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3160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2882880" cy="327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lay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ay(node,Tree): brings node to the root of the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binary search fo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perform one of four possible ro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g-zag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g-zig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g-zag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de is the left child of a right child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de is the right child of a left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double rotation to bring node up to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3860640"/>
            <a:ext cx="73868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g-zig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is the left child of a left child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is the right child of a right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new kind of double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414600"/>
            <a:ext cx="74023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23:10:38Z</dcterms:created>
  <dc:creator>king</dc:creator>
  <dc:description/>
  <dc:language>en-US</dc:language>
  <cp:lastModifiedBy>king</cp:lastModifiedBy>
  <dcterms:modified xsi:type="dcterms:W3CDTF">2010-06-22T12:44:05Z</dcterms:modified>
  <cp:revision>9</cp:revision>
  <dc:subject/>
  <dc:title>CMSC420: Splay Trees</dc:title>
</cp:coreProperties>
</file>