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F1C-5C71-4F40-A895-14C3C6D6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421-F1F1-474D-AC73-048ECF84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603-0078-4378-B4CC-9757593E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DF3-41A9-4C04-98A6-91929EAA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2EE-830C-4E20-9392-9304943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40D-DD26-430F-B247-CEDCD370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D8B-4FA9-4276-B0F4-D531599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A7B-8F46-4EAE-8297-9D5214E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418-6463-4FB5-BF24-88ECF9E0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A62-5D96-409E-BB61-113C7E0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7B6-8428-4CCE-949A-83816825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00B-2149-4D25-BACF-469B17E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8790-6406-4D2A-84DF-1F120439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dd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quest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ind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2</a:t>
            </a:r>
            <a:r>
              <a:rPr b="0" i="1" lang="en-US" sz="3200" spc="-1" strike="noStrike" baseline="54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c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ists, allocate a block of size 2</a:t>
            </a:r>
            <a:r>
              <a:rPr b="0" i="1" lang="en-US" sz="3200" spc="-1" strike="noStrike" baseline="54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c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exist, allocate the next larger block on the list, and split it in half until a block of size 2</a:t>
            </a:r>
            <a:r>
              <a:rPr b="0" i="1" lang="en-US" sz="3200" spc="-1" strike="noStrike" baseline="54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dd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ternal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er search than a link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adjacent blocks is easy (the buddy for any block of size 2</a:t>
            </a:r>
            <a:r>
              <a:rPr b="0" i="1" lang="en-US" sz="2800" spc="-1" strike="noStrike" baseline="54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other block of the same size with the same address excep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54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 is rever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internal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memory allocation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regated storage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eak available memory into several memory zones, each with its own managemen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 a standard size (cluster sche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disk fi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internal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need to be cont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s when a memory request for a certain size cannot be serv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external fragmentation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ory, which physically mo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handle if the application relies on absolute position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fer the memory request (for example, when several processes are running at o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ure policies: Garbag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 program variable points to a block of space, it is conside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a memory le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es determining which memory is garbage and recover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on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/sweep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ach dynamically allocated memory block has a count field that is incremented and decremented for each pointer pointing to it (or away from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ount reaches zero, the memory becomes garbage and is immediately placed in free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the UNIX file system, where the memory objects are linked together without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when the objects are large, such as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/swe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single bit marker instead of a coun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for cycles, but DFS is recur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 phase occurs when free store is exhau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all mark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DFS from each pointer on the variable list, turning on th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through the memory pool for unmarked elements (which are garbage and placed in free s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p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arge block of contiguou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r allocates memory by returning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e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fer to free memory accessed by a dynamic memory management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 of any size may be requested in any order from the free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ques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s, and a block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 is used for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result in fragmentation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mentation in Dynamic 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ts of small fre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en all of block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locate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s. This type of allocation is easier, if less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Fi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find a “good”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-list is organized as a doubly-link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bit and block size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mory manager searches the free-list for a block of “suitable”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sequential fi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rom the beginning (or midd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ste larger blocks by breaking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s entir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external fragmentation but will be more likely to be able to service lar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sequential fi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s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s largest block through a sequential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external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est? Depends on the expected types of memory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ree-list is in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s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merge adjacent fre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itional space to support the memory manager operations/link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ything that can be im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dd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memory is of size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free and reserved blocks will be of size 2</a:t>
            </a:r>
            <a:r>
              <a:rPr b="0" i="1" lang="en-US" sz="2400" spc="-1" strike="noStrike" baseline="74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74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ddy system keeps a separate list of free blocks for each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21:55:50Z</dcterms:created>
  <dc:creator>Class Act</dc:creator>
  <dc:description/>
  <dc:language>en-US</dc:language>
  <cp:lastModifiedBy>Class Act</cp:lastModifiedBy>
  <dcterms:modified xsi:type="dcterms:W3CDTF">2006-07-18T22:47:19Z</dcterms:modified>
  <cp:revision>3</cp:revision>
  <dc:subject/>
  <dc:title>Memory Management</dc:title>
</cp:coreProperties>
</file>