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478-EFE8-4563-9567-41702906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054-DE4E-45BA-9E26-DED3EB72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F3D-DD0C-43BB-918F-757A214A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F55-D970-48AF-8C74-6E963951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E8DF-C85F-44F8-A079-1F3C834F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1DE1-7245-428E-9D44-5434B2E1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80B9-1924-4E61-81CB-B0AD0B36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8212-5020-44A1-A0D8-D9DDF53C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7B2C-BF79-43AB-BEB0-94FA9733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ABA7-2206-4F2D-B7B9-D339BE8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B71A-349A-487B-9C4B-DAEDAF9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705-0717-42DB-92E7-CEB8D5DA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3F8C-4960-4C2D-8ADD-F4B6708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B6B8-BF16-4C0E-AA7C-BDC27B4D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5A9E-E2DD-4FB9-9804-34931D7A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1255-73B2-4122-AF3C-B9AA863C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2EDB-633F-4871-9E0E-33E1C9F1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3BC-4236-49B4-8259-CF156997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B97-28BD-4537-9DB1-10DB1AC2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3B2-A525-4F6C-A26B-0678F302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261-D545-4207-B738-AEA8FFB9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A77-E594-4667-B4A9-17F08DC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CBB9-E996-4EB0-9DD8-107B17A7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64D-F02E-49A5-9C33-08E68AF0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1CD5-FF9C-421D-9A9A-2F2D2CBF26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4E46-2421-40EF-90B9-47B98B7560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otorious PM Quad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strument of Your Tor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van Machusak (borrowed by King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riginal: June 19, 200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dated: November 5, 200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3 Quad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 nodes can conta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t most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t (in other words, can only contain ONE endpoi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many q-edges as it w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-edges are not allowed to intersect (demo linked from webpage is wrong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is the same as the PR quadtree – only challenge is adding q-edges to appropriate nodes, boundary cases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dtree boundary c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PR quadtree, we adopted the convention that the node is closed on its west and south borders, but open on the other tw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s to a problem if a vertex lies on a closed edge of a quadtree block, but its edges emanate into open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dtree boundary c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elongs to 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ges ab and a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ong to NW, bu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oes 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ld never separ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and ac in NW b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lit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378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section 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vertex lies on th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rder, insert it into al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des (max 4 nod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you mu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for inters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ing inse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54800" y="1600200"/>
            <a:ext cx="268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2 Quad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nodes can cont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t most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ert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non-intersecting q-edges, all of which must share a common end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1 Quad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nodes can cont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most 1 vertex, and 1 or more q-edges, as long as the q-edg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 not 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y all share the node’s single vertex as one of their endpoints 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most 1 q-edge (this is actual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 because a black node with 0 q-edges is a white no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 seems hard to imp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ules imposed by the PM on black nodes can make insertion and removal difficult.  Here’s wh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have to detect line intersections, which may only occur very deeply in the tree (possibly after you’ve already partitioned and added the q-edge to other, shallower subtr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becomes tricky: may have to partition many, many times for a single ins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rging is fu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 line is removed, you may need to merge, becau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M must be minimal at all times: if a grey node can be collapsed, it must 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ing transforms a grey node into a black node by collecting the dictionaries of all of the grey node’s children into a single diction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 don’t worr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pite how challenging the PM may be, students like you implement this beast every seme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terrible if you’ve already dealt with PR Quadtr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talk about some details of the 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ical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s when a line’s endpoint falls on a partition bounda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s when a line is defined to fall exactly on a parti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s when an endpoint falls on a partition’s center (ex. 512,51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s when a line intersects a partition’s cen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olygonal 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 Quadtree = “Polygonal Map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PR (Point Region) quadtree, but stores lines instead of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s up storing both (a line is defined by two poi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by Hanan Samet some time a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 the point or q-edge into all of the regions it touch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issues to consi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o you stop partition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s can continue to occur within space constr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ur purposes it’s usually when the region’s area would be less than 1x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if endpoints are integers, lines can cross partitions at floating-point coordin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metric computations for the PM are floating-poin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lose is close enoug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lines could be really, really close together (perhaps they differ by only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-1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– does that qualify as intersection or no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ximum intersection distance can be defined as a way to stop partitioning (somewhat trickier than measuring partition wid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it goo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 answer: noth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you’re wr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rding to Sam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ation of the identity of the region in which a point lies (du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ation of the boundaries of all regions lying within a given distance of a point (nearest segment to 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laying two m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ymptotic complex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the tre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ding to Samet, the build time for adding 1 edge at a time to a PM1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 * 3 + L*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DMAX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* (DMAX + 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 = number of edges to add to the m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 = size of the perimeter of the largest a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MAX = maximum depth of the tree (for a 1024 grid with 1x1 smallest regions, this is 10 – in general this 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-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is the size of one side of the gr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 is the square root of the smallest allowable region’s area (usuall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≤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 cost of inserting edge into data diction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ymptotic analysis, con’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robust analysis, but if you’re thinking in big O notation, n = E, number of ed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uild is linear according to Samet –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than a SkipList or a TreeMap, which is O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2017440"/>
            <a:ext cx="88027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those constants: hug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 1024 grid, let’s crunch the numbers (A is negligibly sm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AX = 10, 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 * 3 + L*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MAX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* (DMAX +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0E + 4*1024*2048*(10+0) = 30E + 838860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, that’s 83,886,080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is larger than log n when n = 1,000,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ly… how to imp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evious projects, you’ve dealt with SortedMaps as 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M Quadtrees are neither SortedMaps nor useful 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pecific to be a general map: keys are always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what are the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built to perform certain operations quickly – remember Samet’s uses for a quadtre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out the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 SkipList, you have at least two types of nodes in your P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y nodes will turn into black nodes and black nodes will turn into grey nodes (both can turn to wh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deal with tha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now and drink yourself into obliv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MSC department highly recommends against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y to Black, vice ver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ld make one single “node” type which has a flag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 = wh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= gr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=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node has a data dictionary and four children 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722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-ary search tr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ered (child 1 = NW, child 2 = NE, child 3 = SW, child 4 = 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-space partition (internal nodes are guid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 PR, consists of black, grey, and white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 that’s b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one node class and a flag is the naïve and inefficient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seem easier to code, but not re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aste lots of space.  A grey node doesn’t need a data dictionary and a black node doesn’t need children poin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run the risk of calling inappropriate methods (i.e., calling methods designed for black nodes when the node is gr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to get around this by always checking flags at start of function – this makes bulky code.  Dynamic method invocation is bet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o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n abstract node supertype, and make a black and a grey both extend this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ce because no space is wasted, and better OO design.  Easier to debug, maybe easier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” to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prepared for lots of casts unless you’re a p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’t try a method call on a Node assuming it’s black or grey and catch an exception to tell you otherwise.  Throwing exceptions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xpensive (especially for flow contr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types you n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a way to represent q-ed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a structure for a black node’s data diction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onal struc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 good way to represent regions (can be done many ways – mor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 way to represent part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two are potentially equival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-edg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whatever you use to represent a q-edg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s java.awt.geom.Line2D.Float or java.awt.geom.Line2D.Dou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don’t need to create your own clas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r 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unless edges can have extra information (such as na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’s awesome geome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’s great for PM quadtrees because all of the geometric primitives are implemented for you to use or ext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importantly, all of the computational geometry algorithms necessary are already done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nice: the intersects()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diction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your black nodes’ data dictionaries, you need a set of some kin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need to be sorted since dictionaries are often small (fewer than 10 elem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y only use one dictionary – in all PM trees, there can be only one point per region, so only need a list of edges and keep the point sepa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ges can be Comparable (or use a Comparator) if you want to use fast, sorted structures (like TreeSet), but this is usually wast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resenting partitions as grey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are brave, you don’t need to store anything at partitions – you can figure their center point out on the fly based on the level of the tree and the known min/max partition sizes (Krznarich does th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t precomputes his partitions; only a substantial cost reduction if maximal region’s area is not a power of 2, since bit shifting is practically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as storing center of partitions at grey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op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e a point (center of the parti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e 4 java.awt.geom.Rectangle2D.Float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 to use 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ptions can help you tremendously on this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aren’t familiar with them, learn them – they are simple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 for signaling when a partition is attempted on a region that is already the minimum size (at least, that’s how I wrote my insert function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tree, and tree algorithms often look like th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this doesn’t work in Jav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 is annoy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024200" y="3276720"/>
            <a:ext cx="703872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STAdd(Node root, Object data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root == null) root = new Node(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if (root.data.compareTo(data) &l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STAdd(root.left,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BSTAdd(root.right,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ping your reference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133720"/>
            <a:ext cx="769644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add(Object data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de[] n = new Node[] { this.root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STAdd(n,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root = n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STAdd(Node[] r, Object data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r[0] == null) r[0] = new Node(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if (r[0].data.compareTo(data) &l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STAdd(r[0].left,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BSTAdd(r[0].right,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nodes: contains a data dictionary (a set) of geometric objects contained in this region of space (more la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y nodes: define the partitions in space – for PM Quadtrees, divides space into 4 equal areas (quadr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nodes: represent empty regions in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ight w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ight design makes the PM Quadtree trivial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PM Quadtree should contain some inner classes for its node types (grey, black, and wh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s, white – you’ll see why brief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M Quadtree class itself is really just an interface for accessing the root node of the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des themselves perform all of th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ample Node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his Node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666880"/>
            <a:ext cx="815328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Nod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Node add(Geometry g, Point center, Number width, Number height) throws PM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Node remove(Geometry g, Point center, Number width, Number 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vali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4952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ice the return types and the parameter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turn types explain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2017440"/>
            <a:ext cx="81169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ason for the return type is to circumvent the need to try something lik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add(Node n, …) { n = new Node();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x = new Node(); add(x,…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esn’t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f(…) { return new Node()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x = new Node(); x = f(…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asic 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dd() is invoked on a grey node, the call to add() is forwarded to one or more of that grey node’s child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a line may need to be added to all four of the grey node’s children if it intersects the center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child is grey, the process is rep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child is black, the item you’re adding gets put into the child’s diction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happens if the node is partition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lack child becomes a grey chil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child is white, the white node becomes a black chi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t the references may chang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, for instance, your grey node has a Node[] to store its 4 childr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[] children = new Node[4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determine that the geometry you are trying to add to this grey node intersects child 0, you would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ildren[0] = children[0].add(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ay be reassigning the first child (in region 1), e.g. if that child was a black node that was just partitio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at case, the black node’s add() method would return the resulting new gre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for the black n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ng geometry to the black node is si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the geometry into the dictionary, and then invo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id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id(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s the dictio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id(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 true,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, return a new grey node that is the result of partitioning this blac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for the grey n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chil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geometry you’re trying to add intersects the child, assign the child to be the result of invoking add on that child, for 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ildren[0] = children[0].add(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retur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 for the white n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find it useful to implement a white node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grey is first created, all children are initially wh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dd() is invoked on a white node, it just returns a new black node containing the geometry to ad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implement a white node, make it a singleton clas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ve is simili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black nodes, if the last item is removed, return the singleton white node, otherwise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rey nodes, after calling remove() on the appropriate children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eck if its children can be merged or if it’s still necessa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has more than one black or gre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grey is still necessary,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return the new merged black node or return its only remaining blac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ite nodes, if you ever call remove() on them your code is buggy, so throw an ex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to do if something goes wrong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this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() {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untimeException();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 x = f(); y = 7; }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Exception e) {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happe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stays 0, y stays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similar idea when partitioning a blac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re’s an intersection with existing geometry or if the partition goes too deep, throw an 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e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123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s are same as PR Quadtree, except for handling when data lands on boundaries (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81024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ever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requires some backtr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hild 1, 2, and 3 succeed but child 4 throws an exception, you’ll need to undo the add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icient to simply call remove() on the offending geometry if add()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viously, this requires remove() also be implem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e() is as easy as add() under this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vel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eople like to do a prescan of the tree to test for problems before they insert to avoid having to call 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tell a priori if a partition will be too deep based on the proximity of the geometry you’re adding to pre-existing geome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easily detect inters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is is costly: a prescan method might be less expensive than remove, but you’re calling prescan every single time you ad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cleaning up only when an error has occurred, you are only doing extra work when the input is b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detail to keep in mi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017440"/>
            <a:ext cx="8497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hoose to throw exceptions when things go wrong with the intention of catching those exceptions and then executing some code, this practice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ceptions for flow-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bad practice because exceptions 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 -- Throwing an exception isn’t expensive; creating one is, because a stack trace is created and during that creation the JVM needs to ha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you don’t care about the stack trace when using exceptions for flow control, you can make a static member variable of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your PM Quadtree and always throw that instead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 new Exception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alway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feel uncomfortable with the PM quadtree, there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es and pages about them in Samet’s 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cal pseudo-code by Sam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you translate his Pascal, line for line, into Jav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flogging is the only answer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-- Bobby Bhattacharje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s your friendly TAs entertained while sitting through obligatory office hou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057480" cy="39621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rcRect l="0" t="0" r="3337" b="2833"/>
          <a:stretch/>
        </p:blipFill>
        <p:spPr>
          <a:xfrm>
            <a:off x="228600" y="2286000"/>
            <a:ext cx="4419720" cy="419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4648320" y="5257800"/>
            <a:ext cx="4495680" cy="13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ank you, Hanan Sam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 leave this to you as an exercis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ke care of yourself, and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 quadtrees are not PR’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 quadtrees can be partitioned by the location of line segment’s endpoints, but that’s not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 designed to map polygons, so it stores line seg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line segments overlap more than one region in the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-ed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ig difference between PR quads and PM quads is that segments must be stored in every region they overl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ology: all line data in PM trees is called a “q-edge” (q = quadra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ugue says: “a q-edge is merely a term for a portion of a segment, restricted or clipped by a given partition, irrespective of the inclusion of its vertic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M trees can be partitioned based on q-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572000" cy="4303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3372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648320" y="2857680"/>
            <a:ext cx="148572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791320" y="2857680"/>
            <a:ext cx="34272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133680" y="2857680"/>
            <a:ext cx="6858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133680" y="2857680"/>
            <a:ext cx="16002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377208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48240" y="377208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377208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377208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25146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48440" y="2514600"/>
            <a:ext cx="18288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Partiton: (512,5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59124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05240" y="4572000"/>
            <a:ext cx="914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N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Point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Edge 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8240" y="4572000"/>
            <a:ext cx="914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Point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Edge C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4572000"/>
            <a:ext cx="914400" cy="14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S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Point 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Edge 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Edge C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05640" y="4572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Impact"/>
              </a:rPr>
              <a:t>Edge C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M# 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’s a PM3, a PM2, a PM1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der” of the quadtree generally refers to how strict the rules are about what a black node can cont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: stricter rules mean more part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1 is the stric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23:54:36Z</dcterms:created>
  <dc:creator>emach</dc:creator>
  <dc:description/>
  <dc:language>en-US</dc:language>
  <cp:lastModifiedBy>king</cp:lastModifiedBy>
  <dcterms:modified xsi:type="dcterms:W3CDTF">2010-06-22T15:36:45Z</dcterms:modified>
  <cp:revision>148</cp:revision>
  <dc:subject/>
  <dc:title>The Notorious PM Quadtree</dc:title>
</cp:coreProperties>
</file>