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7A26998-FC68-4544-B5BA-5A90CD2ABF6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doubly-link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gregat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arbage coll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-related perils and pit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41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ze cla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as its own collection of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4280" y="1949400"/>
            <a:ext cx="6779160" cy="3080520"/>
            <a:chOff x="764280" y="1949400"/>
            <a:chExt cx="6779160" cy="3080520"/>
          </a:xfrm>
        </p:grpSpPr>
        <p:sp>
          <p:nvSpPr>
            <p:cNvPr id="295" name=""/>
            <p:cNvSpPr/>
            <p:nvPr/>
          </p:nvSpPr>
          <p:spPr>
            <a:xfrm>
              <a:off x="14475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524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19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68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3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907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5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52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763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07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56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51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00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475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24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74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19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718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3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956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051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00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4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68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763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07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1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50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9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24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4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9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39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24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74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19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668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63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07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956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051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6200" y="19494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8120" y="26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52280" y="330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16200" y="40068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4280" y="46926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74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62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862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27874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12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6688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5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76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06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88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94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000" y="34732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48448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57200" y="5257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ten have separate size class for every small size (2,3,4,…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larger sizes typically have a size class for each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parate heap and free list for each size clas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 split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 (note, list can be implicit or explicit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t a new page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eate new free list from all blocks in pag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deoff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F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25516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arch appropriate free list for block of size m &g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 appropriate block is found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lit block and place fragment on appropriate list (option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 block is found, try next larger cla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until block is fou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e and place on appropriate list (optio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ster search than sequential fits (i.e., log time for power of two size class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s fragmentation of simple segregated 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ing can increase search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erred coalescing can hel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99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 on Alloc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3120" y="1447920"/>
            <a:ext cx="82821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lassic reference on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ehensive surv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CS:APP student site (csapp.cs.cmu.edu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0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Memory Management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3120" y="1872720"/>
            <a:ext cx="828216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arbage coll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p, ML, Java, Perl, Mathematica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collect all garb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we can tell that certain blocks cannot be used if there are no pointers to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nager can distinguish pointers from non-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pointers point to the start of a block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hide pointers (e.g., by coercing them to 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then back agai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88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assical GC algorith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3716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unless you also “compact”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s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rmation, se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505320"/>
            <a:ext cx="5985000" cy="205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33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s a Grap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view memory as a directed grap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node (block)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on-reachable node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rbage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never needed by the applicatio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53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 For This L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block will have a header wor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s used by the Garbage Collec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Collec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locate us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llo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ntil you “run out of spac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extr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head of each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at roots and 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 all reachabl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weep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an all blocks 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locks that a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mar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40384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0132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457200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9040" y="43178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8320" y="416556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76160" y="38545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180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4419720"/>
            <a:ext cx="60984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4419720"/>
            <a:ext cx="121896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343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8769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48513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19520" y="54100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7960" y="51562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50036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525780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25780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2448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99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94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62520" y="57150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6894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19520" y="624852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1560" y="59943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842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609588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2448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3733920"/>
            <a:ext cx="304920" cy="304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32360" y="3733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666880"/>
            <a:ext cx="8458200" cy="1676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153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556080"/>
            <a:ext cx="2438280" cy="48240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82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ervative Mark and Sweep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onservative  collector for C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s_pt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 C pointers can point to the middle of a block.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 how do we find the beginning of the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balanced tree to keep track of all allocated blocks where the key is th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lanced tree pointers can be stored in header (use two additional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3352680"/>
            <a:ext cx="32004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1840" y="3048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7880" y="27273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3048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352680"/>
            <a:ext cx="13716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5759280"/>
            <a:ext cx="11430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5759280"/>
            <a:ext cx="1828800" cy="3812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66040" y="5438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90120" y="54388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885840" y="5987880"/>
            <a:ext cx="304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98788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60840" y="636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8920" y="63691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5680" y="57848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566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-Related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referencing Bad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assic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can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u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Uninitialized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-by-one err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s for classic buffer overflow atta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8 Internet w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attacks on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/Microsoft IM w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doub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need boundary tags for coalesc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09320" y="1371600"/>
            <a:ext cx="4343760" cy="304920"/>
            <a:chOff x="2209320" y="1371600"/>
            <a:chExt cx="4343760" cy="304920"/>
          </a:xfrm>
        </p:grpSpPr>
        <p:sp>
          <p:nvSpPr>
            <p:cNvPr id="125" name=""/>
            <p:cNvSpPr/>
            <p:nvPr/>
          </p:nvSpPr>
          <p:spPr>
            <a:xfrm>
              <a:off x="2514600" y="1371600"/>
              <a:ext cx="8380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1371600"/>
              <a:ext cx="838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1371600"/>
              <a:ext cx="11430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2680" y="1447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832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16002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52680" y="1600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220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09320" y="160020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14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708360"/>
            <a:ext cx="5181480" cy="55872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3204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267080"/>
            <a:ext cx="6096240" cy="67176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426708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0640" y="34290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4680" y="45655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4184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645000"/>
            <a:ext cx="2971800" cy="62208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2670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5760" y="3803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5760" y="3809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240" y="4419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Nonexist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38280" y="2432160"/>
            <a:ext cx="43434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Blocks Multiple Ti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Freed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al debugger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gdb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for finding  bad pointer de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detect the other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bugg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CSRI UToro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apper around conventiona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s memory bug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und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overwrites that corrupt heap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instances of freeing blocks multiple tim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lea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etect all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es into the middle of allocat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eeing block twice that has been reallocated in the interi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fre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ful debugging and analysis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writes text section of executable object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tect all errors as debugg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also check each individual reference at run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d poi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outside of allocated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he system free blocks instead of the programm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ng From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Where in the free list do you put a newly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O (last-in-first-out)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 at the beginning of the free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imple and constan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studies suggest fragmentation is worse than address ord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-ordered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s so that free list blocks are always in address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 addr(pred) &lt; addr(curr) &lt; addr(su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requires sear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tudies suggest fragmentation is better than LIF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52880" y="5181480"/>
            <a:ext cx="373392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50532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137160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9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1: a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2: a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8880" y="13708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440" y="1370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555920"/>
            <a:ext cx="10666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21337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73880" y="350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2800" y="350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2670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976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8040" y="396216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73880" y="5271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2640" y="52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57150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7150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2760" y="54860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45616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029200" y="990720"/>
            <a:ext cx="3733920" cy="1218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362320"/>
            <a:ext cx="3733920" cy="99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79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3: f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4: f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9240" y="913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8520" y="91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2604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9440" y="13712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63840" y="2375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2960" y="237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2819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819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1600" y="2666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6068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Lis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extra space for the links (2 extra  words needed for each bloc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4495680"/>
            <a:ext cx="8458200" cy="762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1:46:07Z</dcterms:modified>
  <cp:revision>226</cp:revision>
  <dc:subject/>
  <dc:title>Dynamic Memory Allocation II</dc:title>
</cp:coreProperties>
</file>