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C61C-CA83-4751-8667-11077DF13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 advi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n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1831"/>
          </a:solidFill>
          <a:ln w="38160">
            <a:solidFill>
              <a:srgbClr val="e31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407520" y="6240600"/>
            <a:ext cx="167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E295-458C-499C-8CFE-75DA0DA5847A}" type="slidenum">
              <a:rPr b="0" lang="en-US" sz="2400" spc="-1" strike="noStrike">
                <a:solidFill>
                  <a:srgbClr val="000000"/>
                </a:solidFill>
                <a:latin typeface="Opti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458200" y="228600"/>
            <a:ext cx="46368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1831"/>
          </a:solidFill>
          <a:ln w="38160">
            <a:solidFill>
              <a:srgbClr val="e31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407520" y="6240600"/>
            <a:ext cx="167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2D65-C057-43FC-AA73-D110F7A1481B}" type="slidenum">
              <a:rPr b="0" lang="en-US" sz="2400" spc="-1" strike="noStrike">
                <a:solidFill>
                  <a:srgbClr val="000000"/>
                </a:solidFill>
                <a:latin typeface="Opti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9880" y="884160"/>
            <a:ext cx="1752840" cy="140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458200" y="22860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Midterm Issue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Social Contex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ocial context is a specific role that a person has in society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E.g. Doctor, lawyer, patient, voter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Not an issue of social interactions between people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Encompasses demographic information, etc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formation User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In social context - how do people in a particular role use information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What types of information are needed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How do users access information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Where is information lacking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Is information biased? Difficult to understand?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What information systems are available to support these needs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Patient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formation Need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Doctor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Disease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uppor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Doctor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Who is a good doctor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Has this doctor had malpractice suits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Has the doctor made serious mistakes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What are potential problems with review sites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Disease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I am having some symptoms. Do I need to do see a doctor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I have been diagnosed with a condition. What can I expect? If something changes in my status, should I be alarmed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Drug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I have been prescribed a drug. 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What are the side effects?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What are the interactions?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When should I take it?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Is there a cheaper, similar drug?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Suppor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I have a condition (or am caring for someone with one)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Are my reactions normal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What are other options for treatment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How will a treatment I’m going to undergo work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Make me feel better.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22:17:27Z</dcterms:created>
  <dc:creator>Jennifer Golbeck</dc:creator>
  <dc:description/>
  <dc:language>en-US</dc:language>
  <cp:lastModifiedBy>Jennifer Golbeck</cp:lastModifiedBy>
  <dcterms:modified xsi:type="dcterms:W3CDTF">2008-04-01T16:53:42Z</dcterms:modified>
  <cp:revision>3</cp:revision>
  <dc:subject/>
  <dc:title>Patients</dc:title>
</cp:coreProperties>
</file>