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BAF-4DF4-4969-A72D-96DD9B320CF4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77A-2D8D-40B3-803C-A8E262BFBE93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tv.disney.go.com/playhouse/stories/" TargetMode="External"/><Relationship Id="rId2" Type="http://schemas.openxmlformats.org/officeDocument/2006/relationships/hyperlink" Target="http://www.icdlbooks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rum.proanamia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hildren and Famili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hildren &amp; Famili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cus on the Interne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hildren’s Need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ntertainment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amilies’ Need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ample Websit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Playhouse Disne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31a44"/>
                </a:solidFill>
                <a:uFillTx/>
                <a:latin typeface="Optima"/>
                <a:hlinkClick r:id="rId2"/>
              </a:rPr>
              <a:t>International Children's Digital Librar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National School Boards Foundation Study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e main reason families buy computers and connect their children to the Internet at home is for education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e Internet does not disrupt children's everyday habits and typical, healthy activitie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Contrary to conventional wisdom, the Internet does not appear to isolate children from their families, peers or communitie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Girls use the Internet as much as boys, but in different way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chools have the opportunity to help narrow the gap between the haves and have-not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Parents trust their children's use of the Internet; however, they do have some concern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NSBF Guidelin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ake a balanced approach to policies and practices for children's use of the Internet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Pay as much attention to highlighting good content as to restricting bad content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Develop a plan to help schools, teachers and parents educate children about safe, responsible uses of the Internet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Foster appropriate use of the Internet among preschoolers and other young children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Help teachers, parents and children use the Internet more effectively for learning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Use the Internet to communicate more effectively with parents and student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Engage the community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ang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upport for self-destructive behavior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1a44"/>
                </a:solidFill>
                <a:uFillTx/>
                <a:latin typeface="Optima"/>
                <a:hlinkClick r:id="rId1"/>
              </a:rPr>
              <a:t>E. g http://forum.proanamia.com/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olicitation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hildren’s Internet Protection Ac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Schools and libraries must have internet safety policie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Must include technology protection measures to block or filter Internet access to pictures that: (a) are obscene, (b) are child pornography, or (c) are harmful to minors, for computers that are accessed by minors.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Required to adopt and enforce a policy to monitor online activities of minors; and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Required to adopt and implement a policy addressing: (a) access by minors to inappropriate matter on the Internet; (b) the safety and security of minors when using electronic mail, chat rooms, and other forms of direct electronic communications; (c) unauthorized access, including so-called “hacking,” and other unlawful activities by minors online; (d) unauthorized disclosure, use, and dissemination of personal information regarding minors; and (e) restricting minors’ access to materials harmful to them. 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eleting Online Predators Act of 2006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Bill (not approved) that would block access to social networks and chat rooms for minors in all public libraries and schools that receive E-Rate funding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49608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efinition: FCC must determine, and consider</a:t>
            </a: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offered by a commercial entity;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permits registered users to create an on-line profile that includes detailed personal information;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permits registered users to create an on-line journal and share such a journal with other users;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elicits highly-personalized information from users; and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  <a:p>
            <a:pPr lvl="1" marL="850320" indent="-42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Opti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enables communication among users. </a:t>
            </a:r>
            <a:endParaRPr b="0" lang="en-US" sz="1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tate Social Networking Law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Georgia, North Carolina Protect Children From Sexual Predators Act: Social networks must require parental approval for minors to create profiles, and provide parents with full access to kid’s profil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Oklahoma's HB 1715: libraries must block access to email and social networks, or block internet access totally for mino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llinois Social Networking Prohibition Act: public libraries and schools must block all access to social networking sites for all user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one passed yet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4:11:22Z</dcterms:created>
  <dc:creator>Jennifer Golbeck</dc:creator>
  <dc:description/>
  <dc:language>en-US</dc:language>
  <cp:lastModifiedBy>Jennifer Golbeck</cp:lastModifiedBy>
  <dcterms:modified xsi:type="dcterms:W3CDTF">2008-04-22T14:46:24Z</dcterms:modified>
  <cp:revision>5</cp:revision>
  <dc:subject/>
  <dc:title>PowerPoint Presentation</dc:title>
</cp:coreProperties>
</file>