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ct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Opti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Opti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Opti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Opti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Opti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31831"/>
          </a:solidFill>
          <a:ln w="38160">
            <a:solidFill>
              <a:srgbClr val="e318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-407520" y="6240600"/>
            <a:ext cx="1677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38850-E87C-400A-ACA2-BA50DA5D64AF}" type="slidenum">
              <a:rPr b="0" lang="en-US" sz="2400" spc="-1" strike="noStrike">
                <a:solidFill>
                  <a:srgbClr val="000000"/>
                </a:solidFill>
                <a:latin typeface="Opti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458200" y="228600"/>
            <a:ext cx="463680" cy="46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Opti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Opti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31831"/>
          </a:solidFill>
          <a:ln w="38160">
            <a:solidFill>
              <a:srgbClr val="e318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407520" y="6240600"/>
            <a:ext cx="1677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780D8-5128-4E5E-B2CA-F4CB6CE87A9E}" type="slidenum">
              <a:rPr b="0" lang="en-US" sz="2400" spc="-1" strike="noStrike">
                <a:solidFill>
                  <a:srgbClr val="000000"/>
                </a:solidFill>
                <a:latin typeface="Opti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809880" y="884160"/>
            <a:ext cx="1752840" cy="1401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8458200" y="228600"/>
            <a:ext cx="463680" cy="463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Opti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Opti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Opti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Opti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Opti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Opti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Politicians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Who are Politicians as Information Users?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Two roles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Campaigns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Decision Making (after elected)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What are Thei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Information Needs?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Learning about what voters want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Learning about issues to make policy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Information in Campaigns: Polling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Why is polling important?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What do campaigns achieve from polling?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What issues are important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What groups are for/against the politician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What issues matter to which groups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Who should their campaign target?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How Polls are Conducted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Sampling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Size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Question Phrasing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Interview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Interpretation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Information in Decision Making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Politicians, once in office, must make decisions on many issues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Need detailed information on all those issues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Time consuming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Difficult when outside the politician’s area of expertise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Lobbying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Lobbyists represent special interest groups and try to influence policy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Provide information to politicians in office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Can present experts, evidence, facts to support their side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Politicians rely on this information 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tima"/>
              </a:rPr>
              <a:t>Lobbying Issues</a:t>
            </a:r>
            <a:endParaRPr b="0" lang="en-US" sz="4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Fairness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Can you pay a politician to vote your way?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Can you give him or her a gift to vote your way?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Can you take them on a trip to a meeting?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tima"/>
              </a:rPr>
              <a:t>Can you buy them lunch?</a:t>
            </a:r>
            <a:endParaRPr b="0" lang="en-US" sz="2800" spc="-1" strike="noStrike">
              <a:solidFill>
                <a:srgbClr val="000000"/>
              </a:solidFill>
              <a:latin typeface="Opti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Access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22:11:49Z</dcterms:created>
  <dc:creator>Jennifer Golbeck</dc:creator>
  <dc:description/>
  <dc:language>en-US</dc:language>
  <cp:lastModifiedBy>Jennifer Golbeck</cp:lastModifiedBy>
  <dcterms:modified xsi:type="dcterms:W3CDTF">2008-02-12T20:02:55Z</dcterms:modified>
  <cp:revision>3</cp:revision>
  <dc:subject/>
  <dc:title>Politicians</dc:title>
</cp:coreProperties>
</file>