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11A-E3A5-4DB9-B6F0-8816E24C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 path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st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cl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cl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 - connects many people (lik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 - connects many nodes, like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- if you delete  a bridge, the endpoints will lie in different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centric network for D, diame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ocentric network for D diameter 1.5 (All of D’s friends and the connections between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 Edges, 48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/(48*47) = 0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i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ed or Undirec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25C-A016-4AC4-9731-3060D926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713-7622-4271-A7D0-DD728BD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0D0-CFB3-40CA-8D7A-E18EEEA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2F3-FE3C-430B-A34C-905B40F6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584-F55E-49EF-B4D5-B4CF452C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DBB-B71D-458D-AF4D-6B1782AF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D20-0365-40CF-8286-F2040F8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C0E-1CBC-4C1D-AD6B-37515E5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1DF-E4E0-4DAC-80AE-AECE655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B47-14A2-45AE-BAEF-0B9BB0BB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8CC-1B66-43D7-9294-D223ECBA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682-766D-45F2-AACA-1EF6643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764B-1FCC-4C7A-8B0D-09A1BE7F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phics8.nytimes.com/images/2007/02/26/movies/0227-cul-webTHANK.jpg" TargetMode="External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" y="-185760"/>
            <a:ext cx="9140760" cy="73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1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9" idx="0"/>
            <a:endCxn id="175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79" idx="0"/>
            <a:endCxn id="176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9" idx="3"/>
            <a:endCxn id="177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9" idx="0"/>
            <a:endCxn id="175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3520" y="1062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47240" y="1842840"/>
            <a:ext cx="4515840" cy="3857760"/>
            <a:chOff x="1947240" y="1842840"/>
            <a:chExt cx="4515840" cy="3857760"/>
          </a:xfrm>
        </p:grpSpPr>
        <p:cxnSp>
          <p:nvCxnSpPr>
            <p:cNvPr id="194" name=""/>
            <p:cNvCxnSpPr/>
            <p:nvPr/>
          </p:nvCxnSpPr>
          <p:spPr>
            <a:xfrm>
              <a:off x="4343040" y="1842840"/>
              <a:ext cx="1524600" cy="3858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5" name=""/>
            <p:cNvCxnSpPr/>
            <p:nvPr/>
          </p:nvCxnSpPr>
          <p:spPr>
            <a:xfrm>
              <a:off x="4343040" y="1842840"/>
              <a:ext cx="2120040" cy="19674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6" name=""/>
            <p:cNvCxnSpPr/>
            <p:nvPr/>
          </p:nvCxnSpPr>
          <p:spPr>
            <a:xfrm flipV="1">
              <a:off x="5867280" y="3809520"/>
              <a:ext cx="596160" cy="1891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 flipH="1" flipV="1">
              <a:off x="1947240" y="3137760"/>
              <a:ext cx="3920040" cy="25628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98" name=""/>
            <p:cNvCxnSpPr/>
            <p:nvPr/>
          </p:nvCxnSpPr>
          <p:spPr>
            <a:xfrm>
              <a:off x="1947600" y="3138120"/>
              <a:ext cx="4515480" cy="6721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199" name=""/>
          <p:cNvSpPr/>
          <p:nvPr/>
        </p:nvSpPr>
        <p:spPr>
          <a:xfrm>
            <a:off x="174960" y="46656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ossible Edges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: 5/10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29160" y="5245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1" idx="0"/>
            <a:endCxn id="200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0" idx="4"/>
            <a:endCxn id="202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2" idx="3"/>
            <a:endCxn id="201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2" idx="4"/>
            <a:endCxn id="203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03" idx="4"/>
            <a:endCxn id="204" idx="0"/>
          </p:cNvCxnSpPr>
          <p:nvPr/>
        </p:nvCxnSpPr>
        <p:spPr>
          <a:xfrm flipH="1">
            <a:off x="5674680" y="4245120"/>
            <a:ext cx="416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4" idx="6"/>
            <a:endCxn id="205" idx="2"/>
          </p:cNvCxnSpPr>
          <p:nvPr/>
        </p:nvCxnSpPr>
        <p:spPr>
          <a:xfrm flipV="1">
            <a:off x="5921280" y="5474880"/>
            <a:ext cx="101664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5" idx="0"/>
            <a:endCxn id="206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6" idx="2"/>
            <a:endCxn id="203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3" idx="5"/>
            <a:endCxn id="205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4" idx="7"/>
            <a:endCxn id="206" idx="3"/>
          </p:cNvCxnSpPr>
          <p:nvPr/>
        </p:nvCxnSpPr>
        <p:spPr>
          <a:xfrm flipV="1">
            <a:off x="5850000" y="4249080"/>
            <a:ext cx="1504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06" idx="0"/>
            <a:endCxn id="207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7" idx="1"/>
            <a:endCxn id="200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347760" y="3151080"/>
            <a:ext cx="3754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: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ossible Edges: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2440" y="47214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Nodes * (# Nodes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1000" y="563256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*7)/2 = 56/2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2440" y="614520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: 12/28 = 0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587920" y="3975120"/>
            <a:ext cx="1866960" cy="1447920"/>
          </a:xfrm>
          <a:custGeom>
            <a:avLst/>
            <a:gdLst/>
            <a:ahLst/>
            <a:rect l="l" t="t" r="r" b="b"/>
            <a:pathLst>
              <a:path w="1176" h="912">
                <a:moveTo>
                  <a:pt x="104" y="894"/>
                </a:moveTo>
                <a:lnTo>
                  <a:pt x="1176" y="94"/>
                </a:lnTo>
                <a:lnTo>
                  <a:pt x="1167" y="37"/>
                </a:lnTo>
                <a:lnTo>
                  <a:pt x="1082" y="65"/>
                </a:lnTo>
                <a:lnTo>
                  <a:pt x="414" y="0"/>
                </a:lnTo>
                <a:lnTo>
                  <a:pt x="329" y="131"/>
                </a:lnTo>
                <a:lnTo>
                  <a:pt x="0" y="912"/>
                </a:lnTo>
                <a:lnTo>
                  <a:pt x="104" y="8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6600" y="4003560"/>
            <a:ext cx="1374840" cy="1479600"/>
          </a:xfrm>
          <a:custGeom>
            <a:avLst/>
            <a:gdLst/>
            <a:ahLst/>
            <a:rect l="l" t="t" r="r" b="b"/>
            <a:pathLst>
              <a:path w="866" h="932">
                <a:moveTo>
                  <a:pt x="0" y="0"/>
                </a:moveTo>
                <a:lnTo>
                  <a:pt x="612" y="932"/>
                </a:lnTo>
                <a:lnTo>
                  <a:pt x="866" y="85"/>
                </a:lnTo>
                <a:lnTo>
                  <a:pt x="819" y="19"/>
                </a:lnTo>
                <a:lnTo>
                  <a:pt x="706" y="4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4640" y="4084560"/>
            <a:ext cx="1971720" cy="1405080"/>
          </a:xfrm>
          <a:custGeom>
            <a:avLst/>
            <a:gdLst/>
            <a:ahLst/>
            <a:rect l="l" t="t" r="r" b="b"/>
            <a:pathLst>
              <a:path w="1242" h="885">
                <a:moveTo>
                  <a:pt x="1242" y="0"/>
                </a:moveTo>
                <a:lnTo>
                  <a:pt x="0" y="885"/>
                </a:lnTo>
                <a:lnTo>
                  <a:pt x="960" y="866"/>
                </a:lnTo>
                <a:lnTo>
                  <a:pt x="124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9320" y="4114800"/>
            <a:ext cx="1493640" cy="1389240"/>
          </a:xfrm>
          <a:custGeom>
            <a:avLst/>
            <a:gdLst/>
            <a:ahLst/>
            <a:rect l="l" t="t" r="r" b="b"/>
            <a:pathLst>
              <a:path w="941" h="875">
                <a:moveTo>
                  <a:pt x="0" y="856"/>
                </a:moveTo>
                <a:lnTo>
                  <a:pt x="348" y="0"/>
                </a:lnTo>
                <a:lnTo>
                  <a:pt x="941" y="875"/>
                </a:lnTo>
                <a:lnTo>
                  <a:pt x="0" y="8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5120" y="526104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29" idx="0"/>
            <a:endCxn id="228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8" idx="4"/>
            <a:endCxn id="230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0" idx="3"/>
            <a:endCxn id="229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30" idx="4"/>
            <a:endCxn id="231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1" idx="4"/>
            <a:endCxn id="232" idx="0"/>
          </p:cNvCxnSpPr>
          <p:nvPr/>
        </p:nvCxnSpPr>
        <p:spPr>
          <a:xfrm flipH="1">
            <a:off x="5660280" y="4245120"/>
            <a:ext cx="43092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2" idx="6"/>
            <a:endCxn id="233" idx="2"/>
          </p:cNvCxnSpPr>
          <p:nvPr/>
        </p:nvCxnSpPr>
        <p:spPr>
          <a:xfrm flipV="1">
            <a:off x="5906880" y="5474880"/>
            <a:ext cx="103068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3" idx="0"/>
            <a:endCxn id="234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4" idx="2"/>
            <a:endCxn id="231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1" idx="5"/>
            <a:endCxn id="233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2" idx="7"/>
            <a:endCxn id="234" idx="3"/>
          </p:cNvCxnSpPr>
          <p:nvPr/>
        </p:nvCxnSpPr>
        <p:spPr>
          <a:xfrm flipV="1">
            <a:off x="5835600" y="4249080"/>
            <a:ext cx="151848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4" idx="0"/>
            <a:endCxn id="235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5" idx="1"/>
            <a:endCxn id="228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48" name=""/>
          <p:cNvGrpSpPr/>
          <p:nvPr/>
        </p:nvGrpSpPr>
        <p:grpSpPr>
          <a:xfrm>
            <a:off x="2534760" y="1164960"/>
            <a:ext cx="4993200" cy="4341960"/>
            <a:chOff x="2534760" y="1164960"/>
            <a:chExt cx="4993200" cy="4341960"/>
          </a:xfrm>
        </p:grpSpPr>
        <p:cxnSp>
          <p:nvCxnSpPr>
            <p:cNvPr id="249" name=""/>
            <p:cNvCxnSpPr>
              <a:stCxn id="229" idx="0"/>
              <a:endCxn id="228" idx="4"/>
            </p:cNvCxnSpPr>
            <p:nvPr/>
          </p:nvCxnSpPr>
          <p:spPr>
            <a:xfrm flipV="1">
              <a:off x="2534760" y="1164960"/>
              <a:ext cx="311760" cy="10944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0" name=""/>
            <p:cNvCxnSpPr>
              <a:stCxn id="228" idx="4"/>
              <a:endCxn id="230" idx="0"/>
            </p:cNvCxnSpPr>
            <p:nvPr/>
          </p:nvCxnSpPr>
          <p:spPr>
            <a:xfrm>
              <a:off x="2846520" y="1164960"/>
              <a:ext cx="961200" cy="66276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1" name=""/>
            <p:cNvCxnSpPr>
              <a:stCxn id="230" idx="3"/>
              <a:endCxn id="229" idx="6"/>
            </p:cNvCxnSpPr>
            <p:nvPr/>
          </p:nvCxnSpPr>
          <p:spPr>
            <a:xfrm flipH="1">
              <a:off x="2780640" y="2247480"/>
              <a:ext cx="851400" cy="25812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2" name=""/>
            <p:cNvCxnSpPr>
              <a:stCxn id="231" idx="4"/>
              <a:endCxn id="232" idx="0"/>
            </p:cNvCxnSpPr>
            <p:nvPr/>
          </p:nvCxnSpPr>
          <p:spPr>
            <a:xfrm flipH="1">
              <a:off x="5660280" y="4245120"/>
              <a:ext cx="430920" cy="101664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3" name=""/>
            <p:cNvCxnSpPr>
              <a:stCxn id="232" idx="6"/>
              <a:endCxn id="233" idx="2"/>
            </p:cNvCxnSpPr>
            <p:nvPr/>
          </p:nvCxnSpPr>
          <p:spPr>
            <a:xfrm flipV="1">
              <a:off x="5906880" y="5474880"/>
              <a:ext cx="1030680" cy="324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4" name=""/>
            <p:cNvCxnSpPr>
              <a:stCxn id="233" idx="1"/>
              <a:endCxn id="231" idx="5"/>
            </p:cNvCxnSpPr>
            <p:nvPr/>
          </p:nvCxnSpPr>
          <p:spPr>
            <a:xfrm flipH="1" flipV="1">
              <a:off x="6265440" y="4172760"/>
              <a:ext cx="743760" cy="112788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5" name=""/>
            <p:cNvCxnSpPr>
              <a:stCxn id="232" idx="7"/>
              <a:endCxn id="234" idx="3"/>
            </p:cNvCxnSpPr>
            <p:nvPr/>
          </p:nvCxnSpPr>
          <p:spPr>
            <a:xfrm flipV="1">
              <a:off x="5835600" y="4249080"/>
              <a:ext cx="1518480" cy="108324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6" name=""/>
            <p:cNvCxnSpPr>
              <a:stCxn id="233" idx="0"/>
              <a:endCxn id="234" idx="4"/>
            </p:cNvCxnSpPr>
            <p:nvPr/>
          </p:nvCxnSpPr>
          <p:spPr>
            <a:xfrm flipV="1">
              <a:off x="7183080" y="4320360"/>
              <a:ext cx="345240" cy="90900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  <p:cxnSp>
          <p:nvCxnSpPr>
            <p:cNvPr id="257" name=""/>
            <p:cNvCxnSpPr>
              <a:stCxn id="234" idx="2"/>
              <a:endCxn id="231" idx="6"/>
            </p:cNvCxnSpPr>
            <p:nvPr/>
          </p:nvCxnSpPr>
          <p:spPr>
            <a:xfrm flipH="1" flipV="1">
              <a:off x="6336720" y="3998880"/>
              <a:ext cx="945000" cy="76680"/>
            </a:xfrm>
            <a:prstGeom prst="straightConnector1">
              <a:avLst/>
            </a:prstGeom>
            <a:ln w="76320">
              <a:solidFill>
                <a:srgbClr val="ef0702"/>
              </a:solidFill>
              <a:miter/>
            </a:ln>
          </p:spPr>
        </p:cxnSp>
      </p:grpSp>
      <p:cxnSp>
        <p:nvCxnSpPr>
          <p:cNvPr id="258" name=""/>
          <p:cNvCxnSpPr>
            <a:stCxn id="228" idx="6"/>
            <a:endCxn id="235" idx="1"/>
          </p:cNvCxnSpPr>
          <p:nvPr/>
        </p:nvCxnSpPr>
        <p:spPr>
          <a:xfrm>
            <a:off x="3092040" y="919080"/>
            <a:ext cx="3288600" cy="68184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59" name=""/>
          <p:cNvCxnSpPr>
            <a:stCxn id="235" idx="5"/>
            <a:endCxn id="234" idx="0"/>
          </p:cNvCxnSpPr>
          <p:nvPr/>
        </p:nvCxnSpPr>
        <p:spPr>
          <a:xfrm>
            <a:off x="6729480" y="1949040"/>
            <a:ext cx="799200" cy="188028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0" name=""/>
          <p:cNvCxnSpPr>
            <a:stCxn id="234" idx="4"/>
            <a:endCxn id="233" idx="0"/>
          </p:cNvCxnSpPr>
          <p:nvPr/>
        </p:nvCxnSpPr>
        <p:spPr>
          <a:xfrm flipH="1">
            <a:off x="7182720" y="4320720"/>
            <a:ext cx="345240" cy="90900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1" name=""/>
          <p:cNvCxnSpPr>
            <a:stCxn id="228" idx="4"/>
            <a:endCxn id="230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2" name=""/>
          <p:cNvCxnSpPr>
            <a:stCxn id="230" idx="4"/>
            <a:endCxn id="231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  <p:cxnSp>
        <p:nvCxnSpPr>
          <p:cNvPr id="263" name=""/>
          <p:cNvCxnSpPr>
            <a:stCxn id="231" idx="5"/>
            <a:endCxn id="233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76320">
            <a:solidFill>
              <a:srgbClr val="ef0702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0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8" idx="0"/>
            <a:endCxn id="264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8" idx="0"/>
            <a:endCxn id="265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8" idx="3"/>
            <a:endCxn id="266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68" idx="0"/>
            <a:endCxn id="264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08520" y="29480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24080" y="2219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3080" y="127944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51600" y="15922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50040" y="2981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87800" y="441468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41760" y="48340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32160" y="4340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03480" y="31449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37120" y="12780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1" idx="0"/>
            <a:endCxn id="290" idx="4"/>
          </p:cNvCxnSpPr>
          <p:nvPr/>
        </p:nvCxnSpPr>
        <p:spPr>
          <a:xfrm flipV="1">
            <a:off x="4222440" y="190584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"/>
          <p:cNvCxnSpPr>
            <a:stCxn id="281" idx="0"/>
            <a:endCxn id="283" idx="5"/>
          </p:cNvCxnSpPr>
          <p:nvPr/>
        </p:nvCxnSpPr>
        <p:spPr>
          <a:xfrm flipH="1" flipV="1">
            <a:off x="3579840" y="1815840"/>
            <a:ext cx="6433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1" idx="1"/>
            <a:endCxn id="282" idx="5"/>
          </p:cNvCxnSpPr>
          <p:nvPr/>
        </p:nvCxnSpPr>
        <p:spPr>
          <a:xfrm flipH="1" flipV="1">
            <a:off x="2760480" y="2755440"/>
            <a:ext cx="1240560" cy="28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1" idx="2"/>
            <a:endCxn id="289" idx="6"/>
          </p:cNvCxnSpPr>
          <p:nvPr/>
        </p:nvCxnSpPr>
        <p:spPr>
          <a:xfrm flipH="1">
            <a:off x="2731680" y="3261960"/>
            <a:ext cx="117720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stCxn id="281" idx="3"/>
            <a:endCxn id="288" idx="7"/>
          </p:cNvCxnSpPr>
          <p:nvPr/>
        </p:nvCxnSpPr>
        <p:spPr>
          <a:xfrm flipH="1">
            <a:off x="2967840" y="3484080"/>
            <a:ext cx="103284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281" idx="4"/>
            <a:endCxn id="287" idx="0"/>
          </p:cNvCxnSpPr>
          <p:nvPr/>
        </p:nvCxnSpPr>
        <p:spPr>
          <a:xfrm flipH="1">
            <a:off x="3955680" y="3576240"/>
            <a:ext cx="26712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81" idx="5"/>
            <a:endCxn id="286" idx="1"/>
          </p:cNvCxnSpPr>
          <p:nvPr/>
        </p:nvCxnSpPr>
        <p:spPr>
          <a:xfrm>
            <a:off x="4444920" y="348444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81" idx="6"/>
            <a:endCxn id="285" idx="2"/>
          </p:cNvCxnSpPr>
          <p:nvPr/>
        </p:nvCxnSpPr>
        <p:spPr>
          <a:xfrm>
            <a:off x="4537080" y="3261960"/>
            <a:ext cx="9136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81" idx="7"/>
            <a:endCxn id="284" idx="3"/>
          </p:cNvCxnSpPr>
          <p:nvPr/>
        </p:nvCxnSpPr>
        <p:spPr>
          <a:xfrm flipV="1">
            <a:off x="4444920" y="2128320"/>
            <a:ext cx="79920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4392720" y="142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37200" y="781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37280" y="30225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19120" y="93024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772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1160" y="538308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05280" y="61149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5640" y="5905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82" idx="1"/>
            <a:endCxn id="303" idx="5"/>
          </p:cNvCxnSpPr>
          <p:nvPr/>
        </p:nvCxnSpPr>
        <p:spPr>
          <a:xfrm flipH="1" flipV="1">
            <a:off x="1955160" y="1466640"/>
            <a:ext cx="36108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89" idx="2"/>
            <a:endCxn id="304" idx="6"/>
          </p:cNvCxnSpPr>
          <p:nvPr/>
        </p:nvCxnSpPr>
        <p:spPr>
          <a:xfrm flipH="1">
            <a:off x="1376280" y="3458880"/>
            <a:ext cx="72756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88" idx="3"/>
            <a:endCxn id="305" idx="7"/>
          </p:cNvCxnSpPr>
          <p:nvPr/>
        </p:nvCxnSpPr>
        <p:spPr>
          <a:xfrm flipH="1">
            <a:off x="1717200" y="4876920"/>
            <a:ext cx="80712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287" idx="4"/>
            <a:endCxn id="306" idx="7"/>
          </p:cNvCxnSpPr>
          <p:nvPr/>
        </p:nvCxnSpPr>
        <p:spPr>
          <a:xfrm flipH="1">
            <a:off x="3540960" y="5462640"/>
            <a:ext cx="41508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288" idx="3"/>
            <a:endCxn id="306" idx="0"/>
          </p:cNvCxnSpPr>
          <p:nvPr/>
        </p:nvCxnSpPr>
        <p:spPr>
          <a:xfrm>
            <a:off x="2523960" y="4876560"/>
            <a:ext cx="796320" cy="123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286" idx="5"/>
            <a:endCxn id="307" idx="1"/>
          </p:cNvCxnSpPr>
          <p:nvPr/>
        </p:nvCxnSpPr>
        <p:spPr>
          <a:xfrm>
            <a:off x="5524200" y="4951440"/>
            <a:ext cx="903960" cy="10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290" idx="0"/>
            <a:endCxn id="300" idx="4"/>
          </p:cNvCxnSpPr>
          <p:nvPr/>
        </p:nvCxnSpPr>
        <p:spPr>
          <a:xfrm flipV="1">
            <a:off x="4451400" y="771120"/>
            <a:ext cx="25596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284" idx="7"/>
            <a:endCxn id="301" idx="3"/>
          </p:cNvCxnSpPr>
          <p:nvPr/>
        </p:nvCxnSpPr>
        <p:spPr>
          <a:xfrm flipV="1">
            <a:off x="5688000" y="1316880"/>
            <a:ext cx="44208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285" idx="6"/>
            <a:endCxn id="302" idx="2"/>
          </p:cNvCxnSpPr>
          <p:nvPr/>
        </p:nvCxnSpPr>
        <p:spPr>
          <a:xfrm>
            <a:off x="6078240" y="3295800"/>
            <a:ext cx="95940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285" idx="6"/>
            <a:endCxn id="301" idx="4"/>
          </p:cNvCxnSpPr>
          <p:nvPr/>
        </p:nvCxnSpPr>
        <p:spPr>
          <a:xfrm flipV="1">
            <a:off x="6078600" y="1409040"/>
            <a:ext cx="273240" cy="188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763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2240" y="1397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112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112860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86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8400" y="271152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3517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" y="232236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049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8" idx="0"/>
            <a:endCxn id="327" idx="4"/>
          </p:cNvCxnSpPr>
          <p:nvPr/>
        </p:nvCxnSpPr>
        <p:spPr>
          <a:xfrm flipV="1">
            <a:off x="219024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8" idx="0"/>
            <a:endCxn id="320" idx="5"/>
          </p:cNvCxnSpPr>
          <p:nvPr/>
        </p:nvCxnSpPr>
        <p:spPr>
          <a:xfrm flipH="1" flipV="1">
            <a:off x="154764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18" idx="2"/>
            <a:endCxn id="319" idx="5"/>
          </p:cNvCxnSpPr>
          <p:nvPr/>
        </p:nvCxnSpPr>
        <p:spPr>
          <a:xfrm flipH="1" flipV="1">
            <a:off x="728640" y="1933200"/>
            <a:ext cx="1148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8" idx="2"/>
            <a:endCxn id="326" idx="6"/>
          </p:cNvCxnSpPr>
          <p:nvPr/>
        </p:nvCxnSpPr>
        <p:spPr>
          <a:xfrm flipH="1">
            <a:off x="699480" y="2439720"/>
            <a:ext cx="117684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18" idx="2"/>
            <a:endCxn id="325" idx="7"/>
          </p:cNvCxnSpPr>
          <p:nvPr/>
        </p:nvCxnSpPr>
        <p:spPr>
          <a:xfrm flipH="1">
            <a:off x="1036440" y="2440080"/>
            <a:ext cx="840240" cy="11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18" idx="2"/>
            <a:endCxn id="324" idx="7"/>
          </p:cNvCxnSpPr>
          <p:nvPr/>
        </p:nvCxnSpPr>
        <p:spPr>
          <a:xfrm flipH="1">
            <a:off x="1234440" y="2440080"/>
            <a:ext cx="6418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318" idx="5"/>
            <a:endCxn id="323" idx="1"/>
          </p:cNvCxnSpPr>
          <p:nvPr/>
        </p:nvCxnSpPr>
        <p:spPr>
          <a:xfrm>
            <a:off x="24130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18" idx="0"/>
            <a:endCxn id="322" idx="5"/>
          </p:cNvCxnSpPr>
          <p:nvPr/>
        </p:nvCxnSpPr>
        <p:spPr>
          <a:xfrm flipH="1" flipV="1">
            <a:off x="1534320" y="1755360"/>
            <a:ext cx="6562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18" idx="0"/>
            <a:endCxn id="321" idx="3"/>
          </p:cNvCxnSpPr>
          <p:nvPr/>
        </p:nvCxnSpPr>
        <p:spPr>
          <a:xfrm flipV="1">
            <a:off x="2190600" y="1664640"/>
            <a:ext cx="34848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51102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737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992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3065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34160" y="580068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74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532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02600" y="42480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42" idx="0"/>
            <a:endCxn id="343" idx="3"/>
          </p:cNvCxnSpPr>
          <p:nvPr/>
        </p:nvCxnSpPr>
        <p:spPr>
          <a:xfrm flipV="1">
            <a:off x="6111720" y="4961880"/>
            <a:ext cx="73440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37" idx="0"/>
            <a:endCxn id="338" idx="4"/>
          </p:cNvCxnSpPr>
          <p:nvPr/>
        </p:nvCxnSpPr>
        <p:spPr>
          <a:xfrm flipH="1" flipV="1">
            <a:off x="52873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8" idx="6"/>
            <a:endCxn id="340" idx="3"/>
          </p:cNvCxnSpPr>
          <p:nvPr/>
        </p:nvCxnSpPr>
        <p:spPr>
          <a:xfrm flipV="1">
            <a:off x="5602320" y="3601800"/>
            <a:ext cx="21103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39" idx="4"/>
            <a:endCxn id="343" idx="1"/>
          </p:cNvCxnSpPr>
          <p:nvPr/>
        </p:nvCxnSpPr>
        <p:spPr>
          <a:xfrm>
            <a:off x="65134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39" idx="5"/>
            <a:endCxn id="344" idx="1"/>
          </p:cNvCxnSpPr>
          <p:nvPr/>
        </p:nvCxnSpPr>
        <p:spPr>
          <a:xfrm>
            <a:off x="6735240" y="3490560"/>
            <a:ext cx="155988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39" idx="3"/>
            <a:endCxn id="337" idx="7"/>
          </p:cNvCxnSpPr>
          <p:nvPr/>
        </p:nvCxnSpPr>
        <p:spPr>
          <a:xfrm flipH="1">
            <a:off x="5645880" y="3490920"/>
            <a:ext cx="64548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"/>
          <p:cNvCxnSpPr>
            <a:stCxn id="338" idx="6"/>
            <a:endCxn id="341" idx="1"/>
          </p:cNvCxnSpPr>
          <p:nvPr/>
        </p:nvCxnSpPr>
        <p:spPr>
          <a:xfrm>
            <a:off x="5602320" y="4028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"/>
          <p:cNvCxnSpPr>
            <a:stCxn id="342" idx="6"/>
            <a:endCxn id="341" idx="2"/>
          </p:cNvCxnSpPr>
          <p:nvPr/>
        </p:nvCxnSpPr>
        <p:spPr>
          <a:xfrm>
            <a:off x="6426000" y="6070320"/>
            <a:ext cx="120852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42" idx="0"/>
            <a:endCxn id="339" idx="4"/>
          </p:cNvCxnSpPr>
          <p:nvPr/>
        </p:nvCxnSpPr>
        <p:spPr>
          <a:xfrm flipV="1">
            <a:off x="6111720" y="3582360"/>
            <a:ext cx="40248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0" idx="5"/>
            <a:endCxn id="344" idx="0"/>
          </p:cNvCxnSpPr>
          <p:nvPr/>
        </p:nvCxnSpPr>
        <p:spPr>
          <a:xfrm>
            <a:off x="8156160" y="3602160"/>
            <a:ext cx="3610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4" idx="4"/>
            <a:endCxn id="341" idx="7"/>
          </p:cNvCxnSpPr>
          <p:nvPr/>
        </p:nvCxnSpPr>
        <p:spPr>
          <a:xfrm flipH="1">
            <a:off x="8170200" y="4876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343" idx="6"/>
            <a:endCxn id="344" idx="2"/>
          </p:cNvCxnSpPr>
          <p:nvPr/>
        </p:nvCxnSpPr>
        <p:spPr>
          <a:xfrm flipV="1">
            <a:off x="7381800" y="456192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43" idx="5"/>
            <a:endCxn id="341" idx="1"/>
          </p:cNvCxnSpPr>
          <p:nvPr/>
        </p:nvCxnSpPr>
        <p:spPr>
          <a:xfrm>
            <a:off x="7289280" y="4962600"/>
            <a:ext cx="43740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37" idx="5"/>
            <a:endCxn id="342" idx="0"/>
          </p:cNvCxnSpPr>
          <p:nvPr/>
        </p:nvCxnSpPr>
        <p:spPr>
          <a:xfrm>
            <a:off x="564660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38" idx="2"/>
            <a:endCxn id="323" idx="6"/>
          </p:cNvCxnSpPr>
          <p:nvPr/>
        </p:nvCxnSpPr>
        <p:spPr>
          <a:xfrm flipH="1" flipV="1">
            <a:off x="35838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37" idx="1"/>
            <a:endCxn id="323" idx="6"/>
          </p:cNvCxnSpPr>
          <p:nvPr/>
        </p:nvCxnSpPr>
        <p:spPr>
          <a:xfrm flipH="1" flipV="1">
            <a:off x="35841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40" idx="4"/>
            <a:endCxn id="343" idx="7"/>
          </p:cNvCxnSpPr>
          <p:nvPr/>
        </p:nvCxnSpPr>
        <p:spPr>
          <a:xfrm flipH="1">
            <a:off x="7288920" y="3693600"/>
            <a:ext cx="6454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38" idx="7"/>
            <a:endCxn id="339" idx="3"/>
          </p:cNvCxnSpPr>
          <p:nvPr/>
        </p:nvCxnSpPr>
        <p:spPr>
          <a:xfrm flipV="1">
            <a:off x="55101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7620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112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4644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852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55840" y="3592440"/>
            <a:ext cx="62856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0480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3" idx="0"/>
            <a:endCxn id="368" idx="4"/>
          </p:cNvCxnSpPr>
          <p:nvPr/>
        </p:nvCxnSpPr>
        <p:spPr>
          <a:xfrm flipV="1">
            <a:off x="159048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3" idx="0"/>
            <a:endCxn id="364" idx="5"/>
          </p:cNvCxnSpPr>
          <p:nvPr/>
        </p:nvCxnSpPr>
        <p:spPr>
          <a:xfrm flipH="1" flipV="1">
            <a:off x="94788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3" idx="5"/>
            <a:endCxn id="367" idx="1"/>
          </p:cNvCxnSpPr>
          <p:nvPr/>
        </p:nvCxnSpPr>
        <p:spPr>
          <a:xfrm>
            <a:off x="181296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3" idx="0"/>
            <a:endCxn id="366" idx="5"/>
          </p:cNvCxnSpPr>
          <p:nvPr/>
        </p:nvCxnSpPr>
        <p:spPr>
          <a:xfrm flipH="1" flipV="1">
            <a:off x="93456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3" idx="0"/>
            <a:endCxn id="365" idx="3"/>
          </p:cNvCxnSpPr>
          <p:nvPr/>
        </p:nvCxnSpPr>
        <p:spPr>
          <a:xfrm flipV="1">
            <a:off x="159048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451008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7364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9908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9732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312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7" idx="0"/>
            <a:endCxn id="378" idx="3"/>
          </p:cNvCxnSpPr>
          <p:nvPr/>
        </p:nvCxnSpPr>
        <p:spPr>
          <a:xfrm flipV="1">
            <a:off x="551160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4" idx="0"/>
            <a:endCxn id="375" idx="4"/>
          </p:cNvCxnSpPr>
          <p:nvPr/>
        </p:nvCxnSpPr>
        <p:spPr>
          <a:xfrm flipH="1" flipV="1">
            <a:off x="468720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76" idx="4"/>
            <a:endCxn id="378" idx="1"/>
          </p:cNvCxnSpPr>
          <p:nvPr/>
        </p:nvCxnSpPr>
        <p:spPr>
          <a:xfrm>
            <a:off x="591336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76" idx="3"/>
            <a:endCxn id="374" idx="7"/>
          </p:cNvCxnSpPr>
          <p:nvPr/>
        </p:nvCxnSpPr>
        <p:spPr>
          <a:xfrm flipH="1">
            <a:off x="504648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7" idx="0"/>
            <a:endCxn id="376" idx="4"/>
          </p:cNvCxnSpPr>
          <p:nvPr/>
        </p:nvCxnSpPr>
        <p:spPr>
          <a:xfrm flipV="1">
            <a:off x="551160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4" idx="5"/>
            <a:endCxn id="377" idx="0"/>
          </p:cNvCxnSpPr>
          <p:nvPr/>
        </p:nvCxnSpPr>
        <p:spPr>
          <a:xfrm>
            <a:off x="504684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75" idx="2"/>
            <a:endCxn id="367" idx="6"/>
          </p:cNvCxnSpPr>
          <p:nvPr/>
        </p:nvCxnSpPr>
        <p:spPr>
          <a:xfrm flipH="1" flipV="1">
            <a:off x="298368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74" idx="1"/>
            <a:endCxn id="367" idx="6"/>
          </p:cNvCxnSpPr>
          <p:nvPr/>
        </p:nvCxnSpPr>
        <p:spPr>
          <a:xfrm flipH="1" flipV="1">
            <a:off x="298404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75" idx="7"/>
            <a:endCxn id="376" idx="3"/>
          </p:cNvCxnSpPr>
          <p:nvPr/>
        </p:nvCxnSpPr>
        <p:spPr>
          <a:xfrm flipV="1">
            <a:off x="491004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722808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2808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2736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2628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2808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2736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2808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2808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2808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2736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8416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8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284120" y="2125800"/>
            <a:ext cx="62892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0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5436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4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637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127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399" idx="0"/>
            <a:endCxn id="404" idx="4"/>
          </p:cNvCxnSpPr>
          <p:nvPr/>
        </p:nvCxnSpPr>
        <p:spPr>
          <a:xfrm flipV="1">
            <a:off x="159840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9" idx="0"/>
            <a:endCxn id="400" idx="5"/>
          </p:cNvCxnSpPr>
          <p:nvPr/>
        </p:nvCxnSpPr>
        <p:spPr>
          <a:xfrm flipH="1" flipV="1">
            <a:off x="95580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399" idx="5"/>
            <a:endCxn id="403" idx="1"/>
          </p:cNvCxnSpPr>
          <p:nvPr/>
        </p:nvCxnSpPr>
        <p:spPr>
          <a:xfrm>
            <a:off x="18208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399" idx="0"/>
            <a:endCxn id="402" idx="5"/>
          </p:cNvCxnSpPr>
          <p:nvPr/>
        </p:nvCxnSpPr>
        <p:spPr>
          <a:xfrm flipH="1" flipV="1">
            <a:off x="94248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399" idx="0"/>
            <a:endCxn id="401" idx="3"/>
          </p:cNvCxnSpPr>
          <p:nvPr/>
        </p:nvCxnSpPr>
        <p:spPr>
          <a:xfrm flipV="1">
            <a:off x="159840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45180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815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070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052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610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413" idx="0"/>
            <a:endCxn id="414" idx="3"/>
          </p:cNvCxnSpPr>
          <p:nvPr/>
        </p:nvCxnSpPr>
        <p:spPr>
          <a:xfrm flipV="1">
            <a:off x="551952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0" idx="0"/>
            <a:endCxn id="411" idx="4"/>
          </p:cNvCxnSpPr>
          <p:nvPr/>
        </p:nvCxnSpPr>
        <p:spPr>
          <a:xfrm flipH="1" flipV="1">
            <a:off x="46951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2" idx="4"/>
            <a:endCxn id="414" idx="1"/>
          </p:cNvCxnSpPr>
          <p:nvPr/>
        </p:nvCxnSpPr>
        <p:spPr>
          <a:xfrm>
            <a:off x="59212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2" idx="3"/>
            <a:endCxn id="410" idx="7"/>
          </p:cNvCxnSpPr>
          <p:nvPr/>
        </p:nvCxnSpPr>
        <p:spPr>
          <a:xfrm flipH="1">
            <a:off x="505440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3" idx="0"/>
            <a:endCxn id="412" idx="4"/>
          </p:cNvCxnSpPr>
          <p:nvPr/>
        </p:nvCxnSpPr>
        <p:spPr>
          <a:xfrm flipV="1">
            <a:off x="551952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0" idx="5"/>
            <a:endCxn id="413" idx="0"/>
          </p:cNvCxnSpPr>
          <p:nvPr/>
        </p:nvCxnSpPr>
        <p:spPr>
          <a:xfrm>
            <a:off x="505476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1" idx="2"/>
            <a:endCxn id="403" idx="6"/>
          </p:cNvCxnSpPr>
          <p:nvPr/>
        </p:nvCxnSpPr>
        <p:spPr>
          <a:xfrm flipH="1" flipV="1">
            <a:off x="29916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0" idx="1"/>
            <a:endCxn id="403" idx="6"/>
          </p:cNvCxnSpPr>
          <p:nvPr/>
        </p:nvCxnSpPr>
        <p:spPr>
          <a:xfrm flipH="1" flipV="1">
            <a:off x="29919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1" idx="7"/>
            <a:endCxn id="412" idx="3"/>
          </p:cNvCxnSpPr>
          <p:nvPr/>
        </p:nvCxnSpPr>
        <p:spPr>
          <a:xfrm flipV="1">
            <a:off x="49179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723600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23600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3528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420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600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600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3600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3600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528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9208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8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841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90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54360" y="11286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064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637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127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5" idx="0"/>
            <a:endCxn id="440" idx="4"/>
          </p:cNvCxnSpPr>
          <p:nvPr/>
        </p:nvCxnSpPr>
        <p:spPr>
          <a:xfrm flipV="1">
            <a:off x="159840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5" idx="0"/>
            <a:endCxn id="436" idx="5"/>
          </p:cNvCxnSpPr>
          <p:nvPr/>
        </p:nvCxnSpPr>
        <p:spPr>
          <a:xfrm flipH="1" flipV="1">
            <a:off x="95580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5" idx="5"/>
            <a:endCxn id="439" idx="1"/>
          </p:cNvCxnSpPr>
          <p:nvPr/>
        </p:nvCxnSpPr>
        <p:spPr>
          <a:xfrm>
            <a:off x="18208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5" idx="0"/>
            <a:endCxn id="438" idx="5"/>
          </p:cNvCxnSpPr>
          <p:nvPr/>
        </p:nvCxnSpPr>
        <p:spPr>
          <a:xfrm flipH="1" flipV="1">
            <a:off x="942480" y="1755360"/>
            <a:ext cx="6566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35" idx="0"/>
            <a:endCxn id="437" idx="3"/>
          </p:cNvCxnSpPr>
          <p:nvPr/>
        </p:nvCxnSpPr>
        <p:spPr>
          <a:xfrm flipV="1">
            <a:off x="1598400" y="1664640"/>
            <a:ext cx="3477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45180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3714840"/>
            <a:ext cx="628560" cy="628560"/>
          </a:xfrm>
          <a:prstGeom prst="ellipse">
            <a:avLst/>
          </a:prstGeom>
          <a:solidFill>
            <a:srgbClr val="890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070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052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610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0"/>
            <a:endCxn id="450" idx="3"/>
          </p:cNvCxnSpPr>
          <p:nvPr/>
        </p:nvCxnSpPr>
        <p:spPr>
          <a:xfrm flipV="1">
            <a:off x="5519520" y="4961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2" name=""/>
          <p:cNvCxnSpPr>
            <a:stCxn id="446" idx="0"/>
            <a:endCxn id="447" idx="4"/>
          </p:cNvCxnSpPr>
          <p:nvPr/>
        </p:nvCxnSpPr>
        <p:spPr>
          <a:xfrm flipH="1" flipV="1">
            <a:off x="46951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>
            <a:stCxn id="448" idx="4"/>
            <a:endCxn id="450" idx="1"/>
          </p:cNvCxnSpPr>
          <p:nvPr/>
        </p:nvCxnSpPr>
        <p:spPr>
          <a:xfrm>
            <a:off x="59212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8" idx="3"/>
            <a:endCxn id="446" idx="7"/>
          </p:cNvCxnSpPr>
          <p:nvPr/>
        </p:nvCxnSpPr>
        <p:spPr>
          <a:xfrm flipH="1">
            <a:off x="5054400" y="3490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49" idx="0"/>
            <a:endCxn id="448" idx="4"/>
          </p:cNvCxnSpPr>
          <p:nvPr/>
        </p:nvCxnSpPr>
        <p:spPr>
          <a:xfrm flipV="1">
            <a:off x="5519520" y="3582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46" idx="5"/>
            <a:endCxn id="449" idx="0"/>
          </p:cNvCxnSpPr>
          <p:nvPr/>
        </p:nvCxnSpPr>
        <p:spPr>
          <a:xfrm>
            <a:off x="505476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47" idx="2"/>
            <a:endCxn id="439" idx="6"/>
          </p:cNvCxnSpPr>
          <p:nvPr/>
        </p:nvCxnSpPr>
        <p:spPr>
          <a:xfrm flipH="1" flipV="1">
            <a:off x="29916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1"/>
            <a:endCxn id="439" idx="6"/>
          </p:cNvCxnSpPr>
          <p:nvPr/>
        </p:nvCxnSpPr>
        <p:spPr>
          <a:xfrm flipH="1" flipV="1">
            <a:off x="29919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7" idx="7"/>
            <a:endCxn id="448" idx="3"/>
          </p:cNvCxnSpPr>
          <p:nvPr/>
        </p:nvCxnSpPr>
        <p:spPr>
          <a:xfrm flipV="1">
            <a:off x="49179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7236000" y="3016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6000" y="7970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35280" y="22827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4200" y="17874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36000" y="1292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35280" y="2779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6000" y="3274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36000" y="377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36000" y="4265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5280" y="47624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92080" y="533556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1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646280" y="414360"/>
            <a:ext cx="68277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28560" y="27511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09400" y="2751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9" idx="5"/>
            <a:endCxn id="50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50" idx="7"/>
            <a:endCxn id="51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4258080" y="27338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1800" y="273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3600" y="777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29200" y="795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876320" y="21258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2240" y="139716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11240" y="4572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46200" y="112860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8640" y="12193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55960" y="35924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98400" y="271152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0040" y="35179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280" y="2322360"/>
            <a:ext cx="62892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04920" y="4557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"/>
          <p:cNvCxnSpPr>
            <a:stCxn id="472" idx="0"/>
            <a:endCxn id="481" idx="4"/>
          </p:cNvCxnSpPr>
          <p:nvPr/>
        </p:nvCxnSpPr>
        <p:spPr>
          <a:xfrm flipV="1">
            <a:off x="2190240" y="1083600"/>
            <a:ext cx="22932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2" idx="0"/>
            <a:endCxn id="474" idx="5"/>
          </p:cNvCxnSpPr>
          <p:nvPr/>
        </p:nvCxnSpPr>
        <p:spPr>
          <a:xfrm flipH="1" flipV="1">
            <a:off x="1547640" y="992880"/>
            <a:ext cx="6433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2" idx="2"/>
            <a:endCxn id="473" idx="5"/>
          </p:cNvCxnSpPr>
          <p:nvPr/>
        </p:nvCxnSpPr>
        <p:spPr>
          <a:xfrm flipH="1" flipV="1">
            <a:off x="728640" y="1933200"/>
            <a:ext cx="1148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72" idx="2"/>
            <a:endCxn id="480" idx="6"/>
          </p:cNvCxnSpPr>
          <p:nvPr/>
        </p:nvCxnSpPr>
        <p:spPr>
          <a:xfrm flipH="1">
            <a:off x="699480" y="2439720"/>
            <a:ext cx="117684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72" idx="2"/>
            <a:endCxn id="479" idx="7"/>
          </p:cNvCxnSpPr>
          <p:nvPr/>
        </p:nvCxnSpPr>
        <p:spPr>
          <a:xfrm flipH="1">
            <a:off x="1036440" y="2440080"/>
            <a:ext cx="840240" cy="11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72" idx="2"/>
            <a:endCxn id="478" idx="7"/>
          </p:cNvCxnSpPr>
          <p:nvPr/>
        </p:nvCxnSpPr>
        <p:spPr>
          <a:xfrm flipH="1">
            <a:off x="1234440" y="2440080"/>
            <a:ext cx="6418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72" idx="5"/>
            <a:endCxn id="477" idx="1"/>
          </p:cNvCxnSpPr>
          <p:nvPr/>
        </p:nvCxnSpPr>
        <p:spPr>
          <a:xfrm>
            <a:off x="2413080" y="2662200"/>
            <a:ext cx="635760" cy="10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72" idx="0"/>
            <a:endCxn id="476" idx="5"/>
          </p:cNvCxnSpPr>
          <p:nvPr/>
        </p:nvCxnSpPr>
        <p:spPr>
          <a:xfrm flipH="1" flipV="1">
            <a:off x="1534320" y="1755360"/>
            <a:ext cx="6562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2" idx="0"/>
            <a:endCxn id="475" idx="3"/>
          </p:cNvCxnSpPr>
          <p:nvPr/>
        </p:nvCxnSpPr>
        <p:spPr>
          <a:xfrm flipV="1">
            <a:off x="2190600" y="1664640"/>
            <a:ext cx="34848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5110200" y="4776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73760" y="3714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99200" y="295416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3065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34160" y="580068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97440" y="575640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53240" y="4425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02600" y="42480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6" idx="0"/>
            <a:endCxn id="497" idx="3"/>
          </p:cNvCxnSpPr>
          <p:nvPr/>
        </p:nvCxnSpPr>
        <p:spPr>
          <a:xfrm flipV="1">
            <a:off x="6111720" y="4961880"/>
            <a:ext cx="73440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91" idx="0"/>
            <a:endCxn id="492" idx="4"/>
          </p:cNvCxnSpPr>
          <p:nvPr/>
        </p:nvCxnSpPr>
        <p:spPr>
          <a:xfrm flipH="1" flipV="1">
            <a:off x="5287320" y="4343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2" idx="6"/>
            <a:endCxn id="494" idx="3"/>
          </p:cNvCxnSpPr>
          <p:nvPr/>
        </p:nvCxnSpPr>
        <p:spPr>
          <a:xfrm flipV="1">
            <a:off x="5602320" y="3601800"/>
            <a:ext cx="21103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93" idx="4"/>
            <a:endCxn id="497" idx="1"/>
          </p:cNvCxnSpPr>
          <p:nvPr/>
        </p:nvCxnSpPr>
        <p:spPr>
          <a:xfrm>
            <a:off x="6513480" y="3582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93" idx="5"/>
            <a:endCxn id="498" idx="1"/>
          </p:cNvCxnSpPr>
          <p:nvPr/>
        </p:nvCxnSpPr>
        <p:spPr>
          <a:xfrm>
            <a:off x="6735240" y="3490560"/>
            <a:ext cx="155988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93" idx="3"/>
            <a:endCxn id="491" idx="7"/>
          </p:cNvCxnSpPr>
          <p:nvPr/>
        </p:nvCxnSpPr>
        <p:spPr>
          <a:xfrm flipH="1">
            <a:off x="5645880" y="3490920"/>
            <a:ext cx="64548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6"/>
            <a:endCxn id="495" idx="1"/>
          </p:cNvCxnSpPr>
          <p:nvPr/>
        </p:nvCxnSpPr>
        <p:spPr>
          <a:xfrm>
            <a:off x="5602320" y="4028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6" idx="6"/>
            <a:endCxn id="495" idx="2"/>
          </p:cNvCxnSpPr>
          <p:nvPr/>
        </p:nvCxnSpPr>
        <p:spPr>
          <a:xfrm>
            <a:off x="6426000" y="6070320"/>
            <a:ext cx="120852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6" idx="0"/>
            <a:endCxn id="493" idx="4"/>
          </p:cNvCxnSpPr>
          <p:nvPr/>
        </p:nvCxnSpPr>
        <p:spPr>
          <a:xfrm flipV="1">
            <a:off x="6111720" y="3582360"/>
            <a:ext cx="40248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94" idx="5"/>
            <a:endCxn id="498" idx="0"/>
          </p:cNvCxnSpPr>
          <p:nvPr/>
        </p:nvCxnSpPr>
        <p:spPr>
          <a:xfrm>
            <a:off x="8156160" y="3602160"/>
            <a:ext cx="3610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98" idx="4"/>
            <a:endCxn id="495" idx="7"/>
          </p:cNvCxnSpPr>
          <p:nvPr/>
        </p:nvCxnSpPr>
        <p:spPr>
          <a:xfrm flipH="1">
            <a:off x="8170200" y="4876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7" idx="6"/>
            <a:endCxn id="498" idx="2"/>
          </p:cNvCxnSpPr>
          <p:nvPr/>
        </p:nvCxnSpPr>
        <p:spPr>
          <a:xfrm flipV="1">
            <a:off x="7381800" y="456192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97" idx="5"/>
            <a:endCxn id="495" idx="1"/>
          </p:cNvCxnSpPr>
          <p:nvPr/>
        </p:nvCxnSpPr>
        <p:spPr>
          <a:xfrm>
            <a:off x="7289280" y="4962600"/>
            <a:ext cx="43740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491" idx="5"/>
            <a:endCxn id="496" idx="0"/>
          </p:cNvCxnSpPr>
          <p:nvPr/>
        </p:nvCxnSpPr>
        <p:spPr>
          <a:xfrm>
            <a:off x="5646600" y="5312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492" idx="2"/>
            <a:endCxn id="477" idx="6"/>
          </p:cNvCxnSpPr>
          <p:nvPr/>
        </p:nvCxnSpPr>
        <p:spPr>
          <a:xfrm flipH="1" flipV="1">
            <a:off x="3583800" y="3906360"/>
            <a:ext cx="138996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91" idx="1"/>
            <a:endCxn id="477" idx="6"/>
          </p:cNvCxnSpPr>
          <p:nvPr/>
        </p:nvCxnSpPr>
        <p:spPr>
          <a:xfrm flipH="1" flipV="1">
            <a:off x="3584160" y="3906000"/>
            <a:ext cx="1618560" cy="96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94" idx="4"/>
            <a:endCxn id="497" idx="7"/>
          </p:cNvCxnSpPr>
          <p:nvPr/>
        </p:nvCxnSpPr>
        <p:spPr>
          <a:xfrm flipH="1">
            <a:off x="7288920" y="3693600"/>
            <a:ext cx="6454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92" idx="7"/>
            <a:endCxn id="493" idx="3"/>
          </p:cNvCxnSpPr>
          <p:nvPr/>
        </p:nvCxnSpPr>
        <p:spPr>
          <a:xfrm flipV="1">
            <a:off x="5510160" y="3490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705040" y="3552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68600" y="249084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"/>
          <p:cNvCxnSpPr>
            <a:stCxn id="522" idx="0"/>
            <a:endCxn id="523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17" idx="0"/>
            <a:endCxn id="518" idx="4"/>
          </p:cNvCxnSpPr>
          <p:nvPr/>
        </p:nvCxnSpPr>
        <p:spPr>
          <a:xfrm flipH="1" flipV="1">
            <a:off x="2882160" y="3119040"/>
            <a:ext cx="137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18" idx="6"/>
            <a:endCxn id="520" idx="3"/>
          </p:cNvCxnSpPr>
          <p:nvPr/>
        </p:nvCxnSpPr>
        <p:spPr>
          <a:xfrm flipV="1">
            <a:off x="3196800" y="2377800"/>
            <a:ext cx="211068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19" idx="4"/>
            <a:endCxn id="523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19" idx="5"/>
            <a:endCxn id="524" idx="1"/>
          </p:cNvCxnSpPr>
          <p:nvPr/>
        </p:nvCxnSpPr>
        <p:spPr>
          <a:xfrm>
            <a:off x="4330800" y="2266560"/>
            <a:ext cx="155952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19" idx="3"/>
            <a:endCxn id="517" idx="7"/>
          </p:cNvCxnSpPr>
          <p:nvPr/>
        </p:nvCxnSpPr>
        <p:spPr>
          <a:xfrm flipH="1">
            <a:off x="3241440" y="2266920"/>
            <a:ext cx="64512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18" idx="6"/>
            <a:endCxn id="521" idx="1"/>
          </p:cNvCxnSpPr>
          <p:nvPr/>
        </p:nvCxnSpPr>
        <p:spPr>
          <a:xfrm>
            <a:off x="3197160" y="2804760"/>
            <a:ext cx="2124720" cy="18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6"/>
            <a:endCxn id="521" idx="2"/>
          </p:cNvCxnSpPr>
          <p:nvPr/>
        </p:nvCxnSpPr>
        <p:spPr>
          <a:xfrm>
            <a:off x="4021200" y="4846320"/>
            <a:ext cx="120888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2" idx="0"/>
            <a:endCxn id="519" idx="4"/>
          </p:cNvCxnSpPr>
          <p:nvPr/>
        </p:nvCxnSpPr>
        <p:spPr>
          <a:xfrm flipV="1">
            <a:off x="3706560" y="2358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0" idx="5"/>
            <a:endCxn id="524" idx="0"/>
          </p:cNvCxnSpPr>
          <p:nvPr/>
        </p:nvCxnSpPr>
        <p:spPr>
          <a:xfrm>
            <a:off x="5751000" y="2377800"/>
            <a:ext cx="36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4" idx="4"/>
            <a:endCxn id="521" idx="7"/>
          </p:cNvCxnSpPr>
          <p:nvPr/>
        </p:nvCxnSpPr>
        <p:spPr>
          <a:xfrm flipH="1">
            <a:off x="5765040" y="3652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6"/>
            <a:endCxn id="524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3" idx="5"/>
            <a:endCxn id="521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17" idx="5"/>
            <a:endCxn id="522" idx="0"/>
          </p:cNvCxnSpPr>
          <p:nvPr/>
        </p:nvCxnSpPr>
        <p:spPr>
          <a:xfrm>
            <a:off x="3241800" y="4088880"/>
            <a:ext cx="465840" cy="44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0" idx="4"/>
            <a:endCxn id="523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18" idx="7"/>
            <a:endCxn id="519" idx="3"/>
          </p:cNvCxnSpPr>
          <p:nvPr/>
        </p:nvCxnSpPr>
        <p:spPr>
          <a:xfrm flipV="1">
            <a:off x="3105000" y="2266560"/>
            <a:ext cx="7819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"/>
          <p:cNvCxnSpPr>
            <a:stCxn id="544" idx="0"/>
            <a:endCxn id="545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1" idx="4"/>
            <a:endCxn id="545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5" idx="6"/>
            <a:endCxn id="546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5" idx="5"/>
            <a:endCxn id="543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2" idx="4"/>
            <a:endCxn id="545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794040" y="173052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14960" y="184140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29360" y="457668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92640" y="4532400"/>
            <a:ext cx="62856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48080" y="3201840"/>
            <a:ext cx="628560" cy="628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97440" y="3024360"/>
            <a:ext cx="628920" cy="628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5" idx="0"/>
            <a:endCxn id="556" idx="3"/>
          </p:cNvCxnSpPr>
          <p:nvPr/>
        </p:nvCxnSpPr>
        <p:spPr>
          <a:xfrm flipV="1">
            <a:off x="3706560" y="3737880"/>
            <a:ext cx="73404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52" idx="4"/>
            <a:endCxn id="556" idx="1"/>
          </p:cNvCxnSpPr>
          <p:nvPr/>
        </p:nvCxnSpPr>
        <p:spPr>
          <a:xfrm>
            <a:off x="4108320" y="2358720"/>
            <a:ext cx="33264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52" idx="5"/>
            <a:endCxn id="557" idx="1"/>
          </p:cNvCxnSpPr>
          <p:nvPr/>
        </p:nvCxnSpPr>
        <p:spPr>
          <a:xfrm>
            <a:off x="4330800" y="2266560"/>
            <a:ext cx="1559520" cy="84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5" idx="6"/>
            <a:endCxn id="554" idx="2"/>
          </p:cNvCxnSpPr>
          <p:nvPr/>
        </p:nvCxnSpPr>
        <p:spPr>
          <a:xfrm>
            <a:off x="4021200" y="4846320"/>
            <a:ext cx="120888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0"/>
            <a:endCxn id="552" idx="4"/>
          </p:cNvCxnSpPr>
          <p:nvPr/>
        </p:nvCxnSpPr>
        <p:spPr>
          <a:xfrm flipV="1">
            <a:off x="3706560" y="2358360"/>
            <a:ext cx="402120" cy="21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3" idx="5"/>
            <a:endCxn id="557" idx="0"/>
          </p:cNvCxnSpPr>
          <p:nvPr/>
        </p:nvCxnSpPr>
        <p:spPr>
          <a:xfrm>
            <a:off x="5751000" y="2377800"/>
            <a:ext cx="36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4"/>
            <a:endCxn id="554" idx="7"/>
          </p:cNvCxnSpPr>
          <p:nvPr/>
        </p:nvCxnSpPr>
        <p:spPr>
          <a:xfrm flipH="1">
            <a:off x="5765040" y="3652920"/>
            <a:ext cx="346680" cy="101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6" idx="6"/>
            <a:endCxn id="557" idx="2"/>
          </p:cNvCxnSpPr>
          <p:nvPr/>
        </p:nvCxnSpPr>
        <p:spPr>
          <a:xfrm flipV="1">
            <a:off x="4976640" y="3338640"/>
            <a:ext cx="8215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5"/>
            <a:endCxn id="554" idx="1"/>
          </p:cNvCxnSpPr>
          <p:nvPr/>
        </p:nvCxnSpPr>
        <p:spPr>
          <a:xfrm>
            <a:off x="4884840" y="3738600"/>
            <a:ext cx="43704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3" idx="4"/>
            <a:endCxn id="556" idx="7"/>
          </p:cNvCxnSpPr>
          <p:nvPr/>
        </p:nvCxnSpPr>
        <p:spPr>
          <a:xfrm flipH="1">
            <a:off x="4884480" y="2470320"/>
            <a:ext cx="645120" cy="82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08160" y="0"/>
            <a:ext cx="68468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47800" y="88920"/>
            <a:ext cx="50738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5"/>
            <a:endCxn id="61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7"/>
            <a:endCxn id="62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0" idx="5"/>
            <a:endCxn id="61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1" idx="7"/>
            <a:endCxn id="62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5"/>
            <a:endCxn id="61" idx="2"/>
          </p:cNvCxnSpPr>
          <p:nvPr/>
        </p:nvCxnSpPr>
        <p:spPr>
          <a:xfrm flipH="1" rot="16200000">
            <a:off x="2666880" y="3504240"/>
            <a:ext cx="1877040" cy="847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1"/>
            <a:endCxn id="60" idx="6"/>
          </p:cNvCxnSpPr>
          <p:nvPr/>
        </p:nvCxnSpPr>
        <p:spPr>
          <a:xfrm flipV="1" rot="16200000">
            <a:off x="2875320" y="3002040"/>
            <a:ext cx="1877040" cy="847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0" idx="6"/>
            <a:endCxn id="62" idx="2"/>
          </p:cNvCxnSpPr>
          <p:nvPr/>
        </p:nvCxnSpPr>
        <p:spPr>
          <a:xfrm flipV="1">
            <a:off x="3390480" y="2310840"/>
            <a:ext cx="2469240" cy="17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1" idx="6"/>
            <a:endCxn id="62" idx="3"/>
          </p:cNvCxnSpPr>
          <p:nvPr/>
        </p:nvCxnSpPr>
        <p:spPr>
          <a:xfrm flipV="1">
            <a:off x="5448240" y="2813040"/>
            <a:ext cx="619920" cy="2053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71720" y="177804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29120" y="4156200"/>
            <a:ext cx="1419120" cy="1419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1601640"/>
            <a:ext cx="1419480" cy="1419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1" idx="5"/>
            <a:endCxn id="72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7"/>
            <a:endCxn id="73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1" idx="5"/>
            <a:endCxn id="72" idx="1"/>
          </p:cNvCxnSpPr>
          <p:nvPr/>
        </p:nvCxnSpPr>
        <p:spPr>
          <a:xfrm>
            <a:off x="3182400" y="2989440"/>
            <a:ext cx="1055160" cy="1375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2" idx="7"/>
            <a:endCxn id="73" idx="3"/>
          </p:cNvCxnSpPr>
          <p:nvPr/>
        </p:nvCxnSpPr>
        <p:spPr>
          <a:xfrm flipV="1">
            <a:off x="5240160" y="2812680"/>
            <a:ext cx="828000" cy="15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597960" cy="71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000" y="1600200"/>
            <a:ext cx="4199760" cy="3871800"/>
            <a:chOff x="144000" y="1600200"/>
            <a:chExt cx="4199760" cy="3871800"/>
          </a:xfrm>
        </p:grpSpPr>
        <p:cxnSp>
          <p:nvCxnSpPr>
            <p:cNvPr id="85" name=""/>
            <p:cNvCxnSpPr>
              <a:stCxn id="82" idx="3"/>
            </p:cNvCxnSpPr>
            <p:nvPr/>
          </p:nvCxnSpPr>
          <p:spPr>
            <a:xfrm flipV="1">
              <a:off x="2647800" y="1842840"/>
              <a:ext cx="1696320" cy="90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" name=""/>
            <p:cNvSpPr/>
            <p:nvPr/>
          </p:nvSpPr>
          <p:spPr>
            <a:xfrm>
              <a:off x="144000" y="3906720"/>
              <a:ext cx="289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gnificent Desolation: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king on the Mo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endCxn id="82" idx="2"/>
            </p:cNvCxnSpPr>
            <p:nvPr/>
          </p:nvCxnSpPr>
          <p:spPr>
            <a:xfrm flipH="1" flipV="1">
              <a:off x="1947600" y="3138120"/>
              <a:ext cx="567360" cy="23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914040" y="1600200"/>
              <a:ext cx="2896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gnificent Desolation: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king on the Mo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14240" y="1843200"/>
            <a:ext cx="3048480" cy="3629160"/>
            <a:chOff x="2514240" y="1843200"/>
            <a:chExt cx="3048480" cy="3629160"/>
          </a:xfrm>
        </p:grpSpPr>
        <p:cxnSp>
          <p:nvCxnSpPr>
            <p:cNvPr id="90" name=""/>
            <p:cNvCxnSpPr>
              <a:stCxn id="79" idx="2"/>
              <a:endCxn id="83" idx="0"/>
            </p:cNvCxnSpPr>
            <p:nvPr/>
          </p:nvCxnSpPr>
          <p:spPr>
            <a:xfrm flipH="1">
              <a:off x="2514240" y="1843200"/>
              <a:ext cx="1829520" cy="36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3429000" y="342900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Green M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14240" y="3809160"/>
            <a:ext cx="4573440" cy="1662480"/>
            <a:chOff x="2514240" y="3809160"/>
            <a:chExt cx="4573440" cy="1662480"/>
          </a:xfrm>
        </p:grpSpPr>
        <p:cxnSp>
          <p:nvCxnSpPr>
            <p:cNvPr id="93" name=""/>
            <p:cNvCxnSpPr>
              <a:stCxn id="83" idx="0"/>
              <a:endCxn id="80" idx="1"/>
            </p:cNvCxnSpPr>
            <p:nvPr/>
          </p:nvCxnSpPr>
          <p:spPr>
            <a:xfrm flipV="1">
              <a:off x="2514240" y="3809160"/>
              <a:ext cx="3948840" cy="16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4331520" y="4583160"/>
              <a:ext cx="275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yond All Bounda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14800" y="5562720"/>
            <a:ext cx="1952640" cy="703800"/>
            <a:chOff x="3214800" y="5562720"/>
            <a:chExt cx="1952640" cy="703800"/>
          </a:xfrm>
        </p:grpSpPr>
        <p:cxnSp>
          <p:nvCxnSpPr>
            <p:cNvPr id="96" name=""/>
            <p:cNvCxnSpPr>
              <a:stCxn id="83" idx="3"/>
              <a:endCxn id="81" idx="1"/>
            </p:cNvCxnSpPr>
            <p:nvPr/>
          </p:nvCxnSpPr>
          <p:spPr>
            <a:xfrm>
              <a:off x="3214800" y="5866920"/>
              <a:ext cx="19530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" name=""/>
            <p:cNvSpPr/>
            <p:nvPr/>
          </p:nvSpPr>
          <p:spPr>
            <a:xfrm>
              <a:off x="3505320" y="556272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Hu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3" idx="0"/>
            <a:endCxn id="79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0"/>
            <a:endCxn id="80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3" idx="3"/>
            <a:endCxn id="81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83" idx="0"/>
            <a:endCxn id="79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7600" y="106668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429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7150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2160" y="2362320"/>
            <a:ext cx="1371600" cy="76176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x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5486400"/>
            <a:ext cx="1371600" cy="762120"/>
          </a:xfrm>
          <a:prstGeom prst="rect">
            <a:avLst/>
          </a:prstGeom>
          <a:solidFill>
            <a:srgbClr val="cecec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 flipH="1">
            <a:off x="2647440" y="1856880"/>
            <a:ext cx="1696320" cy="90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>
            <a:off x="1961640" y="3138480"/>
            <a:ext cx="567720" cy="233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14" idx="0"/>
            <a:endCxn id="110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4" idx="0"/>
            <a:endCxn id="111" idx="1"/>
          </p:cNvCxnSpPr>
          <p:nvPr/>
        </p:nvCxnSpPr>
        <p:spPr>
          <a:xfrm flipV="1">
            <a:off x="2514240" y="3809160"/>
            <a:ext cx="3948840" cy="166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4" idx="3"/>
            <a:endCxn id="112" idx="1"/>
          </p:cNvCxnSpPr>
          <p:nvPr/>
        </p:nvCxnSpPr>
        <p:spPr>
          <a:xfrm>
            <a:off x="3214800" y="5866920"/>
            <a:ext cx="19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4" idx="0"/>
            <a:endCxn id="110" idx="2"/>
          </p:cNvCxnSpPr>
          <p:nvPr/>
        </p:nvCxnSpPr>
        <p:spPr>
          <a:xfrm flipV="1">
            <a:off x="2514600" y="1842840"/>
            <a:ext cx="1829520" cy="36295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9200" y="1052640"/>
            <a:ext cx="1511280" cy="1346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840800" y="3419640"/>
            <a:ext cx="1193760" cy="1574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41920" y="5029200"/>
            <a:ext cx="125748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58880" y="5087880"/>
            <a:ext cx="1079280" cy="16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2920" y="2359080"/>
            <a:ext cx="1117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565240" y="38088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ollo 13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2920" y="1052640"/>
            <a:ext cx="4149360" cy="2635200"/>
            <a:chOff x="142920" y="1052640"/>
            <a:chExt cx="4149360" cy="2635200"/>
          </a:xfrm>
        </p:grpSpPr>
        <p:sp>
          <p:nvSpPr>
            <p:cNvPr id="129" name=""/>
            <p:cNvSpPr/>
            <p:nvPr/>
          </p:nvSpPr>
          <p:spPr>
            <a:xfrm>
              <a:off x="1783080" y="105912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n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8880" y="216144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ev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94440" y="322776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r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280" y="166356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x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9520" y="3121200"/>
              <a:ext cx="640080" cy="355320"/>
            </a:xfrm>
            <a:prstGeom prst="rect">
              <a:avLst/>
            </a:prstGeom>
            <a:solidFill>
              <a:srgbClr val="cecece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/>
            <p:nvPr/>
          </p:nvCxnSpPr>
          <p:spPr>
            <a:xfrm flipH="1">
              <a:off x="1311480" y="1427760"/>
              <a:ext cx="792000" cy="420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/>
            <p:nvPr/>
          </p:nvCxnSpPr>
          <p:spPr>
            <a:xfrm>
              <a:off x="991440" y="2025720"/>
              <a:ext cx="265320" cy="10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3" idx="0"/>
              <a:endCxn id="129" idx="2"/>
            </p:cNvCxnSpPr>
            <p:nvPr/>
          </p:nvCxnSpPr>
          <p:spPr>
            <a:xfrm flipV="1">
              <a:off x="1249560" y="1420560"/>
              <a:ext cx="853920" cy="1693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33" idx="0"/>
              <a:endCxn id="130" idx="1"/>
            </p:cNvCxnSpPr>
            <p:nvPr/>
          </p:nvCxnSpPr>
          <p:spPr>
            <a:xfrm flipV="1">
              <a:off x="1249560" y="2338560"/>
              <a:ext cx="1843200" cy="77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3" idx="3"/>
              <a:endCxn id="131" idx="1"/>
            </p:cNvCxnSpPr>
            <p:nvPr/>
          </p:nvCxnSpPr>
          <p:spPr>
            <a:xfrm>
              <a:off x="1576080" y="3299040"/>
              <a:ext cx="911880" cy="107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33" idx="0"/>
              <a:endCxn id="129" idx="2"/>
            </p:cNvCxnSpPr>
            <p:nvPr/>
          </p:nvCxnSpPr>
          <p:spPr>
            <a:xfrm flipV="1">
              <a:off x="1249560" y="1420560"/>
              <a:ext cx="853920" cy="1693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423160" y="1052640"/>
              <a:ext cx="705240" cy="6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735360" y="2156760"/>
              <a:ext cx="55692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129120" y="2908080"/>
              <a:ext cx="586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430200" y="2935440"/>
              <a:ext cx="50364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142920" y="1662120"/>
              <a:ext cx="521280" cy="6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5678280" y="1809720"/>
            <a:ext cx="188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 Pax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Si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vin B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80600" y="253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78800" y="29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80600" y="3271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80600" y="366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80600" y="402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9080" y="3971880"/>
          <a:ext cx="4751640" cy="281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9080" y="3971880"/>
                    <a:ext cx="475164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00280" y="673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240" y="2259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0760" y="18273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45320" y="37530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29160" y="524520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7200" y="5229360"/>
            <a:ext cx="49248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81720" y="382896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8640" y="1528920"/>
            <a:ext cx="492120" cy="492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4" idx="0"/>
            <a:endCxn id="153" idx="4"/>
          </p:cNvCxnSpPr>
          <p:nvPr/>
        </p:nvCxnSpPr>
        <p:spPr>
          <a:xfrm flipV="1">
            <a:off x="2534760" y="1164960"/>
            <a:ext cx="31176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3" idx="4"/>
            <a:endCxn id="155" idx="0"/>
          </p:cNvCxnSpPr>
          <p:nvPr/>
        </p:nvCxnSpPr>
        <p:spPr>
          <a:xfrm>
            <a:off x="2846520" y="1164960"/>
            <a:ext cx="9612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5" idx="3"/>
            <a:endCxn id="154" idx="6"/>
          </p:cNvCxnSpPr>
          <p:nvPr/>
        </p:nvCxnSpPr>
        <p:spPr>
          <a:xfrm flipH="1">
            <a:off x="2780640" y="2247480"/>
            <a:ext cx="851400" cy="2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55" idx="4"/>
            <a:endCxn id="156" idx="1"/>
          </p:cNvCxnSpPr>
          <p:nvPr/>
        </p:nvCxnSpPr>
        <p:spPr>
          <a:xfrm>
            <a:off x="3807000" y="2319480"/>
            <a:ext cx="2110320" cy="150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56" idx="4"/>
            <a:endCxn id="157" idx="0"/>
          </p:cNvCxnSpPr>
          <p:nvPr/>
        </p:nvCxnSpPr>
        <p:spPr>
          <a:xfrm flipH="1">
            <a:off x="5674680" y="4245120"/>
            <a:ext cx="416520" cy="10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7" idx="6"/>
            <a:endCxn id="158" idx="2"/>
          </p:cNvCxnSpPr>
          <p:nvPr/>
        </p:nvCxnSpPr>
        <p:spPr>
          <a:xfrm flipV="1">
            <a:off x="5921280" y="5474880"/>
            <a:ext cx="101664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8" idx="0"/>
            <a:endCxn id="159" idx="4"/>
          </p:cNvCxnSpPr>
          <p:nvPr/>
        </p:nvCxnSpPr>
        <p:spPr>
          <a:xfrm flipV="1">
            <a:off x="7183080" y="4320360"/>
            <a:ext cx="345240" cy="9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59" idx="2"/>
            <a:endCxn id="156" idx="6"/>
          </p:cNvCxnSpPr>
          <p:nvPr/>
        </p:nvCxnSpPr>
        <p:spPr>
          <a:xfrm flipH="1" flipV="1">
            <a:off x="6336720" y="3998880"/>
            <a:ext cx="945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6" idx="5"/>
            <a:endCxn id="158" idx="1"/>
          </p:cNvCxnSpPr>
          <p:nvPr/>
        </p:nvCxnSpPr>
        <p:spPr>
          <a:xfrm>
            <a:off x="6265800" y="4173120"/>
            <a:ext cx="7437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7" idx="7"/>
            <a:endCxn id="159" idx="3"/>
          </p:cNvCxnSpPr>
          <p:nvPr/>
        </p:nvCxnSpPr>
        <p:spPr>
          <a:xfrm flipV="1">
            <a:off x="5850000" y="4249080"/>
            <a:ext cx="1504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9" idx="0"/>
            <a:endCxn id="160" idx="5"/>
          </p:cNvCxnSpPr>
          <p:nvPr/>
        </p:nvCxnSpPr>
        <p:spPr>
          <a:xfrm flipH="1" flipV="1">
            <a:off x="6729120" y="1948680"/>
            <a:ext cx="79920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0" idx="1"/>
            <a:endCxn id="153" idx="6"/>
          </p:cNvCxnSpPr>
          <p:nvPr/>
        </p:nvCxnSpPr>
        <p:spPr>
          <a:xfrm flipH="1" flipV="1">
            <a:off x="3091680" y="918720"/>
            <a:ext cx="3288600" cy="6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173" name=""/>
          <p:cNvGraphicFramePr/>
          <p:nvPr/>
        </p:nvGraphicFramePr>
        <p:xfrm>
          <a:off x="282600" y="3443400"/>
          <a:ext cx="476712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3443400"/>
                    <a:ext cx="476712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5:38:54Z</dcterms:created>
  <dc:creator>Jen Golbeck</dc:creator>
  <dc:description/>
  <dc:language>en-US</dc:language>
  <cp:lastModifiedBy>Jen Golbeck</cp:lastModifiedBy>
  <dcterms:modified xsi:type="dcterms:W3CDTF">2010-01-28T03:35:49Z</dcterms:modified>
  <cp:revision>44</cp:revision>
  <dc:subject/>
  <dc:title>PowerPoint Presentation</dc:title>
</cp:coreProperties>
</file>