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E19-F99B-472A-8302-CB281A06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267-12EF-4928-A867-068C4FF6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CED-B144-4DFA-B2B7-FC7A4F64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213-1696-4962-95A5-D02F2693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4D6-1CFF-4510-BFD3-F11F856F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8B8-4B32-410E-9B84-3302C0E7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BC6-7940-477B-818A-EAF32DE1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43B-2F78-4D2B-A837-4D774AEB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9EB-5AB2-46CD-8F8D-42FC72C7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DD6-8238-42BA-97FA-FAD663F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798-DDB7-499F-94D8-5988963F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607-D71D-4F90-924C-CAC3018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D38A-7F8B-45FA-9B03-1C64BB86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684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42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1727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17272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2488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5963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95348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232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265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39760" y="914400"/>
            <a:ext cx="73947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97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1946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062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7546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293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35:03Z</dcterms:created>
  <dc:creator>Jen Golbeck</dc:creator>
  <dc:description/>
  <dc:language>en-US</dc:language>
  <cp:lastModifiedBy>Jen Golbeck</cp:lastModifiedBy>
  <dcterms:modified xsi:type="dcterms:W3CDTF">2010-03-25T13:43:41Z</dcterms:modified>
  <cp:revision>3</cp:revision>
  <dc:subject/>
  <dc:title>PowerPoint Presentation</dc:title>
</cp:coreProperties>
</file>