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410-5A67-4976-AFC2-E42AC5F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694-F554-41EF-BB3C-9AFE4E52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EAA-D3B0-4B96-978A-EAA7AB05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186-DAE0-40AA-8AC2-04A577B8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2FA8-C641-43AB-9F41-CA1CFC9B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E5F-D340-4717-8E99-809B363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64E-4966-4803-B5FC-81AB265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209-DB83-4216-BF13-1D523AB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7B98-B79F-47E0-A7A8-15CB27F9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B2B-A622-45A8-9F31-7184458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D68C-A7F5-45D3-88D6-6846726F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45B-9E7A-4AF9-BB20-6CFCBA0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6154-1676-4D5C-B6CF-506A7E3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1B0F-2474-4B1C-9266-C9DE345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271-B412-481E-9FE8-982E5E1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C3E2-AFA3-443D-8152-D7CB8DDA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690B-3291-4774-8B1A-FF03EA3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1FB-C33A-4D47-96B5-BCD21FE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436-D88B-495D-85D1-2FD9ED3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EC0-8498-4F29-A6BE-E91A68C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774-437A-451F-A5D0-43FAF49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1F6-99F2-42FC-A69D-205028A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7FB-1DAC-405A-B11C-16C213E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65C-5399-4287-95A0-A4E52E6A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D56-1917-45A4-80A6-1DBE78094A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2A89-FFF9-44BD-93B6-837DC9203B2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-level secur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b-based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ffer overflows; secure programming and sandbox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ruses, worms, and malicious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2360" y="2819520"/>
            <a:ext cx="48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Organiz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ct information, office hours, listed on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webp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tp://www.cs.umd.edu/~jkatz/comp_se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s course organization, updated syllabus, various link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links to paper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ides posted for convenience, but no substitute for attending le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works distributed from the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often for announc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will primarily use two tex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n Computing” by Pfleeger and Pflee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 Security…” by Kaufman, Perlman, and Speci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ither is officially required, but both will make it easier to follow the cour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h are on reserve in the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rea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 be linked from the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 from these readings is fair game for the exams, even if not covered in class (unless stated otherwis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ease suggest other readings or relevant news articl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s and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out 4-5 HWs throughout the seme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portion will be done with a part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require implementation using J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s will help with using JCE and Java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about project to com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accou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tudent will receive a computer account for homeworks and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unts will be assigned in the next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01040" y="281952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s Harder than it Seems</a:t>
            </a:r>
            <a:r>
              <a:rPr b="0" lang="en-US" sz="4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2760" y="617220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nd it already seems quite har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n, these are conflicting go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 an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mputer/network secur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rse philosophy and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-level overview of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rse organization and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 are all Security Customer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 trade-of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goal should never be “to make the system as secure as possible”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nstead, “to make the system as secure as possib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within certain constrai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” (cost, usability, convenie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-benefit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ortant to evaluate what level of security is necessary/appropri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 of mounting a particular attack vs. value of attack to an advers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 of damages from an attack vs. cost of defending against the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kelihood of a particular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” security not always b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oint in putting a higher post in the ground when the enemy can go around i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identify 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weakest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of a system is only as good as the security at its weakest poin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not a “magic bulle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a process, not a produ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man fa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assword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sider vs. insider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misconfigu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applying security pat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enginee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mportance of precise specific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ment of what is and is not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mech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thod for enforcing a security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is meaningless without the oth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not the only concer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 and 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know when you are being attack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quickly can you stop the attack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you prevent the attack from recurring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much more important than prev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gal issu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d security monitoring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the state of network security this bad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monitoring; risk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s are going to occur; impossible to have complete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s a process, not a produc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ing trust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m do you trus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one really need to be this paranoid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ably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, y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ws that security is complex…and essentially im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es back to risk/benefit trade-of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vertheles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course, we will focus on security in iso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mportant to keep in the back of your mind the previous discus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if you decide to enter the security field, learn more about i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of computer science is concerned with achieving desir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some sense, security is concerned with preventing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u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r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way of thinking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enemy/opponent/hacker/adversary may b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ctive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licious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rying to circumvent any protective measures you put in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er impacts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osive growth of interest in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often following notable security failure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act on/interest from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?) areas of 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ory (especially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/learning the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architecture/hard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ming languages/compil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C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iloso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r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going to be able to cover every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osure to different aspects of security; meant mainly to “pique” your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mindset” of security: a new way of think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come familiar with basic crypto, acronyms (RSA, SSL, PGP, etc.), and “buzzword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ent participation (I hope!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s listed on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se before class and come prepared to discu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th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me relevant/interesting s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articipation count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roduc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 we mean by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security achievable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graphy is not the (whole) solu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s is an important part of the 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ong the way, we will see why cryptography can’t solve all security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 princi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; confidentiality/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ed computing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and key exchange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ty and pseud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real-world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08-31T14:49:01Z</dcterms:modified>
  <cp:revision>174</cp:revision>
  <dc:subject/>
  <dc:title>CMSC 414 Computer (and Network) Security</dc:title>
</cp:coreProperties>
</file>