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9D0-B269-4E6E-B2D1-80D41A1D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F60-E977-4D8C-A28D-4B722A73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431-F744-4382-97C0-4AE79098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DB7-87F7-47F5-98A7-323BDCE4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D41-C761-4D8C-9EC4-4662C51B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8EBE-6615-4D4B-A7D5-8DE5F9BD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377-7A69-4972-A355-4027C741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DF3-CEE4-4822-8010-0EC627EA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7871-04D6-4C89-8995-4A4DCE05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2CB7-8B98-4335-8F69-15D6BC2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1C0-EDAF-4167-BF57-3B8FA9EF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4B0-DA77-40E0-AB54-EF43CD48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1711-A5CC-4BF8-B5CC-5F96A844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2E6-A1EC-401C-857E-CA25A0F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AFB7-555C-4DDC-87B5-992105E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57B-1023-44D6-8B84-2BAC38A1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DEB7-B55D-4B28-ABF0-6ECC6F8F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7E7-465B-4F3D-A299-0C3575E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429-FBF5-4269-8756-05B4F9F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9AD-3B86-4BA0-8B43-4829CAC3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03B-780F-4A6D-9087-AD458799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E9-63C2-4667-8F03-F0390B4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51C-4D3D-41DF-A2B3-D5622BDD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1F3-4626-4EDE-A576-0F74EED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D36E-AAC1-474E-8FD2-B466915DB1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80E-23AA-48BD-A4DC-9EA876D723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 IV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ication-level securit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b-based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ffer overflows; secure programming and sandbox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ruses, worms, and malicious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2360" y="2819520"/>
            <a:ext cx="48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Organiz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ct information, office hours, listed on course web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webp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ttp://www.cs.umd.edu/~jkatz/comp_se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s course organization, updated syllabus, various link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links to papers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ides posted for convenience, but no substitute for attending le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meworks distributed from the course webp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eck often for announc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xtboo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will primarily use two tex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in Computing” by Pfleeger and Pfleeg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twork Security…” by Kaufman, Perlman, and Speci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ither is officially required, but both will make it easier to follow the cour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th are on reserve in the libr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read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 be linked from the course web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 from these readings is fair game for the exams, even if not covered in class (unless stated otherwis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ease suggest other readings or relevant news article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s and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out 4-5 HWs throughout the seme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portion will be done with a part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require implementation using J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s will help with using JCE and Java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ails about project to com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accou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student will receive a computer account for homeworks and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unts will be assigned in the next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01040" y="2819520"/>
            <a:ext cx="757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s Harder than it Seems</a:t>
            </a:r>
            <a:r>
              <a:rPr b="0" lang="en-US" sz="4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2760" y="617220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nd it already seems quite har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denti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ten, these are conflicting goal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 and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mputer/network secur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rse philosophy and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-level overview of top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urse organization and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 are all Security Customers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is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 trade-of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goal should never be “to make the system as secure as possible”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nstead, “to make the system as secure as possib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within certain constrain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” (cost, usability, convenie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-benefit 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ortant to evaluate what level of security is necessary/appropri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t of mounting a particular attack vs. value of attack to an advers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st of damages from an attack vs. cost of defending against the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kelihood of a particular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” security not always be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point in putting a higher post in the ground when the enemy can go around it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 to identify 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weakest li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of a system is only as good as the security at its weakest poin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is not a “magic bullet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is a process, not a produ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man fa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.g., password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sider vs. insider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ftware misconfigu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applying security pat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 engineer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Importance of precise specific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poli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ment of what is and is not a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mech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thod for enforcing a security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is meaningless without the other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vention not the only concer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ction and respon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know when you are being attacke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quickly can you stop the attack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you prevent the attack from recurring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much more important than prev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gal issu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d security monitoring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the state of network security this bad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 monitoring; risk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tacks are going to occur; impossible to have complete prot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s a process, not a produc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ing trust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m do you trus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one really need to be this paranoid?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ably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, y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ws that security is complex…and essentially im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es back to risk/benefit trade-of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vertheles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is course, we will focus on security in isol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 important to keep in the back of your mind the previous discuss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if you decide to enter the security field, learn more about it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of computer science is concerned with achieving desir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some sense, security is concerned with preventing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u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red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 way of thinking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enemy/opponent/hacker/adversary may b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ctive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aliciousl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rying to circumvent any protective measures you put in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oader impacts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osive growth of interest in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often following notable security failure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act on/interest from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?) areas of 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ory (especially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ryptography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erating syst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/learning the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uter architecture/hard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amming languages/compil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C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iloso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ar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going to be able to cover everyt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osure to different aspects of security; meant mainly to “pique” your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mindset” of security: a new way of think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come familiar with basic crypto, acronyms (RSA, SSL, PGP, etc.), and “buzzwords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ent participation (I hope!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pers listed on course webp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these before class and come prepared to discu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the 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me relevant/interesting sto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articipation count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roduct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 we mean by secur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security achievable…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graph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yptography is not the (whole) solu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s is an important part of the 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ong the way, we will see why cryptography can’t solve all security probl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 princi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control; confidentiality/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ed computing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-level overview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 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and key exchange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nymity and pseudonym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real-world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08-31T14:49:01Z</dcterms:modified>
  <cp:revision>174</cp:revision>
  <dc:subject/>
  <dc:title>CMSC 414 Computer (and Network) Security</dc:title>
</cp:coreProperties>
</file>