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656-F419-4ADA-987C-6A27F792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C23-A27E-457D-A436-5E598ECD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8E2-ADAD-4EB2-93F4-BF9C4DFC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13A-1076-4272-941A-B6E5FEFE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C903-3452-4D1B-911C-588C84E7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8343-E8D3-44A2-894F-EC38CF35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D97E-3DA7-412B-85B6-39234524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3165-49F6-4E23-A8D8-EA070505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CE3-3D88-410D-88AE-4DCFBB9E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9FF1-7B42-48DF-BF9E-97F040B9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362E-B19B-422C-B234-F16E12EB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639-70BE-4EB9-8C5C-361045B1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4626-C161-4F3C-BB9D-22BCFE95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6C70-6F35-4076-88C5-C595184A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BB82-3ACD-41EE-AC0B-4F53FEA4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5DA3-F1F9-4297-903C-AA83C547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9011-BACE-4B1D-9AC5-E01FEC41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88A-E38C-4A9B-91EB-5F167660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550-33F2-415B-858C-40802A31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69B-ADB6-4001-A43C-7AECAEC1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15E-46CC-44A5-A0F2-9759AB63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27E-5F72-489D-B9DC-B9B0ECDE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83F-EA7E-408D-8F96-EF8166BF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5A1-27A0-4EE8-AD55-D48AEB19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AF92-EEC3-4AE9-A4BF-9B0FAE7B304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BA39-BB74-4DD1-95BB-4E89E7629A5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 practic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stems are often not designed with the necessary granula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“append” may not be distinct from “writ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in UNIX, no access controls for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ro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yone who can make backup files can also delete those 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nciple of Fail-Safe Defaults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less a subject is given explicit access to an object, it should be denied ac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the default is no acc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a process reporting an error message should not try to expand its rights in an attempt to correct the err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conomy of Mechanism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mechanisms should be as simple as possibl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no simpler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simplify formal proofs of security (or even informal audit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sequ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design/implementation are simple, less chance for err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 testing is also simpl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 interfaces especially susp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ypically make assumptions about the input/output format of the other modu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finger protocol: DoS attack by returning infinite stream of charac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nciple of Complete Mediation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ccesses to objects should be checked to ensure they are allow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S should mediate any request to read an object --- even on the second such request by the same subject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n’t cache authorization resul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e exampl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UNIX, when a process tries to read a file, the system checks access right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llowed, it gives the process a file descrip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le descriptor is presented to OS for ac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permissions are subsequently revoked, the process still has a valid file descriptor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sufficient medi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n Design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“security through obscurity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of a system should not depend on the secrecy of its implemen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 course, secret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key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o not violate this principl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paration of Privileg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As much as is feasible…) a system should not grant permission based on a single cond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require more than one sys admin to issue a critical command, or more than one teller to issue an ATM c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7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nciple of Least Common Mechanism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mechanisms depended upon by all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ed mechanisms are a potential information path, and should not compromise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expose the system to potential DoS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sychological Acceptability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mechanisms should not make access to the resource more difficu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mechanisms are too cumbersome, they will be circumvented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if they are used, they may be used incorrect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 stu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ice hours tod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 review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29480" y="2743200"/>
            <a:ext cx="585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to more specifics…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to specific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le protection as the running 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everything said here is more generally applic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control matrix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central matrix indexed by all subjects and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aracterizes rights of each subject with respect to each obj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mally: set of objects O and subjects 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rix A contains an entry for every pair (s, 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entry contains the rights for s on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s: read/write/execute/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complex access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general, “rights” may be fun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ual” rights depend on the system st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quivalently, may depend on system hi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rawback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umber of subjects/objects is very lar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st entries blank/defaul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central matrix is modified every time subjects/objects are created/deleted or rights are mod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recto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viewed as storing the columns of the access control matrix with the appropriate 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user has file directory, which lists files to which user has access and relevant access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d, write, execute, “owner” - can change access rights on a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le directories can be large and difficult to man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when a file is made public, all user’s directories must be updat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r, revoking all access to a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control lists (ACL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viewed as storing the rows of the access control matrix with the appropriate o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list per object, showing all subjects with access and their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ssible to assign “default rights” to an o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asy to make an object publ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 access based on user, group, and compart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of wildca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design deci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fine-grained to allow ACL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user-level, group-level, or only public/privat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anularity of rights (e.g., “append”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handle conflicts if two subjects give different permissions on an o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sallow multiple own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 access if any entry gives r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 access only if no entry denies r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pply first applicable en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vocatio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ign decision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default access leve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approa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pply ACL entry, if it exists; otherwise, apply default ru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ACL entries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overrid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default permiss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ug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e default permissions with those in the appropriate ACL ent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: default allows “read” and ACL entry states “write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p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me burden for implementing protection placed on the user rather than just the 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alogy: user has a “ticket” which grants access to an o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apability is an unforgeable token giving user access to an object and describing the level of allowable acc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bject owners can specify new types of right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g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ilar to segmentation, but with fixed-size segments called p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dressing via (page, offse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s fragmentation problem…as well as “large offset” iss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efficient as program grows, since pages cannot be dynamically resiz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paging” also causes potential security problems as data is shifted from one page to ano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n be difficult to describe desired protection, since pages are no longer logical uni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 general approach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cket is held by OS, which returns to the subject a pointer to the tic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cket is held by the user, but protected from forgery by cryptographic mechanis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…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encrypt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s mistakenly claimed in book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possibilities: ticket verified by the object or by the OS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o holds the key in each case…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raw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not really satisfy principle of complete medi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dd automatic expiration to mitigate th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st of both world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combine paging with segmen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gical units, each broken into same-size p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tages/disadvantag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general obj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y protection is only one 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a way to protect more general obje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fore we begin, some design principle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minal article by Saltzer and Schroeder (197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ight principles underlying design and implementation of security mechanis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nked from the course home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 point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designs/mechanisms easy to underst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ss chance of err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 point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tri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the “power” of an 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only allow access to information it nee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only allow necessary communication; restrict type of communication allow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ss chance of harm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cipl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nciple of least privileg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subject should be given only the privileges it needs to accomplish its ta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function of a subject (not its identity) should determine th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.e., if a subject needs certain privileges only to complete a specific task, it should relinquish those privileges upon completion of the tas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12T19:25:21Z</dcterms:modified>
  <cp:revision>1434</cp:revision>
  <dc:subject/>
  <dc:title>CMSC 414 Computer (and Network) Security</dc:title>
</cp:coreProperties>
</file>