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96C-66EF-4067-AC8A-D0DF403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12D-C1A4-405B-9C62-D62C92E3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544-E74A-4E0E-AC74-8D0C958B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E10-F244-4D3B-AEDE-EA438B86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314E-351F-48B8-A59A-8CBC511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7B8-B699-4F43-B996-A81D93F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C71-A0E5-4022-8E36-83C80B9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0D7-ECB7-40E6-A565-170F31DF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BC8-562F-476D-9CB5-A4A487FF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A9A6-FB36-4EBF-8015-B579621C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11B9-F54B-470C-8138-8DC046F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4D6-80EB-4D63-A78F-E51572F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C91-5B35-48F6-AD39-1E31E93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922B-FA5F-4C14-B4A6-D92A92B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0A82-53AF-4F0C-ABDD-512EB46F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90C-2A84-4D4C-B763-37500FA6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6FD0-1031-42B4-B982-38E80DC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F33-A8B6-450D-8E03-C460DA2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C45-40C1-4397-A41D-CED55EA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2F1-A21D-4331-8448-5D88542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5B1-697F-4C3F-AE9F-3846EB95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91B-DEEA-44A4-B94E-9DDD1AC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130-332B-479B-85DC-439D7BE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FC5-1563-4A41-8DE5-73C3BBA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653-341D-4A79-9D60-007F2FE8BA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1C00-C537-46D9-AB0F-A3726515960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practic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s are often not designed with the necessary granula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append” may not be distinct from “writ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in UNIX, no access controls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o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one who can make backup files can also delete those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Fail-Safe Default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less a subject is given explicit access to an object, it should be denied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the default is no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 process reporting an error message should not try to expand its rights in an attempt to correct the err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onomy of Mechanis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mechanisms should be as simple as possi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no simple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simplify formal proofs of security (or even informal audi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sequ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design/implementation are simple, less chance for e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testing is also simpl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interfaces especially susp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ly make assumptions about the input/output format of the other mod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finger protocol: DoS attack by returning infinite stream of charac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Complete Mediatio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es to objects should be checked to ensure they are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should mediate any request to read an object --- even on the second such request by the same subjec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cache authorization resul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e 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UNIX, when a process tries to read a file, the system checks access righ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llowed, it gives the process a file descrip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le descriptor is presented to OS for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permissions are subsequently revoked, the process still has a valid file descripto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ufficient me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Desig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“security through obscurit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of a system should not depend on the secrecy of its imple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course, secre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ey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o not violate this principl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paration of Privile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As much as is feasible…) a system should not grant permission based on a single cond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require more than one sys admin to issue a critical command, or more than one teller to issue an ATM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Least Common Mechanis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mechanisms depended upon by all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d mechanisms are a potential information path, and should not compromise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expose the system to potential DoS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sychological Acceptabilit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mechanisms should not make access to the resource more difficu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mechanisms are too cumbersome, they will be circumvent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they are used, they may be used incorrec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stu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ice hours tod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 review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29480" y="2743200"/>
            <a:ext cx="58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to more specifics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to specific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 protection as the running 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everything said here is more generally applic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matr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central matrix indexed by all subjects and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izes rights of each subject with respect to each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ly: set of objects O and subjects 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A contains an entry for every pair (s, 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entry contains the rights for s on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: read/write/execute/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complex access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general, “rights” may be 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ual” rights depend on the system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quivalently, may depend on system hi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ber of subjects/objects is very lar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entries blank/de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central matrix is modified every time subjects/objects are created/deleted or rights are mod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recto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columns of the access control matrix with the appropriate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user has file directory, which lists files to which user has access and relevant access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d, write, execute, “owner” - can change access rights on 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 directories can be large and difficult to man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hen a file is made public, all user’s directories must be upda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, revoking all access to 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lists (AC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rows of the access control matrix with the appropriate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list per object, showing all subjects with access and their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to assign “default rights” to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make an object publ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access based on user, group, and compart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of wildc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design deci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fine-grained to allow ACL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ser-level, group-level, or only public/privat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nularity of rights (e.g., “append”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handle conflicts if two subjects give different permissions on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allow multiple own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access if any entry give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access only if no entry denie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pply first applicable e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vocatio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ign decision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default access leve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y ACL entry, if it exists; otherwise, apply default r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ACL entrie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overrid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fault permis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ug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 default permissions with those in the appropriate ACL ent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: default allows “read” and ACL entry states “writ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urden for implementing protection placed on the user rather than just the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ogy: user has a “ticket” which grants access to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apability is an unforgeable token giving user access to an object and describing the level of allowable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 owners can specify new types of righ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g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to segmentation, but with fixed-size segments called p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ressing via (page, offs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s fragmentation problem…as well as “large offset” iss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efficient as program grows, since pages cannot be dynamically res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paging” also causes potential security problems as data is shifted from one page to an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n be difficult to describe desired protection, since pages are no longer logical un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general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cket is held by OS, which returns to the subject a pointer to the ti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cket is held by the user, but protected from forgery by cryptographic mechanis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encrypt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mistakenly claimed in book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possibilities: ticket verified by the object or by the OS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holds the key in each case…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really satisfy principle of 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dd automatic expiration to mitigate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st of both world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combine paging with seg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gical units, each broken into same-size p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/disadvantag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general obj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 protection is only one 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a way to protect more general o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fore we begin, some design principl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minal article by Saltzer and Schroeder (197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ght principles underlying design and implementation of security mechanis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ked from the course home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designs/mechanisms easy to underst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chance of err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the “power” of an 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only allow access to information it ne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only allow necessary communication; restrict type of communication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chance of har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least privile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ubject should be given only the privileges it needs to accomplish its ta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function of a subject (not its identity) should determine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if a subject needs certain privileges only to complete a specific task, it should relinquish those privileges upon completion of the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12T19:25:21Z</dcterms:modified>
  <cp:revision>1434</cp:revision>
  <dc:subject/>
  <dc:title>CMSC 414 Computer (and Network) Security</dc:title>
</cp:coreProperties>
</file>