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976-99D2-4860-BE37-5E842479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0E3-4A95-46DF-AA7E-B673DA02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C8C-2757-42BB-BCBB-772A6EB9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866-24BA-473F-98CC-255023E6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66A7-2746-40FD-A529-A8C2C433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A84F-1706-4555-AF1B-37B17AB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196F-E5A5-4F2F-A662-3A617434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3B59-6877-4DFE-BE80-24F1E3F3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A153-1EFE-4DEC-A630-860B305A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A85C-99E6-4745-B335-5CD4AAD0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43F-535F-486C-8268-16762556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942-6C05-4448-88D5-59CC207C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0F57-6497-4448-A9F2-204B90F7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0A30-2324-4520-B487-D36364D7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E375-CFEE-4E86-8C58-007D2B2A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0D59-9ECB-4117-A580-71C79E59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C7A0-65B1-42B6-8668-DB3C8CD3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6C5-6EBC-4E92-A800-E6068335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A0C-93B2-418D-AAD8-25DA5F47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B78-E661-4BD7-92E8-027FCD9D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A58-90C9-48D4-8C5F-8EF4AAD3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797-0920-4F22-84B0-24EF602E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CCD-4813-4A1A-8B4F-0FF38F5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E2F-0CAF-48C9-A40A-A1365E6C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FC98-65A4-4895-B3AF-591B303B55A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28CC-3628-45D3-A632-23DB4E6F311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1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 review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use of 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om “The Confused Deputy,” by Hard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iler in directory S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can provide file for debugging outp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iler can write statistics to SYS/st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iler given ability to write to S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 set debugging file to SYS/bil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wrote billing fil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lying problem: authority from two sources: static + authority of call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solve this problem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eck filenames explicitl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y can change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gitimate access to SYS files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d specific list of condition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mplexity grow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witch authoriti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f more than two authorities are possibl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Ls do not work… (why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ggested sol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capa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ive compiler capability to write to SYS/st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ling user can provide additional capabilities, if nee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iler must explicitly designate capabilities to use in a particular situ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bility myths…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quivalence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ACLs and capabilities are “just” two views of the AC matri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nfinement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Capability systems cannot enforce confin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rrevocability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Capabilities cannot be revo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quivalence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Ls have “arrows” from objects to subjects; capabilities have “arrows” from subjects to obje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pabilities do not require subjects to “know” object names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 prior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pabilities do not require subjects to “know” whether they have autho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15T02:21:14Z</dcterms:modified>
  <cp:revision>1573</cp:revision>
  <dc:subject/>
  <dc:title>CMSC 414 Computer (and Network) Security</dc:title>
</cp:coreProperties>
</file>