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5530-032D-4128-A16E-4EE1A7C8E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494F-6EEF-4635-9B7B-60120D018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7AD4-F4D3-41C0-A191-77AC33517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64F9-2AE0-4F6E-95F6-6DCEBB2C7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E836E-4F56-4064-91AC-8BE6A7185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20020-30A2-47A3-9BEB-FA1B49759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18035-BCCC-403F-8FAD-87EC87522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DBA26-1EAA-4BB5-B1A3-E09691BD9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4A60A-18E7-431D-878B-0A40D66E6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9B2A3-05D5-48CB-B803-1CB4467D9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63C49-64EF-4BB2-B947-2A76B0BDC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8CCD-2E12-4BCD-95EE-0DF8E5C3D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1A38B-6E9C-45DC-9B2F-007932B34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24DCD-28A4-4F00-B873-22439D6E9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F6003-C2AD-4B7B-A6DE-61C16A656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52E40-72FB-4578-9E25-36AA9936B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E1EDB-6B17-48B5-B5AD-1357D6993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6FFC-6143-4034-B44E-320E8EEB9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7421-5AB7-4A50-862C-72653EFF1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FC89-D2B1-4941-AC0D-1278B8614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058A-857B-4D2A-8993-26C17A4E7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0CDE-2626-4F5A-B4E0-46F4D5AF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20C6-C9A4-441A-9358-F8986B55A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3EC0-60D0-446E-A509-4DC77DB1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spcBef>
                <a:spcPts val="15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08576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1992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931E0-7B82-4E7E-B1DF-6420DA517982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68923-9E9C-44A8-957B-73EA717FEFFF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MSC 414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omputer and Network Security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Lecture 11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72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Jonathan Katz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xam review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xample use of capabiliti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rom “The Confused Deputy,” by Hard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mpiler in directory SY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ser can provide file for debugging outpu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mpiler can write statistics to SYS/sta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ompiler given ability to write to SY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ser set debugging file to SYS/bill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llowed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verwrote billing file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xample continued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nderlying problem: authority from two sources: static + authority of call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ow to solve this problem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heck filenames explicitly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They can change…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Legitimate access to SYS files…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dd specific list of conditions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Complexity grow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witch authorities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What if more than two authorities are possible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CLs do not work… (why?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uggested solu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se capabilit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Give compiler capability to write to SYS/sta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lling user can provide additional capabilities, if need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mpiler must explicitly designate capabilities to use in a particular situ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apability myths…”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Equivalence myth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: ACLs and capabilities are “just” two views of the AC matrix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Confinement myth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: Capability systems cannot enforce confineme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Irrevocability myth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: Capabilities cannot be revok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quivalence myt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CLs have “arrows” from objects to subjects; capabilities have “arrows” from subjects to objec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apabilities do not require subjects to “know” object names 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a prior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apabilities do not require subjects to “know” whether they have authori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4T23:33:06Z</dcterms:created>
  <dc:creator>jkatz</dc:creator>
  <dc:description/>
  <dc:language>en-US</dc:language>
  <cp:lastModifiedBy>jkatz</cp:lastModifiedBy>
  <dcterms:modified xsi:type="dcterms:W3CDTF">2004-10-15T02:21:14Z</dcterms:modified>
  <cp:revision>1573</cp:revision>
  <dc:subject/>
  <dc:title>CMSC 414 Computer (and Network) Security</dc:title>
</cp:coreProperties>
</file>