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655-38B2-44FA-BB80-1AF30072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8EE-F0A3-4144-B2E0-BA25D74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476-833B-4BC0-874A-FA43179B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A5E-06DB-4E3A-847F-FD34F4F9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1B8-8D79-43B3-98CC-145B9060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1CA2-88C7-47E9-9D65-5917EAF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616-68BF-4F44-87D8-6924A571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92FC-ED55-43FD-91D2-AEA94BE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1AE-21B5-4251-83C3-969D7C74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07C8-594F-4E2E-A3DF-CBC9161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D2E8-2ABE-4298-86C9-27C67DF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9FB-82DE-4FC9-96E7-AD75C4B3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DEAC-25CA-4D72-BB86-098D042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847A-F561-47D2-9318-02A6797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A385-28D2-4129-89F3-590B306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777-832C-4241-8010-CCBFA50D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67E5-35B7-4707-A80A-D875A9DF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9DC-3964-4CEC-A19F-02AF60B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C95-EB4C-4AFF-8735-1CA44B8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F2D-424E-423E-A979-FF06FEE2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E6D-F313-49B4-A63C-7906CE1D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F62-39D0-4682-B456-C628730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8EF-B892-4327-99C6-2DB1E8DD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054-8B79-4641-A3ED-1793634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9F1-D9EB-4456-AFF8-65CE1EA04BF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BDDB-FD02-4F35-A96E-6D2F4D7378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used deput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give the ability to identify the authority a subject is us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then designate use of the authority for a specific purp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also tie together designation and auth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“know” about a resource if you don’t have the capability to access it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 request to access a resource must include the necessary authority to do so --- “deputy” can now examine the context of the reque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73360" y="2743200"/>
            <a:ext cx="677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” Operating Syste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hapter 5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rusted OS must provide (minimally) memory protection, file protection, access control, and use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deferred to la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licies/models, design, as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” vs. “Secur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“trusted” system meets the stated or expected securit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or may not be “secure”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be degrees of trus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ies/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model to us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itary security polic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concerned with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ranked at sensitivity level within a hierarchy (e.g.: unclassified, secret, top secret), and also placed within (one or multiple) “compartment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ification” of data =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tments no longer hierarchic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s given “clearanc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ressed as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know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 with clearance (r, C) can access object with classification (r’, C’) only if 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’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’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es a central “security officer” controlling design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y myths…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quivalence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CLs and capabilities are “just” two views of the AC matri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finement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y systems cannot enforce confin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rrevocability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ies cannot be revo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allow for finer-grained listing of su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cesses rather than user accou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allow greater flexibility to edit permis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CLs, usually all-or-not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apability-based systems, can delegate exactly those rights you ha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yth: Capabilities can be delegated “at will” and therefore cannot be conf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…can be set up so that A can delegate a capability to B only if A is authorized to pass capabilities to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B is untrusted, then the latter capability will not ex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gin of confinement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taken assumption that the ability to write/read files translates into the ability to read/write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read-down/write-up” example which allows transfer of “write-low” cap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should not be viewed as “just” bitstrings; they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yp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y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 of capabiliti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pabilities may expire with time…or can remove all access by changing random number associated with f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allow fine-grained revocation by su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OS stores capabilities, can simply delete the capabi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uld move capability to new location and reveal the location only to subjects which still have acces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quires OS to keep track of which capabilities have been issued to wh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general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forwarding to revoke acces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at enforcing “principle of least privilege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 access to minimal resources, to the minimal set of su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seen already that capabilities allow much finer-grained control over subjects (process-level instead of user-leve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ing “confused deputy” probl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uty” = program managing authorities from multiple sour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example we have seen, the problem was not the compiler having the wrong authority, but of exercising its authority for the wrong purpo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0T01:46:45Z</dcterms:modified>
  <cp:revision>1615</cp:revision>
  <dc:subject/>
  <dc:title>CMSC 414 Computer (and Network) Security</dc:title>
</cp:coreProperties>
</file>