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5A7-294C-498B-9799-A0104B47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597-E325-48F5-9F7D-68F8A486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E33-AA5C-4872-BF3E-76431750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140-C0DE-4798-BE50-E68FE3DF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70A0-FCC8-49E2-BC94-EB65993B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8ADB-6B8C-435D-B2E7-A120BD64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9087-1529-4219-A6D5-89C42C9C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1C87-0271-4C72-B6AA-3236C0F7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6636-07EA-4417-A59F-9D43211A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67EE-3D49-4248-A762-EED6F2CA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DE39-A798-4AAD-A9A9-585BF194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86C-E910-4B8D-9EFC-5C6F26EF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A737-2BC3-4402-8C57-54B0B582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7B50-AD5C-494A-B5A1-C4D24424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A382-E757-4561-BF37-9EDF0DCE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EC87-3D4E-4532-8BF7-DEA8A8DB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0541-3332-4D3D-BEF8-92FD5DD1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D25-3B34-4F33-ADB5-4AF152A4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B64-6C67-4E24-8DE2-92B1AEEB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B4B8-5184-4B8D-91BD-D8EBEC1F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9BF-9B77-463A-8476-2C7EDD5A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29C-A05B-44DD-AA6C-738D5B46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7E7-A94F-450C-B881-10B57F68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1D0-0AC9-481C-A6B0-A5A25B18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418E-E0BA-40E3-8068-0616A88E5B6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DF2D-6E5A-4F4F-918F-E98F92BF4B3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2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fused deputy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abilities give the ability to identify the authority a subject is us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then designate use of the authority for a specific purpo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abilities also tie together designation and autho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n’t “know” about a resource if you don’t have the capability to access it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y request to access a resource must include the necessary authority to do so --- “deputy” can now examine the context of the reque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73360" y="2743200"/>
            <a:ext cx="677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ed” Operating System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Chapter 5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rusted OS must provide (minimally) memory protection, file protection, access control, and user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deferred to later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licies/models, design, assur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” vs. “Security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“trusted” system meets the stated or expected security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y or may not be “secure”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y be degrees of trust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policies/mod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model to us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litary security policy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marily concerned with secre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tion ranked at sensitivity level within a hierarchy (e.g.: unclassified, secret, top secret), and also placed within (one or multiple) “compartment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ification” of data = (rank; compartment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artments no longer hierarchical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litary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jects given “clearance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ressed as (rank; compartment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to know” ba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ject with clearance (r, C) can access object with classification (r’, C’) only if r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r’ and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’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umes a central “security officer” controlling design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pability myths…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Equivalence my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ACLs and capabilities are “just” two views of the AC matri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nfinement my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Capability systems cannot enforce confin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rrevocability my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Capabilities cannot be revok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quivalence my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pabilities allow for finer-grained listing of subje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cesses rather than user accou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pabilities allow greater flexibility to edit permiss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ACLs, usually all-or-not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apability-based systems, can delegate exactly those rights you hav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finement my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yth: Capabilities can be delegated “at will” and therefore cannot be confin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…can be set up so that A can delegate a capability to B only if A is authorized to pass capabilities to 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B is untrusted, then the latter capability will not ex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igin of confinement my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staken assumption that the ability to write/read files translates into the ability to read/write capab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“read-down/write-up” example which allows transfer of “write-low” capabi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abilities should not be viewed as “just” bitstrings; they ar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typ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y the 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ocation of capabilitie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abilities may expire with time…or can remove all access by changing random number associated with f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 not allow fine-grained revocation by subj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OS stores capabilities, can simply delete the capabi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uld move capability to new location and reveal the location only to subjects which still have access r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quires OS to keep track of which capabilities have been issued to who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general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forwarding to revoke acces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of capabi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tter at enforcing “principle of least privilege”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de access to minimal resources, to the minimal set of su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have seen already that capabilities allow much finer-grained control over subjects (process-level instead of user-leve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ing “confused deputy” prob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puty” = program managing authorities from multiple sour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example we have seen, the problem was not the compiler having the wrong authority, but of exercising its authority for the wrong purpo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0-20T01:46:45Z</dcterms:modified>
  <cp:revision>1615</cp:revision>
  <dc:subject/>
  <dc:title>CMSC 414 Computer (and Network) Security</dc:title>
</cp:coreProperties>
</file>