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69E-D74E-4F0F-8C66-E308A21A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206-53FB-4291-90C2-A1788A0F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302-040B-475F-987E-F78B1BC2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8BE-3477-44B9-8B48-471A78AB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6D62-76FC-42B8-8A93-354E16E6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C4B6-357A-49A9-B71F-14F40EA8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36BD-2C25-4526-91BC-9EBBC3C6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E76E-7C16-472F-BBA0-6727E426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DDAA-4260-47D3-AAC9-AD145D8E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3DF7-821A-436E-8946-8C31038F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16C3-C91D-4AB1-A3B4-8EAD8780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249-6090-4D98-A122-161C128B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20D6-F15F-427B-B84D-82A06239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5AE7-95F2-47F5-AE17-19D47951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5AC4-E78F-4287-A571-05896E7B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4B49-4F8C-443A-8D24-5BF84C91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F0B9-8754-4CF1-9744-066EA524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C27-2C6D-4027-AD61-6E22AB51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E32-FFCC-4E97-8A92-233DDFF2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BBCF-FC76-47F6-B0B4-FA6F8032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2C7-7EE1-4B96-AABC-EEE3D17B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C3E-1EE6-4A82-9E2B-3A9494C2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B89-1F76-472D-B142-A7870C3A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D21-0FFA-40AD-8FFC-DD9DFAEB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D3E5-7AC2-4B49-B378-2A34C7DE62C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BC85-21C0-4003-953E-1C0451BB7C9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3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ll-LaPadula model 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ttice-based security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jects hav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security clear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bjects hav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security classif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minance relation between security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ll-LaPadula model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imple security conditio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S can read O if and only if l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have seen this alread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*-propert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S can write O if and only if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ad down; write up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tion flows upw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security theor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a system begins in a secure state, and always preserves the simple security condition and the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*-property, then the system will always remain in a secure st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.e., information never flows dow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unicating down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 communicate from a higher security level to a lower on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x. security level vs. current security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ximum security level must always dominate the current security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uce security level to write dow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ity theorem no longer hol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t rely on users to be security-conscio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ercial vs. military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Bell-LaPadula model does not work as well for commercial syst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s given access to data as need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scretionary access control vs. mandatory access contro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uld require large number of categories and classific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centralized handling of “security clearance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iba mo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cerned with integ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ual” of Bell-LaPadula mo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dered integrity leve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higher the level, the more confid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ore confidence that a program will act correctl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ore confidence that a subject will act appropriatel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ore confidence that data is trustworth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e that integrity levels may be independent of security classific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nfidentiality vs. trustworthines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ormation flow vs. information modific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iba mo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imple integrity conditio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S can read O if and only if I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(Integrity) *-propert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S can write O if and only if I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information obtained from a subject cannot be more trustworthy than the subject it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ad up; write down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tion flows downw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theor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there is an information transfer path from o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o o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then i(o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(o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lly: information transfer does not increase the trustworthiness of the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e: nothing about secrecy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w-water-mark”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iation of “pure” Biba mod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s reads o, then the integrity level of s is changed to min(I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I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subject may be relying on data less trustworthy than it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, its integrity level is lower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wback: the integrity level of a subject is non-increasing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S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st if security is built-in from the begin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sired security policies impact key design decis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oehorning” security at the end likely to lead to poor desig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in mind security princip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litary security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marily concerned with secre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tion ranked at sensitivity level within a hierarchy (e.g.: unclassified, secret, top secret), and also placed within (one or multiple) “compartment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ification” of data = (rank; compartment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artments no longer hierarchical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feat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ication/authentication (l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cess contr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Mandatory access contro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individual users do not have control over access rights to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cretionary access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contro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users given ability to control access rights (at least to some extent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combine both: access allowed only if MAC and DAC both allow acc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feat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ete medi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access to all resources must be medi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bject reuse prot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careful when de-allocating memory for files or program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usted p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ystem must be authenticated to the us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password-entry in Window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feat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countability/aud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bility to trace faults and recover from th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rusion detectio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feat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kern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accesses mediated via kern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sier to protect security mechanisms if they are isol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sier to verify (and potentially fix) problems in a small, localized portion of c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, may downgrade performanc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feat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erence moni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rols access to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thin security kern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tamperproof, always invoked when access to an object is requested, and small enough to be analyzed and tested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ed computing base (TCB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CB includes everything needed to enforce security poli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n if all non-TCB components changed arbitrarily, no security vio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ludes hardware, notion of (basic) processes and files, protected memory, and inter-process commun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run in some protected st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the full-blown O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C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 basic intera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cess acti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main switching (one process activating another in a different domain to obtain more sensitive data/servic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mory protection (e.g., monitor memory referenc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/O oper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common fla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/O process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formed by low-level routines which may be outside the security kern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complex code; more heavily optimized (possibly at the expense of securit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omplete medi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nerality, system config probl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ssur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s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only demonstrate existence of a probl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sting only observed behavior is limi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iger team” analysis may be bet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mal verif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ly for simplest portions of code…motivation to keep security kernel simp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lex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ly as good as the conditions verifi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ssur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lid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sures that all required components have been implemen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en sourc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-party e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 “orange book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litary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jects given “clearance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ressed as (rank; compartment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 to know” ba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ject with clearance (r, C) can access object with classification (r’, C’) only if r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r’ and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’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umes a central “security officer” controlling design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ange book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 – no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1/C2/B1 – “basic” security feat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2 – proof of security of underlying model, and specification of trusted computing b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3/A1 – more precise description and formal designs of trusted computing b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ange book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operating users at same level of sensitivit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control; users can protect their own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cretionary access contr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ner granularity of contr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tter audit functions; each individual access to each object can be track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ange book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n-discretionary access control; subjects and (most) objects assigned a security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l-LaPadula model + DAC to further limit acc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ange book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sign and implementation go through more thorough review/testing based on verifiable top-level desig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ependent modu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nciple of least privile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control for all subjects/objects, including devi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alysis of covert channe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ange book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functions small enough for extensive testing/review and tamperproo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iable desig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mal model and proof of consisten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mal analysis of covert channe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ercial security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ypically more relaxed than military 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y also be more concerned with integrity and/or avail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: Clark-Wilson mo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nsactions are the basic 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 subjects/objec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system should always remain in a “consistent stat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well-formed transaction leaves the system in a consistent st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policy determined in terms of access triples: allowed transactions, associated data items, and user(s) authorized to perform the transa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paration of du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Clark-Wilson model, no way to “pass state” from one access triple to anoth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ght allow the same person to perform multiple, related transa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tter to augment policy to ensure that different users are in charge of related transa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one user has “too much” po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inese Wall” security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vents conflicts of intere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bjects, company groups, conflict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ject disallowed from reading from two company groups within same conflict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missions change dynamicall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chanisms for enforcing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precisio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of a mechanism is a measure of how overly-restrictive the mechanism is with respect to the poli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.e., due to preventing things that are allow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fortunately, it is impossible (in general) to develop a “maximally-precise” mechanism for an arbitrary poli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ltilevel 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ttice-based” schem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l-LaPadula mod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dentifies allowable communication flow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cerned primarily with ensuring secre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sures “confinement” of concurrent process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0-21T19:27:32Z</dcterms:modified>
  <cp:revision>1634</cp:revision>
  <dc:subject/>
  <dc:title>CMSC 414 Computer (and Network) Security</dc:title>
</cp:coreProperties>
</file>