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9DFE-88A9-442D-9DD1-613F540DA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FA52-0EDA-466E-B50A-5E0DE730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C817-BE84-4059-B6A7-C1948482B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30E0-2022-4A5C-A0BF-99754DA2B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3CD4-F55E-44DF-A0D1-93928E0DB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1632-8281-4546-913A-BFA545A2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9CBF-4282-4E96-96CC-D8A1FB20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FC2A-9851-40D8-B03A-FDD650E2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87CC-CF14-4677-8256-0DB6382E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4BAD-6DB2-442F-8B94-F07317F1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A1E9-B98B-468E-AA7A-77BDA0AE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A94C-3A9E-4583-9D48-C7EF10E4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D78D-88A3-4917-AABD-F54D75F7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8DF3-B787-43B5-A8F2-45438B04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1837-9D48-45F9-8899-A4EB2F36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C2E2-D26F-4F84-A18C-538976FA2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91F8-202E-408B-BEEB-E13DB0D00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2932-EFE7-4761-BB32-D706B082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7555-EA06-4775-9408-079521CE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439C-8DFA-4B14-B2F9-75A362CF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E873-17D0-4B50-A0C8-0345B75C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6C84-B68A-42AD-B5BC-4BE931A2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7CAF-2E67-45AE-8020-921AE549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C571-EDA9-43A1-A5CC-2016CCE8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08576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1992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16CE-0212-441E-AAE7-1D081FCF86A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1612-D95D-4F6F-81C9-B882E2A2F6B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13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ell-LaPadula model 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attice-based security class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ubjects have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security cleara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bjects have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security classific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minance relation between security class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ell-LaPadula model I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Simple security condition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 S can read O if and only if l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 have seen this already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*-property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 S can write O if and only if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ad down; write up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formation flows upwar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ic security theor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a system begins in a secure state, and always preserves the simple security condition and the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*-property, then the system will always remain in a secure sta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.e., information never flows down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municating down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w to communicate from a higher security level to a lower one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x. security level vs. current security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ximum security level must always dominate the current security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duce security level to write down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urity theorem no longer hold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ust rely on users to be security-consciou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mercial vs. military syste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Bell-LaPadula model does not work as well for commercial syste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rs given access to data as need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iscretionary access control vs. mandatory access contro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ould require large number of categories and classifica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centralized handling of “security clearances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iba mod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cerned with integr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ual” of Bell-LaPadula mod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rdered integrity leve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higher the level, the more confid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ore confidence that a program will act correctl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ore confidence that a subject will act appropriatel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ore confidence that data is trustworth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te that integrity levels may be independent of security classifica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onfidentiality vs. trustworthines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formation flow vs. information modifica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iba mod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Simple integrity condition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 S can read O if and only if I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I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(Integrity) *-property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 S can write O if and only if I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I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information obtained from a subject cannot be more trustworthy than the subject itself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ad up; write down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formation flows downwar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theor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there is an information transfer path from o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to o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then i(o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i(o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formally: information transfer does not increase the trustworthiness of the dat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te: nothing about secrecy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ow-water-mark” polic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ariation of “pure” Biba mod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s reads o, then the integrity level of s is changed to min(I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I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subject may be relying on data less trustworthy than itself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, its integrity level is lower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rawback: the integrity level of a subject is non-increasing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S desig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st if security is built-in from the beginn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sired security policies impact key design decis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hoehorning” security at the end likely to lead to poor design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eep in mind security principl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ilitary security polic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imarily concerned with secrec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formation ranked at sensitivity level within a hierarchy (e.g.: unclassified, secret, top secret), and also placed within (one or multiple) “compartments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ssification” of data = (rank; compartment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partments no longer hierarchical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featur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dentification/authentication (l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ccess contro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Mandatory access control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individual users do not have control over access rights to objec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scretionary access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control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users given ability to control access rights (at least to some extent)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combine both: access allowed only if MAC and DAC both allow acce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featur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plete medi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 access to all resources must be media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bject reuse protec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st be careful when de-allocating memory for files or programs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usted pat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ystem must be authenticated to the us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, password-entry in Window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featur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ccountability/audi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bility to trace faults and recover from the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trusion detection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featur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urity kern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 accesses mediated via kern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asier to protect security mechanisms if they are isola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asier to verify (and potentially fix) problems in a small, localized portion of co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t, may downgrade performance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featur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ference moni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rols access to objec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ithin security kern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st be tamperproof, always invoked when access to an object is requested, and small enough to be analyzed and tested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usted computing base (TCB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CB includes everything needed to enforce security polic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ven if all non-TCB components changed arbitrarily, no security viol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cludes hardware, notion of (basic) processes and files, protected memory, and inter-process communic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st be run in some protected sta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t the full-blown OS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C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 basic interac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cess activ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main switching (one process activating another in a different domain to obtain more sensitive data/service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mory protection (e.g., monitor memory reference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/O opera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ome common flaw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/O process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formed by low-level routines which may be outside the security kern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re complex code; more heavily optimized (possibly at the expense of security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complete medi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enerality, system config proble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ssuran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est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only demonstrate existence of a proble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sting only observed behavior is limi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iger team” analysis may be bet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rmal verific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nly for simplest portions of code…motivation to keep security kernel simp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plex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nly as good as the conditions verifi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ssuran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alid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ssures that all required components have been implemen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pen source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-party evalu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 “orange book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ilitary polic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bjects given “clearance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pressed as (rank; compartment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ed to know” bas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ubject with clearance (r, C) can access object with classification (r’, C’) only if r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r’ and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’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C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sumes a central “security officer” controlling designa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range book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 – no requirem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1/C2/B1 – “basic” security featur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2 – proof of security of underlying model, and specification of trusted computing ba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3/A1 – more precise description and formal designs of trusted computing ba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range book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operating users at same level of sensitivity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cess control; users can protect their own dat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scretionary access contro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ner granularity of contro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tter audit functions; each individual access to each object can be track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range book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n-discretionary access control; subjects and (most) objects assigned a security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ll-LaPadula model + DAC to further limit acce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range book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sign and implementation go through more thorough review/testing based on verifiable top-level desig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dependent modu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inciple of least privile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cess control for all subjects/objects, including devic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alysis of covert channe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range book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urity functions small enough for extensive testing/review and tamperproof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erifiable desig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rmal model and proof of consistenc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rmal analysis of covert channe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mercial security polic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ypically more relaxed than military secur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y also be more concerned with integrity and/or availabilit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: Clark-Wilson mod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ransactions are the basic oper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t subjects/objec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system should always remain in a “consistent state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well-formed transaction leaves the system in a consistent sta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urity policy determined in terms of access triples: allowed transactions, associated data items, and user(s) authorized to perform the transac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paration of du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 Clark-Wilson model, no way to “pass state” from one access triple to anoth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ight allow the same person to perform multiple, related transac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tter to augment policy to ensure that different users are in charge of related transac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 one user has “too much” po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hinese Wall” security polic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events conflicts of interes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bjects, company groups, conflict class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bject disallowed from reading from two company groups within same conflict cla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missions change dynamically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echanisms for enforcing polic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precisio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of a mechanism is a measure of how overly-restrictive the mechanism is with respect to the polic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.e., due to preventing things that are allow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fortunately, it is impossible (in general) to develop a “maximally-precise” mechanism for an arbitrary polic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ultilevel secur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attice-based” schem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ll-LaPadula mod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dentifies allowable communication flow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cerned primarily with ensuring secrec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sures “confinement” of concurrent process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katz</cp:lastModifiedBy>
  <dcterms:modified xsi:type="dcterms:W3CDTF">2004-10-21T19:27:32Z</dcterms:modified>
  <cp:revision>1634</cp:revision>
  <dc:subject/>
  <dc:title>CMSC 414 Computer (and Network) Security</dc:title>
</cp:coreProperties>
</file>