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81A-7C5D-4E94-9171-8775D88C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664-BFF6-4AC4-8B83-B48CFB47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983-7AF1-4152-960B-99EF34EC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840-5DCB-48BE-9E29-83820C9D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DDBF-61DB-442D-8EB0-A595E07B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B505-3C13-4ADC-8395-934E7D30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347C-F19C-47FD-B8BF-64D0B356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3E52-12CA-4921-8492-99E848E5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61B7-A6DB-4735-AB43-9801407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2D14-D3B5-435A-945A-B992C964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07CD-D78D-42F5-B692-6A2ABFD3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605-CFA3-4805-8709-1F1FDF1A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F15C-13B5-4F92-A278-33E8820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A5CA-7EA1-46C4-8814-CD25D23E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3C13-FD6C-45B5-B783-0A5FCF64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B75-343D-4AE3-8165-3838BF2A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8384-E150-4A31-8F49-3E93CBE5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339-6FF4-4DAE-ACB6-5AA05066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FB6-9A40-4C2D-AB9F-85B33E99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E85-B598-4764-95E0-0CD5E9AD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6E7-0CBA-4764-80AC-0EABDA82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4B8-43E5-4814-BE08-0BF7E892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423-7AD9-4780-ABA5-52B53475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86D-9352-4A2C-898F-30F314F9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68D4-DB48-4C6F-BFBD-85914500D22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8BC1-668D-4AB9-9FBA-C4FAA4D5226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4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-based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y password-based protocol is vulnerable to an “on-line” dictionary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-line attacks can be detected and limi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y password-based protocol is vulnerable to off-line attack if server is comprom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-based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Bes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Use a password-based protocol which is secure against off-line attacks when server is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mprom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fortunately, this has not been the case in practice (e.g., telnet, cell phones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a difficult problem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clea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h of password (done correctl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n’t always achieve anything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es adversary’s job har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tentially protects users who choose good passwo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lt”-ed hash of passwo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kes bulk dictionary attacks harder, but no harder to attack a particular pass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ntralized server stores passwo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shold password stor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ntralized password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hentication storage n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ntral server stores password; servers request the password to authenticate us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h. facilitator n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ntral server stores password; servers send information from user to be authenticated by the central ser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that central server must be authenticate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authentication protoco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stores H(pw); user sends p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” against server compromise, but not eavesdropping (or replay attack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stores pw, sends R; user sends H(pw,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against eavesdropping, but not server compromise (or dictionary attack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he user sends R also…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we achieve security against both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rifying the identity of another ent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r authenticating to another compu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authenticating to a local compu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authenticating to a remote compu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issu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authentication information is stored (at both ends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protocol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hentication may be based 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you kn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you ha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you 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tual authentication vs. unidirectional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 taxon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sive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e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erso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-in-the-midd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compro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erent attacks may be easier/more difficult in different sett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ress-based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sometimes used (e.g., unix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is generally not very sec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latively easy to forge source addresses of network packe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-based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sword-based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y system based 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low-entrop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hared secret (note: different from book definitions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sword sel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lection of passwords is typically very w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wer entropy password makes dictionary attacks easi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ypical password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rived from account names or userna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ctionary words, reversed dictionary words, or small modifications of dictionary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tter password sel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alphanumeric charac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nger phra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try to enforce good password select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these types of passwords are difficult for people to memorize and type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om passwords to key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potentially use passwords to derive symmetric or public ke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entropy of the resulting ke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ten allows off-line dictionary attacks on the pass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26T20:02:10Z</dcterms:modified>
  <cp:revision>1699</cp:revision>
  <dc:subject/>
  <dc:title>CMSC 414 Computer (and Network) Security</dc:title>
</cp:coreProperties>
</file>