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A5B4-58D8-4676-9B47-CC8020894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50BE-867F-4D6C-B247-724F871E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4203-F722-4E9A-B997-2859EA05F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A9A6-BF7F-4B83-8BD4-BAFFCFE56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3B2C-3774-405C-B0B7-8D3FA87BF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6FE1-7636-4932-A2E2-6DAEEA2A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30DA-4FC3-4DA6-8F3F-499050E7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FDC6-9963-4A3E-8C50-82E8F660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B83E-581F-4938-ABA7-5959BF7D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A0E3-76FE-41CB-889B-D3D0DA73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A488-6B66-42C9-817B-DB0801F5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F496-0E6A-4916-A018-C8FFEF1D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513A-36D1-4863-8068-7031D17F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E344-A857-4D52-AAEC-DD2D64A2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0874-7E89-4E9D-8EB2-07F4C15A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3BD3-6B45-4BB6-971D-EE4160296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7925-D961-4B79-9FBE-DE7426624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3638-C4CF-4D1E-A3B7-082055CA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66E9-D070-4E7C-A80B-3EEE1B14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6B83-63A1-41DA-B7A2-9552E41F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766F-03D6-4755-9AA6-BA98455F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0259-1444-4758-BC88-01190D20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66BD-FB43-48DC-AAF2-4C6C5704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8742-7BF2-4F46-A09E-7079032E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1992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B25F-5487-4129-B880-9ECCB7960DE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12C9-2389-4DD9-8E52-3C9B6758E44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14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ssword-based protocol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y password-based protocol is vulnerable to an “on-line” dictionary attac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-line attacks can be detected and limi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y password-based protocol is vulnerable to off-line attack if server is compromis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ssword-based protocol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Bes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 Use a password-based protocol which is secure against off-line attacks when server is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compromis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fortunately, this has not been the case in practice (e.g., telnet, cell phones, etc.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is a difficult problem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ssword stora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the clear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ash of password (done correctly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oesn’t always achieve anything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kes adversary’s job hard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tentially protects users who choose good password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alt”-ed hash of passwor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kes bulk dictionary attacks harder, but no harder to attack a particular passwor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entralized server stores passwor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reshold password stora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entralized password stora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uthentication storage no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entral server stores password; servers request the password to authenticate us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uth. facilitator no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entral server stores password; servers send information from user to be authenticated by the central serv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te that central server must be authenticated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ic authentication protocols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rver stores H(pw); user sends pw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e” against server compromise, but not eavesdropping (or replay attack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rver stores pw, sends R; user sends H(pw,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e against eavesdropping, but not server compromise (or dictionary attack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if the user sends R also…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n we achieve security against both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uthentic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erifying the identity of another ent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uter authenticating to another compu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son authenticating to a local compu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son authenticating to a remote compu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wo issue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authentication information is stored (at both ends)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uthentication protocol itself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uthentication may be based 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you know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you hav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you a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ample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utual authentication vs. unidirectional authentic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ttack taxonom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ssive attac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ctive attac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mperson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n-in-the-midd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rver compromi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fferent attacks may be easier/more difficult in different setting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dress-based authentic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s sometimes used (e.g., unix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s is generally not very secu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latively easy to forge source addresses of network packe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ssword-based protocol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ssword-based authentic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y system based on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low-entrop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shared secret (note: different from book definitions!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ssword selec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r selection of passwords is typically very wea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ower entropy password makes dictionary attacks easi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ypical password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rived from account names or usernam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ctionary words, reversed dictionary words, or small modifications of dictionary word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etter password selec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n-alphanumeric charact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onger phra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n try to enforce good password selection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ut these types of passwords are difficult for people to memorize and type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rom passwords to key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n potentially use passwords to derive symmetric or public key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is the entropy of the resulting key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ften allows off-line dictionary attacks on the passwo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katz</cp:lastModifiedBy>
  <dcterms:modified xsi:type="dcterms:W3CDTF">2004-10-26T20:02:10Z</dcterms:modified>
  <cp:revision>1699</cp:revision>
  <dc:subject/>
  <dc:title>CMSC 414 Computer (and Network) Security</dc:title>
</cp:coreProperties>
</file>