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E6E-2B9B-4FCC-B0D5-AADE1F99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7AD-143E-410B-9F21-5A62E34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617-4BB9-45EC-9613-55F7B76E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482-1D97-4710-B3AC-CF1D4BA4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1E3-F5DF-4052-91FB-3E73B5E4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38ED-E6E8-4E9D-8256-593495A8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4AB5-DD29-4125-ACFE-8E4E5BA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A66A-6E24-4627-8BDD-598FF2C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BF89-705F-4F01-8CDE-2575B382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1F8B-5D5B-4B45-8324-8DB64AF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01E0-63A2-4550-94D4-FD7D0AE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C54-88C4-41A1-B860-75D705B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997A-D39A-4BCC-97E6-7E1A97B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DAE-7480-4780-A68A-A0DC8EC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2C7-EABA-4AD8-A516-1C343BB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D3AB-8010-4023-A825-CDC7385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CD8-D983-4864-84EE-B9825F89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CCA-5365-4891-B7BB-A5F6BF7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6D8-C121-4A97-87A6-36B2540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A0B-E616-4BC0-9218-E009F6A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15E-614F-4FC4-BD24-1699A73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152-6881-48AC-8C68-6B2C0DE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8B5-D776-4524-8245-5FBE336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D35-9D29-4554-AD49-A545272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E9FF-2014-4905-917A-4A067D1C21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49F7-F837-4914-92D2-E8305298AB7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65280" y="2743200"/>
            <a:ext cx="538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ereal demonstr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telnet and CH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authentication protoc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H(pw); user sends p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” against server compromise, but not eavesdropping (or replay attack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w, sends R; user sends H(pw,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against eavesdropping, but not server compromise (or dictionary atta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the user sends R also…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bot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will see later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techniques for human auth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gnetic stripe 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rt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ndalone” toke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ll need a secure auth. protocol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SecurID_fob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1646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omet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ous possibiliti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rop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biometric data secre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oc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cult to use securel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uni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ill need a secure protoco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k; user stores 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; user sign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a secure signature sche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server compromise and eavesdropping without using public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8T20:22:39Z</dcterms:modified>
  <cp:revision>1720</cp:revision>
  <dc:subject/>
  <dc:title>CMSC 414 Computer (and Network) Security</dc:title>
</cp:coreProperties>
</file>