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06E-1375-4FEF-BFAA-D430A07E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798-5788-4674-9D63-6CA24DD4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8B9-484F-42D0-84CE-268E5F55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A7E-9623-4BF6-B379-AE429ADA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70C-080F-4A54-AAF5-199C658A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7A64-8DB9-4E3C-AA1A-3A4F3B9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1B2-5CD8-40CB-8C26-0535F17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440-66D6-459E-A5AF-4A7C7FF9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4784-D193-4535-9E73-C2AA3340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12C1-7E95-47C9-A60E-CC0F6B24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E86-63BB-4D8F-B5AD-9508277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0A4-2A35-41B4-9799-1D9147A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ED0-B5C4-4DF7-A439-15C78F9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465A-4346-4FED-AC0E-1C68C09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B51-E788-4FCD-920A-442CE91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211-EE5D-4212-BB4A-BC002618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FEC-3B0C-41E5-A23C-DB017A8C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582-32EA-4DD0-8085-A67C848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65A-2FB3-4FA9-AB2D-91B87E29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003-07A1-4F87-8DF2-CA1ED52F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291-3DF5-40AD-AADC-3DF672F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402-0F5E-47DC-A6FD-5B2E9EA0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46F-759C-4795-9A48-42BB4CA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24E-8290-43FE-99B9-55DFB92F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7E34-C0EB-4BB4-83AE-66F602F16BC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DCF-44DF-4DE2-9A33-F8225768D4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65280" y="2743200"/>
            <a:ext cx="538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hereal demonstr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telnet and CH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authentication protoco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H(pw); user sends p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” against server compromise, but not eavesdropping (or replay attack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w, sends R; user sends H(pw,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ure against eavesdropping, but not server compromise (or dictionary atta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the user sends R also…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bot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will see later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techniques for human auth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gnetic stripe 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martc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ndalone” token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ll need a secure auth. protocol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SecurID_fob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1646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omet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ous possibilitie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rop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biometric data secre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ocati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icult to use securel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unif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rr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ill need a secure protoco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protoc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tores pk; user stores s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r sends R; user signs 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a secure signature schem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is secur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tential weaknes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we had used encryption instea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we achieve security against server compromise and eavesdropping without using public-key cryp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0-28T20:22:39Z</dcterms:modified>
  <cp:revision>1720</cp:revision>
  <dc:subject/>
  <dc:title>CMSC 414 Computer (and Network) Security</dc:title>
</cp:coreProperties>
</file>