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350-F392-4854-ACF1-76817CA3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282-AC63-4E5D-BCCD-5C41332F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91F-597E-46D0-BAC2-721A3730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96A-9E09-4A7A-A8AA-5E3F4B59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DEFF-13C9-45B9-BED6-8FA48812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0E1C-B0A5-457B-A15F-F9C1B26B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07F9-13F0-4641-94F2-1D366835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44C3-4052-4FE1-9557-7D5FD0C4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8BC9-98BC-49AF-9F05-3A93DEF8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C919-5F1A-4861-8CA0-2636AD15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E1C1-A9F1-4A75-8827-0DB80E9E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D22-2EB6-4CBE-8BE6-0EFDF72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99D8-4CDE-4F6E-8D48-41DE2F5C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2B56-42FC-4767-8C0E-C2049FD2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E21F-1EB6-484E-9304-DF681FC2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2BF5-DB96-497D-B178-64983548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8E30-3D29-4F84-A9CA-7265E1B4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74D-311E-4475-B56E-611BF872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B65-F7AD-458E-9B57-051F2164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085-2C2F-425D-BB84-BB77F166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821-4FF6-4AFA-955F-66AC2C4C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166-8265-49C1-B93C-3779AA48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852-F3F3-4DD1-B2A5-42185DB6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DE1-652C-47E5-A3EC-6FE7E39A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BB82-793F-4491-BE84-FF812F9DDAC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A8B7-F693-4AC8-96F7-4DE95DE3380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6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pk; user stores 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ends R; user signs 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ing a secure signature schem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is secu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tential weakn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we had used encryption instea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we achieve security against server compromise and eavesdropping without using public-key crypto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mport’s hashing protoc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ver stores H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pw); user sends H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pw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updates user’s entr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lso add “salt” to has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use same password on different si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tects against off-line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use same password (but different salt) when password “expire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ployed as S/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attack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ret expir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mutual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mall n”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ssion key establish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re are very few applications for which authentication alone is sufficient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do you do once you are authenticate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ly, need to establish 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ession 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fficiency advantages to using symmetric-key techniques if public-key auth. is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vantages even if a symmetric key is already shar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ssion ke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duces effectiveness of cryptanaly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key is compromised, only one conversation is aff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vents replay of messages from other convers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tter security from un-trusted ho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D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y Distribution Cen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tages of symmetric-key crypto, without O(n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ke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requires a trusted intermedia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gle point of failure/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ltiple intermedia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use multiple KDC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have all pairs of KDCs share a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likely, there will be a hierarchy of KD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key excha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-key based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ie-Hellman key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authenticated (yet)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02T20:36:14Z</dcterms:modified>
  <cp:revision>1730</cp:revision>
  <dc:subject/>
  <dc:title>CMSC 414 Computer (and Network) Security</dc:title>
</cp:coreProperties>
</file>