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F79-E6BB-442A-AFCE-D8A4C37F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AA4-F25D-4DDA-8799-1B42A15B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1BB-5036-4728-9AED-AE6063AF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78D-EEB3-44FB-B4EC-BB643F95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BC39-AC80-4A2D-8964-0DB91A08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487C-69E5-40DD-B4AF-F07DC1F9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CBB8-0CAA-401F-9B48-966E5547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F622-3957-4CCE-8215-F67A2530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6506-62A6-4D6A-B319-F02609A7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101F-1E29-44F5-B3A7-C0C85AAE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4E30-9234-4BA1-B963-BAE69F10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6A4-52C7-4776-84AE-5D806CD4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2880-4F3B-4C37-BC3F-9A5A8AFF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CCEC-22C0-42B1-AE11-9A52A7D1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E2CA-C64F-45D4-9702-A8A2CF04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6E61-78C2-4317-B0EE-7A2D68E1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1A80-D7F3-4079-A9A9-07454C67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39D-A3E6-4990-8F70-69D5D533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627-5E7D-47C2-BC6A-E95B0B67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557-9C85-486F-8AB7-D5CC7CA1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014-EA68-4E1B-B590-4243115E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243-6657-412E-A4C6-133E9E18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0C8-AC83-4280-A17D-44F9DD69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E81-63E4-411F-9B9D-200F69BE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9944-6A1B-4D7F-9699-BAD20E7ABC0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1184-A012-4F06-A2D0-85ED81FCB8F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6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tores pk; user stores 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ends R; user signs 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ing a secure signature schem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is secu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tential weakn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we had used encryption instea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we achieve security against server compromise and eavesdropping without using public-key crypto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mport’s hashing protoc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ver stores H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pw); user sends H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pw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updates user’s entr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also add “salt” to has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use same password on different si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tects against off-line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use same password (but different salt) when password “expire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ployed as S/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attack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ret expire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mutual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mall n”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ssion key establish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re are very few applications for which authentication alone is sufficient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do you do once you are authenticate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ly, need to establish 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session 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fficiency advantages to using symmetric-key techniques if public-key auth. is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vantages even if a symmetric key is already shar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ssion ke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duces effectiveness of cryptanaly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a key is compromised, only one conversation is aff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vents replay of messages from other convers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tter security from un-trusted ho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D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y Distribution Cen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antages of symmetric-key crypto, without O(n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ke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requires a trusted intermediar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gle point of failure/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ltiple intermedia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use multiple KDC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have all pairs of KDCs share a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likely, there will be a hierarchy of KD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key excha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-key based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ie-Hellman key ex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authenticated (yet)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1-02T20:36:14Z</dcterms:modified>
  <cp:revision>1730</cp:revision>
  <dc:subject/>
  <dc:title>CMSC 414 Computer (and Network) Security</dc:title>
</cp:coreProperties>
</file>