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9F6-172E-4A06-AE16-CBAEE81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A8A-6398-4917-9040-5C9588C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38A-B941-4805-97BF-8D5E2326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263-8818-409B-8FA9-C39FDA0D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A9B-9992-4341-B8C2-199ED8B9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391-B178-4CC5-B0BB-F734EC6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315-0644-445E-A3D5-95231A6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044-30E7-451E-A182-7F7A81AD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11C2-C726-44A6-8A50-C87B75CE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0F08-A982-4AE3-8805-AFA1A95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44E4-73F4-44DA-9BD2-783C441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F70-4E9B-40CB-BEB6-3A3484E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1FEC-A655-448F-AF37-FDC2790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CD90-D95B-4D58-AE5D-5DD40A2C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610-5794-4123-9F77-BCA9F52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BDAA-05EC-4DBA-95E2-133C7A67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C69-28AB-44E9-AD44-95E6AC9C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695-1700-4E93-8005-9AAD1E2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0EB-0C3D-48F3-AAE7-6B36F8B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D9E-89FB-486A-9679-41163D57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C92-F79C-47E7-809B-2ACD0AF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80F-6CCE-49C0-B648-3E49778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CC5-7627-4212-A667-5E5CB056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DEB-719C-43CC-875D-AD27414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604-CBDC-4B3F-B0FD-0C48B905A09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C81-B145-4B03-9505-EECEACC9FB7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stablishing a session ke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 challenge-response; compute session key as F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R+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against passive attacks if F is a pseudorandom permuta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attacks? And how to fix i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bas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E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session-key) in protoc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 session-key and sign the resul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forward secrec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tentially vulnerable to 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E(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server sends E(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session key is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sona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ie-Hellman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against passive eavesdropping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nsecure against a man-in-the-middle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sufficient to simply “add on” key establishment before/afte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licing attac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“authenticated key exchan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77000" y="2743200"/>
            <a:ext cx="576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Protoco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hapter 11, KP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ocol design is subt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ll changes can make a protocol insecur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storically, designed in an “ad-hoc” way, by checking protocol for known weakn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 example of where provable security help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rse” challenge-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send a ciphertext and have user decrypt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tual authentication (if decrypts “validly”)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akness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encryption fo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ote that a MAC cannot, in general, be us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le to dictionary attack just by false attempted login (not eavesdroppin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of server assumes no repla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time,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she had used encryption, or a has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bout just sending MA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ime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a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s (loosely) synchronized clo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guard against repla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user has same key on multiple server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ock reset attacks; clock DoS attack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mutual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 challenge-response (symmetric key) in 4 roun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nt in which user sends nonce firs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(reflection attack)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vulnerable to off-line password guessing without eavesdrop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mprove security, make protocol asymmetr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such attack on original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principle: let initiator prove its identity fir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timestamp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time,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, server responds with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+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y used encryp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ulnerabilit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mmetric protoco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04T22:45:36Z</dcterms:modified>
  <cp:revision>1759</cp:revision>
  <dc:subject/>
  <dc:title>CMSC 414 Computer (and Network) Security</dc:title>
</cp:coreProperties>
</file>