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3B4F-53BD-4151-9837-FC875C19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FBAF-DB00-4FB1-A5A1-B1FF6C31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1DE7-598B-4F0F-97FD-D67377875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71E9-74D4-4176-B4E6-F57DF991F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17E5-D4D7-4B58-8A20-BDF0C1BA8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0CD7-18BD-4281-B012-18CB9323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A9FD-9CC0-4E48-812B-B3F7E44E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3CC5-326E-474A-953C-120AD70F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B73C-93DE-4C0D-AED5-22256A92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1C2D-5ADA-487A-A83C-70828BBE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1A83-54FD-40F7-BE95-DDCF1CED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69E2-6057-474D-B81C-159E86A3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8EFF-25A8-41B4-B76A-1C0A61FB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E4B6-2E3D-4D7B-B983-931CBD59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25C6-BAD2-41D9-ACBA-FE55117A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4B92-3815-4A21-ABBF-1A2B8297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FAA8-6D35-484A-BD55-D8CE4E33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F8B6-EBBD-430B-A7E7-34AF6A39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E7DB-6E19-4D83-BFF9-9C9B8BC5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9728-28FF-4B40-9162-18735D3D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8B1B-0F02-4877-A2DE-3E3BEF5D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C421-723B-4B89-A035-A8FE197B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260B-4035-4534-8B0D-8F810CBE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9418-1C17-4989-8293-35454FEE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2A0D-F00B-4A7C-8DAC-79C4E4821E8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D84E-EC6D-47F2-8F3C-615990FE862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17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stablishing a session ke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uble challenge-response; compute session key as F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R+2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e against passive attacks if F is a pseudorandom permutation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tive attacks? And how to fix it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blic-key based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clude E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p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session-key) in protocol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crypt session-key and sign the result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forward secrecy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tentially vulnerable to replay att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r sends E(R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; server sends E(R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; session key is R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+R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asonabl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ffie-Hellman key exchan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ure against passive eavesdropping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t insecure against a man-in-the-middle attac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ding key exchan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t sufficient to simply “add on” key establishment before/after authent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licing attack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ed “authenticated key exchange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77000" y="2743200"/>
            <a:ext cx="576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uthentication Protocol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(Chapter 11, KPS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tocol design is subt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mall changes can make a protocol insecure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istorically, designed in an “ad-hoc” way, by checking protocol for known weakness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reat example of where provable security helps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verse” challenge-respon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.e., send a ciphertext and have user decrypt i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tual authentication (if decrypts “validly”)?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aknesse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s encryption for authent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Note that a MAC cannot, in general, be used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ulnerable to dictionary attack just by false attempted login (not eavesdropping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uthentication of server assumes no replay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r sends time, MAC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tim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f she had used encryption, or a hash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about just sending MAC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time)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ideration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quires (loosely) synchronized clo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st guard against replay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f user has same key on multiple server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ock reset attacks; clock DoS attacks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mutual authent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ding mutual authenti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uble challenge-response (symmetric key) in 4 roun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ariant in which user sends nonce first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secure (reflection attack)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so vulnerable to off-line password guessing without eavesdropp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improve security, make protocol asymmetri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such attack on original protoco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urity principle: let initiator prove its identity fir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ing timestamp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r sends time, MAC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time), server responds with MAC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time+1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f they used encryptio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ulnerabilitie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ymmetric protocol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katz</cp:lastModifiedBy>
  <dcterms:modified xsi:type="dcterms:W3CDTF">2004-11-04T22:45:36Z</dcterms:modified>
  <cp:revision>1759</cp:revision>
  <dc:subject/>
  <dc:title>CMSC 414 Computer (and Network) Security</dc:title>
</cp:coreProperties>
</file>