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B42-0EBC-4766-81C3-0AF44C89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6EC-44B3-444A-A7A0-3F3401A0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BAF-37E7-48A5-8D7B-F59C1963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B7E-1A1B-461E-9A07-C718811B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AB49-609A-4F11-A1A5-583F9720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D0FA-F627-463B-BE48-4EADB9D0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A67D-332C-4EAE-8B4D-CB804465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65EC-F222-42A9-89BB-94184C16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A706-07D4-4C45-B792-14EF2CD1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1AE2-8C35-409B-A90D-EEB33379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33EF-E333-42AA-B460-37597C55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819-FD25-4021-B272-1EFA9062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59D2-ACDA-4EE0-A09D-E5AA4E89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2512-02FF-48CA-846B-65BC5FBD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A9ED-6183-46A2-BB42-4415D1C2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DB3C-F8E2-4967-BF97-D3EDC0D3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335B-D802-4A5F-A473-3EEAC942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37AE-7166-4814-8F3F-D9449C0B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E7C-A137-40FA-A46C-AE66A604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2C0-3461-4EEB-886C-3D6D3460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E2B-FA09-41D9-83CA-F6C1A128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566-56FA-4391-9791-972E8A8B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CD3-20ED-487A-B0AF-009D207A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C24-F981-4BD1-B740-15B6251F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3AC9-7FE8-4998-B4FF-E04E20B26C6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5B58-7EE8-48BC-BFA2-FE5A569F15F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8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imple and secure approach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okie = (username/data, expiration, MA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54760" y="2743200"/>
            <a:ext cx="560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ated authentic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ated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using KD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ple protoco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 requests to talk to Bo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DC generates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sends it to Alice and Bob, encrypted with their respective ke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no authentication here, but impostor can’t determine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rovement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KDC send to Alice the encryption of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under Bob’s 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es communication load on KD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ilient to message delays in net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edham-Schroe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DC: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lice, Bo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DC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Bob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ticket), where ticket =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lic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: ticket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1,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ssures Alice that she is talking to KD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vents key-replay, helps prevent attack when Bob’s key is compromised and then chang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ortant: authenticate “Bob” in message 2, and “Alice” in tick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s encryption to authenticate… 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ads to actual flaw if, e.g., ECB mode is use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ulnerable if Alice’s key is compromi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ob’s ticket is always val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timestamps, or request (encrypted) nonce from Bob at the very beginning of the protoc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way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only the server has a known public key (e.g., SS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ends 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ent sends E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p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R, password, session-ke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ecure in general!!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secur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if encryption scheme is chosen appropriate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extend to give mutual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ed Diffie-Hellm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d signatures/MACs and nonces to Diffie-Hellman protoc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achieves forward secre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we had used encryption instea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ing session ke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lly, want to provide both secrecy and integrity for subsequent convers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encrypt-then-MA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sequence numbers to prevent replay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a directionality b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iodically refresh the session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23120" y="2743200"/>
            <a:ext cx="64792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s and Don’ts of Clien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 on the Web”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(Fu, et al.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 using “cookie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sign-on” for users accessing a si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ll-fledged key-exchange not practical due to limited client (and server!) compu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public keys, no third partie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a: use “authenticators” stored as cook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lient-side computation at a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…must do this securely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nimal level of se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y such scheme must be secure against “interrogative attacks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se are trivial to mou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vesdropping, server impersonation, and man-in-the-middle attacks are more difficul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dentiality is an orthogonal issu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“hints”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appropriate amount of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you need fine-grained knowledge of the user-id or no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confidentiality, etc. required or not?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published scheme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security through obscurity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cryptographic tools appropriat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don’t use crypt( ) as a MAC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“hint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areful of composing security schem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using two authentication system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tect user passwo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send in the cle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include in cooki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-authenticate before changing pass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predictable session identifi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irat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1-11T22:14:02Z</dcterms:modified>
  <cp:revision>1763</cp:revision>
  <dc:subject/>
  <dc:title>CMSC 414 Computer (and Network) Security</dc:title>
</cp:coreProperties>
</file>