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93A-0168-4736-8C5D-5C6042C2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94C-11E0-49BA-A0B2-1EEA2A74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BB8-5C52-40A4-AF49-8D35B5EB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738-20D9-43D9-AD1A-984FCE2A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27DB-747F-494E-A8FC-ECBBA35B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F49B-1752-4DDF-8377-1EC486BF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D593-FA40-47F0-94B6-D307D870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3C97-8ABB-4D18-B344-0B7EF885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7865-CD41-4F5A-BF51-BE6659C8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219F-FD18-416E-9A9C-02034A85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41EA-9978-4061-87A9-79D90D84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306-3860-4FA7-B349-51037042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E167-9C75-4913-B84B-F18FB60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A55B-F3AB-4953-9684-0DDCBC59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D108-4C23-41D4-BCB5-08C72B23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65E6-E514-425E-8575-81A469B8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FAD6-56A1-4C4B-A159-F5E0F56E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46E-8913-49A6-917D-0D0C44F6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13F-F02D-43AC-87F0-ACFF7596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FEB-B576-4632-8BF7-588F6876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303-A759-49CC-9E84-BCAAFA4D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DDC-7F1B-4EC1-87ED-832293B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D8C-8A73-454E-837B-5CE9B8C1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095-3DD1-48CF-9E5D-BF5D2900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29F5-9A7A-422F-A673-BEF7F4E54EA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10B6-D398-4DF3-8E8B-3E702666341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8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imple and secure approach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okie = (username/data, expiration, MA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54760" y="2743200"/>
            <a:ext cx="560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ated authentic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ated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using KD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ple protocol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 requests to talk to Bo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DC generates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sends it to Alice and Bob, encrypted with their respective ke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no authentication here, but impostor can’t determine K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rovement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KDC send to Alice the encryption of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under Bob’s 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es communication load on KD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ilient to message delays in net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edham-Schroe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DC: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lice, Bo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DC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Bob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ticket), where ticket =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lic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: ticket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1,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-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ssures Alice that she is talking to KD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vents key-replay, helps prevent attack when Bob’s key is compromised and then chang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ortant: authenticate “Bob” in message 2, and “Alice” in tick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s encryption to authenticate… 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ads to actual flaw if, e.g., ECB mode is use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ulnerable if Alice’s key is compromi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ob’s ticket is always val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timestamps, or request (encrypted) nonce from Bob at the very beginning of the protoc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way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only the server has a known public key (e.g., SS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ends 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ient sends E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p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R, password, session-ke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ecure in general!!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secur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if encryption scheme is chosen appropriate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extend to give mutual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ed Diffie-Hellm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d signatures/MACs and nonces to Diffie-Hellman protoc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achieves forward secre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we had used encryption instea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ing session ke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lly, want to provide both secrecy and integrity for subsequent convers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encrypt-then-MA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sequence numbers to prevent replay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a directionality b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iodically refresh the session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23120" y="2743200"/>
            <a:ext cx="64792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s and Don’ts of Clien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 on the Web”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(Fu, et al.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 using “cookie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sign-on” for users accessing a si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ll-fledged key-exchange not practical due to limited client (and server!) compu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public keys, no third partie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a: use “authenticators” stored as cook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lient-side computation at a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…must do this securely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nimal level of se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y such scheme must be secure against “interrogative attacks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se are trivial to mou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vesdropping, server impersonation, and man-in-the-middle attacks are more difficul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dentiality is an orthogonal issu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“hints”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appropriate amount of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you need fine-grained knowledge of the user-id or no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confidentiality, etc. required or not?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published scheme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security through obscurity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cryptographic tools appropriat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don’t use crypt( ) as a MAC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“hint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areful of composing security schem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using two authentication system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tect user passwo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send in the cle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include in cooki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-authenticate before changing pass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predictable session identifi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irat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1-11T22:14:02Z</dcterms:modified>
  <cp:revision>1763</cp:revision>
  <dc:subject/>
  <dc:title>CMSC 414 Computer (and Network) Security</dc:title>
</cp:coreProperties>
</file>